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4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09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7.png" ContentType="image/png"/>
  <Override PartName="/ppt/media/image3.wmf" ContentType="image/x-wmf"/>
  <Override PartName="/ppt/media/image25.png" ContentType="image/png"/>
  <Override PartName="/ppt/media/image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3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44.xml.rels" ContentType="application/vnd.openxmlformats-package.relationships+xml"/>
  <Override PartName="/ppt/slides/_rels/slide5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2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5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46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1149480" y="8445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7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7D5B59-279A-4706-97E6-EF590C581F72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DBA0E1-7AFF-41D5-BE0D-4628658495CF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000080" y="738360"/>
            <a:ext cx="4859280" cy="364464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92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2E6E99-65B4-4AC5-8110-CA36827BF511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1D808DE-DF26-4709-B8CB-7F01433C7705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8F529D-8242-4888-BC16-E9E2140E865B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9BFC9E-4550-4983-B8CA-72F3F0F215B5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52DBB7-6455-4C99-8B87-A2C799B65F65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A19B33-14D9-4AD0-9D18-587CE208AE86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6E073C-184B-4492-9F00-520916C50887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718124-F1C5-48A7-B21C-1A6994FABD3D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34BD-6D8E-4C51-AA14-59A231546D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595D-E086-4EBF-8C23-0C3B9E3B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EA45-7DE2-4507-BF17-4652F337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6BC6-4231-4893-A35F-841282C93D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B475D-5CA8-45F6-9202-D1DD9770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9BD58-CB56-4183-861E-BAA43870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48BC0-A8D2-43D4-B7D8-C9035688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6C998-2857-4AE9-A784-8193D479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FA628-3F4C-487E-B721-C55CA37B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723960"/>
            <a:ext cx="80010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2B70F-ACAC-4EC6-9124-05B21F2C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6F89D-DF6B-42A9-A218-E80725CA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6D0D-245D-41A6-8ECA-DC023BD2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E8A46-A257-4919-B4FF-F01C68F7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4DF91-2194-4A54-854A-71D7AD8C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00571-0BB6-47FA-B5C7-C917DDAD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9863F-1016-4CAC-9DAE-5B171C66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088D0-DB3A-4A6B-8901-C2011996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40AF-9385-4C69-ACD8-A66C2C1A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BBE6-1DB7-429F-9FA3-D9A0825D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EB6F-5648-45FC-B0BE-8195DDCC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723960"/>
            <a:ext cx="80010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1DEA-667B-48AE-B7FC-FB6AE0DB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3DD1-1C76-4A2A-BCA9-F7C91711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E650-DE7B-4BA8-B6C5-BEC890D7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C30B-0AB1-4013-B7FF-A005686F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1520" y="152280"/>
            <a:ext cx="8940960" cy="285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000000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30120" y="399960"/>
            <a:ext cx="8636040" cy="152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000000"/>
              </a:gs>
              <a:gs pos="100000">
                <a:srgbClr val="ff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1520" y="6496200"/>
            <a:ext cx="8940960" cy="95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63600" y="6458040"/>
            <a:ext cx="8416800" cy="38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77320" y="6624720"/>
            <a:ext cx="914400" cy="2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71B4-F787-4F5D-923F-10096508AFFC}" type="slidenum">
              <a:rPr b="0" lang="en-US" sz="1400" spc="-1" strike="noStrike">
                <a:solidFill>
                  <a:srgbClr val="ffcc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01520" y="1371600"/>
            <a:ext cx="8940960" cy="4762440"/>
            <a:chOff x="101520" y="1371600"/>
            <a:chExt cx="8940960" cy="4762440"/>
          </a:xfrm>
        </p:grpSpPr>
        <p:sp>
          <p:nvSpPr>
            <p:cNvPr id="45" name=""/>
            <p:cNvSpPr/>
            <p:nvPr/>
          </p:nvSpPr>
          <p:spPr>
            <a:xfrm>
              <a:off x="101520" y="1371600"/>
              <a:ext cx="8940960" cy="2858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000000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4160" y="1771560"/>
              <a:ext cx="8635680" cy="15264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000000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101520" y="5924520"/>
              <a:ext cx="8940960" cy="209520"/>
              <a:chOff x="101520" y="5924520"/>
              <a:chExt cx="8940960" cy="209520"/>
            </a:xfrm>
          </p:grpSpPr>
          <p:sp>
            <p:nvSpPr>
              <p:cNvPr id="48" name=""/>
              <p:cNvSpPr/>
              <p:nvPr/>
            </p:nvSpPr>
            <p:spPr>
              <a:xfrm>
                <a:off x="101520" y="6039000"/>
                <a:ext cx="8940960" cy="9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600" y="5924520"/>
                <a:ext cx="8416800" cy="381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3"/>
          </p:nvPr>
        </p:nvSpPr>
        <p:spPr>
          <a:xfrm>
            <a:off x="685800" y="647712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6553080" y="647712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6757-30A4-43D7-AEF7-9D5CA9DB04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cc"/>
                </a:solidFill>
                <a:latin typeface="Times New Roman"/>
              </a:rPr>
              <a:t>TESTE DE SOFTWARE</a:t>
            </a:r>
            <a:endParaRPr b="0" i="1" lang="en-US" sz="5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41400" y="3060720"/>
            <a:ext cx="5461200" cy="127008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409920"/>
            <a:ext cx="5867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ÃO G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59A3E-4950-4E72-AE30-E04C510D686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Introduçã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rantia de Qualidade de Soft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idação: Assegurar que o produto final corresponda aos requisitos do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ificação: Assegurar consistência, completitude e corretitude do produto em cada fase e entre fases consecutivas do ciclo de vida do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e: Examina o comportamento do produto através de sua execu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048120"/>
            <a:ext cx="5562360" cy="45972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tamos construindo o produto cer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876920"/>
            <a:ext cx="6477120" cy="45972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tamos construindo corretamente o produ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1477-B790-4A32-B3F5-EE64DFF2D24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523B8C6-6781-45F7-BB70-5F1B80BC1716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pó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a) 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b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211480" y="5272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455160" y="5272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85800" y="5638680"/>
            <a:ext cx="7162920" cy="99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{ (a1, Válido), (2B3, Inválido), (Z-12, Inválido), (A1b2C3d, In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{(1#, Inválido), (%, Inválido), (c, 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{(#-%, In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5" name="status-T0" descr=""/>
          <p:cNvPicPr/>
          <p:nvPr/>
        </p:nvPicPr>
        <p:blipFill>
          <a:blip r:embed="rId1"/>
          <a:stretch/>
        </p:blipFill>
        <p:spPr>
          <a:xfrm>
            <a:off x="330120" y="2298600"/>
            <a:ext cx="4191120" cy="2959200"/>
          </a:xfrm>
          <a:prstGeom prst="rect">
            <a:avLst/>
          </a:prstGeom>
          <a:ln w="0">
            <a:noFill/>
          </a:ln>
        </p:spPr>
      </p:pic>
      <p:pic>
        <p:nvPicPr>
          <p:cNvPr id="846" name="status-T2" descr=""/>
          <p:cNvPicPr/>
          <p:nvPr/>
        </p:nvPicPr>
        <p:blipFill>
          <a:blip r:embed="rId2"/>
          <a:stretch/>
        </p:blipFill>
        <p:spPr>
          <a:xfrm>
            <a:off x="4600440" y="2292480"/>
            <a:ext cx="4200840" cy="29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CFA1-DFA4-4F09-9A61-A691E2F2BF61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D6BDAD3-87B6-4E55-8223-274D4C2A03DC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um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Visualização de Mu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viewmutants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555040" cy="38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1C8D-DF4D-4ED2-AD13-ACD888238793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97FEFE0-F9FA-4C3F-BEBE-B06823EE748D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pó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a) 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b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211480" y="5067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455160" y="5067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04920" y="5486400"/>
            <a:ext cx="7772400" cy="12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{(zzz, Válido), (aA, Válido), (A1234, Válido), (ZZZ, Válido)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(AAA, Válido), (aa09, Válido), ([, Inválido), ({, Inválido)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(x/, Inválido), (x:, Inválido), (x18, Válido), (x[[, Inválido), (x{{, In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{ (@, Inválido), (`, Inválido), (x@, Inválido), (x`, In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5" name="status-T5" descr=""/>
          <p:cNvPicPr/>
          <p:nvPr/>
        </p:nvPicPr>
        <p:blipFill>
          <a:blip r:embed="rId1"/>
          <a:stretch/>
        </p:blipFill>
        <p:spPr>
          <a:xfrm>
            <a:off x="304920" y="2139840"/>
            <a:ext cx="4200480" cy="2965680"/>
          </a:xfrm>
          <a:prstGeom prst="rect">
            <a:avLst/>
          </a:prstGeom>
          <a:ln w="0">
            <a:noFill/>
          </a:ln>
        </p:spPr>
      </p:pic>
      <p:pic>
        <p:nvPicPr>
          <p:cNvPr id="856" name="status-T6" descr=""/>
          <p:cNvPicPr/>
          <p:nvPr/>
        </p:nvPicPr>
        <p:blipFill>
          <a:blip r:embed="rId2"/>
          <a:stretch/>
        </p:blipFill>
        <p:spPr>
          <a:xfrm>
            <a:off x="4572000" y="2139840"/>
            <a:ext cx="4200480" cy="296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EBE27-B825-40BA-9537-9E85C333A011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F3BD77A-EF01-47C3-9503-62FDB93FDF2E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tantes Viv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143000" y="419112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tante Gerado pelo Operador ORR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f (valid_id &amp;&amp; (length &gt;= 1) &amp;&amp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length </a:t>
            </a: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&lt;=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6)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"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"In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143000" y="2362320"/>
            <a:ext cx="6248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tante Gerado pelo Operador VTW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f (valid_id &amp;&amp; (length &gt;= 1) &amp;&amp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PRED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length) &lt; 6)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"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"In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981760" y="4552920"/>
            <a:ext cx="22860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2705040"/>
            <a:ext cx="22860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648320" y="5638680"/>
            <a:ext cx="365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 =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BCDEF, Válido)}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ída obtida = Inváli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4058-C5C6-45E6-AD57-277FE85930F0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7ED8873-8B03-4280-A90A-210C8FAA414E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80880" y="914400"/>
            <a:ext cx="8458200" cy="56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 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har  acha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  length, valid_i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ength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 ("Digite um possível identificador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 ("seguido por &lt;ENTER&gt;: 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valid_id = valid_s(achar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f (valid_i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2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ength = 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3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4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while (achar != '\n'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5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5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f (!(valid_f(achar)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6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valid_id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7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ength++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7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7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8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f (valid_id &amp;&amp; (length &gt;= 1) &amp;&amp; </a:t>
            </a:r>
            <a:r>
              <a:rPr b="1" lang="pt-BR" sz="1600" spc="-1" strike="noStrike">
                <a:solidFill>
                  <a:srgbClr val="ff99ff"/>
                </a:solidFill>
                <a:latin typeface="Courier New"/>
              </a:rPr>
              <a:t>(length &lt;= 6)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9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 ("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10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10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 ("In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11 */  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14940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r.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unçã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ão Corrig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1069-BA82-4746-B0FB-6DE19DD3224F}" type="slidenum">
              <a:t>10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C94F0D1-1C40-42E6-A2C8-C0335A2A3369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pó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o programa corrigid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66680" y="5867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{(ABCDEF, 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9" name="status-AM-adequado" descr=""/>
          <p:cNvPicPr/>
          <p:nvPr/>
        </p:nvPicPr>
        <p:blipFill>
          <a:blip r:embed="rId1"/>
          <a:stretch/>
        </p:blipFill>
        <p:spPr>
          <a:xfrm>
            <a:off x="2239920" y="2362320"/>
            <a:ext cx="4664160" cy="32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FDC4-7086-4CB5-A6D6-824024E0F795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7FA81C0-4804-46E1-B42B-1289A98250FD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ende os conceitos utilizados pela Análise de Mutantes para o teste de integraçã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éias básic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licar os operadores somente nas partes relacionadas às interfaces dos módu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madas de função, parâmetros, variáveis glob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ngir os operadores de mutação a fim de modelar somente os erros de integr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ar as conexões entre os módulos, separadamente, uma de cada v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9B05-10FE-4B1F-97C8-F51499573BEC}" type="slidenum">
              <a:t>106</a:t>
            </a:fld>
          </a:p>
        </p:txBody>
      </p:sp>
    </p:spTree>
  </p:cSld>
  <p:transition>
    <p:pull dir="l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os de Integr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533520" y="2981160"/>
            <a:ext cx="7941960" cy="1969920"/>
            <a:chOff x="533520" y="2981160"/>
            <a:chExt cx="7941960" cy="1969920"/>
          </a:xfrm>
        </p:grpSpPr>
        <p:sp>
          <p:nvSpPr>
            <p:cNvPr id="875" name=""/>
            <p:cNvSpPr/>
            <p:nvPr/>
          </p:nvSpPr>
          <p:spPr>
            <a:xfrm>
              <a:off x="1289160" y="3809880"/>
              <a:ext cx="3682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19320" y="3470400"/>
              <a:ext cx="1022400" cy="10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33520" y="3828960"/>
              <a:ext cx="9745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i="1" lang="en-US" sz="1600" spc="-1" strike="noStrike" baseline="-25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orre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14400" y="3103560"/>
              <a:ext cx="685800" cy="3668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558880" y="4371840"/>
              <a:ext cx="974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aí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corre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66960" y="4489560"/>
              <a:ext cx="685800" cy="3668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68520" y="467352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3460680" y="2981160"/>
              <a:ext cx="2482560" cy="1855800"/>
              <a:chOff x="3460680" y="2981160"/>
              <a:chExt cx="2482560" cy="1855800"/>
            </a:xfrm>
          </p:grpSpPr>
          <p:sp>
            <p:nvSpPr>
              <p:cNvPr id="883" name=""/>
              <p:cNvSpPr/>
              <p:nvPr/>
            </p:nvSpPr>
            <p:spPr>
              <a:xfrm>
                <a:off x="4149360" y="3809880"/>
                <a:ext cx="3873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079520" y="3470040"/>
                <a:ext cx="1041480" cy="1041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460680" y="3813120"/>
                <a:ext cx="974520" cy="61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r>
                  <a:rPr b="0" i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I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corre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 flipV="1">
                <a:off x="4587120" y="3770280"/>
                <a:ext cx="397080" cy="39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968720" y="3679560"/>
                <a:ext cx="974520" cy="61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r>
                  <a:rPr b="0" i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O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corre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742920" y="3103560"/>
                <a:ext cx="685800" cy="3668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344840" y="3287520"/>
                <a:ext cx="533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74800" y="2981160"/>
                <a:ext cx="9745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aíd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corret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714560" y="4470120"/>
                <a:ext cx="685800" cy="3668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6294600" y="2984400"/>
              <a:ext cx="2180880" cy="1852560"/>
              <a:chOff x="6294600" y="2984400"/>
              <a:chExt cx="2180880" cy="1852560"/>
            </a:xfrm>
          </p:grpSpPr>
          <p:sp>
            <p:nvSpPr>
              <p:cNvPr id="893" name=""/>
              <p:cNvSpPr/>
              <p:nvPr/>
            </p:nvSpPr>
            <p:spPr>
              <a:xfrm>
                <a:off x="6611760" y="3470040"/>
                <a:ext cx="1041480" cy="1032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flipV="1">
                <a:off x="7120080" y="3769920"/>
                <a:ext cx="396720" cy="406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500960" y="3679560"/>
                <a:ext cx="974520" cy="61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r>
                  <a:rPr b="0" i="1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O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0" i="1" lang="en-US" sz="16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corre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294600" y="3106440"/>
                <a:ext cx="685800" cy="3668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896160" y="3290760"/>
                <a:ext cx="533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026120" y="2984400"/>
                <a:ext cx="9745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aíd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corret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267680" y="4470120"/>
                <a:ext cx="685800" cy="3668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8701-1F02-434F-A0E2-42B84549AB80}" type="slidenum">
              <a:t>107</a:t>
            </a:fld>
          </a:p>
        </p:txBody>
      </p:sp>
    </p:spTree>
  </p:cSld>
  <p:transition>
    <p:pull dir="l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6230880" y="4802040"/>
            <a:ext cx="2225520" cy="1290600"/>
            <a:chOff x="6230880" y="4802040"/>
            <a:chExt cx="2225520" cy="1290600"/>
          </a:xfrm>
        </p:grpSpPr>
        <p:sp>
          <p:nvSpPr>
            <p:cNvPr id="901" name=""/>
            <p:cNvSpPr/>
            <p:nvPr/>
          </p:nvSpPr>
          <p:spPr>
            <a:xfrm>
              <a:off x="6605640" y="5206680"/>
              <a:ext cx="387360" cy="5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688080" y="5719680"/>
              <a:ext cx="685800" cy="3668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230880" y="4802040"/>
              <a:ext cx="685800" cy="3668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51320" y="48067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rupo 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513560" y="572436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rupo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erramenta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Proteum/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imilar à ferramenta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Prote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3 operadores de mut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rupo I - função cham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andos de interface, variáveis globais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 de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rupo II - função “chamador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ntos de chamada de fun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EA2A-10BC-4294-A82F-7FE28ED9F1AD}" type="slidenum">
              <a:t>108</a:t>
            </a:fld>
          </a:p>
        </p:txBody>
      </p:sp>
    </p:spTree>
  </p:cSld>
  <p:transition>
    <p:pull dir="l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tantes do Grupo-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tantes associados a uma dada chamada só podem ser mortos se tal ponto de chamada for execu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0" name="conexaof-g" descr=""/>
          <p:cNvPicPr/>
          <p:nvPr/>
        </p:nvPicPr>
        <p:blipFill>
          <a:blip r:embed="rId1"/>
          <a:stretch/>
        </p:blipFill>
        <p:spPr>
          <a:xfrm>
            <a:off x="2819520" y="3610080"/>
            <a:ext cx="3886200" cy="29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7809-341C-428F-A9C9-7CF86D882FFE}" type="slidenum">
              <a:t>109</a:t>
            </a:fld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789120" y="544680"/>
            <a:ext cx="7451640" cy="5078160"/>
            <a:chOff x="789120" y="544680"/>
            <a:chExt cx="7451640" cy="5078160"/>
          </a:xfrm>
        </p:grpSpPr>
        <p:sp>
          <p:nvSpPr>
            <p:cNvPr id="128" name=""/>
            <p:cNvSpPr/>
            <p:nvPr/>
          </p:nvSpPr>
          <p:spPr>
            <a:xfrm>
              <a:off x="789120" y="544680"/>
              <a:ext cx="1933560" cy="1269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Engenharia de Sistem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43080" y="1251000"/>
              <a:ext cx="2106720" cy="1268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Análise  de Requisitos</a:t>
              </a:r>
              <a:r>
                <a:rPr b="0" lang="en-US" sz="1800" spc="-1" strike="noStrike">
                  <a:solidFill>
                    <a:srgbClr val="8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73280" y="1954080"/>
              <a:ext cx="2106720" cy="127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Projeto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49800" y="2660760"/>
              <a:ext cx="2106720" cy="1269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Codificação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35400" y="3367080"/>
              <a:ext cx="2106720" cy="12682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Test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34040" y="3930480"/>
              <a:ext cx="2106720" cy="1268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Manutenção</a:t>
              </a:r>
              <a:r>
                <a:rPr b="0" lang="en-US" sz="1800" spc="-1" strike="noStrike">
                  <a:solidFill>
                    <a:srgbClr val="8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08360" y="968400"/>
              <a:ext cx="5554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49800" y="1531800"/>
              <a:ext cx="33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2236680"/>
              <a:ext cx="331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56520" y="2943360"/>
              <a:ext cx="331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42120" y="3648240"/>
              <a:ext cx="444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63840" y="968400"/>
              <a:ext cx="0" cy="282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81360" y="1531800"/>
              <a:ext cx="0" cy="42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11920" y="2236680"/>
              <a:ext cx="0" cy="424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88080" y="2943360"/>
              <a:ext cx="0" cy="423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86720" y="3648240"/>
              <a:ext cx="0" cy="282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32680" y="5198760"/>
              <a:ext cx="0" cy="423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77800" y="5622840"/>
              <a:ext cx="5654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77800" y="1814400"/>
              <a:ext cx="0" cy="3808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19240" y="2519280"/>
              <a:ext cx="0" cy="3103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27320" y="3224160"/>
              <a:ext cx="0" cy="2398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03840" y="3930480"/>
              <a:ext cx="0" cy="1692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91240" y="4635360"/>
              <a:ext cx="0" cy="987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021840" y="5961960"/>
            <a:ext cx="37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clo de Vida Cláss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6307200" y="2302560"/>
            <a:ext cx="1586160" cy="485640"/>
          </a:xfrm>
          <a:custGeom>
            <a:avLst/>
            <a:gdLst>
              <a:gd name="textAreaLeft" fmla="*/ 247680 w 1586160"/>
              <a:gd name="textAreaRight" fmla="*/ 1059480 w 1586160"/>
              <a:gd name="textAreaTop" fmla="*/ 52200 h 485640"/>
              <a:gd name="textAreaBottom" fmla="*/ 43344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2329"/>
                </a:moveTo>
                <a:lnTo>
                  <a:pt x="12454" y="2329"/>
                </a:lnTo>
                <a:lnTo>
                  <a:pt x="12454" y="0"/>
                </a:lnTo>
                <a:lnTo>
                  <a:pt x="21600" y="10800"/>
                </a:lnTo>
                <a:lnTo>
                  <a:pt x="12454" y="21600"/>
                </a:lnTo>
                <a:lnTo>
                  <a:pt x="12454" y="19271"/>
                </a:lnTo>
                <a:lnTo>
                  <a:pt x="3375" y="19271"/>
                </a:lnTo>
                <a:close/>
              </a:path>
              <a:path w="21600" h="21600">
                <a:moveTo>
                  <a:pt x="0" y="2329"/>
                </a:moveTo>
                <a:lnTo>
                  <a:pt x="675" y="2329"/>
                </a:lnTo>
                <a:lnTo>
                  <a:pt x="675" y="19271"/>
                </a:lnTo>
                <a:lnTo>
                  <a:pt x="0" y="19271"/>
                </a:lnTo>
                <a:close/>
              </a:path>
              <a:path w="21600" h="21600">
                <a:moveTo>
                  <a:pt x="1350" y="2329"/>
                </a:moveTo>
                <a:lnTo>
                  <a:pt x="2700" y="2329"/>
                </a:lnTo>
                <a:lnTo>
                  <a:pt x="2700" y="19271"/>
                </a:lnTo>
                <a:lnTo>
                  <a:pt x="1350" y="19271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EB49-04A1-4E07-8D5B-1DAAE8E7E7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um/IM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Interface Gráfica</a:t>
            </a:r>
            <a:r>
              <a:rPr b="1" lang="pt-BR" sz="2400" spc="-1" strike="noStrike">
                <a:solidFill>
                  <a:srgbClr val="ffffff"/>
                </a:solidFill>
                <a:latin typeface="Lucida Handwriting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3" name="main-all" descr=""/>
          <p:cNvPicPr/>
          <p:nvPr/>
        </p:nvPicPr>
        <p:blipFill>
          <a:blip r:embed="rId1"/>
          <a:stretch/>
        </p:blipFill>
        <p:spPr>
          <a:xfrm>
            <a:off x="1879560" y="2297160"/>
            <a:ext cx="5410080" cy="40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32C8-4893-49B9-AE31-D06B1A8C6F06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CF4C934-07D2-4AE8-AD9A-A6725CF4A1A8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um/IM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Criando uma Sessão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session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664160" cy="206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AD70A-B399-421D-97CB-DE084B6526A8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1463F03-BB5B-42E8-9CD7-5BA3CEB15C07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um/IM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pt-BR" sz="2400" spc="-1" strike="noStrike">
                <a:solidFill>
                  <a:srgbClr val="ffffff"/>
                </a:solidFill>
                <a:latin typeface="Lucida Handwriting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Gerando Mu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9" name="inter-oper" descr=""/>
          <p:cNvPicPr/>
          <p:nvPr/>
        </p:nvPicPr>
        <p:blipFill>
          <a:blip r:embed="rId1"/>
          <a:stretch/>
        </p:blipFill>
        <p:spPr>
          <a:xfrm>
            <a:off x="2081160" y="2368440"/>
            <a:ext cx="5234040" cy="426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B8E4-33B2-47B9-B193-C0A9CF426433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88B3434-D332-4428-9D7E-C8E522A52E83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pó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a) e equivalentes (b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211480" y="53132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455160" y="53132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066680" y="5791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{ (a1, Válido), (2B3, Inválido), (Z-12, Inválido), (A1b2C3d, In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5" name="status-t0" descr=""/>
          <p:cNvPicPr/>
          <p:nvPr/>
        </p:nvPicPr>
        <p:blipFill>
          <a:blip r:embed="rId1"/>
          <a:stretch/>
        </p:blipFill>
        <p:spPr>
          <a:xfrm>
            <a:off x="341280" y="2362320"/>
            <a:ext cx="4167360" cy="2989080"/>
          </a:xfrm>
          <a:prstGeom prst="rect">
            <a:avLst/>
          </a:prstGeom>
          <a:ln w="0">
            <a:noFill/>
          </a:ln>
        </p:spPr>
      </p:pic>
      <p:pic>
        <p:nvPicPr>
          <p:cNvPr id="926" name="status-t0-equivs" descr=""/>
          <p:cNvPicPr/>
          <p:nvPr/>
        </p:nvPicPr>
        <p:blipFill>
          <a:blip r:embed="rId2"/>
          <a:stretch/>
        </p:blipFill>
        <p:spPr>
          <a:xfrm>
            <a:off x="4595760" y="2362320"/>
            <a:ext cx="4167360" cy="29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302F-24B5-4CD9-A2EA-92484FF47A16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44DAC9A-7E7B-4DA0-9C56-C9F5AD3A900F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tante do Grupo-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295280" y="2233440"/>
            <a:ext cx="6705720" cy="435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in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“Identificador: “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har = fgetc (stdi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(valid_id = PREPARE2_MUTA(</a:t>
            </a: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valid_s(achar)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)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 valid_s(char ch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f (IF_MUTA(((ch &gt;= ´A´) &amp;&amp; (ch &lt;= ´Z´)) ||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(ch &gt;= ´a´) &amp;&amp; (ch &lt;= ´z´)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((</a:t>
            </a: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-ch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&gt;= ´A´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&amp;&amp; (ch &lt;= ´Z´)) ||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(ch &gt;= ´a´) &amp;&amp; (ch &lt;= ´z´))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turn (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" y="6032520"/>
            <a:ext cx="114300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EA7C-3503-41F6-878B-A4F1839C67AB}" type="slidenum">
              <a:t>114</a:t>
            </a:fld>
          </a:p>
        </p:txBody>
      </p:sp>
    </p:spTree>
  </p:cSld>
  <p:transition>
    <p:pull dir="l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tante do Grupo-I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295280" y="2568600"/>
            <a:ext cx="6705720" cy="252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in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“Identificador: “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har = fgetc (stdi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valid_id = valid_s(</a:t>
            </a: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-achar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f (valid_id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length = 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5539-BABF-4C02-A897-6FB702728997}" type="slidenum">
              <a:t>115</a:t>
            </a:fld>
          </a:p>
        </p:txBody>
      </p:sp>
    </p:spTree>
  </p:cSld>
  <p:transition>
    <p:pull dir="l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Mutação de Interfac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pó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a) 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211480" y="5272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455160" y="5272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06668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{(#-%, In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{(ABCDEF, Válido)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9" name="status-t2" descr=""/>
          <p:cNvPicPr/>
          <p:nvPr/>
        </p:nvPicPr>
        <p:blipFill>
          <a:blip r:embed="rId1"/>
          <a:stretch/>
        </p:blipFill>
        <p:spPr>
          <a:xfrm>
            <a:off x="341280" y="2320920"/>
            <a:ext cx="4167360" cy="2989440"/>
          </a:xfrm>
          <a:prstGeom prst="rect">
            <a:avLst/>
          </a:prstGeom>
          <a:ln w="0">
            <a:noFill/>
          </a:ln>
        </p:spPr>
      </p:pic>
      <p:pic>
        <p:nvPicPr>
          <p:cNvPr id="940" name="status-t5" descr=""/>
          <p:cNvPicPr/>
          <p:nvPr/>
        </p:nvPicPr>
        <p:blipFill>
          <a:blip r:embed="rId2"/>
          <a:stretch/>
        </p:blipFill>
        <p:spPr>
          <a:xfrm>
            <a:off x="4610160" y="2320920"/>
            <a:ext cx="4167000" cy="29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BCDA-D144-41A1-B094-99C170613870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554EB5F-FA2B-4414-9FA4-C0CA21DB574A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versidade de Critérios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udos Empíric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valiar e comparar os critérios de te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usto: esforço necessário para que um critério seja utiliz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ts val="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ficácia: capacidade de um critério em revelar um maior número de erros em relação a ou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ts val="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Dificuldade de satisfação (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strength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): capacidade de satisfazer-se um critério tendo satisfeito ou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143000" y="2301840"/>
            <a:ext cx="6858000" cy="82548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Qual deles utilizar a fim de obter a melhor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lação custo/benefíci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38FB-44AE-4886-A23D-5632F325B285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FB8FEA7-8FF8-45E0-8857-15CBE79B42C9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ério Análise de Mu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a eficácia em revelar a presença de er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o custo de aplic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valência entre progra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nde número de mutantes gerados e que precisam ser execu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ordagens Alternativ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tação Aleató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tação Sele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tação Restr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junto Essencial de Operadores de Mut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5800" y="5943600"/>
            <a:ext cx="7848720" cy="70380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iabilizar a aplicação do critério em ambientes reai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 desenvolvimento de softw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AEB0-2147-4CA2-AAC8-91D1F52D7D70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5E60F87-D623-4C01-B469-39CD4E084BD3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ção Aleató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enas uma porcentagem dos mutantes gerados a partir de cada operador é consider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ção Seleti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operadores responsáveis pelo maior número de mutantes não são aplic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AEB2-C209-4E46-829C-19F0CCC71B0F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09E3F23-0AA0-42A6-A9DB-E4B687D64354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tistas de software experientes dizem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atividade de teste nunca termina; ela apenas é transferida do projetista (você) para o seu cliente. Toda vez que o seu cliente usa o programa, um teste é realizad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4687-8BF9-4EDE-B66A-1CA6B71F2E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ção Restri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dores de mutação específicos são selecionados para serem utilizados na geração dos mut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85800" y="3917880"/>
            <a:ext cx="7620120" cy="119124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ja OP o conjunto total de operadores de mutação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ubconjunto SC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{OP}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constitui um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ritério de mutação restri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4610-6397-4271-8BD0-36CC817DAB5D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DE4832B-FDBA-482D-911E-9D3229500E00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junto Essencial de Operadores de Mut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conjun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 q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384880" y="367200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582160" y="371016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265640" y="4438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icá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170160" y="371484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642480" y="4071960"/>
            <a:ext cx="78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Symbol"/>
                <a:ea typeface="Symbol"/>
              </a:rPr>
              <a:t>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2971800" y="36576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3201-B349-451A-AB5D-4998C87B99BE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F3917D7-7A1B-47B1-8ADB-D06E0DDF0944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tudo de Offutt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inguagem Fortr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erramenta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Moth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22 operadores de mutação: 5 compõem o conjunto essencial (classe de modificação de expressõ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ignificativa redução de custo: 77.5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lto grau de adequação em relação à Análise de Mutantes: 0.9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blema: erros modelados pelas demais classes podem não estar representados no conjunto ess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901F-762F-41C3-8AAF-0088833344C6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894AD34-8C8D-48FB-8120-A75FBC2CDAD6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udo de Wong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inguagem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erramenta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Proteu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: 71 oper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junto de 11 oper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btido intuitivamente, com base na experiência dos au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6 operadores constituem um conjunto preliminar para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 determinação dos operadores essenciais da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inguagem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98AC-3B26-4828-B9CE-1F90A88DC29C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35B16DC-5F6D-4A2F-A12C-86EDFD932FBF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cedimento </a:t>
            </a:r>
            <a:r>
              <a:rPr b="1" lang="pt-BR" sz="2400" spc="-1" strike="noStrike">
                <a:solidFill>
                  <a:srgbClr val="ffffff"/>
                </a:solidFill>
                <a:latin typeface="augie"/>
              </a:rPr>
              <a:t>Essencia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definido por Barbos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et a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posto de 6 passos, baseados em 6 diretrizes que descrevem as principais características de um conjunto essen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n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inguagem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erramenta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 Prote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71 operadores: 10 compõem o conjunto ess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ignificativa redução de custo: 6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lto grau de adequação em relação à AM: 0.9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400A-5B94-4317-9174-087A76D26C21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B3D0BE3-DEBE-4215-A5A3-712392FB8F48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dores Essenciais (unida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685800" y="2286000"/>
            <a:ext cx="8077320" cy="3876480"/>
            <a:chOff x="685800" y="2286000"/>
            <a:chExt cx="8077320" cy="3876480"/>
          </a:xfrm>
        </p:grpSpPr>
        <p:sp>
          <p:nvSpPr>
            <p:cNvPr id="969" name=""/>
            <p:cNvSpPr/>
            <p:nvPr/>
          </p:nvSpPr>
          <p:spPr>
            <a:xfrm>
              <a:off x="685800" y="2649600"/>
              <a:ext cx="807732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ORRN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Troca operador relacional por operador relacion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85800" y="3375000"/>
              <a:ext cx="807732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Ccsr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Troca referências escalares por constan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5800" y="4098960"/>
              <a:ext cx="807732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MTC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Interrompe a execução do laço após duas execuçõ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85800" y="5153040"/>
              <a:ext cx="8077320" cy="36828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Cccr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Troca constante por constant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85800" y="2286000"/>
              <a:ext cx="8077320" cy="36828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SDL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Retira um comando de cada vez do progra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85800" y="3011400"/>
              <a:ext cx="8077320" cy="36828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TWD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Troca referência escalar pelo sucessor e predecess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85800" y="3740040"/>
              <a:ext cx="8077320" cy="36828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WDD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Troca o comando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ahoma"/>
                </a:rPr>
                <a:t>while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por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ahoma"/>
                </a:rPr>
                <a:t>do-whi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5800" y="4456080"/>
              <a:ext cx="8077320" cy="36828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OLBN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Troca operador lógico por operador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ahoma"/>
                </a:rPr>
                <a:t>bitwi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85800" y="5519880"/>
              <a:ext cx="8077320" cy="642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DTR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Requer valor negativo, positivo e zero para cada referência escal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5800" y="4819680"/>
              <a:ext cx="807732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OASN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Troca operador aritmético por operador de deslocamento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725D-838A-4599-B163-C75DA3E48937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446C86F-AD09-47BB-8F5F-571359AA0A3C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tudo de Vincenzi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et 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licação do Procedimento </a:t>
            </a:r>
            <a:r>
              <a:rPr b="0" lang="pt-BR" sz="2400" spc="-1" strike="noStrike">
                <a:solidFill>
                  <a:srgbClr val="ffffff"/>
                </a:solidFill>
                <a:latin typeface="augie"/>
              </a:rPr>
              <a:t>Essenci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m nível de integr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inguagem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erramenta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 Proteum/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33 operadores: 8 compõem o conjunto ess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dução de custo: 7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lto grau de adequação em relação à Mutação de Interface: 0.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C4CA-6CD8-42FE-8F49-4A7FC6AB2ACF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7023440-047E-444D-ABA8-44ACEB0581EB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"/>
          <p:cNvGrpSpPr/>
          <p:nvPr/>
        </p:nvGrpSpPr>
        <p:grpSpPr>
          <a:xfrm>
            <a:off x="304920" y="2438280"/>
            <a:ext cx="8534160" cy="3413160"/>
            <a:chOff x="304920" y="2438280"/>
            <a:chExt cx="8534160" cy="3413160"/>
          </a:xfrm>
        </p:grpSpPr>
        <p:sp>
          <p:nvSpPr>
            <p:cNvPr id="982" name=""/>
            <p:cNvSpPr/>
            <p:nvPr/>
          </p:nvSpPr>
          <p:spPr>
            <a:xfrm>
              <a:off x="2023920" y="5516640"/>
              <a:ext cx="6815160" cy="334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ca variável não de interface por constantes requeri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04920" y="5516640"/>
              <a:ext cx="1719000" cy="334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-IndVarRepRe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23920" y="4937040"/>
              <a:ext cx="6815160" cy="57960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ca variável não de interface por variáveis locais, declaradas na função cham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4920" y="4937040"/>
              <a:ext cx="1719000" cy="57960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-IndVarRepLo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023920" y="4357800"/>
              <a:ext cx="6815160" cy="579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ca variável não de interface por variáveis globais não utilizadas na função cham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4920" y="4357800"/>
              <a:ext cx="1719000" cy="579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-IndVarRepEx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023920" y="3778200"/>
              <a:ext cx="6815160" cy="57960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oca variável não de interface por variáveis globais utilizadas na função cham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04920" y="3778200"/>
              <a:ext cx="1719000" cy="57960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-IndVarRepGl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23920" y="3443400"/>
              <a:ext cx="6815160" cy="334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rescenta negação de bit em variáveis não de interfa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4920" y="3443400"/>
              <a:ext cx="1719000" cy="334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-IndVarBitNe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23920" y="3108240"/>
              <a:ext cx="6815160" cy="33516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rescenta negação de bit em variáveis de interfa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04920" y="3108240"/>
              <a:ext cx="1719000" cy="33516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-DirVarBitNe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23920" y="2773440"/>
              <a:ext cx="6815160" cy="334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rante cobertura de nó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4920" y="2773440"/>
              <a:ext cx="1719000" cy="334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-CovAllN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023920" y="2438280"/>
              <a:ext cx="6815160" cy="33516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rescenta negação aritmética antes de argum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04920" y="2438280"/>
              <a:ext cx="1719000" cy="33516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I-ArgAriNe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380880" y="243828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8915400" y="243828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915400" y="277344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915400" y="310824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8915400" y="34434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915400" y="377820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8915400" y="4113360"/>
            <a:ext cx="0" cy="57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915400" y="4692600"/>
            <a:ext cx="0" cy="57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915400" y="5272200"/>
            <a:ext cx="0" cy="57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915400" y="585144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0880" y="277344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0880" y="310824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0880" y="34434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80880" y="377820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80880" y="4113360"/>
            <a:ext cx="0" cy="57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80880" y="4692600"/>
            <a:ext cx="0" cy="57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80880" y="5272200"/>
            <a:ext cx="0" cy="57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80880" y="5851440"/>
            <a:ext cx="0" cy="33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dores Essenciais (integraçã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FB34-43A1-42B4-8C02-91616BACF0C6}" type="slidenum">
              <a:t>127</a:t>
            </a:fld>
          </a:p>
        </p:txBody>
      </p:sp>
    </p:spTree>
  </p:cSld>
  <p:transition>
    <p:pull dir="l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449280" y="2670120"/>
            <a:ext cx="4071600" cy="3414600"/>
            <a:chOff x="449280" y="2670120"/>
            <a:chExt cx="4071600" cy="3414600"/>
          </a:xfrm>
        </p:grpSpPr>
        <p:sp>
          <p:nvSpPr>
            <p:cNvPr id="1020" name=""/>
            <p:cNvSpPr/>
            <p:nvPr/>
          </p:nvSpPr>
          <p:spPr>
            <a:xfrm>
              <a:off x="743760" y="4422600"/>
              <a:ext cx="674640" cy="368280"/>
            </a:xfrm>
            <a:prstGeom prst="rect">
              <a:avLst/>
            </a:prstGeom>
            <a:solidFill>
              <a:srgbClr val="ffea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r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54200" y="5716440"/>
              <a:ext cx="726480" cy="368280"/>
            </a:xfrm>
            <a:prstGeom prst="rect">
              <a:avLst/>
            </a:prstGeom>
            <a:solidFill>
              <a:srgbClr val="ffea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9280" y="5086080"/>
              <a:ext cx="1244520" cy="368280"/>
            </a:xfrm>
            <a:prstGeom prst="rect">
              <a:avLst/>
            </a:prstGeom>
            <a:solidFill>
              <a:srgbClr val="ffe2c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dade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115360" y="4197240"/>
              <a:ext cx="674640" cy="368280"/>
            </a:xfrm>
            <a:prstGeom prst="rect">
              <a:avLst/>
            </a:prstGeom>
            <a:solidFill>
              <a:srgbClr val="ffea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r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43440" y="5491080"/>
              <a:ext cx="726480" cy="368280"/>
            </a:xfrm>
            <a:prstGeom prst="rect">
              <a:avLst/>
            </a:prstGeom>
            <a:solidFill>
              <a:srgbClr val="ffea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873080" y="4860720"/>
              <a:ext cx="1244520" cy="368280"/>
            </a:xfrm>
            <a:prstGeom prst="rect">
              <a:avLst/>
            </a:prstGeom>
            <a:solidFill>
              <a:srgbClr val="c9f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dade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506040" y="3968640"/>
              <a:ext cx="674640" cy="368280"/>
            </a:xfrm>
            <a:prstGeom prst="rect">
              <a:avLst/>
            </a:prstGeom>
            <a:solidFill>
              <a:srgbClr val="ffea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r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516480" y="5262480"/>
              <a:ext cx="726480" cy="368280"/>
            </a:xfrm>
            <a:prstGeom prst="rect">
              <a:avLst/>
            </a:prstGeom>
            <a:solidFill>
              <a:srgbClr val="ffea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264120" y="4632120"/>
              <a:ext cx="1256760" cy="368280"/>
            </a:xfrm>
            <a:prstGeom prst="rect">
              <a:avLst/>
            </a:prstGeom>
            <a:solidFill>
              <a:srgbClr val="ddff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dade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141200" y="2670120"/>
              <a:ext cx="264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álise de Muta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1599840" y="3103200"/>
              <a:ext cx="12600" cy="18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781280" y="3095280"/>
              <a:ext cx="204840" cy="164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95480" y="3122280"/>
              <a:ext cx="462240" cy="146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4560840" y="4422240"/>
            <a:ext cx="2611800" cy="1523880"/>
            <a:chOff x="4560840" y="4422240"/>
            <a:chExt cx="2611800" cy="1523880"/>
          </a:xfrm>
        </p:grpSpPr>
        <p:sp>
          <p:nvSpPr>
            <p:cNvPr id="1034" name=""/>
            <p:cNvSpPr/>
            <p:nvPr/>
          </p:nvSpPr>
          <p:spPr>
            <a:xfrm flipH="1" rot="5400000">
              <a:off x="4713120" y="4269600"/>
              <a:ext cx="1523880" cy="1828800"/>
            </a:xfrm>
            <a:custGeom>
              <a:avLst/>
              <a:gdLst>
                <a:gd name="textAreaLeft" fmla="*/ -360 w 1523880"/>
                <a:gd name="textAreaRight" fmla="*/ 1523880 w 15238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eacd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059160" y="5271840"/>
              <a:ext cx="111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tratég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crement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5357160" y="1608120"/>
            <a:ext cx="3215520" cy="2719440"/>
            <a:chOff x="5357160" y="1608120"/>
            <a:chExt cx="3215520" cy="2719440"/>
          </a:xfrm>
        </p:grpSpPr>
        <p:sp>
          <p:nvSpPr>
            <p:cNvPr id="1037" name=""/>
            <p:cNvSpPr/>
            <p:nvPr/>
          </p:nvSpPr>
          <p:spPr>
            <a:xfrm>
              <a:off x="7048440" y="2422440"/>
              <a:ext cx="1524240" cy="1905120"/>
            </a:xfrm>
            <a:prstGeom prst="rect">
              <a:avLst/>
            </a:prstGeom>
            <a:solidFill>
              <a:srgbClr val="ffea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666400" y="1608120"/>
              <a:ext cx="271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ação de Interf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505640" y="2003400"/>
              <a:ext cx="2286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6324120" y="1984320"/>
              <a:ext cx="22860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410080" y="2422440"/>
              <a:ext cx="1524240" cy="1905120"/>
            </a:xfrm>
            <a:prstGeom prst="rect">
              <a:avLst/>
            </a:prstGeom>
            <a:solidFill>
              <a:srgbClr val="ffea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6056280" y="3073320"/>
              <a:ext cx="782640" cy="67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43840" y="3073320"/>
              <a:ext cx="782640" cy="67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359400" y="2693880"/>
              <a:ext cx="1244520" cy="368280"/>
            </a:xfrm>
            <a:prstGeom prst="rect">
              <a:avLst/>
            </a:prstGeom>
            <a:solidFill>
              <a:srgbClr val="ffe2c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dade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532480" y="3746520"/>
              <a:ext cx="1244520" cy="368280"/>
            </a:xfrm>
            <a:prstGeom prst="rect">
              <a:avLst/>
            </a:prstGeom>
            <a:solidFill>
              <a:srgbClr val="c9f5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dade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204320" y="3746520"/>
              <a:ext cx="1256760" cy="368280"/>
            </a:xfrm>
            <a:prstGeom prst="rect">
              <a:avLst/>
            </a:prstGeom>
            <a:solidFill>
              <a:srgbClr val="ddff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dade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357160" y="2394000"/>
              <a:ext cx="12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exão A-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009920" y="2382840"/>
              <a:ext cx="12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exão A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7CA6-AECB-4CCE-8FBF-3EB2F90CE5D6}" type="slidenum">
              <a:t>128</a:t>
            </a:fld>
          </a:p>
        </p:txBody>
      </p:sp>
    </p:spTree>
  </p:cSld>
  <p:transition>
    <p:pull dir="l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635440" y="1544760"/>
            <a:ext cx="34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 de Integ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ação de Interface (I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95400" y="2779560"/>
            <a:ext cx="2960640" cy="3548160"/>
          </a:xfrm>
          <a:prstGeom prst="ellipse">
            <a:avLst/>
          </a:prstGeom>
          <a:solidFill>
            <a:srgbClr val="ffe4a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59600" y="2951280"/>
            <a:ext cx="158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d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mu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un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27840" y="2779560"/>
            <a:ext cx="2982960" cy="3548160"/>
          </a:xfrm>
          <a:prstGeom prst="ellipse">
            <a:avLst/>
          </a:prstGeom>
          <a:solidFill>
            <a:srgbClr val="ffe4a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54" name=""/>
          <p:cNvCxnSpPr>
            <a:stCxn id="1051" idx="7"/>
            <a:endCxn id="1053" idx="1"/>
          </p:cNvCxnSpPr>
          <p:nvPr/>
        </p:nvCxnSpPr>
        <p:spPr>
          <a:xfrm flipH="1" rot="16200000">
            <a:off x="4541400" y="1378440"/>
            <a:ext cx="2520" cy="3840840"/>
          </a:xfrm>
          <a:prstGeom prst="curvedConnector5">
            <a:avLst>
              <a:gd name="adj1" fmla="val -36200000"/>
              <a:gd name="adj2" fmla="val 50000"/>
              <a:gd name="adj3" fmla="val -36200000"/>
            </a:avLst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5" name=""/>
          <p:cNvCxnSpPr/>
          <p:nvPr/>
        </p:nvCxnSpPr>
        <p:spPr>
          <a:xfrm rot="5400000">
            <a:off x="4541040" y="3879720"/>
            <a:ext cx="2160" cy="3840840"/>
          </a:xfrm>
          <a:prstGeom prst="curvedConnector5">
            <a:avLst>
              <a:gd name="adj1" fmla="val 36200000"/>
              <a:gd name="adj2" fmla="val 50000"/>
              <a:gd name="adj3" fmla="val 36200000"/>
            </a:avLst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056" name=""/>
          <p:cNvSpPr/>
          <p:nvPr/>
        </p:nvSpPr>
        <p:spPr>
          <a:xfrm>
            <a:off x="3646800" y="2221560"/>
            <a:ext cx="185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675600" y="6279120"/>
            <a:ext cx="185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226320" y="540936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ssencial-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88520" y="3507480"/>
            <a:ext cx="254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ssencial-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20320" y="4266360"/>
            <a:ext cx="323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ssencial-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ssencial-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746760" y="2933640"/>
            <a:ext cx="16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do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mutaçã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594480" y="4127400"/>
            <a:ext cx="1930320" cy="1371600"/>
          </a:xfrm>
          <a:prstGeom prst="ellipse">
            <a:avLst/>
          </a:prstGeom>
          <a:solidFill>
            <a:srgbClr val="ffc68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03200" y="4251240"/>
            <a:ext cx="17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ciai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09480" y="4122720"/>
            <a:ext cx="1932120" cy="1371600"/>
          </a:xfrm>
          <a:prstGeom prst="ellipse">
            <a:avLst/>
          </a:prstGeom>
          <a:solidFill>
            <a:srgbClr val="ffc68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20000" y="4251240"/>
            <a:ext cx="17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ciais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6" name=""/>
          <p:cNvCxnSpPr>
            <a:stCxn id="1064" idx="7"/>
          </p:cNvCxnSpPr>
          <p:nvPr/>
        </p:nvCxnSpPr>
        <p:spPr>
          <a:xfrm flipH="1" flipV="1" rot="5400000">
            <a:off x="4073040" y="2301480"/>
            <a:ext cx="208800" cy="3837600"/>
          </a:xfrm>
          <a:prstGeom prst="curved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7" name=""/>
          <p:cNvCxnSpPr>
            <a:stCxn id="1064" idx="6"/>
            <a:endCxn id="1062" idx="2"/>
          </p:cNvCxnSpPr>
          <p:nvPr/>
        </p:nvCxnSpPr>
        <p:spPr>
          <a:xfrm>
            <a:off x="2541600" y="4808160"/>
            <a:ext cx="40536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8" name=""/>
          <p:cNvCxnSpPr>
            <a:stCxn id="1062" idx="3"/>
          </p:cNvCxnSpPr>
          <p:nvPr/>
        </p:nvCxnSpPr>
        <p:spPr>
          <a:xfrm rot="5400000">
            <a:off x="4728240" y="3363840"/>
            <a:ext cx="215280" cy="4082040"/>
          </a:xfrm>
          <a:prstGeom prst="curvedConnector2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069" name=""/>
          <p:cNvSpPr/>
          <p:nvPr/>
        </p:nvSpPr>
        <p:spPr>
          <a:xfrm>
            <a:off x="45000" y="1547640"/>
            <a:ext cx="34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 de Un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e de Mutantes (A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1B21-14A3-495F-ACA0-BB2CEBDE6B6D}" type="slidenum">
              <a:t>129</a:t>
            </a:fld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6094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Visão de 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56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25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 processo de desenvolvimento de software envolve uma série de atividades nas quais, apesar das técnicas, métodos e ferramentas empregados, ERROS no produto ainda podem ocorr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637E-1386-45ED-81F5-386B5F4447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e de Mutant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tação d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paráveis do ponto de vista da relação de inclu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em e devem ser utilizados de forma complementar na atividade de te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hor estraté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sencial AM e Essencial 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cores superiores a 0.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ção de aproximadamente 6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A70F-F7C0-415E-92EC-6541C3CC5B15}" type="slidenum">
              <a:t>130</a:t>
            </a:fld>
          </a:p>
        </p:txBody>
      </p:sp>
    </p:spTree>
  </p:cSld>
  <p:transition>
    <p:pull dir="l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612440"/>
            <a:ext cx="7848720" cy="50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tudo de Delama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térios de Mutação de Interface Alterna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I-Aleatório, MI-Seletivo e MI-Restr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grama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 S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lto custo do critério Mutação de Interface se comparado aos critérios alternativos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MI-10%-aleatório e MI-19-seletiv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ficácia de quase 10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grama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térios alternativos altamente eficaz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159 defeitos implantados, 153 revelados (97.48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rupo II: 447 mutantes (8.72%), 89.31% de eficá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56B7-9440-450C-B451-EBCCCDFEF97A}" type="slidenum">
              <a:t>131</a:t>
            </a:fld>
          </a:p>
        </p:txBody>
      </p:sp>
    </p:spTree>
  </p:cSld>
  <p:transition>
    <p:pull dir="l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tudo de Mathur, Wong e Offu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nálise de Mutantes, Mutação Aleatória (10%), Mutação Restrita e Todos-U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usto (número de casos de tes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álise de Mutantes, Todos-Usos, Mutação Aleatória e Mutação Restri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ficá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álise de Mutantes, Mutação Restrita, Todos-Usos e Mutação Aleató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1D34-9E20-4852-BB2B-2B02010607A6}" type="slidenum">
              <a:t>132</a:t>
            </a:fld>
          </a:p>
        </p:txBody>
      </p:sp>
    </p:spTree>
  </p:cSld>
  <p:transition>
    <p:pull dir="l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studos Empíric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Aft>
                <a:spcPts val="52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tudo de Sou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nálise de Mutantes </a:t>
            </a:r>
            <a:r>
              <a:rPr b="0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Potenciais-U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usto (número de casos de tes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álise de Mutantes, Potenciais-U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nálise de Mutantes e Todos-Potenciais-Usos são equivalentes do ponto de vista da relação de inclus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odos-Potenciais-Usos/Du e Todos-Potenciais-Du-Caminhos apresentam maior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strength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que o critério Todos-Potenciais-Usos em relação à Análise de Mut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7DD6-B5F7-4000-A197-1B54F70C25A5}" type="slidenum">
              <a:t>133</a:t>
            </a:fld>
          </a:p>
        </p:txBody>
      </p:sp>
    </p:spTree>
  </p:cSld>
  <p:transition>
    <p:pull dir="l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Conclusõ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atividade de teste é fundamental no processo de desenvolvimento d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o custo da atividade 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volvimento de técnicas e critérios 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volvimento e utilização de ferramentas 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udos teóricos e empíricos para comparar os diversos crité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D9CB-0178-446F-AF03-4101F9566623}" type="slidenum">
              <a:t>134</a:t>
            </a:fld>
          </a:p>
        </p:txBody>
      </p:sp>
    </p:spTree>
  </p:cSld>
  <p:transition>
    <p:pull dir="l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Perspectiva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atégias 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 de Integr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 Orientado a Obj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 de Especific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 de Sistemas Rea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iente Integrado para Teste, Depuração e Manutenção d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78F7-588C-4C29-9D58-598C55079A28}" type="slidenum">
              <a:t>135</a:t>
            </a:fld>
          </a:p>
        </p:txBody>
      </p:sp>
    </p:spTree>
  </p:cSld>
  <p:transition>
    <p:pull dir="l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Critérios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80880" y="160020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técnicas e critérios de teste fornecem ao desenvolvedor uma abordagem sistemática e teoricamente fundamentada, além de constituírem um mecanismo que pode auxiliar a avaliar a qualidade e a adequação da atividade de te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ritérios de teste podem ser utilizados tanto para auxiliar na geração de conjunto de casos de teste como para auxiliar na avaliação da adequação desses conjun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6AAF-1B74-44BC-BD58-59A1DA1F60B2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Critérios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0880" y="160020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bora exista uma grande variedade de critérios de teste que podem ser aplicados em nível de unidade, o mesmo não ocorre em nível de integração (critérios funciona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udos empíricos vêm sendo conduzido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4799-D3A3-43FC-BBA7-473435A39F78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Ferrament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80880" y="160020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amental se faz o desenvolvimento de ferramentas de teste para o suporte à atividade de teste propriamente dita, uma vez que essa atividade é muito propensa a erros, além de improdutiva, se aplicada manualmente, bem como para dar apoio a estudos empíricos que visem a avaliar e a comparar os diversos critérios de te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im, a disponibilidade de ferramentas de teste propicia maior qualidade e produtividade para as atividades de te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am-se na literatura esforços da comunidade científica nessa direçã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A71B-1644-4117-92E8-1DD6A91D5221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Limitaçõ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80880" y="160020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atividade de teste é permeada por uma série de limitações, em geral, os seguintes problemas são indecidíve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1) dados dois programas, se eles são equival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2) dadas duas seqüências de comandos (caminhos) de um programa, ou de programas diferentes, se eles computam a mesma fun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3) dado um caminho se ele é executável ou não, ou seja, se existe um conjunto de dados de entrada que levam à execução desse camin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EA38-B571-447E-A910-6AE70F112593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Questõ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atividade de teste deve promover CULP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Atividade de teste é realmente destrutiv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sta: N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EE68-DBA6-4FE1-85F7-8B6C687F5E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Limitaçõ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80880" y="160020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ra limitação fundamental é a correção coincidente – o programa pode apresentar, coincidentemente, um resultado correto para um item particular de um dad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u seja, um particular item de dado ser executado, satisfazer a um requisito de teste e não revelar a presença de um er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D3EF-09B3-481C-9628-68042CDB3C4A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écnicas e Critérios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80880" y="160020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ara se conduzir e avaliar a qualidade da atividade de teste têm-se as técnicas de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ste funcional, estrutural e baseada em err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ais técnicas diferenciam-se pela origem da informação utilizada na avaliação e construção dos conjuntos de casos de te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critérios Potenciais U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 critério Análise de Mutantes [DEM78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 ferramentas de suporte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Poke-Tool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Prote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20FB-FB56-4142-9B43-62BFF5E6E07B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projeto de casos de teste que usa a estrutura de controle do projeto procedimental para derivar casos de tes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ar casos de teste qu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garantam que todos os caminhos independentes dentro de um módulo tenham sido exercitados pelo menos 1 ve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xercitem todas as decisões lógicas para os valores F ou 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A093-7E7B-4DF6-A3CD-2F5516E77E0F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ar casos de teste qu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xecutem todos os laços em suas fronteiras e dentro de seus limites operacion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xercitem as estruturas de dados internas para garantir a sua valida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1E5E-E44E-4672-A98F-C3486CCF7FBE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Caminho Básic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ma das técnicas estrutur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otação de grafo de fluxo (grafo de program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 grado de fluxo descreve o fluxo de controle lógic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plexidade Ciclomática: métrica de software que proporciona uma medida quantitativa da complexidade lógica de program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A8B7-9220-413B-9561-0D147DF71EF4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Exercíci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ado o seguinte programa, faça os itens abaix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Construa o grafo de fluxo de controle do programa, enumerando os nós com as linhas de código correspondent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Calcule a complexidade ciclomática (explique como obteve o valor) e descreva todos os CAMINHOS INDEPENDENTES do program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Defina casos de teste para testar cada caminho encontrado no item 2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764A-983F-40C9-A029-39CADDE847EA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1739880" y="923760"/>
            <a:ext cx="54230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lgoritmo Te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ler m, 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nquanto m &lt;&gt;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 m &gt;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 = m -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n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n = n -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im-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im-enquan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 m &gt;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screver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n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screver “m não exist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im-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im-tes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324A-AE12-4D80-B132-ECA814E5CE4E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Padrões Típicos Indústria de Softw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56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dem de 10 erros por KDSI (1000 linhas de código fonte liberad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s de alta qualidade apresentam da ordem de 0.1 erro por KD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m observação importante é que a maioria desses erros encontra-se em partes do código raramente execut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3D0A-6D4B-4D2E-99EA-CEA4B9D67C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1972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Software Quality Assurance: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adrão sistemático e planejado de ações que são exigidas para garantir a qualidade de softwar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7280" indent="0" algn="just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sas ações engloba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7280" indent="0">
              <a:lnSpc>
                <a:spcPct val="12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Aplicação de Métodos Técnicos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judam o analista a conseguir uma especificação de elevada qualidade e o projetista a desenvolver um projeto de elevada qualid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7280" indent="0">
              <a:lnSpc>
                <a:spcPct val="12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Realização de Revisões Técnicas Formais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ara avaliar a qualidade da especificação e do proje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97280" indent="0">
              <a:lnSpc>
                <a:spcPct val="12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i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Atividades de Teste de Software: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ara ajudar a garantir uma detecção de erros efet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Garantia da Qualidade de Produto de Software (SQA)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5571-F29A-4020-A0BF-1AC0AED81F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289080" indent="0">
              <a:lnSpc>
                <a:spcPct val="125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plicação de Padrões e Procedimentos Forma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no processo de engenharia de softw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89080" indent="0">
              <a:lnSpc>
                <a:spcPct val="125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cesso de Controle de Mudança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ividade que faz parte do gerenciamento de configuração de softw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89080" indent="0">
              <a:lnSpc>
                <a:spcPct val="125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canismos de Mediçã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ra ser possível rastrear a qualidade d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89080" indent="0">
              <a:lnSpc>
                <a:spcPct val="125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)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notação e Manutenção de Registr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cedimentos para a coleta e disseminação de informações de garantia de qualidade de softw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Garantia da Qualidade de Produto de Software (SQA)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3016-CEDD-44B1-A74F-1F19175263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Atividades de Garantia de Qualidade de Softw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56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zidas ao longo de todo o processo de desenvolvimento, entre elas atividades de VV&amp;T –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Verificação, Validação e Tes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om o objetivo de minimizar a ocorrência de erros e riscos associ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re as técnicas de verificação e validação, a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tividade de Tes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é uma das mais utili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DA25-8E30-4F6E-BE03-F4F1437B30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Verificação e Valid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3560" y="1905120"/>
            <a:ext cx="8075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erificação: refere-se ao conjunto de atividades que garante que o software implemente corretamente uma função especí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alidação: refere-se ao conjunto de atividades que garante que o software que foi construído é rastreável às exigências do cl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erificação: “Estamos construindo certo o produt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alidação: “Estamos construindo o produto cert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2D77-064D-4791-9EB3-0E30D2A70C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Organização 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e de Soft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ologia e Conceitos Bás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écnicas e Critérios 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zação da Atividade 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udos Empír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pectiv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C04B-5598-4F45-8762-36ECD33B93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4105B5A-2B9A-4263-83B6-1AC02DFFCDF9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68580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Objetivos da Atividade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56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 o processo de executar um PROGRAMA com a intenção de descobrir um ER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m bom caso de teste é aquele que tem uma elevada probabilidade de revelar um erro ainda não descober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m teste bem sucedido é aquele que revela um erro ainda não descober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9C9A-F3C5-4333-9437-7AC6A64269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68580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Objetivos da Atividade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56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25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Afirmação FALS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Um teste bem sucedido é aquele em que nenhum erro é encontr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A atividade de teste não pode mostrar a ausência de bugs; ela só pode mostrar se defeitos de software estão pres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F527-BC12-43E5-BD74-F4DDCF6213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Atividades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356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25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tituindo-se em um dos elementos para fornecer evidências da confiabilidade do software em complemento a outras atividades, como por exemplo o uso de revisões e de técnicas formais e rigorosas de especificação e de verificação [PRE92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5AB6-3AD1-480F-A6E0-3E8638D52D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Atividade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828800"/>
            <a:ext cx="83804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e de uma análise dinâmica do produ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É uma atividade relevante para a identificação e eliminação de erros que persi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conjunto de informação oriundo da atividade de teste é significativo para as atividades de depuração, manutenção e estimativa de confiabilidade de softw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AA43-6170-40F8-B387-20DA3B329C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erminolog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828800"/>
            <a:ext cx="83804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IEEE tem realizado vários esforços de padronização, entre eles para padronizar a terminologia utilizada no contexto de Engenharia de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 padrão IEEE diferencia os ter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feit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ul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rro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erro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alha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ilur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EB4A-B4D5-45F3-A5A9-943904B874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rminologia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eito        Erro            Falh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ito: deficiência mecânica ou algorítmica que, se ativada, pode levar a uma fal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o: item de informação ou estado de execução inconsist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ha: evento notável em que o sistema viola suas especific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886040"/>
            <a:ext cx="457200" cy="304560"/>
          </a:xfrm>
          <a:custGeom>
            <a:avLst/>
            <a:gdLst>
              <a:gd name="textAreaLeft" fmla="*/ 56880 w 457200"/>
              <a:gd name="textAreaRight" fmla="*/ 400320 w 457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49520" y="1886040"/>
            <a:ext cx="457200" cy="304560"/>
          </a:xfrm>
          <a:custGeom>
            <a:avLst/>
            <a:gdLst>
              <a:gd name="textAreaLeft" fmla="*/ 56880 w 457200"/>
              <a:gd name="textAreaRight" fmla="*/ 400320 w 457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41FB-EF52-41DA-9013-1DCACD16A07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5845820-DD5A-47FF-82D3-E54A0C7BED5B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bebe"/>
                </a:solidFill>
                <a:latin typeface="Times New Roman"/>
              </a:rPr>
              <a:t>Defeito (fault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752480"/>
            <a:ext cx="8380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so, processo ou definição de dados incorreto, como por exemplo, uma instrução ou comando incorret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191120"/>
            <a:ext cx="8380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ção humana que produz um resultado incorreto, com por exemplo, uma ação incorreta tomada pelo programado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2971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bebe"/>
                </a:solidFill>
                <a:latin typeface="Times New Roman"/>
              </a:rPr>
              <a:t>Engano (mistak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6FEE-7F16-4CAD-96C1-D416D88A2D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bebe"/>
                </a:solidFill>
                <a:latin typeface="Times New Roman"/>
              </a:rPr>
              <a:t>Erro (error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447920"/>
            <a:ext cx="83804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erença entre o valor obtido e o valor esperado, ou seja, qualquer estado intermediário incorreto ou resultado inesperado na execução do programa constitui um er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403848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ção de uma saída incorreta com relação à especifi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 termos engano, defeito e erro serão referenciados com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RR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us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e o term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ALH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conseqüência) a um comportamento incorreto do progra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32004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bebe"/>
                </a:solidFill>
                <a:latin typeface="Times New Roman"/>
              </a:rPr>
              <a:t>Falha (failur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B480-A75C-4D5D-8571-1A501423EE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Classific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447920"/>
            <a:ext cx="83804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uma forma geral, os erros são classificados 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rros Computaciona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erro provoca uma computação incorreta, mas o caminho executado (seqüências de comandos) é igual ao caminho espe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rros de domíni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caminho efetivamente executado é diferente do caminho esperado, ou seja, um caminho errado é selecion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809D-5293-4D02-90E5-DD1B505A45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Defeitos no Processo</a:t>
            </a:r>
            <a:br>
              <a:rPr sz="4400"/>
            </a:b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de Desenvolviment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ior parte é de origem hum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gerados na comunicação e na transformação de inform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am presentes nos diversos produtos de software produzidos e liberados (10 defeitos a cada 1000 linhas de códig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ioria encontra-se em partes do código raramente execut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0440-8DC7-4BFE-9AAD-A6546F5349E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3445263-406E-46BB-878D-3A29315D454A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Visão Ger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600200"/>
            <a:ext cx="8382240" cy="4495680"/>
          </a:xfrm>
          <a:prstGeom prst="roundRect">
            <a:avLst>
              <a:gd name="adj" fmla="val 12486"/>
            </a:avLst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828800"/>
            <a:ext cx="761976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Atividade de Teste é um ELEMENTO CRÍTICO para a garantia de qualidade do softw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 a última revisão de especificação, projeto e codif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écnicas que auxiliam no condução dessa atividade têm sido proposta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1946-70ED-4B4E-805D-BCA074C5CE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Defeitos no Processo</a:t>
            </a:r>
            <a:br>
              <a:rPr sz="4400"/>
            </a:b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de Desenvolviment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to antes a presença do defeito for revelada, menor o custo de correção do defeito e maior a probabilidade de corrigi-lo corretame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 causa: tradução incorreta de informaçõ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ção: introduzir atividades de VV&amp;T ao longo de todo o ciclo de desenvolvimen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A565-190D-46D8-B276-0F3113820D7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93B5193-A254-4DC4-A470-28822088AAEA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e Depuraçã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es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epur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2286000"/>
            <a:ext cx="7086600" cy="155700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sso de executar um programa com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 objetivo de revelar a presença de defeitos; ou, falhando nesse objetivo, aumentar a confiança sobre o progra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4572000"/>
            <a:ext cx="7086600" cy="119124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eqüência não previsível do teste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ós revelada a presença do defeito, el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ve ser encontrado e corrig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3AA0-DE94-4B3E-9C2B-0D52063D9B0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A7E369F-6563-4021-BF7F-9DC56FE28E43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Software 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undamental em todos os ramos de engenh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oftware: produto da Engenharia d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tividade essencial para ascensão ao nível 3 do Modelo CMM/S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tividade relevante para avaliação da característica funcionalidade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(ISO 9126,14598-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443C-A194-4CCF-86A2-86BACFA0D5F8}" type="slidenum">
              <a:t>32</a:t>
            </a:fld>
          </a:p>
        </p:txBody>
      </p:sp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Softwar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o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ecificação de uma entrada para o programa e a correspondente saída esp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ada para o programa: conjunto de dados necessários para uma execução do progr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ída esperada: resultado de uma execução do programa (um oráculo é espera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 bom caso de teste tem alta probabilidade de revelar um erro ainda não descober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71FC-41F6-4B2F-B473-22489A73D75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FF79ECB-C82A-4C52-972B-14367858726C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Softwar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imitaçõ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ão existe um algoritmo de teste de propósito geral para provar a corretitude de um prog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 geral, é indecidível se dois caminhos de um mesmo programa ou de diferentes programas computam a mesma fun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 indecidível se existe um dado de entrada que leve à execução de um dado caminho de um programa; isto é, é indecidível se um dado caminho é executável ou nã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67DA-33A7-4462-9B11-C2D85AF050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Softwar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1400" y="2800440"/>
            <a:ext cx="1877760" cy="103032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4840" y="3070080"/>
            <a:ext cx="16063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tividades de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este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7760" y="2395440"/>
            <a:ext cx="592200" cy="54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9720" y="1746360"/>
            <a:ext cx="1602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Softwar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892080" y="3671640"/>
            <a:ext cx="571680" cy="633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4352760"/>
            <a:ext cx="1601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Test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19600" y="2421000"/>
            <a:ext cx="1939680" cy="107136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55920" y="2814480"/>
            <a:ext cx="11638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079800" y="2998800"/>
            <a:ext cx="760320" cy="21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90640" y="2133720"/>
            <a:ext cx="1347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Test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548160" y="3263760"/>
            <a:ext cx="507960" cy="1330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33760" y="4743360"/>
            <a:ext cx="13478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perad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45160" y="4530600"/>
            <a:ext cx="1812960" cy="105264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3456000"/>
            <a:ext cx="358560" cy="10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72040" y="3573360"/>
            <a:ext cx="992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do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 Tax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 Err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96000" y="4762440"/>
            <a:ext cx="15573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elo d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24720" y="2862360"/>
            <a:ext cx="1855800" cy="1243080"/>
          </a:xfrm>
          <a:prstGeom prst="ellipse">
            <a:avLst/>
          </a:prstGeom>
          <a:solidFill>
            <a:srgbClr val="ffcccc"/>
          </a:solidFill>
          <a:ln w="255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1320" y="3046320"/>
            <a:ext cx="898560" cy="219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51520" y="2743200"/>
            <a:ext cx="6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rr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51600" y="3330720"/>
            <a:ext cx="1330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puraçã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72440" y="4133880"/>
            <a:ext cx="612720" cy="80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24880" y="4984920"/>
            <a:ext cx="130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rreçõ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53120" y="5481720"/>
            <a:ext cx="492120" cy="538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6019920"/>
            <a:ext cx="1698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vist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0ADD-7B90-4463-95B8-233E6529695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7F6A9FF-F2E0-4973-B64E-411C6533BDFB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Softwar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O teste de produtos de software envolve basicamente quatro etapas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ja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to de casos 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ção do programa com os caso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e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DFE5-9864-4703-9975-9D3A7CE21AC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A72CE17-B348-4C9A-A608-B14FC81DA398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Como desenvolv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676520"/>
            <a:ext cx="83804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sas atividades devem ser desenvolvidas ao longo do próprio processo de desenvolvimento de software, e em geral, concretizam-se em três fases de tes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4D95-A844-4472-9E15-6BBE91A0C4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Softwar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ses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e de Un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erros de lógica e de implementação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 cada módulo do software, separad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e de Integr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erros associados às interfaces entre os módulos do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e de Sist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ificar se as funções estão de acordo com a especificação e se todos os elementos do sistema combinam-se adequad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E40E-0A8D-4AB7-80AB-979C01024BB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3D5288B-3907-491E-9BD2-14F60B70E54B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este de Unida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981080"/>
            <a:ext cx="8380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centra esforços na menor unidade do projeto de software, ou seja, procura identificar erros de lógica e de implementação em cada módulo do software, separadame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73DD-CB10-489E-A487-FD2505943BA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Visão Ger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600200"/>
            <a:ext cx="8382240" cy="4495680"/>
          </a:xfrm>
          <a:prstGeom prst="roundRect">
            <a:avLst>
              <a:gd name="adj" fmla="val 12486"/>
            </a:avLst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828800"/>
            <a:ext cx="761976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Engenharia de Software evoluiu significativamente nas últimas décadas procurando estabelec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écnic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ritéri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étod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rrament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a a produção de software, em conseqüência da crescente utilização de sistemas baseados em computação em praticamente todas as áreas da atividade hum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B299-3D9B-43F6-A5B3-67BC2DE772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este de Integraçã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752480"/>
            <a:ext cx="8380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É uma atividade sistemática aplicada durante a integração da estrutura do programa visando a descobrir erros associados às interfaces entre os módu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objetivo é, a partir dos módulos testados no nível de unidade, construir a estrutura de programa que foi determinada pelo pro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r erros de integração entre as unidades já testadas individu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D60D-80E4-48E5-8248-79F4941AD7D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este de Sist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1828800"/>
            <a:ext cx="8380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teste de sistema, realizado após a integração do sistema, visa a identificar erros de funções e características de desempenho que não estejam de acordo com a especif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ender as exigências Funcionais, Comportamentais  e de Desempenho descritas na ESPECIF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DADF-F2C2-4980-8C76-2BEF2AE3B7D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Casos de Teste: Ponto Cruci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828800"/>
            <a:ext cx="8380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pendentemente da fase, é o projeto e/ou a avaliação da qualidade de um determinado conjunto de casos de test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zado para o teste de um produ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dado que, em geral, é impraticável utilizar todo o domínio de dados de entrada para avaliar os aspectos funcionais e operacionais de um produto em te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6AD1-46C6-442C-88D2-27CBEA9F032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6858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Casos de Teste: Ponto Cruci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2438280"/>
            <a:ext cx="8380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objetivo é utilizar casos de teste que tenham alta probabilidade de encontrar a maioria dos defeitos com um mínimo de tempo e esforço, por questões de produtiv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F6D9-5D8A-4D9C-B12B-C0FD335653A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este: Encontrar Err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828800"/>
            <a:ext cx="8380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 principal objetivo do teste de software é revelar a presença de erros no produ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tanto, o teste bem sucedido é aquele que consegue determinar casos de teste para os quais o programa em teste fal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-se observado que a própria atividade de projeto de casos de teste é bastante efetiva em evidenciar a presença de defeitos de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3437-AC7F-4C99-8069-8483BF24707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écnic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1828800"/>
            <a:ext cx="8380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0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quer produto trabalhado por engenharia pode ser testado de duas maneir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1) conhecendo a função específica que um produto projetado deve executar, testes podem ser realizados para demonstrar que cada função é totalmente oper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CAF7-4E0C-4610-84E2-31854E46A61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écnic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828800"/>
            <a:ext cx="8380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2) conhecendo-se o funcionamento interno de um produto, testes podem ser realizados para garantir que todas as engrenagens se encaixam, ou seja, que a operação interna do produto tenha um desempenho de acordo com as especific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4EA5-DC9A-4D69-9B2C-146E1D42B9E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écnicas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60020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m geral, os critérios de teste de software são estabelecidos, basicamente, a partir de três técnica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Funcional (caixa pre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Estrutural (caixa branca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Baseada em er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30F2-3BF6-4E0E-8D57-DC3B611E4B0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762120"/>
            <a:ext cx="9144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écnica Func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os critérios e requisitos de teste são estabelecidos a partir da função de especificação do software (ESPECIFICAÇÃO) -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strutur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os critérios e requisitos são derivados essencialmente a partir das características de uma particular implementação do software (IMPLEMENTAÇÃ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aseada em Err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os critérios e requisitos de teste são oriundos do conhecimento sobre erros típicos/comuns que podem ocorrer durante o processo de desenvolvimento de softw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CE1A-678E-427C-B56E-4CDE1A6638D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s e Critérios de Test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écnica Fun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quisitos funcionais do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tério Particionamento em Classes de Equivalê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écnica Estru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strutura interna do prog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térios Baseados em Fluxo de D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écnica Baseada em Er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rros mais freqüentes cometidos durante o processo de desenvolvimento d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tério Análise de Mut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9302-1E60-433D-8A44-5C9980CBD0BE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CF4054F-D222-460E-AA27-BA636BA10B29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Visão Ger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600200"/>
            <a:ext cx="8382240" cy="4495680"/>
          </a:xfrm>
          <a:prstGeom prst="roundRect">
            <a:avLst>
              <a:gd name="adj" fmla="val 12486"/>
            </a:avLst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133720"/>
            <a:ext cx="76201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oca uma crescente demanda por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qualida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dutivida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anto do ponto de vista do processo de produção como do ponto de vista dos produtos gerad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19A0-2B72-45D6-9DF9-7E63711182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3000" y="6858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Técnicas de Te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1600200"/>
            <a:ext cx="8763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nhuma dessas Técnicas de Teste é completa, devendo ser aplicadas em conjunto para tentar assegurar um teste de melhor qualid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FD1B-5B29-47DE-8DF4-53642DE03E3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utomatização da Atividade de Test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rramentas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ibuem para reduzir as falhas produzidas pela intervenção hum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a qualidade e produtividade da atividade de te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a confiabilidade do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m a condução de estudos comparativos entre crité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19320" y="2328840"/>
            <a:ext cx="7010280" cy="100728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 a aplicação efetiva de um critério de teste faz-se necessário o uso de ferramentas automatizadas qu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póiem a aplicação desse crité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D720-7869-4BA8-823E-148DF00712EF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D80D21C-FB95-48CC-A9ED-20C21C7DC214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utomatização da Atividade de Test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581120"/>
            <a:ext cx="822960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térios Estruturais: Fluxo de D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Asse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Protest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programas em 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xSuds (Atac)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programas em C e C+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Poke-Too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programas em C, Cobol e Fort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térios Baseados em Mut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Mothr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programas em Fort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Proteu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programas em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Proteum/I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programas em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Proteum/R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– especificaçõ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5B32-58D5-47F8-A07D-2A17C9E85D54}" type="slidenum">
              <a:t>52</a:t>
            </a:fld>
          </a:p>
        </p:txBody>
      </p:sp>
    </p:spTree>
  </p:cSld>
  <p:transition>
    <p:pull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bebe"/>
                </a:solidFill>
                <a:latin typeface="Times New Roman"/>
              </a:rPr>
              <a:t>Automatização da Atividade de Teste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Sud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Software Understanding &amp;          Diagnosis Syste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Ata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Sl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epur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V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anuten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Pro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elhoria d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Dif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mparação de cód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D59E-12C7-44B6-8567-321D426C2B7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Funcional (Caixa Preta)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ia-se na especificação do software para derivar os requisitos d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rda o software de um ponto de vista macroscóp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olve dois passos principa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as funções que o software deve realizar (especificação dos requisit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iar casos de teste capazes de checar se essas funções estão sendo executadas corret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CAF4-E723-442F-910B-DB02C698ACE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94EDE14-4D42-4695-912F-B0125B124CBD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Funcion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iculdade em quantificar a atividade de teste: não se pode garantir que partes essenciais ou críticas do software foram execut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érios da Técnica Funcion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ionamento em Classes de Equivalê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álise do Valor Lim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fo de Causa-Efe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3882-F47D-46DA-880E-9C944389F4D1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51CBDC9-F714-4AFE-9D60-E92667E60C7A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Funcional: Exempl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articionamento em Classes de Equivalênc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 o domínio de entrada do programa em classes de dados (classes de equivalênci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dados de teste são derivados a partir das classes de equivalê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omínio de saída deve ser considerado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7756-65D8-45F8-96B9-384A0BA0C94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BB7CA59-D8A8-465B-8CA7-2CA7C01D1E3B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Funcional: Exempl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r classes de equivalê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ições de entr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es válidas e inváli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r os casos de te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umeram-se as classes de equivalê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os de teste para as classes váli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os de teste para as classes inváli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5A395-7F2A-4D11-93EE-BC06900B436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98752DF-ACBE-44A2-AF5D-9FB2F69449D9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Funcional: Exempl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pecificação do programa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Identif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2498760"/>
            <a:ext cx="7543800" cy="1618560"/>
          </a:xfrm>
          <a:prstGeom prst="rect">
            <a:avLst/>
          </a:prstGeom>
          <a:solidFill>
            <a:srgbClr val="ffc7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 programa deve determinar se um identificador é válido ou não em Silly Pascal (uma variante do Pascal). Um identificad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álido deve começar com uma letra e conter apenas letras ou dígitos. Além disso, deve ter no mínimo um caractere e no máximo seis caracteres de compriment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4038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7000"/>
          </a:bodyPr>
          <a:p>
            <a:pPr lvl="1" marL="349200" indent="-134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9200" indent="-134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6120" y="5241960"/>
            <a:ext cx="2078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12 (válido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*1 (inválid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99160" y="5226120"/>
            <a:ext cx="23479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oma (inválid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123456 (inválid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E8BC-E09D-4B5C-A008-7C2DEC1054B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7D29178-F3CA-4DEE-BF2D-37A69601A603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Funcional: Exempl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es de equivalê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73680" y="2322360"/>
            <a:ext cx="8392680" cy="2554200"/>
            <a:chOff x="373680" y="2322360"/>
            <a:chExt cx="8392680" cy="2554200"/>
          </a:xfrm>
        </p:grpSpPr>
        <p:sp>
          <p:nvSpPr>
            <p:cNvPr id="332" name=""/>
            <p:cNvSpPr/>
            <p:nvPr/>
          </p:nvSpPr>
          <p:spPr>
            <a:xfrm>
              <a:off x="380880" y="2817720"/>
              <a:ext cx="8382240" cy="68580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7720" y="2966760"/>
              <a:ext cx="3197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manh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o identificad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8720" y="2398680"/>
              <a:ext cx="2871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ções de Entra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95160" y="2398680"/>
              <a:ext cx="2108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asses Válid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59840" y="2398680"/>
              <a:ext cx="2306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asses Inválid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0880" y="4189320"/>
              <a:ext cx="8382240" cy="685800"/>
            </a:xfrm>
            <a:prstGeom prst="rect">
              <a:avLst/>
            </a:prstGeom>
            <a:solidFill>
              <a:srgbClr val="ffe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0880" y="2322360"/>
              <a:ext cx="838224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0880" y="2817720"/>
              <a:ext cx="838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41200" y="2793960"/>
              <a:ext cx="122400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0880" y="4873320"/>
              <a:ext cx="838224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680" y="3639960"/>
              <a:ext cx="3807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meiro caracter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é uma l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0360" y="4338360"/>
              <a:ext cx="35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ó contém caracteres válid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23760" y="2792160"/>
              <a:ext cx="6861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41800" y="3492360"/>
              <a:ext cx="62244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1040" y="3490920"/>
              <a:ext cx="65304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46840" y="4178160"/>
              <a:ext cx="62244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5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45720" y="4176720"/>
              <a:ext cx="65304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6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51240" y="2336760"/>
              <a:ext cx="0" cy="253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38960" y="2331720"/>
              <a:ext cx="0" cy="254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52280" y="5105520"/>
            <a:ext cx="876312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mplo de Conjunto de Casos de Te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(a1,Válido), (2B3, Inválido), (Z-12, Inválido), (A1b2C3d, Inválido)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72E9-1FC2-45FD-9839-B03DCA5655BB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9C4F72B-62C1-4BAD-8A51-DD70BA9B40D2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182880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6094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bebe"/>
                </a:solidFill>
                <a:latin typeface="Times New Roman"/>
              </a:rPr>
              <a:t>Visão de 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356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Engenharia de Software pode ser definida como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 disciplina que aplica os princípios de engenharia com o objetivo de produzir software d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lta qualidad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baixo cus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3665-0BEB-45DA-8547-399913D9D8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1960200"/>
            <a:ext cx="4495680" cy="322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xa Bran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e de Caminho Bás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ção de Grafo de Flux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xidade Ciclomá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rizes de Graf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e de Estrutura de Contr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ste de Cond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ste de Fluxo de D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ste de Laç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267080" y="2209680"/>
            <a:ext cx="4572000" cy="21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xa Pre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ção em Classes de Equivalê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álise das Condições de Frontei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fo Causa Efe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54100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 você pensa que projetar e codificar aquele programa foi difíci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ocê não viu nada ainda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bebe"/>
                </a:solidFill>
                <a:latin typeface="Times New Roman"/>
              </a:rPr>
              <a:t>Técnicas de Teste de Software</a:t>
            </a:r>
            <a:endParaRPr b="0" i="1" lang="en-US" sz="60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DE6B-B843-41FD-B83A-AE897AAAF75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 (Caixa Branca)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ada no conhecimento da estrutura interna (implementação) do pro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 dos detalhes procediment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ioria dos critérios dessa técnica utilizam uma representação de programa conhecida como grafo de programa ou  grafo de fluxo de cont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7185-EF00-4800-8CC0-5BB347E5BCCA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45A9C79-09FF-4C3F-A95E-BF692B1E9420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s Caixa Branca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1981080"/>
            <a:ext cx="74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a do projeto procedi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ante caminhos independentes dentro de um módulo; exercita todas as decisões lógicas; executa todos os laços em suas fronteiras; exercita todas as estruturas de d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 que? Erros residem no caminho que não é execu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0C6A-A927-4C46-B599-85AC15708DC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fo de Progra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ós: blocos “indivisívei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ão existe desvio para o meio do blo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a vez que o primeiro comando do bloco é executado, os demais comandos são executados seqüencial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stas ou Arcos: representam o fluxo de controle entre os nó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B03F-976F-45BF-93BA-290038CBB28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4CE85C9-D703-45AC-BCEB-F9EEC94C41DB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Caminho Básic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35960" y="41911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rcos de flux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egi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ós Predic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69920" y="1066680"/>
            <a:ext cx="5980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Notação de Grafo de Flux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316880" y="1904040"/>
            <a:ext cx="7374600" cy="1829880"/>
            <a:chOff x="1316880" y="1904040"/>
            <a:chExt cx="7374600" cy="1829880"/>
          </a:xfrm>
        </p:grpSpPr>
        <p:sp>
          <p:nvSpPr>
            <p:cNvPr id="366" name=""/>
            <p:cNvSpPr/>
            <p:nvPr/>
          </p:nvSpPr>
          <p:spPr>
            <a:xfrm>
              <a:off x="1338120" y="2971800"/>
              <a:ext cx="21132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68320" y="2967120"/>
              <a:ext cx="21132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30360" y="2978280"/>
              <a:ext cx="21132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84560" y="2990880"/>
              <a:ext cx="20952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54360" y="342900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54360" y="243828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62440" y="304812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86280" y="3059280"/>
              <a:ext cx="21132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92720" y="304812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13680" y="311472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480520" y="321948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94720" y="346716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2640" y="312408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12000" y="2762280"/>
              <a:ext cx="21132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57360" y="3076560"/>
              <a:ext cx="210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543040" y="2666520"/>
              <a:ext cx="2811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43040" y="3200400"/>
              <a:ext cx="211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65320" y="2666880"/>
              <a:ext cx="2811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965320" y="3200040"/>
              <a:ext cx="211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32280" y="2819520"/>
              <a:ext cx="563400" cy="22860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32" y="240"/>
                  </a:moveTo>
                  <a:cubicBezTo>
                    <a:pt x="348" y="120"/>
                    <a:pt x="264" y="0"/>
                    <a:pt x="192" y="0"/>
                  </a:cubicBezTo>
                  <a:cubicBezTo>
                    <a:pt x="120" y="0"/>
                    <a:pt x="32" y="200"/>
                    <a:pt x="0" y="24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00400" y="3152880"/>
              <a:ext cx="281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6880" y="228492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Se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99280" y="19040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45400" y="213264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Wh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98240" y="23612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imes New Roman"/>
                </a:rPr>
                <a:t>Unti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03560" y="3162240"/>
              <a:ext cx="984240" cy="571680"/>
            </a:xfrm>
            <a:custGeom>
              <a:avLst/>
              <a:gdLst/>
              <a:ahLst/>
              <a:rect l="l" t="t" r="r" b="b"/>
              <a:pathLst>
                <a:path w="672" h="360">
                  <a:moveTo>
                    <a:pt x="0" y="72"/>
                  </a:moveTo>
                  <a:cubicBezTo>
                    <a:pt x="136" y="216"/>
                    <a:pt x="272" y="360"/>
                    <a:pt x="384" y="360"/>
                  </a:cubicBezTo>
                  <a:cubicBezTo>
                    <a:pt x="496" y="360"/>
                    <a:pt x="640" y="0"/>
                    <a:pt x="672" y="7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29320" y="312408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51720" y="313524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59600" y="3124080"/>
              <a:ext cx="210960" cy="22860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99160" y="2895480"/>
              <a:ext cx="563400" cy="22860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32" y="240"/>
                  </a:moveTo>
                  <a:cubicBezTo>
                    <a:pt x="348" y="120"/>
                    <a:pt x="264" y="0"/>
                    <a:pt x="192" y="0"/>
                  </a:cubicBezTo>
                  <a:cubicBezTo>
                    <a:pt x="120" y="0"/>
                    <a:pt x="32" y="200"/>
                    <a:pt x="0" y="24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65840" y="3228840"/>
              <a:ext cx="282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77040" y="3238560"/>
              <a:ext cx="280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424640" y="2962080"/>
              <a:ext cx="35244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24640" y="3267000"/>
              <a:ext cx="35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24640" y="3343320"/>
              <a:ext cx="35244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58240" y="2886120"/>
              <a:ext cx="4222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58240" y="3267000"/>
              <a:ext cx="35244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8058240" y="3495600"/>
              <a:ext cx="42228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54600" y="227556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3CA3-4B5F-49E6-BE0F-7F4E767BA54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1828800"/>
            <a:ext cx="5699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porciona medida quantitativa da complexidade lógica do progr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minho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mples (2, 3, 4, 5, 6, 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leto (1, 2, 3, 4, 5, 7, 4, 8, 9, 1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vre de laço (2, 3, 4, 5, 6, 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minho não executável (6, 7, 4, 5, 7, 4, 8, 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Notação de Grafo de Fluxo</a:t>
            </a:r>
            <a:endParaRPr b="0" i="1" lang="en-US" sz="36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69920" y="1066680"/>
            <a:ext cx="5980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omplexidade Ciclomát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840280" y="1828800"/>
            <a:ext cx="2961000" cy="41911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457200" y="388944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Regiões do graf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V(G) = E - N +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E - nº ra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N - nº de nó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V(G) = P +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cccc"/>
                </a:solidFill>
                <a:latin typeface="Times New Roman"/>
              </a:rPr>
              <a:t>P - nós predic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42A9-77C5-44A8-B012-D827986EA25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Caminhos Independe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 máximo para o número de testes que deve ser realizado para garantir que todas as instruções sejam executadas pelo menos uma ve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 qualquer caminho através do programa que introduz pelo menos um novo conjunto de instruções de processamento ou uma nova condi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 incluir pelo menos um Ramo que não tenha sido atravessado antes que o caminho seja defini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0666-6B33-44D5-964A-DB9B8A38F62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este de Caminho Básic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69920" y="1066680"/>
            <a:ext cx="5980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atrizes de Graf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477800" y="1905120"/>
            <a:ext cx="2530440" cy="3276000"/>
            <a:chOff x="1477800" y="1905120"/>
            <a:chExt cx="2530440" cy="3276000"/>
          </a:xfrm>
        </p:grpSpPr>
        <p:sp>
          <p:nvSpPr>
            <p:cNvPr id="415" name=""/>
            <p:cNvSpPr/>
            <p:nvPr/>
          </p:nvSpPr>
          <p:spPr>
            <a:xfrm>
              <a:off x="2556360" y="1905120"/>
              <a:ext cx="421920" cy="45684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6360" y="4724280"/>
              <a:ext cx="421920" cy="45684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79760" y="3809880"/>
              <a:ext cx="421920" cy="45684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77800" y="3809880"/>
              <a:ext cx="421920" cy="45684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56360" y="2895480"/>
              <a:ext cx="421920" cy="45684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67320" y="236196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67320" y="3352680"/>
              <a:ext cx="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67320" y="429228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1782360" y="3123720"/>
              <a:ext cx="703440" cy="76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11800" y="4267080"/>
              <a:ext cx="844200" cy="60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1923120" y="4038480"/>
              <a:ext cx="632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8280" y="3124080"/>
              <a:ext cx="774000" cy="83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978280" y="3962160"/>
              <a:ext cx="774000" cy="83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28440" y="3351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76440" y="24372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22680" y="42408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13040" y="377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30840" y="331344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14000" y="3999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90000" y="4405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35" name=""/>
          <p:cNvGraphicFramePr/>
          <p:nvPr/>
        </p:nvGraphicFramePr>
        <p:xfrm>
          <a:off x="5418000" y="1981080"/>
          <a:ext cx="2181240" cy="153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8000" y="1981080"/>
                    <a:ext cx="218124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5441400" y="1676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gado ao n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80600" y="2057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135400" y="4267080"/>
          <a:ext cx="2181240" cy="1536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5400" y="4267080"/>
                    <a:ext cx="218124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4699800" y="44197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01000" y="3962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gado ao n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39680" y="42022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nex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63440" y="455940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 - 1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363440" y="502920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 - 1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363440" y="528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 - 1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63440" y="55371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 - 1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82120" y="57690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3 + 1 =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316B-756A-40C6-B548-CC7E090D2B5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85840" y="1904760"/>
            <a:ext cx="4800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fo de Progra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alhes considerad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in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s (2,3,4,5,6,7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o (1,2,3,4,5,7,4,8,9,1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vre de laço (2,3,4,5,6,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xo de contr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7040" y="5562720"/>
            <a:ext cx="302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fo de Programa d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do pel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iew-Gra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2" name="ViewGraph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2981160" cy="34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2753-5596-4F04-AC25-A59B8424F34F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4DD6D8A-A1A8-4E88-9E8B-C5C3246BBBD9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228600" y="685800"/>
            <a:ext cx="8458200" cy="544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 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har  acha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  length, valid_i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ength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 (“Identificador: “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valid_id = valid_s(achar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1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99ff"/>
                </a:solidFill>
                <a:latin typeface="Courier New"/>
              </a:rPr>
              <a:t>if (valid_i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2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ength = 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3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99ff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4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99ff"/>
                </a:solidFill>
                <a:latin typeface="Courier New"/>
              </a:rPr>
              <a:t>while (achar != '\n'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5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5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f (!(valid_f(achar)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6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valid_id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7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ength++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7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7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8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99ff"/>
                </a:solidFill>
                <a:latin typeface="Courier New"/>
              </a:rPr>
              <a:t>if (valid_id &amp;&amp; (length &gt;= 1) &amp;&amp; (length &lt; 6)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09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99ff"/>
                </a:solidFill>
                <a:latin typeface="Courier New"/>
              </a:rPr>
              <a:t>printf (“Valido\n“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10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10 */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 (“Invalido\n“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/* 11 */  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2280" y="1494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r.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unçã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91320" y="1066680"/>
            <a:ext cx="2971800" cy="83844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inh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-Execut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D287-FEBC-4EDA-9138-B4237FB22625}" type="slidenum">
              <a:t>6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2B5811B-77BD-4C79-8E84-4F5EC5A11095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Introduçã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genharia de Soft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tivo 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zir software de alta qualidade e de baixo cu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486160"/>
            <a:ext cx="7086600" cy="155700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junto de princípios, métodos e técnica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 tratam o software como produto de engenharia que requer planejamento, projeto, implementação e manuten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6B4D-905A-4C46-8675-924642F7024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0009A53-9608-4CCA-A293-035E16A5974B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térios da Técnica Estru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seados em Fluxo de Contr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odos-Nós, Todas-Arestas e Todos-Caminh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seados em Fluxo de D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térios de Rapps e Weyu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odas-Defs, Todos-Usos, Todos-P-Usos e ou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térios Potenciais-Usos (Maldona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odos-Potenciais-Usos, Todos-Potenciais-Usos/DU e ou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aseados em Complex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tério de McCa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C2A0-7ECF-4AD9-9B6F-D40CF5729E40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5EB3712-2472-4F07-9DFA-71773C31DE4D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érios Baseados em Fluxo de Contro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os-Nó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2,3,4,5,6,7,8,9,10,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os-Ar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os primi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1,2&gt;,&lt;1,3&gt;,&lt;5,6&gt;,&lt;5,7&gt;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8,9&gt;,&lt;8,10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os-Camin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55000" y="5562720"/>
            <a:ext cx="302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fo de Programa d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do pel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iew-Gra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ViewGraph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2981160" cy="34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5D4C-DF82-478A-87AE-3DECED660A29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80376CF-9A8D-41C7-B1D0-D860FE075DDC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térios Baseados em Fluxo de D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apps e Weyu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fini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tribuição de um valor a uma variá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edicativo: a variável é utilizada em uma condi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a &gt; 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putacional: a variável é utilizada em uma comput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 = a +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14400" y="2743200"/>
            <a:ext cx="7848720" cy="39744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rafo Def-Uso: Grafo de Programa + Definição e Uso de Variáv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8DB5-FE58-4394-A0BE-C0479D08EEB8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85170A9-27E1-499B-B0BA-1345174549D3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cc99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8077320" y="6624720"/>
            <a:ext cx="914400" cy="2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74C7-07F4-441A-8E33-DF1EF38CB96E}" type="slidenum">
              <a:rPr b="0" lang="en-US" sz="14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991440" y="152280"/>
            <a:ext cx="7094160" cy="6370920"/>
            <a:chOff x="991440" y="152280"/>
            <a:chExt cx="7094160" cy="6370920"/>
          </a:xfrm>
        </p:grpSpPr>
        <p:grpSp>
          <p:nvGrpSpPr>
            <p:cNvPr id="468" name=""/>
            <p:cNvGrpSpPr/>
            <p:nvPr/>
          </p:nvGrpSpPr>
          <p:grpSpPr>
            <a:xfrm>
              <a:off x="1617840" y="257040"/>
              <a:ext cx="5106600" cy="6266160"/>
              <a:chOff x="1617840" y="257040"/>
              <a:chExt cx="5106600" cy="626616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3646800" y="257040"/>
                <a:ext cx="474480" cy="474840"/>
                <a:chOff x="3646800" y="257040"/>
                <a:chExt cx="474480" cy="4748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646800" y="257040"/>
                  <a:ext cx="474480" cy="4748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749760" y="331920"/>
                  <a:ext cx="281160" cy="3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0" lang="en-US" sz="19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3646800" y="1171440"/>
                <a:ext cx="474480" cy="47628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749760" y="124632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46800" y="2085840"/>
                <a:ext cx="47448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749760" y="216072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646800" y="3000240"/>
                <a:ext cx="47448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749760" y="307512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46800" y="3914640"/>
                <a:ext cx="47448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768840" y="398952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46800" y="5133960"/>
                <a:ext cx="47448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749760" y="520848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646800" y="6048360"/>
                <a:ext cx="47448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92520" y="6121440"/>
                <a:ext cx="4150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11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4637160" y="714240"/>
                <a:ext cx="474840" cy="474840"/>
                <a:chOff x="4637160" y="714240"/>
                <a:chExt cx="474840" cy="4748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637160" y="714240"/>
                  <a:ext cx="474840" cy="4748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740480" y="789120"/>
                  <a:ext cx="281160" cy="3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0" lang="en-US" sz="19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4637160" y="3457440"/>
                <a:ext cx="474840" cy="474840"/>
                <a:chOff x="4637160" y="3457440"/>
                <a:chExt cx="474840" cy="47484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637160" y="3457440"/>
                  <a:ext cx="474840" cy="4748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740480" y="3532320"/>
                  <a:ext cx="281160" cy="3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0" lang="en-US" sz="19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endParaRPr b="0" lang="en-US" sz="1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637160" y="5591160"/>
                <a:ext cx="474840" cy="474840"/>
                <a:chOff x="4637160" y="5591160"/>
                <a:chExt cx="474840" cy="4748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637160" y="5591160"/>
                  <a:ext cx="474840" cy="474840"/>
                </a:xfrm>
                <a:prstGeom prst="ellipse">
                  <a:avLst/>
                </a:prstGeom>
                <a:solidFill>
                  <a:srgbClr val="ff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740480" y="5665680"/>
                  <a:ext cx="281160" cy="3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3080" rIns="73080" tIns="36360" bIns="36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5720"/>
                      <a:tab algn="l" pos="1171440"/>
                      <a:tab algn="l" pos="1757520"/>
                      <a:tab algn="l" pos="2343240"/>
                      <a:tab algn="l" pos="2928960"/>
                      <a:tab algn="l" pos="3514680"/>
                      <a:tab algn="l" pos="4100400"/>
                      <a:tab algn="l" pos="4686480"/>
                      <a:tab algn="l" pos="5272200"/>
                      <a:tab algn="l" pos="5857920"/>
                      <a:tab algn="l" pos="6443640"/>
                      <a:tab algn="l" pos="7029360"/>
                      <a:tab algn="l" pos="7615080"/>
                      <a:tab algn="l" pos="8201160"/>
                      <a:tab algn="l" pos="8786880"/>
                      <a:tab algn="l" pos="9372600"/>
                      <a:tab algn="l" pos="9958320"/>
                      <a:tab algn="l" pos="10544040"/>
                    </a:tabLst>
                  </a:pPr>
                  <a:r>
                    <a:rPr b="0" lang="en-US" sz="1900" spc="-1" strike="noStrike">
                      <a:solidFill>
                        <a:srgbClr val="ffffff"/>
                      </a:solidFill>
                      <a:latin typeface="Arial"/>
                    </a:rPr>
                    <a:t>9</a:t>
                  </a:r>
                  <a:endParaRPr b="0" lang="en-US" sz="1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2656080" y="5591160"/>
                <a:ext cx="47448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682720" y="5665680"/>
                <a:ext cx="4150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884760" y="743040"/>
                <a:ext cx="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884760" y="1657440"/>
                <a:ext cx="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84760" y="2571840"/>
                <a:ext cx="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884760" y="3486240"/>
                <a:ext cx="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132440" y="457200"/>
                <a:ext cx="59040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4132440" y="1142640"/>
                <a:ext cx="59040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32440" y="3200400"/>
                <a:ext cx="59040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4132440" y="3885840"/>
                <a:ext cx="59040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32440" y="5353200"/>
                <a:ext cx="5904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4132440" y="6039000"/>
                <a:ext cx="5904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046680" y="5353200"/>
                <a:ext cx="5904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flipV="1">
                <a:off x="3046680" y="6039000"/>
                <a:ext cx="5904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17840" y="2344680"/>
                <a:ext cx="402516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1" y="21600"/>
                    </a:moveTo>
                    <a:arcTo wR="10800" hR="10800" stAng="5402710" swAng="108027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1" y="21600"/>
                    </a:moveTo>
                    <a:arcTo wR="10800" hR="10800" stAng="5402710" swAng="1080271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730880" y="2344680"/>
                <a:ext cx="4993560" cy="289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32" y="3"/>
                    </a:moveTo>
                    <a:arcTo wR="10800" hR="10800" stAng="-5485243" swAng="110230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32" y="3"/>
                    </a:moveTo>
                    <a:arcTo wR="10800" hR="10800" stAng="-5485243" swAng="1102304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991440" y="152280"/>
              <a:ext cx="5506200" cy="4377600"/>
              <a:chOff x="991440" y="152280"/>
              <a:chExt cx="5506200" cy="4377600"/>
            </a:xfrm>
          </p:grpSpPr>
          <p:sp>
            <p:nvSpPr>
              <p:cNvPr id="510" name=""/>
              <p:cNvSpPr/>
              <p:nvPr/>
            </p:nvSpPr>
            <p:spPr>
              <a:xfrm>
                <a:off x="991440" y="152280"/>
                <a:ext cx="2640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600" spc="-1" strike="noStrike">
                    <a:solidFill>
                      <a:srgbClr val="ff6600"/>
                    </a:solidFill>
                    <a:latin typeface="Arial"/>
                  </a:rPr>
                  <a:t>d </a:t>
                </a:r>
                <a:r>
                  <a:rPr b="0" lang="pt-BR" sz="1600" spc="-1" strike="noStrike">
                    <a:solidFill>
                      <a:srgbClr val="ff6600"/>
                    </a:solidFill>
                    <a:latin typeface="Arial"/>
                  </a:rPr>
                  <a:t>= {length, valid_id, achar}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144760" y="784080"/>
                <a:ext cx="1216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600" spc="-1" strike="noStrike">
                    <a:solidFill>
                      <a:srgbClr val="ff6600"/>
                    </a:solidFill>
                    <a:latin typeface="Arial"/>
                  </a:rPr>
                  <a:t>d </a:t>
                </a:r>
                <a:r>
                  <a:rPr b="0" lang="pt-BR" sz="1600" spc="-1" strike="noStrike">
                    <a:solidFill>
                      <a:srgbClr val="ff6600"/>
                    </a:solidFill>
                    <a:latin typeface="Arial"/>
                  </a:rPr>
                  <a:t>= {length}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078440" y="4194000"/>
                <a:ext cx="183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600" spc="-1" strike="noStrike">
                    <a:solidFill>
                      <a:srgbClr val="ff6600"/>
                    </a:solidFill>
                    <a:latin typeface="Arial"/>
                  </a:rPr>
                  <a:t>d </a:t>
                </a:r>
                <a:r>
                  <a:rPr b="0" lang="pt-BR" sz="1600" spc="-1" strike="noStrike">
                    <a:solidFill>
                      <a:srgbClr val="ff6600"/>
                    </a:solidFill>
                    <a:latin typeface="Arial"/>
                  </a:rPr>
                  <a:t>= {achar, length}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143680" y="3548160"/>
                <a:ext cx="1353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600" spc="-1" strike="noStrike">
                    <a:solidFill>
                      <a:srgbClr val="ff6600"/>
                    </a:solidFill>
                    <a:latin typeface="Arial"/>
                  </a:rPr>
                  <a:t>d </a:t>
                </a:r>
                <a:r>
                  <a:rPr b="0" lang="pt-BR" sz="1600" spc="-1" strike="noStrike">
                    <a:solidFill>
                      <a:srgbClr val="ff6600"/>
                    </a:solidFill>
                    <a:latin typeface="Arial"/>
                  </a:rPr>
                  <a:t>= {valid_id}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115880" y="1433520"/>
                <a:ext cx="1171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6600"/>
                    </a:solidFill>
                    <a:latin typeface="Arial"/>
                  </a:rPr>
                  <a:t>d </a:t>
                </a:r>
                <a:r>
                  <a:rPr b="0" lang="en-US" sz="1600" spc="-1" strike="noStrike">
                    <a:solidFill>
                      <a:srgbClr val="ff6600"/>
                    </a:solidFill>
                    <a:latin typeface="Arial"/>
                  </a:rPr>
                  <a:t>= {achar}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6449760" y="5826240"/>
              <a:ext cx="1635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6600"/>
                  </a:solidFill>
                  <a:latin typeface="Arial"/>
                </a:rPr>
                <a:t>d</a:t>
              </a: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 = defini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cc99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8077320" y="6624720"/>
            <a:ext cx="914400" cy="2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E410-F8B8-45A0-840A-59AC68AC6E31}" type="slidenum">
              <a:rPr b="0" lang="en-US" sz="14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88000" y="228600"/>
            <a:ext cx="8706960" cy="6370560"/>
            <a:chOff x="288000" y="228600"/>
            <a:chExt cx="8706960" cy="6370560"/>
          </a:xfrm>
        </p:grpSpPr>
        <p:grpSp>
          <p:nvGrpSpPr>
            <p:cNvPr id="519" name=""/>
            <p:cNvGrpSpPr/>
            <p:nvPr/>
          </p:nvGrpSpPr>
          <p:grpSpPr>
            <a:xfrm>
              <a:off x="2943360" y="333360"/>
              <a:ext cx="474480" cy="474840"/>
              <a:chOff x="2943360" y="333360"/>
              <a:chExt cx="474480" cy="474840"/>
            </a:xfrm>
          </p:grpSpPr>
          <p:sp>
            <p:nvSpPr>
              <p:cNvPr id="520" name=""/>
              <p:cNvSpPr/>
              <p:nvPr/>
            </p:nvSpPr>
            <p:spPr>
              <a:xfrm>
                <a:off x="2943360" y="333360"/>
                <a:ext cx="47448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046320" y="40788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2943360" y="1247760"/>
              <a:ext cx="474480" cy="4762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46320" y="1322280"/>
              <a:ext cx="281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43360" y="2162160"/>
              <a:ext cx="474480" cy="47484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6320" y="2236680"/>
              <a:ext cx="281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43360" y="3076560"/>
              <a:ext cx="474480" cy="47484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46320" y="3151080"/>
              <a:ext cx="281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43360" y="3990960"/>
              <a:ext cx="474480" cy="47484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65400" y="4065480"/>
              <a:ext cx="281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43360" y="5210280"/>
              <a:ext cx="474480" cy="4744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6320" y="5284800"/>
              <a:ext cx="281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943360" y="6124680"/>
              <a:ext cx="474480" cy="4744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89080" y="6197760"/>
              <a:ext cx="4150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3933720" y="790560"/>
              <a:ext cx="474840" cy="474840"/>
              <a:chOff x="3933720" y="790560"/>
              <a:chExt cx="474840" cy="474840"/>
            </a:xfrm>
          </p:grpSpPr>
          <p:sp>
            <p:nvSpPr>
              <p:cNvPr id="535" name=""/>
              <p:cNvSpPr/>
              <p:nvPr/>
            </p:nvSpPr>
            <p:spPr>
              <a:xfrm>
                <a:off x="3933720" y="790560"/>
                <a:ext cx="47484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037040" y="86508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3933720" y="3533760"/>
              <a:ext cx="474840" cy="474840"/>
              <a:chOff x="3933720" y="3533760"/>
              <a:chExt cx="474840" cy="474840"/>
            </a:xfrm>
          </p:grpSpPr>
          <p:sp>
            <p:nvSpPr>
              <p:cNvPr id="538" name=""/>
              <p:cNvSpPr/>
              <p:nvPr/>
            </p:nvSpPr>
            <p:spPr>
              <a:xfrm>
                <a:off x="3933720" y="3533760"/>
                <a:ext cx="474840" cy="47484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037040" y="360828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3933720" y="5667480"/>
              <a:ext cx="474840" cy="474480"/>
              <a:chOff x="3933720" y="5667480"/>
              <a:chExt cx="474840" cy="474480"/>
            </a:xfrm>
          </p:grpSpPr>
          <p:sp>
            <p:nvSpPr>
              <p:cNvPr id="541" name=""/>
              <p:cNvSpPr/>
              <p:nvPr/>
            </p:nvSpPr>
            <p:spPr>
              <a:xfrm>
                <a:off x="3933720" y="5667480"/>
                <a:ext cx="474840" cy="474480"/>
              </a:xfrm>
              <a:prstGeom prst="ellipse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037040" y="574200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1952640" y="5667480"/>
              <a:ext cx="474480" cy="47448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79280" y="5742000"/>
              <a:ext cx="4150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81320" y="819000"/>
              <a:ext cx="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81320" y="1733400"/>
              <a:ext cx="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1320" y="2647800"/>
              <a:ext cx="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81320" y="3562200"/>
              <a:ext cx="0" cy="41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29000" y="533520"/>
              <a:ext cx="5904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429000" y="1219320"/>
              <a:ext cx="5904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29000" y="3276720"/>
              <a:ext cx="5904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3429000" y="3962520"/>
              <a:ext cx="59040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29000" y="5429160"/>
              <a:ext cx="5904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3429000" y="6114600"/>
              <a:ext cx="5904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343240" y="5429160"/>
              <a:ext cx="5904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2343240" y="6114600"/>
              <a:ext cx="5904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4400" y="2421000"/>
              <a:ext cx="402516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710" swAng="1080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710" swAng="1080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27440" y="2421000"/>
              <a:ext cx="499356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3"/>
                  </a:moveTo>
                  <a:arcTo wR="10800" hR="10800" stAng="-5485243" swAng="110230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3"/>
                  </a:moveTo>
                  <a:arcTo wR="10800" hR="10800" stAng="-5485243" swAng="110230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59600" y="458640"/>
              <a:ext cx="1273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ff"/>
                  </a:solidFill>
                  <a:latin typeface="Arial"/>
                </a:rPr>
                <a:t>uc </a:t>
              </a:r>
              <a:r>
                <a:rPr b="0" lang="pt-BR" sz="1600" spc="-1" strike="noStrike">
                  <a:solidFill>
                    <a:srgbClr val="0000ff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55200" y="4497480"/>
              <a:ext cx="1319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ff"/>
                  </a:solidFill>
                  <a:latin typeface="Arial"/>
                </a:rPr>
                <a:t>uc </a:t>
              </a:r>
              <a:r>
                <a:rPr b="0" lang="pt-BR" sz="1600" spc="-1" strike="noStrike">
                  <a:solidFill>
                    <a:srgbClr val="0000ff"/>
                  </a:solidFill>
                  <a:latin typeface="Arial"/>
                </a:rPr>
                <a:t>= {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16120" y="839880"/>
              <a:ext cx="1466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60160" y="266868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60120" y="312588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88560" y="358308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27080" y="276372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54800" y="5297400"/>
              <a:ext cx="213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8080" y="5297400"/>
              <a:ext cx="213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78120" y="325440"/>
              <a:ext cx="1466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8000" y="228600"/>
              <a:ext cx="264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6600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ff6600"/>
                  </a:solidFill>
                  <a:latin typeface="Arial"/>
                </a:rPr>
                <a:t>= {length, valid_id, 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441320" y="860400"/>
              <a:ext cx="1216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6600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ff6600"/>
                  </a:solidFill>
                  <a:latin typeface="Arial"/>
                </a:rPr>
                <a:t>= {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75000" y="4270320"/>
              <a:ext cx="1837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6600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ff6600"/>
                  </a:solidFill>
                  <a:latin typeface="Arial"/>
                </a:rPr>
                <a:t>= {achar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440240" y="3624120"/>
              <a:ext cx="135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6600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ff6600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12440" y="1509840"/>
              <a:ext cx="1171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6600"/>
                  </a:solidFill>
                  <a:latin typeface="Arial"/>
                </a:rPr>
                <a:t>d </a:t>
              </a:r>
              <a:r>
                <a:rPr b="0" lang="en-US" sz="1600" spc="-1" strike="noStrike">
                  <a:solidFill>
                    <a:srgbClr val="ff66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26120" y="5181480"/>
              <a:ext cx="28688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ff6600"/>
                  </a:solidFill>
                  <a:latin typeface="Arial"/>
                </a:rPr>
                <a:t>d</a:t>
              </a:r>
              <a:r>
                <a:rPr b="0" lang="pt-BR" sz="2000" spc="-1" strike="noStrike">
                  <a:solidFill>
                    <a:srgbClr val="ff6600"/>
                  </a:solidFill>
                  <a:latin typeface="Arial"/>
                </a:rPr>
                <a:t> = defini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8000"/>
                  </a:solidFill>
                  <a:latin typeface="Arial"/>
                </a:rPr>
                <a:t>up</a:t>
              </a:r>
              <a:r>
                <a:rPr b="0" lang="pt-BR" sz="2000" spc="-1" strike="noStrike">
                  <a:solidFill>
                    <a:srgbClr val="008000"/>
                  </a:solidFill>
                  <a:latin typeface="Arial"/>
                </a:rPr>
                <a:t> = uso predicativ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ff"/>
                  </a:solidFill>
                  <a:latin typeface="Arial"/>
                </a:rPr>
                <a:t>uc</a:t>
              </a:r>
              <a:r>
                <a:rPr b="0" lang="pt-BR" sz="2000" spc="-1" strike="noStrike">
                  <a:solidFill>
                    <a:srgbClr val="0000ff"/>
                  </a:solidFill>
                  <a:latin typeface="Arial"/>
                </a:rPr>
                <a:t> = uso computacion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térios Baseados em Fluxo de D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apps e Weyu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odas-Definiçõ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143000" y="3200400"/>
            <a:ext cx="7391520" cy="70236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quer que cada definição de variável seja exercitada pelo menos uma vez, não importa se por um c-uso ou por um p-u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BC39-8F84-4224-872B-0A1872470AAC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64250FC-2CD7-4CC8-94E2-851C14AE930C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37920" y="5257800"/>
            <a:ext cx="2868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= defini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8000"/>
                </a:solidFill>
                <a:latin typeface="Arial"/>
              </a:rPr>
              <a:t>up</a:t>
            </a:r>
            <a:r>
              <a:rPr b="0" lang="pt-BR" sz="2000" spc="-1" strike="noStrike">
                <a:solidFill>
                  <a:srgbClr val="008000"/>
                </a:solidFill>
                <a:latin typeface="Arial"/>
              </a:rPr>
              <a:t> = uso predic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6600"/>
                </a:solidFill>
                <a:latin typeface="Arial"/>
              </a:rPr>
              <a:t>uc</a:t>
            </a: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 = uso comput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51920" y="1035000"/>
            <a:ext cx="5818320" cy="5061600"/>
            <a:chOff x="151920" y="1035000"/>
            <a:chExt cx="5818320" cy="5061600"/>
          </a:xfrm>
        </p:grpSpPr>
        <p:grpSp>
          <p:nvGrpSpPr>
            <p:cNvPr id="581" name=""/>
            <p:cNvGrpSpPr/>
            <p:nvPr/>
          </p:nvGrpSpPr>
          <p:grpSpPr>
            <a:xfrm>
              <a:off x="742680" y="1412640"/>
              <a:ext cx="4114440" cy="4137120"/>
              <a:chOff x="742680" y="1412640"/>
              <a:chExt cx="4114440" cy="4137120"/>
            </a:xfrm>
          </p:grpSpPr>
          <p:sp>
            <p:nvSpPr>
              <p:cNvPr id="582" name=""/>
              <p:cNvSpPr/>
              <p:nvPr/>
            </p:nvSpPr>
            <p:spPr>
              <a:xfrm>
                <a:off x="2377800" y="143136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41160" y="141264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377800" y="2026800"/>
                <a:ext cx="382680" cy="3106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41160" y="199800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77800" y="262368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422080" y="260604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377800" y="321876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431800" y="320148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377800" y="381564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447640" y="379836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77800" y="460944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441160" y="459216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77800" y="520632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76720" y="5187240"/>
                <a:ext cx="4150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174840" y="1729800"/>
                <a:ext cx="38232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233520" y="170136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174840" y="3517200"/>
                <a:ext cx="38232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228840" y="349992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174840" y="4907880"/>
                <a:ext cx="38232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238200" y="489060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579320" y="490788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563840" y="4890600"/>
                <a:ext cx="4150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570040" y="1747440"/>
                <a:ext cx="0" cy="27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70040" y="2344320"/>
                <a:ext cx="0" cy="30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70040" y="2939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570040" y="353628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768400" y="1561680"/>
                <a:ext cx="4762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2768400" y="2009160"/>
                <a:ext cx="4762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68400" y="3349080"/>
                <a:ext cx="47628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2768400" y="3796200"/>
                <a:ext cx="47628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68400" y="4752360"/>
                <a:ext cx="47628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2768400" y="5200200"/>
                <a:ext cx="4762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1893240" y="4752360"/>
                <a:ext cx="47628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>
                <a:off x="1893240" y="5200200"/>
                <a:ext cx="4762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42680" y="2791800"/>
                <a:ext cx="3242160" cy="119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1" y="21600"/>
                    </a:moveTo>
                    <a:arcTo wR="10800" hR="10800" stAng="5402710" swAng="108027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1" y="21600"/>
                    </a:moveTo>
                    <a:arcTo wR="10800" hR="10800" stAng="5402710" swAng="1080271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34120" y="2791800"/>
                <a:ext cx="4023000" cy="188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32" y="3"/>
                    </a:moveTo>
                    <a:arcTo wR="10800" hR="10800" stAng="-5485243" swAng="110230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32" y="3"/>
                    </a:moveTo>
                    <a:arcTo wR="10800" hR="10800" stAng="-5485243" swAng="1102304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2464200" y="1035000"/>
              <a:ext cx="264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length, valid_id, 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25120" y="1682640"/>
              <a:ext cx="1216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56440" y="3946320"/>
              <a:ext cx="1837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achar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6040" y="3516120"/>
              <a:ext cx="135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712960" y="2161800"/>
              <a:ext cx="1171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49120" y="1355400"/>
              <a:ext cx="1273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6600"/>
                  </a:solidFill>
                  <a:latin typeface="Arial"/>
                </a:rPr>
                <a:t>uc </a:t>
              </a:r>
              <a:r>
                <a:rPr b="0" lang="pt-BR" sz="1600" spc="-1" strike="noStrike">
                  <a:solidFill>
                    <a:srgbClr val="ff66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49960" y="4190760"/>
              <a:ext cx="1319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6600"/>
                  </a:solidFill>
                  <a:latin typeface="Arial"/>
                </a:rPr>
                <a:t>uc </a:t>
              </a:r>
              <a:r>
                <a:rPr b="0" lang="pt-BR" sz="1600" spc="-1" strike="noStrike">
                  <a:solidFill>
                    <a:srgbClr val="ff6600"/>
                  </a:solidFill>
                  <a:latin typeface="Arial"/>
                </a:rPr>
                <a:t>= {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894760" y="1355400"/>
              <a:ext cx="1466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97280" y="310824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86480" y="398448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22640" y="348120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297080" y="287964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82680" y="4600440"/>
              <a:ext cx="213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1920" y="4524120"/>
              <a:ext cx="213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83600" y="1701720"/>
              <a:ext cx="1466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70800" y="5759280"/>
              <a:ext cx="25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Grafo Def-Uso do </a:t>
              </a:r>
              <a:r>
                <a:rPr b="0" i="1" lang="pt-BR" sz="1600" spc="-1" strike="noStrike">
                  <a:solidFill>
                    <a:srgbClr val="000000"/>
                  </a:solidFill>
                  <a:latin typeface="Arial"/>
                </a:rPr>
                <a:t>identifi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486400" y="685800"/>
            <a:ext cx="3276720" cy="296064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apps e Weyu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das-Defini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finição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no nó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1,3,4,5,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1,3,4,8,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1,3,4,8,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1,3,4,5,6,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5D67-C61C-49A1-B6E4-833135491874}" type="slidenum">
              <a:t>7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1861FB7-A59E-42F1-8BB3-861F3E50249C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térios Baseados em Fluxo de D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apps e Weyu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odos-U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143000" y="3429000"/>
            <a:ext cx="7162920" cy="131220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quer que todas as associações entre uma definição de variável e seus subseqüentes usos sejam exercitadas</a:t>
            </a:r>
            <a:br>
              <a:rPr sz="2000"/>
            </a:b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elos casos de teste, atrável de pelo menos um</a:t>
            </a:r>
            <a:br>
              <a:rPr sz="2000"/>
            </a:b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aminho livre de definição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B727-7E44-42E4-B66C-EF2156B05AA2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DA5BDA2-2235-40C3-A8C7-30CC19E1AA50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137920" y="5257800"/>
            <a:ext cx="28688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= defini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8000"/>
                </a:solidFill>
                <a:latin typeface="Arial"/>
              </a:rPr>
              <a:t>up</a:t>
            </a:r>
            <a:r>
              <a:rPr b="0" lang="pt-BR" sz="2000" spc="-1" strike="noStrike">
                <a:solidFill>
                  <a:srgbClr val="008000"/>
                </a:solidFill>
                <a:latin typeface="Arial"/>
              </a:rPr>
              <a:t> = uso predic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6600"/>
                </a:solidFill>
                <a:latin typeface="Arial"/>
              </a:rPr>
              <a:t>uc</a:t>
            </a: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 = uso comput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51920" y="1035000"/>
            <a:ext cx="5818320" cy="5061600"/>
            <a:chOff x="151920" y="1035000"/>
            <a:chExt cx="5818320" cy="5061600"/>
          </a:xfrm>
        </p:grpSpPr>
        <p:grpSp>
          <p:nvGrpSpPr>
            <p:cNvPr id="641" name=""/>
            <p:cNvGrpSpPr/>
            <p:nvPr/>
          </p:nvGrpSpPr>
          <p:grpSpPr>
            <a:xfrm>
              <a:off x="742680" y="1412640"/>
              <a:ext cx="4114440" cy="4137120"/>
              <a:chOff x="742680" y="1412640"/>
              <a:chExt cx="4114440" cy="4137120"/>
            </a:xfrm>
          </p:grpSpPr>
          <p:sp>
            <p:nvSpPr>
              <p:cNvPr id="642" name=""/>
              <p:cNvSpPr/>
              <p:nvPr/>
            </p:nvSpPr>
            <p:spPr>
              <a:xfrm>
                <a:off x="2377800" y="143136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41160" y="141264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377800" y="2026800"/>
                <a:ext cx="382680" cy="31068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441160" y="199800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77800" y="262368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422080" y="260604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377800" y="321876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431800" y="320148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377800" y="381564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447640" y="379836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377800" y="460944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441160" y="459216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377800" y="520632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376720" y="5187240"/>
                <a:ext cx="4150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74840" y="1729800"/>
                <a:ext cx="38232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33520" y="170136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174840" y="3517200"/>
                <a:ext cx="38232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228840" y="349992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74840" y="4907880"/>
                <a:ext cx="38232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238200" y="489060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579320" y="4907880"/>
                <a:ext cx="382680" cy="3092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563840" y="4890600"/>
                <a:ext cx="4150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570040" y="1747440"/>
                <a:ext cx="0" cy="27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570040" y="2344320"/>
                <a:ext cx="0" cy="30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570040" y="2939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70040" y="353628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68400" y="1561680"/>
                <a:ext cx="4762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2768400" y="2009160"/>
                <a:ext cx="4762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768400" y="3349080"/>
                <a:ext cx="47628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2768400" y="3796200"/>
                <a:ext cx="47628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68400" y="4752360"/>
                <a:ext cx="47628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2768400" y="5200200"/>
                <a:ext cx="4762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1893240" y="4752360"/>
                <a:ext cx="47628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flipV="1">
                <a:off x="1893240" y="5200200"/>
                <a:ext cx="4762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42680" y="2791800"/>
                <a:ext cx="3242160" cy="119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1" y="21600"/>
                    </a:moveTo>
                    <a:arcTo wR="10800" hR="10800" stAng="5402710" swAng="108027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1" y="21600"/>
                    </a:moveTo>
                    <a:arcTo wR="10800" hR="10800" stAng="5402710" swAng="1080271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34120" y="2791800"/>
                <a:ext cx="4023000" cy="188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32" y="3"/>
                    </a:moveTo>
                    <a:arcTo wR="10800" hR="10800" stAng="-5485243" swAng="110230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32" y="3"/>
                    </a:moveTo>
                    <a:arcTo wR="10800" hR="10800" stAng="-5485243" swAng="1102304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2464200" y="1035000"/>
              <a:ext cx="264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length, valid_id, 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25120" y="1682640"/>
              <a:ext cx="1216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56440" y="3946320"/>
              <a:ext cx="1837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achar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506040" y="3516120"/>
              <a:ext cx="135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712960" y="2161800"/>
              <a:ext cx="1171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149120" y="1355400"/>
              <a:ext cx="1273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6600"/>
                  </a:solidFill>
                  <a:latin typeface="Arial"/>
                </a:rPr>
                <a:t>uc </a:t>
              </a:r>
              <a:r>
                <a:rPr b="0" lang="pt-BR" sz="1600" spc="-1" strike="noStrike">
                  <a:solidFill>
                    <a:srgbClr val="ff66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649960" y="4190760"/>
              <a:ext cx="1319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6600"/>
                  </a:solidFill>
                  <a:latin typeface="Arial"/>
                </a:rPr>
                <a:t>uc </a:t>
              </a:r>
              <a:r>
                <a:rPr b="0" lang="pt-BR" sz="1600" spc="-1" strike="noStrike">
                  <a:solidFill>
                    <a:srgbClr val="ff6600"/>
                  </a:solidFill>
                  <a:latin typeface="Arial"/>
                </a:rPr>
                <a:t>= {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894760" y="1355400"/>
              <a:ext cx="1466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97280" y="310824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86480" y="398448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322640" y="348120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297080" y="2879640"/>
              <a:ext cx="128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82680" y="4600440"/>
              <a:ext cx="213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51920" y="4524120"/>
              <a:ext cx="213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83600" y="1701720"/>
              <a:ext cx="1466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8000"/>
                  </a:solidFill>
                  <a:latin typeface="Arial"/>
                </a:rPr>
                <a:t>up </a:t>
              </a:r>
              <a:r>
                <a:rPr b="0" lang="pt-BR" sz="1600" spc="-1" strike="noStrike">
                  <a:solidFill>
                    <a:srgbClr val="008000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270800" y="5759280"/>
              <a:ext cx="25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Grafo Def-Uso do </a:t>
              </a:r>
              <a:r>
                <a:rPr b="0" i="1" lang="pt-BR" sz="1600" spc="-1" strike="noStrike">
                  <a:solidFill>
                    <a:srgbClr val="000000"/>
                  </a:solidFill>
                  <a:latin typeface="Arial"/>
                </a:rPr>
                <a:t>identifi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5486400" y="685800"/>
            <a:ext cx="3276720" cy="265572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apps e Weyu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dos-U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finição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no nó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1,7,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1,(8,9),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1,(8,10),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C8F1-8029-4131-8B4E-DFFAC6D7005B}" type="slidenum">
              <a:t>7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9708511-C5D2-4C1C-B8F2-114D46434ADD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érios Baseados em Fluxo de D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ciais-U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ito de Potencial-Associ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ociações são estabelecidas sem a necessidade de um uso explíc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143000" y="2879640"/>
            <a:ext cx="7162920" cy="39744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rafo Def: Grafo de Programa + Definição de Variáv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F61F-5111-4BB4-AC83-4C7BA6814264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1447AA9-AA4A-46A0-A1C6-7A0CE85FADD9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Introduçã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alidade d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formidade com requisitos funcionais e de desempenho, padrões de desenvolvimento documentados, e características implícitas esperadas de todo software profissionalmente desenvolv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rret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nfiabil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estabil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99A7-D68E-4433-BDB9-8E16825C3F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280FC68-D0F2-44B8-9B80-34A7C7AC2D25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28600" y="838080"/>
            <a:ext cx="5337000" cy="5106240"/>
            <a:chOff x="228600" y="838080"/>
            <a:chExt cx="5337000" cy="5106240"/>
          </a:xfrm>
        </p:grpSpPr>
        <p:grpSp>
          <p:nvGrpSpPr>
            <p:cNvPr id="700" name=""/>
            <p:cNvGrpSpPr/>
            <p:nvPr/>
          </p:nvGrpSpPr>
          <p:grpSpPr>
            <a:xfrm>
              <a:off x="228600" y="1123920"/>
              <a:ext cx="4114440" cy="4137480"/>
              <a:chOff x="228600" y="1123920"/>
              <a:chExt cx="4114440" cy="4137480"/>
            </a:xfrm>
          </p:grpSpPr>
          <p:sp>
            <p:nvSpPr>
              <p:cNvPr id="701" name=""/>
              <p:cNvSpPr/>
              <p:nvPr/>
            </p:nvSpPr>
            <p:spPr>
              <a:xfrm>
                <a:off x="1863720" y="1143000"/>
                <a:ext cx="38268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927080" y="112392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863720" y="1738440"/>
                <a:ext cx="382680" cy="31104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927080" y="170964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63720" y="2335320"/>
                <a:ext cx="38268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908000" y="231768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863720" y="2930400"/>
                <a:ext cx="38268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917720" y="291312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63720" y="3527280"/>
                <a:ext cx="38268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933560" y="351000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863720" y="4321080"/>
                <a:ext cx="38268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927080" y="430380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863720" y="4917960"/>
                <a:ext cx="38268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862640" y="4898880"/>
                <a:ext cx="4150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660760" y="1441440"/>
                <a:ext cx="38232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719440" y="141300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660760" y="3228840"/>
                <a:ext cx="38232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14760" y="321156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660760" y="4619520"/>
                <a:ext cx="38232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724120" y="4602240"/>
                <a:ext cx="28116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065240" y="4619520"/>
                <a:ext cx="382680" cy="309600"/>
              </a:xfrm>
              <a:prstGeom prst="ellipse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049760" y="4602240"/>
                <a:ext cx="4150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85720"/>
                    <a:tab algn="l" pos="1171440"/>
                    <a:tab algn="l" pos="1757520"/>
                    <a:tab algn="l" pos="2343240"/>
                    <a:tab algn="l" pos="2928960"/>
                    <a:tab algn="l" pos="3514680"/>
                    <a:tab algn="l" pos="4100400"/>
                    <a:tab algn="l" pos="4686480"/>
                    <a:tab algn="l" pos="5272200"/>
                    <a:tab algn="l" pos="5857920"/>
                    <a:tab algn="l" pos="6443640"/>
                    <a:tab algn="l" pos="7029360"/>
                    <a:tab algn="l" pos="7615080"/>
                    <a:tab algn="l" pos="8201160"/>
                    <a:tab algn="l" pos="8786880"/>
                    <a:tab algn="l" pos="9372600"/>
                    <a:tab algn="l" pos="9958320"/>
                    <a:tab algn="l" pos="1054404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055960" y="1459080"/>
                <a:ext cx="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055960" y="2055960"/>
                <a:ext cx="0" cy="30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055960" y="2651040"/>
                <a:ext cx="0" cy="27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55960" y="3247920"/>
                <a:ext cx="0" cy="27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254320" y="1273320"/>
                <a:ext cx="47628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2254320" y="1720440"/>
                <a:ext cx="47628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254320" y="3060720"/>
                <a:ext cx="476280" cy="20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2254320" y="3508200"/>
                <a:ext cx="47628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254320" y="4464000"/>
                <a:ext cx="476280" cy="20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2254320" y="4911480"/>
                <a:ext cx="47628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1379160" y="4464000"/>
                <a:ext cx="476280" cy="20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 flipV="1">
                <a:off x="1379160" y="4911480"/>
                <a:ext cx="476280" cy="19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28600" y="2503440"/>
                <a:ext cx="3242160" cy="119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1" y="21600"/>
                    </a:moveTo>
                    <a:arcTo wR="10800" hR="10800" stAng="5402710" swAng="108027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1" y="21600"/>
                    </a:moveTo>
                    <a:arcTo wR="10800" hR="10800" stAng="5402710" swAng="1080271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20040" y="2503440"/>
                <a:ext cx="4023000" cy="1887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32" y="3"/>
                    </a:moveTo>
                    <a:arcTo wR="10800" hR="10800" stAng="-5485243" swAng="110230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32" y="3"/>
                    </a:moveTo>
                    <a:arcTo wR="10800" hR="10800" stAng="-5485243" swAng="1102304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1873800" y="838080"/>
              <a:ext cx="264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length, valid_id, 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011040" y="1393920"/>
              <a:ext cx="1216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199240" y="3701880"/>
              <a:ext cx="1837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achar, length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991600" y="3227400"/>
              <a:ext cx="135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pt-BR" sz="1600" spc="-1" strike="noStrike">
                  <a:solidFill>
                    <a:srgbClr val="000099"/>
                  </a:solidFill>
                  <a:latin typeface="Arial"/>
                </a:rPr>
                <a:t>= {valid_id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198880" y="1873080"/>
              <a:ext cx="1171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 </a:t>
              </a: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= {achar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29760" y="5546880"/>
              <a:ext cx="1635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 = defini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31040" y="5410080"/>
              <a:ext cx="21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Grafo Def do </a:t>
              </a:r>
              <a:r>
                <a:rPr b="0" i="1" lang="pt-BR" sz="1600" spc="-1" strike="noStrike">
                  <a:solidFill>
                    <a:srgbClr val="000000"/>
                  </a:solidFill>
                  <a:latin typeface="Arial"/>
                </a:rPr>
                <a:t>identifi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5410080" y="851040"/>
            <a:ext cx="3276720" cy="312552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tenciais-U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dos-Potenciais-U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1,2,{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1,(1,3), {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alid_i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2,(8,9), {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3,(8,10), {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char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 rot="5400000">
            <a:off x="6901920" y="323028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F434-063D-4CB3-BE03-1A6BC6FC9E10}" type="slidenum">
              <a:t>8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0DCB59B-A707-41F3-BDA6-038ABD16E3F6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1219320"/>
            <a:ext cx="914400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940440" y="4983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06920" y="5137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940440" y="4989600"/>
            <a:ext cx="6480" cy="14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940440" y="5137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53440" cy="361944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ociações Requerid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os-Potenciais-U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62120" y="5334120"/>
            <a:ext cx="670536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= { (a1, Válido), (2B3, Inválido), (Z-12, Inválido), (A1b2C3d, Inválido)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{(1#, Inválido), (%, Inválido), (c, Válido)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{(#-%, Inválido)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3B9C-054D-4A94-8421-DD6436823D78}" type="slidenum">
              <a:t>8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BFCAF2F-B7FF-43C8-AA2F-187AA29DC9CA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errament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okeT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térios de Rapps e Weyu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térios Potenciais-U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utros Critérios Estrutu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odos-Nós, Todos-Arcos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inguagem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utras Caracterí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erramenta multi-linguag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mportação de casos de te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serção e remoção de casos de teste dinamic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sos de teste podem ser habilitados ou desabili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ração de relató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FC28-F7EE-4E4E-BE70-ACC7C15099D7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960E35C-E5FB-48D1-9415-50A459840C2E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okeToo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Interface Gráfi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PokeTool3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5876640" cy="398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DA42-E209-43FB-B710-4E2488AD9073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1C3D566-0DFC-4777-81C8-8F2B90C98B82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okeToo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Criando uma Sessão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createsession" descr=""/>
          <p:cNvPicPr/>
          <p:nvPr/>
        </p:nvPicPr>
        <p:blipFill>
          <a:blip r:embed="rId1"/>
          <a:stretch/>
        </p:blipFill>
        <p:spPr>
          <a:xfrm>
            <a:off x="2425680" y="2514600"/>
            <a:ext cx="4127400" cy="315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B58C-3111-4475-AC55-ADADE0DAA27F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B49D908-7BEF-4A4D-B1BD-788190D88697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okeToo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Elementos Requerid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elementosrequeridos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4862520" cy="294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6366-85C4-4E1D-A652-73B3DC72EDFB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D00F7A6-3D5C-4310-A6E8-2336EC822EC3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okeToo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Grafo de Progra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controlflowgraph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4862520" cy="294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A189-40B5-4602-90CE-91DA9E062D34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A731CA3-5C4E-4705-BF47-75518A4265FE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6940440" y="4983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06920" y="5137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940440" y="4989600"/>
            <a:ext cx="6480" cy="14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940440" y="5137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okeToo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Relatórios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4" name="report" descr=""/>
          <p:cNvPicPr/>
          <p:nvPr/>
        </p:nvPicPr>
        <p:blipFill>
          <a:blip r:embed="rId1"/>
          <a:stretch/>
        </p:blipFill>
        <p:spPr>
          <a:xfrm>
            <a:off x="5081760" y="2590920"/>
            <a:ext cx="3838320" cy="2336760"/>
          </a:xfrm>
          <a:prstGeom prst="rect">
            <a:avLst/>
          </a:prstGeom>
          <a:ln w="0">
            <a:noFill/>
          </a:ln>
        </p:spPr>
      </p:pic>
      <p:pic>
        <p:nvPicPr>
          <p:cNvPr id="775" name="statust2" descr=""/>
          <p:cNvPicPr/>
          <p:nvPr/>
        </p:nvPicPr>
        <p:blipFill>
          <a:blip r:embed="rId2"/>
          <a:stretch/>
        </p:blipFill>
        <p:spPr>
          <a:xfrm>
            <a:off x="380880" y="2612880"/>
            <a:ext cx="4626000" cy="340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1F29-6B72-4E89-AE45-96AB46D1B3A8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F066A4E-AA70-4465-ABD7-CB92354AADA6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6940440" y="4983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606920" y="5137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40440" y="4989600"/>
            <a:ext cx="6480" cy="14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940440" y="5137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Estrutural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pic>
        <p:nvPicPr>
          <p:cNvPr id="781" name="report_t4ne" descr=""/>
          <p:cNvPicPr/>
          <p:nvPr/>
        </p:nvPicPr>
        <p:blipFill>
          <a:blip r:embed="rId1"/>
          <a:stretch/>
        </p:blipFill>
        <p:spPr>
          <a:xfrm>
            <a:off x="4689360" y="2379600"/>
            <a:ext cx="3692520" cy="2944800"/>
          </a:xfrm>
          <a:prstGeom prst="rect">
            <a:avLst/>
          </a:prstGeom>
          <a:ln w="0">
            <a:noFill/>
          </a:ln>
        </p:spPr>
      </p:pic>
      <p:pic>
        <p:nvPicPr>
          <p:cNvPr id="782" name="report_t4b" descr=""/>
          <p:cNvPicPr/>
          <p:nvPr/>
        </p:nvPicPr>
        <p:blipFill>
          <a:blip r:embed="rId2"/>
          <a:stretch/>
        </p:blipFill>
        <p:spPr>
          <a:xfrm>
            <a:off x="905040" y="2362320"/>
            <a:ext cx="3519360" cy="386532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okeTool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Relatórios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1F57-A870-432D-8AF6-9D2BD67B5508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7D7C5F8-5108-4B92-A059-7B222C3EA9C9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Técnica Baseada em Erro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requisitos de teste são derivados a partir dos  erros mais freqüentes cometidos durante o processo de desenvolvimento do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érios da Técnica Baseada em Er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eadura de Er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e de Mut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álise de Mutantes (unida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tação de Interface (integraçã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BC3B-20BF-4D8A-B83D-E93E95D9E6C1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D77D61B-F9BF-412D-B92F-F4612403B3EC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Introdução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rantia de Qualidade de Soft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junto de atividades técnicas aplicadas durante todo o processo de desenvolvi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rantir que tanto o processo de desenvolvimento quanto o produto de software atinjam os níveis de qualidade especific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V&amp;T – Verificação, Validação e Te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0E73-E27F-4E48-BBEC-3FA8FAF292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62C839A-CC8D-4598-83FB-CDC0887CCF78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685800" y="173340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pótese do Programador Compet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eito de Acoplam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050840" y="2575080"/>
            <a:ext cx="7178760" cy="70236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gramadores experientes escrevem programa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retos ou  muito próximos do corr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050840" y="4708440"/>
            <a:ext cx="7407360" cy="100728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sos de teste capazes de revelar erros simples são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ão sensíveis que, implicitamente, também são capaz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 revelar erros mais complex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0419-6327-41D6-B443-EAC87496A610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E74D1D5-8EF2-4FE1-963A-0913BF77A901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os da Análise de Mut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 Geração de Mut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896760" y="2666880"/>
            <a:ext cx="7407360" cy="1007280"/>
          </a:xfrm>
          <a:prstGeom prst="rect">
            <a:avLst/>
          </a:prstGeom>
          <a:solidFill>
            <a:srgbClr val="ffe4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ara modelar os desvios sintáticos mais comuns,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peradores de mutação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são aplicados a um programa, transformando-o em programas similares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utantes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2084760" y="3809880"/>
            <a:ext cx="5492520" cy="2865240"/>
            <a:chOff x="2084760" y="3809880"/>
            <a:chExt cx="5492520" cy="2865240"/>
          </a:xfrm>
        </p:grpSpPr>
        <p:sp>
          <p:nvSpPr>
            <p:cNvPr id="794" name=""/>
            <p:cNvSpPr/>
            <p:nvPr/>
          </p:nvSpPr>
          <p:spPr>
            <a:xfrm>
              <a:off x="5936400" y="6306840"/>
              <a:ext cx="12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utan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235560" y="3809880"/>
              <a:ext cx="685800" cy="60948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16480" y="3904920"/>
              <a:ext cx="762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141960" y="5598720"/>
              <a:ext cx="685800" cy="60984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122880" y="5694120"/>
              <a:ext cx="762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15080" y="4552560"/>
              <a:ext cx="685800" cy="60984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78360" y="4614480"/>
              <a:ext cx="762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786720" y="4343040"/>
              <a:ext cx="685800" cy="60984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767640" y="4438440"/>
              <a:ext cx="76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rot="16264200">
              <a:off x="6063480" y="51386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834240" y="5124240"/>
              <a:ext cx="685800" cy="60948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815160" y="5219640"/>
              <a:ext cx="762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738600" y="4343040"/>
              <a:ext cx="1600200" cy="1219320"/>
            </a:xfrm>
            <a:prstGeom prst="rightArrow">
              <a:avLst>
                <a:gd name="adj1" fmla="val 50000"/>
                <a:gd name="adj2" fmla="val 32809"/>
              </a:avLst>
            </a:prstGeom>
            <a:solidFill>
              <a:srgbClr val="ffb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764880" y="4643280"/>
              <a:ext cx="131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Operadores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de Mutaçã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367000" y="4647960"/>
              <a:ext cx="685800" cy="60948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62040" y="4762440"/>
              <a:ext cx="48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84760" y="5367240"/>
              <a:ext cx="125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rogram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m Tes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DA83-6A35-4090-B22F-23D153C3E596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560628F-BEEE-4929-A5E6-C978B717DFF9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mplo de Mu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143000" y="434340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tante Gerado pelo Operador ORR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f (valid_id &amp;&amp; (length &gt;= 1) &amp;&amp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length </a:t>
            </a: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&lt;=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6)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"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"In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143000" y="2514600"/>
            <a:ext cx="6248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tante Gerado pelo Operador OL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f (valid_id </a:t>
            </a:r>
            <a:r>
              <a:rPr b="1" lang="pt-BR" sz="1600" spc="-1" strike="noStrike">
                <a:solidFill>
                  <a:srgbClr val="ff99ff"/>
                </a:solidFill>
                <a:latin typeface="Arial"/>
              </a:rPr>
              <a:t>*</a:t>
            </a:r>
            <a:r>
              <a:rPr b="1" lang="pt-B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length &gt;= 1) &amp;&amp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length &lt; 6)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"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intf ("Invalido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981760" y="4705200"/>
            <a:ext cx="22860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2895480"/>
            <a:ext cx="228600" cy="152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91B1-FE99-443D-B41D-757AC2F737F2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D1171C7-8DDC-489A-8594-EDB08E2639A3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ção dos operadores de mut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n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z de modelar a maior parte dos er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quena cardina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as de cu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o maior o número de operadores utilizados, maior o número de mutantes ge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94D7-8547-4C42-BC80-43E7D6F84A62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503FA32-7F4B-4B27-B7C1-1C390A972390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os da Análise de Mut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- Execução do Prog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ção do programa com os casos de te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- Execução dos Mut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ção dos mutantes com os casos de te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tante mor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tante v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- Análise dos Mutantes V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tante equival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core de mut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são de novos casos de te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556240" y="4778280"/>
            <a:ext cx="3054240" cy="786240"/>
            <a:chOff x="5556240" y="4778280"/>
            <a:chExt cx="3054240" cy="786240"/>
          </a:xfrm>
        </p:grpSpPr>
        <p:sp>
          <p:nvSpPr>
            <p:cNvPr id="822" name=""/>
            <p:cNvSpPr/>
            <p:nvPr/>
          </p:nvSpPr>
          <p:spPr>
            <a:xfrm>
              <a:off x="6919920" y="5164200"/>
              <a:ext cx="1690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56240" y="4938480"/>
              <a:ext cx="152388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58680" bIns="58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25600"/>
                  <a:tab algn="l" pos="2851200"/>
                  <a:tab algn="l" pos="4276800"/>
                  <a:tab algn="l" pos="5702400"/>
                  <a:tab algn="l" pos="7128000"/>
                  <a:tab algn="l" pos="8553600"/>
                  <a:tab algn="l" pos="99792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ms(P,T)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935760" y="5165640"/>
              <a:ext cx="160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M(P) - EM(P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222680" y="4778280"/>
              <a:ext cx="111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M(P,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0BCB-22D1-4E2A-81FF-2AC796BE4BB1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08BADE3-B5FF-4DDD-93E9-CB86292F2EC8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errament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tério Análise de Mut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inguagem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utras Caracterí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erramenta multi-linguag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mportação de casos de te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serção e remoção de casos de teste dinamic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asos de teste podem ser habilitados ou desabili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leção dos operadores a serem utiliz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71 operadores: comandos, operadores, variáveis e const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ração de relató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A7CF-C2BA-4E62-B9AB-91279A181B5B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735536F-ED94-4B8B-9273-8FA65DEBA1C0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esenta um conjunto de programas que podem ser invocados de duas manei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gráf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s fác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ante interação com o test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i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ilitam a condução de uma sessão de teste de modo program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mínio dos conceitos de mutação e dos programas que compõem as ferram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7A47-80CB-4246-AF9A-3E312F8664F6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CC54149-A92D-4AD0-AB82-C1EC62845087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um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Interface Gráfic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1676520" y="2286000"/>
          <a:ext cx="5823000" cy="39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86000"/>
                    <a:ext cx="582300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6340-CB45-4745-BA8E-1CDA9F6E4A4D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F63BD5B-8741-48F9-9D57-9698E118329B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um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Criando uma Sessão de Te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create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4857840" cy="352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AFEE-E85C-4227-9E39-02368DCF9762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484FB09-A195-4074-8340-62B11FF74AE4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7777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72396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ebe"/>
                </a:solidFill>
                <a:latin typeface="Times New Roman"/>
              </a:rPr>
              <a:t>Análise de Mutantes</a:t>
            </a:r>
            <a:endParaRPr b="0" i="1" lang="en-US" sz="4400" spc="-1" strike="noStrike">
              <a:solidFill>
                <a:srgbClr val="ffbebe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um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: Gerando Mut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unit-oper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720040" cy="447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4901-A090-4FDA-8B79-624CCD25AA80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06EB306-522F-4C86-B7FB-F9E2E1BB287A}" type="datetime5">
              <a:rPr lang="en-US"/>
              <a:t>Jul 29, 2026</a:t>
            </a:fld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31T04:09:20Z</dcterms:created>
  <dc:creator>UFMS-Campo Grande</dc:creator>
  <dc:description/>
  <dc:language>en-US</dc:language>
  <cp:lastModifiedBy>teste</cp:lastModifiedBy>
  <cp:lastPrinted>1998-04-01T14:36:28Z</cp:lastPrinted>
  <dcterms:modified xsi:type="dcterms:W3CDTF">2002-06-28T02:08:53Z</dcterms:modified>
  <cp:revision>246</cp:revision>
  <dc:subject/>
  <dc:title>Avaliação e Melhoria de Qualidade de Software</dc:title>
</cp:coreProperties>
</file>