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30E-3AF4-4917-A1B1-3EBDB402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155-E145-48A5-8A3C-4C6B2E08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016-BA1D-4A27-B449-29399EC8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4AD-5EFF-4640-A8CD-AF8B6277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C657-A1D8-4992-9356-3DC3CE25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DFAA-59AF-47C6-9937-A8897E53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FD4C-331E-4B20-83CD-1A945E12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2EBC-2537-4B7B-B726-EF6E029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449A-7321-485A-9283-17DF5432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41E-7C5A-4F16-BD33-A5E3BF70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4346-4151-4914-A449-2B808C2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ACF-7D01-40F6-B525-39FF901B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CCF5-5EF6-436A-9129-59996C70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5EFF-F066-40BF-A403-CD123E38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EFC-262E-46FE-843E-AF4E60B7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0B4-F37C-44CE-8B89-7CE9DD5C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567-D21C-4826-8FAA-95432DB0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143-C1CB-441C-86C9-04DFA4EA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A43-13DB-4514-BE7B-29409EED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10F-9F81-407E-B477-6249BDFA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AA0-10B9-44CC-BAAD-9008E1C8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998-78CC-4CF9-8B52-BF07EEB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380-DF95-484A-9373-C08F733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78A-7FC8-461B-AC3B-62A40DE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8600" y="-7920"/>
            <a:ext cx="990360" cy="683748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8600" y="1690560"/>
            <a:ext cx="990360" cy="5018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48600" y="128268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8600" y="14616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48600" y="982800"/>
            <a:ext cx="990360" cy="3492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8600" y="677880"/>
            <a:ext cx="990360" cy="43164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8600" y="369720"/>
            <a:ext cx="1003320" cy="37476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0680" y="3935520"/>
            <a:ext cx="990360" cy="5000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40680" y="353232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40680" y="2392200"/>
            <a:ext cx="990360" cy="3049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40680" y="3228840"/>
            <a:ext cx="990360" cy="349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40680" y="2925720"/>
            <a:ext cx="990360" cy="428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40680" y="261468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48600" y="496728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48600" y="455940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40680" y="566748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 rot="16200000">
            <a:off x="364320" y="6182280"/>
            <a:ext cx="34596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40680" y="6199200"/>
            <a:ext cx="990360" cy="43020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flipH="1">
            <a:off x="40680" y="588960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flipH="1" rot="16200000">
            <a:off x="-3102840" y="3097080"/>
            <a:ext cx="685800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flipH="1" rot="16200000">
            <a:off x="-2514240" y="3273120"/>
            <a:ext cx="68562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9AB9-E067-4CDF-B85A-7AC1E2839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3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4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9DEF-8A89-4C95-8E4D-35F8080A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nidade 3: </a:t>
            </a: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onceitos de Gerenciamento de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95120" y="38098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. Dr.  Marcelo Augusto Santos T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CT - UF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t@dct.ufms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ódulo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Gerenciamento de Projetos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...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(overvie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s gerenciam, mas o escopo das atividades de gerência de cada pessoa varia de acordo com seu papel/função n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necessita ser gerenciado, pois é um empreendimento complexo em um longo período de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ve: focar nos 4P’s (Pessoa, Produto, Processo, Proje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...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(overvie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eficiente entre clientes e desenvolvedores é ess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o de Projeto é um documento que define os 4P’s a fim de assegurar um orçamento eficiente, atendimento no cronograma e qualidade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 DEVE SER PLANEJA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s 4P’s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(spectrum da gerênci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o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mento mais importante de um projeto bem sucedido (competênc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ftware a ser construído (objetivos, escopo, soluçõ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atividades e tarefas da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 trabalho exigido para tornar o produto uma realidade (Plan, Mon, C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352680" y="3352680"/>
            <a:ext cx="5562720" cy="2806920"/>
            <a:chOff x="3352680" y="3352680"/>
            <a:chExt cx="5562720" cy="2806920"/>
          </a:xfrm>
        </p:grpSpPr>
        <p:sp>
          <p:nvSpPr>
            <p:cNvPr id="163" name=""/>
            <p:cNvSpPr/>
            <p:nvPr/>
          </p:nvSpPr>
          <p:spPr>
            <a:xfrm>
              <a:off x="3352680" y="3352680"/>
              <a:ext cx="5562720" cy="2362320"/>
            </a:xfrm>
            <a:prstGeom prst="cloudCallout">
              <a:avLst>
                <a:gd name="adj1" fmla="val -53194"/>
                <a:gd name="adj2" fmla="val 46842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3505320"/>
              <a:ext cx="5029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998 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6% dos projetos de software falham complet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6% custo e cronograma excedem o estim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or que os Projetos falham?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g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so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tivação, habilidades, conhecimen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I desenvolveu PM-CMM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ople management capability maturity mod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Key practice are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crutar, selecionar, gerenciar desempenho, treinar, recompensar, desenvolver na carreira, projeto de trabalho e organização, desenvolvimento/cultura em grup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ea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yers?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fil Gerente de Projeto -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tivatio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ganizatio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soa –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Players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(taxonomi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s Sê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e o negócio e tem influência significativa n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) Gerente Técnico (proje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, motiva, organiza e controla os programadores (practitioners) que desenvolvem o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actiti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ém as habilidades técnicas necessárias para a engenharia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 os requisitos para o software e detém os recursos financ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age com o software após a entr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267080" y="1981080"/>
            <a:ext cx="4114800" cy="4038840"/>
            <a:chOff x="4267080" y="1981080"/>
            <a:chExt cx="4114800" cy="4038840"/>
          </a:xfrm>
        </p:grpSpPr>
        <p:sp>
          <p:nvSpPr>
            <p:cNvPr id="175" name=""/>
            <p:cNvSpPr/>
            <p:nvPr/>
          </p:nvSpPr>
          <p:spPr>
            <a:xfrm>
              <a:off x="4267080" y="1981080"/>
              <a:ext cx="4114800" cy="4038840"/>
            </a:xfrm>
            <a:prstGeom prst="cloudCallout">
              <a:avLst>
                <a:gd name="adj1" fmla="val -88736"/>
                <a:gd name="adj2" fmla="val 6238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438280"/>
              <a:ext cx="33940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ara ser eficiente, a equipe de proj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deve ser organizada de forma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aximizar o conhecimento e habilidad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ada pess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rganização da Software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 da organização –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cance: organização das pessoas envolvidas diretamente no novo projet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g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mocrática Descentraliz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não tem um líder permanente, coordenadores de tarefa, consenso gira entre os coordenadores e do grupo da tarefa (com. Horizon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rolado Descentraliz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líder permanente, solução do problema pelo grupo, execução do subgrupo das soluções  (com. Horizontal e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rolado Centralizad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lução de problema no nível superior e coordenação interna controlado pelo líder da equipe  (com.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que 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ipos de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 complex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andes Proje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ixa modularid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a modularid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19920" y="1371600"/>
            <a:ext cx="2743200" cy="4876920"/>
            <a:chOff x="6019920" y="1371600"/>
            <a:chExt cx="2743200" cy="4876920"/>
          </a:xfrm>
        </p:grpSpPr>
        <p:sp>
          <p:nvSpPr>
            <p:cNvPr id="182" name=""/>
            <p:cNvSpPr/>
            <p:nvPr/>
          </p:nvSpPr>
          <p:spPr>
            <a:xfrm>
              <a:off x="6019920" y="1371600"/>
              <a:ext cx="2743200" cy="4876920"/>
            </a:xfrm>
            <a:prstGeom prst="wedgeRectCallout">
              <a:avLst>
                <a:gd name="adj1" fmla="val -110532"/>
                <a:gd name="adj2" fmla="val 4537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1000" y="2057400"/>
              <a:ext cx="12567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D ou 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C ou 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24280" y="32004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334120"/>
            <a:ext cx="34988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odelos de Proces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g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3000" y="2133720"/>
          <a:ext cx="76960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696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ção do escopo do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egurar que o produto desenvolvido é o produto solici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p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não ambíg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xto (negócio, restriçõ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ão objetiva (entrada, saí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e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dor do software e o cliente devem reunir-se para definir 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sco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projeto ..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rocesso de Engenharia de Sist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car as metas globais do projeto sem levar em consideração como atin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co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car as funções principais que o software deve realizar (delimi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omposiç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cleo da análise de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ces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ses genéricas: definição, desenvolvimento e su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plicáveis a todos softw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: selecionar o modelo de processo apropriado para o software sendo construído por um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eam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de processo escolhido deve ser apropriad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desenvolv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 de desenvolvimento (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roblemas podem ser evita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el (1999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põe 10 pistas que indicam que um projeto de SI está em ris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não entendem as necessidades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opo do produto é definida poorlyyy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nças são gerenciadas poorlyyy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escolhida m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dades do negócio não são defin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adline não é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uários são res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trocínio não foi ob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Team falta pessoas com habilidades apropri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s evitam melhores práticas ou lições apren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os gerentes atuam para evitar os problemas apenas indic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el (1999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põe uma abordagem de projeto de software em 5 partes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....leitura para a próxima 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ownload de arquivo no website da disciplin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752480" y="2133720"/>
            <a:ext cx="5943600" cy="3450600"/>
            <a:chOff x="1752480" y="2133720"/>
            <a:chExt cx="5943600" cy="3450600"/>
          </a:xfrm>
        </p:grpSpPr>
        <p:sp>
          <p:nvSpPr>
            <p:cNvPr id="132" name=""/>
            <p:cNvSpPr/>
            <p:nvPr/>
          </p:nvSpPr>
          <p:spPr>
            <a:xfrm>
              <a:off x="1752480" y="2154240"/>
              <a:ext cx="59436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02120" y="21337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Planej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9760" y="36007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rganiz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53320" y="512460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irig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5160" y="358164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ontro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3" idx="3"/>
              <a:endCxn id="134" idx="0"/>
            </p:cNvCxnSpPr>
            <p:nvPr/>
          </p:nvCxnSpPr>
          <p:spPr>
            <a:xfrm>
              <a:off x="5370120" y="2362320"/>
              <a:ext cx="1072440" cy="1239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8" name=""/>
            <p:cNvCxnSpPr>
              <a:stCxn id="134" idx="2"/>
              <a:endCxn id="135" idx="3"/>
            </p:cNvCxnSpPr>
            <p:nvPr/>
          </p:nvCxnSpPr>
          <p:spPr>
            <a:xfrm rot="5400000">
              <a:off x="5189760" y="4101480"/>
              <a:ext cx="1296000" cy="12088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"/>
            <p:cNvCxnSpPr>
              <a:stCxn id="136" idx="2"/>
              <a:endCxn id="135" idx="1"/>
            </p:cNvCxnSpPr>
            <p:nvPr/>
          </p:nvCxnSpPr>
          <p:spPr>
            <a:xfrm flipH="1" rot="16200000">
              <a:off x="2873520" y="4074840"/>
              <a:ext cx="1315080" cy="12420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0" name=""/>
            <p:cNvCxnSpPr>
              <a:stCxn id="136" idx="0"/>
              <a:endCxn id="133" idx="1"/>
            </p:cNvCxnSpPr>
            <p:nvPr/>
          </p:nvCxnSpPr>
          <p:spPr>
            <a:xfrm flipH="1" flipV="1" rot="5400000">
              <a:off x="2846160" y="2426760"/>
              <a:ext cx="1220040" cy="1090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1" name=""/>
            <p:cNvCxnSpPr>
              <a:stCxn id="133" idx="2"/>
              <a:endCxn id="135" idx="0"/>
            </p:cNvCxnSpPr>
            <p:nvPr/>
          </p:nvCxnSpPr>
          <p:spPr>
            <a:xfrm>
              <a:off x="4686480" y="2590920"/>
              <a:ext cx="8640" cy="253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2" name=""/>
            <p:cNvCxnSpPr>
              <a:stCxn id="136" idx="3"/>
              <a:endCxn id="134" idx="1"/>
            </p:cNvCxnSpPr>
            <p:nvPr/>
          </p:nvCxnSpPr>
          <p:spPr>
            <a:xfrm>
              <a:off x="3688920" y="3809880"/>
              <a:ext cx="1950120" cy="19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incípio Boehm’s W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2920"/>
                    <a:ext cx="914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09480" y="1849320"/>
          <a:ext cx="815364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9320"/>
                    <a:ext cx="81536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Airlie Council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team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ES do Departamento de Defesa EUA – propõe guidelines – questões...tópicos.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r o escopo e os recursos de gerenciamento de software, ao pessoal técnico e ao cliente do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s riscos e sugerir técnicas para evitá-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custos e prazos para revisões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ferecer uma abordagem geral ao desenvolvimento do software para todas as pessoas envolvidas n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como a qualidade será garantida e mudanças gerenc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documento referente aos aspectos da Gerênci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o que serve de base para a engenharia de hardware, software, banco de dados 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eve a função e o desempenho de um sistema e as restrições que orientarão seu desenvol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eve as informações que entram e saem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duzido no término das tarefas de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nece informações básicas sobre CUSTO e PROGRAMAÇÃO dos recursos ao longo d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cumento breve que se destina a um público d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cumento não est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cumento Descr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reve nas suas Se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deve deixar interpretações ambíguas, etc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boço do Plan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 Í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. 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1. Motiv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3. Esco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4. Público al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5. Restrições e Ri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boço do Plan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Descrição Arquite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1. Diagrama de contexto da arquitetura (D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2. Especificação do diagrama de arquitetura para os sub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3. Dicionário da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16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cursos humanos, de hardware e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. Estimativa de custos de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. Cron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de tarefas, Gráficos de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s de recursos x taref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7. Conclusões em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boço do Pl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3 - Conceitos de Gerência de Proj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4 - Métricas de Projeto e Processo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5 … Planejamento de Projeto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6 … Análise e Gerência de R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7 … Controle e Acompanhamento de Pro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8 … Garantia de Qualidade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9 - Gerenciamento de Configuração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s...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tividade mais crítica é a que envolve o fato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oftware é totalmente dependente da habilidade dos desenvolvedores, que devem estar preparados e comprometidos com o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stão de projeto necessita de processos madu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inar ciclo de vida do software, metodologia de desenvolvimento, pessoal bem treinado e capaci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cesso de Gerência de Pro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..oferece compre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opo do traba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r os ris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rsos exig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refas execu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forço (custo) desp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ção/Cronograma a ser seg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unca há tempo suficiente.....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tempo é o mais valioso bem disponível a um Engenheiro de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houver tempo disponível, um problema pode ser adequadamente analisado, uma solução pode ser compreensivamente projetada, o código fonte cuidadosamente implementado e t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Às vezes parece que, em nossa ansiedade para começar, não despendemos tempo para organizar nossas ações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lanejamento de projetos de software obriga gerentes e profissionais a despender esse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Conceitos e Princípi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ave que conduzem a uma gerência de projetos de software e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...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(overvie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tividade guarda-chuva dentro da engenharia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ça antes do início de qualquer atividade técnica e continua na definição, desenvolvimento e suporte d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volv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lanej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onitor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pessoas, processo e eventos que ocorrem durante o desenvolvimento d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8:02:20Z</dcterms:created>
  <dc:creator>Marcelo Turine</dc:creator>
  <dc:description/>
  <dc:language>en-US</dc:language>
  <cp:lastModifiedBy>teste</cp:lastModifiedBy>
  <dcterms:modified xsi:type="dcterms:W3CDTF">2002-04-19T02:22:01Z</dcterms:modified>
  <cp:revision>97</cp:revision>
  <dc:subject/>
  <dc:title>Planejamento do Projeto de Software</dc:title>
</cp:coreProperties>
</file>