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41B-0F56-442D-A591-FBA9DB4FE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6BF-EC69-4786-8A0D-24F68D80C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EC76-47CE-46AC-9EF6-DC018114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0861-8530-41DD-8A38-1B1CC87D6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F3721-0140-4900-8355-61ACF7856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92290-6F52-4B48-9F31-9D4225E3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0E27-2B64-486D-A0B8-427E54026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06F5-DE3C-4451-AACE-EECC484CD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714F-2909-45D1-B07A-087172C02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3EF9-56D4-4C9C-9B79-5BE28306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77FF-B161-4383-9C75-ECDA2A292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5403-AB90-41FD-91CA-114CFB1D3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3B99-BA7D-49B6-8F3B-A5917F56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0969F-E502-4D38-8750-C11D4A79E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2D7-8506-41BB-9A4A-B5DB2B8E7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2D2F-9038-4C2F-A7ED-AD360EED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7D51-4F24-4297-BF23-8CB9CC49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2438-B898-4788-ACED-028D275D0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7EE-0B0B-436D-A1D5-BFA3ACA65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8626-5ED1-4CE5-948F-DC852C61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226-6A15-4F81-A822-5E119F0F3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5426-26A2-4EE6-8CC6-654933F5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5303-8E87-47CE-9193-23D40A6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BAD-DB05-4CC2-B297-6DCBB10C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48600" y="-7920"/>
            <a:ext cx="990360" cy="6837480"/>
          </a:xfrm>
          <a:custGeom>
            <a:avLst/>
            <a:gdLst/>
            <a:ahLst/>
            <a:rect l="l" t="t" r="r" b="b"/>
            <a:pathLst>
              <a:path w="1000" h="720">
                <a:moveTo>
                  <a:pt x="0" y="0"/>
                </a:moveTo>
                <a:lnTo>
                  <a:pt x="0" y="720"/>
                </a:lnTo>
                <a:lnTo>
                  <a:pt x="1000" y="720"/>
                </a:lnTo>
                <a:lnTo>
                  <a:pt x="10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48600" y="1690560"/>
            <a:ext cx="990360" cy="5018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flipH="1">
            <a:off x="48600" y="128268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48600" y="14616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flipH="1">
            <a:off x="48600" y="982800"/>
            <a:ext cx="990360" cy="34920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 flipH="1">
            <a:off x="48600" y="677880"/>
            <a:ext cx="990360" cy="43164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H="1">
            <a:off x="48600" y="369720"/>
            <a:ext cx="1003320" cy="37476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40680" y="3935520"/>
            <a:ext cx="990360" cy="50004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549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H="1">
            <a:off x="40680" y="353232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40680" y="2392200"/>
            <a:ext cx="990360" cy="3049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H="1">
            <a:off x="40680" y="3228840"/>
            <a:ext cx="990360" cy="34956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520" y="317"/>
                  <a:pt x="624" y="272"/>
                </a:cubicBezTo>
                <a:lnTo>
                  <a:pt x="624" y="0"/>
                </a:lnTo>
                <a:cubicBezTo>
                  <a:pt x="240" y="42"/>
                  <a:pt x="130" y="0"/>
                  <a:pt x="0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40680" y="2925720"/>
            <a:ext cx="990360" cy="42876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40680" y="261468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48600" y="4967280"/>
            <a:ext cx="990360" cy="5014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432" y="224"/>
                  <a:pt x="520" y="317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48600" y="4559400"/>
            <a:ext cx="990360" cy="503280"/>
          </a:xfrm>
          <a:custGeom>
            <a:avLst/>
            <a:gdLst/>
            <a:ahLst/>
            <a:rect l="l" t="t" r="r" b="b"/>
            <a:pathLst>
              <a:path w="624" h="317">
                <a:moveTo>
                  <a:pt x="0" y="0"/>
                </a:moveTo>
                <a:lnTo>
                  <a:pt x="0" y="272"/>
                </a:lnTo>
                <a:cubicBezTo>
                  <a:pt x="104" y="317"/>
                  <a:pt x="432" y="240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40680" y="5667480"/>
            <a:ext cx="990360" cy="303120"/>
          </a:xfrm>
          <a:custGeom>
            <a:avLst/>
            <a:gdLst/>
            <a:ahLst/>
            <a:rect l="l" t="t" r="r" b="b"/>
            <a:pathLst>
              <a:path w="624" h="370">
                <a:moveTo>
                  <a:pt x="0" y="53"/>
                </a:moveTo>
                <a:lnTo>
                  <a:pt x="0" y="325"/>
                </a:lnTo>
                <a:cubicBezTo>
                  <a:pt x="104" y="370"/>
                  <a:pt x="520" y="370"/>
                  <a:pt x="624" y="325"/>
                </a:cubicBezTo>
                <a:lnTo>
                  <a:pt x="624" y="53"/>
                </a:lnTo>
                <a:cubicBezTo>
                  <a:pt x="584" y="0"/>
                  <a:pt x="488" y="8"/>
                  <a:pt x="384" y="8"/>
                </a:cubicBezTo>
                <a:cubicBezTo>
                  <a:pt x="280" y="8"/>
                  <a:pt x="80" y="44"/>
                  <a:pt x="0" y="53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 rot="16200000">
            <a:off x="364320" y="6182280"/>
            <a:ext cx="345960" cy="992160"/>
          </a:xfrm>
          <a:custGeom>
            <a:avLst/>
            <a:gdLst/>
            <a:ahLst/>
            <a:rect l="l" t="t" r="r" b="b"/>
            <a:pathLst>
              <a:path w="291" h="625">
                <a:moveTo>
                  <a:pt x="0" y="624"/>
                </a:moveTo>
                <a:lnTo>
                  <a:pt x="291" y="625"/>
                </a:lnTo>
                <a:lnTo>
                  <a:pt x="291" y="6"/>
                </a:lnTo>
                <a:lnTo>
                  <a:pt x="0" y="0"/>
                </a:lnTo>
                <a:cubicBezTo>
                  <a:pt x="39" y="384"/>
                  <a:pt x="0" y="494"/>
                  <a:pt x="0" y="62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 flipH="1">
            <a:off x="40680" y="6199200"/>
            <a:ext cx="990360" cy="430200"/>
          </a:xfrm>
          <a:custGeom>
            <a:avLst/>
            <a:gdLst/>
            <a:ahLst/>
            <a:rect l="l" t="t" r="r" b="b"/>
            <a:pathLst>
              <a:path w="624" h="272">
                <a:moveTo>
                  <a:pt x="0" y="0"/>
                </a:moveTo>
                <a:cubicBezTo>
                  <a:pt x="0" y="0"/>
                  <a:pt x="0" y="272"/>
                  <a:pt x="0" y="272"/>
                </a:cubicBezTo>
                <a:cubicBezTo>
                  <a:pt x="96" y="240"/>
                  <a:pt x="136" y="240"/>
                  <a:pt x="240" y="240"/>
                </a:cubicBezTo>
                <a:cubicBezTo>
                  <a:pt x="344" y="240"/>
                  <a:pt x="528" y="272"/>
                  <a:pt x="624" y="272"/>
                </a:cubicBezTo>
                <a:lnTo>
                  <a:pt x="624" y="0"/>
                </a:lnTo>
                <a:lnTo>
                  <a:pt x="0" y="0"/>
                </a:lnTo>
                <a:close/>
              </a:path>
            </a:pathLst>
          </a:custGeom>
          <a:solidFill>
            <a:srgbClr val="33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 flipH="1">
            <a:off x="40680" y="5889600"/>
            <a:ext cx="1003320" cy="376200"/>
          </a:xfrm>
          <a:custGeom>
            <a:avLst/>
            <a:gdLst/>
            <a:ahLst/>
            <a:rect l="l" t="t" r="r" b="b"/>
            <a:pathLst>
              <a:path w="632" h="362">
                <a:moveTo>
                  <a:pt x="8" y="45"/>
                </a:moveTo>
                <a:lnTo>
                  <a:pt x="8" y="317"/>
                </a:lnTo>
                <a:cubicBezTo>
                  <a:pt x="48" y="362"/>
                  <a:pt x="144" y="317"/>
                  <a:pt x="248" y="317"/>
                </a:cubicBezTo>
                <a:cubicBezTo>
                  <a:pt x="352" y="317"/>
                  <a:pt x="568" y="362"/>
                  <a:pt x="632" y="317"/>
                </a:cubicBezTo>
                <a:lnTo>
                  <a:pt x="632" y="45"/>
                </a:lnTo>
                <a:cubicBezTo>
                  <a:pt x="544" y="0"/>
                  <a:pt x="208" y="45"/>
                  <a:pt x="104" y="45"/>
                </a:cubicBezTo>
                <a:cubicBezTo>
                  <a:pt x="0" y="45"/>
                  <a:pt x="28" y="45"/>
                  <a:pt x="8" y="45"/>
                </a:cubicBezTo>
                <a:close/>
              </a:path>
            </a:pathLst>
          </a:cu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 flipH="1" rot="16200000">
            <a:off x="-3102840" y="3097080"/>
            <a:ext cx="6858000" cy="654120"/>
          </a:xfrm>
          <a:custGeom>
            <a:avLst/>
            <a:gdLst/>
            <a:ahLst/>
            <a:rect l="l" t="t" r="r" b="b"/>
            <a:pathLst>
              <a:path w="5762" h="385">
                <a:moveTo>
                  <a:pt x="0" y="196"/>
                </a:moveTo>
                <a:cubicBezTo>
                  <a:pt x="1667" y="385"/>
                  <a:pt x="2275" y="93"/>
                  <a:pt x="5762" y="188"/>
                </a:cubicBezTo>
                <a:lnTo>
                  <a:pt x="5762" y="4"/>
                </a:lnTo>
                <a:lnTo>
                  <a:pt x="0" y="0"/>
                </a:lnTo>
                <a:lnTo>
                  <a:pt x="0" y="196"/>
                </a:lnTo>
                <a:close/>
              </a:path>
            </a:pathLst>
          </a:custGeom>
          <a:gradFill rotWithShape="0">
            <a:gsLst>
              <a:gs pos="0">
                <a:srgbClr val="76767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"/>
          <p:cNvSpPr/>
          <p:nvPr/>
        </p:nvSpPr>
        <p:spPr>
          <a:xfrm flipH="1" rot="16200000">
            <a:off x="-2514240" y="3273120"/>
            <a:ext cx="6856200" cy="300240"/>
          </a:xfrm>
          <a:custGeom>
            <a:avLst/>
            <a:gdLst/>
            <a:ahLst/>
            <a:rect l="l" t="t" r="r" b="b"/>
            <a:pathLst>
              <a:path w="5761" h="189">
                <a:moveTo>
                  <a:pt x="0" y="28"/>
                </a:moveTo>
                <a:cubicBezTo>
                  <a:pt x="961" y="0"/>
                  <a:pt x="4971" y="161"/>
                  <a:pt x="5761" y="0"/>
                </a:cubicBezTo>
                <a:lnTo>
                  <a:pt x="5761" y="189"/>
                </a:lnTo>
                <a:lnTo>
                  <a:pt x="1" y="189"/>
                </a:lnTo>
                <a:lnTo>
                  <a:pt x="0" y="28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6767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991F-09BE-41C8-A4A4-19D6A91700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3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4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DCBE8-380B-450C-AFC5-35AE4584A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metricas.tw.eng.br/htmls/cocomo-x.html" TargetMode="External"/><Relationship Id="rId2" Type="http://schemas.openxmlformats.org/officeDocument/2006/relationships/hyperlink" Target="http://metricas.tw.eng.br/htmls/cocomo2x.html" TargetMode="External"/><Relationship Id="rId3" Type="http://schemas.openxmlformats.org/officeDocument/2006/relationships/hyperlink" Target="http://metricas.tw.eng.br/htmls/delphi-x.html" TargetMode="External"/><Relationship Id="rId4" Type="http://schemas.openxmlformats.org/officeDocument/2006/relationships/hyperlink" Target="http://metricas.tw.eng.br/htmls/fp-x.html" TargetMode="External"/><Relationship Id="rId5" Type="http://schemas.openxmlformats.org/officeDocument/2006/relationships/hyperlink" Target="http://metricas.tw.eng.br/htmls/fpa-x.html" TargetMode="External"/><Relationship Id="rId6" Type="http://schemas.openxmlformats.org/officeDocument/2006/relationships/hyperlink" Target="http://metricas.tw.eng.br/htmls/halstead-x.html" TargetMode="External"/><Relationship Id="rId7" Type="http://schemas.openxmlformats.org/officeDocument/2006/relationships/hyperlink" Target="http://metricas.tw.eng.br/htmls/lincod-x.html" TargetMode="External"/><Relationship Id="rId8" Type="http://schemas.openxmlformats.org/officeDocument/2006/relationships/hyperlink" Target="http://metricas.tw.eng.br/htmls/ciclomtc-x.html" TargetMode="External"/><Relationship Id="rId9" Type="http://schemas.openxmlformats.org/officeDocument/2006/relationships/hyperlink" Target="http://metricas.tw.eng.br/htmls/ciclomtc-x.html" TargetMode="External"/><Relationship Id="rId10" Type="http://schemas.openxmlformats.org/officeDocument/2006/relationships/hyperlink" Target="http://metricas.tw.eng.br/htmls/fpa-oo-x.html" TargetMode="External"/><Relationship Id="rId11" Type="http://schemas.openxmlformats.org/officeDocument/2006/relationships/hyperlink" Target="http://metricas.tw.eng.br/htmls/pslimm-x.html" TargetMode="External"/><Relationship Id="rId12" Type="http://schemas.openxmlformats.org/officeDocument/2006/relationships/hyperlink" Target="http://metricas.tw.eng.br/htmls/pslimm-x.html" TargetMode="External"/><Relationship Id="rId13" Type="http://schemas.openxmlformats.org/officeDocument/2006/relationships/hyperlink" Target="http://metricas.tw.eng.br/htmls/regress-x.html" TargetMode="External"/><Relationship Id="rId14" Type="http://schemas.openxmlformats.org/officeDocument/2006/relationships/hyperlink" Target="http://metricas.tw.eng.br/htmls/tlp-x.html" TargetMode="External"/><Relationship Id="rId15" Type="http://schemas.openxmlformats.org/officeDocument/2006/relationships/hyperlink" Target="http://metricas.tw.eng.br/htmls/uim-x.html" TargetMode="External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853452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nidade 4: </a:t>
            </a:r>
            <a:r>
              <a:rPr b="1" lang="pt-BR" sz="3600" spc="-1" strike="noStrike">
                <a:solidFill>
                  <a:srgbClr val="003366"/>
                </a:solidFill>
                <a:latin typeface="Arial"/>
              </a:rPr>
              <a:t>Métricas de Processo e Projeto de Software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895120" y="3809880"/>
            <a:ext cx="624852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f. Dr.  Marcelo Augusto Santos Tu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CT - UF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st@dct.ufms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0"/>
            <a:ext cx="85345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ódulo 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66"/>
                </a:solidFill>
                <a:latin typeface="Arial"/>
              </a:rPr>
              <a:t>Gerenciamento de Projetos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asur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fornece uma indicação quantitativa do tamanho de algum produto ou atributo do processo (indicad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r (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measureme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: e a ação de obter a med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: medida quantitativa do grau que um sistema, componente ou processo controla um dado a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um resultado/dado é coletado (número de erros descobertos na revisão de um módulo), uma medida é estabele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ocorre como resultado da coleção de um ou mais dados (número de módulos são investigados para coletar medidas de número de er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trica de software relaciona medidas individuais de alguma forma (média de número de erros encontrados por revisão, média de número de erros encontrados por pessoa/ho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Concei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genheiro de software coleta medidas e desenvolve métricas a fim de obter indicadores para ajustar a gerência de projeto e o processo de desenvolvimen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img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14400" y="0"/>
            <a:ext cx="66819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Arial Narrow"/>
              </a:rPr>
              <a:t>Qualidad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066680"/>
            <a:ext cx="777096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spectiva Histórica da Engenharia de Software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60 - Era 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70 - Era do Mét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80 - Era do Cu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120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os 90 e depois - Era d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ctr">
              <a:lnSpc>
                <a:spcPct val="13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idade não é um fator de vantagem no mercado, mas é um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necessidad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a garantia da competitivida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or que Medir??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img0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didas do Softwa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azões para se medir o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) indicar a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) avaliar a produtividade dos que desenvolvem 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) determinar os benefícios derivados de novos métodos e ferramentas de engenharia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) formar uma base para as estima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) ajudar na justificativa de aquisição de novas ferramentas ou de treinamentos adicion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img0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de processo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sadas para avaliar as atividades no desenvolvimento do software (intenção de melhorar tais atividades.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abilitar a organização a criar decisões estratégicas sobre como melhorar as atividades de proces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s não deveriam ser usadas para avaliar o desempenho dos indiví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atísticas do process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uso de métricas ajuda a melhorar o processo de desenvolvimento e gerência de projetos de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icações na Garantia de Qu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importante expor as razões para usar métricas de modo que possa apreciar seu potencial em monitorar custos e cronogramas no desenvolvimento de projetos futu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de projet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liar o status do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utilizadas para evitar atrasos no cronograma e delinear riscos de proje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nitorar progresso durante desenvolvimento do software e controlar a qualidade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img0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edidas do Software (Produto)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DIR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comprimento de um parafu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usto para desenvolver, esforço para  desenvolver, linhas de código (LOC), erros, tamanho de memória, velocidade de 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INDIRET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(qualidade dos parafusos produzid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idade,  complexidade,  eficiência, confiabilidade, manutenibilidade, funciona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ientadas ao Tama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diretas da qualidade e produtiv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rientadas à Funç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didas indiretas - funcion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orientadas a tamanh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5840" y="1294920"/>
            <a:ext cx="82281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áceis de serem obti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celentes modelos de estimativas de software são baseados em LOC ou KL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 é dependente da linguagem de progra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alizam programas bem projetados, mas peque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e adaptam a linguagens não procediment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íceis de serem obtidas em fase de planej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orientadas à função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907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São derivadas de medidas indiretas do software e do processo através do qual ele é desenvolvido. Concentra-se na funcionalidade d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Exemplo: métrica proposta por Albrecht em 1979 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Times New Roman"/>
              </a:rPr>
              <a:t>ponto-por-funçã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(function poin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- medidas de informação empí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3366"/>
                </a:solidFill>
                <a:latin typeface="Times New Roman"/>
              </a:rPr>
              <a:t>MÉTRICAS APLICÁVEI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716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diversos modelos para mensuração de sistemas computacionais, mais ou menos empíricos, comercialmente vi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COCOM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COnstructive COst MO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COCOMO 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3"/>
              </a:rPr>
              <a:t>Delph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4"/>
              </a:rPr>
              <a:t>F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eature Poi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5"/>
              </a:rPr>
              <a:t>FP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Function Point Analis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6"/>
              </a:rPr>
              <a:t>Halstea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7"/>
              </a:rPr>
              <a:t>Linhas de Códi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8"/>
              </a:rPr>
              <a:t>Número </a:t>
            </a: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9"/>
              </a:rPr>
              <a:t>Ciclomát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McCab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0"/>
              </a:rPr>
              <a:t>OO-FP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1"/>
              </a:rPr>
              <a:t>Putnam's </a:t>
            </a: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2"/>
              </a:rPr>
              <a:t>Slim Mod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3"/>
              </a:rPr>
              <a:t>Regressão Line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4"/>
              </a:rPr>
              <a:t>Tabela de conversão para Linguagens de Program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cc3300"/>
                </a:solidFill>
                <a:uFillTx/>
                <a:latin typeface="Arial"/>
                <a:hlinkClick r:id="rId15"/>
              </a:rPr>
              <a:t>Uso Integrado de métric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uma alternativa viáv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</a:rPr>
              <a:t>MÉTODO DE PONTOS POR FUNÇÃ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entes da lingu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deal para aplicações que usam linguagens não procedimen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aseada em dados mais fáceis de serem conhecidos na evolução do projet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álculo baseado em dados subje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uma medida direta, é apenas um nú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– S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ttp://metricas.tw.eng.br/htmls/home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FPU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Brazilian Function Point Users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oup - Comitê brasileiro de usuários de pontos de função... http://www.bfpug.com.br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EM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Asociación Española de Métricas del Software - http://www.aemes.fi.upm.e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CO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USC Engineering Research Center - Berço das métricas COCOMO, versões I e II - http://sunset.usc.edu/research/COCOMOII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ature Point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SPR - Software Process Research, empresa de Capers Jones que pesquisa e explora a métrica FP - http://www.spr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ES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European Federation of Software Metrics Associations - Organização que agrega associações de 9 países europeus - http://www.fesma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 – Sit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7324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FPU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International Function Point Users' Group - Organização internacional que agrega comitês em todo o mundo, dedicados à métrica FPA - http://www.ifpug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ES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Nederlandse Software Metrieken Gebruikers Associatie - Comitê holandês de usuários de pontos de função - http://www.nesma.n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ality Plus Technologi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- Empresa de Carol Dekkers, expoente mundial em FPA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http://www.qualityplustech.com/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Métricas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ntativa de se prever o futuro, com base no que aconteceu no passado (Estimativ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e Planej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1752480"/>
            <a:ext cx="7924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66cc"/>
                </a:solidFill>
                <a:latin typeface="Arial"/>
              </a:rPr>
              <a:t>Lidera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mo num jogo de futebol, o líder deve entusiasmar a equipe, aplaudir os seus progressos em direção à baliza incentivando-os a marcar o gol. Mas sem pontuação não há jogo. O entusiasmo é igual a missão vezes a remuneração e o reconhecimento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Ken Blanchard</a:t>
            </a:r>
            <a:r>
              <a:rPr b="1" lang="pt-BR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003366"/>
                </a:solidFill>
                <a:latin typeface="Times New Roman"/>
              </a:rPr>
              <a:t>NECESSIDADE DE ESTIMAR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 uma analogia bem delineada com a engenharia civil,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Brag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&lt;1996&gt; afirma que não se admite a idéia de construir uma estrada sem antes desenhá-la, executar análises ambientais, dimensioná-la, planejar transposições de obstáculos, calcular custos e analisar indic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gunta: Por que empresas ainda insistem em desenvolver projetos de software sem compilar um conjunto de informações essenc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 vários motivos, os desenvolvimentos de projetos de software vêm fracassando em expectativas, prazos e custos propos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incipal deles é que, muitas vezes, não haverá sequer um planejamento de como a idéia modelada pelos levantamentos de requisitos e necessidades dos clientes possa ser transformada em um produto. Muitas vezes, sequer haverá um modelo e/ou projeto que permita tal planejamento.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Propost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étricas de projeto e processo de software são medidas quantitativas que auxiliam os engenheiros de software a ganhar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sigh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na eficiência do processo e projeto de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erência de projeto: produtividade e métricas de qual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4 razões para medir o processo de software, produtos e recursos: caracterizar, avaliar, predizer e melhorar (aperfeiço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490a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Gerência e Planeja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71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1840" indent="-231840">
              <a:lnSpc>
                <a:spcPct val="100000"/>
              </a:lnSpc>
              <a:spcBef>
                <a:spcPts val="11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4800" spc="-1" strike="noStrike">
                <a:solidFill>
                  <a:srgbClr val="003366"/>
                </a:solidFill>
                <a:latin typeface="Arial"/>
              </a:rPr>
              <a:t>Planejament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O planejamento é a função que determina antecipadamente quais são os objetivos que devem ser atingidos e como se deve fazer para alcançá-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0360" indent="-17316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3366"/>
                </a:solidFill>
                <a:latin typeface="Times New Roman"/>
              </a:rPr>
              <a:t>Elementos chave do processo de gerência de projeto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e mét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r é fundamental na engenharia, e ES não é exc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dições e métricas ajudam a entender o processo técnico usado para desenvolver o prod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cesso é medido para melhorá-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oftware é medido para aumentar sua qual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Marcelo A. S. Turine -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8:02:20Z</dcterms:created>
  <dc:creator>Marcelo Turine</dc:creator>
  <dc:description/>
  <dc:language>en-US</dc:language>
  <cp:lastModifiedBy>teste</cp:lastModifiedBy>
  <dcterms:modified xsi:type="dcterms:W3CDTF">2002-04-19T02:30:01Z</dcterms:modified>
  <cp:revision>118</cp:revision>
  <dc:subject/>
  <dc:title>Planejamento do Projeto de Software</dc:title>
</cp:coreProperties>
</file>