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DFBD-C21B-4CBA-A15C-07478D64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F225-923F-40F0-B0F7-1C5CB5EB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8C16-6311-4A59-A8DF-7EFC0FAEA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894D-3AD5-4531-A3DC-132F8400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16D3-4477-4DC8-A13E-4667AFD3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31288-88B7-4F12-BB6E-BFDE7AB2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1701-0650-47DB-A6B1-0FF1C5C9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0D03-277A-4A9C-8E74-34E047823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D0EE-349C-43CC-A7BA-DC69198B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43B4-A923-4E1F-8DB8-DB434402F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4DBB8-C42C-4024-AC4D-EADB6965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568-9F5B-4116-99CF-25390DB4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E9A37-CE17-4EE5-8879-CBF6A5AE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42228-07AC-4780-96C1-D8D6C8F4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CD5AF-0B2A-4DEB-A0E9-21D9152F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21CC8-A770-49F4-9BE1-83E23C326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5BED-01BA-4F6E-8991-A6BD2945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37FE-B0DA-4AB8-8339-366F4A94D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FA67-140F-4170-A672-8D4B7527F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5F25-F520-464A-A6E9-62288A64E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A68-D191-4973-BA5D-7AA965F1C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597E-4911-44E4-9A68-E3BD5DE2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CE3D-B97D-48DF-AB1B-F5D339EE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8F4-3FF9-4C14-AFB6-D993AA66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800CF-536C-4FDC-90E2-2246802BDA96}" type="datetime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A9A22-3198-4313-B463-BFA5D6843986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21BF-389C-4056-8DFD-8C1FBDFCE473}" type="datetime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C8D0-7B60-4B5E-9277-0A49A30C9B89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-di.inf.puc-rio.br/~julio/" TargetMode="External"/><Relationship Id="rId3" Type="http://schemas.openxmlformats.org/officeDocument/2006/relationships/hyperlink" Target="http://www-di.inf.puc-rio.br/~julio/" TargetMode="External"/><Relationship Id="rId4" Type="http://schemas.openxmlformats.org/officeDocument/2006/relationships/hyperlink" Target="http://www-di.inf.puc-rio.br/~julio/" TargetMode="External"/><Relationship Id="rId5" Type="http://schemas.openxmlformats.org/officeDocument/2006/relationships/hyperlink" Target="http://www-di.inf.puc-rio.br/~julio/" TargetMode="External"/><Relationship Id="rId6" Type="http://schemas.openxmlformats.org/officeDocument/2006/relationships/hyperlink" Target="http://www-di.inf.puc-rio.br/~julio/" TargetMode="External"/><Relationship Id="rId7" Type="http://schemas.openxmlformats.org/officeDocument/2006/relationships/hyperlink" Target="http://www-di.inf.puc-rio.br/~julio/" TargetMode="External"/><Relationship Id="rId8" Type="http://schemas.openxmlformats.org/officeDocument/2006/relationships/hyperlink" Target="http://www-di.inf.puc-rio.br/~julio/" TargetMode="External"/><Relationship Id="rId9" Type="http://schemas.openxmlformats.org/officeDocument/2006/relationships/hyperlink" Target="http://www-di.inf.puc-rio.br/~julio/" TargetMode="External"/><Relationship Id="rId10" Type="http://schemas.openxmlformats.org/officeDocument/2006/relationships/hyperlink" Target="http://www-di.inf.puc-rio.br/~julio/" TargetMode="External"/><Relationship Id="rId11" Type="http://schemas.openxmlformats.org/officeDocument/2006/relationships/hyperlink" Target="http://www-di.inf.puc-rio.br/~julio/" TargetMode="External"/><Relationship Id="rId1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29714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336699"/>
                </a:solidFill>
                <a:latin typeface="Arial"/>
              </a:rPr>
              <a:t>Unidade 10: </a:t>
            </a:r>
            <a:r>
              <a:rPr b="1" lang="pt-BR" sz="3600" spc="-1" strike="noStrike">
                <a:solidFill>
                  <a:srgbClr val="0066ff"/>
                </a:solidFill>
                <a:latin typeface="Arial"/>
              </a:rPr>
              <a:t>Engenharia de Sistemas</a:t>
            </a:r>
            <a:endParaRPr b="0" lang="en-US" sz="36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895120" y="5333760"/>
            <a:ext cx="62485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Prof. Dr.  Marcelo Augusto Santos Turin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DCT – UFM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mast@dct.ufms.br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30492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Módulo III: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66ff"/>
                </a:solidFill>
                <a:latin typeface="Arial"/>
              </a:rPr>
              <a:t>Métodos Convencionais de Engenharia de Softwar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Hierarquia de Engenharia de Siste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697200" y="685800"/>
          <a:ext cx="54468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0" y="685800"/>
                    <a:ext cx="5446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7088040" y="114300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World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039920" y="685800"/>
            <a:ext cx="284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 ou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omínio do Produ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61960" y="1828800"/>
            <a:ext cx="289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omínio de interess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191720" y="320040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omain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41320" y="472428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ement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439000" y="57150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tailed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0" y="342900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emento do Sistem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Sistemas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Exige intensa comunicação entre o cliente e o analist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O cliente deve entender as metas do sistema e ser capaz de estabelecê-las clarament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O analista deve saber quais perguntas fazer, quais conselhos dar e qual pesquisa realizar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Caso as comunicações se interrompam, o sucesso do projeto estará ameaçad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É um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processo de modelagem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necessidades das visõ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Siste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523880"/>
            <a:ext cx="739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Engenharia de Hardwar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técnicas bem estabelecid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confiabilidade é realístic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Engenharia de Softwar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elemento do sistema mais difícil de ser planejad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erigoso de se administrar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Business Process Engineering (BPE)</a:t>
            </a:r>
            <a:br>
              <a:rPr sz="4000"/>
            </a:b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Engenharia de Processo de Negócio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Meta: definir a arquitetura do negócio para usar a informação eficientement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Custo de mudanças com as novas TI é al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Usa um conjunto integrado de procedimentos, métodos e ferramentas para identificar como o sistema de informação pode reunir as metas do empreendim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Focaliza primeiro o empreendimento e depois a área de negóci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BP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Engenheiros de Software usualmente não participam nos níveis mais altos do BP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Planejamento Estratégico da Informação – </a:t>
            </a:r>
            <a:r>
              <a:rPr b="0" i="1" lang="pt-BR" sz="2400" spc="-1" strike="noStrike">
                <a:solidFill>
                  <a:srgbClr val="336699"/>
                </a:solidFill>
                <a:latin typeface="Arial"/>
              </a:rPr>
              <a:t>world view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Análise das Áreas de Negócio – domain view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Projeto Sistema de Negócio – element view – Eng. Soft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nstrução e Integração – detailed view – Eng. Soft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Hierarquia da BPE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697200" y="685800"/>
          <a:ext cx="54468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0" y="685800"/>
                    <a:ext cx="5446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7164360" y="762120"/>
            <a:ext cx="16225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lanejament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stratégico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 Informaçã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World View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76000" y="914400"/>
            <a:ext cx="235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Empreendi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2520" y="1828800"/>
            <a:ext cx="231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Área de Negóci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33800" y="3048120"/>
            <a:ext cx="1407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nálise  das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Áreas de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Negócio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omain View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141320" y="472428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ement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29520" y="586728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tailed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72160" y="3200400"/>
            <a:ext cx="21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quisitos d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124080" y="4419720"/>
            <a:ext cx="22100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8640" y="4114800"/>
            <a:ext cx="170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Sistema d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Informaçã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19320" y="3733920"/>
            <a:ext cx="533160" cy="2895480"/>
          </a:xfrm>
          <a:custGeom>
            <a:avLst/>
            <a:gdLst>
              <a:gd name="textAreaLeft" fmla="*/ 340560 w 533160"/>
              <a:gd name="textAreaRight" fmla="*/ 533520 w 5331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9360" y="48769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Produ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Meta: traduzir os desejos do cliente em um conjunto de habilidades bem definido para o produ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finir Arquitetura: hardware, software, dados e pesso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777240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o Produto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3697200" y="685800"/>
          <a:ext cx="544680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0" y="685800"/>
                    <a:ext cx="54468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7163640" y="762120"/>
            <a:ext cx="1668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ngenharia de 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quisito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World View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20800" y="9144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Times New Roman"/>
              </a:rPr>
              <a:t>Produ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Habilidad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9520" y="2209680"/>
            <a:ext cx="1610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ngenharia de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omain View</a:t>
            </a:r>
            <a:endParaRPr b="0" lang="en-US" sz="1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43520" y="4800600"/>
            <a:ext cx="24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álise e Proje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lement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058120" y="6172200"/>
            <a:ext cx="200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tailed View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72160" y="3200400"/>
            <a:ext cx="21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Requisitos d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24080" y="4419720"/>
            <a:ext cx="221004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49000" y="411480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ados, Funçõ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mporta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838080"/>
            <a:ext cx="533520" cy="6019920"/>
          </a:xfrm>
          <a:custGeom>
            <a:avLst/>
            <a:gdLst>
              <a:gd name="textAreaLeft" fmla="*/ 340920 w 533520"/>
              <a:gd name="textAreaRight" fmla="*/ 533880 w 533520"/>
              <a:gd name="textAreaTop" fmla="*/ 156960 h 6019920"/>
              <a:gd name="textAreaBottom" fmla="*/ 5862960 h 6019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160" y="3048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2819520"/>
            <a:ext cx="1752480" cy="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Requisitos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Resultado do processo de Engenharia de Sistemas é um Documento de Especificação do Sistema ou Produto em diferentes nívei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Um desafio!!!! Assegurar que tal documento corresponde as expectativas e necessidades dos cliente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Requisitos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Fornece mecanismos apropriados para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mpreender o que o cliente desej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analisar necessidad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avaliar a praticabilidad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negociar soluções lógicas (razoáveis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specificar soluções não ambígua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validar a especificaç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Gerenciar os requisitos quando transformados no sistem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Verdana"/>
              </a:rPr>
              <a:t>P</a:t>
            </a:r>
            <a:r>
              <a:rPr b="1" lang="pt-PT" sz="2400" spc="-1" strike="noStrike">
                <a:solidFill>
                  <a:srgbClr val="336699"/>
                </a:solidFill>
                <a:latin typeface="Verdana"/>
              </a:rPr>
              <a:t>rocesso de engenharia de sistemas</a:t>
            </a:r>
            <a:r>
              <a:rPr b="1" lang="pt-BR" sz="2400" spc="-1" strike="noStrike">
                <a:solidFill>
                  <a:srgbClr val="336699"/>
                </a:solidFill>
                <a:latin typeface="Verdana"/>
              </a:rPr>
              <a:t>: </a:t>
            </a:r>
            <a:r>
              <a:rPr b="1" lang="pt-PT" sz="2400" spc="-1" strike="noStrike">
                <a:solidFill>
                  <a:srgbClr val="336699"/>
                </a:solidFill>
                <a:latin typeface="Verdana"/>
              </a:rPr>
              <a:t> atividades de análise, especificação e gerenciamento da qualidade dos requisit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336699"/>
                </a:solidFill>
                <a:latin typeface="Verdana"/>
              </a:rPr>
              <a:t>Antes de desenvolver/implementar o software, o “</a:t>
            </a:r>
            <a:r>
              <a:rPr b="1" lang="pt-BR" sz="2400" spc="-1" strike="noStrike">
                <a:solidFill>
                  <a:srgbClr val="336699"/>
                </a:solidFill>
                <a:latin typeface="Verdana"/>
              </a:rPr>
              <a:t>ambiente</a:t>
            </a:r>
            <a:r>
              <a:rPr b="1" lang="pt-PT" sz="2400" spc="-1" strike="noStrike">
                <a:solidFill>
                  <a:srgbClr val="336699"/>
                </a:solidFill>
                <a:latin typeface="Verdana"/>
              </a:rPr>
              <a:t>" na qual ele faz parte deve ser compreendid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Verdana"/>
              </a:rPr>
              <a:t>O</a:t>
            </a:r>
            <a:r>
              <a:rPr b="1" lang="pt-PT" sz="2000" spc="-1" strike="noStrike">
                <a:solidFill>
                  <a:srgbClr val="336699"/>
                </a:solidFill>
                <a:latin typeface="Verdana"/>
              </a:rPr>
              <a:t>s objetivos gerais do sistema devem ser determinad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Verdana"/>
              </a:rPr>
              <a:t>O</a:t>
            </a:r>
            <a:r>
              <a:rPr b="1" lang="pt-PT" sz="2000" spc="-1" strike="noStrike">
                <a:solidFill>
                  <a:srgbClr val="336699"/>
                </a:solidFill>
                <a:latin typeface="Verdana"/>
              </a:rPr>
              <a:t> papel dos elementos do sistema (hardware, software, pessoas, bases de dados, procedimentos, e etc) devem ser identificad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Verdana"/>
              </a:rPr>
              <a:t>R</a:t>
            </a:r>
            <a:r>
              <a:rPr b="1" lang="pt-PT" sz="2000" spc="-1" strike="noStrike">
                <a:solidFill>
                  <a:srgbClr val="336699"/>
                </a:solidFill>
                <a:latin typeface="Verdana"/>
              </a:rPr>
              <a:t>equisitos operacionais devem ser el</a:t>
            </a:r>
            <a:r>
              <a:rPr b="1" lang="pt-BR" sz="2000" spc="-1" strike="noStrike">
                <a:solidFill>
                  <a:srgbClr val="336699"/>
                </a:solidFill>
                <a:latin typeface="Verdana"/>
              </a:rPr>
              <a:t>i</a:t>
            </a:r>
            <a:r>
              <a:rPr b="1" lang="pt-PT" sz="2000" spc="-1" strike="noStrike">
                <a:solidFill>
                  <a:srgbClr val="336699"/>
                </a:solidFill>
                <a:latin typeface="Verdana"/>
              </a:rPr>
              <a:t>citados, analisados, especificados, modelados, validados e gerenciados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aria de Requisitos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Sommerville (1997) Processo de Engenharia de Requisitos pode ser descrito em seis passos: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licitar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Analisar e Negociar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specificar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Modelar sistem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Validar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Gerenciar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licitar Requisit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Determinar o que o Cliente desej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Parece ser simples, mas não é......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Dificuldade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Problemas de escop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Problemas de entendiment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Problemas de volatilidad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336699"/>
                </a:solidFill>
                <a:latin typeface="Arial"/>
              </a:rPr>
              <a:t>Sommerville sugere guidelin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Identificar as pessoas correta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Definir vários métodos de elicitação (entrevistas, discussão em grupo, reuñiões team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Identificar requisitos ambíguos como candidatos para prototipaçã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Produtos desta fase devem ser revisados por todas as pessoas que participaram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Analisar e Negociar Requisit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mpreender os relacionamentos entre os requisitos do client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ategorizar os requisitos em conjuntos relacionad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xaminar a consistência e ambigüidad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Questões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Requisitos é consistente com o objetivo geral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Nível de abstração adequado? Detalhes técnicos são inadequado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Requisitos são conflitantes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6699"/>
                </a:solidFill>
                <a:latin typeface="Arial"/>
              </a:rPr>
              <a:t>Cada requisito é testável uma vez que implementado?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specificar Requisit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Construir um modelo real de requisit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specificação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Documento escrit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Modelo Gráfic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Modelo Matemático Forma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Coleção de Cenários de Us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Protótipo, e combinação..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Sugestão de </a:t>
            </a:r>
            <a:r>
              <a:rPr b="0" i="1" lang="pt-BR" sz="2400" spc="-1" strike="noStrike">
                <a:solidFill>
                  <a:srgbClr val="336699"/>
                </a:solidFill>
                <a:latin typeface="Arial"/>
              </a:rPr>
              <a:t>Template</a:t>
            </a: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 padr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Especificação do Sistema é o produto designed pelo engenheiro de requisitos e de sistem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Base para a engenharia de hardware, software, banco de dados e humana, informações de entrada/saíd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Modelar Siste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016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Construir uma representação dos requisitos que possa ser avaliada pela corretitude, completitude e consistênci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Modelar uma cozinha?!?!?!?!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Sistema computacional pode ser modelado como uma transformação da informação usando o template entrada-processamento-saíd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Diagrama de Contexto do Sistema (DCS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304920" y="704880"/>
          <a:ext cx="7772400" cy="615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04880"/>
                    <a:ext cx="7772400" cy="615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1752480" y="0"/>
            <a:ext cx="64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Times New Roman"/>
              </a:rPr>
              <a:t>Diagrama de Contexto do Sistem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09480" y="609480"/>
            <a:ext cx="8153640" cy="1371600"/>
          </a:xfrm>
          <a:prstGeom prst="rect">
            <a:avLst/>
          </a:prstGeom>
          <a:solidFill>
            <a:srgbClr val="ffff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6699"/>
                </a:solidFill>
                <a:uFillTx/>
                <a:latin typeface="Times New Roman"/>
              </a:rPr>
              <a:t>Processamento de Interface com o Usuári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2057400"/>
            <a:ext cx="1981440" cy="4495680"/>
          </a:xfrm>
          <a:prstGeom prst="rect">
            <a:avLst/>
          </a:prstGeom>
          <a:solidFill>
            <a:srgbClr val="00808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 Entrad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666880" y="2057400"/>
            <a:ext cx="3200400" cy="3429000"/>
          </a:xfrm>
          <a:prstGeom prst="rect">
            <a:avLst/>
          </a:prstGeom>
          <a:solidFill>
            <a:srgbClr val="ccffcc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Times New Roman"/>
              </a:rPr>
              <a:t>Funções de Process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Times New Roman"/>
              </a:rPr>
              <a:t>e de Control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666880" y="5562720"/>
            <a:ext cx="3200400" cy="914400"/>
          </a:xfrm>
          <a:prstGeom prst="rect">
            <a:avLst/>
          </a:prstGeom>
          <a:solidFill>
            <a:srgbClr val="00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Times New Roman"/>
              </a:rPr>
              <a:t>Teste e Manutençã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2057400"/>
            <a:ext cx="2819520" cy="4419720"/>
          </a:xfrm>
          <a:prstGeom prst="rect">
            <a:avLst/>
          </a:prstGeom>
          <a:solidFill>
            <a:srgbClr val="80808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men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 Saíd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752480" y="0"/>
            <a:ext cx="647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Times New Roman"/>
              </a:rPr>
              <a:t>Diagrama de Contexto do Sistem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133720" y="304920"/>
            <a:ext cx="5257800" cy="281772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1066680"/>
            <a:ext cx="518148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4572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8120" y="1066680"/>
            <a:ext cx="0" cy="2057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175248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8120" y="2438280"/>
            <a:ext cx="32004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324480" y="1066320"/>
            <a:ext cx="0" cy="2057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77120" y="1828800"/>
            <a:ext cx="761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267080" y="251460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129528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00600" y="175248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2665080" y="685800"/>
            <a:ext cx="12207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666880" y="685800"/>
            <a:ext cx="0" cy="10666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1752480"/>
            <a:ext cx="0" cy="10670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2819520"/>
            <a:ext cx="53316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191120" y="1523880"/>
            <a:ext cx="60948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562720" y="198108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752480" y="3733920"/>
            <a:ext cx="5257800" cy="2817720"/>
          </a:xfrm>
          <a:prstGeom prst="rect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4495680"/>
            <a:ext cx="518184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05320" y="3886200"/>
            <a:ext cx="91440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66880" y="4495680"/>
            <a:ext cx="0" cy="2057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905120" y="518148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5867280"/>
            <a:ext cx="32004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943600" y="4495320"/>
            <a:ext cx="0" cy="205740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525780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86200" y="5943600"/>
            <a:ext cx="76212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8120" y="4724280"/>
            <a:ext cx="761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419720" y="5181480"/>
            <a:ext cx="76176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429000" y="4114800"/>
            <a:ext cx="76320" cy="6094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14600" y="6095880"/>
            <a:ext cx="1371600" cy="152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9880" y="4952880"/>
            <a:ext cx="609840" cy="3812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181480" y="5410080"/>
            <a:ext cx="91440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905120" y="5867280"/>
            <a:ext cx="6094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90920" y="2286000"/>
            <a:ext cx="0" cy="1371600"/>
          </a:xfrm>
          <a:prstGeom prst="line">
            <a:avLst/>
          </a:prstGeom>
          <a:ln cap="sq"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438280" y="5181120"/>
            <a:ext cx="68580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Validar Siste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Revisar os modelos construíd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Objetivo: examinar a especificação e os modelos para assegurar que todos requisitos do sistema declarados não são ambíguos, inconsistentes, omissos, e erros devem ser detectados e corrigid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scoberta de erros de requisitos – criação de questões checklist.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Tarefa: Revisão Técnica Formal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Gerenciar Requisit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Requisitos mudam – persistem através da vida do sistema...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Conjunto de Atividade que auxiliam a team de projeto a </a:t>
            </a:r>
            <a:r>
              <a:rPr b="0" lang="pt-BR" sz="2800" spc="-1" strike="noStrike" u="sng">
                <a:solidFill>
                  <a:srgbClr val="336699"/>
                </a:solidFill>
                <a:uFillTx/>
                <a:latin typeface="Arial"/>
              </a:rPr>
              <a:t>Identificar</a:t>
            </a: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, </a:t>
            </a:r>
            <a:r>
              <a:rPr b="0" lang="pt-BR" sz="2800" spc="-1" strike="noStrike" u="sng">
                <a:solidFill>
                  <a:srgbClr val="336699"/>
                </a:solidFill>
                <a:uFillTx/>
                <a:latin typeface="Arial"/>
              </a:rPr>
              <a:t>Controlar</a:t>
            </a: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 e </a:t>
            </a:r>
            <a:r>
              <a:rPr b="0" lang="pt-BR" sz="2800" spc="-1" strike="noStrike" u="sng">
                <a:solidFill>
                  <a:srgbClr val="336699"/>
                </a:solidFill>
                <a:uFillTx/>
                <a:latin typeface="Arial"/>
              </a:rPr>
              <a:t>Acompanhar</a:t>
            </a: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 os requisitos e as mudanças realizad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tividades idênticas às técnicas de Gerência de Configuração de Softwa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144792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Verdana"/>
              </a:rPr>
              <a:t>P</a:t>
            </a:r>
            <a:r>
              <a:rPr b="1" lang="pt-PT" sz="2400" spc="-1" strike="noStrike">
                <a:solidFill>
                  <a:srgbClr val="336699"/>
                </a:solidFill>
                <a:latin typeface="Verdana"/>
              </a:rPr>
              <a:t>roduto</a:t>
            </a:r>
            <a:r>
              <a:rPr b="1" lang="pt-BR" sz="2400" spc="-1" strike="noStrike">
                <a:solidFill>
                  <a:srgbClr val="336699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Verdana"/>
              </a:rPr>
              <a:t>R</a:t>
            </a:r>
            <a:r>
              <a:rPr b="1" lang="pt-PT" sz="2000" spc="-1" strike="noStrike">
                <a:solidFill>
                  <a:srgbClr val="336699"/>
                </a:solidFill>
                <a:latin typeface="Verdana"/>
              </a:rPr>
              <a:t>epresentação do sistema é produzida como resultado, que pode ser um protótipo, uma especificação ou até mesmo um modelo simbólico, que descreve as características funcionais, operacionais e comportamentais do sistema a ser desenvolvido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Pesquisas Brasil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2"/>
              </a:rPr>
              <a:t>http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3"/>
              </a:rPr>
              <a:t>://www-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4"/>
              </a:rPr>
              <a:t>di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5"/>
              </a:rPr>
              <a:t>.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6"/>
              </a:rPr>
              <a:t>inf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7"/>
              </a:rPr>
              <a:t>.puc-rio.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8"/>
              </a:rPr>
              <a:t>br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9"/>
              </a:rPr>
              <a:t>/~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10"/>
              </a:rPr>
              <a:t>julio</a:t>
            </a:r>
            <a:r>
              <a:rPr b="0" lang="pt-BR" sz="2800" spc="-1" strike="noStrike" u="sng">
                <a:solidFill>
                  <a:srgbClr val="ff99ff"/>
                </a:solidFill>
                <a:uFillTx/>
                <a:latin typeface="Verdana"/>
                <a:hlinkClick r:id="rId11"/>
              </a:rPr>
              <a:t>/</a:t>
            </a:r>
            <a:r>
              <a:rPr b="0" lang="pt-BR" sz="2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Verdana"/>
              </a:rPr>
              <a:t>SSER - Sistemas de Suporte a Engenharia de Requisitos 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Verdana"/>
              </a:rPr>
              <a:t>Estudos na area de Engenharia de Requisitos de maneira geral e proposicao e construcao de metodos, tecnicas e ferramentas de suporte a atividade de requisitos, com enfase especial na parte de elicitacao.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1371600" y="1752120"/>
            <a:ext cx="739296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Papel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definir os elementos para um sistema computacional específico no contexto da hierarquia global dos sistema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631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Atividade que engloba a maioria das tarefas de Engenharia de Sistema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Concentra em todos os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elementos do sistema, n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291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apenas no Softwa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ngenheiro de Sistemas ou Analista de Siste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256" name="BATPUL" descr=""/>
          <p:cNvPicPr/>
          <p:nvPr/>
        </p:nvPicPr>
        <p:blipFill>
          <a:blip r:embed="rId2"/>
          <a:stretch/>
        </p:blipFill>
        <p:spPr>
          <a:xfrm>
            <a:off x="5638680" y="4330800"/>
            <a:ext cx="304812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137016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 maioria dos novos sistemas inicia com metas e restrições (NEBULOSAS) definidas pelo client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O Analista de Sistemas deve </a:t>
            </a:r>
            <a:r>
              <a:rPr b="0" i="1" lang="pt-BR" sz="2800" spc="-1" strike="noStrike">
                <a:solidFill>
                  <a:srgbClr val="336699"/>
                </a:solidFill>
                <a:latin typeface="Arial"/>
              </a:rPr>
              <a:t>demarcar</a:t>
            </a: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 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rivar uma representação da funçã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sempenh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interfaces, restrições de projeto e estrutura de informações para cada um dos elementos genéricos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Análise (Engenharia) de Sistema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Times New Roman"/>
              </a:rPr>
              <a:t>Objetivos Específicos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11280" y="1066680"/>
            <a:ext cx="8532720" cy="5562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Identificar a necessidade dos usuári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Executar análise econômica e técnic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Estabelecer restrições de prazo e cus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Atribuir funções ao hardware, software, às pessoas, ao BD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Criar uma definição do sistema que constitua todo o trabalho futur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Quanto esforço deve ser despendido na análise e definição de sistemas?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Tamanho e complexidade do sistem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gra empírica: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0 a 20% deve ser aplicado na análise do sistem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0 a 20% deve ser aplicado na análise de requisitos do softwar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A maioria dos profissionais reconhece que o tempo e o esforço despendidos na análise de sistemas é vantajoso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Quanto esforço deve ser despendido na análise e definição de sistemas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Tamanho e complexidade do sistema, usuário final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Regra empírica: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0 a 20% deve ser aplicado na análise do sistem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0 a 20% deve ser aplicado na análise de requisitos do softwar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Quem o faz?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Analista deve dirigir a maioria das tarefas (administrativo e técnico do cliente, além da equipe de desenvolvimento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371600" y="533520"/>
            <a:ext cx="77724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or que é tão difícil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Conceito nebuloso deve ser transformado num conjunto de elementos concret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Percepção do sistema pode modificar-se à medida que o trabalho progredi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Identificação das Necessidades</a:t>
            </a:r>
            <a:endParaRPr b="0" lang="en-US" sz="48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264" name="ACORDO" descr=""/>
          <p:cNvPicPr/>
          <p:nvPr/>
        </p:nvPicPr>
        <p:blipFill>
          <a:blip r:embed="rId2"/>
          <a:stretch/>
        </p:blipFill>
        <p:spPr>
          <a:xfrm>
            <a:off x="2743200" y="2133720"/>
            <a:ext cx="4519440" cy="34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664240" y="609480"/>
            <a:ext cx="3479760" cy="4953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371600" y="0"/>
            <a:ext cx="77724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Função e desempenho desejados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Questões de confiabilidade e qualidade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 u="sng">
                <a:solidFill>
                  <a:srgbClr val="336699"/>
                </a:solidFill>
                <a:uFillTx/>
                <a:latin typeface="Arial"/>
              </a:rPr>
              <a:t>Metas globais do sistema</a:t>
            </a: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Tecnologia disponível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Mercados e concorrência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Extensões futuras?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66680" y="5791320"/>
            <a:ext cx="7753320" cy="5713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Documento Conceitual do Sistema</a:t>
            </a:r>
            <a:endParaRPr b="0" lang="en-US" sz="32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68" name=""/>
          <p:cNvSpPr/>
          <p:nvPr/>
        </p:nvSpPr>
        <p:spPr>
          <a:xfrm>
            <a:off x="4343400" y="3962520"/>
            <a:ext cx="0" cy="1371600"/>
          </a:xfrm>
          <a:prstGeom prst="line">
            <a:avLst/>
          </a:prstGeom>
          <a:ln cap="sq" w="190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Análise Econômica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1219320"/>
            <a:ext cx="77724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valiação do custo de desenvolvimento confrontada com a renda ou benefício derivado do sistema desenvolvid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nálise de custo-benefíci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lineia os custos para o desenvolvimento do projeto, comparando-os com os benefícios tangíveis (mensuráveis) e intangíveis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Exemplo: sistema CAD - projeto auxiliado por computador - substitui a engenharia manual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financeir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99"/>
                </a:solidFill>
                <a:latin typeface="Arial"/>
              </a:rPr>
              <a:t>intangível: melhor qualidade de projeto e moral mais elevado dos empregad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Análise Técnica</a:t>
            </a:r>
            <a:endParaRPr b="0" lang="en-US" sz="4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371600" y="1600200"/>
            <a:ext cx="77724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nalista coleta informações sobre função, desempenho, confiabilidade, manutenibilidade e capacidade de reutilizaçã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As ferramentas disponíveis derivam das técnicas de modelagem e otimização matemática, probabilidade e estatística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 flipV="1">
            <a:off x="914400" y="3276360"/>
            <a:ext cx="0" cy="251460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066680"/>
            <a:ext cx="3352680" cy="1447920"/>
          </a:xfrm>
          <a:prstGeom prst="rect">
            <a:avLst/>
          </a:prstGeom>
          <a:solidFill>
            <a:srgbClr val="00ffff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3124080"/>
            <a:ext cx="3352680" cy="2057400"/>
          </a:xfrm>
          <a:prstGeom prst="rect">
            <a:avLst/>
          </a:prstGeom>
          <a:solidFill>
            <a:srgbClr val="ff0000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057400"/>
            <a:ext cx="3048120" cy="1523880"/>
          </a:xfrm>
          <a:prstGeom prst="rect">
            <a:avLst/>
          </a:prstGeom>
          <a:solidFill>
            <a:srgbClr val="ccffcc"/>
          </a:solidFill>
          <a:ln cap="sq"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O ciclo de vida clássic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37160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Engenhari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de Sistema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1905120"/>
            <a:ext cx="1523880" cy="609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nális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86000"/>
            <a:ext cx="1447920" cy="6094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Proje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19720" y="266688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fec6d9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odificaçã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867280" y="3200400"/>
            <a:ext cx="1371600" cy="76212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Test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3733920"/>
            <a:ext cx="18288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cap="sq"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Manutençã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15238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15238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19810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14800" y="19810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48320" y="2362320"/>
            <a:ext cx="7617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10080" y="236232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2819520"/>
            <a:ext cx="76176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281952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15200" y="3352680"/>
            <a:ext cx="76212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cap="sq" w="57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999560" y="4648320"/>
            <a:ext cx="0" cy="114444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914040" y="5791320"/>
            <a:ext cx="7086600" cy="0"/>
          </a:xfrm>
          <a:prstGeom prst="line">
            <a:avLst/>
          </a:prstGeom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2514600" y="2514600"/>
            <a:ext cx="0" cy="327672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09880" y="2971800"/>
            <a:ext cx="0" cy="274320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257800" y="3352680"/>
            <a:ext cx="0" cy="236232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77120" y="3962520"/>
            <a:ext cx="0" cy="175248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240" y="2590920"/>
            <a:ext cx="183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Times New Roman"/>
              </a:rPr>
              <a:t>Definiçã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3160" y="3657600"/>
            <a:ext cx="31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8000"/>
                </a:solidFill>
                <a:latin typeface="Times New Roman"/>
              </a:rPr>
              <a:t>Desenvolviment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76400" y="5791320"/>
            <a:ext cx="235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Validação e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Manutenção</a:t>
            </a:r>
            <a:endParaRPr b="0" lang="en-US" sz="3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Arquitetura do Siste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37016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Modelo do Sistem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Modelo que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represente a inter-relação entre os elementos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constitua a base para as fases conseqüentes: análise de requisitos e proje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Arquitetura de Entrada/Saída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Especificação do Sistem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ocumento que serve de base para as etapas de engenharia de hardware, software, banco de dados e human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screve a função e o desempenho de um sistema baseado em computador e suas restrições no desenvolvimen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Descreve as informações que entram e saem do sistema - delimita cada elemento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buClr>
                <a:srgbClr val="336699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Servir de base para as etapas de engenharia de hardware e softwar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71600" y="-45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Esboço da Especificação do Sistema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I- Introduç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. Escopo e propósito do document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. Visão geral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Objetivo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Restriçõe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II- Descrição Funcional e de Dado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. Arquitetura do sistem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Diagrama de contexto da arquitetura (DCA)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Descrição do DC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III- Descrições dos subsistema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. Especificação do diagrama de arquitetura para os subsistema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. Dicionário da arquitetura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IV- Questões de projet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1. Custos de desenvolvimento projetados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"/>
              </a:rPr>
              <a:t>2. Prazo projetado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371600" y="1676520"/>
            <a:ext cx="77724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III- Descrições dos subsistemas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1. Especificação do diagrama de arquitetura para os subsistema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2. Dicionário da arquitetur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IV- Questões de projeto</a:t>
            </a:r>
            <a:endParaRPr b="0" lang="en-US" sz="28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1. Custos de desenvolvimento projetado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2. Prazo projetad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Plano de Projeto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rincipal documento referente aos aspectos da Gerência do Proje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Documento que serve de base para a engenharia de hardware, software, banco de dados e human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Descreve a função e o desempenho de um sistema e as restrições que orientarão seu desenvolvimen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Descreve as informações que entram e saem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B6271B-258E-4BE8-8AF2-45D14FCE14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Plano de Projeto de Softwar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Produzido no término das tarefas de Planejament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Fornece informações básicas sobre CUSTO e PROGRAMAÇÃO dos recursos ao longo do proces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Documento breve que se destina a um público divers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Documento não estátic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Plano de Projeto de Softwar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Documento Descritiv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Breve nas suas Seçõ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Não deve deixar interpretações ambíguas, etc..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476280" y="2019240"/>
            <a:ext cx="80089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3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400" spc="-1" strike="noStrike">
                <a:solidFill>
                  <a:srgbClr val="0066ff"/>
                </a:solidFill>
                <a:latin typeface="Arial"/>
              </a:rPr>
              <a:t>FIM</a:t>
            </a:r>
            <a:endParaRPr b="0" lang="en-US" sz="13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 rot="5400000">
            <a:off x="2098440" y="3882600"/>
            <a:ext cx="262404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700" spc="-1" strike="noStrike">
                <a:solidFill>
                  <a:srgbClr val="ff99ff"/>
                </a:solidFill>
                <a:latin typeface="Arial"/>
              </a:rPr>
              <a:t>:-(</a:t>
            </a:r>
            <a:endParaRPr b="0" lang="en-US" sz="1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rot="5400000">
            <a:off x="4585320" y="3853800"/>
            <a:ext cx="26244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700" spc="-1" strike="noStrike">
                <a:solidFill>
                  <a:srgbClr val="33cc33"/>
                </a:solidFill>
                <a:latin typeface="Arial"/>
              </a:rPr>
              <a:t>:-)             </a:t>
            </a:r>
            <a:endParaRPr b="0" lang="en-US" sz="117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Dúvidas???</a:t>
            </a:r>
            <a:endParaRPr b="0" lang="en-US" sz="4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Dicas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Antes de uma visão “centrada no software”, considere todos os elementos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Chave: compreender claramente o contex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Iniciar compreendendo o universo “</a:t>
            </a:r>
            <a:r>
              <a:rPr b="1" i="1" lang="pt-BR" sz="2800" spc="-1" strike="noStrike">
                <a:solidFill>
                  <a:srgbClr val="336699"/>
                </a:solidFill>
                <a:latin typeface="Arial"/>
              </a:rPr>
              <a:t>world view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” do software, e progressivamente chegando nos detalhes técnic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Sistemas complexos são uma hierarquia de macro elemento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Terminologia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rocesso de Engenharia de Sistem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&lt;&lt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Engenharia do Processo de Negócio (</a:t>
            </a:r>
            <a:r>
              <a:rPr b="0" i="1" lang="pt-BR" sz="2800" spc="-1" strike="noStrike">
                <a:solidFill>
                  <a:srgbClr val="336699"/>
                </a:solidFill>
                <a:latin typeface="Arial"/>
              </a:rPr>
              <a:t>business process engineering</a:t>
            </a: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) +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Engenharia de Produto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&gt;&gt;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Diferentes domínios de aplicaç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Sistemas Baseados em Computador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Tipos de Sistemas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99"/>
                </a:solidFill>
                <a:latin typeface="Arial"/>
              </a:rPr>
              <a:t>políticos, educacionais, aviônicos, manufatura, bancário, transporte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Def: Um conjunto ou disposição de elementos que é organizado para executar certo método, procedimento ou controle ao processar informaçõe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6699"/>
                </a:solidFill>
                <a:latin typeface="Arial"/>
              </a:rPr>
              <a:t>Elementos para alcançar a meta..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0160" y="247680"/>
            <a:ext cx="777240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ff"/>
                </a:solidFill>
                <a:latin typeface="Times New Roman"/>
              </a:rPr>
              <a:t>Elementos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1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Software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programas, dados, estrutura de dados, documentação interna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2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Hardware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dispositivos eletrônicos (CPU, memória) e eletromecânicos (sensores, motores)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3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Pessoas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usuários e operadores de hardware e software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4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Banco de Dados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coleção organizada de informaçõ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5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Documentação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manuais, formulários, etc que retratam o uso e operaçã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6-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"/>
              </a:rPr>
              <a:t>Procedimentos</a:t>
            </a:r>
            <a:r>
              <a:rPr b="1" lang="pt-BR" sz="2400" spc="-1" strike="noStrike">
                <a:solidFill>
                  <a:srgbClr val="336699"/>
                </a:solidFill>
                <a:latin typeface="Arial"/>
              </a:rPr>
              <a:t>: os passos que definem o uso de cada elemento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66ff"/>
                </a:solidFill>
                <a:latin typeface="Times New Roman"/>
              </a:rPr>
              <a:t>Desafios...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O papel do Engenheiro de Software é definir os elementos para um sistema computacional específico no contexto geral da hierarquia do sistema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6699"/>
                </a:solidFill>
                <a:latin typeface="Arial"/>
              </a:rPr>
              <a:t>É importante ter tempo para compreender todos os elementos do sistema na qual o produto software residirá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6T17:16:00Z</dcterms:created>
  <dc:creator>Marcelo Turine</dc:creator>
  <dc:description/>
  <dc:language>en-US</dc:language>
  <cp:lastModifiedBy>teste</cp:lastModifiedBy>
  <cp:lastPrinted>1998-03-26T22:36:14Z</cp:lastPrinted>
  <dcterms:modified xsi:type="dcterms:W3CDTF">2002-04-26T01:07:50Z</dcterms:modified>
  <cp:revision>121</cp:revision>
  <dc:subject/>
  <dc:title>Engenharia de Sistemas  Capítulo 5</dc:title>
</cp:coreProperties>
</file>