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6475-AFF7-4D8B-B9BA-BE47659F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F894-2668-432D-B021-3A056541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21AE-2C8C-4F68-80AA-EDCDD4FB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1754-95DB-4474-8F84-55DD49FF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888E-CA8B-4FAB-AE5F-CAB833DF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9BBB-EF42-4191-B02F-459CBFD8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01F0-9E3E-4997-B355-11D005B0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8778-4B31-4C3A-8281-D855A8E1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6472-57A0-4735-8D24-8F62191A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0EB1-8273-494E-85B5-ADA975DF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E7E1-577C-4998-9356-8168DACA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2C06-745A-45CF-9FCB-09C99F98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35E1-7119-4D2C-919D-ED28CF31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04FA-65A9-47FF-BC3D-7F975EEA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FCF5-E10E-487A-9355-F424B584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530A-2EED-4E41-98B8-D7DB9F16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A5B0-8A56-4C3B-996C-DA450669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4FD-E988-4BAD-BF98-A177A1FF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7E9B-C90F-4F8F-93A7-010CE9F0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D62A-CF85-4030-900D-4D91F92B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5F06-EE82-43D6-86A1-F8C2021F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08F2-4BC9-4479-96C1-53A5309A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EF13-FE65-4E3E-AF2E-ED70D847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C05-53C7-427A-9BDE-52E4089F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A1E8-AF6A-468B-8923-D19B71CB8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6299-57C8-47B3-8A36-36036905B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3505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dade 11: 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Princípios e Conceitos de Análise de Requisit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895120" y="5333760"/>
            <a:ext cx="62485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f. Dr.  Marcelo Augusto Santos Tu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CT - UF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st@dct.ufms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304920"/>
            <a:ext cx="8534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ódulo I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étodos Convencionais de Engenharia d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DF52-A713-4327-BC72-9A527BF0B1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efinição: Requisitos e Especific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ssário de Engenharia de Software (IEEE) e do Auré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sito (IE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a condição ou capacidade necessitada por um usuário para resolver um problema ou alcançar um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a condição ou capacidade que deve ser satisfeita por um sistema para satisfazer um contrato ou um padr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65F0-D4FC-4B88-A539-3D6F5D8344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990720" y="3805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sito (Aurél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ção necessária para a obtenção de certo objetivo, ou para o preenchimento de certo f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pecificaç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ção rigorosa e minuciosa das características que um material, uma obra, ou um serviço deverá aprese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 de representação dos requisitos de uma forma que leva à implementação bem-suced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EA75-29B8-47C2-97B2-19C8E46DF5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empl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8720" y="1981080"/>
            <a:ext cx="795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sistema deve rodar em microcomputadores da linha IBM PC que possuam microprocessador 486 DX ou superio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nterface do sistema deve ser gráfica, de acordo com um padrão de interface dirigida a menu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amente, o sistema deve possibilitar o seu uso através de linhas de comando, para usuários avançad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5155-E1EA-49DB-869B-EE60860E37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ipos de Requisito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(divisão utilizada na literatura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5724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Funcion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724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Não Funcionais (de Qualida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66cc"/>
                </a:solidFill>
                <a:latin typeface="Arial"/>
              </a:rPr>
              <a:t>IS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he International Organization for Standardizat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3366cc"/>
                </a:solidFill>
                <a:latin typeface="Arial"/>
              </a:rPr>
              <a:t>IEC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- The International Electrotechnical Comm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formam o sistema especializado para padronização mais conheci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813-FC85-4FF9-A28F-FF8A0046A9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quisitos de Softwa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Norma ISO/IEC 9126 define seis características de qualidade de software que devem ser avali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Funcional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finalidade do produt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Usabil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esforço para utilizar, aprender o produ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Confiabil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freqüência de falhas, recuperabilida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Eficiênc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desempen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Manutenibil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esforço necessário para modific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Portabil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capacidade de transferir o produto para outros ambie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2DBE-92B0-4E50-AC60-8C78950F47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1981080" y="0"/>
            <a:ext cx="7162920" cy="6767640"/>
            <a:chOff x="1981080" y="0"/>
            <a:chExt cx="7162920" cy="6767640"/>
          </a:xfrm>
        </p:grpSpPr>
        <p:sp>
          <p:nvSpPr>
            <p:cNvPr id="208" name=""/>
            <p:cNvSpPr/>
            <p:nvPr/>
          </p:nvSpPr>
          <p:spPr>
            <a:xfrm>
              <a:off x="1981080" y="0"/>
              <a:ext cx="7162920" cy="67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2255400" y="4479840"/>
              <a:ext cx="20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81480" y="466236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78400" y="5394240"/>
              <a:ext cx="11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3718080" y="530388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70560" y="2743200"/>
              <a:ext cx="82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3352320" y="274320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75280" y="0"/>
              <a:ext cx="2286000" cy="7300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19720" y="152280"/>
              <a:ext cx="2011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elementos alocados ao soft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21200" y="3016080"/>
              <a:ext cx="2652840" cy="82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Arial"/>
                </a:rPr>
                <a:t>determinar domínio das informações e das funções, interfaces, restrições de projeto e critérios de valid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30440" y="3108240"/>
              <a:ext cx="1919160" cy="63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Arial"/>
                </a:rPr>
                <a:t>construir protótipo para estabelecer os requisi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92400" y="2376360"/>
              <a:ext cx="2468880" cy="681120"/>
            </a:xfrm>
            <a:prstGeom prst="diamond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2558880"/>
              <a:ext cx="192096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80"/>
                  </a:solidFill>
                  <a:latin typeface="Arial"/>
                </a:rPr>
                <a:t>os requisitos são conhecido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84560" y="1554120"/>
              <a:ext cx="2376720" cy="639720"/>
            </a:xfrm>
            <a:prstGeom prst="diamond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1760" y="1633680"/>
              <a:ext cx="14623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80"/>
                  </a:solidFill>
                  <a:latin typeface="Arial"/>
                </a:rPr>
                <a:t>revisão administra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6827760" y="639720"/>
              <a:ext cx="2087640" cy="1112760"/>
              <a:chOff x="6827760" y="639720"/>
              <a:chExt cx="2087640" cy="1112760"/>
            </a:xfrm>
          </p:grpSpPr>
          <p:sp>
            <p:nvSpPr>
              <p:cNvPr id="224" name=""/>
              <p:cNvSpPr/>
              <p:nvPr/>
            </p:nvSpPr>
            <p:spPr>
              <a:xfrm>
                <a:off x="7017480" y="639720"/>
                <a:ext cx="1897920" cy="910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922440" y="740880"/>
                <a:ext cx="1897920" cy="910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827760" y="842040"/>
                <a:ext cx="1897920" cy="910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80"/>
                    </a:solidFill>
                    <a:latin typeface="Times New Roman"/>
                  </a:rPr>
                  <a:t>Plano de Desenvolvimento do Softwa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3992400" y="912960"/>
              <a:ext cx="2637000" cy="53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"/>
                </a:rPr>
                <a:t>estabelecimento do alc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"/>
                </a:rPr>
                <a:t>recursos, custo cronogra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73240" y="5029200"/>
              <a:ext cx="1644840" cy="63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Arial"/>
                </a:rPr>
                <a:t>revisar </a:t>
              </a: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e</a:t>
              </a:r>
              <a:r>
                <a:rPr b="1" lang="en-US" sz="1200" spc="-1" strike="noStrike">
                  <a:solidFill>
                    <a:srgbClr val="800000"/>
                  </a:solidFill>
                  <a:latin typeface="Arial"/>
                </a:rPr>
                <a:t> justificar recursos, custos</a:t>
              </a: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 e</a:t>
              </a:r>
              <a:r>
                <a:rPr b="1" lang="en-US" sz="1200" spc="-1" strike="noStrike">
                  <a:solidFill>
                    <a:srgbClr val="800000"/>
                  </a:solidFill>
                  <a:latin typeface="Arial"/>
                </a:rPr>
                <a:t> cronogra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6645240" y="4022640"/>
              <a:ext cx="2101680" cy="1082880"/>
              <a:chOff x="6645240" y="4022640"/>
              <a:chExt cx="2101680" cy="1082880"/>
            </a:xfrm>
          </p:grpSpPr>
          <p:sp>
            <p:nvSpPr>
              <p:cNvPr id="230" name=""/>
              <p:cNvSpPr/>
              <p:nvPr/>
            </p:nvSpPr>
            <p:spPr>
              <a:xfrm>
                <a:off x="6827760" y="4022640"/>
                <a:ext cx="1919160" cy="8859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36320" y="4120920"/>
                <a:ext cx="1919160" cy="8859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645240" y="4219560"/>
                <a:ext cx="1919160" cy="8859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Times New Roman"/>
                  </a:rPr>
                  <a:t>Especificação dos Requisitos do Softwa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084560" y="6035760"/>
              <a:ext cx="2102040" cy="7300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59240" y="6127920"/>
              <a:ext cx="191916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início da fase de desenvolvi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44840" y="1644480"/>
              <a:ext cx="100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Arial"/>
                </a:rPr>
                <a:t>revis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73640" y="2101680"/>
              <a:ext cx="109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Arial"/>
                </a:rPr>
                <a:t>aceitável</a:t>
              </a:r>
              <a:r>
                <a:rPr b="0" i="1" lang="en-US" sz="16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78000" y="4205160"/>
              <a:ext cx="1036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Arial"/>
                </a:rPr>
                <a:t>revisã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44840" y="2468520"/>
              <a:ext cx="730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Arial"/>
                </a:rPr>
                <a:t>não</a:t>
              </a:r>
              <a:r>
                <a:rPr b="0" i="1" lang="en-US" sz="16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61280" y="2468520"/>
              <a:ext cx="731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Arial"/>
                </a:rPr>
                <a:t>sim</a:t>
              </a:r>
              <a:r>
                <a:rPr b="0" i="1" lang="en-US" sz="16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92400" y="4205160"/>
              <a:ext cx="2378160" cy="549360"/>
            </a:xfrm>
            <a:prstGeom prst="diamond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49600" y="4297320"/>
              <a:ext cx="15544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80"/>
                  </a:solidFill>
                  <a:latin typeface="Arial"/>
                </a:rPr>
                <a:t>revisã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80"/>
                  </a:solidFill>
                  <a:latin typeface="Arial"/>
                </a:rPr>
                <a:t>técn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92400" y="4937040"/>
              <a:ext cx="2378160" cy="824040"/>
            </a:xfrm>
            <a:prstGeom prst="diamond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75280" y="5119560"/>
              <a:ext cx="20127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80"/>
                  </a:solidFill>
                  <a:latin typeface="Arial"/>
                </a:rPr>
                <a:t>revisão do plano de projeto do softw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73640" y="730080"/>
              <a:ext cx="0" cy="1828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73640" y="1371600"/>
              <a:ext cx="0" cy="1825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257800" y="2193840"/>
              <a:ext cx="15840" cy="16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92800" y="2743200"/>
              <a:ext cx="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52680" y="27432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52680" y="374796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52680" y="4022640"/>
              <a:ext cx="374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02440" y="384012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81480" y="40226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81480" y="576108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3444480" y="1919160"/>
              <a:ext cx="73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444840" y="1096920"/>
              <a:ext cx="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44840" y="1096920"/>
              <a:ext cx="5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2255760" y="2286000"/>
              <a:ext cx="0" cy="21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55760" y="228600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81480" y="4662360"/>
              <a:ext cx="109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Arial"/>
                </a:rPr>
                <a:t>aceitável</a:t>
              </a:r>
              <a:r>
                <a:rPr b="0" i="1" lang="en-US" sz="16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67480" y="5394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87640" y="5851440"/>
              <a:ext cx="447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87640" y="566892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70560" y="5119560"/>
              <a:ext cx="109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Arial"/>
                </a:rPr>
                <a:t>aceitáve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45240" y="1096920"/>
              <a:ext cx="182520" cy="182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50000" y="3840120"/>
              <a:ext cx="274680" cy="2746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cc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 txBox="1"/>
          <p:nvPr/>
        </p:nvSpPr>
        <p:spPr>
          <a:xfrm rot="16200000">
            <a:off x="-1247400" y="2923920"/>
            <a:ext cx="5505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ase de Análise de Requisitos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93AC-564F-478E-8B33-DDD8E09264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3651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ilema do Engenheiro de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65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claração de um cliente anôni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i que você acredita que entendeu o que acha que eu disse, mas não estou certo de que percebe que aquilo que ouviu não é o que eu pretendia dizer ... 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89E3-2117-4DB0-AE15-56F2BE94DF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TIVIDADES de ANÁLISE: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-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Reconhecimento do problem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valiação do problema e síntese da sol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Modelage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Especificação dos requisitos do 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3366cc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R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evi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67480" y="5867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0F1A-6BB2-4EEB-A803-FBD8A33F19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648320" y="5029200"/>
            <a:ext cx="685800" cy="838080"/>
          </a:xfrm>
          <a:prstGeom prst="rect">
            <a:avLst/>
          </a:prstGeom>
          <a:solidFill>
            <a:srgbClr val="8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5105520"/>
            <a:ext cx="685800" cy="838080"/>
          </a:xfrm>
          <a:prstGeom prst="rect">
            <a:avLst/>
          </a:prstGeom>
          <a:solidFill>
            <a:srgbClr val="8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5105520"/>
            <a:ext cx="761760" cy="609480"/>
          </a:xfrm>
          <a:prstGeom prst="rect">
            <a:avLst/>
          </a:prstGeom>
          <a:solidFill>
            <a:srgbClr val="0033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438280" y="5181480"/>
            <a:ext cx="762120" cy="609840"/>
          </a:xfrm>
          <a:prstGeom prst="rect">
            <a:avLst/>
          </a:prstGeom>
          <a:solidFill>
            <a:srgbClr val="0033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0" y="5257800"/>
            <a:ext cx="762120" cy="609480"/>
          </a:xfrm>
          <a:prstGeom prst="rect">
            <a:avLst/>
          </a:prstGeom>
          <a:solidFill>
            <a:srgbClr val="0033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802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Atividade 1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pt-BR" sz="4400" spc="-1" strike="noStrike">
                <a:solidFill>
                  <a:srgbClr val="0099cc"/>
                </a:solidFill>
                <a:latin typeface="Times New Roman"/>
              </a:rPr>
              <a:t> Reconhecimento do Probl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meta é o reconhecimento dos  elementos básicos do problema, conforme percebidos pelo cli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419360" y="2590920"/>
            <a:ext cx="609480" cy="1066680"/>
            <a:chOff x="4419360" y="2590920"/>
            <a:chExt cx="609480" cy="1066680"/>
          </a:xfrm>
        </p:grpSpPr>
        <p:sp>
          <p:nvSpPr>
            <p:cNvPr id="280" name=""/>
            <p:cNvSpPr/>
            <p:nvPr/>
          </p:nvSpPr>
          <p:spPr>
            <a:xfrm>
              <a:off x="4572000" y="2590920"/>
              <a:ext cx="304200" cy="228240"/>
            </a:xfrm>
            <a:prstGeom prst="ellipse">
              <a:avLst/>
            </a:prstGeom>
            <a:solidFill>
              <a:srgbClr val="e1e1b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72000" y="2895480"/>
              <a:ext cx="304200" cy="380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419360" y="2971800"/>
              <a:ext cx="152280" cy="75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76560" y="2971800"/>
              <a:ext cx="152280" cy="151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19720" y="3047760"/>
              <a:ext cx="15228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952520" y="3124080"/>
              <a:ext cx="7596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4572000" y="3276360"/>
              <a:ext cx="7560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723920" y="3276360"/>
              <a:ext cx="7596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72000" y="3504960"/>
              <a:ext cx="7560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24280" y="3504960"/>
              <a:ext cx="7596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4572000" y="3657600"/>
              <a:ext cx="75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723920" y="3581280"/>
              <a:ext cx="75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24280" y="2819160"/>
              <a:ext cx="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676160" y="3657600"/>
            <a:ext cx="609480" cy="1066680"/>
            <a:chOff x="1676160" y="3657600"/>
            <a:chExt cx="609480" cy="1066680"/>
          </a:xfrm>
        </p:grpSpPr>
        <p:sp>
          <p:nvSpPr>
            <p:cNvPr id="294" name=""/>
            <p:cNvSpPr/>
            <p:nvPr/>
          </p:nvSpPr>
          <p:spPr>
            <a:xfrm>
              <a:off x="1828800" y="3657600"/>
              <a:ext cx="304200" cy="228240"/>
            </a:xfrm>
            <a:prstGeom prst="ellipse">
              <a:avLst/>
            </a:prstGeom>
            <a:solidFill>
              <a:srgbClr val="e1e1b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828800" y="3962160"/>
              <a:ext cx="304200" cy="380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676160" y="4038480"/>
              <a:ext cx="152280" cy="75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33360" y="4038480"/>
              <a:ext cx="152280" cy="151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76520" y="4114440"/>
              <a:ext cx="15228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209320" y="4190760"/>
              <a:ext cx="7596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828800" y="4343040"/>
              <a:ext cx="7560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980720" y="4343040"/>
              <a:ext cx="7596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28800" y="4571640"/>
              <a:ext cx="7560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81080" y="4571640"/>
              <a:ext cx="7596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1828800" y="4724280"/>
              <a:ext cx="75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980720" y="4647960"/>
              <a:ext cx="75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81080" y="3885840"/>
              <a:ext cx="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790960" y="3733920"/>
            <a:ext cx="609480" cy="1066680"/>
            <a:chOff x="5790960" y="3733920"/>
            <a:chExt cx="609480" cy="1066680"/>
          </a:xfrm>
        </p:grpSpPr>
        <p:sp>
          <p:nvSpPr>
            <p:cNvPr id="308" name=""/>
            <p:cNvSpPr/>
            <p:nvPr/>
          </p:nvSpPr>
          <p:spPr>
            <a:xfrm>
              <a:off x="5943600" y="3733920"/>
              <a:ext cx="304200" cy="228240"/>
            </a:xfrm>
            <a:prstGeom prst="ellipse">
              <a:avLst/>
            </a:prstGeom>
            <a:solidFill>
              <a:srgbClr val="e1e1b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43600" y="4038480"/>
              <a:ext cx="304200" cy="380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5790960" y="4114800"/>
              <a:ext cx="152280" cy="75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48160" y="4114800"/>
              <a:ext cx="152280" cy="151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91320" y="4190760"/>
              <a:ext cx="15228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6324120" y="4267080"/>
              <a:ext cx="7596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5943600" y="4419360"/>
              <a:ext cx="7560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6095520" y="4419360"/>
              <a:ext cx="7596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943600" y="4647960"/>
              <a:ext cx="7560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95880" y="4647960"/>
              <a:ext cx="7596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5943600" y="4800600"/>
              <a:ext cx="75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095520" y="4724280"/>
              <a:ext cx="75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5880" y="3962160"/>
              <a:ext cx="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400440" y="3657600"/>
            <a:ext cx="609480" cy="1066680"/>
            <a:chOff x="6400440" y="3657600"/>
            <a:chExt cx="609480" cy="1066680"/>
          </a:xfrm>
        </p:grpSpPr>
        <p:sp>
          <p:nvSpPr>
            <p:cNvPr id="322" name=""/>
            <p:cNvSpPr/>
            <p:nvPr/>
          </p:nvSpPr>
          <p:spPr>
            <a:xfrm>
              <a:off x="6553080" y="3657600"/>
              <a:ext cx="304200" cy="228240"/>
            </a:xfrm>
            <a:prstGeom prst="ellipse">
              <a:avLst/>
            </a:prstGeom>
            <a:solidFill>
              <a:srgbClr val="e1e1b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53080" y="3962160"/>
              <a:ext cx="304200" cy="380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6400440" y="4038480"/>
              <a:ext cx="152280" cy="75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57640" y="4038480"/>
              <a:ext cx="152280" cy="151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00800" y="4114440"/>
              <a:ext cx="15228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933600" y="4190760"/>
              <a:ext cx="7596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6553080" y="4343040"/>
              <a:ext cx="7560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705000" y="4343040"/>
              <a:ext cx="7596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3080" y="4571640"/>
              <a:ext cx="7560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05360" y="4571640"/>
              <a:ext cx="7596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6553080" y="4724280"/>
              <a:ext cx="75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6705000" y="4647960"/>
              <a:ext cx="75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360" y="3885840"/>
              <a:ext cx="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933960" y="3581280"/>
            <a:ext cx="609480" cy="1067040"/>
            <a:chOff x="6933960" y="3581280"/>
            <a:chExt cx="609480" cy="1067040"/>
          </a:xfrm>
        </p:grpSpPr>
        <p:sp>
          <p:nvSpPr>
            <p:cNvPr id="336" name=""/>
            <p:cNvSpPr/>
            <p:nvPr/>
          </p:nvSpPr>
          <p:spPr>
            <a:xfrm>
              <a:off x="7086600" y="3581280"/>
              <a:ext cx="304200" cy="228600"/>
            </a:xfrm>
            <a:prstGeom prst="ellipse">
              <a:avLst/>
            </a:prstGeom>
            <a:solidFill>
              <a:srgbClr val="e1e1b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886200"/>
              <a:ext cx="304200" cy="380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6933960" y="3962520"/>
              <a:ext cx="15228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91160" y="3962520"/>
              <a:ext cx="15228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934320" y="4038480"/>
              <a:ext cx="152280" cy="7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467120" y="4114800"/>
              <a:ext cx="75960" cy="7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086600" y="4267080"/>
              <a:ext cx="7560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7238520" y="4267080"/>
              <a:ext cx="7596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086600" y="4495680"/>
              <a:ext cx="75600" cy="152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38880" y="4495680"/>
              <a:ext cx="75960" cy="7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7086600" y="4648320"/>
              <a:ext cx="75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238520" y="4572000"/>
              <a:ext cx="75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38880" y="3809880"/>
              <a:ext cx="0" cy="7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2209680" y="3657600"/>
            <a:ext cx="609840" cy="1066680"/>
            <a:chOff x="2209680" y="3657600"/>
            <a:chExt cx="609840" cy="1066680"/>
          </a:xfrm>
        </p:grpSpPr>
        <p:sp>
          <p:nvSpPr>
            <p:cNvPr id="350" name=""/>
            <p:cNvSpPr/>
            <p:nvPr/>
          </p:nvSpPr>
          <p:spPr>
            <a:xfrm>
              <a:off x="2362320" y="3657600"/>
              <a:ext cx="304560" cy="228240"/>
            </a:xfrm>
            <a:prstGeom prst="ellipse">
              <a:avLst/>
            </a:prstGeom>
            <a:solidFill>
              <a:srgbClr val="e1e1b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362320" y="3962160"/>
              <a:ext cx="304560" cy="380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209680" y="4038480"/>
              <a:ext cx="152640" cy="75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66880" y="4038480"/>
              <a:ext cx="152640" cy="151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09680" y="4114440"/>
              <a:ext cx="15264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2743200" y="4190760"/>
              <a:ext cx="7632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361960" y="4343040"/>
              <a:ext cx="7596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2514600" y="4343040"/>
              <a:ext cx="7632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62320" y="4571640"/>
              <a:ext cx="7596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14600" y="4571640"/>
              <a:ext cx="7632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2361960" y="4724280"/>
              <a:ext cx="75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514600" y="4647960"/>
              <a:ext cx="763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14600" y="3885840"/>
              <a:ext cx="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133720" y="5334120"/>
            <a:ext cx="761760" cy="609480"/>
          </a:xfrm>
          <a:prstGeom prst="rect">
            <a:avLst/>
          </a:pr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43400" y="5181480"/>
            <a:ext cx="685800" cy="838440"/>
          </a:xfrm>
          <a:prstGeom prst="rect">
            <a:avLst/>
          </a:prstGeom>
          <a:solidFill>
            <a:srgbClr val="99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629400" y="5029200"/>
            <a:ext cx="990720" cy="838080"/>
          </a:xfrm>
          <a:prstGeom prst="cube">
            <a:avLst>
              <a:gd name="adj" fmla="val 25000"/>
            </a:avLst>
          </a:prstGeom>
          <a:solidFill>
            <a:srgbClr val="3333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962160" y="3657600"/>
            <a:ext cx="609480" cy="1066680"/>
            <a:chOff x="3962160" y="3657600"/>
            <a:chExt cx="609480" cy="1066680"/>
          </a:xfrm>
        </p:grpSpPr>
        <p:sp>
          <p:nvSpPr>
            <p:cNvPr id="367" name=""/>
            <p:cNvSpPr/>
            <p:nvPr/>
          </p:nvSpPr>
          <p:spPr>
            <a:xfrm>
              <a:off x="4114800" y="3657600"/>
              <a:ext cx="304200" cy="228240"/>
            </a:xfrm>
            <a:prstGeom prst="ellipse">
              <a:avLst/>
            </a:prstGeom>
            <a:solidFill>
              <a:srgbClr val="e1e1b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14800" y="3962160"/>
              <a:ext cx="304200" cy="380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962160" y="4038480"/>
              <a:ext cx="152280" cy="75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19360" y="4038480"/>
              <a:ext cx="152280" cy="151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62520" y="4114440"/>
              <a:ext cx="15228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495320" y="4190760"/>
              <a:ext cx="7596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4114800" y="4343040"/>
              <a:ext cx="7560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4266720" y="4343040"/>
              <a:ext cx="75960" cy="228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14800" y="4571640"/>
              <a:ext cx="7560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67080" y="4571640"/>
              <a:ext cx="7596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4114800" y="4724280"/>
              <a:ext cx="75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4266720" y="4647960"/>
              <a:ext cx="75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67080" y="3885840"/>
              <a:ext cx="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971800" y="4114800"/>
            <a:ext cx="914400" cy="304920"/>
          </a:xfrm>
          <a:prstGeom prst="leftRightArrow">
            <a:avLst>
              <a:gd name="adj1" fmla="val 50000"/>
              <a:gd name="adj2" fmla="val 59698"/>
            </a:avLst>
          </a:prstGeom>
          <a:solidFill>
            <a:srgbClr val="e1e1b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00600" y="4038480"/>
            <a:ext cx="914400" cy="304920"/>
          </a:xfrm>
          <a:prstGeom prst="leftRightArrow">
            <a:avLst>
              <a:gd name="adj1" fmla="val 50000"/>
              <a:gd name="adj2" fmla="val 59698"/>
            </a:avLst>
          </a:prstGeom>
          <a:solidFill>
            <a:srgbClr val="e1e1b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24240" y="457200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4520" y="2743200"/>
            <a:ext cx="268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dministrador do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34280" y="441972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al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009560" y="441972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senvolv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16800" y="5867280"/>
            <a:ext cx="187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o de proje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2480" y="5943600"/>
            <a:ext cx="19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Espec. requisi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do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399360" y="594360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tót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895480" y="3124080"/>
            <a:ext cx="1371600" cy="457200"/>
          </a:xfrm>
          <a:prstGeom prst="line">
            <a:avLst/>
          </a:prstGeom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05520" y="3276720"/>
            <a:ext cx="914400" cy="380880"/>
          </a:xfrm>
          <a:prstGeom prst="line">
            <a:avLst/>
          </a:prstGeom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43200" y="4495680"/>
            <a:ext cx="152280" cy="533520"/>
          </a:xfrm>
          <a:prstGeom prst="line">
            <a:avLst/>
          </a:prstGeom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352320" y="4800600"/>
            <a:ext cx="685800" cy="304920"/>
          </a:xfrm>
          <a:prstGeom prst="line">
            <a:avLst/>
          </a:prstGeom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91120" y="4800600"/>
            <a:ext cx="152280" cy="304920"/>
          </a:xfrm>
          <a:prstGeom prst="line">
            <a:avLst/>
          </a:prstGeom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333760" y="4800600"/>
            <a:ext cx="990360" cy="533520"/>
          </a:xfrm>
          <a:prstGeom prst="line">
            <a:avLst/>
          </a:prstGeom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77120" y="4724280"/>
            <a:ext cx="152280" cy="457200"/>
          </a:xfrm>
          <a:prstGeom prst="line">
            <a:avLst/>
          </a:prstGeom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895480" y="4495680"/>
            <a:ext cx="1371600" cy="838440"/>
          </a:xfrm>
          <a:prstGeom prst="line">
            <a:avLst/>
          </a:prstGeom>
          <a:ln cap="sq"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rId1" action="ppaction://hlinksldjump"/>
          </p:cNvPr>
          <p:cNvSpPr/>
          <p:nvPr/>
        </p:nvSpPr>
        <p:spPr>
          <a:xfrm>
            <a:off x="8001000" y="6095880"/>
            <a:ext cx="533520" cy="486000"/>
          </a:xfrm>
          <a:prstGeom prst="leftArrow">
            <a:avLst>
              <a:gd name="adj1" fmla="val 50000"/>
              <a:gd name="adj2" fmla="val 27444"/>
            </a:avLst>
          </a:pr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FBD-9B90-40D0-BDED-3991ECD6B4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3652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Atividade 2 </a:t>
            </a:r>
            <a:br>
              <a:rPr sz="4000"/>
            </a:b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4000" spc="-1" strike="noStrike">
                <a:solidFill>
                  <a:srgbClr val="0099cc"/>
                </a:solidFill>
                <a:latin typeface="Times New Roman"/>
              </a:rPr>
              <a:t>Avaliação  do Problema e Síntese da Solução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34880" y="1980720"/>
            <a:ext cx="7802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liar os problemas na situação a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 Foco para o novo sistema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QUE e não COM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qual o fluxo e o conteúdo de infor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quais as funções do sistem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quais dados que o sistema produz e consome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qual o comportamento do sistema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qual as características de interfa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quais são as restrições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73BE-D951-4FA6-A340-A468123F2F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eve o processo de Análise de Requisitos do Software como um processo de refinamento do produto inicial desenvolvido durante a Engenharia de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enharia de Requisitos é um processo de descoberta, refinamento, modelagem e espec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sitos são refinados nesta FAS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s de dados, fluxo de controle e informação, comportamental, Visão OO (Diagrama de Classes, Casos de Uso) são construí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12CF-E63C-40E7-ABD7-A7A92B7DB1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Avaliação  do Problema e Síntese da Soluçã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intetizar uma ou mais soluções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dentro do alcance delineado n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lano de Projeto do Softwar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processo de avaliação e síntese continua até que o analista e o cliente concordem que o software pode ser adequadamente especifi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É a maior área de esforç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EF89-0E6E-4DC1-A6A8-4DC815B108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ividade 3</a:t>
            </a: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Modelag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nte a atividade de avaliação e síntese devem ser criado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delos do siste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para se compreender melhor o fluxo de dados e de controle, o processamento funcional e a operação comportamental, além do conteúdo da inform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modelo serve como fundamento para o projeto de software e como base para a criação de sua especif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rId1" action="ppaction://hlinksldjump"/>
          </p:cNvPr>
          <p:cNvSpPr/>
          <p:nvPr/>
        </p:nvSpPr>
        <p:spPr>
          <a:xfrm>
            <a:off x="8001000" y="6095880"/>
            <a:ext cx="533520" cy="486000"/>
          </a:xfrm>
          <a:prstGeom prst="leftArrow">
            <a:avLst>
              <a:gd name="adj1" fmla="val 50000"/>
              <a:gd name="adj2" fmla="val 27444"/>
            </a:avLst>
          </a:pr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C403-36ED-4520-A487-8C484EEA2E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ividade 4 </a:t>
            </a:r>
            <a:br>
              <a:rPr sz="40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Especificação  de Requisitos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ção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pecific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scrição rigorosa e minuciosa das características que um material, uma obra ou um serviço deverão apres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ção do fluxo e estrutura da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amento detalhado de todas as funções do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elecimento das características d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ção das restrições de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ficação dos critérios de valid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>
            <a:hlinkClick r:id="rId1" action="ppaction://hlinksldjump"/>
          </p:cNvPr>
          <p:cNvSpPr/>
          <p:nvPr/>
        </p:nvSpPr>
        <p:spPr>
          <a:xfrm>
            <a:off x="8001000" y="6095880"/>
            <a:ext cx="533520" cy="486000"/>
          </a:xfrm>
          <a:prstGeom prst="leftArrow">
            <a:avLst>
              <a:gd name="adj1" fmla="val 50000"/>
              <a:gd name="adj2" fmla="val 27444"/>
            </a:avLst>
          </a:pr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9042-A81D-4BC6-AC94-8FD021EB26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Atividade 5</a:t>
            </a:r>
            <a:br>
              <a:rPr sz="4000"/>
            </a:b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4000" spc="-1" strike="noStrike">
                <a:solidFill>
                  <a:srgbClr val="0099cc"/>
                </a:solidFill>
                <a:latin typeface="Times New Roman"/>
              </a:rPr>
              <a:t>Revisões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m ser efetuadas revisões técnicas e revisões no Plano de Projeto d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revisões são conduzidas pelo Cliente e pelo Desenvolv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base para a revisão são os documentos produzidos na Especificação dos Requis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 Plano de Projeto do Software deve ser revisto          devido ao conhecimento adquirido durante                      a anál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8001000" y="6095880"/>
            <a:ext cx="533520" cy="486000"/>
          </a:xfrm>
          <a:prstGeom prst="leftArrow">
            <a:avLst>
              <a:gd name="adj1" fmla="val 50000"/>
              <a:gd name="adj2" fmla="val 27444"/>
            </a:avLst>
          </a:pr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DDF5-BF32-46CE-AD82-337A307FE9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EXAMINA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553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2514600" y="3733920"/>
            <a:ext cx="5267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Analista de Sistemas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3" name=""/>
          <p:cNvSpPr/>
          <p:nvPr/>
        </p:nvSpPr>
        <p:spPr>
          <a:xfrm>
            <a:off x="4892400" y="5484960"/>
            <a:ext cx="425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enheiro de Sist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tista de sistemas-che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ador/Anal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10A-8DAD-4FB4-823D-8EBB58A827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90a8"/>
                </a:solidFill>
                <a:latin typeface="Times New Roman"/>
              </a:rPr>
              <a:t>Características do Analista de Sistema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apacidade para compreender conceitos abstratos, reorganizar esses conceitos em divisões lógicas e sintetizar "soluções" baseado em cada divis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Capacidade de absorver fatos pertinentes a partir de fontes conflitantes ou confu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 Capacidade de se comunicar bem de forma escrita e verb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 Capacidade de "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r a floresta ao invés das árvo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800" spc="-1" strike="noStrike">
                <a:solidFill>
                  <a:srgbClr val="ff9900"/>
                </a:solidFill>
                <a:latin typeface="Wingdings"/>
                <a:ea typeface="Wingdings"/>
              </a:rPr>
              <a:t>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ão se perder nos detal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F925-A637-4121-BEAB-76026DC891B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90a8"/>
                </a:solidFill>
                <a:latin typeface="Times New Roman"/>
              </a:rPr>
              <a:t>Papel do Analista de Sis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 Coordenar cada uma das atividades da Análise de Requisitos d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municação com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nvoca pessoal de desenvolvimento durante avaliação e sínt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 Responsável pelo desenvolvimento do documento de Especificação de Requisitos do Software e participa de todas as revis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8008-895E-4D3D-9C3B-2F1A9A5E07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90a8"/>
                </a:solidFill>
                <a:latin typeface="Times New Roman"/>
              </a:rPr>
              <a:t>Áreas Proble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pt-BR" sz="32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Aquisição da Inform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pt-BR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Tamanho do Siste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complexidade dos proble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pt-BR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Alter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mudanças que ocorrem durante e após a análi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95880" y="5057640"/>
            <a:ext cx="236232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030C-FB71-4CA9-BBF0-B3A8E4D49DF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Áreas Proble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90a8"/>
                </a:solidFill>
                <a:latin typeface="Arial"/>
              </a:rPr>
              <a:t>1. Aquisição da infor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informação deve ser coletada e como ela deve ser representa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m fornece as informaçõ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técnicas e ferramentas estão disponíveis para facilitar a coleta de informaçõ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00800" y="5057640"/>
            <a:ext cx="236232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F8CD-9CA9-4507-B3E4-E9B845B5435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img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E33E-DB0F-4354-B964-ED9A4F3F315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genheiro de Software e Clientes (ATORES) têm papel fundamental nesta 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iente: reformular e refinar as descrições nebulosas em detalhes concr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envolvedor: atua como interrogador, consultor, resolvedor de problema e negoci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unicação é ALTA&gt;&gt;&gt;&gt;&gt;&gt;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EE48-4256-4586-91CB-0DD7211EFB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Áreas Proble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490a8"/>
                </a:solidFill>
                <a:latin typeface="Arial"/>
              </a:rPr>
              <a:t>2. Tamanho do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o eliminar inconsistências na especificação de grandes siste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 possível detectar omissõ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e um grande sistema ser efetivamente particionado para que se torne intelectualmente administráv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00800" y="5057640"/>
            <a:ext cx="236232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63A-AD75-4E80-8B34-F4812AE4642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Áreas Proble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5490a8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5490a8"/>
                </a:solidFill>
                <a:latin typeface="Arial"/>
              </a:rPr>
              <a:t>3. Alter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as alterações efetuadas em outros elementos do software são coordenadas com os requisitos do softw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se determina o impacto de uma alteração em outras partes do software aparentemente não relacionad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se corrige erros na especificação para que não se gere efeitos colateri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00800" y="5057640"/>
            <a:ext cx="236232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43DF-ABE1-445E-A0B2-94B1A047A80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99cc"/>
                </a:solidFill>
                <a:latin typeface="Times New Roman"/>
              </a:rPr>
              <a:t>Causas dos Problemas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unicação inefi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cnicas e ferramentas inadequad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specificação inadequada e impreci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ências de se eliminar a tarefa de Especificação dos Requis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has ao considerar alternativas antes que o software seja especifi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6324480" y="5057640"/>
            <a:ext cx="236232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B6BD-CA25-4DD6-AA9A-D1EDA3805FE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bordagem de Engenharia de Softwa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licação de técnicas de comunicação sól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ípios de análise fundamen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s de análise sistemáticos reduzirão o impacto dos probl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0227-BDA7-4E24-AEDD-60B743563E3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img0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8A6-969A-440D-BA96-A1FC4A8573D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2550960" cy="54864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6629400" y="0"/>
            <a:ext cx="1933560" cy="58672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352680" y="3124080"/>
            <a:ext cx="297180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748520" y="6035760"/>
            <a:ext cx="419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a cuja solução é base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 compu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656160" y="838080"/>
            <a:ext cx="383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 ao pedido de aju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50A2-AC88-4841-AA60-3DF6064974E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36800" y="-360"/>
            <a:ext cx="810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rincípios Fundamentais de Análise..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ários métodos de modelagem de Análise foram desenvolv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método tem suas vantagens e pontos de vista, porém, cinco princípios são com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domínio de informação do problema deve ser representado e compreend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funções que o software deve realizar devem ser defin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mportamento do software (conseqüência de eventos externos) deve ser represen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modelos (informação, função e comportamento) devem ser particionados em uma hierarqu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cesso de análise deveria iniciar a partir de informações básicas para detalhes de implem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6B5-0A6C-4486-A7F8-1AE3EA17059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Princípios Fundamentais de Análi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mínio de informaçã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proble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do e compreendid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(para que a função possa ser entendida +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letament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del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descrevam a informação, a função e o comportamento do siste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nvolvid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para que a informação possa ser comunicad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actament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30DC-264E-4407-93A4-2AE4832A0CC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Princípios de Análi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s (e o problema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rticionad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maneira que revele os detalhes em forma de camadas (ou hierarquicamente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para reduzir a complexid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 de anál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r-se da informação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ssencial para os detalh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implementaçã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(para acomodar as restrições lógicas impostas por requisitos de processamento e as restrições físicas impostas por outros elementos do sistema)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Concepções lógicas e físic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F762-9072-4B61-9480-B34B227A3C1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rincípio: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omínio da Inform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600200" y="2361960"/>
            <a:ext cx="7238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do software é construído para processar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ad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ven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ados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ftware embutido de tempo real para controlar o fluxo de combustível no motor de automó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ventos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sensor de pressão detecta que a pressão ultrapassa determinado valor de segurança e envia um sinal de alarme para o software de monito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FDB-C02E-4183-9403-F5A20B04B6B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 ciclo de vida cláss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37160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enh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190512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ál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2286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19720" y="266688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fec6d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if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3200400"/>
            <a:ext cx="1371600" cy="76212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10280" y="373392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uten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1523880"/>
            <a:ext cx="762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152388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1981080"/>
            <a:ext cx="762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198108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2362320"/>
            <a:ext cx="7617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236232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2819520"/>
            <a:ext cx="7617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281952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3352680"/>
            <a:ext cx="762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99560" y="4648320"/>
            <a:ext cx="0" cy="1144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914040" y="5791320"/>
            <a:ext cx="708660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914400" y="2209320"/>
            <a:ext cx="0" cy="358164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514600" y="2514600"/>
            <a:ext cx="0" cy="327672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809880" y="2971800"/>
            <a:ext cx="0" cy="274320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257800" y="3352680"/>
            <a:ext cx="0" cy="236232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477120" y="3962520"/>
            <a:ext cx="0" cy="175248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0939-9C4E-4492-8111-B666942826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878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rincípio: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omínio da Inform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dados e itens de controle residem no </a:t>
            </a:r>
            <a:r>
              <a:rPr b="1" i="1" lang="pt-BR" sz="2400" spc="-1" strike="noStrike">
                <a:solidFill>
                  <a:srgbClr val="990000"/>
                </a:solidFill>
                <a:latin typeface="Arial"/>
              </a:rPr>
              <a:t>domínio</a:t>
            </a:r>
            <a:r>
              <a:rPr b="0" i="1" lang="pt-BR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990000"/>
                </a:solidFill>
                <a:latin typeface="Arial"/>
              </a:rPr>
              <a:t>de inform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um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cerra 3 diferentes pontos de vi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2666880" y="3733920"/>
            <a:ext cx="1057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2f005e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luxo 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2f005e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200400" y="4572000"/>
            <a:ext cx="1905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2f005e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nteúdo 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2f005e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962520" y="5572080"/>
            <a:ext cx="4591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2f005e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strutura da informação 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2f005e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C9BA-A2E3-41D2-A754-92F06A999F5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990720" y="11430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66ff"/>
                </a:solidFill>
                <a:latin typeface="Arial"/>
              </a:rPr>
              <a:t>Fluxo da Informação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eira pela qual os dados e o controle se modificam à medida que cada um se movimenta pel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66ff"/>
                </a:solidFill>
                <a:latin typeface="Arial"/>
              </a:rPr>
              <a:t>Conteúdo da Informação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dados e os itens de controle individuais que compreendem certo item de informação mais amp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o conteúdo do item de dados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heque de pagamen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definido pelos itens que são necessários para criá-lo: nome do recebedor, quantidade líquida a ser paga, pagamento brut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66ff"/>
                </a:solidFill>
                <a:latin typeface="Arial"/>
              </a:rPr>
              <a:t>Estrutura da Informação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 organização interna de vários itens de controle e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38080" y="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princípio: </a:t>
            </a:r>
            <a:r>
              <a:rPr b="1" lang="en-US" sz="3800" spc="-1" strike="noStrike">
                <a:solidFill>
                  <a:srgbClr val="003366"/>
                </a:solidFill>
                <a:latin typeface="Times New Roman"/>
              </a:rPr>
              <a:t>Domínio da Informaçã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E95A-1F38-4614-9302-319396C3409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img0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9190-4849-4E83-BD0F-F6DB1108B4E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2. princípio:</a:t>
            </a: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Modelagem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10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s: melhor compreensão da entidade real a ser constru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idade é física (prédio): modelo idêntico, mas em escala me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idade é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modelo deve ser capaz de modelar a informação que o software trans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funções (ou subfunções) que possibilitam que as transformações ocor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mportamento do sistema quando a transformação está se desenvolve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442A-C45A-4985-A5E1-48194C6456D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2. princípio:</a:t>
            </a: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Modelagem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36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s modelos concentram-se naquilo que o sistema deve fazer, não em como ele fa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s fazem uso de notação gráfica e tex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métodos de análise discutidos nos capítulos seguintes são métodos de model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ividade de Modelagem é fundamental ao bom trabalho da anál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8E61-4212-439D-994F-3E03DEB9F5C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princípio: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delag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éis importantes do Mode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ajuda o analista a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ntender a informação, a função e o comportamen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um sistema, tornando a tarefa + fácil e sistemá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torna-se o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onto focal para a revis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, portanto, a chave para a determinação da completitude, consistência e precisão da especific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torna-se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 base para o proje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ornecendo ao projetista uma representação essencial do software, a qual pode ser "mapeada" num contexto de implement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11D-25B5-478C-8C11-EE72268748C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img0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AB6D-6921-488B-8F4D-6FDF4F8FAD2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3. princípio:</a:t>
            </a: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Particionamento </a:t>
            </a:r>
            <a:r>
              <a:rPr b="1" lang="pt-BR" sz="4000" spc="-1" strike="noStrike">
                <a:solidFill>
                  <a:srgbClr val="003366"/>
                </a:solidFill>
                <a:latin typeface="Times New Roman"/>
              </a:rPr>
              <a:t>(decomposição)</a:t>
            </a: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roblemas freqüentemente são grandes demais e muito complexos para serem compreendidos como um to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articionamento divide o problema em partes mais facilmente enten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ravés das interfaces estabelecidas entre as partes a função global do software pode ser execut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0F5E-28A6-40B9-8641-7AB4A58226E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112400" y="1371240"/>
            <a:ext cx="80312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ticionamento Horizontal: decomposição funcional do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ticionamento Vertical: expõe detalhes cres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209680" y="3846600"/>
            <a:ext cx="6172200" cy="2249280"/>
            <a:chOff x="2209680" y="3846600"/>
            <a:chExt cx="6172200" cy="2249280"/>
          </a:xfrm>
        </p:grpSpPr>
        <p:sp>
          <p:nvSpPr>
            <p:cNvPr id="469" name=""/>
            <p:cNvSpPr/>
            <p:nvPr/>
          </p:nvSpPr>
          <p:spPr>
            <a:xfrm>
              <a:off x="4038480" y="4343400"/>
              <a:ext cx="685800" cy="38088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57600" y="4952880"/>
              <a:ext cx="685800" cy="38124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943600" y="4952880"/>
              <a:ext cx="685800" cy="38124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648320" y="4952880"/>
              <a:ext cx="685800" cy="38124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257800" y="5715000"/>
              <a:ext cx="685800" cy="38088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200400" y="5638680"/>
              <a:ext cx="685800" cy="38124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09680" y="5638680"/>
              <a:ext cx="685800" cy="38124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66880" y="4952880"/>
              <a:ext cx="685800" cy="38124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96080" y="5715000"/>
              <a:ext cx="685800" cy="38088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95880" y="5715000"/>
              <a:ext cx="685800" cy="38088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58000" y="5715000"/>
              <a:ext cx="685800" cy="380880"/>
            </a:xfrm>
            <a:prstGeom prst="rect">
              <a:avLst/>
            </a:prstGeom>
            <a:solidFill>
              <a:srgbClr val="00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3048120" y="4724280"/>
              <a:ext cx="121896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2514600" y="5334120"/>
              <a:ext cx="457200" cy="304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71800" y="5334120"/>
              <a:ext cx="533520" cy="304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3962520" y="4724280"/>
              <a:ext cx="38088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19720" y="4724280"/>
              <a:ext cx="68580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19720" y="4724280"/>
              <a:ext cx="182880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5562720" y="5334120"/>
              <a:ext cx="76176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4480" y="5334120"/>
              <a:ext cx="7632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24480" y="5334120"/>
              <a:ext cx="83844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24480" y="5334120"/>
              <a:ext cx="175284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48520" y="4191120"/>
              <a:ext cx="1447560" cy="228600"/>
            </a:xfrm>
            <a:custGeom>
              <a:avLst/>
              <a:gdLst>
                <a:gd name="textAreaLeft" fmla="*/ 226080 w 1447560"/>
                <a:gd name="textAreaRight" fmla="*/ 1266840 w 14475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e1e1b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5418000">
              <a:off x="7428960" y="4838400"/>
              <a:ext cx="1295280" cy="304920"/>
            </a:xfrm>
            <a:custGeom>
              <a:avLst/>
              <a:gdLst>
                <a:gd name="textAreaLeft" fmla="*/ 202320 w 1295280"/>
                <a:gd name="textAreaRight" fmla="*/ 1133640 w 12952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e1e1b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166000" y="3846600"/>
              <a:ext cx="31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3366"/>
                  </a:solidFill>
                  <a:latin typeface="Arial"/>
                </a:rPr>
                <a:t>Particionamento horizon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princípio: </a:t>
            </a: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Particionamen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F36-FC78-45A2-9D56-CC0794D3436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img012" descr=""/>
          <p:cNvPicPr/>
          <p:nvPr/>
        </p:nvPicPr>
        <p:blipFill>
          <a:blip r:embed="rId1"/>
          <a:stretch/>
        </p:blipFill>
        <p:spPr>
          <a:xfrm>
            <a:off x="380880" y="343080"/>
            <a:ext cx="8305920" cy="62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3856-0D39-4D5F-ABBD-37BBE904A6C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65120" y="3733920"/>
            <a:ext cx="7772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0792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80550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a compreensão completa do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quisitos do Softw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é fundamental para obter um software e um processo de desenvolvimento com alta 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80550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80550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importa quão bem projetado ou codificado está um programa, se ele for mal analisado e especificado desapontará o usuário e trará aborrecimentos ao desenvolve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A8AA-F1C4-4A23-8138-E88A0668DF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princípio:</a:t>
            </a: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Visões essenciais e de implementaçã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visão essenci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os requisitos do software apresenta as funções a serem realizadas sem tratar dos detalhes de implement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o se concentrar atenção na essência do problema nas primeiras etapas da análise de requisitos, deixa-se as opções abertas para especificar detalhes de implementação durante as últimas etapas de especificação dos requisitos e projeto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0D40-056D-400A-BCC4-7C93DACBE1C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320" y="14479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epção de implementaç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s requisitos de software apresenta a manifestação das funções de processamento e estruturas de informação no mundo re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ão deve ser interpretada como uma representação do como. Um modelo de implementação representa o modo de operação corrente, ou seja a atribuição existente ou proposta para todos os elementos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princípio:</a:t>
            </a: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Concepções essenciais e de implem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7785-21DD-4B23-AF0A-774E7A77295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img0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8D5-E07D-42E0-9203-10C06C21FF2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img014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E64-B47C-4B6D-865D-645D1BE953C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specificação de Requisitos de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nvolvida como uma conseqüência da fase de análise de 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como um padrão para testar se as fases de projeto e implementação do processo de desenvolvimento de software estão corr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2C2-858E-4986-B6F1-8C66AF27201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990000"/>
                </a:solidFill>
                <a:latin typeface="Times New Roman"/>
              </a:rPr>
              <a:t>Princípios de uma boa especificação</a:t>
            </a:r>
            <a:r>
              <a:rPr b="0" lang="pt-BR" sz="4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(Balzer e Goldman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S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uncionalidade de implem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É necessária uma linguagem de especificação de sistemas orientada ao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especificação deve abranger o sistema do qual o software é um compo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ma especificação deve abranger o ambiente no qual o sistema o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ma especificação de sistema deve ser um modelo cogn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ma especificação deve ser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especificação do sistema deve ser tolerante com a não completitude e ser expans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ma especificação deve ser localizada e fracamente acopl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E1A-997A-4E5E-8A01-1208562EF51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1676520" y="198108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Especificação pode ser acompanhada de um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PROTÓTIP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executável (ou em papel)  e/ou um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MANUAL PRELIMINAR DE USU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1C4E-3792-446C-86B9-BDFEF3DE161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Revisão da Especificação</a:t>
            </a:r>
            <a:br>
              <a:rPr sz="4400"/>
            </a:b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ível macroscópico)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58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s revisores tentam garantir que a especificação seja completa, consistente e precisa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õ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s e objetivos do software permanecem consistentes com metas e objetivos do sistem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am descritas as interfaces importantes para todos os elementos do sistem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fluxo e a estrutura de informação são adequadamente definidas para o domínio da informaç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 diagramas são clar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652D-F374-4948-A467-79763BD36CD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funções importantes permanecem dentro do escopo e cada uma foi adequadamente descri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comportamento do software é consistente com a informação que ele deve processar e as funções que deve execut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restrições de projeto são realísticas? Qual é o risco tecnológico desenvolvimento? Requisitos de software alternativos foram considerad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érios de Validação foram declarados detalhadamente? Eles são adequados para descrever um sistema bem sucedi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m inconsistências, omissões ou redundânci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usuário revisou o Manual Preliminar ou o protótip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o as estimativas do Plano de projeto de Software foram afetad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Revisão da Especificação</a:t>
            </a:r>
            <a:br>
              <a:rPr sz="4400"/>
            </a:b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ível macroscópico)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42C1-A4DC-41C7-8F0A-6D1C22B846F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visão da Especificação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íve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alha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preocupação é com o enunciado da especificação. Tenta-se descobrir problemas que possam estar ocultos no conteúdo da especif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retriz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steja alerta para perceber conectivos persuasivos (certamente, claramente, obviamente ) e perguntar por que eles estão pres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cure termos vagos e peça esclarecimento (algum, às vezes, usualmente, freqüentem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ando forem fornecidas listas que não sejam completas, certifique-se de que todos os itens sejam entendidos (evite colocar etc, tal como, assim por dia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8CB1-F519-4E23-840E-1CFC2BD1C08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Fase de Análise de Requisi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676520" y="1905120"/>
            <a:ext cx="6019560" cy="3581280"/>
            <a:chOff x="1676520" y="1905120"/>
            <a:chExt cx="6019560" cy="3581280"/>
          </a:xfrm>
        </p:grpSpPr>
        <p:sp>
          <p:nvSpPr>
            <p:cNvPr id="163" name=""/>
            <p:cNvSpPr/>
            <p:nvPr/>
          </p:nvSpPr>
          <p:spPr>
            <a:xfrm>
              <a:off x="1676520" y="1905120"/>
              <a:ext cx="6019560" cy="358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317120" y="2555640"/>
              <a:ext cx="2725920" cy="1719000"/>
              <a:chOff x="4317120" y="2555640"/>
              <a:chExt cx="2725920" cy="1719000"/>
            </a:xfrm>
          </p:grpSpPr>
          <p:sp>
            <p:nvSpPr>
              <p:cNvPr id="165" name=""/>
              <p:cNvSpPr/>
              <p:nvPr/>
            </p:nvSpPr>
            <p:spPr>
              <a:xfrm>
                <a:off x="4430520" y="2555640"/>
                <a:ext cx="2498760" cy="171900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317120" y="2841840"/>
                <a:ext cx="2725920" cy="128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Comic Sans MS"/>
                  </a:rPr>
                  <a:t>ANÁLISE 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Comic Sans MS"/>
                  </a:rPr>
                  <a:t>REQUISIT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1789920" y="2048040"/>
              <a:ext cx="2853360" cy="186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44160" y="2191320"/>
              <a:ext cx="2358720" cy="18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Comic Sans MS"/>
                </a:rPr>
                <a:t>Engenharia de Sistemas de Comput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65400" y="3910680"/>
              <a:ext cx="1930680" cy="1432440"/>
              <a:chOff x="5765400" y="3910680"/>
              <a:chExt cx="1930680" cy="1432440"/>
            </a:xfrm>
          </p:grpSpPr>
          <p:sp>
            <p:nvSpPr>
              <p:cNvPr id="170" name=""/>
              <p:cNvSpPr/>
              <p:nvPr/>
            </p:nvSpPr>
            <p:spPr>
              <a:xfrm>
                <a:off x="5765400" y="3910680"/>
                <a:ext cx="1817280" cy="1432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878800" y="4053600"/>
                <a:ext cx="1817280" cy="11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80"/>
                    </a:solidFill>
                    <a:latin typeface="Comic Sans MS"/>
                  </a:rPr>
                  <a:t>Projeto de Softwa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838440" y="563868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opo do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77160" y="6035760"/>
            <a:ext cx="306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eiro passo téc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sta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4520" y="19051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2057400"/>
            <a:ext cx="761760" cy="152280"/>
          </a:xfrm>
          <a:prstGeom prst="rect">
            <a:avLst/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2057400"/>
            <a:ext cx="762120" cy="152280"/>
          </a:xfrm>
          <a:prstGeom prst="rect">
            <a:avLst/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2438280"/>
            <a:ext cx="761760" cy="152640"/>
          </a:xfrm>
          <a:prstGeom prst="rect">
            <a:avLst/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1447920"/>
            <a:ext cx="762120" cy="152280"/>
          </a:xfrm>
          <a:prstGeom prst="rect">
            <a:avLst/>
          </a:prstGeom>
          <a:solidFill>
            <a:srgbClr val="00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218960" y="3429000"/>
            <a:ext cx="1143000" cy="2133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43A-F7F3-4316-A240-735F8F6818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visão da Especificação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íve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alha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steja certo de que os limites declarados não contenham pressuposições não declaradas (“os códigos válidos variam de 0 a 100” - números inteiros, reais??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Cuidado com verbos vagos. Há muitas maneiras de interpretá-los. (manuseado, rejeitado, pulado, process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Cuidado com pronomes "pendentes” (o módulo I/O comunica-se com o módulo de validação de dados e seu sinal de controle está ligado. Sinal de controle de qual?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rocure declarações que impliquem certeza (sempre, cada, todos, nunca) e depois peça pr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56A2-D0AD-483E-9662-6B4CD4B72DE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visão da Especificação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íve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alha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ando um termo for explicitamente definido num lugar, evite utilizar outras definições para o mesmo termo (normalização dos termos: documento - arqu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ando uma estrutura for descrita em palavras, verifique se há um gráfico ou uma figura para auxiliar a compreen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ando um cálculo for especificado, desenvolva pelo menos dois exemp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380D-3CE8-403D-A444-DB6AC51F499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490a8"/>
                </a:solidFill>
                <a:latin typeface="Times New Roman"/>
              </a:rPr>
              <a:t>Ferramentas de Especificação Automatizad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categoria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écnicas automatizadas que nada mais são do que um método manual que foi complementado com uma ferramenta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ssibilitam que o analista atualize informações e rastreie as conexões entre representações novas e existentes do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EC Desig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gital Equipment Corp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),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esign Ai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form Logic Corp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),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Excelerato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solv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IEF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DW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Knowledgewar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TP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ative Development Environment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Teamwork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re Technologi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BEF4-0B98-44B1-A2DE-97B052735DB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970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tegori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cnicas automatizadas que fazem uso de uma notação especial (na maioria dos casos, essa é uma linguagem de especificação de requisitos) que foi explicitamente projetada para processamento usando-se uma ferramenta automatiz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R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inguagem de especificação: RSL)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SL/P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inguagem  de especificação: PSL)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inguagem  de especificação: IOR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06668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490a8"/>
                </a:solidFill>
                <a:latin typeface="Times New Roman"/>
              </a:rPr>
              <a:t>Ferramentas de Especificação Automatiza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F66-4B8A-482C-A9D8-7B38DB1B2EF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7324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cc"/>
                </a:solidFill>
                <a:latin typeface="Times New Roman"/>
              </a:rPr>
              <a:t>Análise de Requisitos</a:t>
            </a: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990000"/>
                </a:solidFill>
                <a:latin typeface="Arial"/>
              </a:rPr>
              <a:t>Conclusã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ogo que a Revisão for concluída, a Especificação de Requisitos de Software é "</a:t>
            </a:r>
            <a:r>
              <a:rPr b="1" i="1" lang="pt-BR" sz="2400" spc="-1" strike="noStrike">
                <a:solidFill>
                  <a:srgbClr val="990000"/>
                </a:solidFill>
                <a:latin typeface="Arial"/>
              </a:rPr>
              <a:t>assinada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" pelo cliente e pelo desenvolve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 especificação torna-se um "</a:t>
            </a:r>
            <a:r>
              <a:rPr b="1" i="1" lang="pt-BR" sz="2400" spc="-1" strike="noStrike">
                <a:solidFill>
                  <a:srgbClr val="990000"/>
                </a:solidFill>
                <a:latin typeface="Arial"/>
              </a:rPr>
              <a:t>contrato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" de desenvolvimento de softwa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udanças solicitadas depois que a Espec.  for concluída serão consideradas,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orém cada mudança posterior pode aumentar o custo e/ou alongar o prazo de ent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esmo com os melhores procedimentos de revisão em andamento, uma série de problemas de especificação ainda pers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7491240" y="228600"/>
            <a:ext cx="1652760" cy="154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20F9-89DB-4C4A-9552-9F8A50D2653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013B-2754-4F39-AC2B-1420F6BD653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20040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295280" y="2209680"/>
            <a:ext cx="2120760" cy="1376280"/>
            <a:chOff x="1295280" y="2209680"/>
            <a:chExt cx="2120760" cy="1376280"/>
          </a:xfrm>
        </p:grpSpPr>
        <p:sp>
          <p:nvSpPr>
            <p:cNvPr id="182" name=""/>
            <p:cNvSpPr/>
            <p:nvPr/>
          </p:nvSpPr>
          <p:spPr>
            <a:xfrm>
              <a:off x="1295280" y="2209680"/>
              <a:ext cx="2120760" cy="1066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23880" y="2438280"/>
              <a:ext cx="181584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Comic Sans MS"/>
                </a:rPr>
                <a:t>Plano do Proje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181480" y="14479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267080" y="533520"/>
            <a:ext cx="2120760" cy="1376280"/>
            <a:chOff x="4267080" y="533520"/>
            <a:chExt cx="2120760" cy="1376280"/>
          </a:xfrm>
        </p:grpSpPr>
        <p:sp>
          <p:nvSpPr>
            <p:cNvPr id="186" name=""/>
            <p:cNvSpPr/>
            <p:nvPr/>
          </p:nvSpPr>
          <p:spPr>
            <a:xfrm>
              <a:off x="4267080" y="533520"/>
              <a:ext cx="2120760" cy="1066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95680" y="762120"/>
              <a:ext cx="181584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Comic Sans MS"/>
                </a:rPr>
                <a:t>Especificação do Siste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181480" y="38862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962520" y="2514600"/>
            <a:ext cx="2727360" cy="1719360"/>
            <a:chOff x="3962520" y="2514600"/>
            <a:chExt cx="2727360" cy="1719360"/>
          </a:xfrm>
        </p:grpSpPr>
        <p:sp>
          <p:nvSpPr>
            <p:cNvPr id="190" name=""/>
            <p:cNvSpPr/>
            <p:nvPr/>
          </p:nvSpPr>
          <p:spPr>
            <a:xfrm>
              <a:off x="4075920" y="2514600"/>
              <a:ext cx="2500200" cy="17193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62520" y="2801160"/>
              <a:ext cx="2727360" cy="12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mic Sans MS"/>
                </a:rPr>
                <a:t>ANÁLISE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mic Sans MS"/>
                </a:rPr>
                <a:t>REQUISI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495680" y="4724280"/>
            <a:ext cx="2120760" cy="1376280"/>
            <a:chOff x="4495680" y="4724280"/>
            <a:chExt cx="2120760" cy="1376280"/>
          </a:xfrm>
        </p:grpSpPr>
        <p:sp>
          <p:nvSpPr>
            <p:cNvPr id="193" name=""/>
            <p:cNvSpPr/>
            <p:nvPr/>
          </p:nvSpPr>
          <p:spPr>
            <a:xfrm>
              <a:off x="4495680" y="4724280"/>
              <a:ext cx="2120760" cy="1066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4280" y="4952880"/>
              <a:ext cx="181584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Comic Sans MS"/>
                </a:rPr>
                <a:t>Especificação de Requisi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49FB-479D-41C2-9C3E-E8B770876C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Análise de Requisi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cesso de descoberta e refi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TOR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iente e desenvolv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e: reformula um conceito de função e desempenho (às vezes nebulo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dor: indagador e solucionador de 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BLEM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nde propensão a mal entendido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ividade aparentemente simples torna-se complex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481F-F15E-4EA5-89B1-8A8A522B64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img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E0E-8553-4E1C-8A51-4AEA83312C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7:59:46Z</dcterms:created>
  <dc:creator>Renata Pontin de Mattos Fortes</dc:creator>
  <dc:description/>
  <dc:language>en-US</dc:language>
  <cp:lastModifiedBy>teste</cp:lastModifiedBy>
  <dcterms:modified xsi:type="dcterms:W3CDTF">2002-04-26T01:15:46Z</dcterms:modified>
  <cp:revision>91</cp:revision>
  <dc:subject/>
  <dc:title>Capítulo 6  Princípios Fundamentais da Análise de Requisitos Engenharia de Software - Pressman </dc:title>
</cp:coreProperties>
</file>