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7D6-3B1D-4BE0-986B-43FA592F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718-6C2F-4D2B-B6AA-34B7268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4DE-5532-4109-BC3D-B515CF23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410-4D73-4744-B6DF-581279AD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A726-B55C-435A-8AF0-431C456C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AF8A-B041-48F6-AEB5-C616D83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CDF-E086-4792-A216-59E91CB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43A-9DC9-4E40-BB0D-1D239B2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357A-1F64-4DCC-BFED-2C3D563F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6E6-DE20-49F6-8996-3494CB04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282-0C3C-4B33-9E0B-BE1F1574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40A-F2EE-4A20-BBDA-86CA256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5F73-3593-443E-991E-F699E49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218-8C5E-4F1B-BB9F-33E6CDD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D2F-B805-40F5-9DD6-D8F5AE02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D3E5-04D2-413A-8DC9-A080041D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F5C4-800B-4682-997A-4C3879BF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27C-9012-4A38-8C9E-2BD7BA6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6D0-8344-4D2F-AC50-09843F1A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597-8F49-4A87-BE40-6014A443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264-6FB0-45FA-8C40-0745F95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4FC-2F4D-4E9A-8194-31E9415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A92-D02E-4023-9C39-B814FF9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5C8-0BD4-473E-A3E3-93E250F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41C4-BE88-4D66-9806-0EE15142892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85A-047C-4D37-BBAB-B844E91BB35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saf.fazenda.gov.br/cst/arquivos/Qualidade_de_Soft.pdf" TargetMode="External"/><Relationship Id="rId2" Type="http://schemas.openxmlformats.org/officeDocument/2006/relationships/hyperlink" Target="http://www.esaf.fazenda.gov.br/cst/arquivos/Qualidade_de_Soft.pdf" TargetMode="External"/><Relationship Id="rId3" Type="http://schemas.openxmlformats.org/officeDocument/2006/relationships/hyperlink" Target="http://www.esaf.fazenda.gov.br/cst/arquivos/Qualidade_de_Soft.pdf" TargetMode="External"/><Relationship Id="rId4" Type="http://schemas.openxmlformats.org/officeDocument/2006/relationships/hyperlink" Target="http://www.abnt.org.br/" TargetMode="External"/><Relationship Id="rId5" Type="http://schemas.openxmlformats.org/officeDocument/2006/relationships/hyperlink" Target="http://www.abnt.org.br/" TargetMode="External"/><Relationship Id="rId6" Type="http://schemas.openxmlformats.org/officeDocument/2006/relationships/hyperlink" Target="http://www.abnt.org.br/" TargetMode="External"/><Relationship Id="rId7" Type="http://schemas.openxmlformats.org/officeDocument/2006/relationships/hyperlink" Target="http://www.iso.org/" TargetMode="External"/><Relationship Id="rId8" Type="http://schemas.openxmlformats.org/officeDocument/2006/relationships/hyperlink" Target="http://www.iso.org/" TargetMode="External"/><Relationship Id="rId9" Type="http://schemas.openxmlformats.org/officeDocument/2006/relationships/hyperlink" Target="http://www.iso.org/" TargetMode="External"/><Relationship Id="rId10" Type="http://schemas.openxmlformats.org/officeDocument/2006/relationships/hyperlink" Target="http://www.inf.ufsc.br/~cybis/ine5322/Qualidade_de_Software.doc" TargetMode="External"/><Relationship Id="rId11" Type="http://schemas.openxmlformats.org/officeDocument/2006/relationships/hyperlink" Target="http://www.inf.ufsc.br/~cybis/ine5322/Qualidade_de_Software.doc" TargetMode="External"/><Relationship Id="rId12" Type="http://schemas.openxmlformats.org/officeDocument/2006/relationships/hyperlink" Target="http://www.fenasoft.com.br/congressista/artigos/qualidadesoftware_rlanzuolo.doc" TargetMode="External"/><Relationship Id="rId13" Type="http://schemas.openxmlformats.org/officeDocument/2006/relationships/hyperlink" Target="http://www.fenasoft.com.br/congressista/artigos/qualidadesoftware_rlanzuolo.doc" TargetMode="Externa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Qualidade de Software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Normas ISO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dréa Tieme Nakas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niel Yugo Naka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anielli Bastiani Rodrigu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397160"/>
          <a:ext cx="8686800" cy="5133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3886200"/>
                <a:gridCol w="6858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os Fundament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75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os de Apo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75"/>
                        </a:gs>
                      </a:gsLst>
                      <a:lin ang="10800000"/>
                    </a:gradFill>
                  </a:tcPr>
                </a:tc>
                <a:tc rowSpan="12"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pt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quisi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nec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 de Configur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envolv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er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rantia da Qualida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ific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id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nuten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visão Conjun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dito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olução de Proble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ssos Organizacion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75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ê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a-Estru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hor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inamen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os Fundam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quisi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iciação, preparação de pedido de proposta, preparação e atualização do contrato, monitoramento do fornecedor e aceit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ornecime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iciação, preparação da resposta, contrato, planejamento, execução e controle, revisão e avaliação, entre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senvolvime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mplementação de um processo, análise de requisitos do sistema, projeto arquitetural do sistema, análise dos requisitos do software, projeto arquitetural do software, projeto detalhado do software, codificação e teste, integração, teste de qualificação, instalação e apoio à aceitação do softw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per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Implementação do projeto, teste operacional, operação do sistema e suporte ao usu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nuten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ausas e categorias, implementação do processo, análise do problema e da modificação, implementação da modificação, revisão/aceitação, migração e descontinuação do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os de Apo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a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mplementação do processo, projeto e desenvolvimento, produção e manuten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erência de Configura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mplementação do processo, identificação da configuração, controle da configuração, relato da situação, avaliação da configuração, gerência da liberação e entreg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rantia de Qualida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mplementação do processo, garantia do produto, garantia do processo, sistema de garantia da qualidad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s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rif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id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visão Conjun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uditor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olução de Probl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s Organizaciona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erênc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erência, modelo de gerência, práticas gerência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fra-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lhor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rein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 de Adap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051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PIC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ftware Process Improvement and Capability dEtermination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o nome do projeto de elaboração da futura norma ISO/IEC 15504 para avaliação de processos de software que tem dois objetivos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elhorias de process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eterminação da capacidade de processos de uma organiz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lidade de Produ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4616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e ser entendida como um somatório de su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dade exter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que deve estar explicitamente definida na especificação de requisitos do projeto, e su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dade inter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que são atributos geralmente acrescentados pe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aspectos técnicos para avaliação da qualidade do produto de software são abordados em três n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O/IEC 912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racterísticas de qualidade de softw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O/IEC 1459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Guias para avaliação de produtos de softw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O/IEC 121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Requisitos de qualidade e testes de pacotes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912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8108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padrão ISO/IEC 9126 propõe características que um software deve possuir, diretrizes para o seu uso, bem como, subcaracterísticas, para incentivar o uso na prática desta padronização de qualidade de produto de software. As características para este trabalho, representam os aspectos a serem analisados no produto e suas subcaracterísticas, os itens de avaliação do asp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912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1523880"/>
          <a:ext cx="8458200" cy="4932360"/>
        </p:xfrm>
        <a:graphic>
          <a:graphicData uri="http://schemas.openxmlformats.org/drawingml/2006/table">
            <a:tbl>
              <a:tblPr/>
              <a:tblGrid>
                <a:gridCol w="2819520"/>
                <a:gridCol w="2590920"/>
                <a:gridCol w="30477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característic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nific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onalida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 conjunto de funções satisfazem as necessidades explícitas e implícitas para a finalidade a que se destina o produt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quaçã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pôe-se a fazer o que é apropriad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urác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a resultados corretos ou conforme acordado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oper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capaz de interagir com os sistemas especificado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urança de Acess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ita acesso não autorizado, acidental ou deliberado a programas e dado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form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á de acordo com normas e convenções previstas em leis e descrições similare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912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397160"/>
          <a:ext cx="8534520" cy="478440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fiabilida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 desempenho se mantém ao longo do tempo e em condições estabelecida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ur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 que freqüência apresenta falha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lerância a falha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orrendo falhas como ele reag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cuper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capaz de recuperar dados após uma falha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bilida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utilizar o softwar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ligi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entender os conceitos utilizado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reensi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aprender a usar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eraciona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de operar e controlar a operaçã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d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/I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de 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 ISO 9000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 ISO/IEC 122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de Prod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 ISO/IEC 91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 ISO/IEC 145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 ISO/IEC 121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ências Bibliográf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912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990720"/>
          <a:ext cx="8382240" cy="56386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1008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ficiênc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 recursos e tempos utilizados são compatíveis com o nível de desempenho requerido para o produt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rtamento em relação ao temp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l é o tempo de resposta e de processament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4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rtamento em relação aos recurs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to recurso utiliza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nutenibilida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á facilidade para correções, atualizações e alteraçõe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is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encontrar uma falha quando ocorr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ific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modificar e remover defeito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á grandes riscos de </a:t>
                      </a: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gs 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ndo se faz alteraçõe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st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testar quando se faz alteraçõe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912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371600"/>
          <a:ext cx="8534160" cy="502920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2819160"/>
              </a:tblGrid>
              <a:tr h="1923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tabilida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possível utilizar o produto em diversas plataformas com pequeno esforço de adaptaçã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ptabil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adaptar a outros ambientes sem aplicar outras ações ou meios além dos fornecidos para esta finalidade no software considerad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acidade para ser instal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instalar em outros ambiente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acidade para substitu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 fácil substituir por outro softwar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formida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á de acordo com padrões ou convenções de portabilidad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4598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676520"/>
            <a:ext cx="89154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sa norma é composta de um grupo de guias que servem de apoio ao planejamento e ao controle de uma avaliação da qualidade de produtos de software. Deve ser utilizada em conjunto com a série ISO/IEC 9126. Essa norma é composta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/IEC 14598-1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são Geral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ão geral da estrutura da norma e do processo de avaliaçã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/IEC 14598-2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lanejamento e Gestã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composta das atividades de planejamento de gerenciamento do processo de avali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/IEC 14598-3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cesso para Desenvolved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composta das atividades de avaliações que deverão ser feitas durante o processo de desenvolvimento de softwar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4598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7631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/IEC 14598-4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cesso para adquiren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composta das atividades de avaliações que deverão ser feitas durante um processo de compra de softwar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/IEC 14598-5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cessos para avaliador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ciclo de vida de avaliação e suas atividad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/IEC 14598-6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Documentação 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étodos de avaliação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–pacotes de métodos e dispositivos de apoio aos processos de avaliação do desenvolvedor, do comprador e do avali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119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828800"/>
            <a:ext cx="79250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rma ISO/IEC 12119 estabelece quais os requisitos  de qualidade de um software tipo pacote e fornece instruções para testar esse software em relação aos requisitos defini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nto aos requisitos de qualidade, eles são subdivididos e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quisitos de descrição do produ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quisitos da documentação ao usuá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quisitos dos programas 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119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8288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to às instruções para tes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se de pré-requisitos para tes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se de atividade de tes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se de registros e relatórios de tes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se de teste de acompanh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76520"/>
            <a:ext cx="79250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desenvolvedores fazem os softwares mas os clientes são os que vão usá-los. Por isso a necessidade urgente de sistematizar formas de evitar os custos elevadíssimos resultantes dos defeitos de software e dos erros não intencionais dos usuári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preciso que os esforços em melhoria da qualidade de software tenham o seu foco não no produto apenas (fazer software melhor), mas principalmente no processo (fazer melhor o software) e no cliente (fazer software mais fácil de usa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CHA, Ana Regina; MALDONADO, José Carlos; WEBER, Kival Chaves.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Qualidade de Software – Teoria e Prática, 1ª edição.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ão Paulo 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://www.esaf.fazenda.gov.br/cst/arquivos/Qualidade_de_Soft.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pd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gt; [acessado em 1º de junho de 200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://www.abnt.org.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b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://www.iso.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or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http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://www.inf.ufsc.br/~cybis/ine5322/Qualidade_de_Software.do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gt; [acessado em 16 de junho de 200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http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://www.fenasoft.com.br/congressista/artigos/qualidadesoftware_rlanzuolo.do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gt; [acessado em 1º de junho de 200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lidade de Soft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ftware de qualidade é fácil de usar, funciona corretamente, é de fácil manutenção e mantém a integridade dos dados em falhas do ambiente ou outras fora do seu contr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envolver software é um esforço coletivo, complexo e criativo e sua qualidade depende das pessoas, da organização e dos procedimentos usados em seu desenvolvimento. (Fuggetta,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lidade de Soft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ndo Pfleeger(1998), existem diferentes descrições sobre Qualidade de Softwar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isão transcendent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lgo que se reconhece mas não se defi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isão do usuári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tingir os obje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isão da manufatur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relacionada às características do produ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isão com base no val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depende do valor que o cliente está disposto a pagar por e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lidade de Soft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590920"/>
            <a:ext cx="2743200" cy="1371600"/>
          </a:xfrm>
          <a:prstGeom prst="ellips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2590920"/>
            <a:ext cx="2743200" cy="137160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2514600"/>
            <a:ext cx="2971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920" y="3048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/IE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IS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International Organization for Standardization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a associação internacional não-governamental que objetiva promover o desenvolvimento de padronização, no mundo inteiro, no sentido de facilitar o intercâmbio de bens e serviços entre os povos. Os padrões da ISO estabelecem especificações técnicas, regras e critérios, e definem características para garantir que produtos, serviços ou processos sejam adequados a seus propó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IEC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International Electrotechnical Comission)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atua juntamente com a ISO na área da tecnologia da inform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lidade de Process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8288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das grandes evoluções no estudo da qualidade foi a percepção de que a Qualidade do Produto é importante, mas que 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Qualidade do Process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produção é ainda mais. No caso, por exemplo, de uma refeição, pode se dizer mais sobre sua qualidade observando como ela foi preparada, do que analisando o produto final. Afinal, não se consegue ter certeza de sua higiene ou valor nutricional apenas saboreando-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mente, muitas instituições se preocupam em criar normas visando a adequada definição e aplicação dos processos envolvidos no ciclo de vida de um software, entre elas: ISO 9000-3, ISO/IEC 12207, CMM, SPI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 9000-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ta-se de um guia para aplicação da norma ISO 9001 para o desenvolvimento, fornecimento e manutenção de softwares. É dividida em três par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rutur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qualidade na organ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ividades do ciclo de vid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envolvimento de softw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ividades de suport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poio às atividades do ciclo 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 ISO/IEC 1220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acordo com a norma ISO/IEC 12207, os processos relacionados ao ciclo de vida de um software podem ser distinguidos 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s fundamentai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endem ao desenvolvimento, operação ou manutenção do softw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s de apoio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uxiliam um outro processo como uma parte integra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s organizacionai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belecem e implementam uma estrutura subjacente e melhoram continuamente a estrutura e os processo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8:27:52Z</dcterms:created>
  <dc:creator>Cliente Especial</dc:creator>
  <dc:description/>
  <dc:language>en-US</dc:language>
  <cp:lastModifiedBy>Cel Bueno</cp:lastModifiedBy>
  <dcterms:modified xsi:type="dcterms:W3CDTF">2002-06-16T20:56:24Z</dcterms:modified>
  <cp:revision>100</cp:revision>
  <dc:subject/>
  <dc:title>Qualidade de Software Normas ISO</dc:title>
</cp:coreProperties>
</file>