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9D8-D5D2-4B22-9D9F-EAA0C6B3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262-0820-483A-B0C0-25C7DCC0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363-6E4B-46B0-95D5-84782212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5A8-DEC2-451C-88F9-A7557C9C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713B-BB38-4EEA-9F1E-AD6B68C9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5528-7CE6-4788-97FF-F6D584A9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362E-A784-4005-85E5-E57AF043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7AD6-5932-4D90-8B8B-C16ECD63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6554-65D7-4128-BC09-A1E76136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552F-A510-42D6-9B11-92EB41CF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A438-0438-4076-A22F-4E9EF7AE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1FC-E707-419B-B203-C358960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D50C-E51A-4191-9770-608A773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A2FD-FEDF-461D-A69E-C4BD004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214B-1711-41BF-820C-57A3ABFC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2049-195D-417A-A0A6-EE0AC0BE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A8D6-B83E-4235-ABDB-F9E3E464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91D-1A1C-4F3C-8D84-04DAA5B8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5BA-17F1-4C3A-A13F-C5804830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232-CD6C-4521-933B-20F763D3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F87-93B4-4237-891B-D6E6B38F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6E8-CC21-4F4F-9AB4-4964D771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7AC-7517-47BF-AF1D-585CC6B5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C3E-2326-4DD1-866D-6A934DD5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2B2A-D912-4EE4-9DA4-4ADA232C60B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2569-9138-420C-A467-F14B29E2437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1905120"/>
            <a:ext cx="792504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omic Sans MS"/>
              </a:rPr>
              <a:t>Reengenharia de Softw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4267080"/>
            <a:ext cx="748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a Cristina Souza de Almeida 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gela Cristina Limper Mark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57200" y="933480"/>
          <a:ext cx="7658280" cy="48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33480"/>
                    <a:ext cx="76582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Modelo do Processo de Reengenharia de Softwar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742968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4296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2057400"/>
            <a:ext cx="723888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ffff"/>
                </a:solidFill>
                <a:latin typeface="Times New Roman"/>
              </a:rPr>
              <a:t>Engenharia avante</a:t>
            </a:r>
            <a:r>
              <a:rPr b="0" lang="pt-BR" sz="3200" spc="-1" strike="noStrike">
                <a:solidFill>
                  <a:srgbClr val="66ffff"/>
                </a:solidFill>
                <a:latin typeface="Times New Roman"/>
              </a:rPr>
              <a:t>.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É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o   processo   tradicional   que  se  inicia  com abstrações de alto nível, conhecimento de lógicas do    sistema   e    projetos     independentes      da implementaçã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371600"/>
          <a:ext cx="784836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84836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20560" y="711360"/>
          <a:ext cx="7645680" cy="486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711360"/>
                    <a:ext cx="764568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990720"/>
          <a:ext cx="6686280" cy="51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90720"/>
                    <a:ext cx="668628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62120" y="571680"/>
          <a:ext cx="78739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71680"/>
                    <a:ext cx="7873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1143000"/>
          <a:ext cx="792504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9250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Modelo de Processo</a:t>
            </a: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Engenharia Revers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409760"/>
          <a:ext cx="784836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78483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80" y="609480"/>
            <a:ext cx="91220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Criação de uma representação num nível de abstração mai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e o do código fo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Preparar um  modelo de análise e fazer o  mapeamento dess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odelo com o sistema 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Recuperar </a:t>
            </a: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    informações    sobre    projeto    procedimental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arquitetural e de dados de um programa exist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- Transformação    de    uma     listagem    de    códigos    não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Times New Roman"/>
              </a:rPr>
              <a:t>documentada, não estruturada em documentação complet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96160" y="905040"/>
            <a:ext cx="7957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Definiçõ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Motiv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Manutenção de softwa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Modelo de Process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Engenharia Rever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Tipos de Mudanç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1  Mudança da Funcionalida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2  Troca Parcial da Implement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3  Troca Total da Implementaç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Ferrament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Diferença entre Reengenharia e Engenharia Revers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Conclusã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9680" y="838080"/>
            <a:ext cx="877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bjetivo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Tornar mais amena a tarefa de manutenção, sevir de apoio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reengenharia 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ficuldades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Entendimento   do   sistema,   pesquisa   direta  ao  código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fo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- “ truques”   usados   pelos   programadores   do sistema,  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ssíveis erros que o sistema possu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Mudança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27000" y="2044800"/>
          <a:ext cx="7086600" cy="51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44800"/>
                    <a:ext cx="708660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84582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Mudança na funcionalidade do sistem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3640" y="1219320"/>
            <a:ext cx="8614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oteiro  para   que   um  sistema  com  troca  da funcionalidade seja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implementado parcialmente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iciar a engenharia revers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dentificação   e   incorporação  dos  novos  requisitos aos model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truído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trução de novas componentes e seus relacionamentos, defini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quê” o sistema deverá  faz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jeto  do  novo   Subsistema,   pode-se   utilizar  os conceitos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ngenharia de softwa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ificação do sistema antigo, implementação.</a:t>
            </a: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457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Troca parcial da implementaçã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" y="1344600"/>
            <a:ext cx="78343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Iniciar com o processo de engenharia reversa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efinir quais são as partes do sistema que serão implementadas com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rientação a objeto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laborar os diversos modelos da fase de projeto, deve haver interação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ntre as partes que irão ser   implementadas e as    que irão permanecer,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rojetar   a   interface   entre   as   mesmas,   utilizar   os   conceitos   de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ngenharia de software orientado a objeto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a   fase   de  implementação,  conectar  a  parte  já  existente  com  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parte   que   foi  implementada,   de   modo   que   o   sistema   possa  ser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nsiderado como todo ele sendo formado por objeto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Oportunidade  de  converter  o sistema  para   OO por partes, vantag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de que o sistema vai sendo utilizado e gradativamente vai sendo expandid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0"/>
            <a:ext cx="79246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Troca total da implementaçã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1960" y="1828800"/>
            <a:ext cx="844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ciar a Engenharia revers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r   os   modelos  da  fase   de  projeto para todo o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, utilizar os conceitos de  engenharia  de softwa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entado a objet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ma linguagem OO deve ser escolhida e o código font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  ser  gerado,  seguindo  a  abordagem  de orientação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objet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533520" y="0"/>
          <a:ext cx="779148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779148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57200" y="2057400"/>
          <a:ext cx="828684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828684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57200" y="1523880"/>
          <a:ext cx="8286840" cy="468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8684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Engenharia Reversa X Reengenharia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04920" y="380880"/>
          <a:ext cx="8292960" cy="588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29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533520" y="1371600"/>
          <a:ext cx="80391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39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Conclusã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39880" y="447840"/>
          <a:ext cx="7564320" cy="50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47840"/>
                    <a:ext cx="7564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977760" y="1092240"/>
          <a:ext cx="7137720" cy="223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7760" y="1092240"/>
                    <a:ext cx="713772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0" y="3586320"/>
          <a:ext cx="9721800" cy="447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86320"/>
                    <a:ext cx="97218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39880" y="4118040"/>
          <a:ext cx="7535880" cy="2017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9880" y="4118040"/>
                    <a:ext cx="75358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04920" y="685800"/>
          <a:ext cx="853416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5341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3840" y="2098800"/>
            <a:ext cx="791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ESSMAN, Roger S. Software Engineering. Fourth Edition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IKH, Girish. Reengenharia de Software - Técnicas d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nutenção de Programa e Sistemas. Editora L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www.dcc.ufrj.b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www.ime.usp.b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gradecimentos ao professor João Thomaz , pelo envio d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terial de Reengenharia de Software.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2044800"/>
          <a:ext cx="896472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44800"/>
                    <a:ext cx="8964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0480" y="838080"/>
            <a:ext cx="8390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ases do desenvolvimento de um  sistema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elicitação dos requisito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especificação, desenvolvimento e implantação do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stem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manutenção do sistema 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esta fase começam a surgir problemas com 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mplementação e documentação do sistema, recuperação de tai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formações, tornar-se-á um processo cansativo e propenso a err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incipalmente em sistemas que não foram construíd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tilizando métodos para construção de sistema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200" y="533520"/>
            <a:ext cx="84348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jetivos das Empresas de Softwar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Conter custos com a manutençã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Maximizar investimentos em softwares já existentes, a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vés de criar novos software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istemas herdado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Satisfazem razoavelmente aos requisitos dos usuários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rém não possuem documentação de análise e projeto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 estão desatualizada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 dificuldade na manuten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engenharia : facilitar alterações, reduzir custos com manutençã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99960" y="609480"/>
          <a:ext cx="7658280" cy="53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609480"/>
                    <a:ext cx="765828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38080" y="1295280"/>
          <a:ext cx="6972480" cy="781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6972480" cy="781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219320" y="609480"/>
          <a:ext cx="6476760" cy="58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647676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engenharia de Softwa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5:16:11Z</dcterms:created>
  <dc:creator>Angela</dc:creator>
  <dc:description/>
  <dc:language>en-US</dc:language>
  <cp:lastModifiedBy>Angela</cp:lastModifiedBy>
  <dcterms:modified xsi:type="dcterms:W3CDTF">1999-01-01T03:15:15Z</dcterms:modified>
  <cp:revision>26</cp:revision>
  <dc:subject/>
  <dc:title>Slide sem título </dc:title>
</cp:coreProperties>
</file>