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6D3A3-705C-48F0-BFA2-542618A21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F9032-ADDD-411F-A71E-A895827DE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9B645-1CE9-41ED-A181-824EA0477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E3309-F6D1-42F8-9FC6-A4D94434B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128C3F-53D2-4067-8AAB-50851DF719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6"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E8FB6-E9A9-453A-9134-5CC3B9C43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6DE27-2217-437F-9F67-DC92DA553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2B942-03C6-43F5-9B59-4FC717445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9FD48-312E-4285-BF26-E7A2C4602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DF75A-75E6-4BB2-934C-3E01F60BB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18A2D-0C8E-4624-934E-EE398C00E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A2E06-D745-4586-B588-3D983B498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82936-25A6-4C8B-9F8A-0FCF45740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09A44-2796-4A38-B176-DAE12D623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7"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59E46-7B7B-49E0-AAF0-FE1286479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FA38C-84F7-45DC-99F4-F7417BFA0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5"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067D0F-CF04-499E-A39D-7D96E52805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D2C0E-F85E-4E70-B1B8-E692B5E28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34A48-C90C-445B-9920-37D8E8CF2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3A5BF-F088-43ED-B781-DEA7D2D3D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0631C-0CEA-4000-949C-84D25F292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C7C73-2FD5-494F-8854-62CCA1B89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29688-4D17-44F9-BEC1-7A7F327DC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37B81-D40E-4871-83E2-4F62EAAD8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5946840"/>
            <a:ext cx="587160" cy="8856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1FEA-6F73-4128-87C6-ECB331CF3DAD}" type="slidenum">
              <a:rPr b="1" lang="pt-BR"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4572000" cy="6858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47" name=""/>
          <p:cNvGrpSpPr/>
          <p:nvPr/>
        </p:nvGrpSpPr>
        <p:grpSpPr>
          <a:xfrm>
            <a:off x="2438280" y="4724280"/>
            <a:ext cx="6705360" cy="304920"/>
            <a:chOff x="2438280" y="4724280"/>
            <a:chExt cx="6705360" cy="304920"/>
          </a:xfrm>
        </p:grpSpPr>
        <p:sp>
          <p:nvSpPr>
            <p:cNvPr id="48" name=""/>
            <p:cNvSpPr/>
            <p:nvPr/>
          </p:nvSpPr>
          <p:spPr>
            <a:xfrm flipH="1">
              <a:off x="2438280" y="4724280"/>
              <a:ext cx="6360480" cy="303480"/>
            </a:xfrm>
            <a:prstGeom prst="roundRect">
              <a:avLst>
                <a:gd name="adj" fmla="val 0"/>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8785800" y="4724280"/>
              <a:ext cx="357840" cy="30492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0"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1"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3"/>
          <p:cNvSpPr>
            <a:spLocks noGrp="1"/>
          </p:cNvSpPr>
          <p:nvPr>
            <p:ph type="sldNum" idx="6"/>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7993A-8A2D-4731-92C0-887AC2D8761C}" type="slidenum">
              <a:rPr b="1" lang="pt-BR"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3"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www.mct.gov.br/legis/mp/mp2200-2.htm" TargetMode="External"/><Relationship Id="rId2" Type="http://schemas.openxmlformats.org/officeDocument/2006/relationships/hyperlink" Target="http://www.mct.gov.br/legis/decretos/3800_2001.htm" TargetMode="External"/><Relationship Id="rId3" Type="http://schemas.openxmlformats.org/officeDocument/2006/relationships/hyperlink" Target="http://www.mct.gov.br/legis/decretos/3801_2001.htm" TargetMode="External"/><Relationship Id="rId4" Type="http://schemas.openxmlformats.org/officeDocument/2006/relationships/hyperlink" Target="http://www.mct.gov.br/legis/portarias/253_2001.htm" TargetMode="External"/><Relationship Id="rId5" Type="http://schemas.openxmlformats.org/officeDocument/2006/relationships/hyperlink" Target="http://wwwt.senado.gov.br/servlets/NJUR.Filtro?tipo=DEC&amp;secao=NJUILEGBRAS&amp;numLei=003714&amp;data=20010103&amp;seq=000&amp;pathServer=www1/netacgi/nph-brs.exe" TargetMode="External"/><Relationship Id="rId6" Type="http://schemas.openxmlformats.org/officeDocument/2006/relationships/hyperlink" Target="http://www.planalto.gov.br/ccivil/decreto/d3697.htm" TargetMode="External"/><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9" name="PlaceHolder 1"/>
          <p:cNvSpPr>
            <a:spLocks noGrp="1"/>
          </p:cNvSpPr>
          <p:nvPr>
            <p:ph type="subTitle"/>
          </p:nvPr>
        </p:nvSpPr>
        <p:spPr>
          <a:xfrm>
            <a:off x="5105520" y="5257800"/>
            <a:ext cx="3790800" cy="1333440"/>
          </a:xfrm>
          <a:prstGeom prst="rect">
            <a:avLst/>
          </a:prstGeom>
          <a:noFill/>
          <a:ln w="0">
            <a:noFill/>
          </a:ln>
        </p:spPr>
        <p:txBody>
          <a:bodyPr lIns="92160" rIns="92160" tIns="46080" bIns="460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rPr>
              <a:t>Joseliza Alessandra Vanzela Turine</a:t>
            </a:r>
            <a:endParaRPr b="0" lang="en-US" sz="2400" spc="-1" strike="noStrike">
              <a:solidFill>
                <a:srgbClr val="006666"/>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3366"/>
                </a:solidFill>
                <a:latin typeface="Arial"/>
              </a:rPr>
              <a:t>joseliza@uol.com.br</a:t>
            </a:r>
            <a:endParaRPr b="0" lang="en-US" sz="2200" spc="-1" strike="noStrike">
              <a:solidFill>
                <a:srgbClr val="006666"/>
              </a:solidFill>
              <a:latin typeface="Arial"/>
            </a:endParaRPr>
          </a:p>
          <a:p>
            <a:pPr lvl="1" marL="7430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66"/>
              </a:solidFill>
              <a:latin typeface="Arial"/>
            </a:endParaRPr>
          </a:p>
        </p:txBody>
      </p:sp>
      <p:sp>
        <p:nvSpPr>
          <p:cNvPr id="100" name="PlaceHolder 2"/>
          <p:cNvSpPr>
            <a:spLocks noGrp="1"/>
          </p:cNvSpPr>
          <p:nvPr>
            <p:ph type="title"/>
          </p:nvPr>
        </p:nvSpPr>
        <p:spPr>
          <a:xfrm>
            <a:off x="990720" y="914400"/>
            <a:ext cx="7772400" cy="1774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ópicos de Legislação Aplicada à Informática e  Internet</a:t>
            </a:r>
            <a:endParaRPr b="1" lang="en-US" sz="3600" spc="-1" strike="noStrike">
              <a:solidFill>
                <a:srgbClr val="003366"/>
              </a:solidFill>
              <a:latin typeface="Arial"/>
            </a:endParaRPr>
          </a:p>
        </p:txBody>
      </p:sp>
      <p:sp>
        <p:nvSpPr>
          <p:cNvPr id="4" name="PlaceHolder 3"/>
          <p:cNvSpPr>
            <a:spLocks noGrp="1"/>
          </p:cNvSpPr>
          <p:nvPr>
            <p:ph type="sldNum" idx="6"/>
          </p:nvPr>
        </p:nvSpPr>
        <p:spPr/>
        <p:txBody>
          <a:bodyPr/>
          <a:p>
            <a:fld id="{735AB6E8-3272-4FA3-8A8C-D8E41E7271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Normas infralegais</a:t>
            </a:r>
            <a:endParaRPr b="1" lang="en-US" sz="3600" spc="-1" strike="noStrike">
              <a:solidFill>
                <a:srgbClr val="0033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a50021"/>
                </a:solidFill>
                <a:latin typeface="Arial"/>
              </a:rPr>
              <a:t>São, em regra, editadas na competência administrativa, sendo que esta pode ser exercida por qualquer do poderes da União, quais sejam executivo, legislativo e judiciário.</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xemplos: decretos, resoluções, instruções normativas, portarias, circulares e ordens de serviço</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C76BFD58-C305-4800-A753-6DB27E82CD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Contrato</a:t>
            </a:r>
            <a:endParaRPr b="1" lang="en-US" sz="3600" spc="-1" strike="noStrike">
              <a:solidFill>
                <a:srgbClr val="0033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Definição básic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a50021"/>
                </a:solidFill>
                <a:latin typeface="Arial"/>
              </a:rPr>
              <a:t>acordo de vontade celebrado entre partes capazes para o fim de adquirir, resguardar modificar ou extinguir direitos</a:t>
            </a:r>
            <a:endParaRPr b="0" lang="en-US" sz="3200" spc="-1" strike="noStrike">
              <a:solidFill>
                <a:srgbClr val="003366"/>
              </a:solidFill>
              <a:latin typeface="Arial"/>
            </a:endParaRPr>
          </a:p>
        </p:txBody>
      </p:sp>
      <p:sp>
        <p:nvSpPr>
          <p:cNvPr id="4" name="PlaceHolder 3"/>
          <p:cNvSpPr>
            <a:spLocks noGrp="1"/>
          </p:cNvSpPr>
          <p:nvPr>
            <p:ph type="sldNum" idx="3"/>
          </p:nvPr>
        </p:nvSpPr>
        <p:spPr/>
        <p:txBody>
          <a:bodyPr/>
          <a:p>
            <a:fld id="{BC1DA139-3EC8-43B9-B467-27B7811D21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Contrato</a:t>
            </a:r>
            <a:endParaRPr b="1" lang="en-US" sz="3600" spc="-1" strike="noStrike">
              <a:solidFill>
                <a:srgbClr val="003366"/>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Relevante ao profissional de informática a diferença entre contratos de naturez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Civi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Comercia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de Consumo</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256B2B3-F4D6-41C9-956C-8DA202F749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Contratos comerciais</a:t>
            </a:r>
            <a:endParaRPr b="1" lang="en-US" sz="3600" spc="-1" strike="noStrike">
              <a:solidFill>
                <a:srgbClr val="003366"/>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Firmados por ao menos uma pessoa que tenha a qualidade de comerciante (aquele que realiza a intermediação com habitualidade e fins lucrativos) e que sejam firmados a fim de propiciar a realização de atividades mercanti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CB9B006-9C74-492B-9412-C5E4F8CB8C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Contratos civis</a:t>
            </a:r>
            <a:endParaRPr b="1" lang="en-US" sz="3600" spc="-1" strike="noStrike">
              <a:solidFill>
                <a:srgbClr val="0033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firmados entre pessoas que não tenham a qualidade de comerciante ou que não estejam contratando nesta qualidad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A0BA0FB-9A59-4EE6-85D5-291C3189B2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Contrato de consumo</a:t>
            </a:r>
            <a:endParaRPr b="1" lang="en-US" sz="3600" spc="-1" strike="noStrike">
              <a:solidFill>
                <a:srgbClr val="0033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Firmados entre comerciante ou prestador de serviço e consumidor final</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59426C3-A88E-41E1-98D5-79076383D9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Exemplo - venda de computador</a:t>
            </a:r>
            <a:endParaRPr b="1" lang="en-US" sz="3600" spc="-1" strike="noStrike">
              <a:solidFill>
                <a:srgbClr val="003366"/>
              </a:solidFill>
              <a:latin typeface="Arial"/>
            </a:endParaRPr>
          </a:p>
        </p:txBody>
      </p:sp>
      <p:sp>
        <p:nvSpPr>
          <p:cNvPr id="144" name="PlaceHolder 2"/>
          <p:cNvSpPr>
            <a:spLocks noGrp="1"/>
          </p:cNvSpPr>
          <p:nvPr>
            <p:ph/>
          </p:nvPr>
        </p:nvSpPr>
        <p:spPr>
          <a:xfrm>
            <a:off x="914040" y="2057400"/>
            <a:ext cx="8001000" cy="4191120"/>
          </a:xfrm>
          <a:prstGeom prst="rect">
            <a:avLst/>
          </a:prstGeom>
          <a:noFill/>
          <a:ln w="0">
            <a:noFill/>
          </a:ln>
        </p:spPr>
        <p:txBody>
          <a:bodyPr lIns="90000" rIns="90000" tIns="46800" bIns="46800"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Contrato civil - alguém que possua um computador e o venda a um terceiro</a:t>
            </a:r>
            <a:endParaRPr b="0" lang="en-US" sz="2800" spc="-1" strike="noStrike">
              <a:solidFill>
                <a:srgbClr val="003366"/>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Contrato comercial - loja revendedora de computadores adquire o produto do fabricante</a:t>
            </a:r>
            <a:endParaRPr b="0" lang="en-US" sz="2800" spc="-1" strike="noStrike">
              <a:solidFill>
                <a:srgbClr val="003366"/>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Contrato de consumo - loja revendedora de computador vende o objeto ao consumidor final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992285B-FF35-4596-8F3C-18B06AFFD3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Importância</a:t>
            </a:r>
            <a:endParaRPr b="1" lang="en-US" sz="3600" spc="-1" strike="noStrike">
              <a:solidFill>
                <a:srgbClr val="003366"/>
              </a:solidFill>
              <a:latin typeface="Arial"/>
            </a:endParaRPr>
          </a:p>
        </p:txBody>
      </p:sp>
      <p:sp>
        <p:nvSpPr>
          <p:cNvPr id="14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Efeitos jurídicos gerados, de vez que a relação jurídica será regulada pelas normas que regem a contrataçã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Os profissionais da área da informática, em regra, prestam serviços ou comercializam produtos em relações jurídicas regidas pelo Código de Defesa do Consumidor</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741F19E-96CE-4868-A0A7-6C56E68924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Responsabilidade</a:t>
            </a:r>
            <a:endParaRPr b="1" lang="en-US" sz="3600" spc="-1" strike="noStrike">
              <a:solidFill>
                <a:srgbClr val="003366"/>
              </a:solidFill>
              <a:latin typeface="Arial"/>
            </a:endParaRPr>
          </a:p>
        </p:txBody>
      </p:sp>
      <p:sp>
        <p:nvSpPr>
          <p:cNvPr id="148" name="PlaceHolder 2"/>
          <p:cNvSpPr>
            <a:spLocks noGrp="1"/>
          </p:cNvSpPr>
          <p:nvPr>
            <p:ph/>
          </p:nvPr>
        </p:nvSpPr>
        <p:spPr>
          <a:xfrm>
            <a:off x="914040" y="2133720"/>
            <a:ext cx="80010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Aquele que causa, com sua conduta, danos a outrem, fica, em regra, obrigado a reparar o dano, mediante indenizaçã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Tais danos podem advir de relações contratuais e extracontratuais, ambas indenizáve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Podem ser indenizados danos materiais e morai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DB497E9-457F-4172-AA5C-8A0FA3691C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Responsabilidade </a:t>
            </a:r>
            <a:endParaRPr b="1" lang="en-US" sz="3600" spc="-1" strike="noStrike">
              <a:solidFill>
                <a:srgbClr val="003366"/>
              </a:solidFill>
              <a:latin typeface="Arial"/>
            </a:endParaRPr>
          </a:p>
        </p:txBody>
      </p:sp>
      <p:sp>
        <p:nvSpPr>
          <p:cNvPr id="15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O Brasil é um dos maiores mercados consumidores da “indústria do software” do planeta. O produtor do software, ou o prestador de serviço devem se adequar às normas do Código de Defesa do Consumidor</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A533BDF-4205-42AF-81F2-4A97422F35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60912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Sinopse</a:t>
            </a:r>
            <a:endParaRPr b="1" lang="en-US" sz="3600" spc="-1" strike="noStrike">
              <a:solidFill>
                <a:srgbClr val="003366"/>
              </a:solidFill>
              <a:latin typeface="Arial"/>
            </a:endParaRPr>
          </a:p>
        </p:txBody>
      </p:sp>
      <p:sp>
        <p:nvSpPr>
          <p:cNvPr id="102" name="PlaceHolder 2"/>
          <p:cNvSpPr>
            <a:spLocks noGrp="1"/>
          </p:cNvSpPr>
          <p:nvPr>
            <p:ph/>
          </p:nvPr>
        </p:nvSpPr>
        <p:spPr>
          <a:xfrm>
            <a:off x="914040" y="2133360"/>
            <a:ext cx="80010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Noções sobre normas jurídic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Contrat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Responsabilidade civ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Privacidade e manipulação de dad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Proteção à propriedade intelectu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Conclusõ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Referências Bibliográfica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88A9556-97D4-4D95-BBB0-383B0E282F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981080" y="990720"/>
            <a:ext cx="5440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81d58"/>
                </a:solidFill>
                <a:latin typeface="Arial"/>
              </a:rPr>
              <a:t>O processo de Compra e Venda</a:t>
            </a:r>
            <a:endParaRPr b="0" lang="en-US" sz="2400" spc="-1" strike="noStrike">
              <a:solidFill>
                <a:srgbClr val="003366"/>
              </a:solidFill>
              <a:latin typeface="Times New Roman"/>
            </a:endParaRPr>
          </a:p>
        </p:txBody>
      </p:sp>
      <p:sp>
        <p:nvSpPr>
          <p:cNvPr id="152" name=""/>
          <p:cNvSpPr/>
          <p:nvPr/>
        </p:nvSpPr>
        <p:spPr>
          <a:xfrm>
            <a:off x="3124080" y="127080"/>
            <a:ext cx="5486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ntendendo o comércio</a:t>
            </a:r>
            <a:endParaRPr b="0" lang="en-US" sz="3600" spc="-1" strike="noStrike">
              <a:solidFill>
                <a:srgbClr val="003366"/>
              </a:solidFill>
              <a:latin typeface="Times New Roman"/>
            </a:endParaRPr>
          </a:p>
        </p:txBody>
      </p:sp>
      <p:grpSp>
        <p:nvGrpSpPr>
          <p:cNvPr id="153" name=""/>
          <p:cNvGrpSpPr/>
          <p:nvPr/>
        </p:nvGrpSpPr>
        <p:grpSpPr>
          <a:xfrm>
            <a:off x="3616200" y="3349800"/>
            <a:ext cx="2057400" cy="2209680"/>
            <a:chOff x="3616200" y="3349800"/>
            <a:chExt cx="2057400" cy="2209680"/>
          </a:xfrm>
        </p:grpSpPr>
        <p:sp>
          <p:nvSpPr>
            <p:cNvPr id="154" name=""/>
            <p:cNvSpPr/>
            <p:nvPr/>
          </p:nvSpPr>
          <p:spPr>
            <a:xfrm>
              <a:off x="3768840" y="3349800"/>
              <a:ext cx="1904760" cy="457200"/>
            </a:xfrm>
            <a:custGeom>
              <a:avLst/>
              <a:gdLst>
                <a:gd name="textAreaLeft" fmla="*/ 333360 w 1904760"/>
                <a:gd name="textAreaRight" fmla="*/ 1380960 w 190476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18ffd"/>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flipH="1" flipV="1">
              <a:off x="3616200" y="5102280"/>
              <a:ext cx="1905120" cy="457200"/>
            </a:xfrm>
            <a:custGeom>
              <a:avLst/>
              <a:gdLst>
                <a:gd name="textAreaLeft" fmla="*/ 333720 w 1905120"/>
                <a:gd name="textAreaRight" fmla="*/ 1381680 w 19051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18ffd"/>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3738960" y="3854520"/>
              <a:ext cx="17884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ZapfHumnst BT"/>
                </a:rPr>
                <a:t>Informações</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ZapfHumnst BT"/>
                </a:rPr>
                <a:t>Produtos</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ZapfHumnst BT"/>
                </a:rPr>
                <a:t>Serviços</a:t>
              </a:r>
              <a:endParaRPr b="0" lang="en-US" sz="2000" spc="-1" strike="noStrike">
                <a:solidFill>
                  <a:srgbClr val="003366"/>
                </a:solidFill>
                <a:latin typeface="Times New Roman"/>
              </a:endParaRPr>
            </a:p>
          </p:txBody>
        </p:sp>
      </p:grpSp>
      <p:grpSp>
        <p:nvGrpSpPr>
          <p:cNvPr id="157" name=""/>
          <p:cNvGrpSpPr/>
          <p:nvPr/>
        </p:nvGrpSpPr>
        <p:grpSpPr>
          <a:xfrm>
            <a:off x="1221840" y="2743200"/>
            <a:ext cx="7321680" cy="2536920"/>
            <a:chOff x="1221840" y="2743200"/>
            <a:chExt cx="7321680" cy="2536920"/>
          </a:xfrm>
        </p:grpSpPr>
        <p:grpSp>
          <p:nvGrpSpPr>
            <p:cNvPr id="158" name=""/>
            <p:cNvGrpSpPr/>
            <p:nvPr/>
          </p:nvGrpSpPr>
          <p:grpSpPr>
            <a:xfrm>
              <a:off x="1221840" y="2743200"/>
              <a:ext cx="1855440" cy="2197080"/>
              <a:chOff x="1221840" y="2743200"/>
              <a:chExt cx="1855440" cy="2197080"/>
            </a:xfrm>
          </p:grpSpPr>
          <p:pic>
            <p:nvPicPr>
              <p:cNvPr id="159" name="" descr=""/>
              <p:cNvPicPr/>
              <p:nvPr/>
            </p:nvPicPr>
            <p:blipFill>
              <a:blip r:embed="rId1"/>
              <a:stretch/>
            </p:blipFill>
            <p:spPr>
              <a:xfrm>
                <a:off x="1538280" y="3735360"/>
                <a:ext cx="1371600" cy="1204920"/>
              </a:xfrm>
              <a:prstGeom prst="rect">
                <a:avLst/>
              </a:prstGeom>
              <a:ln w="0">
                <a:noFill/>
              </a:ln>
            </p:spPr>
          </p:pic>
          <p:sp>
            <p:nvSpPr>
              <p:cNvPr id="160" name=""/>
              <p:cNvSpPr/>
              <p:nvPr/>
            </p:nvSpPr>
            <p:spPr>
              <a:xfrm>
                <a:off x="1221840" y="2743200"/>
                <a:ext cx="1855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81d58"/>
                    </a:solidFill>
                    <a:latin typeface="Arial"/>
                  </a:rPr>
                  <a:t>Fornecedor</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81d58"/>
                    </a:solidFill>
                    <a:latin typeface="Arial"/>
                  </a:rPr>
                  <a:t>Vendedor</a:t>
                </a:r>
                <a:endParaRPr b="0" lang="en-US" sz="2400" spc="-1" strike="noStrike">
                  <a:solidFill>
                    <a:srgbClr val="003366"/>
                  </a:solidFill>
                  <a:latin typeface="Times New Roman"/>
                </a:endParaRPr>
              </a:p>
            </p:txBody>
          </p:sp>
        </p:grpSp>
        <p:grpSp>
          <p:nvGrpSpPr>
            <p:cNvPr id="161" name=""/>
            <p:cNvGrpSpPr/>
            <p:nvPr/>
          </p:nvGrpSpPr>
          <p:grpSpPr>
            <a:xfrm>
              <a:off x="6568920" y="3173400"/>
              <a:ext cx="1974600" cy="2106720"/>
              <a:chOff x="6568920" y="3173400"/>
              <a:chExt cx="1974600" cy="2106720"/>
            </a:xfrm>
          </p:grpSpPr>
          <p:grpSp>
            <p:nvGrpSpPr>
              <p:cNvPr id="162" name=""/>
              <p:cNvGrpSpPr/>
              <p:nvPr/>
            </p:nvGrpSpPr>
            <p:grpSpPr>
              <a:xfrm>
                <a:off x="7176960" y="3632400"/>
                <a:ext cx="457200" cy="1647720"/>
                <a:chOff x="7176960" y="3632400"/>
                <a:chExt cx="457200" cy="1647720"/>
              </a:xfrm>
            </p:grpSpPr>
            <p:sp>
              <p:nvSpPr>
                <p:cNvPr id="163" name=""/>
                <p:cNvSpPr/>
                <p:nvPr/>
              </p:nvSpPr>
              <p:spPr>
                <a:xfrm>
                  <a:off x="7236360" y="4368240"/>
                  <a:ext cx="364680" cy="798840"/>
                </a:xfrm>
                <a:custGeom>
                  <a:avLst/>
                  <a:gdLst/>
                  <a:ahLst/>
                  <a:rect l="l" t="t" r="r" b="b"/>
                  <a:pathLst>
                    <a:path w="867" h="2025">
                      <a:moveTo>
                        <a:pt x="2" y="10"/>
                      </a:moveTo>
                      <a:lnTo>
                        <a:pt x="0" y="33"/>
                      </a:lnTo>
                      <a:lnTo>
                        <a:pt x="0" y="66"/>
                      </a:lnTo>
                      <a:lnTo>
                        <a:pt x="1" y="97"/>
                      </a:lnTo>
                      <a:lnTo>
                        <a:pt x="2" y="114"/>
                      </a:lnTo>
                      <a:lnTo>
                        <a:pt x="5" y="140"/>
                      </a:lnTo>
                      <a:lnTo>
                        <a:pt x="7" y="189"/>
                      </a:lnTo>
                      <a:lnTo>
                        <a:pt x="8" y="240"/>
                      </a:lnTo>
                      <a:lnTo>
                        <a:pt x="10" y="268"/>
                      </a:lnTo>
                      <a:lnTo>
                        <a:pt x="13" y="314"/>
                      </a:lnTo>
                      <a:lnTo>
                        <a:pt x="15" y="403"/>
                      </a:lnTo>
                      <a:lnTo>
                        <a:pt x="16" y="488"/>
                      </a:lnTo>
                      <a:lnTo>
                        <a:pt x="17" y="526"/>
                      </a:lnTo>
                      <a:lnTo>
                        <a:pt x="21" y="575"/>
                      </a:lnTo>
                      <a:lnTo>
                        <a:pt x="29" y="685"/>
                      </a:lnTo>
                      <a:lnTo>
                        <a:pt x="38" y="806"/>
                      </a:lnTo>
                      <a:lnTo>
                        <a:pt x="46" y="885"/>
                      </a:lnTo>
                      <a:lnTo>
                        <a:pt x="48" y="935"/>
                      </a:lnTo>
                      <a:lnTo>
                        <a:pt x="46" y="995"/>
                      </a:lnTo>
                      <a:lnTo>
                        <a:pt x="40" y="1050"/>
                      </a:lnTo>
                      <a:lnTo>
                        <a:pt x="38" y="1084"/>
                      </a:lnTo>
                      <a:lnTo>
                        <a:pt x="39" y="1096"/>
                      </a:lnTo>
                      <a:lnTo>
                        <a:pt x="44" y="1111"/>
                      </a:lnTo>
                      <a:lnTo>
                        <a:pt x="49" y="1129"/>
                      </a:lnTo>
                      <a:lnTo>
                        <a:pt x="57" y="1147"/>
                      </a:lnTo>
                      <a:lnTo>
                        <a:pt x="64" y="1167"/>
                      </a:lnTo>
                      <a:lnTo>
                        <a:pt x="70" y="1185"/>
                      </a:lnTo>
                      <a:lnTo>
                        <a:pt x="75" y="1202"/>
                      </a:lnTo>
                      <a:lnTo>
                        <a:pt x="76" y="1214"/>
                      </a:lnTo>
                      <a:lnTo>
                        <a:pt x="76" y="1306"/>
                      </a:lnTo>
                      <a:lnTo>
                        <a:pt x="76" y="1483"/>
                      </a:lnTo>
                      <a:lnTo>
                        <a:pt x="76" y="1659"/>
                      </a:lnTo>
                      <a:lnTo>
                        <a:pt x="76" y="1751"/>
                      </a:lnTo>
                      <a:lnTo>
                        <a:pt x="78" y="1763"/>
                      </a:lnTo>
                      <a:lnTo>
                        <a:pt x="84" y="1775"/>
                      </a:lnTo>
                      <a:lnTo>
                        <a:pt x="91" y="1789"/>
                      </a:lnTo>
                      <a:lnTo>
                        <a:pt x="99" y="1802"/>
                      </a:lnTo>
                      <a:lnTo>
                        <a:pt x="106" y="1815"/>
                      </a:lnTo>
                      <a:lnTo>
                        <a:pt x="112" y="1826"/>
                      </a:lnTo>
                      <a:lnTo>
                        <a:pt x="113" y="1836"/>
                      </a:lnTo>
                      <a:lnTo>
                        <a:pt x="109" y="1843"/>
                      </a:lnTo>
                      <a:lnTo>
                        <a:pt x="102" y="1851"/>
                      </a:lnTo>
                      <a:lnTo>
                        <a:pt x="95" y="1863"/>
                      </a:lnTo>
                      <a:lnTo>
                        <a:pt x="87" y="1877"/>
                      </a:lnTo>
                      <a:lnTo>
                        <a:pt x="82" y="1891"/>
                      </a:lnTo>
                      <a:lnTo>
                        <a:pt x="76" y="1906"/>
                      </a:lnTo>
                      <a:lnTo>
                        <a:pt x="74" y="1917"/>
                      </a:lnTo>
                      <a:lnTo>
                        <a:pt x="72" y="1926"/>
                      </a:lnTo>
                      <a:lnTo>
                        <a:pt x="76" y="1932"/>
                      </a:lnTo>
                      <a:lnTo>
                        <a:pt x="84" y="1939"/>
                      </a:lnTo>
                      <a:lnTo>
                        <a:pt x="94" y="1945"/>
                      </a:lnTo>
                      <a:lnTo>
                        <a:pt x="109" y="1951"/>
                      </a:lnTo>
                      <a:lnTo>
                        <a:pt x="128" y="1956"/>
                      </a:lnTo>
                      <a:lnTo>
                        <a:pt x="147" y="1962"/>
                      </a:lnTo>
                      <a:lnTo>
                        <a:pt x="169" y="1967"/>
                      </a:lnTo>
                      <a:lnTo>
                        <a:pt x="193" y="1970"/>
                      </a:lnTo>
                      <a:lnTo>
                        <a:pt x="219" y="1975"/>
                      </a:lnTo>
                      <a:lnTo>
                        <a:pt x="244" y="1978"/>
                      </a:lnTo>
                      <a:lnTo>
                        <a:pt x="269" y="1980"/>
                      </a:lnTo>
                      <a:lnTo>
                        <a:pt x="294" y="1983"/>
                      </a:lnTo>
                      <a:lnTo>
                        <a:pt x="320" y="1985"/>
                      </a:lnTo>
                      <a:lnTo>
                        <a:pt x="343" y="1986"/>
                      </a:lnTo>
                      <a:lnTo>
                        <a:pt x="365" y="1987"/>
                      </a:lnTo>
                      <a:lnTo>
                        <a:pt x="383" y="1987"/>
                      </a:lnTo>
                      <a:lnTo>
                        <a:pt x="400" y="1987"/>
                      </a:lnTo>
                      <a:lnTo>
                        <a:pt x="438" y="1957"/>
                      </a:lnTo>
                      <a:lnTo>
                        <a:pt x="434" y="1904"/>
                      </a:lnTo>
                      <a:lnTo>
                        <a:pt x="423" y="1785"/>
                      </a:lnTo>
                      <a:lnTo>
                        <a:pt x="413" y="1659"/>
                      </a:lnTo>
                      <a:lnTo>
                        <a:pt x="408" y="1586"/>
                      </a:lnTo>
                      <a:lnTo>
                        <a:pt x="408" y="1507"/>
                      </a:lnTo>
                      <a:lnTo>
                        <a:pt x="406" y="1364"/>
                      </a:lnTo>
                      <a:lnTo>
                        <a:pt x="398" y="1224"/>
                      </a:lnTo>
                      <a:lnTo>
                        <a:pt x="380" y="1151"/>
                      </a:lnTo>
                      <a:lnTo>
                        <a:pt x="370" y="1142"/>
                      </a:lnTo>
                      <a:lnTo>
                        <a:pt x="366" y="1131"/>
                      </a:lnTo>
                      <a:lnTo>
                        <a:pt x="367" y="1119"/>
                      </a:lnTo>
                      <a:lnTo>
                        <a:pt x="370" y="1107"/>
                      </a:lnTo>
                      <a:lnTo>
                        <a:pt x="376" y="1097"/>
                      </a:lnTo>
                      <a:lnTo>
                        <a:pt x="382" y="1088"/>
                      </a:lnTo>
                      <a:lnTo>
                        <a:pt x="385" y="1082"/>
                      </a:lnTo>
                      <a:lnTo>
                        <a:pt x="388" y="1079"/>
                      </a:lnTo>
                      <a:lnTo>
                        <a:pt x="388" y="1033"/>
                      </a:lnTo>
                      <a:lnTo>
                        <a:pt x="389" y="927"/>
                      </a:lnTo>
                      <a:lnTo>
                        <a:pt x="393" y="811"/>
                      </a:lnTo>
                      <a:lnTo>
                        <a:pt x="400" y="734"/>
                      </a:lnTo>
                      <a:lnTo>
                        <a:pt x="403" y="744"/>
                      </a:lnTo>
                      <a:lnTo>
                        <a:pt x="409" y="771"/>
                      </a:lnTo>
                      <a:lnTo>
                        <a:pt x="420" y="810"/>
                      </a:lnTo>
                      <a:lnTo>
                        <a:pt x="430" y="857"/>
                      </a:lnTo>
                      <a:lnTo>
                        <a:pt x="441" y="907"/>
                      </a:lnTo>
                      <a:lnTo>
                        <a:pt x="450" y="954"/>
                      </a:lnTo>
                      <a:lnTo>
                        <a:pt x="454" y="995"/>
                      </a:lnTo>
                      <a:lnTo>
                        <a:pt x="454" y="1024"/>
                      </a:lnTo>
                      <a:lnTo>
                        <a:pt x="453" y="1048"/>
                      </a:lnTo>
                      <a:lnTo>
                        <a:pt x="454" y="1073"/>
                      </a:lnTo>
                      <a:lnTo>
                        <a:pt x="459" y="1099"/>
                      </a:lnTo>
                      <a:lnTo>
                        <a:pt x="464" y="1123"/>
                      </a:lnTo>
                      <a:lnTo>
                        <a:pt x="470" y="1146"/>
                      </a:lnTo>
                      <a:lnTo>
                        <a:pt x="476" y="1167"/>
                      </a:lnTo>
                      <a:lnTo>
                        <a:pt x="481" y="1183"/>
                      </a:lnTo>
                      <a:lnTo>
                        <a:pt x="483" y="1194"/>
                      </a:lnTo>
                      <a:lnTo>
                        <a:pt x="487" y="1219"/>
                      </a:lnTo>
                      <a:lnTo>
                        <a:pt x="495" y="1275"/>
                      </a:lnTo>
                      <a:lnTo>
                        <a:pt x="504" y="1351"/>
                      </a:lnTo>
                      <a:lnTo>
                        <a:pt x="514" y="1440"/>
                      </a:lnTo>
                      <a:lnTo>
                        <a:pt x="525" y="1531"/>
                      </a:lnTo>
                      <a:lnTo>
                        <a:pt x="533" y="1615"/>
                      </a:lnTo>
                      <a:lnTo>
                        <a:pt x="537" y="1683"/>
                      </a:lnTo>
                      <a:lnTo>
                        <a:pt x="538" y="1726"/>
                      </a:lnTo>
                      <a:lnTo>
                        <a:pt x="536" y="1790"/>
                      </a:lnTo>
                      <a:lnTo>
                        <a:pt x="535" y="1863"/>
                      </a:lnTo>
                      <a:lnTo>
                        <a:pt x="536" y="1927"/>
                      </a:lnTo>
                      <a:lnTo>
                        <a:pt x="538" y="1966"/>
                      </a:lnTo>
                      <a:lnTo>
                        <a:pt x="542" y="1975"/>
                      </a:lnTo>
                      <a:lnTo>
                        <a:pt x="546" y="1982"/>
                      </a:lnTo>
                      <a:lnTo>
                        <a:pt x="553" y="1989"/>
                      </a:lnTo>
                      <a:lnTo>
                        <a:pt x="561" y="1994"/>
                      </a:lnTo>
                      <a:lnTo>
                        <a:pt x="568" y="1998"/>
                      </a:lnTo>
                      <a:lnTo>
                        <a:pt x="574" y="2001"/>
                      </a:lnTo>
                      <a:lnTo>
                        <a:pt x="579" y="2002"/>
                      </a:lnTo>
                      <a:lnTo>
                        <a:pt x="580" y="2004"/>
                      </a:lnTo>
                      <a:lnTo>
                        <a:pt x="589" y="2006"/>
                      </a:lnTo>
                      <a:lnTo>
                        <a:pt x="602" y="2008"/>
                      </a:lnTo>
                      <a:lnTo>
                        <a:pt x="615" y="2010"/>
                      </a:lnTo>
                      <a:lnTo>
                        <a:pt x="632" y="2012"/>
                      </a:lnTo>
                      <a:lnTo>
                        <a:pt x="649" y="2014"/>
                      </a:lnTo>
                      <a:lnTo>
                        <a:pt x="667" y="2016"/>
                      </a:lnTo>
                      <a:lnTo>
                        <a:pt x="686" y="2017"/>
                      </a:lnTo>
                      <a:lnTo>
                        <a:pt x="705" y="2019"/>
                      </a:lnTo>
                      <a:lnTo>
                        <a:pt x="725" y="2020"/>
                      </a:lnTo>
                      <a:lnTo>
                        <a:pt x="744" y="2021"/>
                      </a:lnTo>
                      <a:lnTo>
                        <a:pt x="764" y="2022"/>
                      </a:lnTo>
                      <a:lnTo>
                        <a:pt x="781" y="2023"/>
                      </a:lnTo>
                      <a:lnTo>
                        <a:pt x="798" y="2024"/>
                      </a:lnTo>
                      <a:lnTo>
                        <a:pt x="813" y="2024"/>
                      </a:lnTo>
                      <a:lnTo>
                        <a:pt x="826" y="2025"/>
                      </a:lnTo>
                      <a:lnTo>
                        <a:pt x="837" y="2025"/>
                      </a:lnTo>
                      <a:lnTo>
                        <a:pt x="867" y="2025"/>
                      </a:lnTo>
                      <a:lnTo>
                        <a:pt x="865" y="2001"/>
                      </a:lnTo>
                      <a:lnTo>
                        <a:pt x="860" y="1938"/>
                      </a:lnTo>
                      <a:lnTo>
                        <a:pt x="854" y="1847"/>
                      </a:lnTo>
                      <a:lnTo>
                        <a:pt x="847" y="1742"/>
                      </a:lnTo>
                      <a:lnTo>
                        <a:pt x="839" y="1635"/>
                      </a:lnTo>
                      <a:lnTo>
                        <a:pt x="832" y="1539"/>
                      </a:lnTo>
                      <a:lnTo>
                        <a:pt x="827" y="1467"/>
                      </a:lnTo>
                      <a:lnTo>
                        <a:pt x="825" y="1430"/>
                      </a:lnTo>
                      <a:lnTo>
                        <a:pt x="825" y="1406"/>
                      </a:lnTo>
                      <a:lnTo>
                        <a:pt x="824" y="1366"/>
                      </a:lnTo>
                      <a:lnTo>
                        <a:pt x="820" y="1316"/>
                      </a:lnTo>
                      <a:lnTo>
                        <a:pt x="817" y="1259"/>
                      </a:lnTo>
                      <a:lnTo>
                        <a:pt x="812" y="1203"/>
                      </a:lnTo>
                      <a:lnTo>
                        <a:pt x="805" y="1150"/>
                      </a:lnTo>
                      <a:lnTo>
                        <a:pt x="797" y="1107"/>
                      </a:lnTo>
                      <a:lnTo>
                        <a:pt x="787" y="1079"/>
                      </a:lnTo>
                      <a:lnTo>
                        <a:pt x="779" y="1063"/>
                      </a:lnTo>
                      <a:lnTo>
                        <a:pt x="776" y="1051"/>
                      </a:lnTo>
                      <a:lnTo>
                        <a:pt x="779" y="1043"/>
                      </a:lnTo>
                      <a:lnTo>
                        <a:pt x="785" y="1037"/>
                      </a:lnTo>
                      <a:lnTo>
                        <a:pt x="791" y="1033"/>
                      </a:lnTo>
                      <a:lnTo>
                        <a:pt x="798" y="1030"/>
                      </a:lnTo>
                      <a:lnTo>
                        <a:pt x="804" y="1025"/>
                      </a:lnTo>
                      <a:lnTo>
                        <a:pt x="808" y="1021"/>
                      </a:lnTo>
                      <a:lnTo>
                        <a:pt x="808" y="1014"/>
                      </a:lnTo>
                      <a:lnTo>
                        <a:pt x="803" y="1006"/>
                      </a:lnTo>
                      <a:lnTo>
                        <a:pt x="797" y="997"/>
                      </a:lnTo>
                      <a:lnTo>
                        <a:pt x="789" y="985"/>
                      </a:lnTo>
                      <a:lnTo>
                        <a:pt x="782" y="973"/>
                      </a:lnTo>
                      <a:lnTo>
                        <a:pt x="776" y="961"/>
                      </a:lnTo>
                      <a:lnTo>
                        <a:pt x="773" y="947"/>
                      </a:lnTo>
                      <a:lnTo>
                        <a:pt x="774" y="932"/>
                      </a:lnTo>
                      <a:lnTo>
                        <a:pt x="775" y="847"/>
                      </a:lnTo>
                      <a:lnTo>
                        <a:pt x="770" y="698"/>
                      </a:lnTo>
                      <a:lnTo>
                        <a:pt x="759" y="548"/>
                      </a:lnTo>
                      <a:lnTo>
                        <a:pt x="749" y="458"/>
                      </a:lnTo>
                      <a:lnTo>
                        <a:pt x="744" y="415"/>
                      </a:lnTo>
                      <a:lnTo>
                        <a:pt x="748" y="367"/>
                      </a:lnTo>
                      <a:lnTo>
                        <a:pt x="756" y="325"/>
                      </a:lnTo>
                      <a:lnTo>
                        <a:pt x="766" y="296"/>
                      </a:lnTo>
                      <a:lnTo>
                        <a:pt x="773" y="278"/>
                      </a:lnTo>
                      <a:lnTo>
                        <a:pt x="775" y="263"/>
                      </a:lnTo>
                      <a:lnTo>
                        <a:pt x="774" y="252"/>
                      </a:lnTo>
                      <a:lnTo>
                        <a:pt x="774" y="249"/>
                      </a:lnTo>
                      <a:lnTo>
                        <a:pt x="776" y="225"/>
                      </a:lnTo>
                      <a:lnTo>
                        <a:pt x="778" y="197"/>
                      </a:lnTo>
                      <a:lnTo>
                        <a:pt x="776" y="167"/>
                      </a:lnTo>
                      <a:lnTo>
                        <a:pt x="774" y="136"/>
                      </a:lnTo>
                      <a:lnTo>
                        <a:pt x="770" y="106"/>
                      </a:lnTo>
                      <a:lnTo>
                        <a:pt x="764" y="78"/>
                      </a:lnTo>
                      <a:lnTo>
                        <a:pt x="755" y="54"/>
                      </a:lnTo>
                      <a:lnTo>
                        <a:pt x="743" y="34"/>
                      </a:lnTo>
                      <a:lnTo>
                        <a:pt x="726" y="40"/>
                      </a:lnTo>
                      <a:lnTo>
                        <a:pt x="707" y="45"/>
                      </a:lnTo>
                      <a:lnTo>
                        <a:pt x="688" y="51"/>
                      </a:lnTo>
                      <a:lnTo>
                        <a:pt x="667" y="55"/>
                      </a:lnTo>
                      <a:lnTo>
                        <a:pt x="646" y="60"/>
                      </a:lnTo>
                      <a:lnTo>
                        <a:pt x="625" y="63"/>
                      </a:lnTo>
                      <a:lnTo>
                        <a:pt x="603" y="68"/>
                      </a:lnTo>
                      <a:lnTo>
                        <a:pt x="582" y="71"/>
                      </a:lnTo>
                      <a:lnTo>
                        <a:pt x="560" y="75"/>
                      </a:lnTo>
                      <a:lnTo>
                        <a:pt x="539" y="78"/>
                      </a:lnTo>
                      <a:lnTo>
                        <a:pt x="519" y="81"/>
                      </a:lnTo>
                      <a:lnTo>
                        <a:pt x="499" y="82"/>
                      </a:lnTo>
                      <a:lnTo>
                        <a:pt x="481" y="84"/>
                      </a:lnTo>
                      <a:lnTo>
                        <a:pt x="464" y="85"/>
                      </a:lnTo>
                      <a:lnTo>
                        <a:pt x="449" y="85"/>
                      </a:lnTo>
                      <a:lnTo>
                        <a:pt x="435" y="85"/>
                      </a:lnTo>
                      <a:lnTo>
                        <a:pt x="406" y="83"/>
                      </a:lnTo>
                      <a:lnTo>
                        <a:pt x="376" y="78"/>
                      </a:lnTo>
                      <a:lnTo>
                        <a:pt x="345" y="72"/>
                      </a:lnTo>
                      <a:lnTo>
                        <a:pt x="313" y="64"/>
                      </a:lnTo>
                      <a:lnTo>
                        <a:pt x="281" y="56"/>
                      </a:lnTo>
                      <a:lnTo>
                        <a:pt x="248" y="47"/>
                      </a:lnTo>
                      <a:lnTo>
                        <a:pt x="216" y="38"/>
                      </a:lnTo>
                      <a:lnTo>
                        <a:pt x="185" y="29"/>
                      </a:lnTo>
                      <a:lnTo>
                        <a:pt x="155" y="21"/>
                      </a:lnTo>
                      <a:lnTo>
                        <a:pt x="126" y="13"/>
                      </a:lnTo>
                      <a:lnTo>
                        <a:pt x="100" y="7"/>
                      </a:lnTo>
                      <a:lnTo>
                        <a:pt x="75" y="2"/>
                      </a:lnTo>
                      <a:lnTo>
                        <a:pt x="52" y="0"/>
                      </a:lnTo>
                      <a:lnTo>
                        <a:pt x="32" y="1"/>
                      </a:lnTo>
                      <a:lnTo>
                        <a:pt x="16" y="3"/>
                      </a:lnTo>
                      <a:lnTo>
                        <a:pt x="2" y="10"/>
                      </a:lnTo>
                      <a:close/>
                    </a:path>
                  </a:pathLst>
                </a:custGeom>
                <a:solidFill>
                  <a:srgbClr val="00ff7f"/>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4" name=""/>
                <p:cNvSpPr/>
                <p:nvPr/>
              </p:nvSpPr>
              <p:spPr>
                <a:xfrm>
                  <a:off x="7202880" y="3895560"/>
                  <a:ext cx="431280" cy="506160"/>
                </a:xfrm>
                <a:custGeom>
                  <a:avLst/>
                  <a:gdLst/>
                  <a:ahLst/>
                  <a:rect l="l" t="t" r="r" b="b"/>
                  <a:pathLst>
                    <a:path w="1026" h="1283">
                      <a:moveTo>
                        <a:pt x="617" y="0"/>
                      </a:moveTo>
                      <a:lnTo>
                        <a:pt x="617" y="9"/>
                      </a:lnTo>
                      <a:lnTo>
                        <a:pt x="615" y="17"/>
                      </a:lnTo>
                      <a:lnTo>
                        <a:pt x="608" y="24"/>
                      </a:lnTo>
                      <a:lnTo>
                        <a:pt x="600" y="30"/>
                      </a:lnTo>
                      <a:lnTo>
                        <a:pt x="589" y="37"/>
                      </a:lnTo>
                      <a:lnTo>
                        <a:pt x="575" y="45"/>
                      </a:lnTo>
                      <a:lnTo>
                        <a:pt x="558" y="55"/>
                      </a:lnTo>
                      <a:lnTo>
                        <a:pt x="539" y="69"/>
                      </a:lnTo>
                      <a:lnTo>
                        <a:pt x="517" y="83"/>
                      </a:lnTo>
                      <a:lnTo>
                        <a:pt x="491" y="96"/>
                      </a:lnTo>
                      <a:lnTo>
                        <a:pt x="463" y="107"/>
                      </a:lnTo>
                      <a:lnTo>
                        <a:pt x="436" y="117"/>
                      </a:lnTo>
                      <a:lnTo>
                        <a:pt x="410" y="124"/>
                      </a:lnTo>
                      <a:lnTo>
                        <a:pt x="390" y="130"/>
                      </a:lnTo>
                      <a:lnTo>
                        <a:pt x="375" y="133"/>
                      </a:lnTo>
                      <a:lnTo>
                        <a:pt x="370" y="134"/>
                      </a:lnTo>
                      <a:lnTo>
                        <a:pt x="350" y="204"/>
                      </a:lnTo>
                      <a:lnTo>
                        <a:pt x="317" y="132"/>
                      </a:lnTo>
                      <a:lnTo>
                        <a:pt x="314" y="132"/>
                      </a:lnTo>
                      <a:lnTo>
                        <a:pt x="304" y="131"/>
                      </a:lnTo>
                      <a:lnTo>
                        <a:pt x="294" y="129"/>
                      </a:lnTo>
                      <a:lnTo>
                        <a:pt x="287" y="124"/>
                      </a:lnTo>
                      <a:lnTo>
                        <a:pt x="285" y="113"/>
                      </a:lnTo>
                      <a:lnTo>
                        <a:pt x="285" y="93"/>
                      </a:lnTo>
                      <a:lnTo>
                        <a:pt x="285" y="71"/>
                      </a:lnTo>
                      <a:lnTo>
                        <a:pt x="285" y="50"/>
                      </a:lnTo>
                      <a:lnTo>
                        <a:pt x="284" y="47"/>
                      </a:lnTo>
                      <a:lnTo>
                        <a:pt x="279" y="39"/>
                      </a:lnTo>
                      <a:lnTo>
                        <a:pt x="272" y="34"/>
                      </a:lnTo>
                      <a:lnTo>
                        <a:pt x="260" y="35"/>
                      </a:lnTo>
                      <a:lnTo>
                        <a:pt x="253" y="40"/>
                      </a:lnTo>
                      <a:lnTo>
                        <a:pt x="247" y="46"/>
                      </a:lnTo>
                      <a:lnTo>
                        <a:pt x="241" y="54"/>
                      </a:lnTo>
                      <a:lnTo>
                        <a:pt x="234" y="62"/>
                      </a:lnTo>
                      <a:lnTo>
                        <a:pt x="227" y="70"/>
                      </a:lnTo>
                      <a:lnTo>
                        <a:pt x="218" y="78"/>
                      </a:lnTo>
                      <a:lnTo>
                        <a:pt x="208" y="85"/>
                      </a:lnTo>
                      <a:lnTo>
                        <a:pt x="195" y="90"/>
                      </a:lnTo>
                      <a:lnTo>
                        <a:pt x="187" y="92"/>
                      </a:lnTo>
                      <a:lnTo>
                        <a:pt x="177" y="94"/>
                      </a:lnTo>
                      <a:lnTo>
                        <a:pt x="164" y="98"/>
                      </a:lnTo>
                      <a:lnTo>
                        <a:pt x="151" y="101"/>
                      </a:lnTo>
                      <a:lnTo>
                        <a:pt x="136" y="104"/>
                      </a:lnTo>
                      <a:lnTo>
                        <a:pt x="121" y="109"/>
                      </a:lnTo>
                      <a:lnTo>
                        <a:pt x="107" y="114"/>
                      </a:lnTo>
                      <a:lnTo>
                        <a:pt x="92" y="119"/>
                      </a:lnTo>
                      <a:lnTo>
                        <a:pt x="77" y="125"/>
                      </a:lnTo>
                      <a:lnTo>
                        <a:pt x="63" y="132"/>
                      </a:lnTo>
                      <a:lnTo>
                        <a:pt x="49" y="139"/>
                      </a:lnTo>
                      <a:lnTo>
                        <a:pt x="37" y="147"/>
                      </a:lnTo>
                      <a:lnTo>
                        <a:pt x="27" y="156"/>
                      </a:lnTo>
                      <a:lnTo>
                        <a:pt x="19" y="164"/>
                      </a:lnTo>
                      <a:lnTo>
                        <a:pt x="13" y="175"/>
                      </a:lnTo>
                      <a:lnTo>
                        <a:pt x="11" y="185"/>
                      </a:lnTo>
                      <a:lnTo>
                        <a:pt x="8" y="243"/>
                      </a:lnTo>
                      <a:lnTo>
                        <a:pt x="4" y="314"/>
                      </a:lnTo>
                      <a:lnTo>
                        <a:pt x="3" y="381"/>
                      </a:lnTo>
                      <a:lnTo>
                        <a:pt x="1" y="419"/>
                      </a:lnTo>
                      <a:lnTo>
                        <a:pt x="0" y="464"/>
                      </a:lnTo>
                      <a:lnTo>
                        <a:pt x="1" y="539"/>
                      </a:lnTo>
                      <a:lnTo>
                        <a:pt x="6" y="608"/>
                      </a:lnTo>
                      <a:lnTo>
                        <a:pt x="18" y="637"/>
                      </a:lnTo>
                      <a:lnTo>
                        <a:pt x="29" y="636"/>
                      </a:lnTo>
                      <a:lnTo>
                        <a:pt x="40" y="636"/>
                      </a:lnTo>
                      <a:lnTo>
                        <a:pt x="49" y="636"/>
                      </a:lnTo>
                      <a:lnTo>
                        <a:pt x="57" y="636"/>
                      </a:lnTo>
                      <a:lnTo>
                        <a:pt x="63" y="636"/>
                      </a:lnTo>
                      <a:lnTo>
                        <a:pt x="67" y="637"/>
                      </a:lnTo>
                      <a:lnTo>
                        <a:pt x="70" y="637"/>
                      </a:lnTo>
                      <a:lnTo>
                        <a:pt x="71" y="637"/>
                      </a:lnTo>
                      <a:lnTo>
                        <a:pt x="109" y="719"/>
                      </a:lnTo>
                      <a:lnTo>
                        <a:pt x="105" y="740"/>
                      </a:lnTo>
                      <a:lnTo>
                        <a:pt x="96" y="792"/>
                      </a:lnTo>
                      <a:lnTo>
                        <a:pt x="87" y="852"/>
                      </a:lnTo>
                      <a:lnTo>
                        <a:pt x="80" y="897"/>
                      </a:lnTo>
                      <a:lnTo>
                        <a:pt x="85" y="954"/>
                      </a:lnTo>
                      <a:lnTo>
                        <a:pt x="89" y="1025"/>
                      </a:lnTo>
                      <a:lnTo>
                        <a:pt x="89" y="1109"/>
                      </a:lnTo>
                      <a:lnTo>
                        <a:pt x="81" y="1208"/>
                      </a:lnTo>
                      <a:lnTo>
                        <a:pt x="95" y="1201"/>
                      </a:lnTo>
                      <a:lnTo>
                        <a:pt x="111" y="1199"/>
                      </a:lnTo>
                      <a:lnTo>
                        <a:pt x="131" y="1198"/>
                      </a:lnTo>
                      <a:lnTo>
                        <a:pt x="154" y="1200"/>
                      </a:lnTo>
                      <a:lnTo>
                        <a:pt x="179" y="1205"/>
                      </a:lnTo>
                      <a:lnTo>
                        <a:pt x="205" y="1211"/>
                      </a:lnTo>
                      <a:lnTo>
                        <a:pt x="234" y="1219"/>
                      </a:lnTo>
                      <a:lnTo>
                        <a:pt x="264" y="1227"/>
                      </a:lnTo>
                      <a:lnTo>
                        <a:pt x="295" y="1236"/>
                      </a:lnTo>
                      <a:lnTo>
                        <a:pt x="327" y="1245"/>
                      </a:lnTo>
                      <a:lnTo>
                        <a:pt x="360" y="1254"/>
                      </a:lnTo>
                      <a:lnTo>
                        <a:pt x="392" y="1262"/>
                      </a:lnTo>
                      <a:lnTo>
                        <a:pt x="424" y="1270"/>
                      </a:lnTo>
                      <a:lnTo>
                        <a:pt x="455" y="1276"/>
                      </a:lnTo>
                      <a:lnTo>
                        <a:pt x="485" y="1281"/>
                      </a:lnTo>
                      <a:lnTo>
                        <a:pt x="514" y="1283"/>
                      </a:lnTo>
                      <a:lnTo>
                        <a:pt x="528" y="1283"/>
                      </a:lnTo>
                      <a:lnTo>
                        <a:pt x="543" y="1283"/>
                      </a:lnTo>
                      <a:lnTo>
                        <a:pt x="560" y="1282"/>
                      </a:lnTo>
                      <a:lnTo>
                        <a:pt x="578" y="1280"/>
                      </a:lnTo>
                      <a:lnTo>
                        <a:pt x="598" y="1279"/>
                      </a:lnTo>
                      <a:lnTo>
                        <a:pt x="618" y="1276"/>
                      </a:lnTo>
                      <a:lnTo>
                        <a:pt x="639" y="1273"/>
                      </a:lnTo>
                      <a:lnTo>
                        <a:pt x="661" y="1269"/>
                      </a:lnTo>
                      <a:lnTo>
                        <a:pt x="682" y="1266"/>
                      </a:lnTo>
                      <a:lnTo>
                        <a:pt x="704" y="1261"/>
                      </a:lnTo>
                      <a:lnTo>
                        <a:pt x="725" y="1258"/>
                      </a:lnTo>
                      <a:lnTo>
                        <a:pt x="746" y="1253"/>
                      </a:lnTo>
                      <a:lnTo>
                        <a:pt x="767" y="1249"/>
                      </a:lnTo>
                      <a:lnTo>
                        <a:pt x="786" y="1243"/>
                      </a:lnTo>
                      <a:lnTo>
                        <a:pt x="805" y="1238"/>
                      </a:lnTo>
                      <a:lnTo>
                        <a:pt x="822" y="1232"/>
                      </a:lnTo>
                      <a:lnTo>
                        <a:pt x="823" y="1232"/>
                      </a:lnTo>
                      <a:lnTo>
                        <a:pt x="826" y="1231"/>
                      </a:lnTo>
                      <a:lnTo>
                        <a:pt x="830" y="1229"/>
                      </a:lnTo>
                      <a:lnTo>
                        <a:pt x="835" y="1227"/>
                      </a:lnTo>
                      <a:lnTo>
                        <a:pt x="841" y="1224"/>
                      </a:lnTo>
                      <a:lnTo>
                        <a:pt x="846" y="1221"/>
                      </a:lnTo>
                      <a:lnTo>
                        <a:pt x="852" y="1217"/>
                      </a:lnTo>
                      <a:lnTo>
                        <a:pt x="857" y="1214"/>
                      </a:lnTo>
                      <a:lnTo>
                        <a:pt x="841" y="1178"/>
                      </a:lnTo>
                      <a:lnTo>
                        <a:pt x="826" y="1129"/>
                      </a:lnTo>
                      <a:lnTo>
                        <a:pt x="813" y="1070"/>
                      </a:lnTo>
                      <a:lnTo>
                        <a:pt x="804" y="1007"/>
                      </a:lnTo>
                      <a:lnTo>
                        <a:pt x="796" y="943"/>
                      </a:lnTo>
                      <a:lnTo>
                        <a:pt x="791" y="886"/>
                      </a:lnTo>
                      <a:lnTo>
                        <a:pt x="789" y="836"/>
                      </a:lnTo>
                      <a:lnTo>
                        <a:pt x="789" y="803"/>
                      </a:lnTo>
                      <a:lnTo>
                        <a:pt x="789" y="795"/>
                      </a:lnTo>
                      <a:lnTo>
                        <a:pt x="788" y="788"/>
                      </a:lnTo>
                      <a:lnTo>
                        <a:pt x="785" y="782"/>
                      </a:lnTo>
                      <a:lnTo>
                        <a:pt x="785" y="780"/>
                      </a:lnTo>
                      <a:lnTo>
                        <a:pt x="791" y="780"/>
                      </a:lnTo>
                      <a:lnTo>
                        <a:pt x="799" y="780"/>
                      </a:lnTo>
                      <a:lnTo>
                        <a:pt x="809" y="780"/>
                      </a:lnTo>
                      <a:lnTo>
                        <a:pt x="821" y="780"/>
                      </a:lnTo>
                      <a:lnTo>
                        <a:pt x="834" y="779"/>
                      </a:lnTo>
                      <a:lnTo>
                        <a:pt x="846" y="776"/>
                      </a:lnTo>
                      <a:lnTo>
                        <a:pt x="859" y="773"/>
                      </a:lnTo>
                      <a:lnTo>
                        <a:pt x="870" y="767"/>
                      </a:lnTo>
                      <a:lnTo>
                        <a:pt x="883" y="760"/>
                      </a:lnTo>
                      <a:lnTo>
                        <a:pt x="898" y="751"/>
                      </a:lnTo>
                      <a:lnTo>
                        <a:pt x="915" y="742"/>
                      </a:lnTo>
                      <a:lnTo>
                        <a:pt x="934" y="731"/>
                      </a:lnTo>
                      <a:lnTo>
                        <a:pt x="952" y="722"/>
                      </a:lnTo>
                      <a:lnTo>
                        <a:pt x="971" y="714"/>
                      </a:lnTo>
                      <a:lnTo>
                        <a:pt x="985" y="708"/>
                      </a:lnTo>
                      <a:lnTo>
                        <a:pt x="999" y="705"/>
                      </a:lnTo>
                      <a:lnTo>
                        <a:pt x="1026" y="704"/>
                      </a:lnTo>
                      <a:lnTo>
                        <a:pt x="1013" y="645"/>
                      </a:lnTo>
                      <a:lnTo>
                        <a:pt x="1015" y="638"/>
                      </a:lnTo>
                      <a:lnTo>
                        <a:pt x="1019" y="623"/>
                      </a:lnTo>
                      <a:lnTo>
                        <a:pt x="1020" y="602"/>
                      </a:lnTo>
                      <a:lnTo>
                        <a:pt x="1018" y="581"/>
                      </a:lnTo>
                      <a:lnTo>
                        <a:pt x="1011" y="558"/>
                      </a:lnTo>
                      <a:lnTo>
                        <a:pt x="997" y="512"/>
                      </a:lnTo>
                      <a:lnTo>
                        <a:pt x="980" y="451"/>
                      </a:lnTo>
                      <a:lnTo>
                        <a:pt x="959" y="383"/>
                      </a:lnTo>
                      <a:lnTo>
                        <a:pt x="939" y="315"/>
                      </a:lnTo>
                      <a:lnTo>
                        <a:pt x="922" y="254"/>
                      </a:lnTo>
                      <a:lnTo>
                        <a:pt x="910" y="208"/>
                      </a:lnTo>
                      <a:lnTo>
                        <a:pt x="904" y="185"/>
                      </a:lnTo>
                      <a:lnTo>
                        <a:pt x="901" y="175"/>
                      </a:lnTo>
                      <a:lnTo>
                        <a:pt x="898" y="164"/>
                      </a:lnTo>
                      <a:lnTo>
                        <a:pt x="892" y="154"/>
                      </a:lnTo>
                      <a:lnTo>
                        <a:pt x="887" y="144"/>
                      </a:lnTo>
                      <a:lnTo>
                        <a:pt x="881" y="134"/>
                      </a:lnTo>
                      <a:lnTo>
                        <a:pt x="873" y="125"/>
                      </a:lnTo>
                      <a:lnTo>
                        <a:pt x="866" y="118"/>
                      </a:lnTo>
                      <a:lnTo>
                        <a:pt x="858" y="113"/>
                      </a:lnTo>
                      <a:lnTo>
                        <a:pt x="852" y="110"/>
                      </a:lnTo>
                      <a:lnTo>
                        <a:pt x="843" y="106"/>
                      </a:lnTo>
                      <a:lnTo>
                        <a:pt x="831" y="102"/>
                      </a:lnTo>
                      <a:lnTo>
                        <a:pt x="816" y="96"/>
                      </a:lnTo>
                      <a:lnTo>
                        <a:pt x="801" y="92"/>
                      </a:lnTo>
                      <a:lnTo>
                        <a:pt x="784" y="86"/>
                      </a:lnTo>
                      <a:lnTo>
                        <a:pt x="767" y="80"/>
                      </a:lnTo>
                      <a:lnTo>
                        <a:pt x="748" y="75"/>
                      </a:lnTo>
                      <a:lnTo>
                        <a:pt x="730" y="69"/>
                      </a:lnTo>
                      <a:lnTo>
                        <a:pt x="714" y="63"/>
                      </a:lnTo>
                      <a:lnTo>
                        <a:pt x="698" y="58"/>
                      </a:lnTo>
                      <a:lnTo>
                        <a:pt x="684" y="55"/>
                      </a:lnTo>
                      <a:lnTo>
                        <a:pt x="673" y="50"/>
                      </a:lnTo>
                      <a:lnTo>
                        <a:pt x="663" y="48"/>
                      </a:lnTo>
                      <a:lnTo>
                        <a:pt x="658" y="47"/>
                      </a:lnTo>
                      <a:lnTo>
                        <a:pt x="655" y="46"/>
                      </a:lnTo>
                      <a:lnTo>
                        <a:pt x="643" y="0"/>
                      </a:lnTo>
                      <a:lnTo>
                        <a:pt x="617" y="0"/>
                      </a:lnTo>
                      <a:close/>
                    </a:path>
                  </a:pathLst>
                </a:custGeom>
                <a:solidFill>
                  <a:srgbClr val="d10033"/>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5" name=""/>
                <p:cNvSpPr/>
                <p:nvPr/>
              </p:nvSpPr>
              <p:spPr>
                <a:xfrm>
                  <a:off x="7176960" y="5131080"/>
                  <a:ext cx="232560" cy="110520"/>
                </a:xfrm>
                <a:custGeom>
                  <a:avLst/>
                  <a:gdLst/>
                  <a:ahLst/>
                  <a:rect l="l" t="t" r="r" b="b"/>
                  <a:pathLst>
                    <a:path w="556" h="280">
                      <a:moveTo>
                        <a:pt x="219" y="0"/>
                      </a:moveTo>
                      <a:lnTo>
                        <a:pt x="219" y="6"/>
                      </a:lnTo>
                      <a:lnTo>
                        <a:pt x="215" y="22"/>
                      </a:lnTo>
                      <a:lnTo>
                        <a:pt x="206" y="43"/>
                      </a:lnTo>
                      <a:lnTo>
                        <a:pt x="189" y="63"/>
                      </a:lnTo>
                      <a:lnTo>
                        <a:pt x="174" y="75"/>
                      </a:lnTo>
                      <a:lnTo>
                        <a:pt x="153" y="89"/>
                      </a:lnTo>
                      <a:lnTo>
                        <a:pt x="128" y="104"/>
                      </a:lnTo>
                      <a:lnTo>
                        <a:pt x="100" y="119"/>
                      </a:lnTo>
                      <a:lnTo>
                        <a:pt x="73" y="135"/>
                      </a:lnTo>
                      <a:lnTo>
                        <a:pt x="49" y="148"/>
                      </a:lnTo>
                      <a:lnTo>
                        <a:pt x="29" y="158"/>
                      </a:lnTo>
                      <a:lnTo>
                        <a:pt x="16" y="165"/>
                      </a:lnTo>
                      <a:lnTo>
                        <a:pt x="6" y="175"/>
                      </a:lnTo>
                      <a:lnTo>
                        <a:pt x="0" y="193"/>
                      </a:lnTo>
                      <a:lnTo>
                        <a:pt x="0" y="213"/>
                      </a:lnTo>
                      <a:lnTo>
                        <a:pt x="9" y="235"/>
                      </a:lnTo>
                      <a:lnTo>
                        <a:pt x="27" y="255"/>
                      </a:lnTo>
                      <a:lnTo>
                        <a:pt x="54" y="271"/>
                      </a:lnTo>
                      <a:lnTo>
                        <a:pt x="95" y="280"/>
                      </a:lnTo>
                      <a:lnTo>
                        <a:pt x="148" y="279"/>
                      </a:lnTo>
                      <a:lnTo>
                        <a:pt x="176" y="274"/>
                      </a:lnTo>
                      <a:lnTo>
                        <a:pt x="200" y="269"/>
                      </a:lnTo>
                      <a:lnTo>
                        <a:pt x="223" y="262"/>
                      </a:lnTo>
                      <a:lnTo>
                        <a:pt x="243" y="254"/>
                      </a:lnTo>
                      <a:lnTo>
                        <a:pt x="260" y="243"/>
                      </a:lnTo>
                      <a:lnTo>
                        <a:pt x="278" y="234"/>
                      </a:lnTo>
                      <a:lnTo>
                        <a:pt x="292" y="224"/>
                      </a:lnTo>
                      <a:lnTo>
                        <a:pt x="307" y="212"/>
                      </a:lnTo>
                      <a:lnTo>
                        <a:pt x="322" y="203"/>
                      </a:lnTo>
                      <a:lnTo>
                        <a:pt x="337" y="193"/>
                      </a:lnTo>
                      <a:lnTo>
                        <a:pt x="353" y="183"/>
                      </a:lnTo>
                      <a:lnTo>
                        <a:pt x="371" y="175"/>
                      </a:lnTo>
                      <a:lnTo>
                        <a:pt x="389" y="168"/>
                      </a:lnTo>
                      <a:lnTo>
                        <a:pt x="410" y="163"/>
                      </a:lnTo>
                      <a:lnTo>
                        <a:pt x="433" y="159"/>
                      </a:lnTo>
                      <a:lnTo>
                        <a:pt x="459" y="157"/>
                      </a:lnTo>
                      <a:lnTo>
                        <a:pt x="505" y="151"/>
                      </a:lnTo>
                      <a:lnTo>
                        <a:pt x="534" y="140"/>
                      </a:lnTo>
                      <a:lnTo>
                        <a:pt x="550" y="122"/>
                      </a:lnTo>
                      <a:lnTo>
                        <a:pt x="556" y="104"/>
                      </a:lnTo>
                      <a:lnTo>
                        <a:pt x="555" y="87"/>
                      </a:lnTo>
                      <a:lnTo>
                        <a:pt x="550" y="70"/>
                      </a:lnTo>
                      <a:lnTo>
                        <a:pt x="546" y="60"/>
                      </a:lnTo>
                      <a:lnTo>
                        <a:pt x="543" y="55"/>
                      </a:lnTo>
                      <a:lnTo>
                        <a:pt x="526" y="55"/>
                      </a:lnTo>
                      <a:lnTo>
                        <a:pt x="508" y="55"/>
                      </a:lnTo>
                      <a:lnTo>
                        <a:pt x="486" y="54"/>
                      </a:lnTo>
                      <a:lnTo>
                        <a:pt x="463" y="53"/>
                      </a:lnTo>
                      <a:lnTo>
                        <a:pt x="437" y="51"/>
                      </a:lnTo>
                      <a:lnTo>
                        <a:pt x="412" y="48"/>
                      </a:lnTo>
                      <a:lnTo>
                        <a:pt x="387" y="46"/>
                      </a:lnTo>
                      <a:lnTo>
                        <a:pt x="362" y="43"/>
                      </a:lnTo>
                      <a:lnTo>
                        <a:pt x="336" y="38"/>
                      </a:lnTo>
                      <a:lnTo>
                        <a:pt x="312" y="35"/>
                      </a:lnTo>
                      <a:lnTo>
                        <a:pt x="290" y="30"/>
                      </a:lnTo>
                      <a:lnTo>
                        <a:pt x="271" y="24"/>
                      </a:lnTo>
                      <a:lnTo>
                        <a:pt x="252" y="19"/>
                      </a:lnTo>
                      <a:lnTo>
                        <a:pt x="237" y="13"/>
                      </a:lnTo>
                      <a:lnTo>
                        <a:pt x="227" y="7"/>
                      </a:lnTo>
                      <a:lnTo>
                        <a:pt x="2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6" name=""/>
                <p:cNvSpPr/>
                <p:nvPr/>
              </p:nvSpPr>
              <p:spPr>
                <a:xfrm>
                  <a:off x="7404480" y="5158800"/>
                  <a:ext cx="183960" cy="121320"/>
                </a:xfrm>
                <a:custGeom>
                  <a:avLst/>
                  <a:gdLst/>
                  <a:ahLst/>
                  <a:rect l="l" t="t" r="r" b="b"/>
                  <a:pathLst>
                    <a:path w="439" h="307">
                      <a:moveTo>
                        <a:pt x="180" y="0"/>
                      </a:moveTo>
                      <a:lnTo>
                        <a:pt x="179" y="2"/>
                      </a:lnTo>
                      <a:lnTo>
                        <a:pt x="175" y="9"/>
                      </a:lnTo>
                      <a:lnTo>
                        <a:pt x="168" y="19"/>
                      </a:lnTo>
                      <a:lnTo>
                        <a:pt x="160" y="32"/>
                      </a:lnTo>
                      <a:lnTo>
                        <a:pt x="151" y="46"/>
                      </a:lnTo>
                      <a:lnTo>
                        <a:pt x="139" y="61"/>
                      </a:lnTo>
                      <a:lnTo>
                        <a:pt x="127" y="74"/>
                      </a:lnTo>
                      <a:lnTo>
                        <a:pt x="113" y="88"/>
                      </a:lnTo>
                      <a:lnTo>
                        <a:pt x="97" y="102"/>
                      </a:lnTo>
                      <a:lnTo>
                        <a:pt x="80" y="117"/>
                      </a:lnTo>
                      <a:lnTo>
                        <a:pt x="62" y="134"/>
                      </a:lnTo>
                      <a:lnTo>
                        <a:pt x="44" y="152"/>
                      </a:lnTo>
                      <a:lnTo>
                        <a:pt x="28" y="170"/>
                      </a:lnTo>
                      <a:lnTo>
                        <a:pt x="14" y="190"/>
                      </a:lnTo>
                      <a:lnTo>
                        <a:pt x="5" y="208"/>
                      </a:lnTo>
                      <a:lnTo>
                        <a:pt x="0" y="228"/>
                      </a:lnTo>
                      <a:lnTo>
                        <a:pt x="0" y="246"/>
                      </a:lnTo>
                      <a:lnTo>
                        <a:pt x="5" y="263"/>
                      </a:lnTo>
                      <a:lnTo>
                        <a:pt x="13" y="278"/>
                      </a:lnTo>
                      <a:lnTo>
                        <a:pt x="26" y="291"/>
                      </a:lnTo>
                      <a:lnTo>
                        <a:pt x="42" y="300"/>
                      </a:lnTo>
                      <a:lnTo>
                        <a:pt x="61" y="306"/>
                      </a:lnTo>
                      <a:lnTo>
                        <a:pt x="85" y="307"/>
                      </a:lnTo>
                      <a:lnTo>
                        <a:pt x="113" y="304"/>
                      </a:lnTo>
                      <a:lnTo>
                        <a:pt x="142" y="299"/>
                      </a:lnTo>
                      <a:lnTo>
                        <a:pt x="171" y="294"/>
                      </a:lnTo>
                      <a:lnTo>
                        <a:pt x="196" y="290"/>
                      </a:lnTo>
                      <a:lnTo>
                        <a:pt x="221" y="283"/>
                      </a:lnTo>
                      <a:lnTo>
                        <a:pt x="243" y="274"/>
                      </a:lnTo>
                      <a:lnTo>
                        <a:pt x="263" y="259"/>
                      </a:lnTo>
                      <a:lnTo>
                        <a:pt x="280" y="239"/>
                      </a:lnTo>
                      <a:lnTo>
                        <a:pt x="294" y="212"/>
                      </a:lnTo>
                      <a:lnTo>
                        <a:pt x="307" y="183"/>
                      </a:lnTo>
                      <a:lnTo>
                        <a:pt x="322" y="161"/>
                      </a:lnTo>
                      <a:lnTo>
                        <a:pt x="339" y="144"/>
                      </a:lnTo>
                      <a:lnTo>
                        <a:pt x="355" y="131"/>
                      </a:lnTo>
                      <a:lnTo>
                        <a:pt x="370" y="122"/>
                      </a:lnTo>
                      <a:lnTo>
                        <a:pt x="383" y="116"/>
                      </a:lnTo>
                      <a:lnTo>
                        <a:pt x="397" y="110"/>
                      </a:lnTo>
                      <a:lnTo>
                        <a:pt x="408" y="106"/>
                      </a:lnTo>
                      <a:lnTo>
                        <a:pt x="417" y="99"/>
                      </a:lnTo>
                      <a:lnTo>
                        <a:pt x="424" y="89"/>
                      </a:lnTo>
                      <a:lnTo>
                        <a:pt x="429" y="78"/>
                      </a:lnTo>
                      <a:lnTo>
                        <a:pt x="434" y="65"/>
                      </a:lnTo>
                      <a:lnTo>
                        <a:pt x="436" y="51"/>
                      </a:lnTo>
                      <a:lnTo>
                        <a:pt x="439" y="40"/>
                      </a:lnTo>
                      <a:lnTo>
                        <a:pt x="439" y="29"/>
                      </a:lnTo>
                      <a:lnTo>
                        <a:pt x="437" y="21"/>
                      </a:lnTo>
                      <a:lnTo>
                        <a:pt x="426" y="21"/>
                      </a:lnTo>
                      <a:lnTo>
                        <a:pt x="413" y="20"/>
                      </a:lnTo>
                      <a:lnTo>
                        <a:pt x="398" y="20"/>
                      </a:lnTo>
                      <a:lnTo>
                        <a:pt x="381" y="19"/>
                      </a:lnTo>
                      <a:lnTo>
                        <a:pt x="364" y="18"/>
                      </a:lnTo>
                      <a:lnTo>
                        <a:pt x="344" y="17"/>
                      </a:lnTo>
                      <a:lnTo>
                        <a:pt x="325" y="16"/>
                      </a:lnTo>
                      <a:lnTo>
                        <a:pt x="305" y="15"/>
                      </a:lnTo>
                      <a:lnTo>
                        <a:pt x="286" y="13"/>
                      </a:lnTo>
                      <a:lnTo>
                        <a:pt x="267" y="12"/>
                      </a:lnTo>
                      <a:lnTo>
                        <a:pt x="249" y="10"/>
                      </a:lnTo>
                      <a:lnTo>
                        <a:pt x="232" y="8"/>
                      </a:lnTo>
                      <a:lnTo>
                        <a:pt x="215" y="6"/>
                      </a:lnTo>
                      <a:lnTo>
                        <a:pt x="202" y="4"/>
                      </a:lnTo>
                      <a:lnTo>
                        <a:pt x="189" y="2"/>
                      </a:lnTo>
                      <a:lnTo>
                        <a:pt x="1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7" name=""/>
                <p:cNvSpPr/>
                <p:nvPr/>
              </p:nvSpPr>
              <p:spPr>
                <a:xfrm>
                  <a:off x="7180920" y="4146480"/>
                  <a:ext cx="68040" cy="429840"/>
                </a:xfrm>
                <a:custGeom>
                  <a:avLst/>
                  <a:gdLst/>
                  <a:ahLst/>
                  <a:rect l="l" t="t" r="r" b="b"/>
                  <a:pathLst>
                    <a:path w="161" h="1088">
                      <a:moveTo>
                        <a:pt x="133" y="572"/>
                      </a:moveTo>
                      <a:lnTo>
                        <a:pt x="131" y="595"/>
                      </a:lnTo>
                      <a:lnTo>
                        <a:pt x="131" y="628"/>
                      </a:lnTo>
                      <a:lnTo>
                        <a:pt x="132" y="659"/>
                      </a:lnTo>
                      <a:lnTo>
                        <a:pt x="133" y="676"/>
                      </a:lnTo>
                      <a:lnTo>
                        <a:pt x="136" y="702"/>
                      </a:lnTo>
                      <a:lnTo>
                        <a:pt x="138" y="751"/>
                      </a:lnTo>
                      <a:lnTo>
                        <a:pt x="139" y="802"/>
                      </a:lnTo>
                      <a:lnTo>
                        <a:pt x="141" y="830"/>
                      </a:lnTo>
                      <a:lnTo>
                        <a:pt x="144" y="876"/>
                      </a:lnTo>
                      <a:lnTo>
                        <a:pt x="146" y="965"/>
                      </a:lnTo>
                      <a:lnTo>
                        <a:pt x="147" y="1050"/>
                      </a:lnTo>
                      <a:lnTo>
                        <a:pt x="148" y="1088"/>
                      </a:lnTo>
                      <a:lnTo>
                        <a:pt x="147" y="1088"/>
                      </a:lnTo>
                      <a:lnTo>
                        <a:pt x="144" y="1087"/>
                      </a:lnTo>
                      <a:lnTo>
                        <a:pt x="137" y="1085"/>
                      </a:lnTo>
                      <a:lnTo>
                        <a:pt x="130" y="1082"/>
                      </a:lnTo>
                      <a:lnTo>
                        <a:pt x="121" y="1078"/>
                      </a:lnTo>
                      <a:lnTo>
                        <a:pt x="110" y="1072"/>
                      </a:lnTo>
                      <a:lnTo>
                        <a:pt x="100" y="1067"/>
                      </a:lnTo>
                      <a:lnTo>
                        <a:pt x="88" y="1058"/>
                      </a:lnTo>
                      <a:lnTo>
                        <a:pt x="78" y="1048"/>
                      </a:lnTo>
                      <a:lnTo>
                        <a:pt x="70" y="1033"/>
                      </a:lnTo>
                      <a:lnTo>
                        <a:pt x="62" y="1015"/>
                      </a:lnTo>
                      <a:lnTo>
                        <a:pt x="55" y="994"/>
                      </a:lnTo>
                      <a:lnTo>
                        <a:pt x="48" y="974"/>
                      </a:lnTo>
                      <a:lnTo>
                        <a:pt x="40" y="955"/>
                      </a:lnTo>
                      <a:lnTo>
                        <a:pt x="32" y="938"/>
                      </a:lnTo>
                      <a:lnTo>
                        <a:pt x="22" y="924"/>
                      </a:lnTo>
                      <a:lnTo>
                        <a:pt x="14" y="909"/>
                      </a:lnTo>
                      <a:lnTo>
                        <a:pt x="10" y="887"/>
                      </a:lnTo>
                      <a:lnTo>
                        <a:pt x="10" y="860"/>
                      </a:lnTo>
                      <a:lnTo>
                        <a:pt x="12" y="830"/>
                      </a:lnTo>
                      <a:lnTo>
                        <a:pt x="17" y="802"/>
                      </a:lnTo>
                      <a:lnTo>
                        <a:pt x="22" y="774"/>
                      </a:lnTo>
                      <a:lnTo>
                        <a:pt x="25" y="751"/>
                      </a:lnTo>
                      <a:lnTo>
                        <a:pt x="26" y="735"/>
                      </a:lnTo>
                      <a:lnTo>
                        <a:pt x="22" y="679"/>
                      </a:lnTo>
                      <a:lnTo>
                        <a:pt x="14" y="583"/>
                      </a:lnTo>
                      <a:lnTo>
                        <a:pt x="4" y="478"/>
                      </a:lnTo>
                      <a:lnTo>
                        <a:pt x="0" y="394"/>
                      </a:lnTo>
                      <a:lnTo>
                        <a:pt x="1" y="361"/>
                      </a:lnTo>
                      <a:lnTo>
                        <a:pt x="6" y="328"/>
                      </a:lnTo>
                      <a:lnTo>
                        <a:pt x="11" y="296"/>
                      </a:lnTo>
                      <a:lnTo>
                        <a:pt x="19" y="265"/>
                      </a:lnTo>
                      <a:lnTo>
                        <a:pt x="27" y="235"/>
                      </a:lnTo>
                      <a:lnTo>
                        <a:pt x="35" y="208"/>
                      </a:lnTo>
                      <a:lnTo>
                        <a:pt x="43" y="184"/>
                      </a:lnTo>
                      <a:lnTo>
                        <a:pt x="50" y="163"/>
                      </a:lnTo>
                      <a:lnTo>
                        <a:pt x="61" y="117"/>
                      </a:lnTo>
                      <a:lnTo>
                        <a:pt x="66" y="64"/>
                      </a:lnTo>
                      <a:lnTo>
                        <a:pt x="69" y="19"/>
                      </a:lnTo>
                      <a:lnTo>
                        <a:pt x="70" y="1"/>
                      </a:lnTo>
                      <a:lnTo>
                        <a:pt x="81" y="0"/>
                      </a:lnTo>
                      <a:lnTo>
                        <a:pt x="92" y="0"/>
                      </a:lnTo>
                      <a:lnTo>
                        <a:pt x="101" y="0"/>
                      </a:lnTo>
                      <a:lnTo>
                        <a:pt x="109" y="0"/>
                      </a:lnTo>
                      <a:lnTo>
                        <a:pt x="115" y="0"/>
                      </a:lnTo>
                      <a:lnTo>
                        <a:pt x="119" y="1"/>
                      </a:lnTo>
                      <a:lnTo>
                        <a:pt x="122" y="1"/>
                      </a:lnTo>
                      <a:lnTo>
                        <a:pt x="123" y="1"/>
                      </a:lnTo>
                      <a:lnTo>
                        <a:pt x="161" y="83"/>
                      </a:lnTo>
                      <a:lnTo>
                        <a:pt x="157" y="104"/>
                      </a:lnTo>
                      <a:lnTo>
                        <a:pt x="148" y="156"/>
                      </a:lnTo>
                      <a:lnTo>
                        <a:pt x="139" y="216"/>
                      </a:lnTo>
                      <a:lnTo>
                        <a:pt x="132" y="261"/>
                      </a:lnTo>
                      <a:lnTo>
                        <a:pt x="137" y="318"/>
                      </a:lnTo>
                      <a:lnTo>
                        <a:pt x="141" y="389"/>
                      </a:lnTo>
                      <a:lnTo>
                        <a:pt x="141" y="473"/>
                      </a:lnTo>
                      <a:lnTo>
                        <a:pt x="133" y="572"/>
                      </a:lnTo>
                      <a:close/>
                    </a:path>
                  </a:pathLst>
                </a:custGeom>
                <a:solidFill>
                  <a:srgbClr val="a54c38"/>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8" name=""/>
                <p:cNvSpPr/>
                <p:nvPr/>
              </p:nvSpPr>
              <p:spPr>
                <a:xfrm>
                  <a:off x="7323120" y="3767040"/>
                  <a:ext cx="139320" cy="208800"/>
                </a:xfrm>
                <a:custGeom>
                  <a:avLst/>
                  <a:gdLst/>
                  <a:ahLst/>
                  <a:rect l="l" t="t" r="r" b="b"/>
                  <a:pathLst>
                    <a:path w="332" h="532">
                      <a:moveTo>
                        <a:pt x="32" y="316"/>
                      </a:moveTo>
                      <a:lnTo>
                        <a:pt x="63" y="316"/>
                      </a:lnTo>
                      <a:lnTo>
                        <a:pt x="94" y="312"/>
                      </a:lnTo>
                      <a:lnTo>
                        <a:pt x="123" y="305"/>
                      </a:lnTo>
                      <a:lnTo>
                        <a:pt x="149" y="294"/>
                      </a:lnTo>
                      <a:lnTo>
                        <a:pt x="172" y="284"/>
                      </a:lnTo>
                      <a:lnTo>
                        <a:pt x="192" y="272"/>
                      </a:lnTo>
                      <a:lnTo>
                        <a:pt x="206" y="262"/>
                      </a:lnTo>
                      <a:lnTo>
                        <a:pt x="214" y="254"/>
                      </a:lnTo>
                      <a:lnTo>
                        <a:pt x="224" y="238"/>
                      </a:lnTo>
                      <a:lnTo>
                        <a:pt x="232" y="223"/>
                      </a:lnTo>
                      <a:lnTo>
                        <a:pt x="236" y="207"/>
                      </a:lnTo>
                      <a:lnTo>
                        <a:pt x="236" y="192"/>
                      </a:lnTo>
                      <a:lnTo>
                        <a:pt x="232" y="172"/>
                      </a:lnTo>
                      <a:lnTo>
                        <a:pt x="231" y="146"/>
                      </a:lnTo>
                      <a:lnTo>
                        <a:pt x="232" y="123"/>
                      </a:lnTo>
                      <a:lnTo>
                        <a:pt x="233" y="109"/>
                      </a:lnTo>
                      <a:lnTo>
                        <a:pt x="232" y="97"/>
                      </a:lnTo>
                      <a:lnTo>
                        <a:pt x="229" y="79"/>
                      </a:lnTo>
                      <a:lnTo>
                        <a:pt x="226" y="59"/>
                      </a:lnTo>
                      <a:lnTo>
                        <a:pt x="228" y="45"/>
                      </a:lnTo>
                      <a:lnTo>
                        <a:pt x="230" y="40"/>
                      </a:lnTo>
                      <a:lnTo>
                        <a:pt x="233" y="32"/>
                      </a:lnTo>
                      <a:lnTo>
                        <a:pt x="237" y="23"/>
                      </a:lnTo>
                      <a:lnTo>
                        <a:pt x="241" y="15"/>
                      </a:lnTo>
                      <a:lnTo>
                        <a:pt x="248" y="8"/>
                      </a:lnTo>
                      <a:lnTo>
                        <a:pt x="255" y="3"/>
                      </a:lnTo>
                      <a:lnTo>
                        <a:pt x="264" y="0"/>
                      </a:lnTo>
                      <a:lnTo>
                        <a:pt x="276" y="2"/>
                      </a:lnTo>
                      <a:lnTo>
                        <a:pt x="293" y="10"/>
                      </a:lnTo>
                      <a:lnTo>
                        <a:pt x="301" y="22"/>
                      </a:lnTo>
                      <a:lnTo>
                        <a:pt x="301" y="38"/>
                      </a:lnTo>
                      <a:lnTo>
                        <a:pt x="298" y="55"/>
                      </a:lnTo>
                      <a:lnTo>
                        <a:pt x="293" y="71"/>
                      </a:lnTo>
                      <a:lnTo>
                        <a:pt x="287" y="85"/>
                      </a:lnTo>
                      <a:lnTo>
                        <a:pt x="282" y="96"/>
                      </a:lnTo>
                      <a:lnTo>
                        <a:pt x="278" y="104"/>
                      </a:lnTo>
                      <a:lnTo>
                        <a:pt x="278" y="110"/>
                      </a:lnTo>
                      <a:lnTo>
                        <a:pt x="278" y="123"/>
                      </a:lnTo>
                      <a:lnTo>
                        <a:pt x="282" y="138"/>
                      </a:lnTo>
                      <a:lnTo>
                        <a:pt x="287" y="154"/>
                      </a:lnTo>
                      <a:lnTo>
                        <a:pt x="296" y="170"/>
                      </a:lnTo>
                      <a:lnTo>
                        <a:pt x="302" y="185"/>
                      </a:lnTo>
                      <a:lnTo>
                        <a:pt x="310" y="199"/>
                      </a:lnTo>
                      <a:lnTo>
                        <a:pt x="316" y="210"/>
                      </a:lnTo>
                      <a:lnTo>
                        <a:pt x="320" y="218"/>
                      </a:lnTo>
                      <a:lnTo>
                        <a:pt x="332" y="328"/>
                      </a:lnTo>
                      <a:lnTo>
                        <a:pt x="332" y="337"/>
                      </a:lnTo>
                      <a:lnTo>
                        <a:pt x="330" y="345"/>
                      </a:lnTo>
                      <a:lnTo>
                        <a:pt x="323" y="352"/>
                      </a:lnTo>
                      <a:lnTo>
                        <a:pt x="315" y="358"/>
                      </a:lnTo>
                      <a:lnTo>
                        <a:pt x="304" y="365"/>
                      </a:lnTo>
                      <a:lnTo>
                        <a:pt x="290" y="373"/>
                      </a:lnTo>
                      <a:lnTo>
                        <a:pt x="273" y="383"/>
                      </a:lnTo>
                      <a:lnTo>
                        <a:pt x="254" y="397"/>
                      </a:lnTo>
                      <a:lnTo>
                        <a:pt x="232" y="411"/>
                      </a:lnTo>
                      <a:lnTo>
                        <a:pt x="206" y="424"/>
                      </a:lnTo>
                      <a:lnTo>
                        <a:pt x="178" y="435"/>
                      </a:lnTo>
                      <a:lnTo>
                        <a:pt x="151" y="445"/>
                      </a:lnTo>
                      <a:lnTo>
                        <a:pt x="125" y="452"/>
                      </a:lnTo>
                      <a:lnTo>
                        <a:pt x="105" y="458"/>
                      </a:lnTo>
                      <a:lnTo>
                        <a:pt x="90" y="461"/>
                      </a:lnTo>
                      <a:lnTo>
                        <a:pt x="85" y="462"/>
                      </a:lnTo>
                      <a:lnTo>
                        <a:pt x="65" y="532"/>
                      </a:lnTo>
                      <a:lnTo>
                        <a:pt x="32" y="460"/>
                      </a:lnTo>
                      <a:lnTo>
                        <a:pt x="29" y="460"/>
                      </a:lnTo>
                      <a:lnTo>
                        <a:pt x="19" y="459"/>
                      </a:lnTo>
                      <a:lnTo>
                        <a:pt x="9" y="457"/>
                      </a:lnTo>
                      <a:lnTo>
                        <a:pt x="2" y="452"/>
                      </a:lnTo>
                      <a:lnTo>
                        <a:pt x="0" y="441"/>
                      </a:lnTo>
                      <a:lnTo>
                        <a:pt x="0" y="421"/>
                      </a:lnTo>
                      <a:lnTo>
                        <a:pt x="0" y="399"/>
                      </a:lnTo>
                      <a:lnTo>
                        <a:pt x="0" y="378"/>
                      </a:lnTo>
                      <a:lnTo>
                        <a:pt x="11" y="374"/>
                      </a:lnTo>
                      <a:lnTo>
                        <a:pt x="21" y="366"/>
                      </a:lnTo>
                      <a:lnTo>
                        <a:pt x="26" y="356"/>
                      </a:lnTo>
                      <a:lnTo>
                        <a:pt x="30" y="345"/>
                      </a:lnTo>
                      <a:lnTo>
                        <a:pt x="32" y="335"/>
                      </a:lnTo>
                      <a:lnTo>
                        <a:pt x="32" y="325"/>
                      </a:lnTo>
                      <a:lnTo>
                        <a:pt x="32" y="318"/>
                      </a:lnTo>
                      <a:lnTo>
                        <a:pt x="32" y="316"/>
                      </a:lnTo>
                      <a:close/>
                    </a:path>
                  </a:pathLst>
                </a:custGeom>
                <a:solidFill>
                  <a:srgbClr val="a54c38"/>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9" name=""/>
                <p:cNvSpPr/>
                <p:nvPr/>
              </p:nvSpPr>
              <p:spPr>
                <a:xfrm>
                  <a:off x="7280280" y="3694320"/>
                  <a:ext cx="127440" cy="146520"/>
                </a:xfrm>
                <a:custGeom>
                  <a:avLst/>
                  <a:gdLst/>
                  <a:ahLst/>
                  <a:rect l="l" t="t" r="r" b="b"/>
                  <a:pathLst>
                    <a:path w="304" h="373">
                      <a:moveTo>
                        <a:pt x="38" y="342"/>
                      </a:moveTo>
                      <a:lnTo>
                        <a:pt x="40" y="342"/>
                      </a:lnTo>
                      <a:lnTo>
                        <a:pt x="43" y="342"/>
                      </a:lnTo>
                      <a:lnTo>
                        <a:pt x="48" y="341"/>
                      </a:lnTo>
                      <a:lnTo>
                        <a:pt x="55" y="340"/>
                      </a:lnTo>
                      <a:lnTo>
                        <a:pt x="61" y="339"/>
                      </a:lnTo>
                      <a:lnTo>
                        <a:pt x="71" y="337"/>
                      </a:lnTo>
                      <a:lnTo>
                        <a:pt x="80" y="333"/>
                      </a:lnTo>
                      <a:lnTo>
                        <a:pt x="90" y="328"/>
                      </a:lnTo>
                      <a:lnTo>
                        <a:pt x="102" y="326"/>
                      </a:lnTo>
                      <a:lnTo>
                        <a:pt x="114" y="328"/>
                      </a:lnTo>
                      <a:lnTo>
                        <a:pt x="129" y="334"/>
                      </a:lnTo>
                      <a:lnTo>
                        <a:pt x="143" y="342"/>
                      </a:lnTo>
                      <a:lnTo>
                        <a:pt x="158" y="350"/>
                      </a:lnTo>
                      <a:lnTo>
                        <a:pt x="171" y="360"/>
                      </a:lnTo>
                      <a:lnTo>
                        <a:pt x="181" y="366"/>
                      </a:lnTo>
                      <a:lnTo>
                        <a:pt x="189" y="370"/>
                      </a:lnTo>
                      <a:lnTo>
                        <a:pt x="213" y="373"/>
                      </a:lnTo>
                      <a:lnTo>
                        <a:pt x="235" y="368"/>
                      </a:lnTo>
                      <a:lnTo>
                        <a:pt x="254" y="356"/>
                      </a:lnTo>
                      <a:lnTo>
                        <a:pt x="270" y="340"/>
                      </a:lnTo>
                      <a:lnTo>
                        <a:pt x="281" y="322"/>
                      </a:lnTo>
                      <a:lnTo>
                        <a:pt x="290" y="302"/>
                      </a:lnTo>
                      <a:lnTo>
                        <a:pt x="295" y="285"/>
                      </a:lnTo>
                      <a:lnTo>
                        <a:pt x="295" y="271"/>
                      </a:lnTo>
                      <a:lnTo>
                        <a:pt x="294" y="243"/>
                      </a:lnTo>
                      <a:lnTo>
                        <a:pt x="298" y="210"/>
                      </a:lnTo>
                      <a:lnTo>
                        <a:pt x="303" y="179"/>
                      </a:lnTo>
                      <a:lnTo>
                        <a:pt x="304" y="153"/>
                      </a:lnTo>
                      <a:lnTo>
                        <a:pt x="300" y="143"/>
                      </a:lnTo>
                      <a:lnTo>
                        <a:pt x="287" y="135"/>
                      </a:lnTo>
                      <a:lnTo>
                        <a:pt x="267" y="127"/>
                      </a:lnTo>
                      <a:lnTo>
                        <a:pt x="246" y="120"/>
                      </a:lnTo>
                      <a:lnTo>
                        <a:pt x="220" y="114"/>
                      </a:lnTo>
                      <a:lnTo>
                        <a:pt x="194" y="110"/>
                      </a:lnTo>
                      <a:lnTo>
                        <a:pt x="170" y="107"/>
                      </a:lnTo>
                      <a:lnTo>
                        <a:pt x="148" y="106"/>
                      </a:lnTo>
                      <a:lnTo>
                        <a:pt x="129" y="103"/>
                      </a:lnTo>
                      <a:lnTo>
                        <a:pt x="113" y="96"/>
                      </a:lnTo>
                      <a:lnTo>
                        <a:pt x="99" y="86"/>
                      </a:lnTo>
                      <a:lnTo>
                        <a:pt x="88" y="74"/>
                      </a:lnTo>
                      <a:lnTo>
                        <a:pt x="79" y="61"/>
                      </a:lnTo>
                      <a:lnTo>
                        <a:pt x="71" y="48"/>
                      </a:lnTo>
                      <a:lnTo>
                        <a:pt x="66" y="37"/>
                      </a:lnTo>
                      <a:lnTo>
                        <a:pt x="63" y="27"/>
                      </a:lnTo>
                      <a:lnTo>
                        <a:pt x="56" y="12"/>
                      </a:lnTo>
                      <a:lnTo>
                        <a:pt x="46" y="2"/>
                      </a:lnTo>
                      <a:lnTo>
                        <a:pt x="37" y="0"/>
                      </a:lnTo>
                      <a:lnTo>
                        <a:pt x="33" y="6"/>
                      </a:lnTo>
                      <a:lnTo>
                        <a:pt x="29" y="16"/>
                      </a:lnTo>
                      <a:lnTo>
                        <a:pt x="22" y="27"/>
                      </a:lnTo>
                      <a:lnTo>
                        <a:pt x="13" y="37"/>
                      </a:lnTo>
                      <a:lnTo>
                        <a:pt x="0" y="46"/>
                      </a:lnTo>
                      <a:lnTo>
                        <a:pt x="2" y="57"/>
                      </a:lnTo>
                      <a:lnTo>
                        <a:pt x="4" y="80"/>
                      </a:lnTo>
                      <a:lnTo>
                        <a:pt x="5" y="105"/>
                      </a:lnTo>
                      <a:lnTo>
                        <a:pt x="5" y="121"/>
                      </a:lnTo>
                      <a:lnTo>
                        <a:pt x="3" y="134"/>
                      </a:lnTo>
                      <a:lnTo>
                        <a:pt x="3" y="150"/>
                      </a:lnTo>
                      <a:lnTo>
                        <a:pt x="9" y="167"/>
                      </a:lnTo>
                      <a:lnTo>
                        <a:pt x="21" y="183"/>
                      </a:lnTo>
                      <a:lnTo>
                        <a:pt x="30" y="198"/>
                      </a:lnTo>
                      <a:lnTo>
                        <a:pt x="30" y="211"/>
                      </a:lnTo>
                      <a:lnTo>
                        <a:pt x="25" y="222"/>
                      </a:lnTo>
                      <a:lnTo>
                        <a:pt x="21" y="231"/>
                      </a:lnTo>
                      <a:lnTo>
                        <a:pt x="20" y="241"/>
                      </a:lnTo>
                      <a:lnTo>
                        <a:pt x="19" y="259"/>
                      </a:lnTo>
                      <a:lnTo>
                        <a:pt x="21" y="285"/>
                      </a:lnTo>
                      <a:lnTo>
                        <a:pt x="30" y="316"/>
                      </a:lnTo>
                      <a:lnTo>
                        <a:pt x="34" y="324"/>
                      </a:lnTo>
                      <a:lnTo>
                        <a:pt x="36" y="333"/>
                      </a:lnTo>
                      <a:lnTo>
                        <a:pt x="37" y="340"/>
                      </a:lnTo>
                      <a:lnTo>
                        <a:pt x="38" y="342"/>
                      </a:lnTo>
                      <a:close/>
                    </a:path>
                  </a:pathLst>
                </a:custGeom>
                <a:solidFill>
                  <a:srgbClr val="a54c38"/>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0" name=""/>
                <p:cNvSpPr/>
                <p:nvPr/>
              </p:nvSpPr>
              <p:spPr>
                <a:xfrm>
                  <a:off x="7299720" y="4174200"/>
                  <a:ext cx="333360" cy="348480"/>
                </a:xfrm>
                <a:custGeom>
                  <a:avLst/>
                  <a:gdLst/>
                  <a:ahLst/>
                  <a:rect l="l" t="t" r="r" b="b"/>
                  <a:pathLst>
                    <a:path w="794" h="885">
                      <a:moveTo>
                        <a:pt x="12" y="857"/>
                      </a:moveTo>
                      <a:lnTo>
                        <a:pt x="4" y="862"/>
                      </a:lnTo>
                      <a:lnTo>
                        <a:pt x="0" y="867"/>
                      </a:lnTo>
                      <a:lnTo>
                        <a:pt x="3" y="874"/>
                      </a:lnTo>
                      <a:lnTo>
                        <a:pt x="13" y="882"/>
                      </a:lnTo>
                      <a:lnTo>
                        <a:pt x="22" y="885"/>
                      </a:lnTo>
                      <a:lnTo>
                        <a:pt x="33" y="883"/>
                      </a:lnTo>
                      <a:lnTo>
                        <a:pt x="46" y="879"/>
                      </a:lnTo>
                      <a:lnTo>
                        <a:pt x="60" y="873"/>
                      </a:lnTo>
                      <a:lnTo>
                        <a:pt x="73" y="866"/>
                      </a:lnTo>
                      <a:lnTo>
                        <a:pt x="84" y="858"/>
                      </a:lnTo>
                      <a:lnTo>
                        <a:pt x="93" y="851"/>
                      </a:lnTo>
                      <a:lnTo>
                        <a:pt x="97" y="847"/>
                      </a:lnTo>
                      <a:lnTo>
                        <a:pt x="98" y="849"/>
                      </a:lnTo>
                      <a:lnTo>
                        <a:pt x="101" y="854"/>
                      </a:lnTo>
                      <a:lnTo>
                        <a:pt x="105" y="859"/>
                      </a:lnTo>
                      <a:lnTo>
                        <a:pt x="112" y="864"/>
                      </a:lnTo>
                      <a:lnTo>
                        <a:pt x="122" y="869"/>
                      </a:lnTo>
                      <a:lnTo>
                        <a:pt x="134" y="869"/>
                      </a:lnTo>
                      <a:lnTo>
                        <a:pt x="150" y="863"/>
                      </a:lnTo>
                      <a:lnTo>
                        <a:pt x="168" y="851"/>
                      </a:lnTo>
                      <a:lnTo>
                        <a:pt x="170" y="852"/>
                      </a:lnTo>
                      <a:lnTo>
                        <a:pt x="174" y="856"/>
                      </a:lnTo>
                      <a:lnTo>
                        <a:pt x="181" y="859"/>
                      </a:lnTo>
                      <a:lnTo>
                        <a:pt x="190" y="863"/>
                      </a:lnTo>
                      <a:lnTo>
                        <a:pt x="202" y="863"/>
                      </a:lnTo>
                      <a:lnTo>
                        <a:pt x="214" y="860"/>
                      </a:lnTo>
                      <a:lnTo>
                        <a:pt x="228" y="854"/>
                      </a:lnTo>
                      <a:lnTo>
                        <a:pt x="243" y="840"/>
                      </a:lnTo>
                      <a:lnTo>
                        <a:pt x="244" y="841"/>
                      </a:lnTo>
                      <a:lnTo>
                        <a:pt x="247" y="843"/>
                      </a:lnTo>
                      <a:lnTo>
                        <a:pt x="252" y="844"/>
                      </a:lnTo>
                      <a:lnTo>
                        <a:pt x="258" y="844"/>
                      </a:lnTo>
                      <a:lnTo>
                        <a:pt x="265" y="842"/>
                      </a:lnTo>
                      <a:lnTo>
                        <a:pt x="274" y="835"/>
                      </a:lnTo>
                      <a:lnTo>
                        <a:pt x="283" y="824"/>
                      </a:lnTo>
                      <a:lnTo>
                        <a:pt x="293" y="804"/>
                      </a:lnTo>
                      <a:lnTo>
                        <a:pt x="302" y="786"/>
                      </a:lnTo>
                      <a:lnTo>
                        <a:pt x="309" y="768"/>
                      </a:lnTo>
                      <a:lnTo>
                        <a:pt x="313" y="753"/>
                      </a:lnTo>
                      <a:lnTo>
                        <a:pt x="318" y="742"/>
                      </a:lnTo>
                      <a:lnTo>
                        <a:pt x="320" y="726"/>
                      </a:lnTo>
                      <a:lnTo>
                        <a:pt x="323" y="699"/>
                      </a:lnTo>
                      <a:lnTo>
                        <a:pt x="327" y="671"/>
                      </a:lnTo>
                      <a:lnTo>
                        <a:pt x="336" y="651"/>
                      </a:lnTo>
                      <a:lnTo>
                        <a:pt x="362" y="632"/>
                      </a:lnTo>
                      <a:lnTo>
                        <a:pt x="364" y="630"/>
                      </a:lnTo>
                      <a:lnTo>
                        <a:pt x="371" y="625"/>
                      </a:lnTo>
                      <a:lnTo>
                        <a:pt x="382" y="617"/>
                      </a:lnTo>
                      <a:lnTo>
                        <a:pt x="396" y="607"/>
                      </a:lnTo>
                      <a:lnTo>
                        <a:pt x="413" y="593"/>
                      </a:lnTo>
                      <a:lnTo>
                        <a:pt x="433" y="579"/>
                      </a:lnTo>
                      <a:lnTo>
                        <a:pt x="454" y="563"/>
                      </a:lnTo>
                      <a:lnTo>
                        <a:pt x="477" y="546"/>
                      </a:lnTo>
                      <a:lnTo>
                        <a:pt x="499" y="529"/>
                      </a:lnTo>
                      <a:lnTo>
                        <a:pt x="522" y="510"/>
                      </a:lnTo>
                      <a:lnTo>
                        <a:pt x="543" y="493"/>
                      </a:lnTo>
                      <a:lnTo>
                        <a:pt x="564" y="476"/>
                      </a:lnTo>
                      <a:lnTo>
                        <a:pt x="584" y="459"/>
                      </a:lnTo>
                      <a:lnTo>
                        <a:pt x="601" y="445"/>
                      </a:lnTo>
                      <a:lnTo>
                        <a:pt x="615" y="432"/>
                      </a:lnTo>
                      <a:lnTo>
                        <a:pt x="625" y="421"/>
                      </a:lnTo>
                      <a:lnTo>
                        <a:pt x="640" y="404"/>
                      </a:lnTo>
                      <a:lnTo>
                        <a:pt x="655" y="387"/>
                      </a:lnTo>
                      <a:lnTo>
                        <a:pt x="669" y="371"/>
                      </a:lnTo>
                      <a:lnTo>
                        <a:pt x="683" y="355"/>
                      </a:lnTo>
                      <a:lnTo>
                        <a:pt x="694" y="340"/>
                      </a:lnTo>
                      <a:lnTo>
                        <a:pt x="706" y="327"/>
                      </a:lnTo>
                      <a:lnTo>
                        <a:pt x="715" y="315"/>
                      </a:lnTo>
                      <a:lnTo>
                        <a:pt x="722" y="307"/>
                      </a:lnTo>
                      <a:lnTo>
                        <a:pt x="725" y="303"/>
                      </a:lnTo>
                      <a:lnTo>
                        <a:pt x="734" y="291"/>
                      </a:lnTo>
                      <a:lnTo>
                        <a:pt x="747" y="274"/>
                      </a:lnTo>
                      <a:lnTo>
                        <a:pt x="761" y="253"/>
                      </a:lnTo>
                      <a:lnTo>
                        <a:pt x="775" y="228"/>
                      </a:lnTo>
                      <a:lnTo>
                        <a:pt x="786" y="201"/>
                      </a:lnTo>
                      <a:lnTo>
                        <a:pt x="793" y="176"/>
                      </a:lnTo>
                      <a:lnTo>
                        <a:pt x="794" y="151"/>
                      </a:lnTo>
                      <a:lnTo>
                        <a:pt x="787" y="100"/>
                      </a:lnTo>
                      <a:lnTo>
                        <a:pt x="779" y="52"/>
                      </a:lnTo>
                      <a:lnTo>
                        <a:pt x="774" y="15"/>
                      </a:lnTo>
                      <a:lnTo>
                        <a:pt x="771" y="0"/>
                      </a:lnTo>
                      <a:lnTo>
                        <a:pt x="757" y="3"/>
                      </a:lnTo>
                      <a:lnTo>
                        <a:pt x="743" y="9"/>
                      </a:lnTo>
                      <a:lnTo>
                        <a:pt x="724" y="17"/>
                      </a:lnTo>
                      <a:lnTo>
                        <a:pt x="706" y="26"/>
                      </a:lnTo>
                      <a:lnTo>
                        <a:pt x="687" y="37"/>
                      </a:lnTo>
                      <a:lnTo>
                        <a:pt x="670" y="46"/>
                      </a:lnTo>
                      <a:lnTo>
                        <a:pt x="655" y="55"/>
                      </a:lnTo>
                      <a:lnTo>
                        <a:pt x="642" y="62"/>
                      </a:lnTo>
                      <a:lnTo>
                        <a:pt x="631" y="68"/>
                      </a:lnTo>
                      <a:lnTo>
                        <a:pt x="618" y="71"/>
                      </a:lnTo>
                      <a:lnTo>
                        <a:pt x="606" y="74"/>
                      </a:lnTo>
                      <a:lnTo>
                        <a:pt x="593" y="75"/>
                      </a:lnTo>
                      <a:lnTo>
                        <a:pt x="581" y="75"/>
                      </a:lnTo>
                      <a:lnTo>
                        <a:pt x="571" y="75"/>
                      </a:lnTo>
                      <a:lnTo>
                        <a:pt x="563" y="75"/>
                      </a:lnTo>
                      <a:lnTo>
                        <a:pt x="557" y="75"/>
                      </a:lnTo>
                      <a:lnTo>
                        <a:pt x="557" y="77"/>
                      </a:lnTo>
                      <a:lnTo>
                        <a:pt x="560" y="83"/>
                      </a:lnTo>
                      <a:lnTo>
                        <a:pt x="561" y="90"/>
                      </a:lnTo>
                      <a:lnTo>
                        <a:pt x="561" y="98"/>
                      </a:lnTo>
                      <a:lnTo>
                        <a:pt x="561" y="108"/>
                      </a:lnTo>
                      <a:lnTo>
                        <a:pt x="556" y="118"/>
                      </a:lnTo>
                      <a:lnTo>
                        <a:pt x="550" y="127"/>
                      </a:lnTo>
                      <a:lnTo>
                        <a:pt x="545" y="132"/>
                      </a:lnTo>
                      <a:lnTo>
                        <a:pt x="538" y="140"/>
                      </a:lnTo>
                      <a:lnTo>
                        <a:pt x="525" y="156"/>
                      </a:lnTo>
                      <a:lnTo>
                        <a:pt x="509" y="180"/>
                      </a:lnTo>
                      <a:lnTo>
                        <a:pt x="491" y="205"/>
                      </a:lnTo>
                      <a:lnTo>
                        <a:pt x="472" y="233"/>
                      </a:lnTo>
                      <a:lnTo>
                        <a:pt x="455" y="258"/>
                      </a:lnTo>
                      <a:lnTo>
                        <a:pt x="440" y="280"/>
                      </a:lnTo>
                      <a:lnTo>
                        <a:pt x="430" y="295"/>
                      </a:lnTo>
                      <a:lnTo>
                        <a:pt x="418" y="309"/>
                      </a:lnTo>
                      <a:lnTo>
                        <a:pt x="403" y="328"/>
                      </a:lnTo>
                      <a:lnTo>
                        <a:pt x="384" y="351"/>
                      </a:lnTo>
                      <a:lnTo>
                        <a:pt x="363" y="374"/>
                      </a:lnTo>
                      <a:lnTo>
                        <a:pt x="342" y="397"/>
                      </a:lnTo>
                      <a:lnTo>
                        <a:pt x="323" y="418"/>
                      </a:lnTo>
                      <a:lnTo>
                        <a:pt x="308" y="434"/>
                      </a:lnTo>
                      <a:lnTo>
                        <a:pt x="296" y="445"/>
                      </a:lnTo>
                      <a:lnTo>
                        <a:pt x="292" y="440"/>
                      </a:lnTo>
                      <a:lnTo>
                        <a:pt x="251" y="472"/>
                      </a:lnTo>
                      <a:lnTo>
                        <a:pt x="251" y="478"/>
                      </a:lnTo>
                      <a:lnTo>
                        <a:pt x="250" y="479"/>
                      </a:lnTo>
                      <a:lnTo>
                        <a:pt x="248" y="483"/>
                      </a:lnTo>
                      <a:lnTo>
                        <a:pt x="243" y="488"/>
                      </a:lnTo>
                      <a:lnTo>
                        <a:pt x="237" y="494"/>
                      </a:lnTo>
                      <a:lnTo>
                        <a:pt x="229" y="501"/>
                      </a:lnTo>
                      <a:lnTo>
                        <a:pt x="220" y="509"/>
                      </a:lnTo>
                      <a:lnTo>
                        <a:pt x="210" y="515"/>
                      </a:lnTo>
                      <a:lnTo>
                        <a:pt x="198" y="521"/>
                      </a:lnTo>
                      <a:lnTo>
                        <a:pt x="187" y="525"/>
                      </a:lnTo>
                      <a:lnTo>
                        <a:pt x="176" y="529"/>
                      </a:lnTo>
                      <a:lnTo>
                        <a:pt x="167" y="533"/>
                      </a:lnTo>
                      <a:lnTo>
                        <a:pt x="159" y="537"/>
                      </a:lnTo>
                      <a:lnTo>
                        <a:pt x="152" y="541"/>
                      </a:lnTo>
                      <a:lnTo>
                        <a:pt x="145" y="546"/>
                      </a:lnTo>
                      <a:lnTo>
                        <a:pt x="139" y="552"/>
                      </a:lnTo>
                      <a:lnTo>
                        <a:pt x="132" y="559"/>
                      </a:lnTo>
                      <a:lnTo>
                        <a:pt x="125" y="565"/>
                      </a:lnTo>
                      <a:lnTo>
                        <a:pt x="117" y="574"/>
                      </a:lnTo>
                      <a:lnTo>
                        <a:pt x="110" y="580"/>
                      </a:lnTo>
                      <a:lnTo>
                        <a:pt x="103" y="589"/>
                      </a:lnTo>
                      <a:lnTo>
                        <a:pt x="95" y="595"/>
                      </a:lnTo>
                      <a:lnTo>
                        <a:pt x="89" y="604"/>
                      </a:lnTo>
                      <a:lnTo>
                        <a:pt x="82" y="609"/>
                      </a:lnTo>
                      <a:lnTo>
                        <a:pt x="76" y="615"/>
                      </a:lnTo>
                      <a:lnTo>
                        <a:pt x="71" y="621"/>
                      </a:lnTo>
                      <a:lnTo>
                        <a:pt x="64" y="627"/>
                      </a:lnTo>
                      <a:lnTo>
                        <a:pt x="56" y="632"/>
                      </a:lnTo>
                      <a:lnTo>
                        <a:pt x="50" y="638"/>
                      </a:lnTo>
                      <a:lnTo>
                        <a:pt x="44" y="643"/>
                      </a:lnTo>
                      <a:lnTo>
                        <a:pt x="41" y="647"/>
                      </a:lnTo>
                      <a:lnTo>
                        <a:pt x="40" y="652"/>
                      </a:lnTo>
                      <a:lnTo>
                        <a:pt x="41" y="655"/>
                      </a:lnTo>
                      <a:lnTo>
                        <a:pt x="45" y="658"/>
                      </a:lnTo>
                      <a:lnTo>
                        <a:pt x="52" y="660"/>
                      </a:lnTo>
                      <a:lnTo>
                        <a:pt x="60" y="661"/>
                      </a:lnTo>
                      <a:lnTo>
                        <a:pt x="71" y="661"/>
                      </a:lnTo>
                      <a:lnTo>
                        <a:pt x="81" y="660"/>
                      </a:lnTo>
                      <a:lnTo>
                        <a:pt x="93" y="658"/>
                      </a:lnTo>
                      <a:lnTo>
                        <a:pt x="103" y="653"/>
                      </a:lnTo>
                      <a:lnTo>
                        <a:pt x="112" y="647"/>
                      </a:lnTo>
                      <a:lnTo>
                        <a:pt x="118" y="645"/>
                      </a:lnTo>
                      <a:lnTo>
                        <a:pt x="118" y="653"/>
                      </a:lnTo>
                      <a:lnTo>
                        <a:pt x="113" y="667"/>
                      </a:lnTo>
                      <a:lnTo>
                        <a:pt x="105" y="685"/>
                      </a:lnTo>
                      <a:lnTo>
                        <a:pt x="96" y="707"/>
                      </a:lnTo>
                      <a:lnTo>
                        <a:pt x="87" y="728"/>
                      </a:lnTo>
                      <a:lnTo>
                        <a:pt x="78" y="748"/>
                      </a:lnTo>
                      <a:lnTo>
                        <a:pt x="72" y="761"/>
                      </a:lnTo>
                      <a:lnTo>
                        <a:pt x="67" y="772"/>
                      </a:lnTo>
                      <a:lnTo>
                        <a:pt x="63" y="783"/>
                      </a:lnTo>
                      <a:lnTo>
                        <a:pt x="57" y="795"/>
                      </a:lnTo>
                      <a:lnTo>
                        <a:pt x="50" y="807"/>
                      </a:lnTo>
                      <a:lnTo>
                        <a:pt x="42" y="820"/>
                      </a:lnTo>
                      <a:lnTo>
                        <a:pt x="33" y="833"/>
                      </a:lnTo>
                      <a:lnTo>
                        <a:pt x="23" y="845"/>
                      </a:lnTo>
                      <a:lnTo>
                        <a:pt x="12" y="857"/>
                      </a:lnTo>
                      <a:close/>
                    </a:path>
                  </a:pathLst>
                </a:custGeom>
                <a:solidFill>
                  <a:srgbClr val="a54c38"/>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1" name=""/>
                <p:cNvSpPr/>
                <p:nvPr/>
              </p:nvSpPr>
              <p:spPr>
                <a:xfrm>
                  <a:off x="7404480" y="4347720"/>
                  <a:ext cx="66960" cy="75600"/>
                </a:xfrm>
                <a:custGeom>
                  <a:avLst/>
                  <a:gdLst/>
                  <a:ahLst/>
                  <a:rect l="l" t="t" r="r" b="b"/>
                  <a:pathLst>
                    <a:path w="160" h="191">
                      <a:moveTo>
                        <a:pt x="160" y="155"/>
                      </a:moveTo>
                      <a:lnTo>
                        <a:pt x="123" y="100"/>
                      </a:lnTo>
                      <a:lnTo>
                        <a:pt x="122" y="92"/>
                      </a:lnTo>
                      <a:lnTo>
                        <a:pt x="120" y="85"/>
                      </a:lnTo>
                      <a:lnTo>
                        <a:pt x="116" y="78"/>
                      </a:lnTo>
                      <a:lnTo>
                        <a:pt x="112" y="71"/>
                      </a:lnTo>
                      <a:lnTo>
                        <a:pt x="105" y="67"/>
                      </a:lnTo>
                      <a:lnTo>
                        <a:pt x="98" y="63"/>
                      </a:lnTo>
                      <a:lnTo>
                        <a:pt x="90" y="61"/>
                      </a:lnTo>
                      <a:lnTo>
                        <a:pt x="82" y="60"/>
                      </a:lnTo>
                      <a:lnTo>
                        <a:pt x="45" y="5"/>
                      </a:lnTo>
                      <a:lnTo>
                        <a:pt x="41" y="0"/>
                      </a:lnTo>
                      <a:lnTo>
                        <a:pt x="0" y="32"/>
                      </a:lnTo>
                      <a:lnTo>
                        <a:pt x="0" y="38"/>
                      </a:lnTo>
                      <a:lnTo>
                        <a:pt x="42" y="100"/>
                      </a:lnTo>
                      <a:lnTo>
                        <a:pt x="43" y="108"/>
                      </a:lnTo>
                      <a:lnTo>
                        <a:pt x="45" y="116"/>
                      </a:lnTo>
                      <a:lnTo>
                        <a:pt x="49" y="123"/>
                      </a:lnTo>
                      <a:lnTo>
                        <a:pt x="53" y="129"/>
                      </a:lnTo>
                      <a:lnTo>
                        <a:pt x="60" y="135"/>
                      </a:lnTo>
                      <a:lnTo>
                        <a:pt x="67" y="138"/>
                      </a:lnTo>
                      <a:lnTo>
                        <a:pt x="74" y="140"/>
                      </a:lnTo>
                      <a:lnTo>
                        <a:pt x="82" y="142"/>
                      </a:lnTo>
                      <a:lnTo>
                        <a:pt x="113" y="191"/>
                      </a:lnTo>
                      <a:lnTo>
                        <a:pt x="160" y="155"/>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3366"/>
                    </a:solidFill>
                    <a:latin typeface="Times New Roman"/>
                  </a:endParaRPr>
                </a:p>
              </p:txBody>
            </p:sp>
            <p:sp>
              <p:nvSpPr>
                <p:cNvPr id="172" name=""/>
                <p:cNvSpPr/>
                <p:nvPr/>
              </p:nvSpPr>
              <p:spPr>
                <a:xfrm>
                  <a:off x="7269840" y="3632400"/>
                  <a:ext cx="219240" cy="259560"/>
                </a:xfrm>
                <a:custGeom>
                  <a:avLst/>
                  <a:gdLst/>
                  <a:ahLst/>
                  <a:rect l="l" t="t" r="r" b="b"/>
                  <a:pathLst>
                    <a:path w="524" h="657">
                      <a:moveTo>
                        <a:pt x="24" y="203"/>
                      </a:moveTo>
                      <a:lnTo>
                        <a:pt x="37" y="194"/>
                      </a:lnTo>
                      <a:lnTo>
                        <a:pt x="46" y="184"/>
                      </a:lnTo>
                      <a:lnTo>
                        <a:pt x="53" y="173"/>
                      </a:lnTo>
                      <a:lnTo>
                        <a:pt x="57" y="163"/>
                      </a:lnTo>
                      <a:lnTo>
                        <a:pt x="61" y="157"/>
                      </a:lnTo>
                      <a:lnTo>
                        <a:pt x="70" y="159"/>
                      </a:lnTo>
                      <a:lnTo>
                        <a:pt x="80" y="169"/>
                      </a:lnTo>
                      <a:lnTo>
                        <a:pt x="87" y="184"/>
                      </a:lnTo>
                      <a:lnTo>
                        <a:pt x="90" y="194"/>
                      </a:lnTo>
                      <a:lnTo>
                        <a:pt x="95" y="205"/>
                      </a:lnTo>
                      <a:lnTo>
                        <a:pt x="103" y="218"/>
                      </a:lnTo>
                      <a:lnTo>
                        <a:pt x="112" y="231"/>
                      </a:lnTo>
                      <a:lnTo>
                        <a:pt x="123" y="243"/>
                      </a:lnTo>
                      <a:lnTo>
                        <a:pt x="137" y="253"/>
                      </a:lnTo>
                      <a:lnTo>
                        <a:pt x="153" y="260"/>
                      </a:lnTo>
                      <a:lnTo>
                        <a:pt x="172" y="263"/>
                      </a:lnTo>
                      <a:lnTo>
                        <a:pt x="194" y="264"/>
                      </a:lnTo>
                      <a:lnTo>
                        <a:pt x="218" y="267"/>
                      </a:lnTo>
                      <a:lnTo>
                        <a:pt x="244" y="271"/>
                      </a:lnTo>
                      <a:lnTo>
                        <a:pt x="270" y="277"/>
                      </a:lnTo>
                      <a:lnTo>
                        <a:pt x="291" y="284"/>
                      </a:lnTo>
                      <a:lnTo>
                        <a:pt x="311" y="292"/>
                      </a:lnTo>
                      <a:lnTo>
                        <a:pt x="324" y="300"/>
                      </a:lnTo>
                      <a:lnTo>
                        <a:pt x="328" y="310"/>
                      </a:lnTo>
                      <a:lnTo>
                        <a:pt x="327" y="336"/>
                      </a:lnTo>
                      <a:lnTo>
                        <a:pt x="322" y="367"/>
                      </a:lnTo>
                      <a:lnTo>
                        <a:pt x="318" y="400"/>
                      </a:lnTo>
                      <a:lnTo>
                        <a:pt x="319" y="428"/>
                      </a:lnTo>
                      <a:lnTo>
                        <a:pt x="319" y="442"/>
                      </a:lnTo>
                      <a:lnTo>
                        <a:pt x="314" y="459"/>
                      </a:lnTo>
                      <a:lnTo>
                        <a:pt x="305" y="479"/>
                      </a:lnTo>
                      <a:lnTo>
                        <a:pt x="294" y="497"/>
                      </a:lnTo>
                      <a:lnTo>
                        <a:pt x="278" y="513"/>
                      </a:lnTo>
                      <a:lnTo>
                        <a:pt x="259" y="525"/>
                      </a:lnTo>
                      <a:lnTo>
                        <a:pt x="237" y="530"/>
                      </a:lnTo>
                      <a:lnTo>
                        <a:pt x="213" y="527"/>
                      </a:lnTo>
                      <a:lnTo>
                        <a:pt x="205" y="523"/>
                      </a:lnTo>
                      <a:lnTo>
                        <a:pt x="195" y="517"/>
                      </a:lnTo>
                      <a:lnTo>
                        <a:pt x="182" y="507"/>
                      </a:lnTo>
                      <a:lnTo>
                        <a:pt x="167" y="499"/>
                      </a:lnTo>
                      <a:lnTo>
                        <a:pt x="153" y="491"/>
                      </a:lnTo>
                      <a:lnTo>
                        <a:pt x="138" y="485"/>
                      </a:lnTo>
                      <a:lnTo>
                        <a:pt x="126" y="483"/>
                      </a:lnTo>
                      <a:lnTo>
                        <a:pt x="114" y="485"/>
                      </a:lnTo>
                      <a:lnTo>
                        <a:pt x="104" y="490"/>
                      </a:lnTo>
                      <a:lnTo>
                        <a:pt x="95" y="494"/>
                      </a:lnTo>
                      <a:lnTo>
                        <a:pt x="85" y="496"/>
                      </a:lnTo>
                      <a:lnTo>
                        <a:pt x="79" y="497"/>
                      </a:lnTo>
                      <a:lnTo>
                        <a:pt x="72" y="498"/>
                      </a:lnTo>
                      <a:lnTo>
                        <a:pt x="67" y="499"/>
                      </a:lnTo>
                      <a:lnTo>
                        <a:pt x="64" y="499"/>
                      </a:lnTo>
                      <a:lnTo>
                        <a:pt x="62" y="499"/>
                      </a:lnTo>
                      <a:lnTo>
                        <a:pt x="60" y="503"/>
                      </a:lnTo>
                      <a:lnTo>
                        <a:pt x="58" y="510"/>
                      </a:lnTo>
                      <a:lnTo>
                        <a:pt x="59" y="520"/>
                      </a:lnTo>
                      <a:lnTo>
                        <a:pt x="67" y="530"/>
                      </a:lnTo>
                      <a:lnTo>
                        <a:pt x="69" y="533"/>
                      </a:lnTo>
                      <a:lnTo>
                        <a:pt x="73" y="537"/>
                      </a:lnTo>
                      <a:lnTo>
                        <a:pt x="75" y="543"/>
                      </a:lnTo>
                      <a:lnTo>
                        <a:pt x="73" y="551"/>
                      </a:lnTo>
                      <a:lnTo>
                        <a:pt x="67" y="563"/>
                      </a:lnTo>
                      <a:lnTo>
                        <a:pt x="64" y="582"/>
                      </a:lnTo>
                      <a:lnTo>
                        <a:pt x="65" y="604"/>
                      </a:lnTo>
                      <a:lnTo>
                        <a:pt x="75" y="624"/>
                      </a:lnTo>
                      <a:lnTo>
                        <a:pt x="84" y="632"/>
                      </a:lnTo>
                      <a:lnTo>
                        <a:pt x="97" y="639"/>
                      </a:lnTo>
                      <a:lnTo>
                        <a:pt x="111" y="644"/>
                      </a:lnTo>
                      <a:lnTo>
                        <a:pt x="125" y="649"/>
                      </a:lnTo>
                      <a:lnTo>
                        <a:pt x="137" y="653"/>
                      </a:lnTo>
                      <a:lnTo>
                        <a:pt x="149" y="655"/>
                      </a:lnTo>
                      <a:lnTo>
                        <a:pt x="157" y="657"/>
                      </a:lnTo>
                      <a:lnTo>
                        <a:pt x="159" y="657"/>
                      </a:lnTo>
                      <a:lnTo>
                        <a:pt x="190" y="657"/>
                      </a:lnTo>
                      <a:lnTo>
                        <a:pt x="221" y="653"/>
                      </a:lnTo>
                      <a:lnTo>
                        <a:pt x="250" y="646"/>
                      </a:lnTo>
                      <a:lnTo>
                        <a:pt x="276" y="635"/>
                      </a:lnTo>
                      <a:lnTo>
                        <a:pt x="299" y="625"/>
                      </a:lnTo>
                      <a:lnTo>
                        <a:pt x="319" y="613"/>
                      </a:lnTo>
                      <a:lnTo>
                        <a:pt x="333" y="603"/>
                      </a:lnTo>
                      <a:lnTo>
                        <a:pt x="341" y="595"/>
                      </a:lnTo>
                      <a:lnTo>
                        <a:pt x="351" y="579"/>
                      </a:lnTo>
                      <a:lnTo>
                        <a:pt x="359" y="564"/>
                      </a:lnTo>
                      <a:lnTo>
                        <a:pt x="363" y="548"/>
                      </a:lnTo>
                      <a:lnTo>
                        <a:pt x="363" y="533"/>
                      </a:lnTo>
                      <a:lnTo>
                        <a:pt x="359" y="513"/>
                      </a:lnTo>
                      <a:lnTo>
                        <a:pt x="358" y="487"/>
                      </a:lnTo>
                      <a:lnTo>
                        <a:pt x="359" y="464"/>
                      </a:lnTo>
                      <a:lnTo>
                        <a:pt x="360" y="450"/>
                      </a:lnTo>
                      <a:lnTo>
                        <a:pt x="359" y="438"/>
                      </a:lnTo>
                      <a:lnTo>
                        <a:pt x="356" y="420"/>
                      </a:lnTo>
                      <a:lnTo>
                        <a:pt x="353" y="400"/>
                      </a:lnTo>
                      <a:lnTo>
                        <a:pt x="355" y="386"/>
                      </a:lnTo>
                      <a:lnTo>
                        <a:pt x="357" y="381"/>
                      </a:lnTo>
                      <a:lnTo>
                        <a:pt x="360" y="373"/>
                      </a:lnTo>
                      <a:lnTo>
                        <a:pt x="364" y="364"/>
                      </a:lnTo>
                      <a:lnTo>
                        <a:pt x="368" y="356"/>
                      </a:lnTo>
                      <a:lnTo>
                        <a:pt x="375" y="349"/>
                      </a:lnTo>
                      <a:lnTo>
                        <a:pt x="382" y="344"/>
                      </a:lnTo>
                      <a:lnTo>
                        <a:pt x="391" y="341"/>
                      </a:lnTo>
                      <a:lnTo>
                        <a:pt x="403" y="343"/>
                      </a:lnTo>
                      <a:lnTo>
                        <a:pt x="420" y="351"/>
                      </a:lnTo>
                      <a:lnTo>
                        <a:pt x="428" y="363"/>
                      </a:lnTo>
                      <a:lnTo>
                        <a:pt x="428" y="379"/>
                      </a:lnTo>
                      <a:lnTo>
                        <a:pt x="425" y="396"/>
                      </a:lnTo>
                      <a:lnTo>
                        <a:pt x="420" y="412"/>
                      </a:lnTo>
                      <a:lnTo>
                        <a:pt x="414" y="426"/>
                      </a:lnTo>
                      <a:lnTo>
                        <a:pt x="409" y="437"/>
                      </a:lnTo>
                      <a:lnTo>
                        <a:pt x="405" y="445"/>
                      </a:lnTo>
                      <a:lnTo>
                        <a:pt x="405" y="451"/>
                      </a:lnTo>
                      <a:lnTo>
                        <a:pt x="405" y="464"/>
                      </a:lnTo>
                      <a:lnTo>
                        <a:pt x="409" y="479"/>
                      </a:lnTo>
                      <a:lnTo>
                        <a:pt x="414" y="495"/>
                      </a:lnTo>
                      <a:lnTo>
                        <a:pt x="423" y="511"/>
                      </a:lnTo>
                      <a:lnTo>
                        <a:pt x="429" y="526"/>
                      </a:lnTo>
                      <a:lnTo>
                        <a:pt x="437" y="540"/>
                      </a:lnTo>
                      <a:lnTo>
                        <a:pt x="443" y="551"/>
                      </a:lnTo>
                      <a:lnTo>
                        <a:pt x="447" y="559"/>
                      </a:lnTo>
                      <a:lnTo>
                        <a:pt x="449" y="559"/>
                      </a:lnTo>
                      <a:lnTo>
                        <a:pt x="455" y="560"/>
                      </a:lnTo>
                      <a:lnTo>
                        <a:pt x="463" y="561"/>
                      </a:lnTo>
                      <a:lnTo>
                        <a:pt x="473" y="560"/>
                      </a:lnTo>
                      <a:lnTo>
                        <a:pt x="482" y="557"/>
                      </a:lnTo>
                      <a:lnTo>
                        <a:pt x="490" y="550"/>
                      </a:lnTo>
                      <a:lnTo>
                        <a:pt x="496" y="540"/>
                      </a:lnTo>
                      <a:lnTo>
                        <a:pt x="498" y="523"/>
                      </a:lnTo>
                      <a:lnTo>
                        <a:pt x="500" y="497"/>
                      </a:lnTo>
                      <a:lnTo>
                        <a:pt x="504" y="458"/>
                      </a:lnTo>
                      <a:lnTo>
                        <a:pt x="509" y="412"/>
                      </a:lnTo>
                      <a:lnTo>
                        <a:pt x="515" y="363"/>
                      </a:lnTo>
                      <a:lnTo>
                        <a:pt x="520" y="315"/>
                      </a:lnTo>
                      <a:lnTo>
                        <a:pt x="524" y="271"/>
                      </a:lnTo>
                      <a:lnTo>
                        <a:pt x="524" y="238"/>
                      </a:lnTo>
                      <a:lnTo>
                        <a:pt x="521" y="217"/>
                      </a:lnTo>
                      <a:lnTo>
                        <a:pt x="516" y="201"/>
                      </a:lnTo>
                      <a:lnTo>
                        <a:pt x="509" y="178"/>
                      </a:lnTo>
                      <a:lnTo>
                        <a:pt x="500" y="151"/>
                      </a:lnTo>
                      <a:lnTo>
                        <a:pt x="487" y="123"/>
                      </a:lnTo>
                      <a:lnTo>
                        <a:pt x="473" y="95"/>
                      </a:lnTo>
                      <a:lnTo>
                        <a:pt x="456" y="70"/>
                      </a:lnTo>
                      <a:lnTo>
                        <a:pt x="436" y="50"/>
                      </a:lnTo>
                      <a:lnTo>
                        <a:pt x="414" y="38"/>
                      </a:lnTo>
                      <a:lnTo>
                        <a:pt x="403" y="35"/>
                      </a:lnTo>
                      <a:lnTo>
                        <a:pt x="390" y="30"/>
                      </a:lnTo>
                      <a:lnTo>
                        <a:pt x="378" y="27"/>
                      </a:lnTo>
                      <a:lnTo>
                        <a:pt x="365" y="22"/>
                      </a:lnTo>
                      <a:lnTo>
                        <a:pt x="351" y="19"/>
                      </a:lnTo>
                      <a:lnTo>
                        <a:pt x="337" y="14"/>
                      </a:lnTo>
                      <a:lnTo>
                        <a:pt x="324" y="11"/>
                      </a:lnTo>
                      <a:lnTo>
                        <a:pt x="310" y="8"/>
                      </a:lnTo>
                      <a:lnTo>
                        <a:pt x="295" y="5"/>
                      </a:lnTo>
                      <a:lnTo>
                        <a:pt x="280" y="3"/>
                      </a:lnTo>
                      <a:lnTo>
                        <a:pt x="264" y="2"/>
                      </a:lnTo>
                      <a:lnTo>
                        <a:pt x="249" y="0"/>
                      </a:lnTo>
                      <a:lnTo>
                        <a:pt x="233" y="0"/>
                      </a:lnTo>
                      <a:lnTo>
                        <a:pt x="217" y="0"/>
                      </a:lnTo>
                      <a:lnTo>
                        <a:pt x="200" y="2"/>
                      </a:lnTo>
                      <a:lnTo>
                        <a:pt x="183" y="4"/>
                      </a:lnTo>
                      <a:lnTo>
                        <a:pt x="173" y="6"/>
                      </a:lnTo>
                      <a:lnTo>
                        <a:pt x="160" y="10"/>
                      </a:lnTo>
                      <a:lnTo>
                        <a:pt x="145" y="15"/>
                      </a:lnTo>
                      <a:lnTo>
                        <a:pt x="130" y="22"/>
                      </a:lnTo>
                      <a:lnTo>
                        <a:pt x="114" y="30"/>
                      </a:lnTo>
                      <a:lnTo>
                        <a:pt x="98" y="40"/>
                      </a:lnTo>
                      <a:lnTo>
                        <a:pt x="82" y="49"/>
                      </a:lnTo>
                      <a:lnTo>
                        <a:pt x="66" y="59"/>
                      </a:lnTo>
                      <a:lnTo>
                        <a:pt x="51" y="70"/>
                      </a:lnTo>
                      <a:lnTo>
                        <a:pt x="37" y="81"/>
                      </a:lnTo>
                      <a:lnTo>
                        <a:pt x="24" y="93"/>
                      </a:lnTo>
                      <a:lnTo>
                        <a:pt x="15" y="104"/>
                      </a:lnTo>
                      <a:lnTo>
                        <a:pt x="7" y="117"/>
                      </a:lnTo>
                      <a:lnTo>
                        <a:pt x="1" y="127"/>
                      </a:lnTo>
                      <a:lnTo>
                        <a:pt x="0" y="139"/>
                      </a:lnTo>
                      <a:lnTo>
                        <a:pt x="1" y="149"/>
                      </a:lnTo>
                      <a:lnTo>
                        <a:pt x="5" y="162"/>
                      </a:lnTo>
                      <a:lnTo>
                        <a:pt x="9" y="179"/>
                      </a:lnTo>
                      <a:lnTo>
                        <a:pt x="15" y="194"/>
                      </a:lnTo>
                      <a:lnTo>
                        <a:pt x="24"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3" name=""/>
                <p:cNvSpPr/>
                <p:nvPr/>
              </p:nvSpPr>
              <p:spPr>
                <a:xfrm>
                  <a:off x="7319520" y="3756600"/>
                  <a:ext cx="40320" cy="6840"/>
                </a:xfrm>
                <a:custGeom>
                  <a:avLst/>
                  <a:gdLst/>
                  <a:ahLst/>
                  <a:rect l="l" t="t" r="r" b="b"/>
                  <a:pathLst>
                    <a:path w="95" h="19">
                      <a:moveTo>
                        <a:pt x="0" y="8"/>
                      </a:moveTo>
                      <a:lnTo>
                        <a:pt x="13" y="12"/>
                      </a:lnTo>
                      <a:lnTo>
                        <a:pt x="21" y="8"/>
                      </a:lnTo>
                      <a:lnTo>
                        <a:pt x="25" y="4"/>
                      </a:lnTo>
                      <a:lnTo>
                        <a:pt x="30" y="1"/>
                      </a:lnTo>
                      <a:lnTo>
                        <a:pt x="38" y="0"/>
                      </a:lnTo>
                      <a:lnTo>
                        <a:pt x="47" y="0"/>
                      </a:lnTo>
                      <a:lnTo>
                        <a:pt x="57" y="0"/>
                      </a:lnTo>
                      <a:lnTo>
                        <a:pt x="68" y="1"/>
                      </a:lnTo>
                      <a:lnTo>
                        <a:pt x="77" y="4"/>
                      </a:lnTo>
                      <a:lnTo>
                        <a:pt x="85" y="6"/>
                      </a:lnTo>
                      <a:lnTo>
                        <a:pt x="92" y="9"/>
                      </a:lnTo>
                      <a:lnTo>
                        <a:pt x="95" y="13"/>
                      </a:lnTo>
                      <a:lnTo>
                        <a:pt x="90" y="13"/>
                      </a:lnTo>
                      <a:lnTo>
                        <a:pt x="83" y="13"/>
                      </a:lnTo>
                      <a:lnTo>
                        <a:pt x="76" y="12"/>
                      </a:lnTo>
                      <a:lnTo>
                        <a:pt x="68" y="12"/>
                      </a:lnTo>
                      <a:lnTo>
                        <a:pt x="61" y="12"/>
                      </a:lnTo>
                      <a:lnTo>
                        <a:pt x="54" y="12"/>
                      </a:lnTo>
                      <a:lnTo>
                        <a:pt x="47" y="13"/>
                      </a:lnTo>
                      <a:lnTo>
                        <a:pt x="41" y="14"/>
                      </a:lnTo>
                      <a:lnTo>
                        <a:pt x="37" y="16"/>
                      </a:lnTo>
                      <a:lnTo>
                        <a:pt x="31" y="17"/>
                      </a:lnTo>
                      <a:lnTo>
                        <a:pt x="25" y="19"/>
                      </a:lnTo>
                      <a:lnTo>
                        <a:pt x="20" y="19"/>
                      </a:lnTo>
                      <a:lnTo>
                        <a:pt x="14" y="19"/>
                      </a:lnTo>
                      <a:lnTo>
                        <a:pt x="9" y="16"/>
                      </a:lnTo>
                      <a:lnTo>
                        <a:pt x="5" y="13"/>
                      </a:lnTo>
                      <a:lnTo>
                        <a:pt x="0" y="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3366"/>
                    </a:solidFill>
                    <a:latin typeface="Times New Roman"/>
                  </a:endParaRPr>
                </a:p>
              </p:txBody>
            </p:sp>
            <p:sp>
              <p:nvSpPr>
                <p:cNvPr id="174" name=""/>
                <p:cNvSpPr/>
                <p:nvPr/>
              </p:nvSpPr>
              <p:spPr>
                <a:xfrm>
                  <a:off x="7330680" y="3767760"/>
                  <a:ext cx="29880" cy="11520"/>
                </a:xfrm>
                <a:custGeom>
                  <a:avLst/>
                  <a:gdLst/>
                  <a:ahLst/>
                  <a:rect l="l" t="t" r="r" b="b"/>
                  <a:pathLst>
                    <a:path w="74" h="30">
                      <a:moveTo>
                        <a:pt x="0" y="2"/>
                      </a:moveTo>
                      <a:lnTo>
                        <a:pt x="6" y="1"/>
                      </a:lnTo>
                      <a:lnTo>
                        <a:pt x="13" y="0"/>
                      </a:lnTo>
                      <a:lnTo>
                        <a:pt x="20" y="0"/>
                      </a:lnTo>
                      <a:lnTo>
                        <a:pt x="28" y="2"/>
                      </a:lnTo>
                      <a:lnTo>
                        <a:pt x="33" y="4"/>
                      </a:lnTo>
                      <a:lnTo>
                        <a:pt x="39" y="7"/>
                      </a:lnTo>
                      <a:lnTo>
                        <a:pt x="47" y="10"/>
                      </a:lnTo>
                      <a:lnTo>
                        <a:pt x="55" y="15"/>
                      </a:lnTo>
                      <a:lnTo>
                        <a:pt x="62" y="18"/>
                      </a:lnTo>
                      <a:lnTo>
                        <a:pt x="68" y="20"/>
                      </a:lnTo>
                      <a:lnTo>
                        <a:pt x="73" y="23"/>
                      </a:lnTo>
                      <a:lnTo>
                        <a:pt x="74" y="24"/>
                      </a:lnTo>
                      <a:lnTo>
                        <a:pt x="12" y="30"/>
                      </a:lnTo>
                      <a:lnTo>
                        <a:pt x="9" y="27"/>
                      </a:lnTo>
                      <a:lnTo>
                        <a:pt x="5" y="23"/>
                      </a:lnTo>
                      <a:lnTo>
                        <a:pt x="1" y="14"/>
                      </a:lnTo>
                      <a:lnTo>
                        <a:pt x="0"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3366"/>
                    </a:solidFill>
                    <a:latin typeface="Times New Roman"/>
                  </a:endParaRPr>
                </a:p>
              </p:txBody>
            </p:sp>
            <p:sp>
              <p:nvSpPr>
                <p:cNvPr id="175" name=""/>
                <p:cNvSpPr/>
                <p:nvPr/>
              </p:nvSpPr>
              <p:spPr>
                <a:xfrm>
                  <a:off x="7291800" y="3769560"/>
                  <a:ext cx="10800" cy="9360"/>
                </a:xfrm>
                <a:custGeom>
                  <a:avLst/>
                  <a:gdLst/>
                  <a:ahLst/>
                  <a:rect l="l" t="t" r="r" b="b"/>
                  <a:pathLst>
                    <a:path w="27" h="24">
                      <a:moveTo>
                        <a:pt x="27" y="11"/>
                      </a:moveTo>
                      <a:lnTo>
                        <a:pt x="21" y="6"/>
                      </a:lnTo>
                      <a:lnTo>
                        <a:pt x="12" y="2"/>
                      </a:lnTo>
                      <a:lnTo>
                        <a:pt x="5" y="0"/>
                      </a:lnTo>
                      <a:lnTo>
                        <a:pt x="0" y="1"/>
                      </a:lnTo>
                      <a:lnTo>
                        <a:pt x="2" y="6"/>
                      </a:lnTo>
                      <a:lnTo>
                        <a:pt x="4" y="12"/>
                      </a:lnTo>
                      <a:lnTo>
                        <a:pt x="4" y="16"/>
                      </a:lnTo>
                      <a:lnTo>
                        <a:pt x="1" y="22"/>
                      </a:lnTo>
                      <a:lnTo>
                        <a:pt x="6" y="24"/>
                      </a:lnTo>
                      <a:lnTo>
                        <a:pt x="13" y="24"/>
                      </a:lnTo>
                      <a:lnTo>
                        <a:pt x="20" y="23"/>
                      </a:lnTo>
                      <a:lnTo>
                        <a:pt x="25" y="22"/>
                      </a:lnTo>
                      <a:lnTo>
                        <a:pt x="27" y="19"/>
                      </a:lnTo>
                      <a:lnTo>
                        <a:pt x="27" y="14"/>
                      </a:lnTo>
                      <a:lnTo>
                        <a:pt x="27" y="12"/>
                      </a:lnTo>
                      <a:lnTo>
                        <a:pt x="27"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Times New Roman"/>
                  </a:endParaRPr>
                </a:p>
              </p:txBody>
            </p:sp>
            <p:sp>
              <p:nvSpPr>
                <p:cNvPr id="176" name=""/>
                <p:cNvSpPr/>
                <p:nvPr/>
              </p:nvSpPr>
              <p:spPr>
                <a:xfrm>
                  <a:off x="7300440" y="3842640"/>
                  <a:ext cx="34200" cy="8640"/>
                </a:xfrm>
                <a:custGeom>
                  <a:avLst/>
                  <a:gdLst/>
                  <a:ahLst/>
                  <a:rect l="l" t="t" r="r" b="b"/>
                  <a:pathLst>
                    <a:path w="80" h="22">
                      <a:moveTo>
                        <a:pt x="1" y="7"/>
                      </a:moveTo>
                      <a:lnTo>
                        <a:pt x="7" y="7"/>
                      </a:lnTo>
                      <a:lnTo>
                        <a:pt x="13" y="4"/>
                      </a:lnTo>
                      <a:lnTo>
                        <a:pt x="18" y="3"/>
                      </a:lnTo>
                      <a:lnTo>
                        <a:pt x="24" y="1"/>
                      </a:lnTo>
                      <a:lnTo>
                        <a:pt x="30" y="0"/>
                      </a:lnTo>
                      <a:lnTo>
                        <a:pt x="37" y="0"/>
                      </a:lnTo>
                      <a:lnTo>
                        <a:pt x="44" y="1"/>
                      </a:lnTo>
                      <a:lnTo>
                        <a:pt x="51" y="3"/>
                      </a:lnTo>
                      <a:lnTo>
                        <a:pt x="63" y="9"/>
                      </a:lnTo>
                      <a:lnTo>
                        <a:pt x="72" y="13"/>
                      </a:lnTo>
                      <a:lnTo>
                        <a:pt x="78" y="15"/>
                      </a:lnTo>
                      <a:lnTo>
                        <a:pt x="80" y="15"/>
                      </a:lnTo>
                      <a:lnTo>
                        <a:pt x="79" y="15"/>
                      </a:lnTo>
                      <a:lnTo>
                        <a:pt x="75" y="16"/>
                      </a:lnTo>
                      <a:lnTo>
                        <a:pt x="68" y="18"/>
                      </a:lnTo>
                      <a:lnTo>
                        <a:pt x="60" y="19"/>
                      </a:lnTo>
                      <a:lnTo>
                        <a:pt x="52" y="21"/>
                      </a:lnTo>
                      <a:lnTo>
                        <a:pt x="42" y="22"/>
                      </a:lnTo>
                      <a:lnTo>
                        <a:pt x="34" y="22"/>
                      </a:lnTo>
                      <a:lnTo>
                        <a:pt x="29" y="21"/>
                      </a:lnTo>
                      <a:lnTo>
                        <a:pt x="19" y="18"/>
                      </a:lnTo>
                      <a:lnTo>
                        <a:pt x="13" y="17"/>
                      </a:lnTo>
                      <a:lnTo>
                        <a:pt x="8" y="17"/>
                      </a:lnTo>
                      <a:lnTo>
                        <a:pt x="7" y="17"/>
                      </a:lnTo>
                      <a:lnTo>
                        <a:pt x="3" y="15"/>
                      </a:lnTo>
                      <a:lnTo>
                        <a:pt x="1" y="11"/>
                      </a:lnTo>
                      <a:lnTo>
                        <a:pt x="0" y="8"/>
                      </a:lnTo>
                      <a:lnTo>
                        <a:pt x="1" y="7"/>
                      </a:lnTo>
                      <a:close/>
                    </a:path>
                  </a:pathLst>
                </a:custGeom>
                <a:solidFill>
                  <a:srgbClr val="a54c38"/>
                </a:solidFill>
                <a:ln w="0">
                  <a:noFill/>
                </a:ln>
              </p:spPr>
              <p:style>
                <a:lnRef idx="0"/>
                <a:fillRef idx="0"/>
                <a:effectRef idx="0"/>
                <a:fontRef idx="minor"/>
              </p:style>
              <p:txBody>
                <a:bodyPr lIns="90000" rIns="90000" tIns="-38160" bIns="-38160" anchor="t">
                  <a:noAutofit/>
                </a:bodyPr>
                <a:p>
                  <a:endParaRPr b="0" lang="en-US" sz="2400" spc="-1" strike="noStrike">
                    <a:solidFill>
                      <a:srgbClr val="003366"/>
                    </a:solidFill>
                    <a:latin typeface="Times New Roman"/>
                  </a:endParaRPr>
                </a:p>
              </p:txBody>
            </p:sp>
          </p:grpSp>
          <p:sp>
            <p:nvSpPr>
              <p:cNvPr id="177" name=""/>
              <p:cNvSpPr/>
              <p:nvPr/>
            </p:nvSpPr>
            <p:spPr>
              <a:xfrm>
                <a:off x="6568920" y="317340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81d58"/>
                    </a:solidFill>
                    <a:latin typeface="Arial"/>
                  </a:rPr>
                  <a:t>Consumidor</a:t>
                </a:r>
                <a:endParaRPr b="0" lang="en-US" sz="2400" spc="-1" strike="noStrike">
                  <a:solidFill>
                    <a:srgbClr val="003366"/>
                  </a:solidFill>
                  <a:latin typeface="Times New Roman"/>
                </a:endParaRPr>
              </a:p>
            </p:txBody>
          </p:sp>
        </p:grpSp>
      </p:grpSp>
      <p:grpSp>
        <p:nvGrpSpPr>
          <p:cNvPr id="178" name=""/>
          <p:cNvGrpSpPr/>
          <p:nvPr/>
        </p:nvGrpSpPr>
        <p:grpSpPr>
          <a:xfrm>
            <a:off x="3929040" y="2536920"/>
            <a:ext cx="1550880" cy="3709080"/>
            <a:chOff x="3929040" y="2536920"/>
            <a:chExt cx="1550880" cy="3709080"/>
          </a:xfrm>
        </p:grpSpPr>
        <p:sp>
          <p:nvSpPr>
            <p:cNvPr id="179" name=""/>
            <p:cNvSpPr/>
            <p:nvPr/>
          </p:nvSpPr>
          <p:spPr>
            <a:xfrm>
              <a:off x="4100400" y="2536920"/>
              <a:ext cx="10800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81d58"/>
                  </a:solidFill>
                  <a:latin typeface="Arial"/>
                </a:rPr>
                <a:t>Oferta</a:t>
              </a:r>
              <a:endParaRPr b="0" lang="en-US" sz="2400" spc="-1" strike="noStrike">
                <a:solidFill>
                  <a:srgbClr val="003366"/>
                </a:solidFill>
                <a:latin typeface="Times New Roman"/>
              </a:endParaRPr>
            </a:p>
          </p:txBody>
        </p:sp>
        <p:sp>
          <p:nvSpPr>
            <p:cNvPr id="180" name=""/>
            <p:cNvSpPr/>
            <p:nvPr/>
          </p:nvSpPr>
          <p:spPr>
            <a:xfrm>
              <a:off x="3929040" y="5786280"/>
              <a:ext cx="155088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81d58"/>
                  </a:solidFill>
                  <a:latin typeface="Arial"/>
                </a:rPr>
                <a:t>Demanda</a:t>
              </a:r>
              <a:endParaRPr b="0" lang="en-US" sz="2400" spc="-1" strike="noStrike">
                <a:solidFill>
                  <a:srgbClr val="003366"/>
                </a:solidFill>
                <a:latin typeface="Times New Roman"/>
              </a:endParaRPr>
            </a:p>
          </p:txBody>
        </p:sp>
      </p:grpSp>
      <p:sp>
        <p:nvSpPr>
          <p:cNvPr id="2" name="PlaceHolder 1"/>
          <p:cNvSpPr>
            <a:spLocks noGrp="1"/>
          </p:cNvSpPr>
          <p:nvPr>
            <p:ph type="sldNum" idx="3"/>
          </p:nvPr>
        </p:nvSpPr>
        <p:spPr/>
        <p:txBody>
          <a:bodyPr/>
          <a:p>
            <a:fld id="{E66A0990-DFDC-4A68-9634-F5A0C87C61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914040" y="1143000"/>
            <a:ext cx="8001000" cy="4952880"/>
          </a:xfrm>
          <a:prstGeom prst="rect">
            <a:avLst/>
          </a:prstGeom>
          <a:noFill/>
          <a:ln w="0">
            <a:noFill/>
          </a:ln>
        </p:spPr>
        <p:txBody>
          <a:bodyPr lIns="90000" rIns="90000" tIns="46800" bIns="46800" anchor="t">
            <a:normAutofit/>
          </a:bodyPr>
          <a:p>
            <a:pPr marL="533520" indent="-53352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Arial"/>
              </a:rPr>
              <a:t>Comércio Eletrônico</a:t>
            </a:r>
            <a:endParaRPr b="0" lang="en-US" sz="36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rPr>
              <a:t>“</a:t>
            </a:r>
            <a:r>
              <a:rPr b="0" lang="pt-BR" sz="2400" spc="-1" strike="noStrike">
                <a:solidFill>
                  <a:srgbClr val="081d58"/>
                </a:solidFill>
                <a:latin typeface="Arial"/>
              </a:rPr>
              <a:t>A compra e venda de produtos sobre um meio eletrônico (Internet)”</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81d58"/>
                </a:solidFill>
                <a:latin typeface="Arial"/>
              </a:rPr>
              <a:t>Um Produto é um bem ou serviço que é oferecido pelo servidor de comércio eletrônico aos clientes que acessam: Produto Virtual ou Físico</a:t>
            </a:r>
            <a:endParaRPr b="0" lang="en-US" sz="2400" spc="-1" strike="noStrike">
              <a:solidFill>
                <a:srgbClr val="003366"/>
              </a:solidFill>
              <a:latin typeface="Arial"/>
            </a:endParaRPr>
          </a:p>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Arial"/>
              </a:rPr>
              <a:t>Contrato Eletrônico</a:t>
            </a:r>
            <a:endParaRPr b="0" lang="en-US" sz="3600" spc="-1" strike="noStrike">
              <a:solidFill>
                <a:srgbClr val="003366"/>
              </a:solidFill>
              <a:latin typeface="Arial"/>
            </a:endParaRPr>
          </a:p>
        </p:txBody>
      </p:sp>
      <p:sp>
        <p:nvSpPr>
          <p:cNvPr id="3" name="PlaceHolder 2"/>
          <p:cNvSpPr>
            <a:spLocks noGrp="1"/>
          </p:cNvSpPr>
          <p:nvPr>
            <p:ph type="sldNum" idx="3"/>
          </p:nvPr>
        </p:nvSpPr>
        <p:spPr/>
        <p:txBody>
          <a:bodyPr/>
          <a:p>
            <a:fld id="{429C200E-2CEB-4A41-8799-EDB933A4AC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Consumidor</a:t>
            </a:r>
            <a:endParaRPr b="1" lang="en-US" sz="3600" spc="-1" strike="noStrike">
              <a:solidFill>
                <a:srgbClr val="003366"/>
              </a:solidFill>
              <a:latin typeface="Arial"/>
            </a:endParaRPr>
          </a:p>
        </p:txBody>
      </p:sp>
      <p:sp>
        <p:nvSpPr>
          <p:cNvPr id="18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Art. 2º da Lei n. 8069/90: “</a:t>
            </a:r>
            <a:r>
              <a:rPr b="0" lang="pt-BR" sz="2800" spc="-1" strike="noStrike">
                <a:solidFill>
                  <a:srgbClr val="a50021"/>
                </a:solidFill>
                <a:latin typeface="Arial"/>
              </a:rPr>
              <a:t>Consumidor é toda pessoa física ou jurídica que adquire ou utiliza produto ou serviço como destinatário final</a:t>
            </a:r>
            <a:r>
              <a:rPr b="0" lang="pt-BR"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A9727C2-EBF6-4310-A7B9-47CE2A10EB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Fornecedor</a:t>
            </a:r>
            <a:endParaRPr b="1" lang="en-US" sz="3600" spc="-1" strike="noStrike">
              <a:solidFill>
                <a:srgbClr val="003366"/>
              </a:solidFill>
              <a:latin typeface="Arial"/>
            </a:endParaRPr>
          </a:p>
        </p:txBody>
      </p:sp>
      <p:sp>
        <p:nvSpPr>
          <p:cNvPr id="18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Art. 3º. </a:t>
            </a:r>
            <a:r>
              <a:rPr b="0" lang="pt-BR" sz="2800" spc="-1" strike="noStrike">
                <a:solidFill>
                  <a:srgbClr val="6e0043"/>
                </a:solidFill>
                <a:latin typeface="Arial"/>
              </a:rPr>
              <a:t>“Fornecedor é toda pessoa física ou jurídica, pública ou privada, nacional ou estrangeira, bem como entes despersonalizados, que desenvolvem atividades de produção, montagem, criação, construção, transformação, importação, exportação, distribuição ou comercialização de produtos ou prestação de serviço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CD7586B-60EC-4D92-80E0-435540FA2E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Produto</a:t>
            </a:r>
            <a:endParaRPr b="1" lang="en-US" sz="3600" spc="-1" strike="noStrike">
              <a:solidFill>
                <a:srgbClr val="003366"/>
              </a:solidFill>
              <a:latin typeface="Arial"/>
            </a:endParaRPr>
          </a:p>
        </p:txBody>
      </p:sp>
      <p:sp>
        <p:nvSpPr>
          <p:cNvPr id="18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Qualquer bem, móvel ou imóvel, material ou imaterial</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2120274-C410-45D4-B5B4-4B82CC2EF2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Serviço</a:t>
            </a:r>
            <a:endParaRPr b="1" lang="en-US" sz="3600" spc="-1" strike="noStrike">
              <a:solidFill>
                <a:srgbClr val="003366"/>
              </a:solidFill>
              <a:latin typeface="Arial"/>
            </a:endParaRPr>
          </a:p>
        </p:txBody>
      </p:sp>
      <p:sp>
        <p:nvSpPr>
          <p:cNvPr id="18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Qualquer atividade fornecida ao mercado de consumo, mediante remuneração, inclusive as de natureza bancária, financeira, de crédito e securitária, salvo as decorrentes das relações de caráter trabalhista</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4E986ED-A21E-444E-A8F1-7EE326537C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Responsabilidade pelo fato do produto ou serviço</a:t>
            </a:r>
            <a:endParaRPr b="1" lang="en-US" sz="3600" spc="-1" strike="noStrike">
              <a:solidFill>
                <a:srgbClr val="003366"/>
              </a:solidFill>
              <a:latin typeface="Arial"/>
            </a:endParaRPr>
          </a:p>
        </p:txBody>
      </p:sp>
      <p:sp>
        <p:nvSpPr>
          <p:cNvPr id="191" name="PlaceHolder 2"/>
          <p:cNvSpPr>
            <a:spLocks noGrp="1"/>
          </p:cNvSpPr>
          <p:nvPr>
            <p:ph/>
          </p:nvPr>
        </p:nvSpPr>
        <p:spPr>
          <a:xfrm>
            <a:off x="914040" y="1980720"/>
            <a:ext cx="8001000" cy="4876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Art. 12 do CDC: respondem pela reparação dos danos causados aos consumidores por defeitos decorrentes de projeto, fabricação, construção, montagem, fórmulas, manipulação, apresentação ou acondicionamento de seus produtos, bem como por informações insuficientes ou inadequadas sobre sua utilização e riscos, independentemente da existência de culpa, o fabricante, o produtor, o construtor, nacional ou estrangeiro e o importador</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A1DE201-C3A9-412C-93AF-2628407D91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Fornecedor de serviços</a:t>
            </a:r>
            <a:endParaRPr b="1" lang="en-US" sz="3600" spc="-1" strike="noStrike">
              <a:solidFill>
                <a:srgbClr val="003366"/>
              </a:solidFill>
              <a:latin typeface="Arial"/>
            </a:endParaRPr>
          </a:p>
        </p:txBody>
      </p:sp>
      <p:sp>
        <p:nvSpPr>
          <p:cNvPr id="19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Responde, independentemente de culpa, pela reparação dos danos causados aos consumidores por defeitos relativos à prestação dos serviços, bem como por informações insuficientes ou inadequadas sobre sua fruição e risco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9567275-7D62-4F1C-A490-08C6C86D69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Serviço defeituoso</a:t>
            </a:r>
            <a:endParaRPr b="1" lang="en-US" sz="3600" spc="-1" strike="noStrike">
              <a:solidFill>
                <a:srgbClr val="003366"/>
              </a:solidFill>
              <a:latin typeface="Arial"/>
            </a:endParaRPr>
          </a:p>
        </p:txBody>
      </p:sp>
      <p:sp>
        <p:nvSpPr>
          <p:cNvPr id="19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Quando não fornece a segurança que o consumidor dele pode esperar, levando-se em consideração as circunstâncias relevantes como modo de seu fornecimento, resultado e riscos que razoavelmente dele se esperam, época em que foi fornecido.</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O fornecedor não será responsabilizado se provar que o defeito inexiste ou culpa exclusiva do consumidor ou de terceiro</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FB448E6-C634-432A-9D68-5C67C3A5AD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Ética Profissional</a:t>
            </a:r>
            <a:endParaRPr b="1" lang="en-US" sz="3600" spc="-1" strike="noStrike">
              <a:solidFill>
                <a:srgbClr val="003366"/>
              </a:solidFill>
              <a:latin typeface="Arial"/>
            </a:endParaRPr>
          </a:p>
        </p:txBody>
      </p:sp>
      <p:sp>
        <p:nvSpPr>
          <p:cNvPr id="1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Algumas condutas que violam normas éticas constituem também atos contrários à lei.</a:t>
            </a:r>
            <a:endParaRPr b="0" lang="en-US" sz="2800" spc="-1" strike="noStrike">
              <a:solidFill>
                <a:srgbClr val="003366"/>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A violação do sigilo, da privacidade e da segurança na manipulação de dados eletrônicos, principalmente aqueles que concernem ao endereços eletrônicos (e-mail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2D287DA-E87A-4D00-B6AE-FCA1CA259F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Perguntas</a:t>
            </a:r>
            <a:endParaRPr b="1" lang="en-US" sz="3600" spc="-1" strike="noStrike">
              <a:solidFill>
                <a:srgbClr val="003366"/>
              </a:solidFill>
              <a:latin typeface="Arial"/>
            </a:endParaRPr>
          </a:p>
        </p:txBody>
      </p:sp>
      <p:sp>
        <p:nvSpPr>
          <p:cNvPr id="104" name="PlaceHolder 2"/>
          <p:cNvSpPr>
            <a:spLocks noGrp="1"/>
          </p:cNvSpPr>
          <p:nvPr>
            <p:ph/>
          </p:nvPr>
        </p:nvSpPr>
        <p:spPr>
          <a:xfrm>
            <a:off x="837720" y="1980720"/>
            <a:ext cx="8001000" cy="4876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Existe uma legislação específica para o Direito Eletrônico ou Digital ou Virtual ou na Web?</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O Direito do Consumidor vale também para produtos na Interne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Pode realizar contratos via Interne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7AFBC51-9CE2-497F-AE63-9A83BD8A0C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914040" y="914400"/>
            <a:ext cx="8001000" cy="548640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A Constituição Federal assegura a inviolabilidade do "</a:t>
            </a:r>
            <a:r>
              <a:rPr b="1" lang="pt-BR" sz="2400" spc="-1" strike="noStrike">
                <a:solidFill>
                  <a:srgbClr val="003366"/>
                </a:solidFill>
                <a:latin typeface="Arial"/>
                <a:ea typeface="Times New Roman"/>
              </a:rPr>
              <a:t>sigilo da correspondência, das comunicações telegráficas, de dados e das comunicações telefônicas, salvo, no último caso, por ordem judicial, nas hipóteses e na forma que a lei estabelecer para fins de investigação ou instrução processual penal</a:t>
            </a:r>
            <a:r>
              <a:rPr b="0" lang="pt-BR" sz="2400" spc="-1" strike="noStrike">
                <a:solidFill>
                  <a:srgbClr val="003366"/>
                </a:solidFill>
                <a:latin typeface="Arial"/>
                <a:ea typeface="Times New Roman"/>
              </a:rPr>
              <a:t>".</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Assim, a violação do sigilo será ilícita, constituindo, inclusive, crime, salvo quando ordenada por juiz competente e para o fim de instrução de processo criminal.</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O profissional de informática deverá estar ciente de tal regra, principalmente porque será um administrador e gestor, por excelência, de banco de dados eletrônico.</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9" name="PlaceHolder 2"/>
          <p:cNvSpPr>
            <a:spLocks noGrp="1"/>
          </p:cNvSpPr>
          <p:nvPr>
            <p:ph type="title"/>
          </p:nvPr>
        </p:nvSpPr>
        <p:spPr>
          <a:xfrm>
            <a:off x="1142640" y="-360"/>
            <a:ext cx="8001000" cy="6858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Privacidade</a:t>
            </a:r>
            <a:endParaRPr b="1" lang="en-US" sz="3600" spc="-1" strike="noStrike">
              <a:solidFill>
                <a:srgbClr val="003366"/>
              </a:solidFill>
              <a:latin typeface="Arial"/>
            </a:endParaRPr>
          </a:p>
        </p:txBody>
      </p:sp>
      <p:sp>
        <p:nvSpPr>
          <p:cNvPr id="4" name="PlaceHolder 3"/>
          <p:cNvSpPr>
            <a:spLocks noGrp="1"/>
          </p:cNvSpPr>
          <p:nvPr>
            <p:ph type="sldNum" idx="3"/>
          </p:nvPr>
        </p:nvSpPr>
        <p:spPr/>
        <p:txBody>
          <a:bodyPr/>
          <a:p>
            <a:fld id="{2E0DFD50-A498-453C-AEC6-B02DA75C24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Privacidade e manipulação de dados</a:t>
            </a:r>
            <a:endParaRPr b="1" lang="en-US" sz="3600" spc="-1" strike="noStrike">
              <a:solidFill>
                <a:srgbClr val="003366"/>
              </a:solidFill>
              <a:latin typeface="Arial"/>
            </a:endParaRPr>
          </a:p>
        </p:txBody>
      </p:sp>
      <p:sp>
        <p:nvSpPr>
          <p:cNvPr id="2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E-mail empresariais – é permitido o conhecimento das mensagens pelo empregador</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F1247C0-0BFF-4BAE-9275-9FEA6EC372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Proteção a propriedade intelectual</a:t>
            </a:r>
            <a:endParaRPr b="1" lang="en-US" sz="3600" spc="-1" strike="noStrike">
              <a:solidFill>
                <a:srgbClr val="003366"/>
              </a:solidFill>
              <a:latin typeface="Arial"/>
            </a:endParaRPr>
          </a:p>
        </p:txBody>
      </p:sp>
      <p:sp>
        <p:nvSpPr>
          <p:cNvPr id="2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A proteção à propriedade intelectual visa a estimular a criação, garantindo ao criador o direito de explorar comercialmente o resultado da sua obra. Manifesta-se em duas formas de tutela de acordo com a natureza da criação a merecer proteção: a proteção à propriedade industrial e ao direito autoral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564843B-D8EA-459D-8CBF-AC23C22382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Podem ser protegidos</a:t>
            </a:r>
            <a:endParaRPr b="1" lang="en-US" sz="3600" spc="-1" strike="noStrike">
              <a:solidFill>
                <a:srgbClr val="003366"/>
              </a:solidFill>
              <a:latin typeface="Arial"/>
            </a:endParaRPr>
          </a:p>
        </p:txBody>
      </p:sp>
      <p:sp>
        <p:nvSpPr>
          <p:cNvPr id="2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Palavras, algoritmos, programas, imagens, sites, criações disponíveis na rede, desde que produtos de trabalho intelectual, pois representam um investimento das pessoas que fizeram o trabalho ou o contrataram. É a proteção a propriedade intelectual</a:t>
            </a:r>
            <a:r>
              <a:rPr b="0" lang="pt-BR"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08A6E10-4E96-4D66-96EE-767DECAC1A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Proteção a propriedade industrial</a:t>
            </a:r>
            <a:endParaRPr b="1" lang="en-US" sz="3600" spc="-1" strike="noStrike">
              <a:solidFill>
                <a:srgbClr val="003366"/>
              </a:solidFill>
              <a:latin typeface="Arial"/>
            </a:endParaRPr>
          </a:p>
        </p:txBody>
      </p:sp>
      <p:sp>
        <p:nvSpPr>
          <p:cNvPr id="2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engloba a invenção, o modelo de utilidade, o desenho industrial e a marca, os quais vêm definidos na Lei da Propriedade Industrial (Lei 9279/96).</a:t>
            </a:r>
            <a:r>
              <a:rPr b="0" lang="pt-BR"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9C2D1A4-CFEF-46D7-827D-A04D037E1B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Profissionais da informática</a:t>
            </a:r>
            <a:endParaRPr b="1" lang="en-US" sz="3600" spc="-1" strike="noStrike">
              <a:solidFill>
                <a:srgbClr val="003366"/>
              </a:solidFill>
              <a:latin typeface="Arial"/>
            </a:endParaRPr>
          </a:p>
        </p:txBody>
      </p:sp>
      <p:sp>
        <p:nvSpPr>
          <p:cNvPr id="2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A proteção jurídica do software é feita levando-se em conta o direito autoral, ou seja, é o conferido às obras literária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Lei n. 9609/98 ( e subsidiariamente a Lei n. 9610/98)</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532A838-9BC3-4976-99C5-BF0A411930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Programa de computador – definição legal</a:t>
            </a:r>
            <a:endParaRPr b="1" lang="en-US" sz="3600" spc="-1" strike="noStrike">
              <a:solidFill>
                <a:srgbClr val="003366"/>
              </a:solidFill>
              <a:latin typeface="Arial"/>
            </a:endParaRPr>
          </a:p>
        </p:txBody>
      </p:sp>
      <p:sp>
        <p:nvSpPr>
          <p:cNvPr id="2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É a expressão de um conjunto organizado de instruções em linguagem natural ou codificada, contida em suporte físico de qualquer natureza, de emprego necessário em máquinas automáticas de tratamento da informação, dispositivos, instrumento ou equipamentos periféricos, baseados em técnica digital ou análoga, para fazê-los funcionar de modo e para fins determinado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361A9CA-2115-43CE-B18E-D8E39E61DE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Software</a:t>
            </a:r>
            <a:endParaRPr b="1" lang="en-US" sz="3600" spc="-1" strike="noStrike">
              <a:solidFill>
                <a:srgbClr val="003366"/>
              </a:solidFill>
              <a:latin typeface="Arial"/>
            </a:endParaRPr>
          </a:p>
        </p:txBody>
      </p:sp>
      <p:sp>
        <p:nvSpPr>
          <p:cNvPr id="2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O software é formado por três componentes distintos: o programa de computador (código fonte), sua documentação e materiais de apoio.</a:t>
            </a:r>
            <a:r>
              <a:rPr b="0" lang="pt-BR"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8717E6D-D507-4EF3-BE86-B8286C6221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Programa</a:t>
            </a:r>
            <a:endParaRPr b="1" lang="en-US" sz="3600" spc="-1" strike="noStrike">
              <a:solidFill>
                <a:srgbClr val="003366"/>
              </a:solidFill>
              <a:latin typeface="Arial"/>
            </a:endParaRPr>
          </a:p>
        </p:txBody>
      </p:sp>
      <p:sp>
        <p:nvSpPr>
          <p:cNvPr id="2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O programa é o conjunto de instruções que faz com o hardware execute certas funções, que no seu conjunto constituem o objetivo do programa.</a:t>
            </a:r>
            <a:r>
              <a:rPr b="0" lang="pt-BR"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EC2F35D-48A7-49E8-9238-93231C66F6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Documentação</a:t>
            </a:r>
            <a:endParaRPr b="1" lang="en-US" sz="3600" spc="-1" strike="noStrike">
              <a:solidFill>
                <a:srgbClr val="003366"/>
              </a:solidFill>
              <a:latin typeface="Arial"/>
            </a:endParaRPr>
          </a:p>
        </p:txBody>
      </p:sp>
      <p:sp>
        <p:nvSpPr>
          <p:cNvPr id="21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A documentação é o conjunto de informação, expresso por textos, gráficos, esquemas, diagramas e algoritmos, que permite especificar e compreender o conjunto de instruções do qual o programa é constituído.</a:t>
            </a:r>
            <a:r>
              <a:rPr b="0" lang="pt-BR"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2416725-65DF-48B4-8CA4-450F821DE7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Perguntas</a:t>
            </a:r>
            <a:endParaRPr b="1" lang="en-US" sz="3600" spc="-1" strike="noStrike">
              <a:solidFill>
                <a:srgbClr val="003366"/>
              </a:solidFill>
              <a:latin typeface="Arial"/>
            </a:endParaRPr>
          </a:p>
        </p:txBody>
      </p:sp>
      <p:sp>
        <p:nvSpPr>
          <p:cNvPr id="106" name="PlaceHolder 2"/>
          <p:cNvSpPr>
            <a:spLocks noGrp="1"/>
          </p:cNvSpPr>
          <p:nvPr>
            <p:ph/>
          </p:nvPr>
        </p:nvSpPr>
        <p:spPr>
          <a:xfrm>
            <a:off x="837720" y="1523520"/>
            <a:ext cx="8001000" cy="53341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rPr>
              <a:t>Existe Dano Moral na Interne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rPr>
              <a:t>Quais crimes mais comuns que existem no Direito Eletrônico na Web?</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rPr>
              <a:t>Existe mercado de trabalho para Perícia Digita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rPr>
              <a:t>Como comprovar a identidade dos usuários no mundo digital? </a:t>
            </a:r>
            <a:r>
              <a:rPr b="1" lang="pt-BR" sz="2400" spc="-1" strike="noStrike">
                <a:solidFill>
                  <a:srgbClr val="003366"/>
                </a:solidFill>
                <a:latin typeface="Wingdings"/>
                <a:ea typeface="Wingdings"/>
              </a:rPr>
              <a:t></a:t>
            </a:r>
            <a:r>
              <a:rPr b="1" lang="pt-BR" sz="2400" spc="-1" strike="noStrike">
                <a:solidFill>
                  <a:srgbClr val="003366"/>
                </a:solidFill>
                <a:latin typeface="Arial"/>
              </a:rPr>
              <a:t> Certificados Digitais (bom para consumidores)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rPr>
              <a:t>ICP-Brasil – Infra-estrutura de Chaves Públicas Brasileiras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rPr>
              <a:t>Maneira simples de verificar a autenticidade de uma empresa antes de fornecer informações confidenciai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rPr>
              <a:t>Consumidor pode obter endereço físico da empresa, seu nome legalmente registrado, para mover uma ação legal contra a mesma se algo de pior acontecer</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04DEECB5-27B3-4094-8B73-877A11EF7E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Material de apoio</a:t>
            </a:r>
            <a:endParaRPr b="1" lang="en-US" sz="3600" spc="-1" strike="noStrike">
              <a:solidFill>
                <a:srgbClr val="003366"/>
              </a:solidFill>
              <a:latin typeface="Arial"/>
            </a:endParaRPr>
          </a:p>
        </p:txBody>
      </p:sp>
      <p:sp>
        <p:nvSpPr>
          <p:cNvPr id="21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O material de apoio complementa o programa, permitindo e facilitando o seu uso. É constituído por material de demonstração, manuais técnicos e de  uso, tutoriais e material de treinamento.</a:t>
            </a:r>
            <a:r>
              <a:rPr b="0" lang="pt-BR"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7C4CECB-763F-4723-B3D6-9A7E3F8FE7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Lei n. 9609/98</a:t>
            </a:r>
            <a:endParaRPr b="1" lang="en-US" sz="3600" spc="-1" strike="noStrike">
              <a:solidFill>
                <a:srgbClr val="003366"/>
              </a:solidFill>
              <a:latin typeface="Arial"/>
            </a:endParaRPr>
          </a:p>
        </p:txBody>
      </p:sp>
      <p:sp>
        <p:nvSpPr>
          <p:cNvPr id="22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Ao tutelar o software, a lei não o protege em sua totalidade, mas apenas o programa, ou seja, o código fonte.</a:t>
            </a:r>
            <a:r>
              <a:rPr b="0" lang="pt-BR"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B075D75-03B2-4F31-95D7-FC5FB47D29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Tutela do direito autoral – art. 2o , par. 3o registro tem efeito declaratório</a:t>
            </a:r>
            <a:endParaRPr b="1" lang="en-US" sz="3600" spc="-1" strike="noStrike">
              <a:solidFill>
                <a:srgbClr val="003366"/>
              </a:solidFill>
              <a:latin typeface="Arial"/>
            </a:endParaRPr>
          </a:p>
        </p:txBody>
      </p:sp>
      <p:sp>
        <p:nvSpPr>
          <p:cNvPr id="22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nasce com a criação da obra intelectual (obra artística, científica, literária ou programa de computador). Criada a obra, surge o direito à sua exploração econômica. Assim, o registro do software (programa de computador) realizado no Instituto Nacional da Propriedade Industrial não tem efeito constitutivo (efeito capaz de garantir àquele que primeiro registrou o direito exclusivo de exploração)</a:t>
            </a:r>
            <a:r>
              <a:rPr b="0" lang="pt-BR"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F6AFE09-CA99-4F52-8ACA-45AAEBDF22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Art. 6o da Lei n. 9609/98</a:t>
            </a:r>
            <a:endParaRPr b="1" lang="en-US" sz="3600" spc="-1" strike="noStrike">
              <a:solidFill>
                <a:srgbClr val="003366"/>
              </a:solidFill>
              <a:latin typeface="Arial"/>
            </a:endParaRPr>
          </a:p>
        </p:txBody>
      </p:sp>
      <p:sp>
        <p:nvSpPr>
          <p:cNvPr id="22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Hipóteses em que não há ofensa do direito autoral</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59847E2-8C3F-48DD-A5AD-847785CDD7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837720" y="-360"/>
            <a:ext cx="8001000" cy="66294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Os tipos de infração segundo a lei norte americana incluem:</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colocar imagens, figuras e quadros em sites sem permissão, mesmo que no item original não haja identificação clara em relação ao proprietário ou copyright;</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tornar disponível trechos de livros, relatórios e outros materiais impressos, além de clips sonoros de filmes, programas de TV;</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reenviar notícias de fontes sob copyright (autorização da agência);</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Reenviar uma mensagem do correio eletrônico. Como uma carta normal, o copyright do correio eletrônico é de posse do seu autor uma vez que está representado sob uma forma tangível. O ato de enviar uma mensagem não faz do destinatário participante do copyright. Assim, reenviar uma msg eletrônica pode representar tecnicamente uma violação da lei de copyright</a:t>
            </a:r>
            <a:r>
              <a:rPr b="0" lang="pt-BR" sz="2400" spc="-1" strike="noStrike">
                <a:solidFill>
                  <a:srgbClr val="003366"/>
                </a:solidFill>
                <a:latin typeface="Times New Roman"/>
                <a:ea typeface="Times New Roman"/>
              </a:rPr>
              <a:t>       </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8128B9F8-0652-4417-B8B4-E7812B8F2F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Conclusões</a:t>
            </a:r>
            <a:endParaRPr b="1" lang="en-US" sz="3600" spc="-1" strike="noStrike">
              <a:solidFill>
                <a:srgbClr val="003366"/>
              </a:solidFill>
              <a:latin typeface="Arial"/>
            </a:endParaRPr>
          </a:p>
        </p:txBody>
      </p:sp>
      <p:sp>
        <p:nvSpPr>
          <p:cNvPr id="228" name="PlaceHolder 2"/>
          <p:cNvSpPr>
            <a:spLocks noGrp="1"/>
          </p:cNvSpPr>
          <p:nvPr>
            <p:ph/>
          </p:nvPr>
        </p:nvSpPr>
        <p:spPr>
          <a:xfrm>
            <a:off x="914040" y="2057040"/>
            <a:ext cx="8001000" cy="48006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90% das Leis atuais podem ser aplicadas no Direito Eletrônico (Internet, Informátic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Como qualquer área de conhecimento, o direito junto com a tecnologia deve evoluir e amadurecer (jurisprudênci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A formação </a:t>
            </a:r>
            <a:r>
              <a:rPr b="1" lang="pt-BR" sz="2800" spc="-1" strike="noStrike">
                <a:solidFill>
                  <a:srgbClr val="003366"/>
                </a:solidFill>
                <a:latin typeface="Arial"/>
                <a:ea typeface="Times New Roman"/>
              </a:rPr>
              <a:t>Ética Profissional</a:t>
            </a:r>
            <a:r>
              <a:rPr b="0" lang="pt-BR" sz="2800" spc="-1" strike="noStrike">
                <a:solidFill>
                  <a:srgbClr val="003366"/>
                </a:solidFill>
                <a:latin typeface="Arial"/>
                <a:ea typeface="Times New Roman"/>
              </a:rPr>
              <a:t> deve sempre ser valorizada, ainda mais em um momento em que a privacidade está a um passo de ser cada dia mais rechaçada em face da crescente modernização dos sistemas de comunicação.</a:t>
            </a:r>
            <a:r>
              <a:rPr b="0" lang="pt-BR"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BE2669B-98D2-4882-BE01-F91DFC8BC29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040" y="761760"/>
            <a:ext cx="7924680" cy="114300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Unicode MS"/>
                <a:ea typeface="Arial Unicode MS"/>
              </a:rPr>
              <a:t>Legislação Brasileira sobre </a:t>
            </a:r>
            <a:br>
              <a:rPr sz="3600"/>
            </a:br>
            <a:r>
              <a:rPr b="1" lang="pt-BR" sz="3600" spc="-1" strike="noStrike">
                <a:solidFill>
                  <a:srgbClr val="003366"/>
                </a:solidFill>
                <a:latin typeface="Arial Unicode MS"/>
                <a:ea typeface="Arial Unicode MS"/>
              </a:rPr>
              <a:t>Informática, Internet, Telecomunicações e conexos</a:t>
            </a:r>
            <a:r>
              <a:rPr b="1" lang="pt-BR" sz="3600" spc="-1" strike="noStrike">
                <a:solidFill>
                  <a:srgbClr val="003366"/>
                </a:solidFill>
                <a:latin typeface="Arial"/>
                <a:ea typeface="Times New Roman"/>
              </a:rPr>
              <a:t> </a:t>
            </a:r>
            <a:endParaRPr b="1" lang="en-US" sz="3600" spc="-1" strike="noStrike">
              <a:solidFill>
                <a:srgbClr val="003366"/>
              </a:solidFill>
              <a:latin typeface="Arial"/>
            </a:endParaRPr>
          </a:p>
        </p:txBody>
      </p:sp>
      <p:sp>
        <p:nvSpPr>
          <p:cNvPr id="2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Arial Unicode MS"/>
              </a:rPr>
              <a:t>Links:</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ff"/>
                </a:solidFill>
                <a:uFillTx/>
                <a:latin typeface="Arial"/>
                <a:ea typeface="Arial Unicode MS"/>
              </a:rPr>
              <a:t>Comitê Executivo de Comércio Eletrônico</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ea typeface="Times New Roman"/>
              </a:rPr>
              <a:t>http://ce.mdic.gov.br/</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ff"/>
                </a:solidFill>
                <a:uFillTx/>
                <a:latin typeface="Arial"/>
                <a:ea typeface="Arial Unicode MS"/>
              </a:rPr>
              <a:t>Ministério da Ciência e Tecnologia - Legislação</a:t>
            </a:r>
            <a:r>
              <a:rPr b="0" lang="pt-BR" sz="2400" spc="-1" strike="noStrike">
                <a:solidFill>
                  <a:srgbClr val="003366"/>
                </a:solidFill>
                <a:latin typeface="Arial"/>
                <a:ea typeface="Arial Unicode MS"/>
              </a:rPr>
              <a:t>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ea typeface="Arial Unicode MS"/>
              </a:rPr>
              <a:t>http://www.mct.gov.br/legis/default.htm</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Arial Unicode MS"/>
              </a:rPr>
              <a:t>Programa Sociedade da Informação</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ea typeface="Times New Roman"/>
              </a:rPr>
              <a:t>www.socioinfo.org.br</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9077D088-BB33-43A4-95BA-D5434F9298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040" y="761760"/>
            <a:ext cx="7924680" cy="114300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Unicode MS"/>
                <a:ea typeface="Arial Unicode MS"/>
              </a:rPr>
              <a:t>Legislação Brasileira sobre </a:t>
            </a:r>
            <a:br>
              <a:rPr sz="3600"/>
            </a:br>
            <a:r>
              <a:rPr b="1" lang="pt-BR" sz="3600" spc="-1" strike="noStrike">
                <a:solidFill>
                  <a:srgbClr val="003366"/>
                </a:solidFill>
                <a:latin typeface="Arial Unicode MS"/>
                <a:ea typeface="Arial Unicode MS"/>
              </a:rPr>
              <a:t>Informática, Internet, Telecomunicações e conexos</a:t>
            </a:r>
            <a:r>
              <a:rPr b="1" lang="pt-BR" sz="3600" spc="-1" strike="noStrike">
                <a:solidFill>
                  <a:srgbClr val="003366"/>
                </a:solidFill>
                <a:latin typeface="Arial"/>
                <a:ea typeface="Times New Roman"/>
              </a:rPr>
              <a:t> </a:t>
            </a:r>
            <a:endParaRPr b="1" lang="en-US" sz="3600" spc="-1" strike="noStrike">
              <a:solidFill>
                <a:srgbClr val="003366"/>
              </a:solidFill>
              <a:latin typeface="Arial"/>
            </a:endParaRPr>
          </a:p>
        </p:txBody>
      </p:sp>
      <p:sp>
        <p:nvSpPr>
          <p:cNvPr id="23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ff"/>
                </a:solidFill>
                <a:uFillTx/>
                <a:latin typeface="Arial Unicode MS"/>
                <a:ea typeface="Arial Unicode MS"/>
              </a:rPr>
              <a:t>Lei nº 10.408, de 10.01.2002</a:t>
            </a:r>
            <a:r>
              <a:rPr b="0" lang="pt-BR" sz="2400" spc="-1" strike="noStrike">
                <a:solidFill>
                  <a:srgbClr val="003366"/>
                </a:solidFill>
                <a:latin typeface="Arial Unicode MS"/>
                <a:ea typeface="Arial Unicode MS"/>
              </a:rPr>
              <a:t> (DOU de 11.01.2002)</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Unicode MS"/>
                <a:ea typeface="Arial Unicode MS"/>
              </a:rPr>
              <a:t>    </a:t>
            </a:r>
            <a:r>
              <a:rPr b="0" lang="pt-BR" sz="2000" spc="-1" strike="noStrike">
                <a:solidFill>
                  <a:srgbClr val="003366"/>
                </a:solidFill>
                <a:latin typeface="Arial Unicode MS"/>
                <a:ea typeface="Arial Unicode MS"/>
              </a:rPr>
              <a:t>Altera a </a:t>
            </a:r>
            <a:r>
              <a:rPr b="0" lang="pt-BR" sz="2000" spc="-1" strike="noStrike" u="sng">
                <a:solidFill>
                  <a:srgbClr val="0000ff"/>
                </a:solidFill>
                <a:uFillTx/>
                <a:latin typeface="Arial Unicode MS"/>
                <a:ea typeface="Arial Unicode MS"/>
              </a:rPr>
              <a:t>Lei nº 9.504</a:t>
            </a:r>
            <a:r>
              <a:rPr b="0" lang="pt-BR" sz="2000" spc="-1" strike="noStrike">
                <a:solidFill>
                  <a:srgbClr val="003366"/>
                </a:solidFill>
                <a:latin typeface="Arial Unicode MS"/>
                <a:ea typeface="Arial Unicode MS"/>
              </a:rPr>
              <a:t>, de 30.09.1997, que estabelece normas para as eleições, para ampliar a segurança e a fiscalização do voto eletrônico. </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00ff"/>
                </a:solidFill>
                <a:uFillTx/>
                <a:latin typeface="Arial Unicode MS"/>
                <a:ea typeface="Arial Unicode MS"/>
              </a:rPr>
              <a:t>Decreto nº 4.073, de 03.01.2002</a:t>
            </a:r>
            <a:r>
              <a:rPr b="0" lang="pt-BR" sz="2000" spc="-1" strike="noStrike">
                <a:solidFill>
                  <a:srgbClr val="003366"/>
                </a:solidFill>
                <a:latin typeface="Arial Unicode MS"/>
                <a:ea typeface="Arial Unicode MS"/>
              </a:rPr>
              <a:t> (DOU de 04.01.2002)</a:t>
            </a:r>
            <a:r>
              <a:rPr b="0" lang="pt-BR" sz="2000" spc="-1" strike="noStrike">
                <a:solidFill>
                  <a:srgbClr val="003366"/>
                </a:solidFill>
                <a:latin typeface="Arial"/>
                <a:ea typeface="Times New Roman"/>
              </a:rPr>
              <a:t> </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Unicode MS"/>
                <a:ea typeface="Arial Unicode MS"/>
              </a:rPr>
              <a:t>	</a:t>
            </a:r>
            <a:r>
              <a:rPr b="0" lang="pt-BR" sz="2000" spc="-1" strike="noStrike">
                <a:solidFill>
                  <a:srgbClr val="003366"/>
                </a:solidFill>
                <a:latin typeface="Arial Unicode MS"/>
                <a:ea typeface="Arial Unicode MS"/>
              </a:rPr>
              <a:t>Regulamenta a </a:t>
            </a:r>
            <a:r>
              <a:rPr b="0" lang="pt-BR" sz="2000" spc="-1" strike="noStrike" u="sng">
                <a:solidFill>
                  <a:srgbClr val="0000ff"/>
                </a:solidFill>
                <a:uFillTx/>
                <a:latin typeface="Arial Unicode MS"/>
                <a:ea typeface="Arial Unicode MS"/>
              </a:rPr>
              <a:t>Lei nº 8.159</a:t>
            </a:r>
            <a:r>
              <a:rPr b="0" lang="pt-BR" sz="2000" spc="-1" strike="noStrike">
                <a:solidFill>
                  <a:srgbClr val="003366"/>
                </a:solidFill>
                <a:latin typeface="Arial Unicode MS"/>
                <a:ea typeface="Arial Unicode MS"/>
              </a:rPr>
              <a:t>, de 08.01.1991, que dispõe sobre a política nacional de arquivos públicos e privados. </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00ff"/>
                </a:solidFill>
                <a:uFillTx/>
                <a:latin typeface="Arial Unicode MS"/>
                <a:ea typeface="Times New Roman"/>
              </a:rPr>
              <a:t>Decreto nº 3.996, de 31.10.2001</a:t>
            </a:r>
            <a:r>
              <a:rPr b="0" lang="pt-BR" sz="2000" spc="-1" strike="noStrike">
                <a:solidFill>
                  <a:srgbClr val="003366"/>
                </a:solidFill>
                <a:latin typeface="Arial Unicode MS"/>
                <a:ea typeface="Times New Roman"/>
              </a:rPr>
              <a:t> (DOU de 05.11.2001) </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Unicode MS"/>
                <a:ea typeface="Times New Roman"/>
              </a:rPr>
              <a:t>	</a:t>
            </a:r>
            <a:r>
              <a:rPr b="0" lang="pt-BR" sz="2000" spc="-1" strike="noStrike">
                <a:solidFill>
                  <a:srgbClr val="003366"/>
                </a:solidFill>
                <a:latin typeface="Arial Unicode MS"/>
                <a:ea typeface="Times New Roman"/>
              </a:rPr>
              <a:t>Dispõe sobre a prestação de serviços de certificação digital no âmbito da Administração Pública Federal. </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26BA6A57-AF5A-4568-9D89-1586FD2E59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142640" y="838080"/>
            <a:ext cx="8001000" cy="3733920"/>
          </a:xfrm>
          <a:prstGeom prst="rect">
            <a:avLst/>
          </a:prstGeom>
          <a:noFill/>
          <a:ln w="0">
            <a:noFill/>
          </a:ln>
        </p:spPr>
        <p:txBody>
          <a:bodyPr lIns="90000" rIns="90000" tIns="46800" bIns="46800" anchor="t">
            <a:normAutofit fontScale="75000"/>
          </a:bodyPr>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666699"/>
                </a:solidFill>
                <a:uFillTx/>
                <a:latin typeface="Arial"/>
                <a:ea typeface="Arial Unicode MS"/>
                <a:hlinkClick r:id="rId1"/>
              </a:rPr>
              <a:t>Medida Provisória nº 2.200-2, de 24.08.2001</a:t>
            </a:r>
            <a:r>
              <a:rPr b="0" lang="pt-BR" sz="2000" spc="-1" strike="noStrike">
                <a:solidFill>
                  <a:srgbClr val="003366"/>
                </a:solidFill>
                <a:latin typeface="Arial"/>
                <a:ea typeface="Arial Unicode MS"/>
              </a:rPr>
              <a:t> (DOU de 27.08.2001)</a:t>
            </a:r>
            <a:r>
              <a:rPr b="0" lang="pt-BR" sz="2000" spc="-1" strike="noStrike">
                <a:solidFill>
                  <a:srgbClr val="003366"/>
                </a:solidFill>
                <a:latin typeface="Arial"/>
                <a:ea typeface="Times New Roman"/>
              </a:rPr>
              <a:t> </a:t>
            </a:r>
            <a:endParaRPr b="0" lang="en-US" sz="2000" spc="-1" strike="noStrike">
              <a:solidFill>
                <a:srgbClr val="003366"/>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ea typeface="Arial Unicode MS"/>
              </a:rPr>
              <a:t>	</a:t>
            </a:r>
            <a:r>
              <a:rPr b="0" lang="pt-BR" sz="1800" spc="-1" strike="noStrike">
                <a:solidFill>
                  <a:srgbClr val="003366"/>
                </a:solidFill>
                <a:latin typeface="Arial"/>
                <a:ea typeface="Arial Unicode MS"/>
              </a:rPr>
              <a:t>Institui a Infra-Estrutura de Chaves Públicas Brasileira - ICP-Brasil, transforma o Instituto Nacional de Tecnologia da Informação em autarquia, e dá outras providências.</a:t>
            </a:r>
            <a:r>
              <a:rPr b="0" lang="pt-BR" sz="1800" spc="-1" strike="noStrike">
                <a:solidFill>
                  <a:srgbClr val="003366"/>
                </a:solidFill>
                <a:latin typeface="Arial Unicode MS"/>
                <a:ea typeface="Arial Unicode MS"/>
              </a:rPr>
              <a:t> </a:t>
            </a:r>
            <a:endParaRPr b="0" lang="en-US" sz="1800" spc="-1" strike="noStrike">
              <a:solidFill>
                <a:srgbClr val="003366"/>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Unicode MS"/>
                <a:ea typeface="Times New Roman"/>
              </a:rPr>
              <a:t>(LEI DE INFORMÁTICA) </a:t>
            </a:r>
            <a:endParaRPr b="0" lang="en-US" sz="1800" spc="-1" strike="noStrike">
              <a:solidFill>
                <a:srgbClr val="003366"/>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Unicode MS"/>
                <a:ea typeface="Times New Roman"/>
              </a:rPr>
              <a:t>	</a:t>
            </a:r>
            <a:r>
              <a:rPr b="0" lang="pt-BR" sz="1800" spc="-1" strike="noStrike">
                <a:solidFill>
                  <a:srgbClr val="003366"/>
                </a:solidFill>
                <a:latin typeface="Arial Unicode MS"/>
                <a:ea typeface="Times New Roman"/>
              </a:rPr>
              <a:t>(Regulamentada parcialmente pelos </a:t>
            </a:r>
            <a:r>
              <a:rPr b="0" lang="pt-BR" sz="1800" spc="-1" strike="noStrike" u="sng">
                <a:solidFill>
                  <a:srgbClr val="666699"/>
                </a:solidFill>
                <a:uFillTx/>
                <a:latin typeface="Arial Unicode MS"/>
                <a:ea typeface="Times New Roman"/>
                <a:hlinkClick r:id="rId2"/>
              </a:rPr>
              <a:t>Decretos nºs 3.800, de 20.04.2001</a:t>
            </a:r>
            <a:r>
              <a:rPr b="0" lang="pt-BR" sz="1800" spc="-1" strike="noStrike">
                <a:solidFill>
                  <a:srgbClr val="003366"/>
                </a:solidFill>
                <a:latin typeface="Arial Unicode MS"/>
                <a:ea typeface="Times New Roman"/>
              </a:rPr>
              <a:t> e </a:t>
            </a:r>
            <a:r>
              <a:rPr b="0" lang="pt-BR" sz="1800" spc="-1" strike="noStrike" u="sng">
                <a:solidFill>
                  <a:srgbClr val="666699"/>
                </a:solidFill>
                <a:uFillTx/>
                <a:latin typeface="Arial Unicode MS"/>
                <a:ea typeface="Times New Roman"/>
                <a:hlinkClick r:id="rId3"/>
              </a:rPr>
              <a:t>3.801, de 20.04.2001</a:t>
            </a:r>
            <a:r>
              <a:rPr b="0" lang="pt-BR" sz="1800" spc="-1" strike="noStrike">
                <a:solidFill>
                  <a:srgbClr val="003366"/>
                </a:solidFill>
                <a:latin typeface="Arial Unicode MS"/>
                <a:ea typeface="Times New Roman"/>
              </a:rPr>
              <a:t>) </a:t>
            </a:r>
            <a:endParaRPr b="0" lang="en-US" sz="1800" spc="-1" strike="noStrike">
              <a:solidFill>
                <a:srgbClr val="003366"/>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Unicode MS"/>
                <a:ea typeface="Times New Roman"/>
              </a:rPr>
              <a:t>	</a:t>
            </a:r>
            <a:r>
              <a:rPr b="0" lang="pt-BR" sz="1800" spc="-1" strike="noStrike">
                <a:solidFill>
                  <a:srgbClr val="003366"/>
                </a:solidFill>
                <a:latin typeface="Arial Unicode MS"/>
                <a:ea typeface="Times New Roman"/>
              </a:rPr>
              <a:t>(Vide </a:t>
            </a:r>
            <a:r>
              <a:rPr b="0" lang="pt-BR" sz="1800" spc="-1" strike="noStrike" u="sng">
                <a:solidFill>
                  <a:srgbClr val="666699"/>
                </a:solidFill>
                <a:uFillTx/>
                <a:latin typeface="Arial Unicode MS"/>
                <a:ea typeface="Times New Roman"/>
                <a:hlinkClick r:id="rId4"/>
              </a:rPr>
              <a:t>Portaria Interministerial MCT/MDIC nº 253, de 28.06.2001</a:t>
            </a:r>
            <a:r>
              <a:rPr b="0" lang="pt-BR" sz="1800" spc="-1" strike="noStrike">
                <a:solidFill>
                  <a:srgbClr val="003366"/>
                </a:solidFill>
                <a:latin typeface="Arial Unicode MS"/>
                <a:ea typeface="Times New Roman"/>
              </a:rPr>
              <a:t>) </a:t>
            </a:r>
            <a:endParaRPr b="0" lang="en-US" sz="1800" spc="-1" strike="noStrike">
              <a:solidFill>
                <a:srgbClr val="003366"/>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666699"/>
                </a:solidFill>
                <a:uFillTx/>
                <a:latin typeface="Arial Unicode MS"/>
                <a:ea typeface="Times New Roman"/>
                <a:hlinkClick r:id="rId5"/>
              </a:rPr>
              <a:t>Decreto nº 3.714 , de 03.01.2001</a:t>
            </a:r>
            <a:r>
              <a:rPr b="0" lang="pt-BR" sz="1800" spc="-1" strike="noStrike">
                <a:solidFill>
                  <a:srgbClr val="003366"/>
                </a:solidFill>
                <a:latin typeface="Arial Unicode MS"/>
                <a:ea typeface="Times New Roman"/>
              </a:rPr>
              <a:t> </a:t>
            </a:r>
            <a:endParaRPr b="0" lang="en-US" sz="1800" spc="-1" strike="noStrike">
              <a:solidFill>
                <a:srgbClr val="003366"/>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Unicode MS"/>
                <a:ea typeface="Times New Roman"/>
              </a:rPr>
              <a:t>	</a:t>
            </a:r>
            <a:r>
              <a:rPr b="0" lang="pt-BR" sz="1800" spc="-1" strike="noStrike">
                <a:solidFill>
                  <a:srgbClr val="003366"/>
                </a:solidFill>
                <a:latin typeface="Arial Unicode MS"/>
                <a:ea typeface="Times New Roman"/>
              </a:rPr>
              <a:t>Dispõe sobre a remessa por meio eletrônico de documentos a que se refere o art. 57-A do Decreto nº 2.954, de 29.01.1999, e dá outras providências. </a:t>
            </a:r>
            <a:endParaRPr b="0" lang="en-US" sz="1800" spc="-1" strike="noStrike">
              <a:solidFill>
                <a:srgbClr val="003366"/>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666699"/>
                </a:solidFill>
                <a:uFillTx/>
                <a:latin typeface="Arial Unicode MS"/>
                <a:ea typeface="Times New Roman"/>
                <a:hlinkClick r:id="rId6"/>
              </a:rPr>
              <a:t>Decreto nº 3.697, de 21.12.2000</a:t>
            </a:r>
            <a:r>
              <a:rPr b="0" lang="pt-BR" sz="1800" spc="-1" strike="noStrike">
                <a:solidFill>
                  <a:srgbClr val="003366"/>
                </a:solidFill>
                <a:latin typeface="Arial Unicode MS"/>
                <a:ea typeface="Times New Roman"/>
              </a:rPr>
              <a:t> </a:t>
            </a:r>
            <a:endParaRPr b="0" lang="en-US" sz="1800" spc="-1" strike="noStrike">
              <a:solidFill>
                <a:srgbClr val="003366"/>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Unicode MS"/>
                <a:ea typeface="Times New Roman"/>
              </a:rPr>
              <a:t>	</a:t>
            </a:r>
            <a:r>
              <a:rPr b="0" lang="pt-BR" sz="1800" spc="-1" strike="noStrike">
                <a:solidFill>
                  <a:srgbClr val="003366"/>
                </a:solidFill>
                <a:latin typeface="Arial Unicode MS"/>
                <a:ea typeface="Times New Roman"/>
              </a:rPr>
              <a:t>Regulamenta o parágrafo único do art. 2º da Medida Provisória nº 2.026-7, de 23 de novembro de 2000, que trata do pregão por meio da utilização de recursos de tecnologia da informação. </a:t>
            </a:r>
            <a:endParaRPr b="0" lang="en-US" sz="1800" spc="-1" strike="noStrike">
              <a:solidFill>
                <a:srgbClr val="003366"/>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00ff"/>
                </a:solidFill>
                <a:uFillTx/>
                <a:latin typeface="Arial Unicode MS"/>
                <a:ea typeface="Times New Roman"/>
              </a:rPr>
              <a:t>Decreto nº 3.294, de 15.12.1999</a:t>
            </a:r>
            <a:r>
              <a:rPr b="0" lang="pt-BR" sz="1800" spc="-1" strike="noStrike">
                <a:solidFill>
                  <a:srgbClr val="003366"/>
                </a:solidFill>
                <a:latin typeface="Arial Unicode MS"/>
                <a:ea typeface="Times New Roman"/>
              </a:rPr>
              <a:t> </a:t>
            </a:r>
            <a:endParaRPr b="0" lang="en-US" sz="1800" spc="-1" strike="noStrike">
              <a:solidFill>
                <a:srgbClr val="003366"/>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Unicode MS"/>
                <a:ea typeface="Times New Roman"/>
              </a:rPr>
              <a:t>Institui o Programa Sociedade da Informação, com o objetivo de viabilizar a nova geração da Internet e suas aplicações em benefício da sociedade brasileira. </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0D2E16C4-EC1A-44A9-86E8-8047D9A9BE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Referências Bibliográficas</a:t>
            </a:r>
            <a:endParaRPr b="1" lang="en-US" sz="3600" spc="-1" strike="noStrike">
              <a:solidFill>
                <a:srgbClr val="003366"/>
              </a:solidFill>
              <a:latin typeface="Arial"/>
            </a:endParaRPr>
          </a:p>
        </p:txBody>
      </p:sp>
      <p:sp>
        <p:nvSpPr>
          <p:cNvPr id="235" name="PlaceHolder 2"/>
          <p:cNvSpPr>
            <a:spLocks noGrp="1"/>
          </p:cNvSpPr>
          <p:nvPr>
            <p:ph/>
          </p:nvPr>
        </p:nvSpPr>
        <p:spPr>
          <a:xfrm>
            <a:off x="914040" y="2209680"/>
            <a:ext cx="7924680" cy="3733920"/>
          </a:xfrm>
          <a:prstGeom prst="rect">
            <a:avLst/>
          </a:prstGeom>
          <a:noFill/>
          <a:ln w="0">
            <a:noFill/>
          </a:ln>
        </p:spPr>
        <p:txBody>
          <a:bodyPr lIns="90000" rIns="90000" tIns="46800" bIns="46800" anchor="t">
            <a:normAutofit fontScale="91000"/>
          </a:bodyPr>
          <a:p>
            <a:pPr marL="415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3366"/>
                </a:solidFill>
                <a:latin typeface="Arial"/>
                <a:ea typeface="Times New Roman"/>
              </a:rPr>
              <a:t>M.D. Varella, </a:t>
            </a:r>
            <a:r>
              <a:rPr b="0" i="1" lang="pt-BR" sz="2200" spc="-1" strike="noStrike">
                <a:solidFill>
                  <a:srgbClr val="003366"/>
                </a:solidFill>
                <a:latin typeface="Arial"/>
                <a:ea typeface="Times New Roman"/>
              </a:rPr>
              <a:t>Propriedade intelectual de setores emergentes</a:t>
            </a:r>
            <a:r>
              <a:rPr b="0" lang="pt-BR" sz="2200" spc="-1" strike="noStrike">
                <a:solidFill>
                  <a:srgbClr val="003366"/>
                </a:solidFill>
                <a:latin typeface="Arial"/>
                <a:ea typeface="Times New Roman"/>
              </a:rPr>
              <a:t>, Editora Atlas, São Paulo. 1996.</a:t>
            </a:r>
            <a:endParaRPr b="0" lang="en-US" sz="2200" spc="-1" strike="noStrike">
              <a:solidFill>
                <a:srgbClr val="003366"/>
              </a:solidFill>
              <a:latin typeface="Arial"/>
            </a:endParaRPr>
          </a:p>
          <a:p>
            <a:pPr marL="415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3366"/>
                </a:solidFill>
                <a:latin typeface="Arial"/>
                <a:ea typeface="Times New Roman"/>
              </a:rPr>
              <a:t>P.C. Masiero, </a:t>
            </a:r>
            <a:r>
              <a:rPr b="0" i="1" lang="pt-BR" sz="2200" spc="-1" strike="noStrike">
                <a:solidFill>
                  <a:srgbClr val="003366"/>
                </a:solidFill>
                <a:latin typeface="Arial"/>
                <a:ea typeface="Times New Roman"/>
              </a:rPr>
              <a:t>Ética em Computação</a:t>
            </a:r>
            <a:r>
              <a:rPr b="0" lang="pt-BR" sz="2200" spc="-1" strike="noStrike">
                <a:solidFill>
                  <a:srgbClr val="003366"/>
                </a:solidFill>
                <a:latin typeface="Arial"/>
                <a:ea typeface="Times New Roman"/>
              </a:rPr>
              <a:t>, Editora USP, São Paulo, 2000.</a:t>
            </a:r>
            <a:endParaRPr b="0" lang="en-US" sz="2200" spc="-1" strike="noStrike">
              <a:solidFill>
                <a:srgbClr val="003366"/>
              </a:solidFill>
              <a:latin typeface="Arial"/>
            </a:endParaRPr>
          </a:p>
          <a:p>
            <a:pPr marL="415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3366"/>
                </a:solidFill>
                <a:latin typeface="Arial"/>
                <a:ea typeface="Times New Roman"/>
              </a:rPr>
              <a:t>Pricewaterhouse Coopers, </a:t>
            </a:r>
            <a:r>
              <a:rPr b="0" i="1" lang="pt-BR" sz="2200" spc="-1" strike="noStrike">
                <a:solidFill>
                  <a:srgbClr val="003366"/>
                </a:solidFill>
                <a:latin typeface="Arial"/>
                <a:ea typeface="Times New Roman"/>
              </a:rPr>
              <a:t>Lei do Software e Seu Regulamento</a:t>
            </a:r>
            <a:r>
              <a:rPr b="0" lang="pt-BR" sz="2200" spc="-1" strike="noStrike">
                <a:solidFill>
                  <a:srgbClr val="003366"/>
                </a:solidFill>
                <a:latin typeface="Arial"/>
                <a:ea typeface="Times New Roman"/>
              </a:rPr>
              <a:t>, Série Legis-Empresa, Editora Atlas, São Paulo, 1999.</a:t>
            </a:r>
            <a:endParaRPr b="0" lang="en-US" sz="2200" spc="-1" strike="noStrike">
              <a:solidFill>
                <a:srgbClr val="003366"/>
              </a:solidFill>
              <a:latin typeface="Arial"/>
            </a:endParaRPr>
          </a:p>
          <a:p>
            <a:pPr marL="415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3366"/>
                </a:solidFill>
                <a:latin typeface="Arial"/>
                <a:ea typeface="Times New Roman"/>
              </a:rPr>
              <a:t>S.P. Martins, </a:t>
            </a:r>
            <a:r>
              <a:rPr b="0" i="1" lang="pt-BR" sz="2200" spc="-1" strike="noStrike">
                <a:solidFill>
                  <a:srgbClr val="003366"/>
                </a:solidFill>
                <a:latin typeface="Arial"/>
                <a:ea typeface="Times New Roman"/>
              </a:rPr>
              <a:t>Curso de Direito do Trabalho</a:t>
            </a:r>
            <a:r>
              <a:rPr b="0" lang="pt-BR" sz="2200" spc="-1" strike="noStrike">
                <a:solidFill>
                  <a:srgbClr val="003366"/>
                </a:solidFill>
                <a:latin typeface="Arial"/>
                <a:ea typeface="Times New Roman"/>
              </a:rPr>
              <a:t>. 2ª ed., Editora Dialética, 1999.</a:t>
            </a:r>
            <a:endParaRPr b="0" lang="en-US" sz="2200" spc="-1" strike="noStrike">
              <a:solidFill>
                <a:srgbClr val="003366"/>
              </a:solidFill>
              <a:latin typeface="Arial"/>
            </a:endParaRPr>
          </a:p>
          <a:p>
            <a:pPr marL="415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3366"/>
                </a:solidFill>
                <a:latin typeface="Arial"/>
                <a:ea typeface="Times New Roman"/>
              </a:rPr>
              <a:t>N. Nery Jr; A.P. Grinover, </a:t>
            </a:r>
            <a:r>
              <a:rPr b="0" i="1" lang="pt-BR" sz="2200" spc="-1" strike="noStrike">
                <a:solidFill>
                  <a:srgbClr val="003366"/>
                </a:solidFill>
                <a:latin typeface="Arial"/>
                <a:ea typeface="Times New Roman"/>
              </a:rPr>
              <a:t>Código Brasileiro de Defesa do Consumidor. </a:t>
            </a:r>
            <a:r>
              <a:rPr b="0" lang="pt-BR" sz="2200" spc="-1" strike="noStrike">
                <a:solidFill>
                  <a:srgbClr val="003366"/>
                </a:solidFill>
                <a:latin typeface="Arial"/>
                <a:ea typeface="Times New Roman"/>
              </a:rPr>
              <a:t>6ª ed., Editora Forense Universitária, Rio de Janeiro, 1999.</a:t>
            </a:r>
            <a:endParaRPr b="0" lang="en-US" sz="2200" spc="-1" strike="noStrike">
              <a:solidFill>
                <a:srgbClr val="003366"/>
              </a:solidFill>
              <a:latin typeface="Arial"/>
            </a:endParaRPr>
          </a:p>
          <a:p>
            <a:pPr marL="415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3366"/>
                </a:solidFill>
                <a:latin typeface="Arial"/>
                <a:ea typeface="Times New Roman"/>
              </a:rPr>
              <a:t>O. Gomes, </a:t>
            </a:r>
            <a:r>
              <a:rPr b="0" i="1" lang="pt-BR" sz="2200" spc="-1" strike="noStrike">
                <a:solidFill>
                  <a:srgbClr val="003366"/>
                </a:solidFill>
                <a:latin typeface="Arial"/>
                <a:ea typeface="Times New Roman"/>
              </a:rPr>
              <a:t>Contratos</a:t>
            </a:r>
            <a:r>
              <a:rPr b="0" lang="pt-BR" sz="2200" spc="-1" strike="noStrike">
                <a:solidFill>
                  <a:srgbClr val="003366"/>
                </a:solidFill>
                <a:latin typeface="Arial"/>
                <a:ea typeface="Times New Roman"/>
              </a:rPr>
              <a:t>, 20</a:t>
            </a:r>
            <a:r>
              <a:rPr b="0" lang="pt-BR" sz="2200" spc="-1" strike="noStrike" baseline="30000">
                <a:solidFill>
                  <a:srgbClr val="003366"/>
                </a:solidFill>
                <a:latin typeface="Arial"/>
                <a:ea typeface="Times New Roman"/>
              </a:rPr>
              <a:t>a</a:t>
            </a:r>
            <a:r>
              <a:rPr b="0" lang="pt-BR" sz="2200" spc="-1" strike="noStrike">
                <a:solidFill>
                  <a:srgbClr val="003366"/>
                </a:solidFill>
                <a:latin typeface="Arial"/>
                <a:ea typeface="Times New Roman"/>
              </a:rPr>
              <a:t>  Edição, Editora Forense,  2000.</a:t>
            </a:r>
            <a:endParaRPr b="0" lang="en-US" sz="2200" spc="-1" strike="noStrike">
              <a:solidFill>
                <a:srgbClr val="003366"/>
              </a:solidFill>
              <a:latin typeface="Arial"/>
            </a:endParaRPr>
          </a:p>
          <a:p>
            <a:pPr marL="41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4" name="PlaceHolder 3"/>
          <p:cNvSpPr>
            <a:spLocks noGrp="1"/>
          </p:cNvSpPr>
          <p:nvPr>
            <p:ph type="sldNum" idx="3"/>
          </p:nvPr>
        </p:nvSpPr>
        <p:spPr/>
        <p:txBody>
          <a:bodyPr/>
          <a:p>
            <a:fld id="{9B3F8D20-D4A6-4F81-A30A-625A7339B7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60" y="228600"/>
            <a:ext cx="8915400" cy="6477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a:t>
            </a:r>
            <a:r>
              <a:rPr b="0" lang="pt-BR" sz="2400" spc="-1" strike="noStrike">
                <a:solidFill>
                  <a:srgbClr val="003366"/>
                </a:solidFill>
                <a:latin typeface="Arial"/>
                <a:ea typeface="Times New Roman"/>
              </a:rPr>
              <a:t>No início de julho (de 2000), os proprietários do motel Ilha de Capri, em São Bernardo, na Grande São Paulo, levaram um susto. O telefone não parava de tocar. Os clientes, exaltados, queriam saber por que o motel filmava os casais que passavam por lá. A história da filmagem se espalhou rapidamente, na mesma proporção em que o movimento despencou. A causa: </a:t>
            </a:r>
            <a:r>
              <a:rPr b="1" lang="pt-BR" sz="2400" spc="-1" strike="noStrike">
                <a:solidFill>
                  <a:srgbClr val="003366"/>
                </a:solidFill>
                <a:latin typeface="Arial"/>
                <a:ea typeface="Times New Roman"/>
              </a:rPr>
              <a:t>um email</a:t>
            </a:r>
            <a:r>
              <a:rPr b="0" lang="pt-BR" sz="2400" spc="-1" strike="noStrike">
                <a:solidFill>
                  <a:srgbClr val="003366"/>
                </a:solidFill>
                <a:latin typeface="Arial"/>
                <a:ea typeface="Times New Roman"/>
              </a:rPr>
              <a:t>. O Ilha de Capri se tornou mais uma vítima dos hoaxes - os trotes que circulam pela Internet. O caso está nas mãos do </a:t>
            </a:r>
            <a:r>
              <a:rPr b="0" i="1" lang="pt-BR" sz="2400" spc="-1" strike="noStrike">
                <a:solidFill>
                  <a:srgbClr val="003366"/>
                </a:solidFill>
                <a:latin typeface="Arial"/>
                <a:ea typeface="Times New Roman"/>
              </a:rPr>
              <a:t>Setor de Investigação de Crimes de Alta Tecnologia e Meios Eletrônicos da Polícia de São Paulo</a:t>
            </a:r>
            <a:r>
              <a:rPr b="0" lang="pt-BR" sz="2400" spc="-1" strike="noStrike">
                <a:solidFill>
                  <a:srgbClr val="003366"/>
                </a:solidFill>
                <a:latin typeface="Arial"/>
                <a:ea typeface="Times New Roman"/>
              </a:rPr>
              <a:t>. Embora a investigação não esteja concluída, o rastreamento dos emails apontou para quatro funcionários da Basf, que coincidentemente está localizada a poucos quilômetros do motel. A empresa não comenta o assunto, mas acredita que seus funcionários apenas receberam as mensagens. Ironicamente, em Maio a Basf enviou a todos os funcionários um documento com orientações sobre o uso da Internet, que prevê até demissões por justa causa. Todo mundo assinou”.</a:t>
            </a:r>
            <a:r>
              <a:rPr b="0" lang="pt-BR" sz="2400" spc="-1" strike="noStrike">
                <a:solidFill>
                  <a:srgbClr val="003366"/>
                </a:solidFill>
                <a:latin typeface="Arial"/>
              </a:rPr>
              <a:t> </a:t>
            </a:r>
            <a:endParaRPr b="0" lang="en-US" sz="2400" spc="-1" strike="noStrike">
              <a:solidFill>
                <a:srgbClr val="003366"/>
              </a:solidFill>
              <a:latin typeface="Arial"/>
            </a:endParaRPr>
          </a:p>
        </p:txBody>
      </p:sp>
      <p:sp>
        <p:nvSpPr>
          <p:cNvPr id="108" name=""/>
          <p:cNvSpPr/>
          <p:nvPr/>
        </p:nvSpPr>
        <p:spPr>
          <a:xfrm>
            <a:off x="8340840" y="464832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8000" spc="-1" strike="noStrike">
                <a:solidFill>
                  <a:srgbClr val="003366"/>
                </a:solidFill>
                <a:latin typeface="Arial"/>
              </a:rPr>
              <a:t>?</a:t>
            </a:r>
            <a:endParaRPr b="0" lang="en-US" sz="8000" spc="-1" strike="noStrike">
              <a:solidFill>
                <a:srgbClr val="003366"/>
              </a:solidFill>
              <a:latin typeface="Times New Roman"/>
            </a:endParaRPr>
          </a:p>
        </p:txBody>
      </p:sp>
      <p:sp>
        <p:nvSpPr>
          <p:cNvPr id="3" name="PlaceHolder 2"/>
          <p:cNvSpPr>
            <a:spLocks noGrp="1"/>
          </p:cNvSpPr>
          <p:nvPr>
            <p:ph type="sldNum" idx="3"/>
          </p:nvPr>
        </p:nvSpPr>
        <p:spPr/>
        <p:txBody>
          <a:bodyPr/>
          <a:p>
            <a:fld id="{DE38B481-383B-4B12-9419-8913E2E372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837720" y="838080"/>
            <a:ext cx="8001000" cy="373392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3366"/>
                </a:solidFill>
                <a:uFillTx/>
                <a:latin typeface="Arial Unicode MS"/>
                <a:ea typeface="Arial Unicode MS"/>
              </a:rPr>
              <a:t>2002</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Cerqueira, Tarcísio Queiroz; Iriarte, Erick e Pintoi, Márcio Morena (organizadores)</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Informática &amp; Internet - Aspectos Legais Internacionais. Rio de Janeiro: Esplanada.</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Gois Jr., José Caldas</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O Direito na Era das Redes - A Liberdade e o Delito no Ciberespaço. </a:t>
            </a:r>
            <a:r>
              <a:rPr b="0" lang="en-US" sz="2400" spc="-1" strike="noStrike">
                <a:solidFill>
                  <a:srgbClr val="003366"/>
                </a:solidFill>
                <a:latin typeface="Arial Unicode MS"/>
                <a:ea typeface="Arial Unicode MS"/>
              </a:rPr>
              <a:t>Bauru: Edipro.</a:t>
            </a:r>
            <a:r>
              <a:rPr b="0" lang="en-US" sz="2400" spc="-1" strike="noStrike">
                <a:solidFill>
                  <a:srgbClr val="003366"/>
                </a:solidFill>
                <a:latin typeface="Arial"/>
                <a:ea typeface="Times New Roman"/>
              </a:rPr>
              <a:t> </a:t>
            </a:r>
            <a:endParaRPr b="0" lang="en-US" sz="2400" spc="-1" strike="noStrike">
              <a:solidFill>
                <a:srgbClr val="003366"/>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Marcacini, Augusto Tavares Rosa</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Direito e Informática - Uma Abordagem Jurídica sobre Criptografia. Rio de Janeiro: Forense.</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Martins, Flavio Alves; De Macedo, Humberto Paim</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Internet e Direito do Consumidor.</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Rio de Janeiro: Lumen Juris.</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Oliveira, Valdir de (coordenador)</a:t>
            </a:r>
            <a:r>
              <a:rPr b="0" lang="pt-BR" sz="2400" spc="-1" strike="noStrike">
                <a:solidFill>
                  <a:srgbClr val="003366"/>
                </a:solidFill>
                <a:latin typeface="Arial"/>
                <a:ea typeface="Times New Roman"/>
              </a:rPr>
              <a:t> . </a:t>
            </a:r>
            <a:r>
              <a:rPr b="0" lang="pt-BR" sz="2400" spc="-1" strike="noStrike">
                <a:solidFill>
                  <a:srgbClr val="003366"/>
                </a:solidFill>
                <a:latin typeface="Arial Unicode MS"/>
                <a:ea typeface="Arial Unicode MS"/>
              </a:rPr>
              <a:t>O Direito e a Internet. Rio de Janeiro: Forense.</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F1F9FF6A-2E88-4EAD-961A-7D20DA26E7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837720" y="838080"/>
            <a:ext cx="8001000" cy="3733920"/>
          </a:xfrm>
          <a:prstGeom prst="rect">
            <a:avLst/>
          </a:prstGeom>
          <a:noFill/>
          <a:ln w="0">
            <a:noFill/>
          </a:ln>
        </p:spPr>
        <p:txBody>
          <a:bodyPr lIns="90000" rIns="90000" tIns="46800" bIns="46800" anchor="t">
            <a:normAutofit fontScale="80000"/>
          </a:bodyPr>
          <a:p>
            <a:pPr marL="274320" indent="-2743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3366"/>
                </a:solidFill>
                <a:uFillTx/>
                <a:latin typeface="Arial Unicode MS"/>
                <a:ea typeface="Arial Unicode MS"/>
              </a:rPr>
              <a:t>2001</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Almeida, André Mendes de</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Mídia Eletrônica - Seu Controle nos EUA e no Brasil. Rio de Janeiro</a:t>
            </a:r>
            <a:r>
              <a:rPr b="0" lang="pt-BR" sz="2400" spc="-1" strike="noStrike">
                <a:solidFill>
                  <a:srgbClr val="000000"/>
                </a:solidFill>
                <a:latin typeface="Arial Unicode MS"/>
                <a:ea typeface="Arial Unicode MS"/>
              </a:rPr>
              <a:t>:</a:t>
            </a:r>
            <a:r>
              <a:rPr b="0" lang="pt-BR" sz="2400" spc="-1" strike="noStrike">
                <a:solidFill>
                  <a:srgbClr val="003366"/>
                </a:solidFill>
                <a:latin typeface="Arial Unicode MS"/>
                <a:ea typeface="Arial Unicode MS"/>
              </a:rPr>
              <a:t> Forense.</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Baptista, Luiz Olavo (coordenador)</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Novas Fronteiras do Direito na Informática e Telemática. São Paulo: Saraiva. </a:t>
            </a:r>
            <a:endParaRPr b="0" lang="en-US" sz="2400" spc="-1" strike="noStrike">
              <a:solidFill>
                <a:srgbClr val="003366"/>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Blum, Renato Opice (coordenador)</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Direito Eletrônico. Bauru: Edipro.</a:t>
            </a:r>
            <a:endParaRPr b="0" lang="en-US" sz="2400" spc="-1" strike="noStrike">
              <a:solidFill>
                <a:srgbClr val="003366"/>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Barbagalo, Erica Brandini. Contratos Eletrônicos.</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São Paulo: Saraiva. </a:t>
            </a:r>
            <a:endParaRPr b="0" lang="en-US" sz="2400" spc="-1" strike="noStrike">
              <a:solidFill>
                <a:srgbClr val="003366"/>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Castro, Carla Rodrigues Araújo. Crimes de Informática e seus Aspectos Processuais. Rio de Janeiro: Lumen Juris.</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Garcia Júnior, Armando Alvares</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Contratos via Internet. São Paulo: Aduaneiras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2C4FD6AE-EACA-48BE-A55D-79725C636F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837720" y="838080"/>
            <a:ext cx="8001000" cy="3733920"/>
          </a:xfrm>
          <a:prstGeom prst="rect">
            <a:avLst/>
          </a:prstGeom>
          <a:noFill/>
          <a:ln w="0">
            <a:noFill/>
          </a:ln>
        </p:spPr>
        <p:txBody>
          <a:bodyPr lIns="90000" rIns="90000" tIns="46800" bIns="46800" anchor="t">
            <a:normAutofit fontScale="76000"/>
          </a:bodyPr>
          <a:p>
            <a:pPr marL="260640" indent="-260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3366"/>
                </a:solidFill>
                <a:uFillTx/>
                <a:latin typeface="Arial Unicode MS"/>
                <a:ea typeface="Arial Unicode MS"/>
              </a:rPr>
              <a:t>2001</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Greco, Marco Aurelio e Martins, Ives Gandra da Silva (coordenadores). Direito e Internet - Relações Jurídicas na Sociedade Informatizada. São Paulo</a:t>
            </a:r>
            <a:r>
              <a:rPr b="0" lang="pt-BR" sz="2400" spc="-1" strike="noStrike">
                <a:solidFill>
                  <a:srgbClr val="000000"/>
                </a:solidFill>
                <a:latin typeface="Arial Unicode MS"/>
                <a:ea typeface="Arial Unicode MS"/>
              </a:rPr>
              <a:t>:</a:t>
            </a:r>
            <a:r>
              <a:rPr b="0" lang="pt-BR" sz="2400" spc="-1" strike="noStrike">
                <a:solidFill>
                  <a:srgbClr val="003366"/>
                </a:solidFill>
                <a:latin typeface="Arial Unicode MS"/>
                <a:ea typeface="Arial Unicode MS"/>
              </a:rPr>
              <a:t> RT.</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Isaguirre, Katya Regina</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Internet - Responsabilidade das Empresas que Desenvolvem os Sites para Web-com. Curitiba: Juruá.</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Martins, Ives Gandra da Silva (coordenador)</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Tributação na Internet (Pesquisas Tributárias - Nova Série - 7). São Paulo: RT e CEU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Matte, Mauricio</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Internet - Comércio Eletrônico. São Paulo: LTr.</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Mori, Michele Keiko</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Direito à Intimidade versus Informática. Curitiba: Juruá.</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Oliveira, Júlio Maria de</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Internet e Competência Tributária. São Paulo: Dialética.</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E091D2C4-0ED7-4858-9BB1-D869E68CEF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837720" y="838080"/>
            <a:ext cx="8001000" cy="3733920"/>
          </a:xfrm>
          <a:prstGeom prst="rect">
            <a:avLst/>
          </a:prstGeom>
          <a:noFill/>
          <a:ln w="0">
            <a:noFill/>
          </a:ln>
        </p:spPr>
        <p:txBody>
          <a:bodyPr lIns="90000" rIns="90000" tIns="46800" bIns="46800" anchor="t">
            <a:normAutofit fontScale="76000"/>
          </a:bodyPr>
          <a:p>
            <a:pPr marL="260640" indent="-260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3366"/>
                </a:solidFill>
                <a:uFillTx/>
                <a:latin typeface="Arial Unicode MS"/>
                <a:ea typeface="Arial Unicode MS"/>
              </a:rPr>
              <a:t>2001</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Peixoto, Rodney de Castro</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O Comércio Eletrônico e os Contratos. Rio de Janeiro: Forense.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Schoueri, Luís Eduardo (organizador)</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Internet - O Direito na Era Virtual. Rio de Janeiro: Forense.</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Silva Junior, Roberto Roland Rodrigues da (coordenador)</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Internet e Direito - Reflexões Doutrinárias. Rio de Janeiro: Lumen Juris.</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Silva Junior, Ronaldo Lemos da e Waisberg, Ivo (organizadores). Comércio Eletrônico. São Paulo: IASP e RT.</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Silva Neto, Amaro Moraes. Privacidade na Internet - Um Enfoque Jurídico. Bauru: Edipro</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Silveira, Sérgio Amadeu. Exclusão Digital - A Miséria na Era da Informação. São Paulo: Ed. Fundação Perseu Abramo</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AAB3FA83-DC58-408A-8A01-132F6142D56B}"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5" name="PlaceHolder 1"/>
          <p:cNvSpPr>
            <a:spLocks noGrp="1"/>
          </p:cNvSpPr>
          <p:nvPr>
            <p:ph/>
          </p:nvPr>
        </p:nvSpPr>
        <p:spPr>
          <a:xfrm>
            <a:off x="698040" y="2133720"/>
            <a:ext cx="7759800" cy="416880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Hierarquia das normas</a:t>
            </a:r>
            <a:endParaRPr b="0" lang="en-US" sz="24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ormas constitucionais  </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ormas legais - leis complementares, ordinárias e delegadas e medidas provisórias, pois tem força de lei</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ormas infralegais - decretos, resoluções, instruções normativas, portarias, circulares e ordens de serviço</a:t>
            </a:r>
            <a:endParaRPr b="0" lang="en-US" sz="1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ei que contrarie a Constituição Federal (CF) é inconstituciona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creto que contrarie lei é ilegal, podendo ser também inconstitucional se contrariar a CF</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6" name="PlaceHolder 2"/>
          <p:cNvSpPr>
            <a:spLocks noGrp="1"/>
          </p:cNvSpPr>
          <p:nvPr>
            <p:ph type="title"/>
          </p:nvPr>
        </p:nvSpPr>
        <p:spPr>
          <a:xfrm>
            <a:off x="837720" y="685800"/>
            <a:ext cx="800100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Normas jurídicas</a:t>
            </a:r>
            <a:endParaRPr b="1" lang="en-US" sz="3600" spc="-1" strike="noStrike">
              <a:solidFill>
                <a:srgbClr val="003366"/>
              </a:solidFill>
              <a:latin typeface="Arial"/>
            </a:endParaRPr>
          </a:p>
        </p:txBody>
      </p:sp>
      <p:grpSp>
        <p:nvGrpSpPr>
          <p:cNvPr id="117" name=""/>
          <p:cNvGrpSpPr/>
          <p:nvPr/>
        </p:nvGrpSpPr>
        <p:grpSpPr>
          <a:xfrm>
            <a:off x="5105520" y="304920"/>
            <a:ext cx="4038480" cy="2286000"/>
            <a:chOff x="5105520" y="304920"/>
            <a:chExt cx="4038480" cy="2286000"/>
          </a:xfrm>
        </p:grpSpPr>
        <p:graphicFrame>
          <p:nvGraphicFramePr>
            <p:cNvPr id="118" name=""/>
            <p:cNvGraphicFramePr/>
            <p:nvPr/>
          </p:nvGraphicFramePr>
          <p:xfrm>
            <a:off x="5294160" y="304920"/>
            <a:ext cx="1582920" cy="2286000"/>
          </p:xfrm>
          <a:graphic>
            <a:graphicData uri="http://schemas.openxmlformats.org/presentationml/2006/ole">
              <p:oleObj r:id="rId1" spid="">
                <p:embed/>
                <p:pic>
                  <p:nvPicPr>
                    <p:cNvPr id="119" name="" descr=""/>
                    <p:cNvPicPr/>
                    <p:nvPr/>
                  </p:nvPicPr>
                  <p:blipFill>
                    <a:blip r:embed="rId2"/>
                    <a:stretch/>
                  </p:blipFill>
                  <p:spPr>
                    <a:xfrm>
                      <a:off x="5294160" y="304920"/>
                      <a:ext cx="1582920" cy="2286000"/>
                    </a:xfrm>
                    <a:prstGeom prst="rect">
                      <a:avLst/>
                    </a:prstGeom>
                    <a:ln w="0">
                      <a:noFill/>
                    </a:ln>
                  </p:spPr>
                </p:pic>
              </p:oleObj>
            </a:graphicData>
          </a:graphic>
        </p:graphicFrame>
        <p:sp>
          <p:nvSpPr>
            <p:cNvPr id="120" name=""/>
            <p:cNvSpPr/>
            <p:nvPr/>
          </p:nvSpPr>
          <p:spPr>
            <a:xfrm>
              <a:off x="5105520" y="1050840"/>
              <a:ext cx="219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1" name=""/>
            <p:cNvSpPr/>
            <p:nvPr/>
          </p:nvSpPr>
          <p:spPr>
            <a:xfrm>
              <a:off x="5130720" y="1839960"/>
              <a:ext cx="21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2" name=""/>
            <p:cNvSpPr/>
            <p:nvPr/>
          </p:nvSpPr>
          <p:spPr>
            <a:xfrm>
              <a:off x="6222960" y="473040"/>
              <a:ext cx="2921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Times New Roman"/>
                </a:rPr>
                <a:t>Normas Constitucionais</a:t>
              </a:r>
              <a:endParaRPr b="0" lang="en-US" sz="2000" spc="-1" strike="noStrike">
                <a:solidFill>
                  <a:srgbClr val="003366"/>
                </a:solidFill>
                <a:latin typeface="Times New Roman"/>
              </a:endParaRPr>
            </a:p>
          </p:txBody>
        </p:sp>
        <p:sp>
          <p:nvSpPr>
            <p:cNvPr id="123" name=""/>
            <p:cNvSpPr/>
            <p:nvPr/>
          </p:nvSpPr>
          <p:spPr>
            <a:xfrm>
              <a:off x="6499080" y="1179360"/>
              <a:ext cx="264492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Times New Roman"/>
                </a:rPr>
                <a:t>Normas Legais</a:t>
              </a:r>
              <a:endParaRPr b="0" lang="en-US" sz="2000" spc="-1" strike="noStrike">
                <a:solidFill>
                  <a:srgbClr val="003366"/>
                </a:solidFill>
                <a:latin typeface="Times New Roman"/>
              </a:endParaRPr>
            </a:p>
          </p:txBody>
        </p:sp>
        <p:sp>
          <p:nvSpPr>
            <p:cNvPr id="124" name=""/>
            <p:cNvSpPr/>
            <p:nvPr/>
          </p:nvSpPr>
          <p:spPr>
            <a:xfrm>
              <a:off x="6726240" y="1968480"/>
              <a:ext cx="241776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Times New Roman"/>
                </a:rPr>
                <a:t>Normas Infralegais</a:t>
              </a:r>
              <a:endParaRPr b="0" lang="en-US" sz="2000" spc="-1" strike="noStrike">
                <a:solidFill>
                  <a:srgbClr val="003366"/>
                </a:solidFill>
                <a:latin typeface="Times New Roman"/>
              </a:endParaRPr>
            </a:p>
          </p:txBody>
        </p:sp>
      </p:grpSp>
      <p:sp>
        <p:nvSpPr>
          <p:cNvPr id="4" name="PlaceHolder 3"/>
          <p:cNvSpPr>
            <a:spLocks noGrp="1"/>
          </p:cNvSpPr>
          <p:nvPr>
            <p:ph type="sldNum" idx="3"/>
          </p:nvPr>
        </p:nvSpPr>
        <p:spPr/>
        <p:txBody>
          <a:bodyPr/>
          <a:p>
            <a:fld id="{1FD9B6C0-765A-4D81-AC00-79776F7B7F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Constituição</a:t>
            </a:r>
            <a:endParaRPr b="1" lang="en-US" sz="3600" spc="-1" strike="noStrike">
              <a:solidFill>
                <a:srgbClr val="0033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O que é?</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Nela estão expressos os princípios fundamentais (art. 1º a 4º) e os direitos e garantias fundamentais (art. 5º ao 17)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F868E09-5A99-4C9D-969F-7978736831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Leis</a:t>
            </a:r>
            <a:endParaRPr b="1" lang="en-US" sz="3600" spc="-1" strike="noStrike">
              <a:solidFill>
                <a:srgbClr val="003366"/>
              </a:solidFill>
              <a:latin typeface="Arial"/>
            </a:endParaRPr>
          </a:p>
        </p:txBody>
      </p:sp>
      <p:sp>
        <p:nvSpPr>
          <p:cNvPr id="128" name="PlaceHolder 2"/>
          <p:cNvSpPr>
            <a:spLocks noGrp="1"/>
          </p:cNvSpPr>
          <p:nvPr>
            <p:ph/>
          </p:nvPr>
        </p:nvSpPr>
        <p:spPr>
          <a:xfrm>
            <a:off x="914040" y="2057400"/>
            <a:ext cx="8001000" cy="4572000"/>
          </a:xfrm>
          <a:prstGeom prst="rect">
            <a:avLst/>
          </a:prstGeom>
          <a:noFill/>
          <a:ln w="0">
            <a:noFill/>
          </a:ln>
        </p:spPr>
        <p:txBody>
          <a:bodyPr lIns="90000" rIns="90000" tIns="46800" bIns="46800" anchor="t">
            <a:normAutofit/>
          </a:bodyPr>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Definição: </a:t>
            </a:r>
            <a:r>
              <a:rPr b="0" lang="pt-BR" sz="3000" spc="-1" strike="noStrike">
                <a:solidFill>
                  <a:srgbClr val="a50021"/>
                </a:solidFill>
                <a:latin typeface="Arial"/>
              </a:rPr>
              <a:t>regra geral, emanada de autoridade competente e imposta à obediência de todos de modo coativo</a:t>
            </a:r>
            <a:endParaRPr b="0" lang="en-US" sz="30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Tipos de Leis</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rPr>
              <a:t>- </a:t>
            </a:r>
            <a:r>
              <a:rPr b="1" lang="pt-BR" sz="2400" spc="-1" strike="noStrike">
                <a:solidFill>
                  <a:srgbClr val="003366"/>
                </a:solidFill>
                <a:latin typeface="Arial"/>
              </a:rPr>
              <a:t>Complementares</a:t>
            </a:r>
            <a:r>
              <a:rPr b="0" lang="pt-BR" sz="2400" spc="-1" strike="noStrike">
                <a:solidFill>
                  <a:srgbClr val="003366"/>
                </a:solidFill>
                <a:latin typeface="Arial"/>
              </a:rPr>
              <a:t> - regula matérias que a CF dispõe serem reservadas a LC, tem quorum diferenciado para aprovaçã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rPr>
              <a:t>Ordinárias</a:t>
            </a:r>
            <a:r>
              <a:rPr b="0" lang="pt-BR" sz="2400" spc="-1" strike="noStrike">
                <a:solidFill>
                  <a:srgbClr val="003366"/>
                </a:solidFill>
                <a:latin typeface="Arial"/>
              </a:rPr>
              <a:t>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rPr>
              <a:t>Delegadas e MP</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84436A14-210E-42C5-B375-B59C8A9FEF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Lei no. 9609 (1998)</a:t>
            </a:r>
            <a:endParaRPr b="1" lang="en-US" sz="3600" spc="-1" strike="noStrike">
              <a:solidFill>
                <a:srgbClr val="003366"/>
              </a:solidFill>
              <a:latin typeface="Arial"/>
            </a:endParaRPr>
          </a:p>
        </p:txBody>
      </p:sp>
      <p:sp>
        <p:nvSpPr>
          <p:cNvPr id="130" name="PlaceHolder 2"/>
          <p:cNvSpPr>
            <a:spLocks noGrp="1"/>
          </p:cNvSpPr>
          <p:nvPr>
            <p:ph/>
          </p:nvPr>
        </p:nvSpPr>
        <p:spPr>
          <a:xfrm>
            <a:off x="914040" y="2133720"/>
            <a:ext cx="80010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Lei n. 9609 de 19 de fevereiro de 1998, que dispõe sobre a proteção à propriedade intelectual do software e sua comercialização no paí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Aplicação web, um portal, uma aplicação de comércio eletrônico, ...são considerados como tipo particular de </a:t>
            </a:r>
            <a:r>
              <a:rPr b="0" lang="pt-BR" sz="2800" spc="-1" strike="noStrike" u="sng">
                <a:solidFill>
                  <a:srgbClr val="003366"/>
                </a:solidFill>
                <a:uFillTx/>
                <a:latin typeface="Arial"/>
                <a:ea typeface="Times New Roman"/>
              </a:rPr>
              <a:t>Softwar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DDA1000-7BC6-45D7-B543-D4A9B011F2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2-21T10:53:40Z</dcterms:created>
  <dc:creator/>
  <dc:description/>
  <dc:language>en-US</dc:language>
  <cp:lastModifiedBy>teste</cp:lastModifiedBy>
  <cp:lastPrinted>2002-06-19T01:14:05Z</cp:lastPrinted>
  <dcterms:modified xsi:type="dcterms:W3CDTF">2002-06-21T21:37:57Z</dcterms:modified>
  <cp:revision>134</cp:revision>
  <dc:subject/>
  <dc:title>Hipermídia e Multimí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6777215</vt:r8>
  </property>
  <property fmtid="{D5CDD505-2E9C-101B-9397-08002B2CF9AE}" pid="3" name="ButtonType">
    <vt:r8>2</vt:r8>
  </property>
  <property fmtid="{D5CDD505-2E9C-101B-9397-08002B2CF9AE}" pid="4" name="Compression">
    <vt:r8>100</vt:r8>
  </property>
  <property fmtid="{D5CDD505-2E9C-101B-9397-08002B2CF9AE}" pid="5" name="DownloadIEButton">
    <vt:bool>1</vt:bool>
  </property>
  <property fmtid="{D5CDD505-2E9C-101B-9397-08002B2CF9AE}" pid="6" name="DownloadOriginal">
    <vt:bool>1</vt:bool>
  </property>
  <property fmtid="{D5CDD505-2E9C-101B-9397-08002B2CF9AE}" pid="7" name="GraphicType">
    <vt:r8>1</vt:r8>
  </property>
  <property fmtid="{D5CDD505-2E9C-101B-9397-08002B2CF9AE}" pid="8" name="HomePage">
    <vt:lpwstr>http://webct.cisc.sc.usp.br:8900/SCRIPT/sce225/scripts/serve_home</vt:lpwstr>
  </property>
  <property fmtid="{D5CDD505-2E9C-101B-9397-08002B2CF9AE}" pid="9" name="LinkColor">
    <vt:r8>16711808</vt:r8>
  </property>
  <property fmtid="{D5CDD505-2E9C-101B-9397-08002B2CF9AE}" pid="10" name="MailAddress">
    <vt:lpwstr>wdl@icmc.sc.usp.br</vt:lpwstr>
  </property>
  <property fmtid="{D5CDD505-2E9C-101B-9397-08002B2CF9AE}" pid="11" name="NavBtnPos">
    <vt:r8>1</vt:r8>
  </property>
  <property fmtid="{D5CDD505-2E9C-101B-9397-08002B2CF9AE}" pid="12" name="Other">
    <vt:lpwstr>Primeira aula da disciplina SCE-225 Hipermídia</vt:lpwstr>
  </property>
  <property fmtid="{D5CDD505-2E9C-101B-9397-08002B2CF9AE}" pid="13" name="OutputDir">
    <vt:lpwstr>D:\users\wdl\willie\pae</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2</vt:r8>
  </property>
  <property fmtid="{D5CDD505-2E9C-101B-9397-08002B2CF9AE}" pid="18" name="TextColor">
    <vt:r8>4194368</vt:r8>
  </property>
  <property fmtid="{D5CDD505-2E9C-101B-9397-08002B2CF9AE}" pid="19" name="TransparentButton">
    <vt:r8>-1</vt:r8>
  </property>
  <property fmtid="{D5CDD505-2E9C-101B-9397-08002B2CF9AE}" pid="20" name="UseBrowserColor">
    <vt:bool>0</vt:bool>
  </property>
  <property fmtid="{D5CDD505-2E9C-101B-9397-08002B2CF9AE}" pid="21" name="VisitedColor">
    <vt:r8>10040268</vt:r8>
  </property>
</Properties>
</file>