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ACC6-3B63-4153-802B-B901A803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4A4-FC35-4C8A-9704-85EA7E1E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6A3-C446-4A99-8099-85A66524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E81-5B86-4AFA-A267-16D3C68C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5955-EA58-46A3-9E7B-E2438EA4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7871-75B5-4A3D-BDBD-90390AB3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2856-BBDD-40E9-94D8-D74132E8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68F0-7B0E-489E-BE02-2B641226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C71F-27DB-4A48-A985-8A5F9DDD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2E36-D6EB-44C1-B582-49B6BDD3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3B5F-D5B9-4A54-A5EB-0CFA627B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173-0C16-48F9-97B5-299145E5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2D77-99BB-40CB-A6B2-0109FDEF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56B7-9BAA-4449-A816-84B853CF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C993-3359-4A02-B599-E3913D88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9EAA-7FB6-40FE-98FD-C869EA2E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CFE7-BEE6-4CEC-84EE-DCEF95E2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9F7-BA66-4296-8951-85BFECE3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EB4-B3C8-4E65-822A-E13D2C99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7BD-BBF7-4C53-AF85-0B9E102A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A97-B684-42FD-BCFE-3DD4C480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0AB0-7FBD-4B3D-B52E-B451395B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1EC-5052-4941-B91E-FAE89187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60E-0A39-417E-B91C-A5E4C8CB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C928-8B05-4508-AE5B-70601BA80D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A8A8-5572-4038-80B6-25532895E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R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657240" y="4572000"/>
            <a:ext cx="5257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lexandre Arashiro Oyaka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tricia Harumi Yamasa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32004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ustomer Relationship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nho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R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e como centro do modelo de d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órios e consultas tem o cliente como “porta de entrada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marketing faz ofertas que tem a ver com as necessidades dos clientes e não com que a empresa quer ven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nário atu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resas encontram dificuldades no atendimento ao cl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en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m sã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que faz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que gosta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Por que manter o client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usta seis vezes mais vender a um cliente novo do que vender a um já exist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Por que manter o client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 típico cliente insatisfeito falará para oito a dez pessoas aproximadamente sobre a experiência que te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Por que manter o client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razão principal para o descontentamento: a falta de serviço ao consumid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as 15 reclamações mais citadas 12 estavam relacionadas ao mau atendimento ao cliente, linhas de telefone ocupadas e consultas por correio eletrônico não respondid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Por que manter o client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s chances de vender um produto a um cliente novo são de 15%, ao passo que as chances de vender um produto a um cliente existente são de 5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Por que manter o client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ca de 70% dos clientes que reclamam negociarão novamente com a empresa se a reclamação for resolvida rapidam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Por que manter o client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 de 90% das empresas não tem vendas e integração de serviço suficientes para dar apoio ao comércio eletrôn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s da estrutura de negócios de CR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ar as relações existentes para aumentar a recei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zer uso de informações integradas para proporcionar serviço excel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zir, nos canais, processos e procedimentos consistentes e reproduzíve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Tópic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que é CR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íc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atégias para implant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Implementação de CR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os cli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erenciar os cli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gir com os cli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ize aspectos do comportamento da empresa para melhor atender os cli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Estratégia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estratégia de todo negócio deve ser como encontrar e reter os clientes mais lucrativ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Identificar clien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em identificar um cliente é impossível conhecê-l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cliente deve ser identificado da mesma forma, independente do canal escolhi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unca fazer o cliente dizer a mesma coisa mais de uma vez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Diferenciar e discrimin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te clientes diferentes de forma diferente. Mas sem discriminar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Diferenciar e discrimin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iferenciação é feita através de um critério objetivo e públ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iscriminação envolve o tratamento distinto sem nenhum tipo de critér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xemplo: fila de check-in em aeropor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Diferenciar clien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es são diferentes para a empresa em seu valor e em suas necess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Objetivos da diferenciaçã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ncontra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MV (Clientes de maior val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MP (Clientes de maior potenc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Z (Below Zero - Clientes que dão prejuíz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anter os CM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senvolver os C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Formas de diferenciaçã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iferenciação por va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lor real: lucratividade do cliente ao longo da relação com a empre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lor potencial: é mais difícil de ser medido. Envolve dados externos além de inferências estatíst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iferenciação por necess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scobrir novas necessidades é descobrir novas oportun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Interagir com clien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teração iniciada pela empresa deve obedecer duas regras básic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r o canal preferido pelo cl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r a permissão do cliente para usar esse ca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udar o comportamento com base no feedback do cl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Personaliz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necer o que o cliente espera e da forma que espe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sonalização é simples quando se conhecem as necessidades e preferências do cli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zer negócio com a empresa será mais simples e conveniente quanto maior a personaliz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je, os clientes estão no coman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á mais fácil do que nunca para os clientes comparar lojas e, com um clique do mouse, trocar de empres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equentemente, o relacionamento com os clientes se tornou o recurso mais valioso disponív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Arial"/>
              </a:rPr>
              <a:t>Migração para one to o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olve altos cu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e ser feita de forma grad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nto de partida: identificar os principais clientes da empre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que está sendo feito para manter esses clien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Estratégia da barreir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09480" y="2209680"/>
            <a:ext cx="0" cy="36576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867280"/>
            <a:ext cx="44960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3276720"/>
            <a:ext cx="228600" cy="2590560"/>
          </a:xfrm>
          <a:prstGeom prst="rect">
            <a:avLst/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209680" y="563868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209680" y="403848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209680" y="45720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209680" y="51055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209680" y="358128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5410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o 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590920"/>
            <a:ext cx="3733920" cy="3136680"/>
          </a:xfrm>
          <a:custGeom>
            <a:avLst/>
            <a:gdLst/>
            <a:ahLst/>
            <a:rect l="l" t="t" r="r" b="b"/>
            <a:pathLst>
              <a:path w="2304" h="1976">
                <a:moveTo>
                  <a:pt x="0" y="0"/>
                </a:moveTo>
                <a:cubicBezTo>
                  <a:pt x="44" y="216"/>
                  <a:pt x="88" y="432"/>
                  <a:pt x="192" y="624"/>
                </a:cubicBezTo>
                <a:cubicBezTo>
                  <a:pt x="296" y="816"/>
                  <a:pt x="432" y="976"/>
                  <a:pt x="624" y="1152"/>
                </a:cubicBezTo>
                <a:cubicBezTo>
                  <a:pt x="816" y="1328"/>
                  <a:pt x="1112" y="1552"/>
                  <a:pt x="1344" y="1680"/>
                </a:cubicBezTo>
                <a:cubicBezTo>
                  <a:pt x="1576" y="1808"/>
                  <a:pt x="1856" y="1872"/>
                  <a:pt x="2016" y="1920"/>
                </a:cubicBezTo>
                <a:cubicBezTo>
                  <a:pt x="2176" y="1968"/>
                  <a:pt x="2280" y="1976"/>
                  <a:pt x="2304" y="1968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3614760"/>
            <a:ext cx="3276360" cy="1557000"/>
          </a:xfrm>
          <a:prstGeom prst="borderCallout1">
            <a:avLst>
              <a:gd name="adj1" fmla="val 18750"/>
              <a:gd name="adj2" fmla="val -8333"/>
              <a:gd name="adj3" fmla="val 127550"/>
              <a:gd name="adj4" fmla="val -46504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entes de maior valor ou de maior poten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rei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25146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ing de ma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25146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rketing one to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Foco em produt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ão há diferenciação de clientes. Figura do “cliente-médio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 de comunicação unidirecional: mídia de massa falando para os clie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sempenho da empresa medido através do market sh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Foco em clien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ização em massa” - produto básico cercado de opçõ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o: empresas de telefonia celul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to básico: ligação telefôn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ções: correio de voz, mensagens digitais, ligação em espera, identificador de chamadas, conferência. Planos incluindo minutos na assinatura bás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Foco em clien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unicação bidire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esso é medido pela retenção e desenvolvimento dos melhores clie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RM na WEB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web é o meio perfeito para o desenvolvimento de estratégias one to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Grande desafio: integração de d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Problema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RM não funciona em 70% dos casos (05/11/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lanejamento mal fei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ustos &gt; benefícios adquir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nte: Giga Information Group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2.uol.com.br/info/aberto/infonews/112001/05112001-17.sh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Problema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dança da cultura atual da empre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dança dos processos de negócio exist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ação e atualização dos sistemas leg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õ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M é uma iniciativa corporativ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s na empresa devem ter consciência do papel que cumpr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 ser planejado com cuid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M não vacina a empresa contra moléstias operacion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Perguntas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presentar uma visão geral do CRM - Customer Relationship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ontat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exandre Arashiro Oyakaw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exandre@tre-ms.gov.b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tricia Harumi Yamasak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tricia@tre-ms.gov.b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Business Network. www.ibiznet.com.b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- Acesso em 27 de junho de 200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Kalakota, Ravi e Robinson, Marcia.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-business: estratégias para alcançar o sucesso no mundo digita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 2ª ed. Porto Alegre: Bookman, 200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ppers and Rogers Group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RM Series – Marketing 1 to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2ª ed. São Paulo: Makron Books, 200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Antigament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empo do balcão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O que é CRM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M é uma estratégia de negócio voltada ao entendimento e à antecipação das necessidades dos clientes atuais e potenciais de uma empresa. [Gartner Group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O que é CRM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o ponto de vista tecnológico, CRM envolve capturar os dados do cliente ao longo de toda a empresa, consolidar todos os dados capturados interna e externamente em um banco de dados central, analisar os dados consolidados, distribuir os resultados dessa análise aos vários pontos de contato com o cliente e usar essa informação ao interagir com o cliente através de qualquer ponto de contato com a empresa. [Gartner Group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1905120"/>
            <a:ext cx="17524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os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5486400"/>
            <a:ext cx="2286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ta pesso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4876920"/>
            <a:ext cx="2743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io tra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4495680"/>
            <a:ext cx="2210040" cy="193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ação telefô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1523880"/>
            <a:ext cx="2362320" cy="249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uto-serviço na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-naveg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562720" y="2362320"/>
            <a:ext cx="99036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4495680"/>
            <a:ext cx="838080" cy="9907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47920" y="4267080"/>
            <a:ext cx="838080" cy="6098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4724280"/>
            <a:ext cx="0" cy="76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209320" y="2133720"/>
            <a:ext cx="83844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2499840"/>
            <a:ext cx="4572000" cy="2201400"/>
          </a:xfrm>
          <a:prstGeom prst="ellipse">
            <a:avLst/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 clientes querem comunicar-se através do canal mais conven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7621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ncipais cana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Sistemas Tradiciona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bidos ao redor de produtos ou process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9T03:08:04Z</dcterms:created>
  <dc:creator>Alexandre Arashiro Oyakawa</dc:creator>
  <dc:description/>
  <dc:language>en-US</dc:language>
  <cp:lastModifiedBy>Alexandre Arashiro Oyakawa</cp:lastModifiedBy>
  <cp:lastPrinted>2002-06-29T09:56:30Z</cp:lastPrinted>
  <dcterms:modified xsi:type="dcterms:W3CDTF">2002-06-29T09:57:55Z</dcterms:modified>
  <cp:revision>11</cp:revision>
  <dc:subject/>
  <dc:title>CRM</dc:title>
</cp:coreProperties>
</file>