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E33-AB81-45D3-AD83-06091F8A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134-D944-42CF-BC14-F6AE3D5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E71-C952-4551-AD97-3FC307E7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1A8-E35A-474D-BA0E-36CBFD29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3EC-FD3D-48DB-B80A-CF35A20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1EC-CC89-4D2D-A1DF-16FD97C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EE9-A2FB-45ED-85D9-0D66FB6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8E1-0203-49EA-9B37-32EBD7C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526-21BB-447C-86F1-B078FE8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DF9-7263-4007-ABBD-D647A35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6D6-D3EE-4509-9844-DE4A11B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83D-937C-4228-B834-8D623C8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298-DBAF-427C-A152-2986E6494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3.safeweb.com.br/novo/Classe1/cadastrog.asp" TargetMode="External"/><Relationship Id="rId2" Type="http://schemas.openxmlformats.org/officeDocument/2006/relationships/hyperlink" Target="https://www3.safeweb.com.br/novo/Classe1/cadastrog.asp" TargetMode="External"/><Relationship Id="rId3" Type="http://schemas.openxmlformats.org/officeDocument/2006/relationships/hyperlink" Target="https://www3.safeweb.com.br/novo/Classe1/cadastrog.asp" TargetMode="External"/><Relationship Id="rId4" Type="http://schemas.openxmlformats.org/officeDocument/2006/relationships/hyperlink" Target="https://www3.safeweb.com.br/novo/Classe1/cadastrog.asp" TargetMode="External"/><Relationship Id="rId5" Type="http://schemas.openxmlformats.org/officeDocument/2006/relationships/hyperlink" Target="https://www3.safeweb.com.br/novo/Classe1/cadastrog.asp" TargetMode="External"/><Relationship Id="rId6" Type="http://schemas.openxmlformats.org/officeDocument/2006/relationships/hyperlink" Target="https://www3.safeweb.com.br/novo/Classe1/cadastrog.asp" TargetMode="External"/><Relationship Id="rId7" Type="http://schemas.openxmlformats.org/officeDocument/2006/relationships/hyperlink" Target="https://www3.safeweb.com.br/novo/Classe1/cadastrog.asp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4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6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.png"/><Relationship Id="rId2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inaturas e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s Digitai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800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tonio A. Mochi Jr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lvio C. Mora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inatura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r de chav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have particula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usada para representar uma assinatura digit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have públic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usada para verificar uma assinatura digit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gurança: criptograf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mazenamento da assinatura digital criptograf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isco rígido (PGP, Netscape Navigator, I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meio removível (disquete, CD-RO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ões inteligentes com microprocessa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Órgãos de Certificação</a:t>
            </a:r>
            <a:br>
              <a:rPr sz="4400"/>
            </a:br>
            <a:r>
              <a:rPr b="0" i="1" lang="pt-BR" sz="3600" spc="-1" strike="noStrike">
                <a:solidFill>
                  <a:srgbClr val="3333cc"/>
                </a:solidFill>
                <a:latin typeface="Arial"/>
              </a:rPr>
              <a:t>CA - Certification Author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ganização que emite certificados de chave públ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 certificado atesta que uma determinada chave pública pertence a um indivíduo ou empresa específ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Declaração das práticas de certificação</a:t>
            </a:r>
            <a:br>
              <a:rPr sz="4400"/>
            </a:br>
            <a:r>
              <a:rPr b="0" i="1" lang="pt-BR" sz="3200" spc="-1" strike="noStrike">
                <a:solidFill>
                  <a:srgbClr val="3333cc"/>
                </a:solidFill>
                <a:latin typeface="Arial"/>
              </a:rPr>
              <a:t>CPS - Certification Pratices State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ocumento legal publicado pelos CAs que descreve suas políticas e procedimentos para emitir e revogar certificados digita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 X.509 v3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É um padrão popular para certificados de chave públ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ão amplamente usados por muitos protocolos de criptografia moderno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tém um número de versão, um número serial, informações de identidade, informações relacionadas ao algoritmo e a assinatura do órgão emissor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r que não utilizar assinaturas digitais no comércio eletrônic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ma assinatura digital não prova a real identidade de um indivídu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124080"/>
            <a:ext cx="61722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Falta de uma infra-estrutura de chave     pública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Integração entre os 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blemas (continuação...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sinaturas digitais são frág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 papel é mais segur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ão existe legislação adequad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tecnologia ainda tem pontos vulneráv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legislação não endossa possíveis problemas técnicos, dando margem à falsificaçõ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diçõ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A VeriSign utiliza a seguinte frase em sua CP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Cada requerente ao certificado deve gerar com segurança sua própria chave particular usando um sistema confiável e tomar as precauções necessárias para evitar seu comprometimento, perda, divulgação, modificação ou uso não autorizado.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Vantagens de um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Maneira simples de verificar a autenticidade de uma empresa, fornecedor, indivíduo e seu e-ma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Reduzir tempo e custos na identificação de pessoa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ipos diferentes de Certificado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órgãos de certific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chave pública e nome de um CA, e descrição do serviço certificad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servi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chave pública de um servidor SSL, nome da organização onde está o servidor, seu hostname na interne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pesso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nome e a chave pública de um indivíduo. Pode conter outras informaçõe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Fabricante de Softwa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servem para assinar um software comercializad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as de Identific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rtificados Digit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inaturas Digit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licitando, Instalando e Trabalhando com o Certificado Digit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naliz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Arial"/>
              </a:rPr>
              <a:t>Tipos de Certificados da VeriSign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em 1996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imes New Roman"/>
              </a:rPr>
              <a:t>Class 1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 (cliente) A VeriSign assegura que o usuário pode receber correio eletrônico em um determinado endereço e que nenhum outro certificado para endereço eletrônico pode ser emitid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imes New Roman"/>
              </a:rPr>
              <a:t>Class 2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 (cliente) A VeriSign comprova a identidade de um proprietário de ID digital por meio de uma verificação de identidade on-line em um banco de dados de clien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Continuação... Tipos de Certificados da VeriSig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lass 3 (client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Secure Server (servido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Em ambos a VeriSign valida a entidade que está se candidatando ao certificado por meio de verificação de antecedentes e serviços de investig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Certificado Class 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me ou ape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breno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ndereço de correio eletrônico vá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Certificado Class 2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Endereço de correio eletrônico vá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nome / nome intermediário / sobreno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endereço / rua / númer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idade / estado / cep / paí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ata de nascimen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identidade / nº cart.motor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nº telefone residencial / emprega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, Instalando e Trabalhando com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icitando o Certificado Digit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licando o Certificado Digit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sualizando um Site Segu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icitando e Instalando um Certificado Pesso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balhando com Certificados Pessoa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gurando Sites Confiáveis no Internet Explore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ilizando o PG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imagem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562720" cy="3929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94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955960"/>
              <a:ext cx="289548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. Clique com o botão direito no site que deseja fazer a requisição de assinatura, e depois clique em Propriedades (Propertie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" name=""/>
          <p:cNvGraphicFramePr/>
          <p:nvPr/>
        </p:nvGraphicFramePr>
        <p:xfrm>
          <a:off x="3962520" y="1752480"/>
          <a:ext cx="4952880" cy="486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752480"/>
                    <a:ext cx="49528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19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2819520"/>
              <a:ext cx="297180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2. Na guia Segurança de Diretório (Directory Security), clique em Certificado do Servidor (Server Certificate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2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2971800"/>
              <a:ext cx="274320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Passo 3. Será iniciado um aplicativo para criação da requisição. Na tela de abertura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5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2895480"/>
              <a:ext cx="289548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4. Selecione a opção Criar novo certificado (Create a new certificate)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8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2895480"/>
              <a:ext cx="28195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5. Selecione a opção Preparar a requisição agora, mas enviar mais tarde (Prepare the request now, but send it later)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31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2895480"/>
              <a:ext cx="2819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6. No campo Nome (Name) digite um nome qualquer para a requisição do certificado, no campo Tamanho da chave (Bit length) recomendamos 1024 bits,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34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2819520"/>
              <a:ext cx="289548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7. Digite o nome da Organização (Organization) e da Unidade da Organização (Organizational unit) para a qual o certificado será emitido,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2819520"/>
            <a:ext cx="3048120" cy="4048200"/>
            <a:chOff x="228600" y="2819520"/>
            <a:chExt cx="3048120" cy="4048200"/>
          </a:xfrm>
        </p:grpSpPr>
        <p:sp>
          <p:nvSpPr>
            <p:cNvPr id="137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2955960"/>
              <a:ext cx="2895480" cy="39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8. No campo Nome comum (Common name) digite o domínio do site seguro. Este campo do certificado é comparado com o nome do domínio digitado no navegador,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40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920" y="2895480"/>
              <a:ext cx="289548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9. Digite o País (Country/Region) , Estado (State/province) e Cidade (City/locality) de sua organização, após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" y="2743200"/>
            <a:ext cx="3048120" cy="3809880"/>
            <a:chOff x="228600" y="2743200"/>
            <a:chExt cx="3048120" cy="3809880"/>
          </a:xfrm>
        </p:grpSpPr>
        <p:sp>
          <p:nvSpPr>
            <p:cNvPr id="143" name=""/>
            <p:cNvSpPr/>
            <p:nvPr/>
          </p:nvSpPr>
          <p:spPr>
            <a:xfrm>
              <a:off x="228600" y="274320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2743200"/>
              <a:ext cx="289548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0. Digite o local (c:\) e nome do arquivo (safeweb.txt) que deseja salvar, após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8600" y="2743200"/>
            <a:ext cx="3048120" cy="3809880"/>
            <a:chOff x="228600" y="2743200"/>
            <a:chExt cx="3048120" cy="3809880"/>
          </a:xfrm>
        </p:grpSpPr>
        <p:sp>
          <p:nvSpPr>
            <p:cNvPr id="146" name=""/>
            <p:cNvSpPr/>
            <p:nvPr/>
          </p:nvSpPr>
          <p:spPr>
            <a:xfrm>
              <a:off x="228600" y="274320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2819160"/>
              <a:ext cx="2895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1. Neste momento será mostrado uma tela para conferência dos dados, se estiver tudo OK clique em Avançar (Next), senão clique em Voltar (Back), e revise os dados digitad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8600" y="2743200"/>
            <a:ext cx="3047760" cy="3809880"/>
            <a:chOff x="228600" y="2743200"/>
            <a:chExt cx="3047760" cy="3809880"/>
          </a:xfrm>
        </p:grpSpPr>
        <p:sp>
          <p:nvSpPr>
            <p:cNvPr id="149" name=""/>
            <p:cNvSpPr/>
            <p:nvPr/>
          </p:nvSpPr>
          <p:spPr>
            <a:xfrm>
              <a:off x="228600" y="2743200"/>
              <a:ext cx="304776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560" y="2895480"/>
              <a:ext cx="289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2. Clique em Concluir (Finish) para finalizar o process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" y="2743200"/>
            <a:ext cx="2971440" cy="3811680"/>
            <a:chOff x="228600" y="2743200"/>
            <a:chExt cx="2971440" cy="3811680"/>
          </a:xfrm>
        </p:grpSpPr>
        <p:sp>
          <p:nvSpPr>
            <p:cNvPr id="152" name=""/>
            <p:cNvSpPr/>
            <p:nvPr/>
          </p:nvSpPr>
          <p:spPr>
            <a:xfrm>
              <a:off x="229680" y="2743200"/>
              <a:ext cx="2970360" cy="381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2820960"/>
              <a:ext cx="2970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3. Abra o arquivo .txt gerado no Passo 10, o conteúdo desde arquivo deverá ser copiado e colado no campo Requisição de assinatura de certifica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6160" y="1447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IS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39080" y="655308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plicando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1828800"/>
            <a:ext cx="3048120" cy="4800600"/>
            <a:chOff x="228600" y="1828800"/>
            <a:chExt cx="3048120" cy="4800600"/>
          </a:xfrm>
        </p:grpSpPr>
        <p:sp>
          <p:nvSpPr>
            <p:cNvPr id="158" name=""/>
            <p:cNvSpPr/>
            <p:nvPr/>
          </p:nvSpPr>
          <p:spPr>
            <a:xfrm>
              <a:off x="228600" y="1828800"/>
              <a:ext cx="304812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2057400"/>
              <a:ext cx="27432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Siga até o passo 3 da apresentação anterior, após este ponto será mostrado a tela ao lado, selecione a opção Processar a solicitação pendente e instalar o certificado (Process de Pendent Request and Install the Certificate) e clique em Avanç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3429000" y="2438280"/>
          <a:ext cx="547704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547704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228600" y="1828800"/>
            <a:ext cx="3048120" cy="4800600"/>
            <a:chOff x="228600" y="1828800"/>
            <a:chExt cx="3048120" cy="4800600"/>
          </a:xfrm>
        </p:grpSpPr>
        <p:sp>
          <p:nvSpPr>
            <p:cNvPr id="163" name=""/>
            <p:cNvSpPr/>
            <p:nvPr/>
          </p:nvSpPr>
          <p:spPr>
            <a:xfrm>
              <a:off x="228600" y="1828800"/>
              <a:ext cx="304812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2057400"/>
              <a:ext cx="281952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elecione o arquivo que contem o certificado e clique em Avançar para aparecer a tela de sumário do certificado. Após clicar em Avançar novamente você verá o certificado instalado no computado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3429000" y="2438280"/>
          <a:ext cx="547704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438280"/>
                    <a:ext cx="547704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86160" y="1447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IS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Visualizando um Site Segur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86200" y="2971800"/>
          <a:ext cx="442908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971800"/>
                    <a:ext cx="442908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809880" y="1523880"/>
          <a:ext cx="4876920" cy="504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523880"/>
                    <a:ext cx="487692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228600" y="1828800"/>
            <a:ext cx="3504960" cy="4800600"/>
            <a:chOff x="228600" y="1828800"/>
            <a:chExt cx="3504960" cy="4800600"/>
          </a:xfrm>
        </p:grpSpPr>
        <p:sp>
          <p:nvSpPr>
            <p:cNvPr id="175" name=""/>
            <p:cNvSpPr/>
            <p:nvPr/>
          </p:nvSpPr>
          <p:spPr>
            <a:xfrm>
              <a:off x="228600" y="1828800"/>
              <a:ext cx="350496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3560" y="2057400"/>
              <a:ext cx="324216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Um site que contenha um certificado pode ser identificado pelo selo de seu Certification Authority (Autoridade Certificadora), este selo é um link para a validação do certificado pelo CA onde mostrará uma página contendo as informações da empresa e dando maior confiabilidade no site pelo usuári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 e Instalando um Certificad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1828800"/>
          <a:ext cx="762156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215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8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Acesse a página de solicitação de um certificado pessoal (Classe 1) de um C.A. como o da SafeWeb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® e informe os seus dados pessoais para iniciar a criação de seu certifica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"/>
          <p:cNvGraphicFramePr/>
          <p:nvPr/>
        </p:nvGraphicFramePr>
        <p:xfrm>
          <a:off x="838080" y="2209680"/>
          <a:ext cx="76215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09680"/>
                    <a:ext cx="7621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8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Será enviado para o seu e-mail uma chave para que você possa continuar com o processo de criação do certificado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 Este passo é principalmente feito para validar o seu e-mai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1371600" y="2209680"/>
          <a:ext cx="5676840" cy="366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209680"/>
                    <a:ext cx="567684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9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2819520"/>
              <a:ext cx="4495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De posse do e-mail selecione e copie a seqüência numérica de sua identificação e abra o link passado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914400" y="2057400"/>
          <a:ext cx="7373880" cy="40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57400"/>
                    <a:ext cx="7373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9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erá mostrado um resumo de seu certificado apenas para a sua conferência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 Selecione o provedor de Segurança entre as opções existentes e continue clicando no botão Envi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914400" y="2286000"/>
          <a:ext cx="7373880" cy="358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286000"/>
                    <a:ext cx="7373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20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2819520"/>
              <a:ext cx="4495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Nesta página aparecerá um botão que será utilizado para instalar o certificado em seu computador. Basta pressiona-l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143000" y="3048120"/>
          <a:ext cx="4714920" cy="193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048120"/>
                    <a:ext cx="47149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20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2819520"/>
              <a:ext cx="4495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janela pop-up solicitará novamente uma confirmação para instalar o certificado em seu computador, bastando apenas responder pelo botão Si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balhando com Certificad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1905120"/>
            <a:ext cx="8553600" cy="990360"/>
            <a:chOff x="380880" y="1905120"/>
            <a:chExt cx="8553600" cy="990360"/>
          </a:xfrm>
        </p:grpSpPr>
        <p:sp>
          <p:nvSpPr>
            <p:cNvPr id="212" name=""/>
            <p:cNvSpPr/>
            <p:nvPr/>
          </p:nvSpPr>
          <p:spPr>
            <a:xfrm>
              <a:off x="380880" y="2362320"/>
              <a:ext cx="8458200" cy="533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https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://www3.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3"/>
                </a:rPr>
                <a:t>safeweb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4"/>
                </a:rPr>
                <a:t>.com.br/novo/Classe1/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5"/>
                </a:rPr>
                <a:t>cadastrog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6"/>
                </a:rPr>
                <a:t>.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7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000" y="1905120"/>
              <a:ext cx="85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icite um certificado pessoal e instale-o em seu compu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0280" y="2971800"/>
            <a:ext cx="80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ilize-o para aplicar as opções de segurança nas mensagens que você envia para outras pesso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419720" y="2286000"/>
          <a:ext cx="4219560" cy="421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286000"/>
                    <a:ext cx="4219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48320" y="3886200"/>
          <a:ext cx="4029120" cy="266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8320" y="3886200"/>
                    <a:ext cx="40291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95480" y="2438280"/>
          <a:ext cx="5762880" cy="410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2438280"/>
                    <a:ext cx="5762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22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4191120"/>
              <a:ext cx="75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Utilizando opções para criptografar e assinar digitalmente a mensagem de e-mail pelo Outlook 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609480" y="5334120"/>
          <a:ext cx="7848720" cy="93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9480" y="5334120"/>
                    <a:ext cx="7848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27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441972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nsagem criptografada visualizada pelo 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3200400" y="1981080"/>
          <a:ext cx="5410080" cy="458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00400" y="1981080"/>
                    <a:ext cx="54100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32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441972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nformações sobre o processo de segurança da mens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dentificaçã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eira de identida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eira de motor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Passport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rachá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28600" y="1981080"/>
            <a:ext cx="8667720" cy="4686480"/>
            <a:chOff x="228600" y="1981080"/>
            <a:chExt cx="8667720" cy="4686480"/>
          </a:xfrm>
        </p:grpSpPr>
        <p:graphicFrame>
          <p:nvGraphicFramePr>
            <p:cNvPr id="236" name=""/>
            <p:cNvGraphicFramePr/>
            <p:nvPr/>
          </p:nvGraphicFramePr>
          <p:xfrm>
            <a:off x="4686480" y="1981080"/>
            <a:ext cx="4209840" cy="4686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6480" y="1981080"/>
                      <a:ext cx="4209840" cy="468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8" name=""/>
            <p:cNvGrpSpPr/>
            <p:nvPr/>
          </p:nvGrpSpPr>
          <p:grpSpPr>
            <a:xfrm>
              <a:off x="228600" y="2666880"/>
              <a:ext cx="4114800" cy="3962520"/>
              <a:chOff x="228600" y="2666880"/>
              <a:chExt cx="4114800" cy="3962520"/>
            </a:xfrm>
          </p:grpSpPr>
          <p:sp>
            <p:nvSpPr>
              <p:cNvPr id="239" name=""/>
              <p:cNvSpPr/>
              <p:nvPr/>
            </p:nvSpPr>
            <p:spPr>
              <a:xfrm>
                <a:off x="228600" y="2666880"/>
                <a:ext cx="4114800" cy="3962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880" y="2895480"/>
                <a:ext cx="38102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Arial"/>
                  </a:rPr>
                  <a:t>Abra a janela de Opções da Internet (Internet Options) no menu Ferramentas (Tools) do Internet Explorer e selecione a guia Segurança (Security). Marque a opção Sites Confiáveis (Trusted Sites) e clique no botão Sites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figurando Sites Confiávei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 Internet Explor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8600" y="2666880"/>
            <a:ext cx="8686800" cy="3962160"/>
            <a:chOff x="228600" y="2666880"/>
            <a:chExt cx="8686800" cy="3962160"/>
          </a:xfrm>
        </p:grpSpPr>
        <p:graphicFrame>
          <p:nvGraphicFramePr>
            <p:cNvPr id="243" name=""/>
            <p:cNvGraphicFramePr/>
            <p:nvPr/>
          </p:nvGraphicFramePr>
          <p:xfrm>
            <a:off x="4648320" y="2905200"/>
            <a:ext cx="4267080" cy="372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2905200"/>
                      <a:ext cx="4267080" cy="372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228600" y="2666880"/>
              <a:ext cx="4114800" cy="3962160"/>
              <a:chOff x="228600" y="2666880"/>
              <a:chExt cx="4114800" cy="396216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600" y="2666880"/>
                <a:ext cx="4114800" cy="396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80" y="2895480"/>
                <a:ext cx="381024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Arial"/>
                  </a:rPr>
                  <a:t>No campo Adicionar este site da web a zona (Add this web site to the zone) informe o site que você deseja e clique no botão Adicionar (Add) para coloca-lo na lista abaixo, depois pressione o botão Ok para fechar esta janela. É aconselhável que os sites informados sejam do protocolo HTTPS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228600" y="2590920"/>
            <a:ext cx="8686800" cy="4030560"/>
            <a:chOff x="228600" y="2590920"/>
            <a:chExt cx="8686800" cy="4030560"/>
          </a:xfrm>
        </p:grpSpPr>
        <p:grpSp>
          <p:nvGrpSpPr>
            <p:cNvPr id="249" name=""/>
            <p:cNvGrpSpPr/>
            <p:nvPr/>
          </p:nvGrpSpPr>
          <p:grpSpPr>
            <a:xfrm>
              <a:off x="228600" y="2590920"/>
              <a:ext cx="4114800" cy="3962160"/>
              <a:chOff x="228600" y="2590920"/>
              <a:chExt cx="4114800" cy="3962160"/>
            </a:xfrm>
          </p:grpSpPr>
          <p:sp>
            <p:nvSpPr>
              <p:cNvPr id="250" name=""/>
              <p:cNvSpPr/>
              <p:nvPr/>
            </p:nvSpPr>
            <p:spPr>
              <a:xfrm>
                <a:off x="228600" y="2590920"/>
                <a:ext cx="4114800" cy="396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2971800"/>
                <a:ext cx="3810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Sites confiáveis são identificados por um ícone na barra de status do navegado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2" name=""/>
            <p:cNvGraphicFramePr/>
            <p:nvPr/>
          </p:nvGraphicFramePr>
          <p:xfrm>
            <a:off x="5334120" y="5334120"/>
            <a:ext cx="3581280" cy="12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5334120"/>
                      <a:ext cx="3581280" cy="12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tilizando o PG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828800"/>
            <a:ext cx="7467840" cy="1371600"/>
            <a:chOff x="609480" y="1828800"/>
            <a:chExt cx="7467840" cy="1371600"/>
          </a:xfrm>
        </p:grpSpPr>
        <p:sp>
          <p:nvSpPr>
            <p:cNvPr id="257" name=""/>
            <p:cNvSpPr/>
            <p:nvPr/>
          </p:nvSpPr>
          <p:spPr>
            <a:xfrm>
              <a:off x="609480" y="1828800"/>
              <a:ext cx="746784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4400" y="2057400"/>
              <a:ext cx="7086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O PGP é um programa originalmente Freeware porém a Network Associates possui versões melhoradas deste software de criptografia e assinatura digit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520" y="3228840"/>
            <a:ext cx="7562880" cy="2886120"/>
            <a:chOff x="533520" y="3228840"/>
            <a:chExt cx="7562880" cy="2886120"/>
          </a:xfrm>
        </p:grpSpPr>
        <p:graphicFrame>
          <p:nvGraphicFramePr>
            <p:cNvPr id="260" name=""/>
            <p:cNvGraphicFramePr/>
            <p:nvPr/>
          </p:nvGraphicFramePr>
          <p:xfrm>
            <a:off x="533520" y="3505320"/>
            <a:ext cx="3124080" cy="196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505320"/>
                      <a:ext cx="3124080" cy="19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3733920" y="3228840"/>
            <a:ext cx="4362480" cy="288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28840"/>
                      <a:ext cx="4362480" cy="288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"/>
          <p:cNvGrpSpPr/>
          <p:nvPr/>
        </p:nvGrpSpPr>
        <p:grpSpPr>
          <a:xfrm>
            <a:off x="609480" y="1828800"/>
            <a:ext cx="7467840" cy="1371600"/>
            <a:chOff x="609480" y="1828800"/>
            <a:chExt cx="7467840" cy="1371600"/>
          </a:xfrm>
        </p:grpSpPr>
        <p:sp>
          <p:nvSpPr>
            <p:cNvPr id="265" name=""/>
            <p:cNvSpPr/>
            <p:nvPr/>
          </p:nvSpPr>
          <p:spPr>
            <a:xfrm>
              <a:off x="609480" y="1828800"/>
              <a:ext cx="746784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4400" y="2057400"/>
              <a:ext cx="7086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 ele você pode criptografar e assinar digitalmente documentos e mensagens garantindo assim a confiabilidade do conteú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685800" y="3048120"/>
          <a:ext cx="3838680" cy="17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048120"/>
                    <a:ext cx="38386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90720" y="4419720"/>
          <a:ext cx="2361960" cy="20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419720"/>
                    <a:ext cx="23619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895480" y="3505320"/>
          <a:ext cx="382932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505320"/>
                    <a:ext cx="38293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62320" y="3581280"/>
          <a:ext cx="4724280" cy="300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3581280"/>
                    <a:ext cx="472428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81080" y="2362320"/>
          <a:ext cx="4762800" cy="391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2362320"/>
                    <a:ext cx="4762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00200" y="2971800"/>
            <a:ext cx="4724280" cy="30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124080" y="2209680"/>
          <a:ext cx="4934160" cy="3915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24080" y="2209680"/>
                    <a:ext cx="493416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447920" y="2590920"/>
          <a:ext cx="4933800" cy="391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2590920"/>
                    <a:ext cx="4933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295280" y="3200400"/>
          <a:ext cx="6212160" cy="264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95280" y="3200400"/>
                    <a:ext cx="621216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GARFINKEL, Simon - Comércio &amp; Segurança na Web - Simon Garfinkel e Gene Spafford; [Equipe Tulio Camargo Silva] - São Paulo. Market Press, 1999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safeweb.com.br/manuais/manual.asp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certsign.com.br/duvidas.html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registrobrasil.com/br/index_certificado.jsp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multicert.com/como.funciona.html (em 04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modulo.com.b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 para falsificaçã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315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tilização de materiais de difícil fabricaçã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tilização de equipamentos de alto valor comerci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.: Películas e papéis especiais, hologramas, etc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 de identificação no ciberespaç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omo identificar quem está à frente de um computado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(utilização de câmeras de vídeo, voz, ...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login e senha não confirma a identidade real de um usuári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tilização de senh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cessidade de um pré-cadastr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senha pode ser interceptad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queciment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nhas fác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 pessoas revelam suas senhas para outras pessoa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Tokens físicos</a:t>
            </a:r>
            <a:br>
              <a:rPr sz="4400"/>
            </a:b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algo que você te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ão de crédito, ou conta corrente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ão de acess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(não importa quem o detém, o acesso é dado ao toke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O token não “prova” a identidade de uma pesso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didas Biométric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dentificação de uma pessoa pela medição física da mesma, comparando com um perfil previamente gravad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809880"/>
            <a:ext cx="634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agem do r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ressõe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drão dos vasos sangüíneos da re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avação de v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cessidade de armazenamento prévi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quipamentos de elevado valor comerci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23:10:23Z</dcterms:created>
  <dc:creator>GETEC</dc:creator>
  <dc:description/>
  <dc:language>en-US</dc:language>
  <cp:lastModifiedBy>silviocm</cp:lastModifiedBy>
  <dcterms:modified xsi:type="dcterms:W3CDTF">2002-07-23T15:38:51Z</dcterms:modified>
  <cp:revision>31</cp:revision>
  <dc:subject/>
  <dc:title>Certificado Digital e Assinaturas Digitais</dc:title>
</cp:coreProperties>
</file>