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C95-1F8E-42A4-A10F-2B555031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55B-3F19-433B-945D-E63462D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629-C00D-46A0-8F37-A00E8DDB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01C-84E8-4853-9FDB-6BF2F49E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F2A-A251-4089-A0B5-D8027AB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F14-2E75-46D4-B914-CBFE92C4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B98-4327-47EC-8E75-996668A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00A-C896-4F43-9CDC-2D468E3A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1D0-1906-4F57-A77A-1D3CC1C4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C03-46D6-4B7C-95E9-7CBDB32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E5E-0E5F-4A1C-9824-EACF362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ABE-1702-4CD7-9395-49F51E3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BD0-5923-4776-BF6E-431C90983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533520"/>
            <a:ext cx="7924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Técnicas e Ferramen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de Ata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819520"/>
            <a:ext cx="624852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e895"/>
                </a:solidFill>
                <a:latin typeface="Arial"/>
              </a:rPr>
              <a:t>Cleberson Ricardo Krut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eberson@tj.ms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e895"/>
                </a:solidFill>
                <a:latin typeface="Arial"/>
              </a:rPr>
              <a:t>Fabricio Fernandes de M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ernandes@wdn.psi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791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2e3fc"/>
                </a:solidFill>
                <a:latin typeface="Arial"/>
              </a:rPr>
              <a:t>Comércio Eletrônico e 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7524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Viável, mesmo quando mensagens são trocadas de forma cifrada, e o atacante não pode ler as informações que contê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Intercepta o pacote com a mensagem, fazendo uma cópia e deixando que a mensagem prossiga normalmente. Mais tarde faz a retransmissão do pac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380880"/>
            <a:ext cx="457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e Reenv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057400"/>
            <a:ext cx="8610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Ataques que tem o objetivo de sobrecarregar um servidor com uma quantidade excessiva de solicitações de serviços causando recusa de serviço ou “derrubando” a máqu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Não apresentam muito risco à segurança, só aborrecimentos e prejuíz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Podem ser utilizados para desviar a atenção dos administradores de redes, enquanto o servidor é invadido por ou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2057400"/>
            <a:ext cx="861048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Smu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Envia pacotes com endereços de envio e recebimento idên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Envia os pacotes para os endereços broadcast, este envia para o restante da re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2057400"/>
            <a:ext cx="861048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Bonk e Boin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Ataca máquinas Windows 95 e NT (bonk.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Ha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Derruba clientes mIRC da Internet - for Windows (hanson.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057400"/>
            <a:ext cx="8610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Bombas de 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Inundar um computador com mensagens eletrôn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Geralmente feita com utilização de scri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Risco de 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Pode provocar negação de serviço no servidor de em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90512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Bombas de 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Ferramen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Up Yours (upyours3.zip, upyours3.exe, mailcheck.e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Kaboom (kaboom3.zip, kaboom3.exe, wserr.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The Unabomber (una.exe, kwantam.n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Gatemail (gatemail.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Avalanche (avalanche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981080"/>
            <a:ext cx="861048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Outras técnicas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Técnica chinesa “Ping of Death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Enviar pacotes de ping maiores que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65536 bytes (tamanho máximo para datagramas TCP/IP).  A máquina para. Tes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ffe895"/>
                </a:solidFill>
                <a:latin typeface="Arial"/>
              </a:rPr>
              <a:t>ping -l 65600 seu_ip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Técnica DDOS (Distributed Denial of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Variante DoS: CNN, Yahoo!, Amazon e ZD Net foram vítimas em 02/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05740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Ferramentas D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TFN (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Tribe Flood Network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Trin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São sistemas distribuídos, compostos por um programa-mestre e vários "daemons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O cracker controla o programa-mestre a distância. Basta um comando para que o mestre ordene um ataque maciço de "daemons" a um site específico, derrubando-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057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Técnica D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fografico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001000" cy="345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1800" y="10666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Negação de Serviço (Denial of Service -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380880"/>
            <a:ext cx="3809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25146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Utilizados para quebrar senhas criptograf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A grande maioria não consegue atingir o seu objetivo (pelo menos dentro de uma quantidade razoável de tem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A maioria nada mais são que sistemas de força bru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380880"/>
            <a:ext cx="598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Crackers de Senh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305280" y="18288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371600"/>
            <a:ext cx="784872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95"/>
                </a:solidFill>
                <a:latin typeface="Arial"/>
              </a:rPr>
              <a:t>Todo e qualquer acesso à um computador local ou remoto, cujo resultado possa revelar ao atacante, possíveis brechas de segurança para acesso indevido ao computador a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Invasão: </a:t>
            </a:r>
            <a:r>
              <a:rPr b="1" lang="en-US" sz="2800" spc="-1" strike="noStrike">
                <a:solidFill>
                  <a:srgbClr val="ffe895"/>
                </a:solidFill>
                <a:latin typeface="Arial"/>
              </a:rPr>
              <a:t>Possibilidade concreta de acesso à recursos “protegid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380880"/>
            <a:ext cx="556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Definição de Ata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600200"/>
            <a:ext cx="86104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Ferram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2e3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3f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2e3fc"/>
                </a:solidFill>
                <a:latin typeface="Arial"/>
              </a:rPr>
              <a:t>Cracker Jack: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compara arquivo de senhas com arquivo com lista de palav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2e3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3f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2e3fc"/>
                </a:solidFill>
                <a:latin typeface="Arial"/>
              </a:rPr>
              <a:t>IOphtCrack: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semelhante ao cracker j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380880"/>
            <a:ext cx="598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Crackers de Senh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600200"/>
            <a:ext cx="8610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O que 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Código não autorizado contido dentro de um programa legí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Executa tarefas em segundo plano, desconhecidas e muitas vezes indesejadas para o usu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Podem ser apenas destrutivos ou desenvolvidos para coletar inform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Cavalo de Tróia (Trojan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600200"/>
            <a:ext cx="8610480" cy="36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Ferramentas mais pop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Net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Back Ori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O servidor é instalado no alvo e abre portas para conexão. O invasor utiliza o cliente do programa para invadir 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Cavalo de Tróia (Trojan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680" y="1295280"/>
            <a:ext cx="68580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RESPONSÁVE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447920"/>
            <a:ext cx="784872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Lammer: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Wannabe: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É o principiante que aprendeu a usar algumas "receitas de bol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Larva: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quase Hacker. Já consegue desenvolver suas próprias técnicas para invadir sistemas.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Hacker: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Tem conhecimentos reais de programação e de sistemas operacion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Cracker: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É o "Hacker do mal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Phreaker: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Hacker com altos conhecimentos de telef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95"/>
                </a:solidFill>
                <a:latin typeface="Arial"/>
              </a:rPr>
              <a:t>Guru: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2e3fc"/>
                </a:solidFill>
                <a:latin typeface="Arial"/>
              </a:rPr>
              <a:t>O mest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380880"/>
            <a:ext cx="3429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Definiçõ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380880"/>
            <a:ext cx="5181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Perfil do Crack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00200"/>
            <a:ext cx="822960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codifica em C, C++ ou Per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profundo conhecimento de TCP/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gasta um bom tempo acessando a Intern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conhece profundamente pelo menos dois sistemas operacionai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coleciona hardware ou software antigo ou ultrapass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0880"/>
            <a:ext cx="5181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Perfil do Crack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1600" y="1828800"/>
            <a:ext cx="8661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Ataques no nível de servi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Explora bugs e vulnerabilidades de servi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Explora bugs e vulnerabilidades de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Explora bugs e vulnerabilidades de protoc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Ataques a serviços de e- mail, web, ban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Ataques de força bruta a sen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Ataques do dicionário a sen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44792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Por que ele é Cracker?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Dinh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Motivação para o h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Curios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Experimentos e desejo de ap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Mentalidade “band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Necessidades psicológicas e emo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Vingança e razões malicio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Necessidade de colocar a vítima em maus lençó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Espionagem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80880"/>
            <a:ext cx="5181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Perfil do Crack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3520" y="380880"/>
            <a:ext cx="4495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Mandamen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21932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1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NÃO APAGUE, pense no que seria melhor; ter acesso a um provedor ou detoná-lo?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2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NÃO MODIFIQUE NADA, ao menos que queira que saibam que esteve lá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3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Cuidado com os logs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4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Escolha horas entre 24:30 as 6:00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5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Não teste virus no seu proprio HD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6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É bom preparar muito bem uma estratégia antes de atacar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7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Use os computadores de sua universidade (é mais seguro)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8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Não fique distribuindo informações ou dados sobre o que você pegou.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9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NÃO OBEDEÇA REGRAS (a não ser estas). </a:t>
            </a:r>
            <a:br>
              <a:rPr sz="2000"/>
            </a:br>
            <a:r>
              <a:rPr b="0" lang="en-US" sz="2000" spc="-1" strike="noStrike">
                <a:solidFill>
                  <a:srgbClr val="c2e3fc"/>
                </a:solidFill>
                <a:latin typeface="Arial"/>
              </a:rPr>
              <a:t>10 -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Você usa o MS-DOS ou o Windows? Não conte pra ninguém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0280" y="548640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badboyhacker.kit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3520" y="380880"/>
            <a:ext cx="3124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lvo típ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981080"/>
            <a:ext cx="822960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Geralmente são redes privadas e peque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proprietários são novos na Intern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administradores experientes em redes locais, não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equipamento antigo e/ou ultrapass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Ter uma máquin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37160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e895"/>
                </a:solidFill>
                <a:latin typeface="Arial"/>
              </a:rPr>
              <a:t>O </a:t>
            </a:r>
            <a:r>
              <a:rPr b="1" lang="pt-BR" sz="2800" spc="-1" strike="noStrike">
                <a:solidFill>
                  <a:srgbClr val="c2e3fc"/>
                </a:solidFill>
                <a:latin typeface="Arial"/>
              </a:rPr>
              <a:t>ataque</a:t>
            </a:r>
            <a:r>
              <a:rPr b="1" lang="pt-BR" sz="2800" spc="-1" strike="noStrike">
                <a:solidFill>
                  <a:srgbClr val="ffe895"/>
                </a:solidFill>
                <a:latin typeface="Arial"/>
              </a:rPr>
              <a:t> normalmente é o meio pelo qual se consegue a </a:t>
            </a:r>
            <a:r>
              <a:rPr b="1" lang="pt-BR" sz="2800" spc="-1" strike="noStrike">
                <a:solidFill>
                  <a:srgbClr val="c2e3fc"/>
                </a:solidFill>
                <a:latin typeface="Arial"/>
              </a:rPr>
              <a:t>invasão</a:t>
            </a:r>
            <a:r>
              <a:rPr b="1" lang="pt-BR" sz="2800" spc="-1" strike="noStrike">
                <a:solidFill>
                  <a:srgbClr val="ffe895"/>
                </a:solidFill>
                <a:latin typeface="Arial"/>
              </a:rPr>
              <a:t> mas, em alguns casos, ataques podem ser desferidos visando imobilizar um determinado equipamento, sem necessariamente invadí-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e895"/>
                </a:solidFill>
                <a:latin typeface="Arial"/>
              </a:rPr>
              <a:t>Ex: 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6553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371600"/>
            <a:ext cx="861048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Primeiros Pa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Reunir informações sobre a r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Qual é a aparência da re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Possíveis pontos fra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Quem executa a re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Onde eles estão obtendo sua conectiv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Relação de confiança entre as máqu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Ferramen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host, finger, showmount, rpc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DNS, WHOIS, Sendmail, FTP, uu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Remo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600200"/>
            <a:ext cx="861048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O Sistem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Telnet em host UNIX geralmente exibe a versão do sistema antes do lo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Host, dig, e nslookup em muitos casos revelam em sua saída o sistema operacional em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Remo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952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Engenhari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Descobrir informações pessoais sobre o(s) administrador(es) da red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quem tem acesso privileg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grau de conhecimento destas pesso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descobrir números de 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endereços de correio eletrô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acesso ao lixo da ví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Remo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60020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Fase da Pesqu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Fazer pesquisas baseando-se nas informações levan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Utilizar ferramentas de varr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Fontes de D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Avisos de 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Listas de mala direta de 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Sites de cra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Manuais d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Remo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1600200"/>
            <a:ext cx="86104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Testando o at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Última etapa,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Como serão os ataques do seu ponto de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Como serão os ataques do ponto de vista da ví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Ferramentas da vítima podem oferecer informações errô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Cuidado para não deixar ras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380880"/>
            <a:ext cx="601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Ataque Remo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Conclusã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0020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Tempo de estudo e análises são fatores indispensáveis para quem planeja realizar um ataque com suc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Ferramentas X corre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Os melhores Crackers desenvolvem suas próprias ferra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Os Crackers são pacientes e oportu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e895"/>
                </a:solidFill>
                <a:latin typeface="Arial"/>
              </a:rPr>
              <a:t>Aproveitam-se de redes imaturas e administradores inexpe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Bibliograf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Autor anônimo. </a:t>
            </a:r>
            <a:r>
              <a:rPr b="1" i="1" lang="pt-BR" sz="2000" spc="-1" strike="noStrike">
                <a:solidFill>
                  <a:srgbClr val="ffe895"/>
                </a:solidFill>
                <a:latin typeface="Arial"/>
              </a:rPr>
              <a:t>Segurança Máxima:</a:t>
            </a:r>
            <a:r>
              <a:rPr b="0" i="1" lang="pt-BR" sz="2000" spc="-1" strike="noStrike">
                <a:solidFill>
                  <a:srgbClr val="ffe895"/>
                </a:solidFill>
                <a:latin typeface="Arial"/>
              </a:rPr>
              <a:t> O guia de um hacker para proteger seu site na Internet e sua rede. </a:t>
            </a: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Tradução da 2ª ed. Rio de Janeiro: Campus, 2001.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Autor anônimo. </a:t>
            </a:r>
            <a:r>
              <a:rPr b="1" i="1" lang="pt-BR" sz="2000" spc="-1" strike="noStrike">
                <a:solidFill>
                  <a:srgbClr val="ffe895"/>
                </a:solidFill>
                <a:latin typeface="Arial"/>
              </a:rPr>
              <a:t>Segurança Máxima para Linux:</a:t>
            </a:r>
            <a:r>
              <a:rPr b="0" i="1" lang="pt-BR" sz="2000" spc="-1" strike="noStrike">
                <a:solidFill>
                  <a:srgbClr val="ffe895"/>
                </a:solidFill>
                <a:latin typeface="Arial"/>
              </a:rPr>
              <a:t> O guia de um hacker para proteger seu servidor e sua estação de trabalho Linux. </a:t>
            </a: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Rio de Janeiro: Campu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Universidade de São Paulo</a:t>
            </a:r>
            <a:br>
              <a:rPr sz="2000"/>
            </a:b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Centro de Informática de Ribeirão Preto</a:t>
            </a: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 www.cirp.usp.br</a:t>
            </a: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 - 04/07/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352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Bibliograf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895"/>
                </a:solidFill>
                <a:latin typeface="Arial"/>
              </a:rPr>
              <a:t>GARFINKEL, Simson; SPAFFORD, Gene. Comércio &amp; Segurança na Web - Riscos, Tecnologias e Estratégias. Market Press, 1999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NetSec Internet Security</a:t>
            </a:r>
            <a:br>
              <a:rPr sz="2000"/>
            </a:b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www.netsec.com.br - 04/07/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Phrack Magazine - periódico que focaliza técnicas de invasão</a:t>
            </a:r>
            <a:br>
              <a:rPr sz="2000"/>
            </a:b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www.phrack.com - 04/07/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e895"/>
                </a:solidFill>
                <a:latin typeface="Arial"/>
              </a:rPr>
              <a:t>www.ravel.ufrj.br/publicac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895480" y="297180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FI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e895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1905120"/>
            <a:ext cx="6400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TÉCNI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DE ATA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52480"/>
            <a:ext cx="8610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O que 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Consiste em “varrer” um host à procura de brechas de segurança. Geralmente  é feita em portas TCP/IP buscando informaçõe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Que serviços estão atualmente execu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Que usuários possuem esses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Se logins anônimos são supor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Se certos serviços de rede requerem autent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380880"/>
            <a:ext cx="598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Técnica de Varred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29528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3fc"/>
                </a:solidFill>
                <a:latin typeface="Arial"/>
              </a:rPr>
              <a:t>Ferra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Nessus - código aberto e constantes atualiz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NSS (Network Security Scanner) - rápido -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Satan (Security Administrator’s Tool for Analyzing Networks) - encontra brechas e fornece tutor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e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e895"/>
                </a:solidFill>
                <a:latin typeface="Arial"/>
              </a:rPr>
              <a:t>Ballista - audita Unix e Windows 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380880"/>
            <a:ext cx="598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Técnica de Varred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295280"/>
            <a:ext cx="8610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Ferram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c2e3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2e3fc"/>
                </a:solidFill>
                <a:latin typeface="Arial"/>
              </a:rPr>
              <a:t>Sniffer:</a:t>
            </a:r>
            <a:r>
              <a:rPr b="0" lang="en-US" sz="2800" spc="-1" strike="noStrike">
                <a:solidFill>
                  <a:srgbClr val="ffe895"/>
                </a:solidFill>
                <a:latin typeface="Arial"/>
              </a:rPr>
              <a:t> lê todos os pacotes IP que trafegam na rede. Age como um “grampo” digital. Causa aumento na carga de trabalho da es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380880"/>
            <a:ext cx="598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Técnica de Varred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95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Sistemas apoiam-se em relações de confiança entre estações ou redes. Baseado no endereço IP ou nome de uma máqui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2e3fc"/>
                </a:solidFill>
                <a:latin typeface="Arial"/>
              </a:rPr>
              <a:t>Confiança X Autent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A “personificação” de uma máquina pode permitir ou facilitar o seu acesso a um determinado recu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Deve-se retirar de operação a máquina que se quer personificar e estabelecer conexão com o host que se quer ata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3808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Spoof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75248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Intercepta uma conexão entre duas máqu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Tem acesso à todas as mensagens trocadas entre os interlocutores sem que os mesmo saib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895"/>
                </a:solidFill>
                <a:latin typeface="Arial"/>
              </a:rPr>
              <a:t>Age como um intermediário indesejado da conversação entre as máqu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380880"/>
            <a:ext cx="8001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2e3fc"/>
                    </a:gs>
                    <a:gs pos="50000">
                      <a:srgbClr val="92abbd"/>
                    </a:gs>
                    <a:gs pos="100000">
                      <a:srgbClr val="c2e3fc"/>
                    </a:gs>
                  </a:gsLst>
                  <a:lin ang="5400000"/>
                </a:gradFill>
                <a:latin typeface="Arial Black"/>
              </a:rPr>
              <a:t>Man in the Middle (Homem do Meio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2e3fc"/>
                  </a:gs>
                  <a:gs pos="50000">
                    <a:srgbClr val="92abbd"/>
                  </a:gs>
                  <a:gs pos="100000">
                    <a:srgbClr val="c2e3f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551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2e3fc"/>
                </a:solidFill>
                <a:latin typeface="Arial"/>
              </a:rPr>
              <a:t>Técnicas e Ferramentas de Ata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01:15:16Z</dcterms:created>
  <dc:creator>Fabricio Fernandes de Melo</dc:creator>
  <dc:description/>
  <dc:language>en-US</dc:language>
  <cp:lastModifiedBy>Fabricio Fernandes de Melo</cp:lastModifiedBy>
  <dcterms:modified xsi:type="dcterms:W3CDTF">2002-07-24T22:22:45Z</dcterms:modified>
  <cp:revision>24</cp:revision>
  <dc:subject/>
  <dc:title>Slide sem título </dc:title>
</cp:coreProperties>
</file>