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E5F-5CFE-4717-9782-6130C41B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773-C278-4CE1-A25F-57D26D58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4FA-FB4C-47FF-A5E9-C5F34C91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2FE9-B4E2-434D-8A4B-95E1A97D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CF4E-2D29-4378-A350-8C9C6C75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B965-691D-49BE-A8A5-5075D5D5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2FE7-97FA-411B-98A4-8A6448C9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E7CC-68F6-460A-99CD-AEB6D997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7AEE-7630-425C-BBD2-3F11D62E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70A8-BE66-40BF-9DE7-73CC610D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EC4E-67E3-4BD5-A22D-88826E2B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D334-8850-49F9-9033-AF69BB9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A22C-6C2B-4698-A415-756F9FF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6BF-959A-4584-B106-5DE91CA5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02A9-0AB7-4624-A81F-8BDAF6A8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03E9-AB7A-44CD-A9EB-8F72247F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108E-E772-4E1B-8F43-93BE101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C5C-BE3E-48B7-ABC6-BF20CA26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960A-DCED-4AB3-B316-7C13F1BF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75C1-45EA-400C-B3DC-ABE9EB6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5C1B-6972-4040-B37F-5E42A26D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9E8-7D91-432E-9299-EC3068D2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9179-D849-4696-99F4-702FB22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CB5A-72B8-48B6-9C6A-C696C58C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5A74-B025-47F6-A5AB-17A5AA2E7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6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9613-1FA1-4FA6-BD9E-6120CCDD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NCO DE DADOS PARA WEB E XML</a:t>
            </a:r>
            <a:br>
              <a:rPr sz="44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or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Rodrigo de Oliveira Cintra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3000"/>
            </a:b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Silvana Duarte de Olivei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ção: Linguagem destinada à manipulação de banco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DL: comandos responsáveis pela definição dos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L: Comandos responsáveis pela, inserção, exclusão, consulta e alteração em registros da tab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L: Comandos de contro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unic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necessário fazer um vínculo entre a linguagem de programação e a base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BC: Criado pela Microsoft. Responsável pela comunicação entre a linguagem de programação e a base de dados. Fornece acesso a uma grande variedade de banco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quitetura Cliente/Serv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ia-se na arquitetura cliente/servid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Cliente faz o pedido e o servidor envia respostas aos pedidos do cliente. No ambiente WWW 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a o cl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servidor deve possuir um sistema operacional adequ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tocolo TCP/IP faz a comunicação entre clientes e servidores de plataformas difer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sso remoto a Base de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istem ferramentas nas quais é possível que um servidor processe remotamente  as informações recebidas do client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 retorne ao mesmo uma página dinâ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mas ferramentas existentes no mercado são: CGIs,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-Servlet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HP, ASP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é hoje em dia um dos principais meios de disseminação de inform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Busca de meios eficazes na busca e manipulação de informaçõ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uário procurando por informações dinâmicas que são disponibilizadas em banco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qüência: Empresas investindo em tecnologia para disponibilização de informações e serviços vi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e fazendo com que o acesso remoto a banco de dados seja alvo de intensos estudos e pesqui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LVA, Luciano Carlos da. 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Banco de           dados para </a:t>
            </a: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: do planejamento à implementação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São Paulo: Érica, 200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ópicos Abor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co de Dados para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itos de Ban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antament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tando um Ban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un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quitetura Cliente/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sso remoto a banco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r estar se vivendo atualmente na era da informação, esta se torna um elemento muito precioso e influência intensamente no cotidiano das pessoas, levando o homem a criar meios cada vez mais eficientes na busca e manipulação da mesma. Isso está 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fazendo com que as empresas passem a investir em muitas tecnologias para disponibilização de informações e serviços através da </a:t>
            </a:r>
            <a:r>
              <a:rPr b="0" i="1" lang="pt-PT" sz="2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pt-P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o de Dados par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oje em dia já é possível fazer muitas transações pela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pois o número de pessoas que tem acesso a grande rede tem crescido consideravel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fissionais da área de desenvolvimento devem se reciclar constantem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 site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stático já pode ser considerado obsol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co de Dados para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ualização manual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praticamente impossí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necessário encontrar meios para a atualização automática d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ção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âmicos com atualização freqüente através da utilização de banco de dados como fonte das informa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de Banco de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ção: Um banco de dados representa algum aspecto do mundo real, o qual é chamado de “mini-mundo”. Qualquer alteração efetuada no mini-mundo é automaticamente refletida no banco de dado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idade: É a estrutura do banco de dados, e na forma prática é conhecida como tabe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itos de Banco de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ributos: Características de uma tup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uplas: São os registros em 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haves: Atributo ou conjunto de atributos que tem valor ú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lacionamentos: Associação estabelecida entre campos comuns das tabel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hecimento prévio dos documentos e rotinas que compõem o sistema at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çar o levantamento de dados pela saída, e a partir daí, analisar os dados necessários para ent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aída é obtida após o process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ção dos problemas existentes no sistema atual, e um completo entendimento do sist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tando um Banco de D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erenciar as fases de entrada, processamento e saída de d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r um grande problema em problemas men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anar as idéias primeiramente em pap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4T13:16:34Z</dcterms:created>
  <dc:creator>Biro1</dc:creator>
  <dc:description/>
  <dc:language>en-US</dc:language>
  <cp:lastModifiedBy>Silvana Duarte de Oliveira</cp:lastModifiedBy>
  <dcterms:modified xsi:type="dcterms:W3CDTF">2002-06-29T12:01:39Z</dcterms:modified>
  <cp:revision>64</cp:revision>
  <dc:subject/>
  <dc:title>BANCO DE DADOS PARA WEB E XML</dc:title>
</cp:coreProperties>
</file>