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EBC-985A-4C0A-9CE2-942C2309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0BEE-57E8-45C6-A1A0-16A83CA4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B12-C507-4897-99FA-8CDC1B72B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88D-E0B7-4C28-AD7A-FEA2B0FC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964-5845-46E5-9997-080853FE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39C-8051-4C90-BE55-6A39902F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4DB-D07E-429F-9097-432E03B5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F76-A89C-4DB3-85B2-287A8DBF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606-B92D-45A2-8B24-ED47B4EC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5EC-D902-491E-8569-0144844F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B0B5-861E-427B-BB0B-DEFA7AD1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F8C-B139-4C21-9E7F-9357810F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2640-4390-47DB-BB3D-B9F95AA04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Times New Roman"/>
              </a:rPr>
              <a:t>XML</a:t>
            </a:r>
            <a:br>
              <a:rPr sz="4800"/>
            </a:br>
            <a:r>
              <a:rPr b="1" lang="pt-BR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t-BR" sz="4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pt-BR" sz="4800" spc="-1" strike="noStrike">
                <a:solidFill>
                  <a:srgbClr val="000000"/>
                </a:solidFill>
                <a:latin typeface="Times New Roman"/>
              </a:rPr>
              <a:t>tensible </a:t>
            </a:r>
            <a:r>
              <a:rPr b="1" lang="pt-BR" sz="48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1" lang="pt-BR" sz="4800" spc="-1" strike="noStrike">
                <a:solidFill>
                  <a:srgbClr val="000000"/>
                </a:solidFill>
                <a:latin typeface="Times New Roman"/>
              </a:rPr>
              <a:t>arkup </a:t>
            </a:r>
            <a:r>
              <a:rPr b="1" lang="pt-BR" sz="48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pt-BR" sz="4800" spc="-1" strike="noStrike">
                <a:solidFill>
                  <a:srgbClr val="000000"/>
                </a:solidFill>
                <a:latin typeface="Times New Roman"/>
              </a:rPr>
              <a:t>angua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Rodrigo de Oliveira Cint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imes New Roman"/>
              </a:rPr>
              <a:t>Silvana Duarte de Olivei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os XML são extensíve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os XML possuem relacionament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os XML têm conteúd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ras para Nomes de Elemen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Podem conter letras, números e outros caractere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Não devem começar com um número ou caracter de pontuaçã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Não devem começar com as letras xml (ou XML ou Xml ...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Não podem conter espaço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Pode-se usar acentos, mas pode haver incompatibilidade com algum softwar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Não pode-se usar o caractere “:”, pois este é reservado a outras situações na XM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ributos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os XML podem ter atributos na TAG de início que são utilizados para prover informação adicional sobre os estes elemen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existem regras como no HTML para se usar atribu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ção XM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documento XML formatado corretamente é aquele que está em conformidade com as regras de sintaxe da XM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documento XML válido é aquele que além de estar formatado corretamente , também está em conformidade com a regras de um Document Type Definition (DTD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TD ou XML Sche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T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!ELEMENT COMUNICADO (PARA,EMISSOR,CABECALHO,BODY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!ATTLIST COMUNICADO DATA CDATA #REQUIRE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!ELEMENT PARA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!ELEMENT EMISSOR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!ELEMENT CABECALHO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!ELEMENT BODY      (#PCDATA)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ualizando os D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SS : Pode-se usar um arquivo CSS para poder formatar as informações de um documento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XSL (E</a:t>
            </a:r>
            <a:r>
              <a:rPr b="0" lang="pt-BR" sz="32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ensible </a:t>
            </a:r>
            <a:r>
              <a:rPr b="0" lang="pt-BR" sz="3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ylesheet </a:t>
            </a:r>
            <a:r>
              <a:rPr b="0" lang="pt-BR" sz="32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nguage): Pode-se adicionar informação de visualização ao documento XML. É muito mais sofisticado que o C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&lt;xsl:stylesheet version="1.0" xmlns:xsl="http://www.w3.org/1999/XSL/Transfor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&lt;!--xsl:stylesheet xmlns:xsl="http://www.w3.org/TR/WD-xsl"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&lt;xsl:template match="/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&lt;h2&gt;&lt;xsl:value-of select="COMUNICADO/CABECALHO"/&gt;&lt;/h2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&lt;p&gt;&lt;b&gt;Data : &lt;/b&gt;&lt;xsl:value-of select="COMUNICADO/@DATA"/&gt;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&lt;p&gt;&lt;b&gt;Para : &lt;/b&gt;&lt;xsl:value-of select="COMUNICADO /PARA"/&gt;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&lt;p&gt;&lt;b&gt;De : &lt;/b&gt;&lt;xsl:value-of select="COMUNICADO/EMISSOR"/&gt;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&lt;p&gt;&lt;b&gt;Mensagem : &lt;/b&gt;&lt;xsl:value-of select="COMUNICADO/BODY"/&gt;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&lt;p&gt;&lt;a href="http://www.w3.org/XML" target="_blank"&gt;XML - W3C&lt;/a&gt;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&lt;/xsl:template&gt;&lt;/xsl:styleshe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Ê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ttp://www.w3.org/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ttp://www.w3school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ttp://www.xml.com.br/docs/introducao_xml.pd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ttp://www.gta.ufrj.br/grad/00_1/miguel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que é a XML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É uma linguagem de marcação parecida com HTM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oi desenhada para descrever d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existem TAGS pré-definidas em XML, você deve definir suas própri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XML é auto-descritiv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de ser validada com DTD ou XML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erença Básica XML- HT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foi concebida para descrever dados e focar-se no que o dado signific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ML foi concebida para mostrar/formatar os dados e focar-se em como os dados serão exib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ntos Fortes da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igência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a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uten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c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ML pode ser usada para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r os dados do HTML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são/troca de informaçõ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tilhar dados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azenamento de d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rnar os dados mais disponívei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ar novas linguage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cumentos XML e sua Sintax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&lt;?xml-stylesheet type="text/xsl" href="comunicado.xsl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&lt;!DOCTYPE COMUNICADO SYSTEM "comunicado.dtd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&lt;COMUNICADO DATA="12/12/2002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&lt;PARA&gt;Rodrigo&lt;/PAR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&lt;EMISSOR&gt;Professor&lt;/EMISS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&lt;CABECALHO&gt;Lembrete&lt;/CABECALHO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&lt;BODY&gt;Não se esqueça do trabalho !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&lt;/COMUNICADO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acterísticas Princip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meira Linha : Vers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lemento raiz (root) e filho (child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ags de fechamento (CASE SENSITIVE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lemento devem estar devidamente aninh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ibutos entre aspa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racterísticas Principa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paços em branco são preserv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entário (idem HTML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rquivo de Texto-Pur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&lt;roo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&lt;child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&lt;subchild&gt;....&lt;subchild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&lt;/child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imes New Roman"/>
              </a:rPr>
              <a:t>&lt;/roo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os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os são a forma mais comum de marcação. Delimitados pelos sinais de menor e maior, a maioria dos elementos identificam a natureza do conteúdo que envolv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02:47:50Z</dcterms:created>
  <dc:creator>ROC</dc:creator>
  <dc:description/>
  <dc:language>en-US</dc:language>
  <cp:lastModifiedBy>ROC</cp:lastModifiedBy>
  <dcterms:modified xsi:type="dcterms:W3CDTF">2002-06-29T04:38:19Z</dcterms:modified>
  <cp:revision>32</cp:revision>
  <dc:subject/>
  <dc:title>XML EXtensible Markup Language</dc:title>
</cp:coreProperties>
</file>