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9D6-8F90-4232-AF8E-C2B9D8BD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D2B-7A4F-4827-98CC-8AA30EF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B45-CC0A-4A7D-85D7-3FB22E63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968-3E8F-44D6-9DB6-8CE004E5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BA0C-1BDC-4D98-AED9-6345BCF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F73-17C5-4D0D-9AF1-6D93204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956-CA30-4DC5-A9E7-B9F22584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754-CD93-40FF-A3BF-85A159E3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DDF3-2EE6-42C2-B72B-EB4D5A9D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96C6-D3AD-4194-A172-E37DCD30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C0AA-451D-4844-B8E8-20FA972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27F-3307-44B3-9AE5-1B8BF81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7898-B51C-456B-963C-4B9B61DF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AE38-98D3-43EB-9E93-7A59DC9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C7FA-592C-4CD5-8706-3BBC417B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405-256F-4613-9D1F-61636C34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C380-478D-4B55-B83F-C6BA819C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04B-1D56-4FDD-8BD9-6FDF069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E4C-CDE6-4564-9683-31135515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048-B5A1-4D6E-A45C-6BD910BF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698-3A71-450F-A5D0-CC61CEE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967-3544-414C-8072-D2F5454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0CA-33A0-4570-A35A-A0B1645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C94-9A4B-4596-8A42-B5BB6AA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A40-97D4-459A-AAE8-010A2CF277D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249-C762-41FE-A7B3-48FADF11A7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ffcc"/>
                </a:solidFill>
                <a:latin typeface="Impact"/>
              </a:rPr>
              <a:t>Criptografia de Dad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sso pelo qual uma mensagem (texto limpo) é transformada em uma segunda mensagem (o texto cifrado) usando uma função complexa (algoritmo de criptografia) e uma chave criptográfic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15320" cy="36900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envio de mensagem combinado com assinatura digital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sua chave privada (assinatu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missor criptografa a mensagem com a chave pública d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envia a mensagem duplamente criptograf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4 - receptor decriptografa duas vezes, a primeira com a sua chave privada, e a segunda com a chave pública do emi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43000"/>
            <a:ext cx="7915320" cy="24717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Exemplo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fie-Hellm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Ga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vas Elíp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878360"/>
            <a:ext cx="7915320" cy="14590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Vantagens :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resolve o problema da gerência e distribuição das ch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973680"/>
            <a:ext cx="7915320" cy="605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roblemas :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Custo de Process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9200" y="304920"/>
            <a:ext cx="7915320" cy="12456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Criptograf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Simétrica x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733920" cy="26542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Ráp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 é comple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Não oferece 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1828800"/>
            <a:ext cx="3733920" cy="26550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L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 é si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Oferece 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7520" y="5334120"/>
            <a:ext cx="75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qual algoritmo utilizar 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9200" y="304920"/>
            <a:ext cx="7915320" cy="100764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Exemplo de Funcionamento de Sistema Híbri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219320"/>
            <a:ext cx="7915320" cy="52131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1 - emissor cria uma chave simé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2 - emissor criptografa a mensagem com a chave simétrica cri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3 - emissor criptografa a chave simétrica com a chave pública do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4 - emissor envia a mensagem e a chave criptograf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5 - receptor decriptografa a chave utilizando a sua chave pr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6 - receptor decriptografa a mensagem utilizando a chave simétrica que decriptografou anterior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7880" y="304920"/>
            <a:ext cx="8666280" cy="100764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Exemplos de Protocolos que empregam sistem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riptográficos Híbri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828800"/>
            <a:ext cx="8534520" cy="36774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IPSEC - padrão desenvolvido para o IPv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SL e TLS - utilizado nos protocolos NTTP, HTTP, SMTP e Tel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GP - criptografia de e-mail pesso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/MIME - criptografia de e-mail corpor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ET - transações financei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X.509 - relacionamento entre as autoridades de certif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3813120"/>
            <a:ext cx="167616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932"/>
                </a:solidFill>
                <a:latin typeface="Arial"/>
              </a:rPr>
              <a:t>Criptograf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813120"/>
            <a:ext cx="167616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932"/>
                </a:solidFill>
                <a:latin typeface="Arial"/>
              </a:rPr>
              <a:t>Decifr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041720"/>
            <a:ext cx="38088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880" y="38131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xto Simp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9160" y="38131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xto Simp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11804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1180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28220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7960" y="2365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truso (ativo ou pass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940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191120"/>
            <a:ext cx="1371600" cy="2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4040" y="533520"/>
            <a:ext cx="850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99ffcc"/>
                </a:solidFill>
                <a:latin typeface="Impact"/>
              </a:rPr>
              <a:t>MODELO DE CRIPTOGRAFIA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-30492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99ffcc"/>
                </a:solidFill>
                <a:latin typeface="Impact"/>
              </a:rPr>
              <a:t>Utilização da Criptografia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11400" y="1866960"/>
            <a:ext cx="3900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onfidencial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11760" y="2590920"/>
            <a:ext cx="307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utenticaçã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1760" y="3352680"/>
            <a:ext cx="2782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Integr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98800" y="4051440"/>
            <a:ext cx="2971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Não-repud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6320" y="4172040"/>
            <a:ext cx="34646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Disponibil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8040" y="4915080"/>
            <a:ext cx="42008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ontrole de Acess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0"/>
            <a:ext cx="6934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riptografia x Servidor Segur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77840" y="12952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ocumentos de serem apagado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77840" y="2476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contra chaves criptográficas roubad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177840" y="3708360"/>
            <a:ext cx="9372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contra ataques ao serviç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77840" y="4508640"/>
            <a:ext cx="91440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e um programa de criptografia sabotad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77840" y="5219640"/>
            <a:ext cx="91440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e erros ou de traidor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33520"/>
            <a:ext cx="7925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ifragem por Substitui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ada letra ou grupo de letras da mensagem, é substituido por uma outra letra ou grupo de letras. Preservam a ordem dos símbolos no texto simples, embora os oculte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8080" y="4110120"/>
            <a:ext cx="728424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ffcc"/>
                </a:solidFill>
                <a:latin typeface="Impact"/>
              </a:rPr>
              <a:t>Exemplo :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Chave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bcdefghijlmnopqrstuvxza..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1480" y="5257800"/>
            <a:ext cx="3372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caju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1840" y="5897520"/>
            <a:ext cx="4839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Cifrada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dblv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ifragem por Transposiçã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s letras da mensagem são trocadas de sua posição original. O método reordena as letras mas não as ocultam.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675360" y="4114800"/>
            <a:ext cx="41860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ffcc"/>
                </a:solidFill>
                <a:latin typeface="Impact"/>
              </a:rPr>
              <a:t>Exemplo :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Chave : 68325417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0400" y="5257800"/>
            <a:ext cx="4236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cachorr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1120" y="5897520"/>
            <a:ext cx="5703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Cifrada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rhcrocoa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257480"/>
            <a:ext cx="7925040" cy="398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Utiliza a mesma chave para criptografar e decifrar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666880"/>
            <a:ext cx="7915320" cy="28371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define-se previamente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a ser utilizada entre o emissor e 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missor criptografa a mensagem utilizando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emissor envia a mensage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4 - receptor decriptografa a mensagem utilizando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74600"/>
            <a:ext cx="7915320" cy="26182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Exemplo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DES - Data Encryption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ple-DES - variação do DES, utilizando 3 enciframentos sucess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A - International Data Encryption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C5 - algoritmo mais flexí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062240"/>
            <a:ext cx="7915320" cy="170352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roblema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garante a identidade de quem enviou ou recebeu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996160"/>
            <a:ext cx="7915320" cy="605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Vantagens: 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mais rápido e facilmente implemen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995400"/>
            <a:ext cx="7925040" cy="45972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Utiliza 2 chaves : uma pública e outra pr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87600"/>
            <a:ext cx="7915320" cy="22269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envio de mensagem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chave pública d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nvia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receptor decriptografa utilizando a sua chave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014720"/>
            <a:ext cx="7915320" cy="22269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assinatura digital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sua chave privada (assinatura digit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nvia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receptor decriptografa utilizando a chave pública do emi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4:50:16Z</dcterms:created>
  <dc:creator>.</dc:creator>
  <dc:description/>
  <dc:language>en-US</dc:language>
  <cp:lastModifiedBy>Desenvolvimento</cp:lastModifiedBy>
  <dcterms:modified xsi:type="dcterms:W3CDTF">2002-06-28T21:24:06Z</dcterms:modified>
  <cp:revision>19</cp:revision>
  <dc:subject/>
  <dc:title>Criptografia</dc:title>
</cp:coreProperties>
</file>