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B21-FA2D-43E1-998F-3A64453561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senha é a forma mais comum de autenticação utilizada na segurança da rede. Se usada corretamente, representa uma boa solução para o controle do acesso a contas e sistemas; em contrapartida, o uso incorreto é o mesmo que não usar autenticação algu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pessoas precisam ser orientadas no sentido de encaminhar pedidos suspeitos a seus supervisores, precisam conhecer os riscos de repassar senhas e outras informações confidenciais sem que saibam com certeza qual é seu interlocu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om o S/MIME é possível, a critério do usuário, enviar uma mensag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nte criptografada (quando só o sigilo é importante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nte assinada digitalmente (quando interessam apenas integridade e autenticidade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riptografada e assinada digitalmente (quando são desejados sigilo, integridade e autenticidad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FFC-FF64-4791-A966-779CBCD5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412-8528-45C3-9B93-33B4C632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F86-58AE-4F80-A973-F462B76D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4F3-BB4C-4431-B58B-D6E14202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BE9-427A-4A75-A3DB-1E2A16CA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A87F-A3FB-4A3A-BC81-3384D73E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2F01-030B-4194-9FFB-A798901F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DE1D-ED6F-430C-B669-7B8C248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35F7-EB3A-49C8-A0D7-7696F250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462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6872-83C8-4106-9EF4-F8D292A0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6E3D-7EF8-48B7-891A-6F031CA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8BB-C37D-4638-8803-17CAC1C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6A1-2F11-41BD-9247-74F4ED4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4DC2-D212-4A33-A3FE-74E99BF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F6FD-9F8F-4F35-A12B-0B050AE1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2A95-141E-45F8-BCE1-C20604C4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7EBC-BD36-4EB0-8BF3-4C5B0315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663-C54A-4195-A055-FD7AA816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00B-87D6-46B0-8504-A3D581C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826-1CEB-4BA4-9E74-A2028D7B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62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B1D-FE6D-480C-A42A-21FC0F83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EC5-0253-478F-AD08-A8D2233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1D6-8CB7-4A15-B0D6-659D509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056-37CF-46B8-A446-B879D96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0978-11F3-46D0-B237-BB00285F30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42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30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46A3-1FF9-44CE-8BAB-CF565B2398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29718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cc6600"/>
                </a:solidFill>
                <a:latin typeface="Times New Roman"/>
              </a:rPr>
              <a:t>Técnicas e Ferramentas de Defesa</a:t>
            </a:r>
            <a:br>
              <a:rPr sz="4400"/>
            </a:br>
            <a:br>
              <a:rPr sz="4400"/>
            </a:br>
            <a:r>
              <a:rPr b="1" i="1" lang="pt-BR" sz="2800" spc="-1" strike="noStrike">
                <a:solidFill>
                  <a:srgbClr val="cc6600"/>
                </a:solidFill>
                <a:latin typeface="Times New Roman"/>
              </a:rPr>
              <a:t>Danielle Leite da Silva </a:t>
            </a:r>
            <a:r>
              <a:rPr b="1" i="1" lang="pt-BR" sz="2400" spc="-1" strike="noStrike">
                <a:solidFill>
                  <a:srgbClr val="cc6600"/>
                </a:solidFill>
                <a:latin typeface="Times New Roman"/>
              </a:rPr>
              <a:t>(danielleleite@yahoo.com.br)</a:t>
            </a:r>
            <a:br>
              <a:rPr sz="2800"/>
            </a:br>
            <a:r>
              <a:rPr b="1" i="1" lang="pt-BR" sz="2800" spc="-1" strike="noStrike">
                <a:solidFill>
                  <a:srgbClr val="cc6600"/>
                </a:solidFill>
                <a:latin typeface="Times New Roman"/>
              </a:rPr>
              <a:t>Fabiana S. P. Ramalho </a:t>
            </a:r>
            <a:r>
              <a:rPr b="1" i="1" lang="pt-BR" sz="2400" spc="-1" strike="noStrike">
                <a:solidFill>
                  <a:srgbClr val="cc6600"/>
                </a:solidFill>
                <a:latin typeface="Times New Roman"/>
              </a:rPr>
              <a:t>(fabianaspr@hotmail.com) </a:t>
            </a:r>
            <a:br>
              <a:rPr sz="2800"/>
            </a:br>
            <a:r>
              <a:rPr b="1" i="1" lang="pt-BR" sz="2800" spc="-1" strike="noStrike">
                <a:solidFill>
                  <a:srgbClr val="cc6600"/>
                </a:solidFill>
                <a:latin typeface="Times New Roman"/>
              </a:rPr>
              <a:t>Patricia de Lima </a:t>
            </a:r>
            <a:r>
              <a:rPr b="1" i="1" lang="pt-BR" sz="2400" spc="-1" strike="noStrike">
                <a:solidFill>
                  <a:srgbClr val="cc6600"/>
                </a:solidFill>
                <a:latin typeface="Times New Roman"/>
              </a:rPr>
              <a:t>(patlima@hotmail.com)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80D5-FBED-4934-A123-4B8C597194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46240" y="720720"/>
            <a:ext cx="7772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Atacant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67652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dversários que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issional em segurança terá que enfrent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2743200"/>
          <a:ext cx="8305920" cy="3324240"/>
        </p:xfrm>
        <a:graphic>
          <a:graphicData uri="http://schemas.openxmlformats.org/drawingml/2006/table">
            <a:tbl>
              <a:tblPr/>
              <a:tblGrid>
                <a:gridCol w="3048120"/>
                <a:gridCol w="525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ante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ertir-se vasculhando emails, roubando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nhas, et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cker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u cracke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ar a segurança de sistemas, roubar 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ções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ens de negócios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obrir planos e estratégias de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 do concorrente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-empregad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ngar-se por ter sido despedido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rorista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bar e utilizar segredos políticos</a:t>
                      </a: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24D-1CC0-4B2D-92B0-7DC8BD17D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46240" y="762120"/>
            <a:ext cx="88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Considerações Fin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20574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arquitetura de redes apresenta vários pontos de vulnerabi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a cada tecnologia proposta, surgem novos problemas relacionados à segurança das inform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ções de software e hardware específicos são essenciais para proteger os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fator humano é peça-chave em um esquema de segurança. O comprometimento total dos envolvidos no acesso à Informação é primordial para o sucesso da Política de Seguranç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526-BB72-4C3A-89EF-D40C1206341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46240" y="762120"/>
            <a:ext cx="88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Considerações Fin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22096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existe um ambiente computacional de redes totalmente seguro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342900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propósito dos administradores deve ser tornar as invasões mais difíceis e ter metas bem definidas sobre como agir quando incidentes de segurança ocorrer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AA6-4093-4C02-AD0A-EA798C36288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46240" y="762120"/>
            <a:ext cx="88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Dúvi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BD00028_" descr=""/>
          <p:cNvPicPr/>
          <p:nvPr/>
        </p:nvPicPr>
        <p:blipFill>
          <a:blip r:embed="rId1"/>
          <a:stretch/>
        </p:blipFill>
        <p:spPr>
          <a:xfrm>
            <a:off x="3124080" y="2513160"/>
            <a:ext cx="2335320" cy="22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488-1DDD-451C-A656-C9795F57E5D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46240" y="762120"/>
            <a:ext cx="88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dlow , Thomas 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egurança de Redes: projeto e gerenciamento de redes segur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Editora Campus,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onkhite, Cathi e McCullough, Jack.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ckers, Acesso Neg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Editora Campus, 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finkel, Simson, e Spafford, Gene.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ércio e Segurança na We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tora Market Books Brasil,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fino, Nelson M. de O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gurança Nacional – Técnicas e Ferramentas de Ataque e Defesa de Redes de computad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 Editora Novate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o Exame. Editora Abril, Agosto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gta.ufrj.br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9D2-681F-48C7-9866-236DDB7CDC5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46240" y="762120"/>
            <a:ext cx="88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Referências Bibliográfic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inet.com.br/mhavilla/aulas/seguran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redes.unb.br/security/index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inf.ufsc.br/~custodio/cursos/security/notas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penta.ufrgs.b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www.cos.ufrj.br/~ferver/cos871/apostila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www.superdicas.com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orbita.starmedia.com/~bonacinis/virus.htm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webpuc.hpg.ig.com.b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49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ime.usp.br/~ueda/Idoc/Proxy.htm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923-2CC0-45FF-97D2-C8F8E631762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defes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ção de uma Política de Seguranç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e segurança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e segurança 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ção de ferramentas de testes e IDS (Intrusion Detection Sys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ditoria de L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inamento de profiss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ualizações dos siste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E7B-8610-4722-8224-798FB0384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Política de Seguranç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ão formal das regras pelas quais é fornecido acesso aos recursos tecnológicos d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720" indent="-12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r aos usuários, equipe e gerentes, as suas obrigações para a proteção da tecnologia e do acesso à inform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erecer um ponto de referência a partir do qual se possa adquirir, configurar e auditar sistemas computacionais e redes, para que sejam adequados aos requisitos prop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4680" indent="-10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rnar explícita uma política de uso apropriado (AUP (Appropriate - ou Acceptable - Use Policy) para que os usuários da rede saibam o que podem ou não fazer com os recursos computacio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2672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458-36B2-4A6F-9770-6156AA8D07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Política de Seguranç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209680"/>
            <a:ext cx="86104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em deve ser envolvi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administrador de segurança da red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pessoal técnico de Tecnologia da Inform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rentes da organizaçã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dores de opiniã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ntes da área jurídic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ntes de grupos de usuários afetados pela política de seguranç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9DC-72EE-47DA-AEE3-E88979D248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Política de Seguranç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167652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apas no desenvolvimento da Política de Segurança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ção do valores da empresa: o que deve ser protegi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ção dos riscos: acesso não autorizado, serviço não disponível, revelação de informações confidencia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27672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502920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custo de proteger uma informação não deve ser maior que o prejuízo que ela pode causar se for divulgad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FE5-BF15-494C-B145-8782F78F2F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4624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Política de Seguranç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523880"/>
            <a:ext cx="7924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stas a incidentes de seguranç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égias possíve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teger e perseguir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oteger e preservar a funcionalidade da rede e normalizar as atividades dos usuários o mais rápido possív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seguir e processar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ermitir a atividade do intruso até ele ser localizado, identificado e responsabiliz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11480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just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ditorias e revisõ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 essencial manter a Política de Segurança flexível, para que ela se torne viável a longo praz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ma política deve ser largamente independente de hardware e softwares específ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0E1-545A-47D5-AEE6-CDCBDABBE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Aspectos da segurança físic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28600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 principal objetivo da implantação de controles de segurança física, é restringir o acesso às áreas críticas da organização, prevenindo entradas não autorizadas que podem acarretar danos a equipamentos, acessos indevidos à informação, roubos de equipamentos, entre out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D7F-99D4-40C2-98EA-CB5B7A06A8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Aspectos da segurança físic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19051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es de acesso físico aos sistemas de computad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de instalação do CPD: é seguro, tem muitos pontos de aces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de recuperação em caso de desastres naturais e/ou catástrof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 de acesso a áreas de alta segurança, através dos smart cards, senhas, dispositivos biométricos (scanners de digitais, reconhecimento de íris, etc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esso de prestadores de serviç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a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bea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s ambienta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810-3907-4EED-B30C-90738CE997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Aspectos da segurança físic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19810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lítica de bac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ais dados devem ser alvo de arquivamento segur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al a freqüência com que os dados são modificados e em que volu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ponibilidade para dados e aplicações da empresa (estimar o tempo máximo de paralisação permitid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887-8D47-41DE-8FDC-B66CF439FD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Aspectos da segurança físic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retivas de back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r rodízio de fitas (ou outras mídias de armazenamento) para evitar desgaste contínuo e manter várias versõ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ar ciclos de backups completos (semanais, mensais) e incrementais (diários, por exemplo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 cópias de segurança devem ser realizadas no menor intervalo possíve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mazenar mídia em local adequa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ter uma segunda cópia de segurança em local extern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star a integridade das cópias periodicam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CFC-2E3D-4587-9116-9AF2F28794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Sumári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ulnerabil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ataques e atacan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lítica de seguranç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rreio eletrônico segur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se defender dos vír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gurança na We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as preocupaçõ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natura e certificados digit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criptográficos na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ctores de Intrusos (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D87-47D5-4D49-9EEF-E270427158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Aspectos da segurança lógic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13372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r a autenticação, confidencialidade e integridade das inform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ção de uma política de senh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bate à Engenharia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o da criptograf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A76-F491-47E6-A451-7B69A69CB5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46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Política de Senh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1981080"/>
            <a:ext cx="8534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imentos eficientes para a escolha de sen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ção de senhas em intervalos regul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imento de um tamanho mínim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usar a identificação de objetos pessoais, número da placa do carro, CPF, RG, telefone, número da residência, marca ou modelo do carr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utilizar o próprio nome ou variações, como por exemplo, invertido, duplicado, letras maiúscul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utilizar palavras do dicionário como senhas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503-4864-40B1-A2B1-A6D91AB0C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Engenharia Soci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2209680"/>
            <a:ext cx="8915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arte de contar uma mentir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tante convincente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m Segurança, representa a aquisição de informações preciosas ou privilégios de acesso por “alguém de fora”, através de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ção de confiança estabelecida, inapropriadamente, com “alguém de dentro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elhor defesa contra a engenharia social é o treinamento do pesso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5FB-F966-4BF8-8261-A07CBC056F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Criptograf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1337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arte ou ciência de escrever em cifras ou em códi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 uma das armas mais poderosas da segurança, pois satisfaz os requisitos de autenticação, confidencialidade e integr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É utilizada (na maioria das vezes) indiretamente através de ferramentas, protocolos e sistemas específ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C1F-02BF-4F26-B83C-3B4D966824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46240" y="762120"/>
            <a:ext cx="777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Criptograf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901880"/>
            <a:ext cx="845820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écnicas de Criptograf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écnicas legada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: esteganografia, substituição, transposiçã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iptografia simétric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: uma única chave é usada para criptografar e decriptografar uma mensag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 de algoritmos: DES (Data Encryption Standard), IDEA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Data Encryption Algorithm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iptografia Assimétric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: utiliza duas chaves (uma pública e uma secreta) para  criptografar e decriptografar uma mensag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 de algoritmo: RSA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3C1-0670-46D3-9D6E-CE1CBE321F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Correio eletrônico segur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98108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-mail é o serviço mais utilizado na Internet atua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sseminador rápido de informação, o que representa uma brecha na segu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rta de entrada de vírus, correntes, história enganosas e difam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810-A592-4623-8690-4703723761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46240" y="914400"/>
            <a:ext cx="7772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Correio eletrônico segur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752480"/>
            <a:ext cx="78487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Boas práticas no uso do correio eletrôn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nca encaminhar trotes, rumores, correntes, piadas ofensiv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confiar de todo e qualquer arquivo anexado ao e-mail (pode conter víru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ionar os destinatários das mensagens, evitando ao máximo o recurso “Responder a Todos” dos aplicativos de correio eletrôni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ecer treinamento aos funcionários nos aplicativos de correio eletrônico e divulgar as diretivas de utilização de e-mail da empre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47C-7C74-4399-A62C-76BBF8117B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Correio eletrônico segur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Protegendo mensagens confidenciai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r ferramentas de criptografia para mensagens sigilosa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GP (Pretty Good Privacy)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: ferramenta de criptografia multiplataforma de alta segurança criada em 1991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gratuita e versões para muitas plataformas, com ferramentas para fácil utiliz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Distribuição pública do código (OpenPGP) permitiu amplo estudo e garante credibilidade (certeza de não haver back doors) e amadurecimento (depuração)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295-87E8-45ED-A082-8A3E7A7FC4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Correio eletrônico segur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Protegendo mensagens confidenciais (cont.)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/MIME (Secure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ltipurpose Internet Mail Extensions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especificação de correio eletrônico seguro criado em 1995 por um grupo de empresas (RSA, Microsoft, Netscape, Lotus e Novell) com o propósito de evitar a interceptação, alteração e a falsificação de mensagens trocadas eletronicam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 algoritmos simétricos para garantir o sigilo das mensag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garantir a integridade e a autenticidade das mensagens, são utilizadas assinaturas digitais, baseadas em algoritmos de chave pública como o RSA (que usa chaves distintas para ciframento e deciframento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AC4-FDEC-454E-A29C-1C2FB8B573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Correio eletrônico segur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xemplos de utilização do S/MI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  <a:ea typeface="Arial Unicode MS"/>
              </a:rPr>
              <a:t>Enviando uma mensagem criptografada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metente criptografa o conteúdo da mensagem com uma chave de sessão (algoritmo simétric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have de sessão é criptografada com a chave pública do destinatário (algoritmo assimétrico como o RSA) e anexada à mensa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ário decriptografa a chave de sessão com sua chave priv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 a chave de sessão, destinatário decriptografa o conteúdo da mensag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2A1-19D4-497D-ABA8-B7C7667AE8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828800"/>
            <a:ext cx="77724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 de comput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que permite a comunicação entre pontos distintos (troca de informaçõ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09680" y="4290840"/>
            <a:ext cx="5029200" cy="2186280"/>
            <a:chOff x="2209680" y="4290840"/>
            <a:chExt cx="5029200" cy="2186280"/>
          </a:xfrm>
        </p:grpSpPr>
        <p:pic>
          <p:nvPicPr>
            <p:cNvPr id="184" name="redesimples" descr=""/>
            <p:cNvPicPr/>
            <p:nvPr/>
          </p:nvPicPr>
          <p:blipFill>
            <a:blip r:embed="rId1"/>
            <a:stretch/>
          </p:blipFill>
          <p:spPr>
            <a:xfrm>
              <a:off x="2286000" y="4290840"/>
              <a:ext cx="316692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209680" y="5943600"/>
              <a:ext cx="175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misso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3400" y="594360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Recepto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480" y="5486400"/>
              <a:ext cx="914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ei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9880" y="5257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57150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6240" y="6699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68C-4D0C-4DA1-BE2A-1862EBDC8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Correio eletrônico segur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1905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xemplos de utilização do S/MIME (cont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viando uma mensagem assina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metente gera um resumo da mensagem (um “checksum sofisticado”) com o algoritmo SHA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metente criptografa resumo com sua chave privada e anexa ao texto origi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ário acessa uma autoridade certificadora e extrai a chave pública do remet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844-075D-4242-AC8B-16802A8DDF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46240" y="72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Correio eletrônico segur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Arial"/>
              </a:rPr>
              <a:t>Exemplos de utilização do S/MI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viando uma mensagem assinada (cont.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sumo da mensagem é decriptografado com a chave pública do remet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 possível calcular localmente o resumo da mensagem original recebida. Se for igual ao resumo feito pelo remetente, a integridade também está garanti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4A6-E946-4388-837D-235CF8FAEF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Víru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8600" y="1752480"/>
          <a:ext cx="3121200" cy="39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3121200" cy="39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809880" y="17668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queno programa projetado e escrito para afetar de forma adversa o computador e fazer alterações sem permissão. Ele é um código de programa que invade arquivos, se auto-replica, e se espalha para todos os outr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computador não cria vírus espontaneamente. Eles precisam ser escritos e ter um objetivo específico.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2DA-6B38-49E7-93CF-FB72929350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Verdana"/>
                <a:ea typeface="Times New Roman"/>
              </a:rPr>
              <a:t>Tipo de Víru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írus de Boo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írus de Mac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írus de Progra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írus Multipart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írus Invisí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ax Vírus (vírus boa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A5B-77B3-4A9B-BC6B-D75F35D554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Sinais de ataque de víru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2147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árias palavras de seu texto mudaram subitamente de lugar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arquivo cresceu de tamanho de um dia para outro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u computador começou a ficar muito lento, e você instalou apenas um joguinho hoj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cê não consegue mais dar boot pelo seu winchester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de dos seus arquivos anda sumindo misteriosament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cê acaba de receber parabéns para você de um indivíduo autodenominado JOSHI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7BD-8010-494B-966E-D49E50BA69D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Prejuízos com ataque de víru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766880"/>
            <a:ext cx="86104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,2 bilhões de dólares de gastos em 200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de Re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foi o que causou mais estragos, ocasionando perdas de 2,62 bilhõ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irca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ficou em segundo lugar, com 1,15 bilhã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im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em terceiro, com 635 milhõe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perdas em 2000 foram maiores - 17,1 bilh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vírus </a:t>
            </a: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Love You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 sozinho consumiu 8,75 bilh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acordo com o institu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, depo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Love Yo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 ferramentas de remoção de vírus se tornaram mais sofisticada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D3D-6DA4-4F55-8039-D88BBCFFC4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Por Que os Vírus São e Sempre Serão um Problem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maioria das pessoas acredita que a ameaça, representada pel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írus de comput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é uma coisa sem importância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go que um simples escaneamento, de alguns arquivos, uma vez por mês, basta para não terem de se preocupar novamente até o próximo mê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ada geração novas técnica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cript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o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visibil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são desenvolvidas, e um pacote anti-vírus bom pode virar algo completamente imprestável, do dia para a noit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549-3168-4DF1-AAD5-B872DD0089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Verdana"/>
                <a:ea typeface="Times New Roman"/>
              </a:rPr>
              <a:t>Como se evitar víru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de o anti-vírus sempre que receber um novo documento (principalmente se for do tip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um anti-vírus com um detector, residente na memória, de ação de víru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mpre chequ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 ARQUIV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qualquer disquete recebido (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l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um anti-vírus com um detector de ação de víru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ão deixe disquetes no drive A: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ere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UP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o micro da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ot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 seqüência C:, A: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nca rode um programa compactado, sem antes checar a presença de víru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 arquivo compact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ualizar os arquivos de dados, dos nossos anti-vírus, pelo menos 1 vez a cada mê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suir pelo menos 2 anti-vírus - de reconhecida eficáci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A3B-BF53-4476-897E-1240C5B0F9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Antivíru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2071440"/>
            <a:ext cx="784836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m empresas especializadas que trabalham para descobrir novos vírus criados e construir antídotos para el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ses "antídotos" são os antivírus que são programas de computador criados para combater os vírus. Sua função é verificar e destruir os vírus dos arquivos infectado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s programas antivírus agem principalmente de quatro formas diferentes para alcançar este objetivo: Escaneamento de vírus conhecidos, Sensoreamento Heurístico, Busca Algorítmica e Checagem de Integridade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2B1-B0B5-4FA2-BAF0-17BC156515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5880" y="62496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utilizadas pelos Antivíru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caneamento de vírus conhecid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volve o escaneamento em busca de vírus já catalogados, isto é, aqueles vírus que já são conhecidos das empresas de antivíru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nsoreamento Heurístic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 programas são varridos em busca de código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indicam uma instrução que não deva ser executada por programas normais, mas que um vírus pode executar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sca Algorítm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se método é mais eficaz que o primeiro método, porém leva a um código muito maior para as vacinas e buscadores, além de consumir maior tempo para escanear todo o comput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hecagem de Integr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sa técnica cria um banco de dados com o registro dos dígitos verificadores para cada arquivo existente no disco, que é salvo para comparações posteri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430-6E27-491B-B83E-B4F963B38F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6240" y="6094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Introdução (cont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147760"/>
            <a:ext cx="81532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ectar-se em rede signific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tar o acesso externo aos recursos computacionais, inclusive às informações;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 preciso garantir que os usuários tenham acesso apenas ao que lhes é oferecido como serviç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gurança em Informát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 informações de uso restrito não devem ser acessadas, copiadas ou codificadas por pessoas não autoriza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495680"/>
            <a:ext cx="83818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3A9-6217-4571-9B6A-B7EEC186E3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5880" y="62496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ipos de vacinas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 Associ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cAffe ViruScan – Pessoal –  US$ 29,9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irusScan Security Suite – pessoal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$ 345,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Virus Defense Suite – Servidores - US$ 506,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 Virus Defense Suite – Servidores - US$ 632,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mant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rton Anti-Virus 2002 – Pessoal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$ 49,9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rton Anti-Virus 2002 Professional Editio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sso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$ 69,9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oculateIT (Computer Associ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C-Cillin (Trend Mic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P (Kasperky La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G Free Edition (Gri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B44-A4C8-4CC0-98CB-62864BF293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Ferramentas Freewar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Klez Removal Ut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Encontre e elimine esta perigosa praga do seu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mantec Nimda Removal Tool 1.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Ferramenta para detectar e remover o vírus W32.Nimda.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irCam Remover 1.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Detecte e remova o vírus Sircam do seu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igoner 1.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Utilitário para detectar e eliminar o vírus W32.Gone.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tiVirus Personal Edition (Windows NT, 2000, XP) 6.14.06.56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Antivírus alemão, gratuito para uso pess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G Antivírus 6.0.313   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Excelente antivírus, leve e ainda por cima é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9E8-C64B-485F-B5DF-2CC4111F65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Segurança na Web</a:t>
            </a: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2057400"/>
          <a:ext cx="40388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4038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5181480" y="2743200"/>
            <a:ext cx="350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"Onde existir um computador, existirá o risco de um ataque ou de um vírus para ele"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631-3AFF-4E84-B9FC-AFE965E1D5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Segurança na Web (cont.)</a:t>
            </a: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computador é seguro se você pode ter certeza que ele e seu software vão se comportar como você espe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egurança na web é representada por um conjunto de procedimentos práticas e tecnologias para proteger os servidores, usuários da Web e suas empres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866-8588-4DB7-9E98-C255A0DF9E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Novas preocupaçõe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Web foi projetada sem muita preocupação, ou quase nenhuma, com seguranç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objetivo principal era disponibilizar informações de uma forma mais amigável que os recursos disponíveis na époc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m o rápido crescimento da Web e com a diversificação de sua utilização, a segurança se tornou um ponto de importância crucial, principalmente para quem tem a Web como um dos principais apelos comerciai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tualmente, a Web enfrenta diferentes formas de ameaça que foram surgindo ao longo de sua evoluçã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vido à pressa na construção de novas funcionalidades em todo o ambiente, projetistas não consideraram o impacto em segurança que esta nova tecnologia causaria, deixaram de ver importantes pontos de possíveis ataques e vulnerabilidades. A Web não demorou muito em caminhar da comunidade científica para o mundo comercial. Neste ponto, as ameaças tornaram-se mais sérias. Uma nova tecnologia encontrava-se disponível e muito atrativa para os atacant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84A-374D-4BA4-97A4-025CE893A6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Ataques Importantes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7 agosto 1996 – Página inicial do site do Departamento de Justiça dos Estados Unidos alte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8 setembro 1996 - um grupo de hackers suecos entrou no site da 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uns meses depois a página inicial do site da Força Aérea dos Estados Un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3 março de 1997 - Bug no Internet Explorer foi descober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FC4-575A-4F2C-B01D-FE821820BA1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Atacan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nível de habilidade dos atacantes varia bastante, muitos até nunca estudaram informática, e o que possibilita que os mesmos saiam invadindo computadores, é a gama de ferramentas de invasão que estão espalhadas pela Internet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847-4CD3-411C-83EE-A2C5BB0201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Como atacar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ão mais de 100.000 sites dedicados a atividade de h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astrear IP (Internet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conqu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2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ap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.0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sngol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60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oi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V e alguns utilitários para quem pretende se dedicar à atividade de penetrar sistemas remotos,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i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0 –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cke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C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1 que busca falhas na segurança de provedores.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os programas preferidos estão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ck Do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.3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ck Orifi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20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ep Throa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3.0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rl Frie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35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Paridi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9.7b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llenni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 Bus P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.1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Sphe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2b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Cra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.03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Cra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.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05F-8291-4DFE-BDDB-1E299FEFA5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200" spc="-1" strike="noStrike">
                <a:solidFill>
                  <a:srgbClr val="cc6600"/>
                </a:solidFill>
                <a:latin typeface="Times New Roman"/>
              </a:rPr>
              <a:t>Tipos de ataques</a:t>
            </a:r>
            <a:endParaRPr b="0" i="1" lang="en-US" sz="4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valos-de-Tróia (ou Troj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ebra de senh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ial of service (D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l bom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rea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anners de por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niff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mu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C81-AEC1-40FF-8903-039EB353E05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72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Por que os servidores são alvos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20336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ér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ções Confidenci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esso à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itmo do Desenvolv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orte Compl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rupção de Serviç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577-98D3-480D-9874-E4CEF563E2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19051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gurança em Inform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Introdução (cont.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nfidencialidade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de que somente as pessoas ou organizações envolvidas na comunicação possam ler e utilizar as informações transmitidas de forma eletrônica pela re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tegridade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de que o conteúdo de uma mensagem ou resultado de uma consulta não será alterado durante seu tráfeg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utenticação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de identificação das pessoas ou organizações envolvidas na comunic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900-A647-4E3C-A627-782E071487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O que é um servidor seguro ?</a:t>
            </a: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os fornecedores de software, um servidor seguro é um programa que implementa certos protocolos criptográficos evitando bisbilhotice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os usuários, um servidor seguro é aquele que resgarda as informações pessoais que são recebidas e coletadas. É aquele que resguarda sua privacidade e não altera seu navegador para um vírus ou outros programas mal-intencion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a empresa, um servidor seguro é aquele que resiste a determinados ataques feitos pela Internet ou por pessoas internas da própri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m servidor seguro é tudo isso e também é um servidor confiável que possui alguma forma de backup que possibilite sua reconstituição em caso de alguma pan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407-A3A2-4C05-B371-0DA17D4896F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46240" y="930240"/>
            <a:ext cx="821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O que é um servidor seguro? </a:t>
            </a:r>
            <a:r>
              <a:rPr b="0" i="1" lang="pt-BR" sz="3600" spc="-1" strike="noStrike">
                <a:solidFill>
                  <a:srgbClr val="cc6600"/>
                </a:solidFill>
                <a:latin typeface="Times New Roman"/>
              </a:rPr>
              <a:t>(cont)</a:t>
            </a: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ervidores “seguros” são como carros-fortes.  A questão é, esses carros-fortes estão sendo usados para transferir grande quantidade de dinheiro e cheques preenchidos. No entanto, as estradas estão sujeitas a desvios aleatórios, qualquer pessoa com uma chave de fenda pode controlar os semáforos do caminhos e o policiamento pode não estar pres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ne Spaff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724-78FD-4912-9B0B-8D55C2CFF23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5880" y="85356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Dividindo o problema da Seguranç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eger o servidor e os dados que estão nel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eger os dados que trafegam entre o servidor e o usuári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eger o computador do próprio usuá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4AB-B5B6-492F-85DB-3990D148E3E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6600"/>
                </a:solidFill>
                <a:latin typeface="Times New Roman"/>
              </a:rPr>
              <a:t>Tentativas para tornar um Servidor WEB Segur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310680" indent="-310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oque seu servidor Web em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MZ (De-Militarized Zone)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computador deve, primeiramente, estar protegido utilizando-se as técnicas tradicionais de segurança (controles de acesso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05080" indent="-2718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o significa, instale um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rewal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m sua rede, de forma que se tenha um nível a mais de proteção na rede intern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0680" indent="-310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mova os serviços desnecessários da máquina do servidor We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0680" indent="-310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permita administração remota, a menos que seja feita utilizand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ne-time passwo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via uma conexão segura (link com criptograf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0680" indent="-310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mite o número de pessoas que possuem acesso de administrador ("root"/"administrator") de seu servidor We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0680" indent="-310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odas as atividades do usuário e mantenha-as criptografadas em seu servidor ou em outra máquina de sua rede interna/intran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0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92E-D389-4D62-86D1-2BEDC00BAD3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6600"/>
                </a:solidFill>
                <a:latin typeface="Times New Roman"/>
              </a:rPr>
              <a:t>Tentativas para tornar um Servidor WEB Segur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que/analise seu servidor Web periodicamente com ferramentas como ISS e nmap em busca de vulnerabil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ha software de detecção de intrusão que possa monitorar as conexões para o servidor. Instale/implemente mecanismos que possam detecta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ploit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nhecidos e atividades suspeitas e que possam capturar estas sessões para uma análise posterior. Estas informações podem ajudá-lo a se recuperar de uma invasão e melhorar suas defe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execute o servidor Web como "root". Falhas em scripts CGI podem ser extremamente danosas para seu sistema. Recomenda-se a criação de um usuário/grupo específico sob o qual o servidor Web estará sendo executado. Não execute o servidor Web como usuário "nobody", pois outras aplicações sendo executadas como "nobody" passam a ter acesso a operação/dados do servidor Web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0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60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602-4526-4844-ACA0-3C496898BC7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Gerenciamento de Risc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21477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gurança na WEB não é uma questão de “tudo ou nada”, é uma questão de ní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ais medidas de segurança você emprega, a menos riscos está suje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preciso reduzir os riscos e depois tomar medidas adicionais para que se algum incidente ocorrer, você poderá restabelecer-se pront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704-9D90-415B-96F8-BC2128AF6F9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Firewal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769644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firewalls são elementos que combinam hardware e software construídos usando roteadores, servidores e uma variedade de softwar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s são muito parecidos com porteiros de prédios. Os porteiros param as pessoas que entram no edifício, pedem identificação e só permitem a entrada se tudo estiver de acordo com a política de segurança da empres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18F-0534-4153-B559-9AE7660EEE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Componentes de um Firewal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2133720"/>
            <a:ext cx="800100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k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ão computadores ou dispositivos de comunicação que restringem o livre acesso de pacotes entre redes, e são, não necessariamente, implementados com rastreador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ão programas, dispositivos ou computadores dentro do perímetro de um firewall que recebem conexões de redes externas e tratam-nas apropriadamente. As máquinas que tratam todas as funções de um gate são também conhecidas como bastion hos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C0D-92A6-4315-8B47-30E7065F8C7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Técnicas dos Firewal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214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cket Filter (Filtro de Pacote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xy Servi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tion Host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A13-796E-4B66-AA14-04403CBDCF2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acket Filter (Filtro de Pacote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862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Image1" descr=""/>
          <p:cNvPicPr/>
          <p:nvPr/>
        </p:nvPicPr>
        <p:blipFill>
          <a:blip r:embed="rId1"/>
          <a:stretch/>
        </p:blipFill>
        <p:spPr>
          <a:xfrm>
            <a:off x="685800" y="2558880"/>
            <a:ext cx="7543800" cy="3975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09480" y="15238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les permitem ou bloqueiam certos pacotes, utilizando a política de segurança impo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C1C-6582-4ECF-9CEA-79EE80AF83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46240" y="685800"/>
            <a:ext cx="77724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9051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gurança em Informática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666880"/>
            <a:ext cx="83822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ão-repúdio (não recusa)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que o emissor de uma mensagem ou a pessoa que executou determinada transação de forma eletrônica, não poderá posteriormente negar sua auto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isponibilidade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arantia de que o sistema vai estar sempre pronto para tratar requisições de usuários legítim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850-0CE3-422C-99D4-F9BFA992F7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xy Services 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se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xi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pegam as requisições dos usuários para serviços da Internet e passam essas requisições adiante para os servidores reais, respeitando a política de seguranç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odo o fluxo corrente da rede interna e externa(Internet) passa obrigatoriamente pel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 Ele cuida de toda a comunicação dos usuários e os serviços disponíveis na Internet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Image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724280" cy="447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F3A-263C-4776-B518-8856DAC7B05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Bastion Host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astion Hos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é o termo aplicado a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que age como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oke-poi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entre a sua rede e a Internet, ou entre subredes da Intranet. Ele pode ser associado de várias maneiras, coma à entrada de um edifício (todos devem passar por aquele ponto tanto para entrar quanto para sair do edifício). Para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astion Hos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que está conectado à Internet, a maior atenção deve ser dada à seguranç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astion Hos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seria o ponto de entrada, tipicamente dos seguintes serviço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essões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-mai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que estejam chegando (SMTP) e distribuí-las para o site, requisições de FTP para o servidor de FTP anônimo e para consultas ao servidor de DNS intern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papel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astion Hos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consiste em atuar como um servid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para vários serviços, tanto rodando softwar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especializado para alguns protocolos (tais como HTTP ou FTP), ou através de servidores padrão de protocol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lf-prox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(como o SMTP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34862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577-40BF-45C8-9D19-1BA11ECE4D8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Qual técnica utilizar 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e as organizações onde as redes a serem ligadas possuem razoável grau de confiança umas nas outras, torna-se mais razoável utilizar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acket Filter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de tal forma que os clientes do outro lado da rede possam conectar aos servidores internos (tais como os servidores de SMTP e DNS) diretament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or outro lado, se o grau de confiança entre as organizações não é muito elevado, um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astion ho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pode ser colocado em cada lado da rede, com controle e gerência próprios, na rede limítrofe. O tráfego de dados iria fluir de uma rede até o seu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astion Ho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, para o outro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astion Ho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e finalmente para a outra rede inter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transparência é o maior benefício d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xy Servic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. Para o usuário, o servidor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dá a ilusão de que ele está lidando diretamente com o servidor real. Para o servidor real, o servidor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age como se o servidor real estivesse lidando diretamente com o cliente no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ho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bservaçã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xy Servic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só funcionam bem se usados em conjunto com mecanismos que restringem a comunicação direta entre as redes interna e externa. Bons exemplos são 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ual-homed host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e Packet filter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34862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98D-5A80-4D4F-AF7B-0705C1CBA76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pt-BR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Arquitetura de Firewal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á uma grande variedade de maneiras de colocar vários componentes de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irewal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uncionando jun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Dual-Homed Host Firewall Architectu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Screened Host Firewall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       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Multiple Gat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Internal Firew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EEC-34D7-4B95-BD7C-756007DE37D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903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Internal Firewall 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e tip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irewall protege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gumas subredes da empresa de outras. Enquanto nos outros é sempre falado de proteger a rede interna de ataques vindos da Internet. As razões para isto são vária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7400" indent="-2026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ma subrede da empresa é menos segura do que as demais (uma rede onde há cursos ou treinamento de pessoas estranhas à empresa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27400" indent="-2026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ma subrede da empresa deve ser mais protegida do que as demais (como uma rede de um laboratório de pesquisa e projeto, ou uma rede do setor financeiro, nas quais muitas vezes passam informações sigilosa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27400" indent="-2026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ma subrede na qual está se realizando test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274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e tip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irewal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ambém enfoca um problema que os outros tipos não tratam: o ataque de hackers que são os próprios empregados da empres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2AF-5663-449A-BA5A-AE0B4122E45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903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Internal Firewall 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862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" name="Image5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25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AAD-63FE-485F-BE56-4DB28E85F71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09480" y="1523880"/>
            <a:ext cx="8305920" cy="51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utros mecanismos que geralmente são utilizados juntamente com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ão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xi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xi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fazem a interface entre a rede interna e externa, fazendo o mapeamento dos números IPs internos para acessar a rede exter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de-se dizer que o objetivo funcional de um servidor Proxy é estabelecer sessões para troca de dados entre clientes e servidores que não têm ou não podem estabelecer uma ligação IP diretamente entre e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o nível de segurança, um servid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x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mplementa o controle de acesso que normalmente o software de cliente ou servidor não suportam ou não têm implement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elhor ferramenta proxy segundo a revista PC&amp;Companhia do mês de junho/2002, é o Squid, que roda em Linux e também em Windows2000/NT/9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46240" y="457200"/>
            <a:ext cx="88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xy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C86-553C-4E17-9BD4-837FED07780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7617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Ferramentas Firewall e Proxy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QProxy 1.3.584 (Beta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rio Personal Firewall 2.1.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gate Personal Firewall 5.0 build 1117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Anywhere Beta 0.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mus Beta 1.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UA Internet Personal Firewall 2.0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Proxy Server 3.4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cAfee Firewall 3.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26B-AFCB-4A5D-BDF1-4A41C640AC5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maior parte do século XX, documentos de identificação vêm sendo as ferramentas primárias para comprovação da identida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se nisso: você aceitaria três quilos de ouro de uma pessoa que você não conhece como pagamento pela compra de seu carro 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os cartões de identificação não criam um ambiente comercial seg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s precisam de um sistema legal que os regulamen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undo físico os participantes do negócio, geralmente, têm conhecimento da localização física uns dos out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iberespaço as coisas não são tão simples assim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95E-4690-4B93-AE2D-95E7E29596C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ode ser bastante difícil para negociantes on-line tentar determinar os nomes de seus clientes, ou tentar verificar se a pessoa que está do outro lado existe mesmo e diz ser quem realmente é ????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DC9-883E-47A4-BFB6-9D1BDE1A6C9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Vulnerabilidades das redes</a:t>
            </a:r>
            <a:r>
              <a:rPr b="0" i="1" lang="pt-BR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962520"/>
            <a:ext cx="77724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057400"/>
            <a:ext cx="8305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io físico compartilh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gs d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ros de configu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ção-padr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s vulnerá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has de autentic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053-BA93-45E3-9BB0-010AD93209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undo físico uma maneira de comprovar a identidade é carregar consigo um documento emitido por um órgão confiável: SSP, DETRAN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omprovar a identidade as credenciais contam com o bom nome e reputação de um governo ou est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as credenciais de identificação são a prova de fraude(alteração) ou, pelo menos, resistentes á e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as também devem ser a prova de falsificação (clon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4E2-CE5B-466B-8484-3BE06F52180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baseados em sen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s: qualquer pessoa pode se passar por você uma vez que não existe um método de identificação que identifique físicamente ou as pessoas se esquecem das senhas ou colocam senhas óbv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kens Físicos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objeto físico que você pode carregar com você para provar sua identidade e garantir o seu acess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s: se você perder seu token, qualquer pessoa poderá se passar por você e são facilmente falsifi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sistema não autoriza o indivíduo, ele autoriza o token e por isso deve ser associado à identificação por senha (cartão de banc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FAF-E20A-47B5-A474-3768160D57A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828800"/>
            <a:ext cx="777240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das Biométric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método que identifica uma pessoa pelas características físicas (medição das características de um ser viv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ser bastante confiáveis mas oferecem vários empecilhos: informações devem estar armazenadas previamente em um BD, alto custo de equipamento que é vulnerável à sabotagem e frau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geralmente combinadas com senhas ou tok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o em sistemas GPS (Sistema de Localização Glob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46240" y="93024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FFF-3511-4AC1-9C40-8B32C491D4F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melhorar as técnicas de identificação, podemos fazer uso de Assinaturas Eletrônic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uma tecnologia que permite conduzir transações eletrônicas através da Internet, ou em ambientes correlatos, como extranets e intrane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feita diretamente em formulários eletrônicos ou em documentos diversos que caracterizam estas transações como contratos, cartas, memorandos, planilhas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É uma digitalização da assinatura feita de próprio punho e sua “colagem” em documentos eletrônic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um sistema de códigos para identificação e autenticação dos signatários (quem assina), que é tratado por um software especialmente desenvolvido para essa finalida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28E-052B-4BE3-8CB5-EBB336A2DF1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16002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funciona uma Assinatura Eletrônica 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Uma assinatura digital é um “selo eletrônico” que pode ser enviado durante qualquer transação eletrônica. Semelhante a um selo de um pacote de encomenda, a assinatura digital previne que alguém possa alterar quer o conteúdo da informação, quer os dados do verdadeiro emissor do conteúdo. Qualquer mudança na informação, nem que seja uma vírgula, será detectada quando essa assinatura digital for verificad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Para criar uma assinatura digital é necessário primeiro que o emissor da mensagem gere uma versão da mensagem (versão reduzida, 160 bits por exemplo), conhecida por código Hash ou código da mensagem. Este código, gerado por algoritmos públicos (SHA-1, MD5, etc), é único para o texto original. Basta alterar ligeiramente o texto original para que o código então gerado seja completamente diferent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A2D-2EB9-4D18-A5C5-EA1329C79D0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57200" y="1219320"/>
            <a:ext cx="82296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r ex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nha que Alice (origem) queira comunicar o nascimento de sua filha para seus amigos (destinatário = BOB), mas queira garantir aos mesmos que a mensagem foi enviada por ela. E, embora não se importe com o sigilo da mensagem, deseja que a mesma chegue íntegra aos destinatários, sem alterações como, por exemplo, do sexo da criança.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lice então cifra a mensagem com sua chave privada e a envia, em um processo denomina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sinatura Digital (eletrônica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Cada um que receber a mensagem deverá decifrá-la, ou seja, verificar a validade da assinatura digital utilizando para isso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have pública de Alic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 chave pública de Alice somente decifra mensagens cifradas com sua chave privada, fica garantida assim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utenticidade, integridade e não-repudi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mensag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A assinatura digital não garante a confidencialidade da mensagem</a:t>
            </a:r>
            <a:r>
              <a:rPr b="0" lang="pt-BR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296-6219-492C-9214-C00B62A531A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1935000"/>
            <a:ext cx="82296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a Confidencialidade ?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garantir a confidencialidade com assinatura digital, basta combinar os dois mét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sso exemplo, Alice primeiro assina a mensagem, utilizando sua chave privada. Em seguida, ela criptografa a mensagem novamente, junto com sua assinatura, utilizando a chave pública de Bo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b, ao receber a mensagem, deve, primeiramente, decifrá-la com sua chave privada, o que garante a privacidade da mensag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, decifrá-la novamente com a chave pública de Alice, verificando assim a autenticidade da mensag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AE5-A8F4-4836-A4DE-5496E7D66D3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57200" y="1066680"/>
            <a:ext cx="8305920" cy="55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s entidades envolvidas na troca de mensagens podem garantir a identidade mútu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A resposta é simples: através de </a:t>
            </a:r>
            <a:r>
              <a:rPr b="1" i="1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Certificados Digitais</a:t>
            </a: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, emitidos por uma terceira parte confiáv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Um </a:t>
            </a:r>
            <a:r>
              <a:rPr b="1" i="1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CERTIFICADO DIGITAL</a:t>
            </a: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 é um documento eletrônico que tem como aspecto principal duas chaves, uma pública e uma privada (mantida em segurança e sigilo pelo titular do certificado) geradas por </a:t>
            </a:r>
            <a:r>
              <a:rPr b="0" i="1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criptografia assimétr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Esse par de chaves tem uma série de características importantes. Primeiro, embora elas sejam matematicamente relacionadas, é impossível calcular uma chave a partir da outra (assimetria). Segundo, uma chave desempenha a função inversa da outra: o que uma faz, a outra pode desfaz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3333"/>
                </a:solidFill>
                <a:latin typeface="Arial"/>
                <a:ea typeface="Arial"/>
              </a:rPr>
              <a:t>O certificado digital é obtido de uma Autoridade Certificadora e contém o nome do titular (pessoa física ou jurídica), o número de série, a data da sua validade, a chave pública do titular e a assinatura (eletrônica) da Autoridade Certificadora, que garante o próprio certifi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601-D053-4DC0-91DD-D702F4373E4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2133720"/>
            <a:ext cx="830592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é uma Autoridade Certificadora (CA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PT" sz="2000" spc="-1" strike="noStrike">
                <a:solidFill>
                  <a:srgbClr val="003333"/>
                </a:solidFill>
                <a:latin typeface="Arial"/>
                <a:ea typeface="Arial"/>
              </a:rPr>
              <a:t>É uma entidade, pública ou privada, que estabelece previamente a identidade do futuro portador do certificado digital (pessoa física ou jurídica), através dos documentos necessários e emite esse certifi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PT" sz="2000" spc="-1" strike="noStrike">
                <a:solidFill>
                  <a:srgbClr val="003333"/>
                </a:solidFill>
                <a:latin typeface="Arial"/>
                <a:ea typeface="Arial"/>
              </a:rPr>
              <a:t>A Autoridade Certificadora, para ter seus certificados legalmente reconhecidos no Brasil, o que é obrigatório para transações com órgãos públicos, tem que ser garantida pela Autoridade Certificadora Raiz (Instituto Nacional de Tecnologia da Informação), ao cumprir uma série de exigências de seguranç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A32-4830-48DD-B951-96561E597AB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33520" y="2133720"/>
            <a:ext cx="83055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ridades Certificadoras no Br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1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utoridades Internacio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Veri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Balti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1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utoridades Nacionais Priv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ssociação dos Notá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Registradores do Bras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6AC-9D03-4FD8-9881-AFCE9123BF6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838080"/>
            <a:ext cx="69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Vulnerabilidades das red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438280"/>
            <a:ext cx="7467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ção física: má proteção física de equipamentos e míd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ídia: roubo, perda, dano físico, desgaste de discos, fit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ransmissão: interceptação de sinal, monitoramento, gram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Humana: desleixo, preguiça, estupidez, ganância, revol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6EE-8C9E-4EFF-AA1F-82293779A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2209680"/>
            <a:ext cx="83055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galidade no Br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Tornou-se legal através de Medida Provisória 2.200, com força de lei, que está na segunda reedi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Há uma série de decretos que complementam e acompanham essa M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804-E1A1-4D7F-83B1-4D9829614EB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33520" y="2209680"/>
            <a:ext cx="830556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Certifi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Certificados de órgãos de certific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Certificados de Serv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Certificados Pesso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Certificados de fabricantes d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écnicas de Identificação Digital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5A7-29D8-4696-A0F0-F02AB803C67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2060640"/>
            <a:ext cx="830592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istemas criptográficos disponíveis na Internet podem ser divididos em duas par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Usados para criptografia de correio eletrônico : PGP, S/MI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Sistemas criptográficos associados a protocolos de rede para oferecer confidencialidade, autenticação, integridade e não-repúdio: SSL, PCT, S-HTTP, SET e CyberCash, DNSSEC, IPSec e IPv6, Kerberos e SS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Sistemas Criptográficos na Interne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0E3-2C0C-426F-9F5A-C1A408E0AFA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457200" y="1066680"/>
            <a:ext cx="8229600" cy="5407200"/>
            <a:chOff x="457200" y="1066680"/>
            <a:chExt cx="8229600" cy="5407200"/>
          </a:xfrm>
        </p:grpSpPr>
        <p:sp>
          <p:nvSpPr>
            <p:cNvPr id="370" name=""/>
            <p:cNvSpPr/>
            <p:nvPr/>
          </p:nvSpPr>
          <p:spPr>
            <a:xfrm>
              <a:off x="6629400" y="601668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, autenticaçã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428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RSA, Diffie-Hellman, DES, Triple-DES, Blowfish e outro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95280" y="60166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Terminal remoto criptografad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200" y="60166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SH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9400" y="555948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, autenticaçã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24280" y="55594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DE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95280" y="55594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egurança de rede para aplicações de alto nível (MIT – não usa chaves públicas)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55594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Kerbero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9400" y="510228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 (opcional), autenticação, integridad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24280" y="5102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Diffie-Hellman e outro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95280" y="5102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rotocolo de nível inferior para criptografia de pacotes I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51022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IPSec e IPv6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9400" y="4645080"/>
              <a:ext cx="205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Autenticação e integridad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24280" y="4645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RSA, MD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95280" y="46450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istema seguro de nome de domíni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" y="46450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DNSSEC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3639960"/>
              <a:ext cx="20574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 de números de cartão de crédito apenas; integridade de mensagem; autenticação de comprador e vendedor, e não-repúdio de transações.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280" y="3639960"/>
              <a:ext cx="1905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RSA, MD5, RC2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5280" y="3639960"/>
              <a:ext cx="34290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rotocolos para enviar instruções de pagamento eletrônico com segurança pela Internet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200" y="3639960"/>
              <a:ext cx="83808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ET e CyberCash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2909880"/>
              <a:ext cx="205740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, autenticação, integridade e não-repúdio, no entanto é obsolet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24280" y="2909880"/>
              <a:ext cx="19051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RSA, DES e outro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5280" y="2909880"/>
              <a:ext cx="342900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rotocolo para criptografia de requisições e respostas HTTP (é um protocolo morto, não implementado)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200" y="2909880"/>
              <a:ext cx="8380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-HTT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9400" y="25146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, autenticação, integridade e não-repúdi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24280" y="2514600"/>
              <a:ext cx="190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RSA, RCZ, RC4, MD5 e outro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95280" y="2514600"/>
              <a:ext cx="3429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rotocolo para criptografar transmissões de TCP/IP (semelhante ao SSL)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" y="2514600"/>
              <a:ext cx="838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2100240"/>
              <a:ext cx="20574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, autenticação, integridade e não-repúdi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24280" y="2100240"/>
              <a:ext cx="19051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RSA, RCZ, RC4, MD5 e outro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95280" y="2100240"/>
              <a:ext cx="34290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rotocolo para criptografar transmissões de TCP/I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7200" y="2100240"/>
              <a:ext cx="8380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S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9400" y="17049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, autenticação, integridade e não-repúdi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4280" y="1704960"/>
              <a:ext cx="190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pecificado pelo usuári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95280" y="1704960"/>
              <a:ext cx="3429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Formato para criptografia de correio eletrônic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200" y="1704960"/>
              <a:ext cx="838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S/MIM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9400" y="13096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Confidencialidade, autenticação, integridade e não-repúdi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24280" y="1309680"/>
              <a:ext cx="190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IDEA, RSA, MD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95280" y="1309680"/>
              <a:ext cx="3429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Aplicativo para criptografia de correio eletrônic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" y="1309680"/>
              <a:ext cx="838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GP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9400" y="1066680"/>
              <a:ext cx="2057400" cy="243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Oferec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4280" y="1066680"/>
              <a:ext cx="1905120" cy="243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Algoritm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95280" y="1066680"/>
              <a:ext cx="3429000" cy="243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O que é ?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1066680"/>
              <a:ext cx="838080" cy="243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Sistema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200" y="1066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" y="1309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7200" y="647388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7200" y="1066680"/>
              <a:ext cx="0" cy="540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5280" y="1066680"/>
              <a:ext cx="0" cy="540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1066680"/>
              <a:ext cx="0" cy="540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29400" y="1066680"/>
              <a:ext cx="0" cy="540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86800" y="1066680"/>
              <a:ext cx="0" cy="540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95280" y="1066680"/>
              <a:ext cx="7391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1704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2100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200" y="29098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7200" y="3639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200" y="4645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" y="5102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" y="55594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6016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3F7-DB03-4BBD-B6DB-87CD426F056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57200" y="1981080"/>
            <a:ext cx="830592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SL – Secure Sock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É um protocolo de uso geral para o envio de informações criptografadas pela Interne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Desenvolvido pela Netscape, é o protocolo de criptografia mais pop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Hoje em dia, foi incorporado à maioria dos naveg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Também usado para aplicações fora da WEB, como Teln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IETF – Internet Engineering Task Force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esta desenvolvendo um outro protocolo baseado no SSL que é o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TLS – Transport Layer Security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6240" y="6091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Sistemas Criptográficos na Interne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788-E3C4-437F-8200-447339631C3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80880" y="1828800"/>
            <a:ext cx="830592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é SSL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É uma camada que existe entre o protocolo TCP/IP e o aplica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Enquanto o protocolo TCP/IP tem a função de enviar um fluxo de informações anônimo entre dois computadores, a SSL adiciona numerosos recursos a esse fluxo. Entre eles s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utenticação e não-repúdio do servidor, usando assinaturas digitai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utenticação e não-repúdio do cliente, usando assinaturas digitai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Confidencialidade dos dados, por meio de criptografi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Integridade dos dados, por meio de códigos de autenticação de mensag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46240" y="93024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Sistemas Criptográficos na Interne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609-141C-4931-9A32-B0E982F6BCF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57200" y="2209680"/>
            <a:ext cx="830592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sões da S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O protocolo foi criado pela Netscape, SSL 1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Foi lançado pela Microsoft um um protocolo similar chamado PCT, que resolveu alguns problemas da SSL 2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 Netscape aproveitou o PCT e incorporou novas características ao SSL 3.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O protocolo SSL 3.0 está servindo como base para a criação do TLS, desenvolvido pela Força Tarefa de Engenharia da Intern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246240" y="93024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Sistemas Criptográficos na Interne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6D5-2233-41EE-A83D-A7A4C38B958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2971800" y="1371600"/>
          <a:ext cx="328788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371600"/>
                    <a:ext cx="32878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626-D9C8-4701-AC08-2367D8FEE72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mecanismos que visam identificar padrões previamente conhecidos em arquivos, diretórios ou tráfegos de rede, analisam sequência de eventos previamente conhecidos, ou não, registram e podem tomar ações defensivas e contrame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detectores de intrusão podem ser programas isolados ou embutidos em algum equipamento proprietário (hardwar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1FC-BA9F-4EF4-96D1-904D09983CD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8580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ferramenta de IDS deve possuir algumas característica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e rodar continuamente sem interação humana e deve ser segura o suficiente de forma a permitir sua operação em background, mas não deve ser uma caixa preta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e ter tolerância a falhas, de forma a não ser afetada por uma falha do sistema, ou seja, sua base de conhecimento não deve ser perdida quando o sistema for reinicializado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e resistir a tentativas de mudança ( subversão ) de sua base, ou seja, deve monitorar a si próprio de forma a garantir sua segurança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er ter o mínimo de impacto no funcionamento do sistema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e detectar mudanças no funcionamento normal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e ser de fácil configuração, cada sistema possui padrões diferentes e a ferramenta de IDS deve ser adaptada de forma fácil aos diversões padrõ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e cobrir as mudanças do sistema durante o tempo, como no caso de uma nova aplicação que comece a fazer parte do sistema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ve ser difícil de ser enganad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398520" y="91440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FEC-F5AB-417A-986C-202BB788ACA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Tipos de ataques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a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m conjunto de ações que tenta comprometer a integridade, o sigilo, ou a disponibilidade de um recurso comput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74320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aque sobre o fluxo de informaçã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ção: ataca a disponibilid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terceptação: ataca a confidencia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ção: ataca a integr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abricação: ataca a autentic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aque pass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eptação, monitoramento, análise de tráf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aque 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ulteração, fraude, reprodução (imitação), bloque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62C-3F84-44A5-8747-DCF222BD8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váveis erros que podem ocorrer em IDS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04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lso posi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corre quando a ferramenta classifica uma ação como uma possível intrusão, quando na verdade trata-se de uma ação legítim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lso nega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corre quando uma intrusão real acontece mas a ferramenta permite que ela passe como se fosse uma ação legítima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ver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corre quando o intruso modifica a operação da ferramenta de IDS para forçar a ocorrência de falso negativ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190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839-C4D3-432E-BCEA-23F0C6C8CB3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981080"/>
            <a:ext cx="853416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dos em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ificadores de Integridade (File Integr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tecção Local (Hosts I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tecção em Rede (Network I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C55-50C0-4630-A398-C21081F095E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3520" y="1828800"/>
            <a:ext cx="830556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CADORES DE INTEGR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gem de forma preventiva, mantendo uma base de dados com informações sobre arquivos, diretórios e outras informações do sistema, base de registros, e testando a imagem do ambiente periodic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Qualquer alteração de tamanho, data, conteúdo é detectada e entendida que o sistema foi violado, portanto, as informações da base de dados devem ser atualizadas sempre que houver qualquer alteração no amb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Para tal, a base de dados deve ser guardada em local separado, de preferência, em meio protegido contra gravação. As vezes até criptograf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BA1-C761-4DC7-92BC-F5AEE1DD402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533520" y="2133720"/>
            <a:ext cx="830556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ÇÃO LOCAL (HOST I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Identificam quando determinada porta TCP ou UDP e em alguns casos, tipos de ICMP, está sendo requisitada remotamente, e normalmente o programa monitora determinadas portas reconhecidamente sujeitas a ataqu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Qualquer tentativa de acesso é registrada e em alguns detectores é possível definir outras ações como, por exemplo, bloquear um endereço, identificar assinaturas de pacotes reconhecidamente usados em ataques (mais usad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7FA-263C-42AB-92C0-146DFC325AC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533520" y="1862280"/>
            <a:ext cx="830556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ÇÃO LOCAL (HOST I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Outra característica desejada é a possibilidade de identificar acessos anormais não somente para o equipamento, mas também as originadas neste, coibindo dessa maneira o envio de informações ou abertura de conexões sem o conhecimento do usuári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Problemas: podem ocorrer alertas falsos levando o bloqueio de endereços legais. Para que isto não ocorra critérios de bloqueio devem ser estabelecidos e uma lista de endereços não-bloqueáveis deve ser implementa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Softwares: PortSentry, ZoneAlarm, SurfinGuard, IPLog, Attack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7EC-4568-4034-9E84-67E84B7AE31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533520" y="2100240"/>
            <a:ext cx="8305560" cy="44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ÇÃO EM REDE (Network I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Permitem identificar ataques conhecidos mediante padrões previamente conhecidos ou n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Tecnicamente, um NDIS tem a capacidade de “ouvir” um segmento de re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Limitaçõ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A maioria dos NDIS identifica ataques baseados em um banco de dados, e dessa maneira um novo tipo de ataque não será detectado a menos que de alguma maneira o banco seja atualizado, caso contrário o ataque não será identifi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Possível Solução: existem regras genéricas que permitem identificar “anomalias” no tráfego da re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ED1-BE25-4477-9A13-324F1960B38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3520" y="1890720"/>
            <a:ext cx="8305560" cy="46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ÇÃO EM REDE (Network I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3333"/>
                </a:solidFill>
                <a:latin typeface="Arial"/>
                <a:ea typeface="Arial"/>
              </a:rPr>
              <a:t>Tcpdump</a:t>
            </a:r>
            <a:r>
              <a:rPr b="1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Um dos mais antigos analisadores de tráfego de rede. Faz uso do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PCAP (Libpc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Libcap é a biblioteca mais popular pela sua grande portabilidade e disponibilidade na maioria dos sistemas UNIX e, mais recentemente, Wind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O Tcpdump pode tratar qualquer elementos dos dos principais protocolos de rede, o que confere ao programa uma flexibilidade impressiona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Limitação: não permite filtrar pacotes que contenham determinadas palavras (conteúd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FEF-DBDD-4810-8871-AD58389CFEB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33520" y="1890720"/>
            <a:ext cx="83055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ÇÃO EM REDE (Network I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3333"/>
                </a:solidFill>
                <a:latin typeface="Arial"/>
                <a:ea typeface="Arial"/>
              </a:rPr>
              <a:t>Ngrep</a:t>
            </a: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Alguns tipos de ataques somente são identificados se o conteúdo dos pacotes puderem ser analisados. Para tal, faz-se uso de uma ferramenta mais adequada que é o </a:t>
            </a:r>
            <a:r>
              <a:rPr b="0" i="1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Network Global Regular Expression (NGREP)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O Ngrep procura padrões (palavras, combinações, cadeias) em pacotes de re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3333"/>
                </a:solidFill>
                <a:latin typeface="Arial"/>
                <a:ea typeface="Arial"/>
              </a:rPr>
              <a:t>Também utiliza o Libpc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16F-F457-4498-A2E8-5A0E82C95C3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33520" y="2119320"/>
            <a:ext cx="830556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ÇÃO EM REDE (Network I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3333"/>
                </a:solidFill>
                <a:latin typeface="Arial"/>
                <a:ea typeface="Arial"/>
              </a:rPr>
              <a:t>Sn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É o detector de intruso, de livre distribuição, mais conhecido atualmen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Funcionamento baseado em assinaturas (base de dados) porém, permite agregar uma série de módulos (pugins) com funcionalidades bem-definid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Limitações: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necessita atualização a cada novo ataq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i="1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Solução: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adição de assinaturas genéricas que permitem identificar anomalia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E5D-6630-42AA-AA2F-DD93A173B85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33520" y="1920960"/>
            <a:ext cx="830556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de Reg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Regras muito genérica vão entender que acessos legítimos como ataques (falso-positivo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Regras muito seletivas podem deixar escapar alguns ataques (false-negativ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O grande desafio do administrador é proceder o ajuste fino de maneira que consiga eliminar os falsos-positivos porém, não permite nenhum falso-negativ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3333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Existem alguns procedimentos que auxiliam no refinamento da criação de regras: </a:t>
            </a:r>
            <a:r>
              <a:rPr b="0" i="1" lang="pt-BR" sz="2200" spc="-1" strike="noStrike">
                <a:solidFill>
                  <a:srgbClr val="003333"/>
                </a:solidFill>
                <a:latin typeface="Arial"/>
                <a:ea typeface="Arial"/>
              </a:rPr>
              <a:t>envio de alertas, detectores ativos, detectores passivos e análise de lo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398520" y="108252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6600"/>
                </a:solidFill>
                <a:latin typeface="Times New Roman"/>
              </a:rPr>
              <a:t>Detectores de Intrusos (ID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0A0-67AC-40AB-8195-63B2066698C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20:48:10Z</dcterms:created>
  <dc:creator>User</dc:creator>
  <dc:description/>
  <dc:language>en-US</dc:language>
  <cp:lastModifiedBy>CMCG</cp:lastModifiedBy>
  <dcterms:modified xsi:type="dcterms:W3CDTF">2002-07-14T02:34:51Z</dcterms:modified>
  <cp:revision>472</cp:revision>
  <dc:subject/>
  <dc:title>Técnicas e ferramentas de defesa</dc:title>
</cp:coreProperties>
</file>