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8BDB-7C47-4AB8-804C-FEAC1ADF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24D-2AAE-47EA-A5A7-44124E3E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F810-5F52-4365-97F8-1E5792D6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73CF-2A92-4302-A33E-9B49B1C1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EE58-3610-4011-919B-CF603B5E3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AA0F-6888-4A5A-83E1-164E69FF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D2F8-E661-49D7-97B7-1264527F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F4E2-7B2D-4EC1-BEBB-64A82FAA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17C4-0A56-48B7-9CA0-BD6BE90C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1242-1F2E-40F1-9C97-554A4E73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3A21-D3D3-4FD5-A1A8-D6839C9D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403-1681-44B8-AFF9-34705F9A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33A2-A6B9-4FC6-8300-F45E1D66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FDEE-0888-4F39-9CDE-2F40C0FE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E3F1-71ED-42FC-919E-3C4FED0A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457E-F5D5-40D5-9FC7-38D10488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855D-8A19-49A5-893E-90EC13DB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06C-2999-4961-96DD-48C7EF0A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094-8496-4E40-B0F3-5EC35D31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5C1-5698-4BE0-8212-BABABE83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822-991A-43EE-8706-15823EFC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BC09-0D11-4CD1-AF2F-27C0334C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76D2-5BF0-4FDC-B4A9-8A465B93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210-9736-4B7A-81BA-6E373CDA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567640" cy="62676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74840" y="942840"/>
            <a:ext cx="8669160" cy="86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392E-2593-45D2-9085-0487895518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480"/>
            <a:ext cx="8567640" cy="6267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3040" y="3159000"/>
            <a:ext cx="8669520" cy="856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3DDF-A097-4300-B847-694B452734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-360" y="41148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e46f"/>
                </a:solidFill>
                <a:latin typeface="Times New Roman"/>
              </a:rPr>
              <a:t>Prof. Dr. Marcelo Augusto Santos Tu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e46f"/>
                </a:solidFill>
                <a:latin typeface="Times New Roman"/>
              </a:rPr>
              <a:t>mast@dct.ufms.b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e46f"/>
                </a:solidFill>
                <a:latin typeface="Times New Roman"/>
              </a:rPr>
              <a:t>http://www.dct.ufms.br/~tur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46f"/>
                </a:solidFill>
                <a:latin typeface="Times New Roman"/>
              </a:rPr>
              <a:t>DCT-UF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e46f"/>
                </a:solidFill>
                <a:latin typeface="Times New Roman"/>
              </a:rPr>
              <a:t>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Tópicos em Sistemas de Informação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2193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Fundamentos Organizacionai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Hardware: Dispositivos de Entrada, Processamento e Saída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Software: Programação, Sistemas e Software A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Organização de Dados 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Telecomunicações: Meios e Dispositivos - Redes e Apl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 Internet e a nova Infra-estrutura de Tecnologia da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80880" y="1905120"/>
            <a:ext cx="8763120" cy="2895480"/>
            <a:chOff x="380880" y="1905120"/>
            <a:chExt cx="8763120" cy="2895480"/>
          </a:xfrm>
        </p:grpSpPr>
        <p:sp>
          <p:nvSpPr>
            <p:cNvPr id="122" name=""/>
            <p:cNvSpPr/>
            <p:nvPr/>
          </p:nvSpPr>
          <p:spPr>
            <a:xfrm>
              <a:off x="380880" y="1905120"/>
              <a:ext cx="8610840" cy="2895480"/>
            </a:xfrm>
            <a:prstGeom prst="wedgeRectCallout">
              <a:avLst>
                <a:gd name="adj1" fmla="val 4185"/>
                <a:gd name="adj2" fmla="val 55481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3520" y="1965240"/>
              <a:ext cx="8610480" cy="255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escrever as novas características de infra-estrutura de TI e padrões de conectivida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iscutir como é realizado o trabalho na Intern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valiar os benefícios que a Internet oferece as organizações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iscutir as principais tecnologias de comércio eletrônic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nalisar os problemas das novas T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C52-F8D6-4413-B045-13F46AE5CC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2193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Fundamentos Organizacionai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Hardware: Dispositivos de Entrada, Processamento e Saída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Software: Programação, Sistemas e Software A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Organização de Dados 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Telecomunicações: Meios e Dispositivos - Redes e Apl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A Internet e a nova Infra-estrutura de Tecnologia da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egurança e controle em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2280" y="3276720"/>
            <a:ext cx="8457840" cy="2209680"/>
            <a:chOff x="152280" y="3276720"/>
            <a:chExt cx="8457840" cy="2209680"/>
          </a:xfrm>
        </p:grpSpPr>
        <p:sp>
          <p:nvSpPr>
            <p:cNvPr id="127" name=""/>
            <p:cNvSpPr/>
            <p:nvPr/>
          </p:nvSpPr>
          <p:spPr>
            <a:xfrm>
              <a:off x="152280" y="3276720"/>
              <a:ext cx="8310960" cy="2209680"/>
            </a:xfrm>
            <a:prstGeom prst="wedgeRectCallout">
              <a:avLst>
                <a:gd name="adj1" fmla="val 4185"/>
                <a:gd name="adj2" fmla="val 55481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520" y="3322800"/>
              <a:ext cx="8310600" cy="19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iscutir porque os SIs são também vulneráveis a destruição, erros, abusos e problemas de qualidade de sistem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parar controles gerais e de aplicação para 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crever as técnicas mais importantes de garantia de qualidade de softwa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DD4-D914-43B9-B9F5-BBD05074EB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2193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Fundamentos Organizacionai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Hardware: Dispositivos de Entrada, Processamento e Saída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Software: Programação, Sistemas e Software A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Organização de Dados 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Telecomunicações: Meios e Dispositivos - Redes e Apl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Segurança e controle em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Legislação e Impactos Sociais e Éticos de 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0880" y="1447920"/>
            <a:ext cx="8763120" cy="3850920"/>
            <a:chOff x="380880" y="1447920"/>
            <a:chExt cx="8763120" cy="3850920"/>
          </a:xfrm>
        </p:grpSpPr>
        <p:sp>
          <p:nvSpPr>
            <p:cNvPr id="132" name=""/>
            <p:cNvSpPr/>
            <p:nvPr/>
          </p:nvSpPr>
          <p:spPr>
            <a:xfrm>
              <a:off x="380880" y="1447920"/>
              <a:ext cx="8610840" cy="3809880"/>
            </a:xfrm>
            <a:prstGeom prst="wedgeRectCallout">
              <a:avLst>
                <a:gd name="adj1" fmla="val 4185"/>
                <a:gd name="adj2" fmla="val 30166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3520" y="1508040"/>
              <a:ext cx="8610480" cy="37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Analisar os aspectos éticos, sociais e políticos que surgem com os SI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sar as dimensões morais de uma socidade da Informação e aplicá-las em situaçõe específic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plicar os princípios éticos de condu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Leis de Software (Lei no. 9609 de 19 de fevereiro de 1998)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Regulamentação da Internet no Brasil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Crimes de Computado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Direito Civil e a Informátic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47A9-A552-40F2-9EF5-6D29DA9B8E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219320"/>
            <a:ext cx="8305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O profissional de Sistemas de Informação tem a responsabilidade geral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Desenvolve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Implementa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 Unicode MS"/>
              </a:rPr>
              <a:t>Gerencia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 uma infra-estrutura de tecnologia da informação (computadores e comunicação), dados (internos e externos) e sistemas que abrangem toda a organizaçã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5C4-958F-4243-9182-A675F0FC38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219320"/>
            <a:ext cx="8305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m a responsabilidade de fazer prospecção de novas tecnologias da informação e auxiliar na sua incorporação às estratégias, planejamento e práticas da organização. A função também apóia sistemas de tecnologia da informação departamentais e individuai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4C4-2915-4C7F-9312-88BB7F6D45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62160" y="198360"/>
            <a:ext cx="4213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I - METODOLOG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las expositivas correspondentes ao programa do cur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squisa, apresentação e Implementação d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studos de Cas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 serem analisados por times de alunos em sala de aul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ussão d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mas da atualida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enfoque gerencial) de Sistemas de Informação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ara serem analisados por times de alunos em sala de aul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alização d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minári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temas da atualidade  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 times de alunos em data previamente marcad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542-3EBB-4BFC-9D0D-C1637C0759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61800" y="198360"/>
            <a:ext cx="556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V- BIBLIOGRAFIA BÁS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Management Information System – Organization and Technolog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Kenneth C. Laundon, Jane P. Laundon, 6ª edição, Prentice-Hall, 2000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(livro tex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Príncípios de Sistemas de Informação – Uma Abordagem Gerenc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Ralph M. Stair,  LTC,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MCT - Ministério da Ciência e Tecnologia. Sociedade da Informação no Brasil - Livro Verde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 Brasília, Setembro 2000, 195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970-B439-4541-A8C9-5F175DDEB0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61080" y="198360"/>
            <a:ext cx="762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V- BIBLIOGRAFIA COMPLEMENT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Management Information Systems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Effy Oz, International Thomson Publishing Company-ITP,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Information Technology for Manag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Henry C. Lucas Jr., McGraw-Hill, 19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Engenharia de Software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. Pressman, R. S. 5a. edição. MAKRON Books, 2000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55E-6194-43D5-B850-935C2B5F7D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5040" y="152280"/>
            <a:ext cx="7940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cc99"/>
                </a:solidFill>
                <a:latin typeface="Arial"/>
              </a:rPr>
              <a:t>Management Information System – Organization and Technology  </a:t>
            </a: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(livro tex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e 1 :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undamentos Organizacionais de Sistemas de Informaçã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e 2: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undamentos Técnico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e 3: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bordagens Contemporâneas de Construção de Sistemas de Informaçã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e 4: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istemas de Apoio Organizacional e Administrativo/Gerenciamen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te 5: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dministração dos atuais S.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4C8-8AC1-410E-AFFF-EF9AFE7076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60360" y="198360"/>
            <a:ext cx="6261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 - CRITÉRIO DE AVALIAÇÃ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371600"/>
            <a:ext cx="8534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EXERCÍCIOS/TRABALH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Serão realizados exercícios (análise dos estudos de caso , discussão de artigos de temas da atualidade) em sala de aul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PROV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Serão 2 provas, cujas datas de realização estão marcadas no cronogram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EMINÁRI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Serão realizados pelos times e apresentados em sala de aula, de acordo com o cronogra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3BA-B166-4AAA-91C4-5FB50FD32F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5040" y="198360"/>
            <a:ext cx="329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- OBJE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1295280"/>
            <a:ext cx="7956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 atuais 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Sistemas de Informaçã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ão de natureza tanto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 técnic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quanto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 soc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s administradores devem entender o relacionamento entre os 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componentes técnic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um sistema de informação e a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 estrutura, as funções e as polític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a organizaçã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 disciplina objetiva colocar os 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sistemas de informaçã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o contexto das 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organizaçõ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CDBA-F730-4FD1-B8E4-F405337055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63120"/>
            <a:ext cx="7772400" cy="3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mas e Datas dos Seminários I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Gestão do Conhecimento - Profissional de T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-Busines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56600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-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Procurement,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Marketplace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, Portal,  B2B / B2C/ B2G / B2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RP (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nterprise Resource Planning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M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ustomer Relationship Management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usiness Intellig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6600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DataWareHouse / Data Min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Groupware - WorkFlow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utsourcing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de 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6600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SP e BPO</a:t>
            </a:r>
            <a:r>
              <a:rPr b="1" lang="pt-BR" sz="2000" spc="-1" strike="noStrike">
                <a:solidFill>
                  <a:srgbClr val="ff9966"/>
                </a:solidFill>
                <a:latin typeface="Times New Roman"/>
              </a:rPr>
              <a:t> / </a:t>
            </a:r>
            <a:r>
              <a:rPr b="0" i="1" lang="pt-BR" sz="2000" spc="-1" strike="noStrike">
                <a:solidFill>
                  <a:srgbClr val="ffffff"/>
                </a:solidFill>
                <a:latin typeface="Times New Roman"/>
              </a:rPr>
              <a:t>WASP (Wireless Application Services Providers)</a:t>
            </a: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Informática Jurídica e É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egurança em Redes 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irewall,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riptografia ), Vírus e Hac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5000"/>
              <a:buFont typeface="Monotype Sorts" charset="2"/>
              <a:buChar char=""/>
              <a:tabLst>
                <a:tab algn="l" pos="1243080"/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Tecnologia WA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566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2486160"/>
                <a:tab algn="l" pos="3728880"/>
                <a:tab algn="l" pos="4971960"/>
                <a:tab algn="l" pos="6215040"/>
                <a:tab algn="l" pos="7458120"/>
                <a:tab algn="l" pos="8701200"/>
                <a:tab algn="l" pos="99442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3495-4A22-4E9B-9D59-64F8C24F36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720" y="198360"/>
            <a:ext cx="6159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 - CRITÉRIO DE AVALI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3716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CÁLCULO DA MÉDI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M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Média das Notas dos Exercícios/Trabal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N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(Nota da Prova + Nota do Seminário) /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N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Nota Fi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N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 (7NPS + 3ME) / 1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1500"/>
              </a:spcBef>
              <a:buClr>
                <a:srgbClr val="ff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Arial"/>
              </a:rPr>
              <a:t>Exame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atéria do semestre to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45C-C737-48C7-A09D-F484486E16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55680" y="198360"/>
            <a:ext cx="63115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VI – 1ª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Tarefas para Próxima a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447920"/>
            <a:ext cx="6934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7720" indent="-457200">
              <a:lnSpc>
                <a:spcPct val="100000"/>
              </a:lnSpc>
              <a:buClr>
                <a:srgbClr val="ffe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7720" indent="-457200">
              <a:lnSpc>
                <a:spcPct val="100000"/>
              </a:lnSpc>
              <a:buClr>
                <a:srgbClr val="ffe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46f"/>
                </a:solidFill>
                <a:latin typeface="Arial"/>
              </a:rPr>
              <a:t>Montar Times, dar nomes e e-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7720" indent="-457200">
              <a:lnSpc>
                <a:spcPct val="100000"/>
              </a:lnSpc>
              <a:buClr>
                <a:srgbClr val="ffe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46f"/>
                </a:solidFill>
                <a:latin typeface="Arial"/>
              </a:rPr>
              <a:t>Gerar lista de Times para Trabal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7720" indent="-457200">
              <a:lnSpc>
                <a:spcPct val="100000"/>
              </a:lnSpc>
              <a:buClr>
                <a:srgbClr val="ffe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46f"/>
                </a:solidFill>
                <a:latin typeface="Arial"/>
              </a:rPr>
              <a:t>Analisar Sites de 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7720" indent="-457200">
              <a:lnSpc>
                <a:spcPct val="100000"/>
              </a:lnSpc>
              <a:buClr>
                <a:srgbClr val="ffe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46f"/>
                </a:solidFill>
                <a:latin typeface="Arial"/>
              </a:rPr>
              <a:t>Pesquisar bibliografias e artigos sobre 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7720" indent="-457200">
              <a:lnSpc>
                <a:spcPct val="100000"/>
              </a:lnSpc>
              <a:buClr>
                <a:srgbClr val="ffe46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e46f"/>
                </a:solidFill>
                <a:latin typeface="Arial"/>
              </a:rPr>
              <a:t>Ler Capítulo introdutório de SI (Laudon)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4772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e46f"/>
                </a:solidFill>
                <a:latin typeface="Arial"/>
              </a:rPr>
              <a:t>discutir o “</a:t>
            </a:r>
            <a:r>
              <a:rPr b="1" i="1" lang="pt-BR" sz="2400" spc="-1" strike="noStrike" u="sng">
                <a:solidFill>
                  <a:srgbClr val="ffe46f"/>
                </a:solidFill>
                <a:uFillTx/>
                <a:latin typeface="Arial"/>
              </a:rPr>
              <a:t>Papel do Profissional de TI </a:t>
            </a:r>
            <a:r>
              <a:rPr b="0" lang="pt-BR" sz="2400" spc="-1" strike="noStrike">
                <a:solidFill>
                  <a:srgbClr val="ffe46f"/>
                </a:solidFill>
                <a:latin typeface="Arial"/>
              </a:rPr>
              <a:t>em tim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742-A5D2-4D83-B17C-96C81692C8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65040" y="198360"/>
            <a:ext cx="3292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 - OBJETIV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295280"/>
            <a:ext cx="7956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apacitar os alunos na automação dos SIs nas organizações, reunindo a tecnologia da computação e a tecnologia da administ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xplicar como a tecnologia Internet tem transformado organizações e modelos de negó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squisar as novas tecnologias na área de 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DFD-904D-4A72-BFA3-3548943DED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2193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undamentos Organizacionai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4FF-3C9E-4C59-88B0-B1C3BC1E4D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2193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Fundamentos Organizacionai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480" y="2209680"/>
            <a:ext cx="8305920" cy="4464360"/>
            <a:chOff x="609480" y="2209680"/>
            <a:chExt cx="8305920" cy="4464360"/>
          </a:xfrm>
        </p:grpSpPr>
        <p:sp>
          <p:nvSpPr>
            <p:cNvPr id="97" name=""/>
            <p:cNvSpPr/>
            <p:nvPr/>
          </p:nvSpPr>
          <p:spPr>
            <a:xfrm>
              <a:off x="609480" y="2209680"/>
              <a:ext cx="8229600" cy="4419720"/>
            </a:xfrm>
            <a:prstGeom prst="wedgeRectCallout">
              <a:avLst>
                <a:gd name="adj1" fmla="val 694"/>
                <a:gd name="adj2" fmla="val -59375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5800" y="2286000"/>
              <a:ext cx="8229600" cy="43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898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986"/>
                  </a:solidFill>
                  <a:latin typeface="Arial"/>
                </a:rPr>
                <a:t>Conceito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de Sistema de Informa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898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986"/>
                  </a:solidFill>
                  <a:latin typeface="Arial"/>
                </a:rPr>
                <a:t>Perspectiva técnica e comportamenta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dos Sistemas de Informação, com especial atenção às dimensões </a:t>
              </a:r>
              <a:r>
                <a:rPr b="1" lang="en-US" sz="2000" spc="-1" strike="noStrike">
                  <a:solidFill>
                    <a:srgbClr val="008986"/>
                  </a:solidFill>
                  <a:latin typeface="Arial"/>
                </a:rPr>
                <a:t>administrativa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008986"/>
                  </a:solidFill>
                  <a:latin typeface="Arial"/>
                </a:rPr>
                <a:t>organizacionai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e</a:t>
              </a:r>
              <a:r>
                <a:rPr b="1" lang="en-US" sz="2000" spc="-1" strike="noStrike">
                  <a:solidFill>
                    <a:srgbClr val="008986"/>
                  </a:solidFill>
                  <a:latin typeface="Arial"/>
                </a:rPr>
                <a:t> tecnológica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nos Sistemas de Informação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898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986"/>
                  </a:solidFill>
                  <a:latin typeface="Arial"/>
                </a:rPr>
                <a:t>Mudança do Processo de Gerenciamento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 o papel crítico que os Sistemas de Informação têm nas organizações, sua interdependência, e a necessidade de planejar a arquitetura da informa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898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986"/>
                  </a:solidFill>
                  <a:latin typeface="Arial"/>
                </a:rPr>
                <a:t>Desafios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s Sistemas de Informação para os administradores - Questões-cha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ncipais </a:t>
              </a:r>
              <a:r>
                <a:rPr b="1" lang="en-US" sz="2000" spc="-1" strike="noStrike">
                  <a:solidFill>
                    <a:srgbClr val="008986"/>
                  </a:solidFill>
                  <a:latin typeface="Arial"/>
                </a:rPr>
                <a:t>Tipos de Sistema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de Informação na Organiza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D64-E7D0-4EDC-BCE1-8FA9C58DB9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21932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Fundamentos Organizacionai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Hardware: Dispositivos de Entrada, Processamento e Saída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57200" y="3124080"/>
            <a:ext cx="8305920" cy="3124440"/>
            <a:chOff x="457200" y="3124080"/>
            <a:chExt cx="8305920" cy="3124440"/>
          </a:xfrm>
        </p:grpSpPr>
        <p:sp>
          <p:nvSpPr>
            <p:cNvPr id="102" name=""/>
            <p:cNvSpPr/>
            <p:nvPr/>
          </p:nvSpPr>
          <p:spPr>
            <a:xfrm>
              <a:off x="457200" y="3124080"/>
              <a:ext cx="8229600" cy="3124440"/>
            </a:xfrm>
            <a:prstGeom prst="wedgeRectCallout">
              <a:avLst>
                <a:gd name="adj1" fmla="val 15527"/>
                <a:gd name="adj2" fmla="val -66208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3520" y="3224160"/>
              <a:ext cx="8229600" cy="3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reender o papel da tecnologia em um sistema de informa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ever o poder, a velocidade e a capacidade dos dispositivos de processamento central e memór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ever o método de acesso, a capacidade e a portabilidade de dispositivos de armazenamento secundár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utir a velocidade, a funcionalidade e a importância dos dispositivos  de entrada e saíd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A8B9-B7F9-4DE8-990E-D59FC3A419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2193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Fundamentos Organizacionai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Hardware: Dispositivos de Entrada, Processamento e Saída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 papel dos softwares na Tecnologia da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920" y="3657600"/>
            <a:ext cx="8305560" cy="3124080"/>
            <a:chOff x="304920" y="3657600"/>
            <a:chExt cx="8305560" cy="3124080"/>
          </a:xfrm>
        </p:grpSpPr>
        <p:sp>
          <p:nvSpPr>
            <p:cNvPr id="107" name=""/>
            <p:cNvSpPr/>
            <p:nvPr/>
          </p:nvSpPr>
          <p:spPr>
            <a:xfrm>
              <a:off x="304920" y="3657600"/>
              <a:ext cx="8229600" cy="3124080"/>
            </a:xfrm>
            <a:prstGeom prst="wedgeRectCallout">
              <a:avLst>
                <a:gd name="adj1" fmla="val 2430"/>
                <a:gd name="adj2" fmla="val -59754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3800520"/>
              <a:ext cx="8229600" cy="28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utir a importância e tipos de softwa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umerar e discutir as funções de algumas linguagens de programação popula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ortância das linguagens avançadas, naturais e intelige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ever as funções dos softwares de sistemas e de sistemas operaciona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ever o suporte fornecidos pelos softwares aplicati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0C5-6F2D-4E56-B23D-43A2227053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2193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Fundamentos Organizacionai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Hardware: Dispositivos de Entrada, Processamento e Saída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Software: Programação, Sistemas e Software A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rganização de Dados 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4920" y="4267080"/>
            <a:ext cx="8610480" cy="2190600"/>
            <a:chOff x="304920" y="4267080"/>
            <a:chExt cx="8610480" cy="2190600"/>
          </a:xfrm>
        </p:grpSpPr>
        <p:sp>
          <p:nvSpPr>
            <p:cNvPr id="112" name=""/>
            <p:cNvSpPr/>
            <p:nvPr/>
          </p:nvSpPr>
          <p:spPr>
            <a:xfrm>
              <a:off x="304920" y="4277880"/>
              <a:ext cx="8610480" cy="2179800"/>
            </a:xfrm>
            <a:prstGeom prst="wedgeRectCallout">
              <a:avLst>
                <a:gd name="adj1" fmla="val -370"/>
                <a:gd name="adj2" fmla="val -56250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920" y="4267080"/>
              <a:ext cx="8610480" cy="20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reender os conceitos gerais de gerenciamento de da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utir as diferenças entre as abordagens do gerenciamento de dados orientados para arquivos e para bancos de da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utir vários tipos de banco de dados e novas tendênci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screver o uso de gerenciamento de banco de dad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FAB-3F7A-418B-BF4B-8EED52DDCC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240"/>
            </a:gs>
            <a:gs pos="50000">
              <a:srgbClr val="008986"/>
            </a:gs>
            <a:gs pos="100000">
              <a:srgbClr val="0042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1800" y="198360"/>
            <a:ext cx="3285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I - PROG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2193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Fundamentos Organizacionais de Sistemas d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Hardware: Dispositivos de Entrada, Processamento e Saída de D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Software: Programação, Sistemas e Software Apli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ac"/>
                </a:solidFill>
                <a:latin typeface="Arial"/>
              </a:rPr>
              <a:t>Organização de Dados e Inform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elecomunicações: Meios e Dispositivos - Redes e Apli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80880" y="1066680"/>
            <a:ext cx="8763120" cy="2923920"/>
            <a:chOff x="380880" y="1066680"/>
            <a:chExt cx="8763120" cy="2923920"/>
          </a:xfrm>
        </p:grpSpPr>
        <p:sp>
          <p:nvSpPr>
            <p:cNvPr id="117" name=""/>
            <p:cNvSpPr/>
            <p:nvPr/>
          </p:nvSpPr>
          <p:spPr>
            <a:xfrm>
              <a:off x="380880" y="1066680"/>
              <a:ext cx="8610840" cy="2895840"/>
            </a:xfrm>
            <a:prstGeom prst="wedgeRectCallout">
              <a:avLst>
                <a:gd name="adj1" fmla="val 4185"/>
                <a:gd name="adj2" fmla="val 55481"/>
              </a:avLst>
            </a:prstGeom>
            <a:solidFill>
              <a:srgbClr val="ffff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1127160"/>
              <a:ext cx="8610480" cy="28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utir a importância das telecomunicaçõ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utir o tipo e características dos meios de telecomunicaçõ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utir o uso e a importância  dos vários dispositivos de telecomunicaçõ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tender as redes que ligamos computadores e integram recursos de computad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cutir as topologias de red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ópicos em Sistemas de Informação - Prof. Dr. Marcelo Turine (2002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586-5793-4DD6-BC1F-E5F45D1BA3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31T04:09:20Z</dcterms:created>
  <dc:creator>ICMSC - LDCC</dc:creator>
  <dc:description/>
  <dc:language>en-US</dc:language>
  <cp:lastModifiedBy>DCT-UFMS</cp:lastModifiedBy>
  <cp:lastPrinted>1998-04-01T14:36:28Z</cp:lastPrinted>
  <dcterms:modified xsi:type="dcterms:W3CDTF">2002-03-13T20:29:06Z</dcterms:modified>
  <cp:revision>288</cp:revision>
  <dc:subject/>
  <dc:title>Avaliação e Melhoria de Qualidade de Software</dc:title>
</cp:coreProperties>
</file>