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8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240" y="643896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03C397D-6395-462D-B8C9-F4FD561D54F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049480" y="6303960"/>
            <a:ext cx="492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Copyright 2002 by Prof. Dr. Marcelo Turine /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Tópicos em Sistemas de Info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ocinfo.org.br/" TargetMode="External"/><Relationship Id="rId2" Type="http://schemas.openxmlformats.org/officeDocument/2006/relationships/hyperlink" Target="http://www.socinfo.org.br/" TargetMode="External"/><Relationship Id="rId3" Type="http://schemas.openxmlformats.org/officeDocument/2006/relationships/hyperlink" Target="http://www.socinfo.org.br/" TargetMode="External"/><Relationship Id="rId4" Type="http://schemas.openxmlformats.org/officeDocument/2006/relationships/hyperlink" Target="http://www.socinfo.org.br/" TargetMode="External"/><Relationship Id="rId5" Type="http://schemas.openxmlformats.org/officeDocument/2006/relationships/hyperlink" Target="http://www.socinfo.org.br/" TargetMode="External"/><Relationship Id="rId6" Type="http://schemas.openxmlformats.org/officeDocument/2006/relationships/hyperlink" Target="http://www.socinfo.org.br/" TargetMode="External"/><Relationship Id="rId7" Type="http://schemas.openxmlformats.org/officeDocument/2006/relationships/hyperlink" Target="http://www.socinfo.org.br/" TargetMode="External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2619360"/>
            <a:chOff x="0" y="0"/>
            <a:chExt cx="9144000" cy="2619360"/>
          </a:xfrm>
        </p:grpSpPr>
        <p:graphicFrame>
          <p:nvGraphicFramePr>
            <p:cNvPr id="41" name=""/>
            <p:cNvGraphicFramePr/>
            <p:nvPr/>
          </p:nvGraphicFramePr>
          <p:xfrm>
            <a:off x="0" y="0"/>
            <a:ext cx="9144000" cy="26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26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" name=""/>
            <p:cNvSpPr/>
            <p:nvPr/>
          </p:nvSpPr>
          <p:spPr>
            <a:xfrm>
              <a:off x="476280" y="7239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   u   l 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165240" y="1117440"/>
            <a:ext cx="1828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vantGarde Bk B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98640" y="2838600"/>
            <a:ext cx="5791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MINISTRANDO A EMPRESA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ês Fenômenos interrelacionad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960" y="19810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1) A </a:t>
            </a:r>
            <a:r>
              <a:rPr b="1" i="1" lang="pt-BR" sz="3200" spc="-1" strike="noStrike">
                <a:solidFill>
                  <a:srgbClr val="fc0128"/>
                </a:solidFill>
                <a:latin typeface="Lucida Sans"/>
                <a:ea typeface="Times New Roman"/>
              </a:rPr>
              <a:t>convergência da base tecnológica</a:t>
            </a: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 (Conteúdo, Computação, Comunicação) decorre do fato de se poder representar e processar tudo de uma única form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c0128"/>
                </a:solidFill>
                <a:latin typeface="Arial"/>
                <a:ea typeface="Times New Roman"/>
              </a:rPr>
              <a:t>A </a:t>
            </a:r>
            <a:r>
              <a:rPr b="1" lang="pt-BR" sz="4000" spc="-1" strike="noStrike">
                <a:solidFill>
                  <a:srgbClr val="fc0128"/>
                </a:solidFill>
                <a:latin typeface="Lucida Sans"/>
                <a:ea typeface="Times New Roman"/>
              </a:rPr>
              <a:t>Digital</a:t>
            </a:r>
            <a:r>
              <a:rPr b="1" lang="pt-BR" sz="4000" spc="-1" strike="noStrike">
                <a:solidFill>
                  <a:srgbClr val="fc0128"/>
                </a:solidFill>
                <a:latin typeface="Arial"/>
                <a:ea typeface="Times New Roman"/>
              </a:rPr>
              <a:t> 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801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Lucida Sans"/>
                <a:ea typeface="Times New Roman"/>
              </a:rPr>
              <a:t>Convergência da base tecnológic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198108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Times New Roman"/>
              </a:rPr>
              <a:t>Pela digitalização, a computação (a informática e suas aplicações), as comunicações (transmissão e recepção de dados, voz, imagens etc.), e os conteúdos (livros, filmes, pinturas, fotografias, música etc.), se aproximam vertiginosamente – o computador vira um aparelho de TV, a foto favorita sai do álbum para um disquete, e pelo telefone entra-se na Internet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Dinâmica da Indústri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</a:rPr>
              <a:t>2) Dinâmica da Indústria </a:t>
            </a: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que tem proporcionado contínua queda dos preços dos computadores relativamente à potência computacional, permitindo a vulgarização do uso dessas máquinas.</a:t>
            </a:r>
            <a:r>
              <a:rPr b="1" lang="pt-BR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9600" y="1981080"/>
            <a:ext cx="8325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3) O F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antástico</a:t>
            </a:r>
            <a:r>
              <a:rPr b="1" i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 crescimento da </a:t>
            </a:r>
            <a:r>
              <a:rPr b="1" i="1" lang="pt-BR" sz="4400" spc="-1" strike="noStrike">
                <a:solidFill>
                  <a:srgbClr val="fc0128"/>
                </a:solidFill>
                <a:latin typeface="Lucida Sans"/>
                <a:ea typeface="Tahoma"/>
              </a:rPr>
              <a:t>Internet</a:t>
            </a:r>
            <a:endParaRPr b="1" lang="en-US" sz="44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nos EUA, a Internet atingiu 50 milhões de usuários em somente quatro anos, ao passo que, para atingir esse número de usuários, o computador pessoal tardou dezesseis, a televisão treze, e o rádio trinta e oito anos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Outro dado que corrobora a velocidade de disseminação da Internet é o da</a:t>
            </a:r>
            <a:r>
              <a:rPr b="1" i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 Conectividade Internacional (1991-1998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88136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43344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Conectividade Internacional e Internet (1991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8136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-2667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Arial"/>
                <a:ea typeface="Tahoma"/>
              </a:rPr>
              <a:t>Conectividade Internacional e Internet (1997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69560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A Sociedade da Informação não é um modismo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Representa uma profunda mudança na organização da sociedade e da economia, havendo quem a considere um </a:t>
            </a:r>
            <a:r>
              <a:rPr b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novo paradigma técnico-econômico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É um </a:t>
            </a:r>
            <a:r>
              <a:rPr b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fenômeno global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, com elevado potencial transformador das atividades sociais e econômicas, uma vez que a estrutura e a dinâmica dessas atividades fatalmente serão, em alguma medida, afetadas pela infra-estrutura de informações disponível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 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É também acentuada sua </a:t>
            </a:r>
            <a:r>
              <a:rPr b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dimensão político-econômica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, decorrente da contribuição da infra-estrutura de informações para que as regiões sejam mais ou menos atraentes em relação aos negócios e empreendimentos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Sua importância assemelha-se à de uma boa estrada de rodagem para o sucesso econômico das localidades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Tem ainda marcante </a:t>
            </a:r>
            <a:r>
              <a:rPr b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dimensão social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, em virtude do seu elevado potencial de promover a integração, ao reduzir as distâncias entre pessoas e aumentar o seu nível de informação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Não é despida de </a:t>
            </a:r>
            <a:r>
              <a:rPr b="1" lang="pt-BR" sz="2800" spc="-1" strike="noStrike">
                <a:solidFill>
                  <a:srgbClr val="fc0128"/>
                </a:solidFill>
                <a:latin typeface="Lucida Sans"/>
                <a:ea typeface="Tahoma"/>
              </a:rPr>
              <a:t>riscos</a:t>
            </a: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, entretanto. Noventa por cento da população do planeta jamais teve acesso ao telefone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Como evitar, então, que as novas tecnologias aumentem mais a disparidade social entre as pessoas, as nações e os blocos de países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Os países e blocos políticos, desde meados da década de 90, defrontam-se com as oportunidades e os riscos que cercam o futuro e, reconhecendo a importância estratégica da sociedade da informação, vêm tomando iniciativas para assegurar que essa nova era venha em seu benefício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0128"/>
                </a:solidFill>
                <a:latin typeface="Arial"/>
              </a:rPr>
              <a:t>O que são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0128"/>
                </a:solidFill>
                <a:latin typeface="Arial"/>
              </a:rPr>
              <a:t>Para que servem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c0128"/>
                </a:solidFill>
                <a:latin typeface="Arial"/>
              </a:rPr>
              <a:t>Como funcionam?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istemas de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 - BRASI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5480" y="1981080"/>
            <a:ext cx="8553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Em cada país, a sociedade da informação está se construindo em meio a diferentes condições e projetos de desenvolvimento social, segundo estratégias adequadas a cada contexto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As tecnologias envolvidas vêm transformando as estruturas e as práticas de produção, comercialização e consumo e de cooperação e competição entre os agentes, alterando, enfim, a própria cadeia de geração de valor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 - BRASI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Tahoma"/>
                <a:ea typeface="Tahoma"/>
              </a:rPr>
              <a:t>Do mesmo modo, regiões, segmentos sociais, setores econômicos, organizações e indivíduos são afetados diferentemente pelo novo paradigma, em </a:t>
            </a:r>
            <a:r>
              <a:rPr b="1" lang="pt-BR" sz="3200" spc="-1" strike="noStrike">
                <a:solidFill>
                  <a:srgbClr val="003399"/>
                </a:solidFill>
                <a:latin typeface="Tahoma"/>
                <a:ea typeface="Tahoma"/>
              </a:rPr>
              <a:t>função das condições de acesso à informação, da base de conhecimentos e, sobretudo, da capacidade de aprender e inovar.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ociedade da Informação - BRASI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ae00"/>
                </a:solidFill>
                <a:latin typeface="Tahoma"/>
                <a:ea typeface="Tahoma"/>
              </a:rPr>
              <a:t>LIVRO VERD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Tahoma"/>
                <a:ea typeface="Tahoma"/>
              </a:rPr>
              <a:t>Ministério da Ciência e Tecnologi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Tahoma"/>
                <a:ea typeface="Tahoma"/>
              </a:rPr>
              <a:t>Setembro 2000, 195p (8 Capítulos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1"/>
              </a:rPr>
              <a:t>http</a:t>
            </a: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2"/>
              </a:rPr>
              <a:t>://www.</a:t>
            </a: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3"/>
              </a:rPr>
              <a:t>socinfo</a:t>
            </a: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4"/>
              </a:rPr>
              <a:t>.</a:t>
            </a: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5"/>
              </a:rPr>
              <a:t>org</a:t>
            </a: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6"/>
              </a:rPr>
              <a:t>.</a:t>
            </a:r>
            <a:r>
              <a:rPr b="1" lang="pt-BR" sz="3200" spc="-1" strike="noStrike" u="sng">
                <a:solidFill>
                  <a:srgbClr val="fc0128"/>
                </a:solidFill>
                <a:uFillTx/>
                <a:latin typeface="Tahoma"/>
                <a:ea typeface="Tahoma"/>
                <a:hlinkClick r:id="rId7"/>
              </a:rPr>
              <a:t>br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52480"/>
            <a:ext cx="2286000" cy="365760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Informação e Conhec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886040"/>
            <a:ext cx="11430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ados br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7524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1752480"/>
            <a:ext cx="5486400" cy="1608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Informações não estrutura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Relacionadas aos ambientes interno e externo da organização, suas transações, etc (notas fiscais, contratos, notícias, ofícios, memorandos, etc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3174840"/>
            <a:ext cx="1828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ados estrutu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0400" y="3335400"/>
            <a:ext cx="5486400" cy="7855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Informações estrutu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Planilhas, tabelas de BD, relatóri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4576680"/>
            <a:ext cx="19051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343400"/>
            <a:ext cx="5486400" cy="1059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Informações process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Dados sumarizados, classificados, armazenados, analisados e interpretados, et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2590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88620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5791320"/>
            <a:ext cx="82296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/conhecimento como base para tomada de deci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6880" y="21337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335268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648320"/>
            <a:ext cx="381240" cy="304560"/>
          </a:xfrm>
          <a:prstGeom prst="rightArrow">
            <a:avLst>
              <a:gd name="adj1" fmla="val 50000"/>
              <a:gd name="adj2" fmla="val 3129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Informação e Tomada de Deci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360" y="2173320"/>
            <a:ext cx="9594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93000" y="1974960"/>
            <a:ext cx="18450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3120" y="2146320"/>
            <a:ext cx="17931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9320" y="3213000"/>
            <a:ext cx="158904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94560" y="4280040"/>
            <a:ext cx="8236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382080" y="5346720"/>
            <a:ext cx="15202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3080" y="4822920"/>
            <a:ext cx="293616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sos Passad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cisões, Problema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periê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BS02064_" descr=""/>
          <p:cNvPicPr/>
          <p:nvPr/>
        </p:nvPicPr>
        <p:blipFill>
          <a:blip r:embed="rId1"/>
          <a:stretch/>
        </p:blipFill>
        <p:spPr>
          <a:xfrm>
            <a:off x="4325760" y="3033720"/>
            <a:ext cx="1600200" cy="1592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27560" y="406080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Tom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de Decis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59080" y="2971800"/>
            <a:ext cx="474840" cy="1676520"/>
          </a:xfrm>
          <a:prstGeom prst="upArrow">
            <a:avLst>
              <a:gd name="adj1" fmla="val 50000"/>
              <a:gd name="adj2" fmla="val 8826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78400" y="2209680"/>
            <a:ext cx="1617480" cy="250920"/>
          </a:xfrm>
          <a:prstGeom prst="rightArrow">
            <a:avLst>
              <a:gd name="adj1" fmla="val 50000"/>
              <a:gd name="adj2" fmla="val 16115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2560" y="23083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93000" y="26128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3000" y="3679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93000" y="4746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11560" y="5486400"/>
            <a:ext cx="1236960" cy="250920"/>
          </a:xfrm>
          <a:prstGeom prst="leftArrow">
            <a:avLst>
              <a:gd name="adj1" fmla="val 50000"/>
              <a:gd name="adj2" fmla="val 123242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1371600"/>
            <a:ext cx="4800600" cy="3218040"/>
            <a:chOff x="0" y="1371600"/>
            <a:chExt cx="4800600" cy="3218040"/>
          </a:xfrm>
        </p:grpSpPr>
        <p:sp>
          <p:nvSpPr>
            <p:cNvPr id="123" name="Cloud"/>
            <p:cNvSpPr/>
            <p:nvPr/>
          </p:nvSpPr>
          <p:spPr>
            <a:xfrm>
              <a:off x="0" y="1371600"/>
              <a:ext cx="4800600" cy="3218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2666880"/>
              <a:ext cx="914400" cy="838440"/>
            </a:xfrm>
            <a:prstGeom prst="octagon">
              <a:avLst>
                <a:gd name="adj" fmla="val 29287"/>
              </a:avLst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47920" y="2895480"/>
              <a:ext cx="838080" cy="152640"/>
            </a:xfrm>
            <a:prstGeom prst="rightArrow">
              <a:avLst>
                <a:gd name="adj1" fmla="val 50000"/>
                <a:gd name="adj2" fmla="val 137264"/>
              </a:avLst>
            </a:prstGeom>
            <a:solidFill>
              <a:srgbClr val="99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7920" y="3048120"/>
              <a:ext cx="761760" cy="152280"/>
            </a:xfrm>
            <a:prstGeom prst="leftArrow">
              <a:avLst>
                <a:gd name="adj1" fmla="val 50000"/>
                <a:gd name="adj2" fmla="val 125059"/>
              </a:avLst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2895480"/>
              <a:ext cx="761760" cy="152640"/>
            </a:xfrm>
            <a:prstGeom prst="leftArrow">
              <a:avLst>
                <a:gd name="adj1" fmla="val 50000"/>
                <a:gd name="adj2" fmla="val 124764"/>
              </a:avLst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0728600">
              <a:off x="2666160" y="304776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1980720" y="365760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133360" y="2361960"/>
              <a:ext cx="762120" cy="152640"/>
            </a:xfrm>
            <a:prstGeom prst="leftArrow">
              <a:avLst>
                <a:gd name="adj1" fmla="val 50000"/>
                <a:gd name="adj2" fmla="val 124823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167000">
              <a:off x="2133360" y="3733200"/>
              <a:ext cx="762120" cy="152640"/>
            </a:xfrm>
            <a:prstGeom prst="leftArrow">
              <a:avLst>
                <a:gd name="adj1" fmla="val 50000"/>
                <a:gd name="adj2" fmla="val 124823"/>
              </a:avLst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167000">
              <a:off x="1980720" y="2361960"/>
              <a:ext cx="762120" cy="152280"/>
            </a:xfrm>
            <a:prstGeom prst="leftArrow">
              <a:avLst>
                <a:gd name="adj1" fmla="val 50000"/>
                <a:gd name="adj2" fmla="val 125118"/>
              </a:avLst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82880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Sistemas de Informa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O que sã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0280" y="4724280"/>
            <a:ext cx="7505640" cy="21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SI pode ser definido como um conjunto de componentes inter-relacionados trabalhando juntos para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coletar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recuperar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processar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armazenar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pt-BR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stribuir</a:t>
            </a:r>
            <a:r>
              <a:rPr b="1" lang="pt-BR" sz="2200" spc="-1" strike="noStrike">
                <a:solidFill>
                  <a:srgbClr val="000000"/>
                </a:solidFill>
                <a:latin typeface="Times New Roman"/>
              </a:rPr>
              <a:t> informação com a finalidade de facilitar o planejamento, o controle, a coordenação, a análise e o processo decisório em empresas e organizaçõ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2590920"/>
            <a:ext cx="533160" cy="761760"/>
          </a:xfrm>
          <a:prstGeom prst="downArrow">
            <a:avLst>
              <a:gd name="adj1" fmla="val 50000"/>
              <a:gd name="adj2" fmla="val 35719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5280" y="41148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29160" y="1809720"/>
            <a:ext cx="2819520" cy="100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rganização: Recursos e ações direcionados a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3352680"/>
            <a:ext cx="281916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Transaçõ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666880"/>
            <a:ext cx="2514600" cy="457200"/>
          </a:xfrm>
          <a:custGeom>
            <a:avLst/>
            <a:gdLst>
              <a:gd name="textAreaLeft" fmla="*/ 450000 w 2514600"/>
              <a:gd name="textAreaRight" fmla="*/ 1772280 w 25146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35" hR="21600" stAng="10800000" swAng="5400000"/>
                <a:lnTo>
                  <a:pt x="11357" y="0"/>
                </a:lnTo>
                <a:arcTo wR="7735" hR="21600" stAng="-5400000" swAng="2975021"/>
                <a:lnTo>
                  <a:pt x="21264" y="15300"/>
                </a:lnTo>
                <a:lnTo>
                  <a:pt x="17280" y="21600"/>
                </a:lnTo>
                <a:lnTo>
                  <a:pt x="12624" y="15300"/>
                </a:lnTo>
                <a:lnTo>
                  <a:pt x="15133" y="15300"/>
                </a:lnTo>
                <a:arcTo wR="7735" hR="21600" stAng="-2424979" swAng="-2679281"/>
                <a:lnTo>
                  <a:pt x="9546" y="600"/>
                </a:lnTo>
                <a:arcTo wR="7735" hR="21600" stAng="-5695739" swAng="-5104261"/>
                <a:close/>
              </a:path>
              <a:path fill="darkenLess" w="21600" h="21600">
                <a:moveTo>
                  <a:pt x="0" y="21600"/>
                </a:moveTo>
                <a:arcTo wR="7735" hR="21600" stAng="10800000" swAng="5400000"/>
                <a:lnTo>
                  <a:pt x="7735" y="0"/>
                </a:lnTo>
                <a:arcTo wR="7735" hR="21600" stAng="-5400000" swAng="295739"/>
                <a:lnTo>
                  <a:pt x="9546" y="600"/>
                </a:lnTo>
                <a:arcTo wR="7735" hR="21600" stAng="-5695739" swAng="-5104261"/>
                <a:close/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ultidisciplinarida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Times New Roman"/>
              </a:rPr>
              <a:t>O estudo de Sistemas de Informação bem como o seu desenvolvimento envolve perspectivas múltiplas e conhecimentos multidisciplinares que incluem diversos campos do conhecimento tais como, ciência da computação, ciência comportamental, ciência da decisão, ciências gerenciais, ciências políticas, pesquisa operacional, sociologia, e contabilidade.</a:t>
            </a: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85840" y="131436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Arial Unicode MS"/>
              </a:rPr>
              <a:t>A atividade de desenvolvimento de sistemas para processos organizacionais e inter-organizacionais envolve o uso criativo de tecnologia da informação para aquisição de dados, comunicação, coordenação, análise e apoio à decisão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Arial Unicode MS"/>
              </a:rPr>
              <a:t>Há métodos, técnicas, tecnologia e metodologias para essa atividade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Arial Unicode MS"/>
              </a:rPr>
              <a:t>A criação de sistemas em organizações inclui questões de inovação, qualidade, sistemas homem-máquina, interfaces homem-máquina, projetos sócio-técnicos e gerenciamento de mudanças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560" y="266400"/>
            <a:ext cx="8839080" cy="600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 Unicode MS"/>
                <a:ea typeface="Arial Unicode MS"/>
              </a:rPr>
              <a:t>Sistemas de Informação podem ser definidos como uma combinação de recursos humanos e computacionais que interrelacionam a coleta, o armazenamento, a recuperação, a distribuição e o uso de dados com o objetivo de eficiência gerencial (planejamento, controle, comunicação e tomada de decisão), nas organizações.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 Unicode MS"/>
                <a:ea typeface="Arial Unicode MS"/>
              </a:rPr>
              <a:t>Adicionalmente, os sistemas de informação podem também ajudar os gerentes e os usuários a analisar problemas, criar novos produtos e serviços e visualizar questões complexas.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66400" y="198108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Esta visão indica que Sistemas de Informação são sistemas sociais compostos de tecnologia de informação que exigem investimentos sociais, organizacionais e intelectuais para faze-los funcionar adequadamente.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Assistir televisão, falar ao telefone, movimentar a conta no terminal bancário e, pela Internet, verificar multas de trânsito, comprar discos, trocar mensagens com o outro lado do planeta, pesquisar e estudar são hoje atividades cotidianas, no mundo inteiro e no Brasil.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28800" y="2895480"/>
            <a:ext cx="3352680" cy="3276720"/>
          </a:xfrm>
          <a:prstGeom prst="rect">
            <a:avLst/>
          </a:prstGeom>
          <a:solidFill>
            <a:srgbClr val="dddddd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676520"/>
            <a:ext cx="7086600" cy="129528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Sistemas de Informa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ara que serv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0360" y="2173320"/>
            <a:ext cx="9594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493000" y="1974960"/>
            <a:ext cx="18450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243120" y="2146320"/>
            <a:ext cx="17931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49320" y="3213000"/>
            <a:ext cx="158904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94560" y="4280040"/>
            <a:ext cx="8236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82080" y="5346720"/>
            <a:ext cx="15202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20040" y="4822920"/>
            <a:ext cx="280044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sos Passad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cisõs, Problemas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peri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BS02064_" descr=""/>
          <p:cNvPicPr/>
          <p:nvPr/>
        </p:nvPicPr>
        <p:blipFill>
          <a:blip r:embed="rId1"/>
          <a:stretch/>
        </p:blipFill>
        <p:spPr>
          <a:xfrm>
            <a:off x="4325760" y="3033720"/>
            <a:ext cx="1600200" cy="1592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227560" y="4060800"/>
            <a:ext cx="121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Tom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 Narrow"/>
              </a:rPr>
              <a:t>de Decis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59080" y="2971800"/>
            <a:ext cx="474840" cy="1676520"/>
          </a:xfrm>
          <a:prstGeom prst="upArrow">
            <a:avLst>
              <a:gd name="adj1" fmla="val 50000"/>
              <a:gd name="adj2" fmla="val 88268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78400" y="2209680"/>
            <a:ext cx="1617480" cy="250920"/>
          </a:xfrm>
          <a:prstGeom prst="rightArrow">
            <a:avLst>
              <a:gd name="adj1" fmla="val 50000"/>
              <a:gd name="adj2" fmla="val 161155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82560" y="23083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93000" y="26128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993000" y="3679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993000" y="4746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1560" y="5486400"/>
            <a:ext cx="1236960" cy="250920"/>
          </a:xfrm>
          <a:prstGeom prst="leftArrow">
            <a:avLst>
              <a:gd name="adj1" fmla="val 50000"/>
              <a:gd name="adj2" fmla="val 123242"/>
            </a:avLst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295280"/>
            <a:ext cx="838080" cy="520560"/>
          </a:xfrm>
          <a:prstGeom prst="rect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308640"/>
            <a:ext cx="9144000" cy="398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io à execução de tarefas, gerência e suporte à tomada de deci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Para que servem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980720"/>
            <a:ext cx="85532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Times New Roman"/>
              </a:rPr>
              <a:t>Sistemas de Informação são mais conhecidos pelos benefícios que trazem para a gestão dos negócios em que se tenta eliminar os desperdícios, as tarefas demasiadamente repetitivas, com ou sem o uso de papel, de maneira a melhorar o controle dos custos, a qualidade do produto ou serviço, maximizando os benefícios alcançados com a utilização de tecnologia da informação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880" y="1085760"/>
            <a:ext cx="8439120" cy="542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fc0128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 Unicode MS"/>
                <a:ea typeface="Arial Unicode MS"/>
              </a:rPr>
              <a:t>Para melhorar a eficiência gerencial, os Sistemas de Informação das organizações devem ser integrados e serem projetados para antecipar as incertezas do futuro em um ambiente dinâmico que inclui, além dos seus usuários e desenvolvedores, o relacionamento com outras organizações como: clientes (com finalidade comercial ou social), fornecedores, competidores, agências de regulamentação, etc.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30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Ambiente de Negóci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295960" y="1558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7640" y="5067360"/>
            <a:ext cx="222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nologia  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72160" y="5257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505320" y="3581280"/>
            <a:ext cx="2380680" cy="1797120"/>
            <a:chOff x="3505320" y="3581280"/>
            <a:chExt cx="2380680" cy="1797120"/>
          </a:xfrm>
        </p:grpSpPr>
        <p:sp>
          <p:nvSpPr>
            <p:cNvPr id="176" name=""/>
            <p:cNvSpPr/>
            <p:nvPr/>
          </p:nvSpPr>
          <p:spPr>
            <a:xfrm>
              <a:off x="3669480" y="3733560"/>
              <a:ext cx="2216520" cy="16448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05320" y="3581280"/>
              <a:ext cx="2216520" cy="16444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54000" y="3809880"/>
              <a:ext cx="1903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</a:rPr>
                <a:t>Sistema de Informaçã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629240" y="2968560"/>
            <a:ext cx="19080" cy="822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35320" y="441972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439640" cy="1524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70520" y="1428840"/>
            <a:ext cx="1206360" cy="14889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6543720" y="3327480"/>
            <a:ext cx="2349360" cy="183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345280" y="44388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8705880" cy="6400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5640" y="1009440"/>
            <a:ext cx="0" cy="12985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20840" y="3294000"/>
            <a:ext cx="1671480" cy="121932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81240" y="1552680"/>
            <a:ext cx="1671480" cy="124776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20840" y="4875120"/>
            <a:ext cx="1671480" cy="127800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13200" y="3328920"/>
            <a:ext cx="133668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046400" y="3459240"/>
            <a:ext cx="1136520" cy="777600"/>
            <a:chOff x="4046400" y="3459240"/>
            <a:chExt cx="1136520" cy="777600"/>
          </a:xfrm>
        </p:grpSpPr>
        <p:sp>
          <p:nvSpPr>
            <p:cNvPr id="192" name=""/>
            <p:cNvSpPr/>
            <p:nvPr/>
          </p:nvSpPr>
          <p:spPr>
            <a:xfrm>
              <a:off x="4046400" y="3459240"/>
              <a:ext cx="33444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7440" y="3718440"/>
              <a:ext cx="33444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48480" y="4042440"/>
              <a:ext cx="33444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48480" y="3459240"/>
              <a:ext cx="33444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46400" y="4042440"/>
              <a:ext cx="33444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13800" y="3588840"/>
              <a:ext cx="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15880" y="3605040"/>
              <a:ext cx="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46920" y="352404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714920" y="3588840"/>
              <a:ext cx="200520" cy="19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280040" y="384804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81440" y="384804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98880" y="438120"/>
            <a:ext cx="278280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af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mpresariai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62880" y="2948040"/>
            <a:ext cx="1736640" cy="12668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929280" y="3078000"/>
            <a:ext cx="668520" cy="842760"/>
            <a:chOff x="6929280" y="3078000"/>
            <a:chExt cx="668520" cy="842760"/>
          </a:xfrm>
        </p:grpSpPr>
        <p:sp>
          <p:nvSpPr>
            <p:cNvPr id="206" name=""/>
            <p:cNvSpPr/>
            <p:nvPr/>
          </p:nvSpPr>
          <p:spPr>
            <a:xfrm>
              <a:off x="6929280" y="3078000"/>
              <a:ext cx="40104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62840" y="3207600"/>
              <a:ext cx="40104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6760" y="3337200"/>
              <a:ext cx="40104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992320" y="3913200"/>
            <a:ext cx="92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49880" y="3913200"/>
            <a:ext cx="12034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4552920" y="4366800"/>
            <a:ext cx="0" cy="110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92320" y="5470560"/>
            <a:ext cx="1598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91080" y="2291760"/>
            <a:ext cx="0" cy="84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52720" y="2292480"/>
            <a:ext cx="166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507000" y="994680"/>
            <a:ext cx="1014480" cy="1908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1562040"/>
            <a:ext cx="0" cy="135576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7320" y="289080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cnologi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78000" y="44528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3560" y="115884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72080" y="450684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56720" y="2430360"/>
            <a:ext cx="24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oluções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71480" y="3398760"/>
            <a:ext cx="981360" cy="1038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1477800" y="4875120"/>
            <a:ext cx="1322640" cy="1243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414440" y="1746360"/>
            <a:ext cx="13492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UDANÇA ORGANIZACIONAL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TES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</a:rPr>
              <a:t>A implementação de SI e TI avançados deve incluir a administração de MUDANÇA ORGANIZACIONA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</a:rPr>
              <a:t>Benefícios econômicos das novas tecnologias freqüentemente dependem da implantação de um novo formato de organiz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UDANÇA ORGANIZACIONAL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TES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ORGANIZAÇÃO E TECNOLOGIA DA INFORMAÇÃO são interdependentes em muitas maneir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A organização tradicional não permite a realização plena do potencial das tecnologias avançadas de manufatur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Os compromissos da organização derivam de sua consciência hierárquica, da divisão detalhada e rígida do trabalho e do estilo de supervisão que enfatiza o desempenho individual do empregad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UDANÇA ORGANIZACIONAL</a:t>
            </a:r>
            <a:br>
              <a:rPr sz="4400"/>
            </a:b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TES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810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As novas tecnologias requerem maior flexibilidade na distribuição de tarefas, mais aprendizagem contínua e maior motivação interna do que os sistemas tradicionais de trabalho oferecem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O forte comprometimento da organização e empregados é cada vez mais um ingrediente-chave para a eficácia organizacional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6039000" y="4570560"/>
          <a:ext cx="22762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4570560"/>
                    <a:ext cx="22762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nalisar o papel de SIs no Ambiente de Negóci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finir Sistema de Inform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xplicar como os SIs transformam a ORGANIZAÇÃO &amp; GERENCIAMENTO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(ORGANIZATION &amp; MANAGEMENT)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TIVOS DE APRENDIZAGEM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6867360" y="4722840"/>
          <a:ext cx="227664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7360" y="4722840"/>
                    <a:ext cx="227664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valiar as empresas digitais, comércio eletrônico, negócio eletrônico (ELECTRONIC BUSINESS) e a tecnologia Interne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dentificar e gerenciar os desafios para desenvolver e utilizar S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BJETIVOS DE APRENDIZAGEM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Times New Roman"/>
              </a:rPr>
              <a:t>Rapidamente nos adaptamos a essas novidades e passamos ­- em geral, sem uma percepção clara nem maiores questionamentos - a viver na </a:t>
            </a:r>
            <a:r>
              <a:rPr b="1" lang="pt-BR" sz="2800" spc="-1" strike="noStrike">
                <a:solidFill>
                  <a:srgbClr val="00ae00"/>
                </a:solidFill>
                <a:latin typeface="Arial"/>
                <a:ea typeface="Times New Roman"/>
              </a:rPr>
              <a:t>Sociedade da Informaçã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uma nova era em que a informação flui a velocidades e em quantidades há apenas poucos anos inimagináveis, assumindo valores sociais e econômicos fundamentais.</a:t>
            </a: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AGEMENT CHALLE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orque Sistemas de Informação?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Criação de  excitantes oportunidades</a:t>
            </a:r>
            <a:endParaRPr b="1" lang="en-US" sz="24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bordagens atuais para o desenvolvimento de S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apel de S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ando SIs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2360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5) MANAGEMENT CHALLE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1. Como usar TI para projetar organizações competetivas e eficientes?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estratégia de negócio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2. Como as empresas compreende os requisitos do sistema de um ambiente de negócio global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globalização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3. Como desenvolver uma arquitetura de informação da organização e infra-estrutura de TI que apóie as metas da organização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arquitetura de informação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371600" y="5715000"/>
            <a:ext cx="762012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ahoma"/>
              </a:rPr>
              <a:t>Sistemas de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943600"/>
            <a:ext cx="160020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29000" y="5943600"/>
            <a:ext cx="12952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5934240"/>
            <a:ext cx="12189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G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48520" y="5943600"/>
            <a:ext cx="266688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e Com.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1600" y="4808520"/>
            <a:ext cx="7543800" cy="67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ff"/>
                </a:solidFill>
                <a:latin typeface="Times New Roman"/>
              </a:rPr>
              <a:t>Sistemas de Nível 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nceiro, Programas/Proj, Cursos, Cadastros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5120" y="3836880"/>
            <a:ext cx="6400800" cy="730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ff"/>
                </a:solidFill>
                <a:latin typeface="Times New Roman"/>
              </a:rPr>
              <a:t>Sistemas de Nível de 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ditoração, Digitalização de documento e imagem, EAD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66880" y="2971800"/>
            <a:ext cx="5029200" cy="64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ff"/>
                </a:solidFill>
                <a:latin typeface="Times New Roman"/>
              </a:rPr>
              <a:t>Sistemas de Nível 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ência de Cursos, Coordenação de Proj.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00400" y="2079720"/>
            <a:ext cx="4038480" cy="620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ff"/>
                </a:solidFill>
                <a:latin typeface="Times New Roman"/>
              </a:rPr>
              <a:t>Sistemas de Nível 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anejam. estratégico, Predições, 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946160"/>
            <a:ext cx="203832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07" y="2968"/>
                </a:moveTo>
                <a:lnTo>
                  <a:pt x="-3449" y="2968"/>
                </a:lnTo>
                <a:lnTo>
                  <a:pt x="-3449" y="46456"/>
                </a:lnTo>
                <a:lnTo>
                  <a:pt x="9925" y="114572"/>
                </a:lnTo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ra-estrutura de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AGEMENT CHALLEN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0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. Como determinar o Valor de Negócio de SIs 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(investimento em SI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5. Projetar SIs onde as pessoas podem controlar, compreender e usar de maneira responsável, etica e socialmente </a:t>
            </a:r>
            <a:r>
              <a:rPr b="1" lang="en-US" sz="3200" spc="-1" strike="noStrike">
                <a:solidFill>
                  <a:srgbClr val="00ae00"/>
                </a:solidFill>
                <a:latin typeface="Arial"/>
              </a:rPr>
              <a:t>(controle e responsabilidade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6327720" y="3706920"/>
            <a:ext cx="2711520" cy="2751120"/>
            <a:chOff x="6327720" y="3706920"/>
            <a:chExt cx="2711520" cy="2751120"/>
          </a:xfrm>
        </p:grpSpPr>
        <p:sp>
          <p:nvSpPr>
            <p:cNvPr id="257" name=""/>
            <p:cNvSpPr/>
            <p:nvPr/>
          </p:nvSpPr>
          <p:spPr>
            <a:xfrm>
              <a:off x="6327720" y="3709800"/>
              <a:ext cx="2711520" cy="27482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6813720" y="3706920"/>
              <a:ext cx="2219040" cy="2689200"/>
              <a:chOff x="6813720" y="3706920"/>
              <a:chExt cx="2219040" cy="268920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6813720" y="3943440"/>
                <a:ext cx="1049040" cy="2452680"/>
                <a:chOff x="6813720" y="3943440"/>
                <a:chExt cx="1049040" cy="245268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7116840" y="5348160"/>
                  <a:ext cx="744480" cy="1047960"/>
                  <a:chOff x="7116840" y="5348160"/>
                  <a:chExt cx="744480" cy="10479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7116840" y="5348160"/>
                    <a:ext cx="744480" cy="10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638">
                        <a:moveTo>
                          <a:pt x="56" y="18"/>
                        </a:moveTo>
                        <a:lnTo>
                          <a:pt x="83" y="0"/>
                        </a:lnTo>
                        <a:lnTo>
                          <a:pt x="106" y="0"/>
                        </a:lnTo>
                        <a:lnTo>
                          <a:pt x="113" y="1"/>
                        </a:lnTo>
                        <a:lnTo>
                          <a:pt x="113" y="7"/>
                        </a:lnTo>
                        <a:lnTo>
                          <a:pt x="113" y="15"/>
                        </a:lnTo>
                        <a:lnTo>
                          <a:pt x="118" y="18"/>
                        </a:lnTo>
                        <a:lnTo>
                          <a:pt x="122" y="10"/>
                        </a:lnTo>
                        <a:lnTo>
                          <a:pt x="125" y="1"/>
                        </a:lnTo>
                        <a:lnTo>
                          <a:pt x="130" y="1"/>
                        </a:lnTo>
                        <a:lnTo>
                          <a:pt x="133" y="7"/>
                        </a:lnTo>
                        <a:lnTo>
                          <a:pt x="141" y="13"/>
                        </a:lnTo>
                        <a:lnTo>
                          <a:pt x="149" y="18"/>
                        </a:lnTo>
                        <a:lnTo>
                          <a:pt x="171" y="18"/>
                        </a:lnTo>
                        <a:lnTo>
                          <a:pt x="182" y="20"/>
                        </a:lnTo>
                        <a:lnTo>
                          <a:pt x="187" y="21"/>
                        </a:lnTo>
                        <a:lnTo>
                          <a:pt x="193" y="21"/>
                        </a:lnTo>
                        <a:lnTo>
                          <a:pt x="201" y="26"/>
                        </a:lnTo>
                        <a:lnTo>
                          <a:pt x="205" y="32"/>
                        </a:lnTo>
                        <a:lnTo>
                          <a:pt x="205" y="38"/>
                        </a:lnTo>
                        <a:lnTo>
                          <a:pt x="220" y="43"/>
                        </a:lnTo>
                        <a:lnTo>
                          <a:pt x="229" y="55"/>
                        </a:lnTo>
                        <a:lnTo>
                          <a:pt x="242" y="66"/>
                        </a:lnTo>
                        <a:lnTo>
                          <a:pt x="251" y="71"/>
                        </a:lnTo>
                        <a:lnTo>
                          <a:pt x="256" y="71"/>
                        </a:lnTo>
                        <a:lnTo>
                          <a:pt x="270" y="71"/>
                        </a:lnTo>
                        <a:lnTo>
                          <a:pt x="279" y="76"/>
                        </a:lnTo>
                        <a:lnTo>
                          <a:pt x="289" y="87"/>
                        </a:lnTo>
                        <a:lnTo>
                          <a:pt x="303" y="95"/>
                        </a:lnTo>
                        <a:lnTo>
                          <a:pt x="311" y="104"/>
                        </a:lnTo>
                        <a:lnTo>
                          <a:pt x="315" y="118"/>
                        </a:lnTo>
                        <a:lnTo>
                          <a:pt x="309" y="123"/>
                        </a:lnTo>
                        <a:lnTo>
                          <a:pt x="303" y="136"/>
                        </a:lnTo>
                        <a:lnTo>
                          <a:pt x="311" y="145"/>
                        </a:lnTo>
                        <a:lnTo>
                          <a:pt x="316" y="147"/>
                        </a:lnTo>
                        <a:lnTo>
                          <a:pt x="326" y="140"/>
                        </a:lnTo>
                        <a:lnTo>
                          <a:pt x="339" y="136"/>
                        </a:lnTo>
                        <a:lnTo>
                          <a:pt x="350" y="140"/>
                        </a:lnTo>
                        <a:lnTo>
                          <a:pt x="360" y="140"/>
                        </a:lnTo>
                        <a:lnTo>
                          <a:pt x="373" y="146"/>
                        </a:lnTo>
                        <a:lnTo>
                          <a:pt x="386" y="153"/>
                        </a:lnTo>
                        <a:lnTo>
                          <a:pt x="400" y="153"/>
                        </a:lnTo>
                        <a:lnTo>
                          <a:pt x="416" y="154"/>
                        </a:lnTo>
                        <a:lnTo>
                          <a:pt x="432" y="166"/>
                        </a:lnTo>
                        <a:lnTo>
                          <a:pt x="449" y="170"/>
                        </a:lnTo>
                        <a:lnTo>
                          <a:pt x="461" y="175"/>
                        </a:lnTo>
                        <a:lnTo>
                          <a:pt x="468" y="186"/>
                        </a:lnTo>
                        <a:lnTo>
                          <a:pt x="466" y="200"/>
                        </a:lnTo>
                        <a:lnTo>
                          <a:pt x="457" y="213"/>
                        </a:lnTo>
                        <a:lnTo>
                          <a:pt x="449" y="224"/>
                        </a:lnTo>
                        <a:lnTo>
                          <a:pt x="438" y="236"/>
                        </a:lnTo>
                        <a:lnTo>
                          <a:pt x="434" y="250"/>
                        </a:lnTo>
                        <a:lnTo>
                          <a:pt x="422" y="260"/>
                        </a:lnTo>
                        <a:lnTo>
                          <a:pt x="430" y="275"/>
                        </a:lnTo>
                        <a:lnTo>
                          <a:pt x="429" y="294"/>
                        </a:lnTo>
                        <a:lnTo>
                          <a:pt x="421" y="308"/>
                        </a:lnTo>
                        <a:lnTo>
                          <a:pt x="421" y="322"/>
                        </a:lnTo>
                        <a:lnTo>
                          <a:pt x="414" y="336"/>
                        </a:lnTo>
                        <a:lnTo>
                          <a:pt x="404" y="341"/>
                        </a:lnTo>
                        <a:lnTo>
                          <a:pt x="393" y="347"/>
                        </a:lnTo>
                        <a:lnTo>
                          <a:pt x="380" y="346"/>
                        </a:lnTo>
                        <a:lnTo>
                          <a:pt x="360" y="350"/>
                        </a:lnTo>
                        <a:lnTo>
                          <a:pt x="344" y="363"/>
                        </a:lnTo>
                        <a:lnTo>
                          <a:pt x="335" y="374"/>
                        </a:lnTo>
                        <a:lnTo>
                          <a:pt x="331" y="380"/>
                        </a:lnTo>
                        <a:lnTo>
                          <a:pt x="339" y="387"/>
                        </a:lnTo>
                        <a:lnTo>
                          <a:pt x="339" y="398"/>
                        </a:lnTo>
                        <a:lnTo>
                          <a:pt x="317" y="416"/>
                        </a:lnTo>
                        <a:lnTo>
                          <a:pt x="304" y="442"/>
                        </a:lnTo>
                        <a:lnTo>
                          <a:pt x="286" y="456"/>
                        </a:lnTo>
                        <a:lnTo>
                          <a:pt x="270" y="457"/>
                        </a:lnTo>
                        <a:lnTo>
                          <a:pt x="251" y="443"/>
                        </a:lnTo>
                        <a:lnTo>
                          <a:pt x="251" y="463"/>
                        </a:lnTo>
                        <a:lnTo>
                          <a:pt x="259" y="472"/>
                        </a:lnTo>
                        <a:lnTo>
                          <a:pt x="257" y="489"/>
                        </a:lnTo>
                        <a:lnTo>
                          <a:pt x="231" y="504"/>
                        </a:lnTo>
                        <a:lnTo>
                          <a:pt x="220" y="501"/>
                        </a:lnTo>
                        <a:lnTo>
                          <a:pt x="207" y="524"/>
                        </a:lnTo>
                        <a:lnTo>
                          <a:pt x="195" y="527"/>
                        </a:lnTo>
                        <a:lnTo>
                          <a:pt x="190" y="536"/>
                        </a:lnTo>
                        <a:lnTo>
                          <a:pt x="195" y="546"/>
                        </a:lnTo>
                        <a:lnTo>
                          <a:pt x="184" y="562"/>
                        </a:lnTo>
                        <a:lnTo>
                          <a:pt x="194" y="585"/>
                        </a:lnTo>
                        <a:lnTo>
                          <a:pt x="183" y="601"/>
                        </a:lnTo>
                        <a:lnTo>
                          <a:pt x="175" y="618"/>
                        </a:lnTo>
                        <a:lnTo>
                          <a:pt x="184" y="630"/>
                        </a:lnTo>
                        <a:lnTo>
                          <a:pt x="165" y="630"/>
                        </a:lnTo>
                        <a:lnTo>
                          <a:pt x="148" y="637"/>
                        </a:lnTo>
                        <a:lnTo>
                          <a:pt x="129" y="607"/>
                        </a:lnTo>
                        <a:lnTo>
                          <a:pt x="124" y="583"/>
                        </a:lnTo>
                        <a:lnTo>
                          <a:pt x="124" y="530"/>
                        </a:lnTo>
                        <a:lnTo>
                          <a:pt x="106" y="508"/>
                        </a:lnTo>
                        <a:lnTo>
                          <a:pt x="108" y="475"/>
                        </a:lnTo>
                        <a:lnTo>
                          <a:pt x="117" y="453"/>
                        </a:lnTo>
                        <a:lnTo>
                          <a:pt x="112" y="430"/>
                        </a:lnTo>
                        <a:lnTo>
                          <a:pt x="111" y="405"/>
                        </a:lnTo>
                        <a:lnTo>
                          <a:pt x="113" y="341"/>
                        </a:lnTo>
                        <a:lnTo>
                          <a:pt x="119" y="313"/>
                        </a:lnTo>
                        <a:lnTo>
                          <a:pt x="107" y="295"/>
                        </a:lnTo>
                        <a:lnTo>
                          <a:pt x="95" y="283"/>
                        </a:lnTo>
                        <a:lnTo>
                          <a:pt x="85" y="276"/>
                        </a:lnTo>
                        <a:lnTo>
                          <a:pt x="83" y="267"/>
                        </a:lnTo>
                        <a:lnTo>
                          <a:pt x="75" y="268"/>
                        </a:lnTo>
                        <a:lnTo>
                          <a:pt x="64" y="271"/>
                        </a:lnTo>
                        <a:lnTo>
                          <a:pt x="60" y="265"/>
                        </a:lnTo>
                        <a:lnTo>
                          <a:pt x="53" y="258"/>
                        </a:lnTo>
                        <a:lnTo>
                          <a:pt x="48" y="246"/>
                        </a:lnTo>
                        <a:lnTo>
                          <a:pt x="49" y="241"/>
                        </a:lnTo>
                        <a:lnTo>
                          <a:pt x="45" y="227"/>
                        </a:lnTo>
                        <a:lnTo>
                          <a:pt x="38" y="215"/>
                        </a:lnTo>
                        <a:lnTo>
                          <a:pt x="36" y="213"/>
                        </a:lnTo>
                        <a:lnTo>
                          <a:pt x="36" y="207"/>
                        </a:lnTo>
                        <a:lnTo>
                          <a:pt x="33" y="203"/>
                        </a:lnTo>
                        <a:lnTo>
                          <a:pt x="25" y="189"/>
                        </a:lnTo>
                        <a:lnTo>
                          <a:pt x="23" y="184"/>
                        </a:lnTo>
                        <a:lnTo>
                          <a:pt x="14" y="177"/>
                        </a:lnTo>
                        <a:lnTo>
                          <a:pt x="12" y="164"/>
                        </a:lnTo>
                        <a:lnTo>
                          <a:pt x="7" y="155"/>
                        </a:lnTo>
                        <a:lnTo>
                          <a:pt x="0" y="146"/>
                        </a:lnTo>
                        <a:lnTo>
                          <a:pt x="12" y="136"/>
                        </a:lnTo>
                        <a:lnTo>
                          <a:pt x="22" y="131"/>
                        </a:lnTo>
                        <a:lnTo>
                          <a:pt x="12" y="125"/>
                        </a:lnTo>
                        <a:lnTo>
                          <a:pt x="8" y="112"/>
                        </a:lnTo>
                        <a:lnTo>
                          <a:pt x="11" y="103"/>
                        </a:lnTo>
                        <a:lnTo>
                          <a:pt x="22" y="93"/>
                        </a:lnTo>
                        <a:lnTo>
                          <a:pt x="34" y="88"/>
                        </a:lnTo>
                        <a:lnTo>
                          <a:pt x="44" y="73"/>
                        </a:lnTo>
                        <a:lnTo>
                          <a:pt x="49" y="65"/>
                        </a:lnTo>
                        <a:lnTo>
                          <a:pt x="48" y="54"/>
                        </a:lnTo>
                        <a:lnTo>
                          <a:pt x="48" y="43"/>
                        </a:lnTo>
                        <a:lnTo>
                          <a:pt x="56" y="1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7378560" y="6364080"/>
                    <a:ext cx="842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7" y="0"/>
                        </a:moveTo>
                        <a:lnTo>
                          <a:pt x="0" y="11"/>
                        </a:lnTo>
                        <a:lnTo>
                          <a:pt x="11" y="19"/>
                        </a:lnTo>
                        <a:lnTo>
                          <a:pt x="33" y="18"/>
                        </a:lnTo>
                        <a:lnTo>
                          <a:pt x="52" y="19"/>
                        </a:lnTo>
                        <a:lnTo>
                          <a:pt x="34" y="8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6813720" y="4043160"/>
                  <a:ext cx="1049040" cy="1371600"/>
                  <a:chOff x="6813720" y="4043160"/>
                  <a:chExt cx="1049040" cy="137160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7388280" y="450540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0" y="17"/>
                        </a:moveTo>
                        <a:lnTo>
                          <a:pt x="18" y="23"/>
                        </a:lnTo>
                        <a:lnTo>
                          <a:pt x="17" y="15"/>
                        </a:lnTo>
                        <a:lnTo>
                          <a:pt x="18" y="4"/>
                        </a:lnTo>
                        <a:lnTo>
                          <a:pt x="9" y="0"/>
                        </a:lnTo>
                        <a:lnTo>
                          <a:pt x="6" y="9"/>
                        </a:lnTo>
                        <a:lnTo>
                          <a:pt x="0" y="1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6813720" y="4043160"/>
                    <a:ext cx="1049040" cy="1371600"/>
                    <a:chOff x="6813720" y="4043160"/>
                    <a:chExt cx="1049040" cy="1371600"/>
                  </a:xfrm>
                </p:grpSpPr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813720" y="4043160"/>
                      <a:ext cx="753840" cy="137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864">
                          <a:moveTo>
                            <a:pt x="245" y="843"/>
                          </a:moveTo>
                          <a:lnTo>
                            <a:pt x="225" y="825"/>
                          </a:lnTo>
                          <a:lnTo>
                            <a:pt x="208" y="827"/>
                          </a:lnTo>
                          <a:lnTo>
                            <a:pt x="191" y="812"/>
                          </a:lnTo>
                          <a:lnTo>
                            <a:pt x="188" y="793"/>
                          </a:lnTo>
                          <a:lnTo>
                            <a:pt x="197" y="785"/>
                          </a:lnTo>
                          <a:lnTo>
                            <a:pt x="197" y="780"/>
                          </a:lnTo>
                          <a:lnTo>
                            <a:pt x="203" y="770"/>
                          </a:lnTo>
                          <a:lnTo>
                            <a:pt x="194" y="748"/>
                          </a:lnTo>
                          <a:lnTo>
                            <a:pt x="181" y="747"/>
                          </a:lnTo>
                          <a:lnTo>
                            <a:pt x="163" y="733"/>
                          </a:lnTo>
                          <a:lnTo>
                            <a:pt x="164" y="724"/>
                          </a:lnTo>
                          <a:lnTo>
                            <a:pt x="180" y="698"/>
                          </a:lnTo>
                          <a:lnTo>
                            <a:pt x="175" y="693"/>
                          </a:lnTo>
                          <a:lnTo>
                            <a:pt x="156" y="684"/>
                          </a:lnTo>
                          <a:lnTo>
                            <a:pt x="145" y="693"/>
                          </a:lnTo>
                          <a:lnTo>
                            <a:pt x="140" y="701"/>
                          </a:lnTo>
                          <a:lnTo>
                            <a:pt x="122" y="698"/>
                          </a:lnTo>
                          <a:lnTo>
                            <a:pt x="108" y="692"/>
                          </a:lnTo>
                          <a:lnTo>
                            <a:pt x="95" y="666"/>
                          </a:lnTo>
                          <a:lnTo>
                            <a:pt x="102" y="646"/>
                          </a:lnTo>
                          <a:lnTo>
                            <a:pt x="106" y="630"/>
                          </a:lnTo>
                          <a:lnTo>
                            <a:pt x="110" y="621"/>
                          </a:lnTo>
                          <a:lnTo>
                            <a:pt x="120" y="613"/>
                          </a:lnTo>
                          <a:lnTo>
                            <a:pt x="126" y="604"/>
                          </a:lnTo>
                          <a:lnTo>
                            <a:pt x="140" y="594"/>
                          </a:lnTo>
                          <a:lnTo>
                            <a:pt x="153" y="588"/>
                          </a:lnTo>
                          <a:lnTo>
                            <a:pt x="164" y="597"/>
                          </a:lnTo>
                          <a:lnTo>
                            <a:pt x="175" y="599"/>
                          </a:lnTo>
                          <a:lnTo>
                            <a:pt x="182" y="610"/>
                          </a:lnTo>
                          <a:lnTo>
                            <a:pt x="192" y="608"/>
                          </a:lnTo>
                          <a:lnTo>
                            <a:pt x="205" y="604"/>
                          </a:lnTo>
                          <a:lnTo>
                            <a:pt x="216" y="610"/>
                          </a:lnTo>
                          <a:lnTo>
                            <a:pt x="236" y="630"/>
                          </a:lnTo>
                          <a:lnTo>
                            <a:pt x="229" y="645"/>
                          </a:lnTo>
                          <a:lnTo>
                            <a:pt x="236" y="654"/>
                          </a:lnTo>
                          <a:lnTo>
                            <a:pt x="236" y="660"/>
                          </a:lnTo>
                          <a:lnTo>
                            <a:pt x="244" y="667"/>
                          </a:lnTo>
                          <a:lnTo>
                            <a:pt x="252" y="675"/>
                          </a:lnTo>
                          <a:lnTo>
                            <a:pt x="255" y="671"/>
                          </a:lnTo>
                          <a:lnTo>
                            <a:pt x="255" y="657"/>
                          </a:lnTo>
                          <a:lnTo>
                            <a:pt x="255" y="637"/>
                          </a:lnTo>
                          <a:lnTo>
                            <a:pt x="255" y="619"/>
                          </a:lnTo>
                          <a:lnTo>
                            <a:pt x="252" y="613"/>
                          </a:lnTo>
                          <a:lnTo>
                            <a:pt x="260" y="602"/>
                          </a:lnTo>
                          <a:lnTo>
                            <a:pt x="274" y="599"/>
                          </a:lnTo>
                          <a:lnTo>
                            <a:pt x="280" y="593"/>
                          </a:lnTo>
                          <a:lnTo>
                            <a:pt x="290" y="596"/>
                          </a:lnTo>
                          <a:lnTo>
                            <a:pt x="299" y="587"/>
                          </a:lnTo>
                          <a:lnTo>
                            <a:pt x="312" y="576"/>
                          </a:lnTo>
                          <a:lnTo>
                            <a:pt x="321" y="572"/>
                          </a:lnTo>
                          <a:lnTo>
                            <a:pt x="317" y="563"/>
                          </a:lnTo>
                          <a:lnTo>
                            <a:pt x="328" y="549"/>
                          </a:lnTo>
                          <a:lnTo>
                            <a:pt x="338" y="539"/>
                          </a:lnTo>
                          <a:lnTo>
                            <a:pt x="346" y="534"/>
                          </a:lnTo>
                          <a:lnTo>
                            <a:pt x="366" y="536"/>
                          </a:lnTo>
                          <a:lnTo>
                            <a:pt x="362" y="522"/>
                          </a:lnTo>
                          <a:lnTo>
                            <a:pt x="381" y="511"/>
                          </a:lnTo>
                          <a:lnTo>
                            <a:pt x="397" y="505"/>
                          </a:lnTo>
                          <a:lnTo>
                            <a:pt x="412" y="503"/>
                          </a:lnTo>
                          <a:lnTo>
                            <a:pt x="407" y="517"/>
                          </a:lnTo>
                          <a:lnTo>
                            <a:pt x="422" y="501"/>
                          </a:lnTo>
                          <a:lnTo>
                            <a:pt x="414" y="492"/>
                          </a:lnTo>
                          <a:lnTo>
                            <a:pt x="413" y="471"/>
                          </a:lnTo>
                          <a:lnTo>
                            <a:pt x="397" y="471"/>
                          </a:lnTo>
                          <a:lnTo>
                            <a:pt x="401" y="460"/>
                          </a:lnTo>
                          <a:lnTo>
                            <a:pt x="448" y="461"/>
                          </a:lnTo>
                          <a:lnTo>
                            <a:pt x="474" y="445"/>
                          </a:lnTo>
                          <a:lnTo>
                            <a:pt x="472" y="434"/>
                          </a:lnTo>
                          <a:lnTo>
                            <a:pt x="459" y="422"/>
                          </a:lnTo>
                          <a:lnTo>
                            <a:pt x="460" y="403"/>
                          </a:lnTo>
                          <a:lnTo>
                            <a:pt x="451" y="399"/>
                          </a:lnTo>
                          <a:lnTo>
                            <a:pt x="447" y="385"/>
                          </a:lnTo>
                          <a:lnTo>
                            <a:pt x="442" y="378"/>
                          </a:lnTo>
                          <a:lnTo>
                            <a:pt x="432" y="381"/>
                          </a:lnTo>
                          <a:lnTo>
                            <a:pt x="414" y="366"/>
                          </a:lnTo>
                          <a:lnTo>
                            <a:pt x="409" y="350"/>
                          </a:lnTo>
                          <a:lnTo>
                            <a:pt x="392" y="330"/>
                          </a:lnTo>
                          <a:lnTo>
                            <a:pt x="367" y="355"/>
                          </a:lnTo>
                          <a:lnTo>
                            <a:pt x="367" y="384"/>
                          </a:lnTo>
                          <a:lnTo>
                            <a:pt x="362" y="393"/>
                          </a:lnTo>
                          <a:lnTo>
                            <a:pt x="351" y="393"/>
                          </a:lnTo>
                          <a:lnTo>
                            <a:pt x="345" y="399"/>
                          </a:lnTo>
                          <a:lnTo>
                            <a:pt x="343" y="414"/>
                          </a:lnTo>
                          <a:lnTo>
                            <a:pt x="334" y="431"/>
                          </a:lnTo>
                          <a:lnTo>
                            <a:pt x="324" y="414"/>
                          </a:lnTo>
                          <a:lnTo>
                            <a:pt x="332" y="393"/>
                          </a:lnTo>
                          <a:lnTo>
                            <a:pt x="329" y="378"/>
                          </a:lnTo>
                          <a:lnTo>
                            <a:pt x="319" y="373"/>
                          </a:lnTo>
                          <a:lnTo>
                            <a:pt x="298" y="340"/>
                          </a:lnTo>
                          <a:lnTo>
                            <a:pt x="300" y="329"/>
                          </a:lnTo>
                          <a:lnTo>
                            <a:pt x="324" y="297"/>
                          </a:lnTo>
                          <a:lnTo>
                            <a:pt x="342" y="297"/>
                          </a:lnTo>
                          <a:lnTo>
                            <a:pt x="357" y="296"/>
                          </a:lnTo>
                          <a:lnTo>
                            <a:pt x="364" y="282"/>
                          </a:lnTo>
                          <a:lnTo>
                            <a:pt x="383" y="286"/>
                          </a:lnTo>
                          <a:lnTo>
                            <a:pt x="389" y="277"/>
                          </a:lnTo>
                          <a:lnTo>
                            <a:pt x="407" y="278"/>
                          </a:lnTo>
                          <a:lnTo>
                            <a:pt x="397" y="266"/>
                          </a:lnTo>
                          <a:lnTo>
                            <a:pt x="395" y="248"/>
                          </a:lnTo>
                          <a:lnTo>
                            <a:pt x="381" y="267"/>
                          </a:lnTo>
                          <a:lnTo>
                            <a:pt x="370" y="261"/>
                          </a:lnTo>
                          <a:lnTo>
                            <a:pt x="384" y="240"/>
                          </a:lnTo>
                          <a:lnTo>
                            <a:pt x="383" y="219"/>
                          </a:lnTo>
                          <a:lnTo>
                            <a:pt x="369" y="234"/>
                          </a:lnTo>
                          <a:lnTo>
                            <a:pt x="356" y="248"/>
                          </a:lnTo>
                          <a:lnTo>
                            <a:pt x="312" y="213"/>
                          </a:lnTo>
                          <a:lnTo>
                            <a:pt x="315" y="149"/>
                          </a:lnTo>
                          <a:lnTo>
                            <a:pt x="295" y="130"/>
                          </a:lnTo>
                          <a:lnTo>
                            <a:pt x="293" y="105"/>
                          </a:lnTo>
                          <a:lnTo>
                            <a:pt x="305" y="75"/>
                          </a:lnTo>
                          <a:lnTo>
                            <a:pt x="310" y="41"/>
                          </a:lnTo>
                          <a:lnTo>
                            <a:pt x="293" y="23"/>
                          </a:lnTo>
                          <a:lnTo>
                            <a:pt x="275" y="21"/>
                          </a:lnTo>
                          <a:lnTo>
                            <a:pt x="265" y="15"/>
                          </a:lnTo>
                          <a:lnTo>
                            <a:pt x="263" y="0"/>
                          </a:lnTo>
                          <a:lnTo>
                            <a:pt x="247" y="23"/>
                          </a:lnTo>
                          <a:lnTo>
                            <a:pt x="231" y="25"/>
                          </a:lnTo>
                          <a:lnTo>
                            <a:pt x="225" y="6"/>
                          </a:lnTo>
                          <a:lnTo>
                            <a:pt x="213" y="12"/>
                          </a:lnTo>
                          <a:lnTo>
                            <a:pt x="200" y="13"/>
                          </a:lnTo>
                          <a:lnTo>
                            <a:pt x="165" y="50"/>
                          </a:lnTo>
                          <a:lnTo>
                            <a:pt x="153" y="45"/>
                          </a:lnTo>
                          <a:lnTo>
                            <a:pt x="137" y="18"/>
                          </a:lnTo>
                          <a:lnTo>
                            <a:pt x="139" y="41"/>
                          </a:lnTo>
                          <a:lnTo>
                            <a:pt x="150" y="59"/>
                          </a:lnTo>
                          <a:lnTo>
                            <a:pt x="169" y="73"/>
                          </a:lnTo>
                          <a:lnTo>
                            <a:pt x="181" y="75"/>
                          </a:lnTo>
                          <a:lnTo>
                            <a:pt x="182" y="91"/>
                          </a:lnTo>
                          <a:lnTo>
                            <a:pt x="190" y="103"/>
                          </a:lnTo>
                          <a:lnTo>
                            <a:pt x="185" y="114"/>
                          </a:lnTo>
                          <a:lnTo>
                            <a:pt x="186" y="137"/>
                          </a:lnTo>
                          <a:lnTo>
                            <a:pt x="175" y="170"/>
                          </a:lnTo>
                          <a:lnTo>
                            <a:pt x="149" y="216"/>
                          </a:lnTo>
                          <a:lnTo>
                            <a:pt x="138" y="218"/>
                          </a:lnTo>
                          <a:lnTo>
                            <a:pt x="118" y="263"/>
                          </a:lnTo>
                          <a:lnTo>
                            <a:pt x="111" y="288"/>
                          </a:lnTo>
                          <a:lnTo>
                            <a:pt x="98" y="284"/>
                          </a:lnTo>
                          <a:lnTo>
                            <a:pt x="98" y="293"/>
                          </a:lnTo>
                          <a:lnTo>
                            <a:pt x="82" y="309"/>
                          </a:lnTo>
                          <a:lnTo>
                            <a:pt x="65" y="319"/>
                          </a:lnTo>
                          <a:lnTo>
                            <a:pt x="42" y="341"/>
                          </a:lnTo>
                          <a:lnTo>
                            <a:pt x="26" y="362"/>
                          </a:lnTo>
                          <a:lnTo>
                            <a:pt x="26" y="379"/>
                          </a:lnTo>
                          <a:lnTo>
                            <a:pt x="20" y="388"/>
                          </a:lnTo>
                          <a:lnTo>
                            <a:pt x="13" y="398"/>
                          </a:lnTo>
                          <a:lnTo>
                            <a:pt x="9" y="412"/>
                          </a:lnTo>
                          <a:lnTo>
                            <a:pt x="13" y="427"/>
                          </a:lnTo>
                          <a:lnTo>
                            <a:pt x="17" y="452"/>
                          </a:lnTo>
                          <a:lnTo>
                            <a:pt x="10" y="464"/>
                          </a:lnTo>
                          <a:lnTo>
                            <a:pt x="3" y="490"/>
                          </a:lnTo>
                          <a:lnTo>
                            <a:pt x="0" y="523"/>
                          </a:lnTo>
                          <a:lnTo>
                            <a:pt x="4" y="539"/>
                          </a:lnTo>
                          <a:lnTo>
                            <a:pt x="1" y="568"/>
                          </a:lnTo>
                          <a:lnTo>
                            <a:pt x="10" y="579"/>
                          </a:lnTo>
                          <a:lnTo>
                            <a:pt x="14" y="530"/>
                          </a:lnTo>
                          <a:lnTo>
                            <a:pt x="14" y="494"/>
                          </a:lnTo>
                          <a:lnTo>
                            <a:pt x="24" y="481"/>
                          </a:lnTo>
                          <a:lnTo>
                            <a:pt x="26" y="499"/>
                          </a:lnTo>
                          <a:lnTo>
                            <a:pt x="23" y="511"/>
                          </a:lnTo>
                          <a:lnTo>
                            <a:pt x="23" y="524"/>
                          </a:lnTo>
                          <a:lnTo>
                            <a:pt x="22" y="547"/>
                          </a:lnTo>
                          <a:lnTo>
                            <a:pt x="29" y="569"/>
                          </a:lnTo>
                          <a:lnTo>
                            <a:pt x="30" y="591"/>
                          </a:lnTo>
                          <a:lnTo>
                            <a:pt x="33" y="602"/>
                          </a:lnTo>
                          <a:lnTo>
                            <a:pt x="37" y="615"/>
                          </a:lnTo>
                          <a:lnTo>
                            <a:pt x="30" y="630"/>
                          </a:lnTo>
                          <a:lnTo>
                            <a:pt x="33" y="649"/>
                          </a:lnTo>
                          <a:lnTo>
                            <a:pt x="41" y="674"/>
                          </a:lnTo>
                          <a:lnTo>
                            <a:pt x="56" y="686"/>
                          </a:lnTo>
                          <a:lnTo>
                            <a:pt x="73" y="706"/>
                          </a:lnTo>
                          <a:lnTo>
                            <a:pt x="86" y="720"/>
                          </a:lnTo>
                          <a:lnTo>
                            <a:pt x="95" y="718"/>
                          </a:lnTo>
                          <a:lnTo>
                            <a:pt x="106" y="728"/>
                          </a:lnTo>
                          <a:lnTo>
                            <a:pt x="114" y="733"/>
                          </a:lnTo>
                          <a:lnTo>
                            <a:pt x="121" y="745"/>
                          </a:lnTo>
                          <a:lnTo>
                            <a:pt x="145" y="767"/>
                          </a:lnTo>
                          <a:lnTo>
                            <a:pt x="153" y="770"/>
                          </a:lnTo>
                          <a:lnTo>
                            <a:pt x="169" y="784"/>
                          </a:lnTo>
                          <a:lnTo>
                            <a:pt x="170" y="806"/>
                          </a:lnTo>
                          <a:lnTo>
                            <a:pt x="189" y="828"/>
                          </a:lnTo>
                          <a:lnTo>
                            <a:pt x="205" y="847"/>
                          </a:lnTo>
                          <a:lnTo>
                            <a:pt x="214" y="850"/>
                          </a:lnTo>
                          <a:lnTo>
                            <a:pt x="222" y="843"/>
                          </a:lnTo>
                          <a:lnTo>
                            <a:pt x="227" y="841"/>
                          </a:lnTo>
                          <a:lnTo>
                            <a:pt x="240" y="863"/>
                          </a:lnTo>
                          <a:lnTo>
                            <a:pt x="245" y="8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7145280" y="5126040"/>
                      <a:ext cx="13176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55">
                          <a:moveTo>
                            <a:pt x="1" y="0"/>
                          </a:moveTo>
                          <a:lnTo>
                            <a:pt x="24" y="4"/>
                          </a:lnTo>
                          <a:lnTo>
                            <a:pt x="38" y="16"/>
                          </a:lnTo>
                          <a:lnTo>
                            <a:pt x="46" y="25"/>
                          </a:lnTo>
                          <a:lnTo>
                            <a:pt x="54" y="27"/>
                          </a:lnTo>
                          <a:lnTo>
                            <a:pt x="65" y="36"/>
                          </a:lnTo>
                          <a:lnTo>
                            <a:pt x="73" y="47"/>
                          </a:lnTo>
                          <a:lnTo>
                            <a:pt x="82" y="54"/>
                          </a:lnTo>
                          <a:lnTo>
                            <a:pt x="63" y="54"/>
                          </a:lnTo>
                          <a:lnTo>
                            <a:pt x="51" y="42"/>
                          </a:lnTo>
                          <a:lnTo>
                            <a:pt x="35" y="37"/>
                          </a:lnTo>
                          <a:lnTo>
                            <a:pt x="27" y="27"/>
                          </a:lnTo>
                          <a:lnTo>
                            <a:pt x="11" y="19"/>
                          </a:lnTo>
                          <a:lnTo>
                            <a:pt x="0" y="1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273800" y="5218200"/>
                      <a:ext cx="7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5">
                          <a:moveTo>
                            <a:pt x="0" y="13"/>
                          </a:moveTo>
                          <a:lnTo>
                            <a:pt x="15" y="0"/>
                          </a:lnTo>
                          <a:lnTo>
                            <a:pt x="31" y="2"/>
                          </a:lnTo>
                          <a:lnTo>
                            <a:pt x="47" y="16"/>
                          </a:lnTo>
                          <a:lnTo>
                            <a:pt x="47" y="22"/>
                          </a:lnTo>
                          <a:lnTo>
                            <a:pt x="36" y="24"/>
                          </a:lnTo>
                          <a:lnTo>
                            <a:pt x="27" y="19"/>
                          </a:lnTo>
                          <a:lnTo>
                            <a:pt x="15" y="19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321680" y="4298760"/>
                      <a:ext cx="745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56">
                          <a:moveTo>
                            <a:pt x="11" y="0"/>
                          </a:moveTo>
                          <a:lnTo>
                            <a:pt x="23" y="9"/>
                          </a:lnTo>
                          <a:lnTo>
                            <a:pt x="27" y="8"/>
                          </a:lnTo>
                          <a:lnTo>
                            <a:pt x="44" y="24"/>
                          </a:lnTo>
                          <a:lnTo>
                            <a:pt x="46" y="31"/>
                          </a:lnTo>
                          <a:lnTo>
                            <a:pt x="39" y="36"/>
                          </a:lnTo>
                          <a:lnTo>
                            <a:pt x="39" y="39"/>
                          </a:lnTo>
                          <a:lnTo>
                            <a:pt x="34" y="41"/>
                          </a:lnTo>
                          <a:lnTo>
                            <a:pt x="34" y="44"/>
                          </a:lnTo>
                          <a:lnTo>
                            <a:pt x="28" y="55"/>
                          </a:lnTo>
                          <a:lnTo>
                            <a:pt x="19" y="49"/>
                          </a:lnTo>
                          <a:lnTo>
                            <a:pt x="14" y="52"/>
                          </a:lnTo>
                          <a:lnTo>
                            <a:pt x="0" y="34"/>
                          </a:lnTo>
                          <a:lnTo>
                            <a:pt x="8" y="20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396200" y="4279680"/>
                      <a:ext cx="4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6">
                          <a:moveTo>
                            <a:pt x="0" y="14"/>
                          </a:moveTo>
                          <a:lnTo>
                            <a:pt x="17" y="25"/>
                          </a:lnTo>
                          <a:lnTo>
                            <a:pt x="20" y="20"/>
                          </a:lnTo>
                          <a:lnTo>
                            <a:pt x="29" y="9"/>
                          </a:lnTo>
                          <a:lnTo>
                            <a:pt x="25" y="3"/>
                          </a:lnTo>
                          <a:lnTo>
                            <a:pt x="19" y="5"/>
                          </a:lnTo>
                          <a:lnTo>
                            <a:pt x="17" y="0"/>
                          </a:lnTo>
                          <a:lnTo>
                            <a:pt x="12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334280" y="426240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0" y="1"/>
                          </a:moveTo>
                          <a:lnTo>
                            <a:pt x="16" y="0"/>
                          </a:lnTo>
                          <a:lnTo>
                            <a:pt x="30" y="18"/>
                          </a:lnTo>
                          <a:lnTo>
                            <a:pt x="18" y="18"/>
                          </a:lnTo>
                          <a:lnTo>
                            <a:pt x="17" y="15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5" y="15"/>
                          </a:lnTo>
                          <a:lnTo>
                            <a:pt x="7" y="1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440480" y="4387680"/>
                      <a:ext cx="114480" cy="20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31">
                          <a:moveTo>
                            <a:pt x="31" y="73"/>
                          </a:moveTo>
                          <a:lnTo>
                            <a:pt x="19" y="88"/>
                          </a:lnTo>
                          <a:lnTo>
                            <a:pt x="14" y="88"/>
                          </a:lnTo>
                          <a:lnTo>
                            <a:pt x="9" y="92"/>
                          </a:lnTo>
                          <a:lnTo>
                            <a:pt x="3" y="92"/>
                          </a:lnTo>
                          <a:lnTo>
                            <a:pt x="2" y="96"/>
                          </a:lnTo>
                          <a:lnTo>
                            <a:pt x="12" y="97"/>
                          </a:lnTo>
                          <a:lnTo>
                            <a:pt x="16" y="100"/>
                          </a:lnTo>
                          <a:lnTo>
                            <a:pt x="20" y="106"/>
                          </a:lnTo>
                          <a:lnTo>
                            <a:pt x="20" y="108"/>
                          </a:lnTo>
                          <a:lnTo>
                            <a:pt x="27" y="114"/>
                          </a:lnTo>
                          <a:lnTo>
                            <a:pt x="27" y="119"/>
                          </a:lnTo>
                          <a:lnTo>
                            <a:pt x="31" y="119"/>
                          </a:lnTo>
                          <a:lnTo>
                            <a:pt x="44" y="130"/>
                          </a:lnTo>
                          <a:lnTo>
                            <a:pt x="41" y="122"/>
                          </a:lnTo>
                          <a:lnTo>
                            <a:pt x="41" y="114"/>
                          </a:lnTo>
                          <a:lnTo>
                            <a:pt x="45" y="114"/>
                          </a:lnTo>
                          <a:lnTo>
                            <a:pt x="49" y="118"/>
                          </a:lnTo>
                          <a:lnTo>
                            <a:pt x="52" y="118"/>
                          </a:lnTo>
                          <a:lnTo>
                            <a:pt x="54" y="119"/>
                          </a:lnTo>
                          <a:lnTo>
                            <a:pt x="56" y="118"/>
                          </a:lnTo>
                          <a:lnTo>
                            <a:pt x="56" y="111"/>
                          </a:lnTo>
                          <a:lnTo>
                            <a:pt x="52" y="106"/>
                          </a:lnTo>
                          <a:lnTo>
                            <a:pt x="51" y="97"/>
                          </a:lnTo>
                          <a:lnTo>
                            <a:pt x="53" y="89"/>
                          </a:lnTo>
                          <a:lnTo>
                            <a:pt x="68" y="104"/>
                          </a:lnTo>
                          <a:lnTo>
                            <a:pt x="68" y="95"/>
                          </a:lnTo>
                          <a:lnTo>
                            <a:pt x="71" y="84"/>
                          </a:lnTo>
                          <a:lnTo>
                            <a:pt x="61" y="73"/>
                          </a:lnTo>
                          <a:lnTo>
                            <a:pt x="60" y="65"/>
                          </a:lnTo>
                          <a:lnTo>
                            <a:pt x="61" y="49"/>
                          </a:lnTo>
                          <a:lnTo>
                            <a:pt x="47" y="31"/>
                          </a:lnTo>
                          <a:lnTo>
                            <a:pt x="33" y="20"/>
                          </a:lnTo>
                          <a:lnTo>
                            <a:pt x="36" y="15"/>
                          </a:lnTo>
                          <a:lnTo>
                            <a:pt x="30" y="11"/>
                          </a:lnTo>
                          <a:lnTo>
                            <a:pt x="30" y="4"/>
                          </a:lnTo>
                          <a:lnTo>
                            <a:pt x="19" y="15"/>
                          </a:lnTo>
                          <a:lnTo>
                            <a:pt x="16" y="12"/>
                          </a:lnTo>
                          <a:lnTo>
                            <a:pt x="20" y="6"/>
                          </a:lnTo>
                          <a:lnTo>
                            <a:pt x="20" y="0"/>
                          </a:lnTo>
                          <a:lnTo>
                            <a:pt x="14" y="0"/>
                          </a:lnTo>
                          <a:lnTo>
                            <a:pt x="8" y="3"/>
                          </a:lnTo>
                          <a:lnTo>
                            <a:pt x="0" y="5"/>
                          </a:lnTo>
                          <a:lnTo>
                            <a:pt x="0" y="12"/>
                          </a:lnTo>
                          <a:lnTo>
                            <a:pt x="0" y="19"/>
                          </a:lnTo>
                          <a:lnTo>
                            <a:pt x="2" y="22"/>
                          </a:lnTo>
                          <a:lnTo>
                            <a:pt x="11" y="27"/>
                          </a:lnTo>
                          <a:lnTo>
                            <a:pt x="9" y="34"/>
                          </a:lnTo>
                          <a:lnTo>
                            <a:pt x="13" y="37"/>
                          </a:lnTo>
                          <a:lnTo>
                            <a:pt x="17" y="39"/>
                          </a:lnTo>
                          <a:lnTo>
                            <a:pt x="24" y="39"/>
                          </a:lnTo>
                          <a:lnTo>
                            <a:pt x="30" y="45"/>
                          </a:lnTo>
                          <a:lnTo>
                            <a:pt x="31" y="54"/>
                          </a:lnTo>
                          <a:lnTo>
                            <a:pt x="30" y="64"/>
                          </a:lnTo>
                          <a:lnTo>
                            <a:pt x="31" y="7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497720" y="4275000"/>
                      <a:ext cx="1112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59">
                          <a:moveTo>
                            <a:pt x="0" y="43"/>
                          </a:moveTo>
                          <a:lnTo>
                            <a:pt x="16" y="58"/>
                          </a:lnTo>
                          <a:lnTo>
                            <a:pt x="26" y="49"/>
                          </a:lnTo>
                          <a:lnTo>
                            <a:pt x="32" y="49"/>
                          </a:lnTo>
                          <a:lnTo>
                            <a:pt x="46" y="29"/>
                          </a:lnTo>
                          <a:lnTo>
                            <a:pt x="53" y="31"/>
                          </a:lnTo>
                          <a:lnTo>
                            <a:pt x="65" y="18"/>
                          </a:lnTo>
                          <a:lnTo>
                            <a:pt x="64" y="14"/>
                          </a:lnTo>
                          <a:lnTo>
                            <a:pt x="69" y="10"/>
                          </a:lnTo>
                          <a:lnTo>
                            <a:pt x="65" y="6"/>
                          </a:lnTo>
                          <a:lnTo>
                            <a:pt x="54" y="6"/>
                          </a:lnTo>
                          <a:lnTo>
                            <a:pt x="46" y="5"/>
                          </a:lnTo>
                          <a:lnTo>
                            <a:pt x="41" y="0"/>
                          </a:lnTo>
                          <a:lnTo>
                            <a:pt x="32" y="1"/>
                          </a:lnTo>
                          <a:lnTo>
                            <a:pt x="29" y="6"/>
                          </a:lnTo>
                          <a:lnTo>
                            <a:pt x="29" y="11"/>
                          </a:lnTo>
                          <a:lnTo>
                            <a:pt x="29" y="22"/>
                          </a:lnTo>
                          <a:lnTo>
                            <a:pt x="23" y="24"/>
                          </a:lnTo>
                          <a:lnTo>
                            <a:pt x="20" y="29"/>
                          </a:lnTo>
                          <a:lnTo>
                            <a:pt x="8" y="41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804080" y="4503600"/>
                      <a:ext cx="586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1">
                          <a:moveTo>
                            <a:pt x="0" y="16"/>
                          </a:moveTo>
                          <a:lnTo>
                            <a:pt x="13" y="7"/>
                          </a:lnTo>
                          <a:lnTo>
                            <a:pt x="17" y="7"/>
                          </a:lnTo>
                          <a:lnTo>
                            <a:pt x="17" y="3"/>
                          </a:lnTo>
                          <a:lnTo>
                            <a:pt x="20" y="0"/>
                          </a:lnTo>
                          <a:lnTo>
                            <a:pt x="24" y="1"/>
                          </a:lnTo>
                          <a:lnTo>
                            <a:pt x="32" y="7"/>
                          </a:lnTo>
                          <a:lnTo>
                            <a:pt x="32" y="11"/>
                          </a:lnTo>
                          <a:lnTo>
                            <a:pt x="36" y="13"/>
                          </a:lnTo>
                          <a:lnTo>
                            <a:pt x="36" y="19"/>
                          </a:lnTo>
                          <a:lnTo>
                            <a:pt x="32" y="20"/>
                          </a:lnTo>
                          <a:lnTo>
                            <a:pt x="32" y="25"/>
                          </a:lnTo>
                          <a:lnTo>
                            <a:pt x="26" y="30"/>
                          </a:lnTo>
                          <a:lnTo>
                            <a:pt x="9" y="30"/>
                          </a:lnTo>
                          <a:lnTo>
                            <a:pt x="7" y="2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575480" y="4286160"/>
                      <a:ext cx="20160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214">
                          <a:moveTo>
                            <a:pt x="0" y="63"/>
                          </a:moveTo>
                          <a:lnTo>
                            <a:pt x="0" y="44"/>
                          </a:lnTo>
                          <a:lnTo>
                            <a:pt x="5" y="42"/>
                          </a:lnTo>
                          <a:lnTo>
                            <a:pt x="4" y="38"/>
                          </a:lnTo>
                          <a:lnTo>
                            <a:pt x="18" y="22"/>
                          </a:lnTo>
                          <a:lnTo>
                            <a:pt x="26" y="16"/>
                          </a:lnTo>
                          <a:lnTo>
                            <a:pt x="30" y="13"/>
                          </a:lnTo>
                          <a:lnTo>
                            <a:pt x="39" y="7"/>
                          </a:lnTo>
                          <a:lnTo>
                            <a:pt x="41" y="7"/>
                          </a:lnTo>
                          <a:lnTo>
                            <a:pt x="45" y="7"/>
                          </a:lnTo>
                          <a:lnTo>
                            <a:pt x="49" y="2"/>
                          </a:lnTo>
                          <a:lnTo>
                            <a:pt x="56" y="1"/>
                          </a:lnTo>
                          <a:lnTo>
                            <a:pt x="69" y="0"/>
                          </a:lnTo>
                          <a:lnTo>
                            <a:pt x="77" y="8"/>
                          </a:lnTo>
                          <a:lnTo>
                            <a:pt x="76" y="13"/>
                          </a:lnTo>
                          <a:lnTo>
                            <a:pt x="81" y="16"/>
                          </a:lnTo>
                          <a:lnTo>
                            <a:pt x="92" y="3"/>
                          </a:lnTo>
                          <a:lnTo>
                            <a:pt x="93" y="16"/>
                          </a:lnTo>
                          <a:lnTo>
                            <a:pt x="99" y="34"/>
                          </a:lnTo>
                          <a:lnTo>
                            <a:pt x="103" y="50"/>
                          </a:lnTo>
                          <a:lnTo>
                            <a:pt x="114" y="66"/>
                          </a:lnTo>
                          <a:lnTo>
                            <a:pt x="115" y="75"/>
                          </a:lnTo>
                          <a:lnTo>
                            <a:pt x="117" y="91"/>
                          </a:lnTo>
                          <a:lnTo>
                            <a:pt x="121" y="99"/>
                          </a:lnTo>
                          <a:lnTo>
                            <a:pt x="126" y="115"/>
                          </a:lnTo>
                          <a:lnTo>
                            <a:pt x="122" y="126"/>
                          </a:lnTo>
                          <a:lnTo>
                            <a:pt x="121" y="131"/>
                          </a:lnTo>
                          <a:lnTo>
                            <a:pt x="113" y="133"/>
                          </a:lnTo>
                          <a:lnTo>
                            <a:pt x="104" y="140"/>
                          </a:lnTo>
                          <a:lnTo>
                            <a:pt x="100" y="144"/>
                          </a:lnTo>
                          <a:lnTo>
                            <a:pt x="101" y="148"/>
                          </a:lnTo>
                          <a:lnTo>
                            <a:pt x="93" y="156"/>
                          </a:lnTo>
                          <a:lnTo>
                            <a:pt x="88" y="160"/>
                          </a:lnTo>
                          <a:lnTo>
                            <a:pt x="84" y="160"/>
                          </a:lnTo>
                          <a:lnTo>
                            <a:pt x="77" y="165"/>
                          </a:lnTo>
                          <a:lnTo>
                            <a:pt x="78" y="171"/>
                          </a:lnTo>
                          <a:lnTo>
                            <a:pt x="69" y="178"/>
                          </a:lnTo>
                          <a:lnTo>
                            <a:pt x="69" y="185"/>
                          </a:lnTo>
                          <a:lnTo>
                            <a:pt x="66" y="194"/>
                          </a:lnTo>
                          <a:lnTo>
                            <a:pt x="66" y="203"/>
                          </a:lnTo>
                          <a:lnTo>
                            <a:pt x="65" y="209"/>
                          </a:lnTo>
                          <a:lnTo>
                            <a:pt x="61" y="213"/>
                          </a:lnTo>
                          <a:lnTo>
                            <a:pt x="52" y="213"/>
                          </a:lnTo>
                          <a:lnTo>
                            <a:pt x="45" y="212"/>
                          </a:lnTo>
                          <a:lnTo>
                            <a:pt x="34" y="205"/>
                          </a:lnTo>
                          <a:lnTo>
                            <a:pt x="28" y="199"/>
                          </a:lnTo>
                          <a:lnTo>
                            <a:pt x="27" y="194"/>
                          </a:lnTo>
                          <a:lnTo>
                            <a:pt x="27" y="187"/>
                          </a:lnTo>
                          <a:lnTo>
                            <a:pt x="23" y="178"/>
                          </a:lnTo>
                          <a:lnTo>
                            <a:pt x="21" y="171"/>
                          </a:lnTo>
                          <a:lnTo>
                            <a:pt x="22" y="165"/>
                          </a:lnTo>
                          <a:lnTo>
                            <a:pt x="21" y="156"/>
                          </a:lnTo>
                          <a:lnTo>
                            <a:pt x="17" y="154"/>
                          </a:lnTo>
                          <a:lnTo>
                            <a:pt x="23" y="148"/>
                          </a:lnTo>
                          <a:lnTo>
                            <a:pt x="27" y="140"/>
                          </a:lnTo>
                          <a:lnTo>
                            <a:pt x="27" y="135"/>
                          </a:lnTo>
                          <a:lnTo>
                            <a:pt x="24" y="128"/>
                          </a:lnTo>
                          <a:lnTo>
                            <a:pt x="19" y="121"/>
                          </a:lnTo>
                          <a:lnTo>
                            <a:pt x="22" y="110"/>
                          </a:lnTo>
                          <a:lnTo>
                            <a:pt x="20" y="98"/>
                          </a:lnTo>
                          <a:lnTo>
                            <a:pt x="18" y="87"/>
                          </a:lnTo>
                          <a:lnTo>
                            <a:pt x="16" y="74"/>
                          </a:lnTo>
                          <a:lnTo>
                            <a:pt x="8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7523280" y="4770360"/>
                      <a:ext cx="66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0"/>
                          </a:moveTo>
                          <a:lnTo>
                            <a:pt x="15" y="36"/>
                          </a:lnTo>
                          <a:lnTo>
                            <a:pt x="26" y="37"/>
                          </a:lnTo>
                          <a:lnTo>
                            <a:pt x="33" y="40"/>
                          </a:lnTo>
                          <a:lnTo>
                            <a:pt x="37" y="42"/>
                          </a:lnTo>
                          <a:lnTo>
                            <a:pt x="41" y="34"/>
                          </a:lnTo>
                          <a:lnTo>
                            <a:pt x="40" y="30"/>
                          </a:lnTo>
                          <a:lnTo>
                            <a:pt x="41" y="25"/>
                          </a:lnTo>
                          <a:lnTo>
                            <a:pt x="39" y="20"/>
                          </a:lnTo>
                          <a:lnTo>
                            <a:pt x="36" y="23"/>
                          </a:lnTo>
                          <a:lnTo>
                            <a:pt x="26" y="12"/>
                          </a:lnTo>
                          <a:lnTo>
                            <a:pt x="26" y="4"/>
                          </a:lnTo>
                          <a:lnTo>
                            <a:pt x="30" y="1"/>
                          </a:lnTo>
                          <a:lnTo>
                            <a:pt x="27" y="0"/>
                          </a:lnTo>
                          <a:lnTo>
                            <a:pt x="16" y="5"/>
                          </a:lnTo>
                          <a:lnTo>
                            <a:pt x="16" y="11"/>
                          </a:lnTo>
                          <a:lnTo>
                            <a:pt x="14" y="19"/>
                          </a:lnTo>
                          <a:lnTo>
                            <a:pt x="8" y="27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7201080" y="4724280"/>
                  <a:ext cx="139680" cy="133560"/>
                  <a:chOff x="7201080" y="4724280"/>
                  <a:chExt cx="139680" cy="13356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7201080" y="472428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0" y="6"/>
                        </a:move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7" y="2"/>
                        </a:lnTo>
                        <a:lnTo>
                          <a:pt x="26" y="0"/>
                        </a:lnTo>
                        <a:lnTo>
                          <a:pt x="32" y="4"/>
                        </a:lnTo>
                        <a:lnTo>
                          <a:pt x="36" y="4"/>
                        </a:lnTo>
                        <a:lnTo>
                          <a:pt x="38" y="11"/>
                        </a:lnTo>
                        <a:lnTo>
                          <a:pt x="42" y="13"/>
                        </a:lnTo>
                        <a:lnTo>
                          <a:pt x="42" y="19"/>
                        </a:lnTo>
                        <a:lnTo>
                          <a:pt x="43" y="25"/>
                        </a:lnTo>
                        <a:lnTo>
                          <a:pt x="44" y="30"/>
                        </a:lnTo>
                        <a:lnTo>
                          <a:pt x="52" y="40"/>
                        </a:lnTo>
                        <a:lnTo>
                          <a:pt x="55" y="42"/>
                        </a:lnTo>
                        <a:lnTo>
                          <a:pt x="58" y="43"/>
                        </a:lnTo>
                        <a:lnTo>
                          <a:pt x="59" y="48"/>
                        </a:lnTo>
                        <a:lnTo>
                          <a:pt x="53" y="54"/>
                        </a:lnTo>
                        <a:lnTo>
                          <a:pt x="44" y="66"/>
                        </a:lnTo>
                        <a:lnTo>
                          <a:pt x="42" y="65"/>
                        </a:lnTo>
                        <a:lnTo>
                          <a:pt x="40" y="59"/>
                        </a:lnTo>
                        <a:lnTo>
                          <a:pt x="41" y="49"/>
                        </a:lnTo>
                        <a:lnTo>
                          <a:pt x="42" y="46"/>
                        </a:lnTo>
                        <a:lnTo>
                          <a:pt x="42" y="41"/>
                        </a:lnTo>
                        <a:lnTo>
                          <a:pt x="28" y="43"/>
                        </a:lnTo>
                        <a:lnTo>
                          <a:pt x="17" y="52"/>
                        </a:lnTo>
                        <a:lnTo>
                          <a:pt x="17" y="56"/>
                        </a:lnTo>
                        <a:lnTo>
                          <a:pt x="15" y="63"/>
                        </a:lnTo>
                        <a:lnTo>
                          <a:pt x="7" y="63"/>
                        </a:lnTo>
                        <a:lnTo>
                          <a:pt x="4" y="60"/>
                        </a:lnTo>
                        <a:lnTo>
                          <a:pt x="7" y="54"/>
                        </a:lnTo>
                        <a:lnTo>
                          <a:pt x="8" y="49"/>
                        </a:lnTo>
                        <a:lnTo>
                          <a:pt x="11" y="48"/>
                        </a:lnTo>
                        <a:lnTo>
                          <a:pt x="9" y="44"/>
                        </a:lnTo>
                        <a:lnTo>
                          <a:pt x="16" y="35"/>
                        </a:lnTo>
                        <a:lnTo>
                          <a:pt x="20" y="35"/>
                        </a:lnTo>
                        <a:lnTo>
                          <a:pt x="26" y="36"/>
                        </a:lnTo>
                        <a:lnTo>
                          <a:pt x="30" y="32"/>
                        </a:lnTo>
                        <a:lnTo>
                          <a:pt x="34" y="31"/>
                        </a:lnTo>
                        <a:lnTo>
                          <a:pt x="34" y="28"/>
                        </a:lnTo>
                        <a:lnTo>
                          <a:pt x="22" y="26"/>
                        </a:lnTo>
                        <a:lnTo>
                          <a:pt x="23" y="16"/>
                        </a:lnTo>
                        <a:lnTo>
                          <a:pt x="19" y="16"/>
                        </a:lnTo>
                        <a:lnTo>
                          <a:pt x="11" y="16"/>
                        </a:lnTo>
                        <a:lnTo>
                          <a:pt x="0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7254720" y="4841640"/>
                    <a:ext cx="381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0" y="7"/>
                        </a:moveTo>
                        <a:lnTo>
                          <a:pt x="13" y="9"/>
                        </a:lnTo>
                        <a:lnTo>
                          <a:pt x="23" y="1"/>
                        </a:lnTo>
                        <a:lnTo>
                          <a:pt x="13" y="0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7305840" y="483552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5"/>
                        </a:moveTo>
                        <a:lnTo>
                          <a:pt x="12" y="8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7594560" y="3943440"/>
                  <a:ext cx="31680" cy="52200"/>
                  <a:chOff x="7594560" y="3943440"/>
                  <a:chExt cx="31680" cy="5220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7594560" y="3970440"/>
                    <a:ext cx="31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0" y="10"/>
                        </a:moveTo>
                        <a:lnTo>
                          <a:pt x="19" y="15"/>
                        </a:lnTo>
                        <a:lnTo>
                          <a:pt x="18" y="6"/>
                        </a:lnTo>
                        <a:lnTo>
                          <a:pt x="18" y="0"/>
                        </a:lnTo>
                        <a:lnTo>
                          <a:pt x="9" y="4"/>
                        </a:lnTo>
                        <a:lnTo>
                          <a:pt x="0" y="1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594560" y="3943440"/>
                    <a:ext cx="25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9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7236000" y="3706920"/>
                <a:ext cx="1796760" cy="2261880"/>
                <a:chOff x="7236000" y="3706920"/>
                <a:chExt cx="1796760" cy="226188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8058240" y="4703760"/>
                  <a:ext cx="974520" cy="1265040"/>
                </a:xfrm>
                <a:custGeom>
                  <a:avLst/>
                  <a:gdLst/>
                  <a:ahLst/>
                  <a:rect l="l" t="t" r="r" b="b"/>
                  <a:pathLst>
                    <a:path w="614" h="797">
                      <a:moveTo>
                        <a:pt x="50" y="120"/>
                      </a:moveTo>
                      <a:lnTo>
                        <a:pt x="86" y="106"/>
                      </a:lnTo>
                      <a:lnTo>
                        <a:pt x="102" y="79"/>
                      </a:lnTo>
                      <a:lnTo>
                        <a:pt x="119" y="73"/>
                      </a:lnTo>
                      <a:lnTo>
                        <a:pt x="143" y="54"/>
                      </a:lnTo>
                      <a:lnTo>
                        <a:pt x="168" y="84"/>
                      </a:lnTo>
                      <a:lnTo>
                        <a:pt x="181" y="73"/>
                      </a:lnTo>
                      <a:lnTo>
                        <a:pt x="190" y="76"/>
                      </a:lnTo>
                      <a:lnTo>
                        <a:pt x="202" y="71"/>
                      </a:lnTo>
                      <a:lnTo>
                        <a:pt x="210" y="71"/>
                      </a:lnTo>
                      <a:lnTo>
                        <a:pt x="227" y="73"/>
                      </a:lnTo>
                      <a:lnTo>
                        <a:pt x="246" y="62"/>
                      </a:lnTo>
                      <a:lnTo>
                        <a:pt x="232" y="46"/>
                      </a:lnTo>
                      <a:lnTo>
                        <a:pt x="251" y="26"/>
                      </a:lnTo>
                      <a:lnTo>
                        <a:pt x="268" y="26"/>
                      </a:lnTo>
                      <a:lnTo>
                        <a:pt x="290" y="4"/>
                      </a:lnTo>
                      <a:lnTo>
                        <a:pt x="307" y="4"/>
                      </a:lnTo>
                      <a:lnTo>
                        <a:pt x="315" y="0"/>
                      </a:lnTo>
                      <a:lnTo>
                        <a:pt x="339" y="4"/>
                      </a:lnTo>
                      <a:lnTo>
                        <a:pt x="350" y="13"/>
                      </a:lnTo>
                      <a:lnTo>
                        <a:pt x="359" y="15"/>
                      </a:lnTo>
                      <a:lnTo>
                        <a:pt x="378" y="24"/>
                      </a:lnTo>
                      <a:lnTo>
                        <a:pt x="397" y="32"/>
                      </a:lnTo>
                      <a:lnTo>
                        <a:pt x="414" y="43"/>
                      </a:lnTo>
                      <a:lnTo>
                        <a:pt x="436" y="65"/>
                      </a:lnTo>
                      <a:lnTo>
                        <a:pt x="444" y="79"/>
                      </a:lnTo>
                      <a:lnTo>
                        <a:pt x="468" y="76"/>
                      </a:lnTo>
                      <a:lnTo>
                        <a:pt x="505" y="82"/>
                      </a:lnTo>
                      <a:lnTo>
                        <a:pt x="524" y="93"/>
                      </a:lnTo>
                      <a:lnTo>
                        <a:pt x="562" y="65"/>
                      </a:lnTo>
                      <a:lnTo>
                        <a:pt x="560" y="49"/>
                      </a:lnTo>
                      <a:lnTo>
                        <a:pt x="573" y="32"/>
                      </a:lnTo>
                      <a:lnTo>
                        <a:pt x="587" y="26"/>
                      </a:lnTo>
                      <a:lnTo>
                        <a:pt x="593" y="49"/>
                      </a:lnTo>
                      <a:lnTo>
                        <a:pt x="595" y="79"/>
                      </a:lnTo>
                      <a:lnTo>
                        <a:pt x="604" y="112"/>
                      </a:lnTo>
                      <a:lnTo>
                        <a:pt x="604" y="137"/>
                      </a:lnTo>
                      <a:lnTo>
                        <a:pt x="590" y="156"/>
                      </a:lnTo>
                      <a:lnTo>
                        <a:pt x="606" y="162"/>
                      </a:lnTo>
                      <a:lnTo>
                        <a:pt x="601" y="186"/>
                      </a:lnTo>
                      <a:lnTo>
                        <a:pt x="595" y="217"/>
                      </a:lnTo>
                      <a:lnTo>
                        <a:pt x="587" y="239"/>
                      </a:lnTo>
                      <a:lnTo>
                        <a:pt x="576" y="258"/>
                      </a:lnTo>
                      <a:lnTo>
                        <a:pt x="571" y="271"/>
                      </a:lnTo>
                      <a:lnTo>
                        <a:pt x="573" y="291"/>
                      </a:lnTo>
                      <a:lnTo>
                        <a:pt x="579" y="316"/>
                      </a:lnTo>
                      <a:lnTo>
                        <a:pt x="573" y="332"/>
                      </a:lnTo>
                      <a:lnTo>
                        <a:pt x="576" y="346"/>
                      </a:lnTo>
                      <a:lnTo>
                        <a:pt x="582" y="357"/>
                      </a:lnTo>
                      <a:lnTo>
                        <a:pt x="590" y="373"/>
                      </a:lnTo>
                      <a:lnTo>
                        <a:pt x="613" y="399"/>
                      </a:lnTo>
                      <a:lnTo>
                        <a:pt x="608" y="420"/>
                      </a:lnTo>
                      <a:lnTo>
                        <a:pt x="598" y="462"/>
                      </a:lnTo>
                      <a:lnTo>
                        <a:pt x="586" y="507"/>
                      </a:lnTo>
                      <a:lnTo>
                        <a:pt x="575" y="541"/>
                      </a:lnTo>
                      <a:lnTo>
                        <a:pt x="560" y="577"/>
                      </a:lnTo>
                      <a:lnTo>
                        <a:pt x="540" y="621"/>
                      </a:lnTo>
                      <a:lnTo>
                        <a:pt x="523" y="655"/>
                      </a:lnTo>
                      <a:lnTo>
                        <a:pt x="502" y="693"/>
                      </a:lnTo>
                      <a:lnTo>
                        <a:pt x="484" y="721"/>
                      </a:lnTo>
                      <a:lnTo>
                        <a:pt x="464" y="751"/>
                      </a:lnTo>
                      <a:lnTo>
                        <a:pt x="437" y="785"/>
                      </a:lnTo>
                      <a:lnTo>
                        <a:pt x="414" y="796"/>
                      </a:lnTo>
                      <a:lnTo>
                        <a:pt x="395" y="790"/>
                      </a:lnTo>
                      <a:lnTo>
                        <a:pt x="384" y="765"/>
                      </a:lnTo>
                      <a:lnTo>
                        <a:pt x="389" y="759"/>
                      </a:lnTo>
                      <a:lnTo>
                        <a:pt x="395" y="740"/>
                      </a:lnTo>
                      <a:lnTo>
                        <a:pt x="384" y="729"/>
                      </a:lnTo>
                      <a:lnTo>
                        <a:pt x="384" y="716"/>
                      </a:lnTo>
                      <a:lnTo>
                        <a:pt x="375" y="705"/>
                      </a:lnTo>
                      <a:lnTo>
                        <a:pt x="375" y="668"/>
                      </a:lnTo>
                      <a:lnTo>
                        <a:pt x="365" y="644"/>
                      </a:lnTo>
                      <a:lnTo>
                        <a:pt x="359" y="629"/>
                      </a:lnTo>
                      <a:lnTo>
                        <a:pt x="348" y="616"/>
                      </a:lnTo>
                      <a:lnTo>
                        <a:pt x="331" y="599"/>
                      </a:lnTo>
                      <a:lnTo>
                        <a:pt x="345" y="575"/>
                      </a:lnTo>
                      <a:lnTo>
                        <a:pt x="348" y="555"/>
                      </a:lnTo>
                      <a:lnTo>
                        <a:pt x="348" y="544"/>
                      </a:lnTo>
                      <a:lnTo>
                        <a:pt x="359" y="536"/>
                      </a:lnTo>
                      <a:lnTo>
                        <a:pt x="353" y="519"/>
                      </a:lnTo>
                      <a:lnTo>
                        <a:pt x="350" y="497"/>
                      </a:lnTo>
                      <a:lnTo>
                        <a:pt x="345" y="476"/>
                      </a:lnTo>
                      <a:lnTo>
                        <a:pt x="290" y="431"/>
                      </a:lnTo>
                      <a:lnTo>
                        <a:pt x="285" y="418"/>
                      </a:lnTo>
                      <a:lnTo>
                        <a:pt x="290" y="387"/>
                      </a:lnTo>
                      <a:lnTo>
                        <a:pt x="276" y="373"/>
                      </a:lnTo>
                      <a:lnTo>
                        <a:pt x="262" y="381"/>
                      </a:lnTo>
                      <a:lnTo>
                        <a:pt x="235" y="385"/>
                      </a:lnTo>
                      <a:lnTo>
                        <a:pt x="224" y="371"/>
                      </a:lnTo>
                      <a:lnTo>
                        <a:pt x="208" y="387"/>
                      </a:lnTo>
                      <a:lnTo>
                        <a:pt x="198" y="404"/>
                      </a:lnTo>
                      <a:lnTo>
                        <a:pt x="179" y="404"/>
                      </a:lnTo>
                      <a:lnTo>
                        <a:pt x="166" y="415"/>
                      </a:lnTo>
                      <a:lnTo>
                        <a:pt x="146" y="415"/>
                      </a:lnTo>
                      <a:lnTo>
                        <a:pt x="124" y="431"/>
                      </a:lnTo>
                      <a:lnTo>
                        <a:pt x="97" y="429"/>
                      </a:lnTo>
                      <a:lnTo>
                        <a:pt x="61" y="401"/>
                      </a:lnTo>
                      <a:lnTo>
                        <a:pt x="31" y="379"/>
                      </a:lnTo>
                      <a:lnTo>
                        <a:pt x="17" y="362"/>
                      </a:lnTo>
                      <a:lnTo>
                        <a:pt x="17" y="313"/>
                      </a:lnTo>
                      <a:lnTo>
                        <a:pt x="0" y="299"/>
                      </a:lnTo>
                      <a:lnTo>
                        <a:pt x="0" y="282"/>
                      </a:lnTo>
                      <a:lnTo>
                        <a:pt x="3" y="269"/>
                      </a:lnTo>
                      <a:lnTo>
                        <a:pt x="14" y="250"/>
                      </a:lnTo>
                      <a:lnTo>
                        <a:pt x="6" y="233"/>
                      </a:lnTo>
                      <a:lnTo>
                        <a:pt x="14" y="214"/>
                      </a:lnTo>
                      <a:lnTo>
                        <a:pt x="28" y="205"/>
                      </a:lnTo>
                      <a:lnTo>
                        <a:pt x="39" y="194"/>
                      </a:lnTo>
                      <a:lnTo>
                        <a:pt x="39" y="183"/>
                      </a:lnTo>
                      <a:lnTo>
                        <a:pt x="28" y="175"/>
                      </a:lnTo>
                      <a:lnTo>
                        <a:pt x="28" y="162"/>
                      </a:lnTo>
                      <a:lnTo>
                        <a:pt x="36" y="153"/>
                      </a:lnTo>
                      <a:lnTo>
                        <a:pt x="50" y="12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6" name=""/>
                <p:cNvGrpSpPr/>
                <p:nvPr/>
              </p:nvGrpSpPr>
              <p:grpSpPr>
                <a:xfrm>
                  <a:off x="8837640" y="5165640"/>
                  <a:ext cx="111240" cy="271440"/>
                  <a:chOff x="8837640" y="5165640"/>
                  <a:chExt cx="111240" cy="27144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8837640" y="5165640"/>
                    <a:ext cx="44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8">
                        <a:moveTo>
                          <a:pt x="19" y="0"/>
                        </a:moveTo>
                        <a:lnTo>
                          <a:pt x="0" y="13"/>
                        </a:lnTo>
                        <a:lnTo>
                          <a:pt x="8" y="33"/>
                        </a:lnTo>
                        <a:lnTo>
                          <a:pt x="14" y="47"/>
                        </a:lnTo>
                        <a:lnTo>
                          <a:pt x="27" y="36"/>
                        </a:lnTo>
                        <a:lnTo>
                          <a:pt x="19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8910720" y="5357880"/>
                    <a:ext cx="38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0">
                        <a:moveTo>
                          <a:pt x="15" y="0"/>
                        </a:moveTo>
                        <a:lnTo>
                          <a:pt x="0" y="10"/>
                        </a:lnTo>
                        <a:lnTo>
                          <a:pt x="3" y="26"/>
                        </a:lnTo>
                        <a:lnTo>
                          <a:pt x="6" y="46"/>
                        </a:lnTo>
                        <a:lnTo>
                          <a:pt x="23" y="49"/>
                        </a:lnTo>
                        <a:lnTo>
                          <a:pt x="23" y="33"/>
                        </a:lnTo>
                        <a:lnTo>
                          <a:pt x="1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>
                  <a:off x="7236000" y="3706920"/>
                  <a:ext cx="1687320" cy="1195200"/>
                </a:xfrm>
                <a:custGeom>
                  <a:avLst/>
                  <a:gdLst/>
                  <a:ahLst/>
                  <a:rect l="l" t="t" r="r" b="b"/>
                  <a:pathLst>
                    <a:path w="1063" h="753">
                      <a:moveTo>
                        <a:pt x="516" y="700"/>
                      </a:moveTo>
                      <a:lnTo>
                        <a:pt x="531" y="721"/>
                      </a:lnTo>
                      <a:lnTo>
                        <a:pt x="526" y="733"/>
                      </a:lnTo>
                      <a:lnTo>
                        <a:pt x="533" y="742"/>
                      </a:lnTo>
                      <a:lnTo>
                        <a:pt x="542" y="752"/>
                      </a:lnTo>
                      <a:lnTo>
                        <a:pt x="556" y="750"/>
                      </a:lnTo>
                      <a:lnTo>
                        <a:pt x="570" y="733"/>
                      </a:lnTo>
                      <a:lnTo>
                        <a:pt x="586" y="722"/>
                      </a:lnTo>
                      <a:lnTo>
                        <a:pt x="594" y="712"/>
                      </a:lnTo>
                      <a:lnTo>
                        <a:pt x="591" y="701"/>
                      </a:lnTo>
                      <a:lnTo>
                        <a:pt x="589" y="690"/>
                      </a:lnTo>
                      <a:lnTo>
                        <a:pt x="589" y="677"/>
                      </a:lnTo>
                      <a:lnTo>
                        <a:pt x="597" y="672"/>
                      </a:lnTo>
                      <a:lnTo>
                        <a:pt x="597" y="660"/>
                      </a:lnTo>
                      <a:lnTo>
                        <a:pt x="594" y="653"/>
                      </a:lnTo>
                      <a:lnTo>
                        <a:pt x="600" y="647"/>
                      </a:lnTo>
                      <a:lnTo>
                        <a:pt x="610" y="647"/>
                      </a:lnTo>
                      <a:lnTo>
                        <a:pt x="613" y="641"/>
                      </a:lnTo>
                      <a:lnTo>
                        <a:pt x="613" y="632"/>
                      </a:lnTo>
                      <a:lnTo>
                        <a:pt x="616" y="625"/>
                      </a:lnTo>
                      <a:lnTo>
                        <a:pt x="640" y="628"/>
                      </a:lnTo>
                      <a:lnTo>
                        <a:pt x="649" y="635"/>
                      </a:lnTo>
                      <a:lnTo>
                        <a:pt x="691" y="631"/>
                      </a:lnTo>
                      <a:lnTo>
                        <a:pt x="692" y="622"/>
                      </a:lnTo>
                      <a:lnTo>
                        <a:pt x="680" y="612"/>
                      </a:lnTo>
                      <a:lnTo>
                        <a:pt x="651" y="613"/>
                      </a:lnTo>
                      <a:lnTo>
                        <a:pt x="638" y="612"/>
                      </a:lnTo>
                      <a:lnTo>
                        <a:pt x="633" y="606"/>
                      </a:lnTo>
                      <a:lnTo>
                        <a:pt x="633" y="597"/>
                      </a:lnTo>
                      <a:lnTo>
                        <a:pt x="638" y="591"/>
                      </a:lnTo>
                      <a:lnTo>
                        <a:pt x="649" y="600"/>
                      </a:lnTo>
                      <a:lnTo>
                        <a:pt x="665" y="600"/>
                      </a:lnTo>
                      <a:lnTo>
                        <a:pt x="676" y="601"/>
                      </a:lnTo>
                      <a:lnTo>
                        <a:pt x="687" y="601"/>
                      </a:lnTo>
                      <a:lnTo>
                        <a:pt x="696" y="608"/>
                      </a:lnTo>
                      <a:lnTo>
                        <a:pt x="710" y="614"/>
                      </a:lnTo>
                      <a:lnTo>
                        <a:pt x="722" y="616"/>
                      </a:lnTo>
                      <a:lnTo>
                        <a:pt x="722" y="605"/>
                      </a:lnTo>
                      <a:lnTo>
                        <a:pt x="730" y="601"/>
                      </a:lnTo>
                      <a:lnTo>
                        <a:pt x="726" y="593"/>
                      </a:lnTo>
                      <a:lnTo>
                        <a:pt x="719" y="586"/>
                      </a:lnTo>
                      <a:lnTo>
                        <a:pt x="721" y="578"/>
                      </a:lnTo>
                      <a:lnTo>
                        <a:pt x="725" y="572"/>
                      </a:lnTo>
                      <a:lnTo>
                        <a:pt x="734" y="559"/>
                      </a:lnTo>
                      <a:lnTo>
                        <a:pt x="740" y="567"/>
                      </a:lnTo>
                      <a:lnTo>
                        <a:pt x="735" y="578"/>
                      </a:lnTo>
                      <a:lnTo>
                        <a:pt x="743" y="583"/>
                      </a:lnTo>
                      <a:lnTo>
                        <a:pt x="752" y="586"/>
                      </a:lnTo>
                      <a:lnTo>
                        <a:pt x="760" y="591"/>
                      </a:lnTo>
                      <a:lnTo>
                        <a:pt x="772" y="591"/>
                      </a:lnTo>
                      <a:lnTo>
                        <a:pt x="782" y="589"/>
                      </a:lnTo>
                      <a:lnTo>
                        <a:pt x="785" y="582"/>
                      </a:lnTo>
                      <a:lnTo>
                        <a:pt x="785" y="573"/>
                      </a:lnTo>
                      <a:lnTo>
                        <a:pt x="791" y="567"/>
                      </a:lnTo>
                      <a:lnTo>
                        <a:pt x="802" y="561"/>
                      </a:lnTo>
                      <a:lnTo>
                        <a:pt x="806" y="555"/>
                      </a:lnTo>
                      <a:lnTo>
                        <a:pt x="804" y="548"/>
                      </a:lnTo>
                      <a:lnTo>
                        <a:pt x="808" y="540"/>
                      </a:lnTo>
                      <a:lnTo>
                        <a:pt x="820" y="555"/>
                      </a:lnTo>
                      <a:lnTo>
                        <a:pt x="826" y="567"/>
                      </a:lnTo>
                      <a:lnTo>
                        <a:pt x="829" y="571"/>
                      </a:lnTo>
                      <a:lnTo>
                        <a:pt x="834" y="582"/>
                      </a:lnTo>
                      <a:lnTo>
                        <a:pt x="839" y="589"/>
                      </a:lnTo>
                      <a:lnTo>
                        <a:pt x="838" y="600"/>
                      </a:lnTo>
                      <a:lnTo>
                        <a:pt x="837" y="609"/>
                      </a:lnTo>
                      <a:lnTo>
                        <a:pt x="843" y="619"/>
                      </a:lnTo>
                      <a:lnTo>
                        <a:pt x="853" y="625"/>
                      </a:lnTo>
                      <a:lnTo>
                        <a:pt x="864" y="625"/>
                      </a:lnTo>
                      <a:lnTo>
                        <a:pt x="875" y="623"/>
                      </a:lnTo>
                      <a:lnTo>
                        <a:pt x="894" y="625"/>
                      </a:lnTo>
                      <a:lnTo>
                        <a:pt x="916" y="638"/>
                      </a:lnTo>
                      <a:lnTo>
                        <a:pt x="927" y="635"/>
                      </a:lnTo>
                      <a:lnTo>
                        <a:pt x="936" y="646"/>
                      </a:lnTo>
                      <a:lnTo>
                        <a:pt x="944" y="653"/>
                      </a:lnTo>
                      <a:lnTo>
                        <a:pt x="961" y="660"/>
                      </a:lnTo>
                      <a:lnTo>
                        <a:pt x="972" y="659"/>
                      </a:lnTo>
                      <a:lnTo>
                        <a:pt x="986" y="663"/>
                      </a:lnTo>
                      <a:lnTo>
                        <a:pt x="1000" y="674"/>
                      </a:lnTo>
                      <a:lnTo>
                        <a:pt x="1019" y="693"/>
                      </a:lnTo>
                      <a:lnTo>
                        <a:pt x="1035" y="706"/>
                      </a:lnTo>
                      <a:lnTo>
                        <a:pt x="1043" y="689"/>
                      </a:lnTo>
                      <a:lnTo>
                        <a:pt x="1047" y="675"/>
                      </a:lnTo>
                      <a:lnTo>
                        <a:pt x="1055" y="657"/>
                      </a:lnTo>
                      <a:lnTo>
                        <a:pt x="1059" y="631"/>
                      </a:lnTo>
                      <a:lnTo>
                        <a:pt x="1062" y="602"/>
                      </a:lnTo>
                      <a:lnTo>
                        <a:pt x="1058" y="597"/>
                      </a:lnTo>
                      <a:lnTo>
                        <a:pt x="1061" y="564"/>
                      </a:lnTo>
                      <a:lnTo>
                        <a:pt x="1060" y="543"/>
                      </a:lnTo>
                      <a:lnTo>
                        <a:pt x="1055" y="529"/>
                      </a:lnTo>
                      <a:lnTo>
                        <a:pt x="1055" y="509"/>
                      </a:lnTo>
                      <a:lnTo>
                        <a:pt x="1047" y="501"/>
                      </a:lnTo>
                      <a:lnTo>
                        <a:pt x="1042" y="492"/>
                      </a:lnTo>
                      <a:lnTo>
                        <a:pt x="1036" y="479"/>
                      </a:lnTo>
                      <a:lnTo>
                        <a:pt x="1036" y="469"/>
                      </a:lnTo>
                      <a:lnTo>
                        <a:pt x="1030" y="460"/>
                      </a:lnTo>
                      <a:lnTo>
                        <a:pt x="1018" y="460"/>
                      </a:lnTo>
                      <a:lnTo>
                        <a:pt x="1009" y="460"/>
                      </a:lnTo>
                      <a:lnTo>
                        <a:pt x="1004" y="470"/>
                      </a:lnTo>
                      <a:lnTo>
                        <a:pt x="996" y="471"/>
                      </a:lnTo>
                      <a:lnTo>
                        <a:pt x="985" y="471"/>
                      </a:lnTo>
                      <a:lnTo>
                        <a:pt x="985" y="487"/>
                      </a:lnTo>
                      <a:lnTo>
                        <a:pt x="989" y="496"/>
                      </a:lnTo>
                      <a:lnTo>
                        <a:pt x="986" y="505"/>
                      </a:lnTo>
                      <a:lnTo>
                        <a:pt x="984" y="515"/>
                      </a:lnTo>
                      <a:lnTo>
                        <a:pt x="974" y="518"/>
                      </a:lnTo>
                      <a:lnTo>
                        <a:pt x="967" y="517"/>
                      </a:lnTo>
                      <a:lnTo>
                        <a:pt x="960" y="514"/>
                      </a:lnTo>
                      <a:lnTo>
                        <a:pt x="955" y="512"/>
                      </a:lnTo>
                      <a:lnTo>
                        <a:pt x="949" y="512"/>
                      </a:lnTo>
                      <a:lnTo>
                        <a:pt x="941" y="510"/>
                      </a:lnTo>
                      <a:lnTo>
                        <a:pt x="932" y="509"/>
                      </a:lnTo>
                      <a:lnTo>
                        <a:pt x="925" y="509"/>
                      </a:lnTo>
                      <a:lnTo>
                        <a:pt x="919" y="498"/>
                      </a:lnTo>
                      <a:lnTo>
                        <a:pt x="929" y="491"/>
                      </a:lnTo>
                      <a:lnTo>
                        <a:pt x="936" y="490"/>
                      </a:lnTo>
                      <a:lnTo>
                        <a:pt x="940" y="493"/>
                      </a:lnTo>
                      <a:lnTo>
                        <a:pt x="947" y="492"/>
                      </a:lnTo>
                      <a:lnTo>
                        <a:pt x="961" y="485"/>
                      </a:lnTo>
                      <a:lnTo>
                        <a:pt x="967" y="473"/>
                      </a:lnTo>
                      <a:lnTo>
                        <a:pt x="977" y="460"/>
                      </a:lnTo>
                      <a:lnTo>
                        <a:pt x="985" y="448"/>
                      </a:lnTo>
                      <a:lnTo>
                        <a:pt x="990" y="440"/>
                      </a:lnTo>
                      <a:lnTo>
                        <a:pt x="999" y="431"/>
                      </a:lnTo>
                      <a:lnTo>
                        <a:pt x="1000" y="420"/>
                      </a:lnTo>
                      <a:lnTo>
                        <a:pt x="1007" y="397"/>
                      </a:lnTo>
                      <a:lnTo>
                        <a:pt x="974" y="352"/>
                      </a:lnTo>
                      <a:lnTo>
                        <a:pt x="944" y="311"/>
                      </a:lnTo>
                      <a:lnTo>
                        <a:pt x="913" y="276"/>
                      </a:lnTo>
                      <a:lnTo>
                        <a:pt x="881" y="245"/>
                      </a:lnTo>
                      <a:lnTo>
                        <a:pt x="857" y="222"/>
                      </a:lnTo>
                      <a:lnTo>
                        <a:pt x="837" y="204"/>
                      </a:lnTo>
                      <a:lnTo>
                        <a:pt x="810" y="182"/>
                      </a:lnTo>
                      <a:lnTo>
                        <a:pt x="783" y="162"/>
                      </a:lnTo>
                      <a:lnTo>
                        <a:pt x="749" y="136"/>
                      </a:lnTo>
                      <a:lnTo>
                        <a:pt x="719" y="117"/>
                      </a:lnTo>
                      <a:lnTo>
                        <a:pt x="691" y="102"/>
                      </a:lnTo>
                      <a:lnTo>
                        <a:pt x="661" y="88"/>
                      </a:lnTo>
                      <a:lnTo>
                        <a:pt x="625" y="71"/>
                      </a:lnTo>
                      <a:lnTo>
                        <a:pt x="574" y="51"/>
                      </a:lnTo>
                      <a:lnTo>
                        <a:pt x="520" y="33"/>
                      </a:lnTo>
                      <a:lnTo>
                        <a:pt x="474" y="21"/>
                      </a:lnTo>
                      <a:lnTo>
                        <a:pt x="440" y="14"/>
                      </a:lnTo>
                      <a:lnTo>
                        <a:pt x="391" y="6"/>
                      </a:lnTo>
                      <a:lnTo>
                        <a:pt x="333" y="1"/>
                      </a:lnTo>
                      <a:lnTo>
                        <a:pt x="256" y="0"/>
                      </a:lnTo>
                      <a:lnTo>
                        <a:pt x="195" y="4"/>
                      </a:lnTo>
                      <a:lnTo>
                        <a:pt x="190" y="14"/>
                      </a:lnTo>
                      <a:lnTo>
                        <a:pt x="178" y="18"/>
                      </a:lnTo>
                      <a:lnTo>
                        <a:pt x="170" y="21"/>
                      </a:lnTo>
                      <a:lnTo>
                        <a:pt x="154" y="21"/>
                      </a:lnTo>
                      <a:lnTo>
                        <a:pt x="138" y="27"/>
                      </a:lnTo>
                      <a:lnTo>
                        <a:pt x="119" y="29"/>
                      </a:lnTo>
                      <a:lnTo>
                        <a:pt x="105" y="44"/>
                      </a:lnTo>
                      <a:lnTo>
                        <a:pt x="103" y="56"/>
                      </a:lnTo>
                      <a:lnTo>
                        <a:pt x="92" y="71"/>
                      </a:lnTo>
                      <a:lnTo>
                        <a:pt x="78" y="71"/>
                      </a:lnTo>
                      <a:lnTo>
                        <a:pt x="65" y="83"/>
                      </a:lnTo>
                      <a:lnTo>
                        <a:pt x="65" y="66"/>
                      </a:lnTo>
                      <a:lnTo>
                        <a:pt x="77" y="38"/>
                      </a:lnTo>
                      <a:lnTo>
                        <a:pt x="78" y="25"/>
                      </a:lnTo>
                      <a:lnTo>
                        <a:pt x="50" y="33"/>
                      </a:lnTo>
                      <a:lnTo>
                        <a:pt x="27" y="40"/>
                      </a:lnTo>
                      <a:lnTo>
                        <a:pt x="29" y="50"/>
                      </a:lnTo>
                      <a:lnTo>
                        <a:pt x="46" y="63"/>
                      </a:lnTo>
                      <a:lnTo>
                        <a:pt x="44" y="71"/>
                      </a:lnTo>
                      <a:lnTo>
                        <a:pt x="41" y="84"/>
                      </a:lnTo>
                      <a:lnTo>
                        <a:pt x="31" y="95"/>
                      </a:lnTo>
                      <a:lnTo>
                        <a:pt x="18" y="107"/>
                      </a:lnTo>
                      <a:lnTo>
                        <a:pt x="16" y="124"/>
                      </a:lnTo>
                      <a:lnTo>
                        <a:pt x="10" y="141"/>
                      </a:lnTo>
                      <a:lnTo>
                        <a:pt x="12" y="154"/>
                      </a:lnTo>
                      <a:lnTo>
                        <a:pt x="29" y="152"/>
                      </a:lnTo>
                      <a:lnTo>
                        <a:pt x="27" y="173"/>
                      </a:lnTo>
                      <a:lnTo>
                        <a:pt x="13" y="181"/>
                      </a:lnTo>
                      <a:lnTo>
                        <a:pt x="0" y="193"/>
                      </a:lnTo>
                      <a:lnTo>
                        <a:pt x="16" y="208"/>
                      </a:lnTo>
                      <a:lnTo>
                        <a:pt x="32" y="192"/>
                      </a:lnTo>
                      <a:lnTo>
                        <a:pt x="41" y="190"/>
                      </a:lnTo>
                      <a:lnTo>
                        <a:pt x="56" y="187"/>
                      </a:lnTo>
                      <a:lnTo>
                        <a:pt x="68" y="182"/>
                      </a:lnTo>
                      <a:lnTo>
                        <a:pt x="78" y="181"/>
                      </a:lnTo>
                      <a:lnTo>
                        <a:pt x="92" y="169"/>
                      </a:lnTo>
                      <a:lnTo>
                        <a:pt x="104" y="151"/>
                      </a:lnTo>
                      <a:lnTo>
                        <a:pt x="115" y="148"/>
                      </a:lnTo>
                      <a:lnTo>
                        <a:pt x="126" y="143"/>
                      </a:lnTo>
                      <a:lnTo>
                        <a:pt x="142" y="140"/>
                      </a:lnTo>
                      <a:lnTo>
                        <a:pt x="148" y="143"/>
                      </a:lnTo>
                      <a:lnTo>
                        <a:pt x="158" y="141"/>
                      </a:lnTo>
                      <a:lnTo>
                        <a:pt x="166" y="138"/>
                      </a:lnTo>
                      <a:lnTo>
                        <a:pt x="185" y="137"/>
                      </a:lnTo>
                      <a:lnTo>
                        <a:pt x="191" y="140"/>
                      </a:lnTo>
                      <a:lnTo>
                        <a:pt x="211" y="142"/>
                      </a:lnTo>
                      <a:lnTo>
                        <a:pt x="225" y="138"/>
                      </a:lnTo>
                      <a:lnTo>
                        <a:pt x="236" y="127"/>
                      </a:lnTo>
                      <a:lnTo>
                        <a:pt x="253" y="129"/>
                      </a:lnTo>
                      <a:lnTo>
                        <a:pt x="268" y="127"/>
                      </a:lnTo>
                      <a:lnTo>
                        <a:pt x="277" y="127"/>
                      </a:lnTo>
                      <a:lnTo>
                        <a:pt x="275" y="141"/>
                      </a:lnTo>
                      <a:lnTo>
                        <a:pt x="281" y="146"/>
                      </a:lnTo>
                      <a:lnTo>
                        <a:pt x="291" y="151"/>
                      </a:lnTo>
                      <a:lnTo>
                        <a:pt x="301" y="144"/>
                      </a:lnTo>
                      <a:lnTo>
                        <a:pt x="313" y="149"/>
                      </a:lnTo>
                      <a:lnTo>
                        <a:pt x="325" y="155"/>
                      </a:lnTo>
                      <a:lnTo>
                        <a:pt x="339" y="159"/>
                      </a:lnTo>
                      <a:lnTo>
                        <a:pt x="362" y="162"/>
                      </a:lnTo>
                      <a:lnTo>
                        <a:pt x="335" y="166"/>
                      </a:lnTo>
                      <a:lnTo>
                        <a:pt x="325" y="169"/>
                      </a:lnTo>
                      <a:lnTo>
                        <a:pt x="320" y="174"/>
                      </a:lnTo>
                      <a:lnTo>
                        <a:pt x="329" y="193"/>
                      </a:lnTo>
                      <a:lnTo>
                        <a:pt x="337" y="202"/>
                      </a:lnTo>
                      <a:lnTo>
                        <a:pt x="355" y="200"/>
                      </a:lnTo>
                      <a:lnTo>
                        <a:pt x="368" y="204"/>
                      </a:lnTo>
                      <a:lnTo>
                        <a:pt x="384" y="211"/>
                      </a:lnTo>
                      <a:lnTo>
                        <a:pt x="401" y="212"/>
                      </a:lnTo>
                      <a:lnTo>
                        <a:pt x="412" y="213"/>
                      </a:lnTo>
                      <a:lnTo>
                        <a:pt x="436" y="198"/>
                      </a:lnTo>
                      <a:lnTo>
                        <a:pt x="442" y="199"/>
                      </a:lnTo>
                      <a:lnTo>
                        <a:pt x="429" y="212"/>
                      </a:lnTo>
                      <a:lnTo>
                        <a:pt x="444" y="228"/>
                      </a:lnTo>
                      <a:lnTo>
                        <a:pt x="470" y="222"/>
                      </a:lnTo>
                      <a:lnTo>
                        <a:pt x="475" y="219"/>
                      </a:lnTo>
                      <a:lnTo>
                        <a:pt x="475" y="207"/>
                      </a:lnTo>
                      <a:lnTo>
                        <a:pt x="486" y="212"/>
                      </a:lnTo>
                      <a:lnTo>
                        <a:pt x="504" y="225"/>
                      </a:lnTo>
                      <a:lnTo>
                        <a:pt x="486" y="223"/>
                      </a:lnTo>
                      <a:lnTo>
                        <a:pt x="481" y="227"/>
                      </a:lnTo>
                      <a:lnTo>
                        <a:pt x="474" y="229"/>
                      </a:lnTo>
                      <a:lnTo>
                        <a:pt x="464" y="232"/>
                      </a:lnTo>
                      <a:lnTo>
                        <a:pt x="454" y="233"/>
                      </a:lnTo>
                      <a:lnTo>
                        <a:pt x="442" y="242"/>
                      </a:lnTo>
                      <a:lnTo>
                        <a:pt x="454" y="247"/>
                      </a:lnTo>
                      <a:lnTo>
                        <a:pt x="488" y="246"/>
                      </a:lnTo>
                      <a:lnTo>
                        <a:pt x="485" y="259"/>
                      </a:lnTo>
                      <a:lnTo>
                        <a:pt x="481" y="275"/>
                      </a:lnTo>
                      <a:lnTo>
                        <a:pt x="491" y="277"/>
                      </a:lnTo>
                      <a:lnTo>
                        <a:pt x="499" y="283"/>
                      </a:lnTo>
                      <a:lnTo>
                        <a:pt x="503" y="300"/>
                      </a:lnTo>
                      <a:lnTo>
                        <a:pt x="509" y="308"/>
                      </a:lnTo>
                      <a:lnTo>
                        <a:pt x="508" y="317"/>
                      </a:lnTo>
                      <a:lnTo>
                        <a:pt x="508" y="329"/>
                      </a:lnTo>
                      <a:lnTo>
                        <a:pt x="541" y="357"/>
                      </a:lnTo>
                      <a:lnTo>
                        <a:pt x="539" y="368"/>
                      </a:lnTo>
                      <a:lnTo>
                        <a:pt x="534" y="373"/>
                      </a:lnTo>
                      <a:lnTo>
                        <a:pt x="528" y="370"/>
                      </a:lnTo>
                      <a:lnTo>
                        <a:pt x="520" y="368"/>
                      </a:lnTo>
                      <a:lnTo>
                        <a:pt x="514" y="368"/>
                      </a:lnTo>
                      <a:lnTo>
                        <a:pt x="511" y="368"/>
                      </a:lnTo>
                      <a:lnTo>
                        <a:pt x="523" y="355"/>
                      </a:lnTo>
                      <a:lnTo>
                        <a:pt x="520" y="346"/>
                      </a:lnTo>
                      <a:lnTo>
                        <a:pt x="509" y="343"/>
                      </a:lnTo>
                      <a:lnTo>
                        <a:pt x="504" y="344"/>
                      </a:lnTo>
                      <a:lnTo>
                        <a:pt x="497" y="346"/>
                      </a:lnTo>
                      <a:lnTo>
                        <a:pt x="486" y="352"/>
                      </a:lnTo>
                      <a:lnTo>
                        <a:pt x="481" y="357"/>
                      </a:lnTo>
                      <a:lnTo>
                        <a:pt x="467" y="359"/>
                      </a:lnTo>
                      <a:lnTo>
                        <a:pt x="457" y="359"/>
                      </a:lnTo>
                      <a:lnTo>
                        <a:pt x="459" y="370"/>
                      </a:lnTo>
                      <a:lnTo>
                        <a:pt x="459" y="384"/>
                      </a:lnTo>
                      <a:lnTo>
                        <a:pt x="457" y="398"/>
                      </a:lnTo>
                      <a:lnTo>
                        <a:pt x="459" y="410"/>
                      </a:lnTo>
                      <a:lnTo>
                        <a:pt x="464" y="420"/>
                      </a:lnTo>
                      <a:lnTo>
                        <a:pt x="463" y="429"/>
                      </a:lnTo>
                      <a:lnTo>
                        <a:pt x="468" y="437"/>
                      </a:lnTo>
                      <a:lnTo>
                        <a:pt x="476" y="444"/>
                      </a:lnTo>
                      <a:lnTo>
                        <a:pt x="475" y="452"/>
                      </a:lnTo>
                      <a:lnTo>
                        <a:pt x="485" y="456"/>
                      </a:lnTo>
                      <a:lnTo>
                        <a:pt x="479" y="470"/>
                      </a:lnTo>
                      <a:lnTo>
                        <a:pt x="481" y="485"/>
                      </a:lnTo>
                      <a:lnTo>
                        <a:pt x="487" y="496"/>
                      </a:lnTo>
                      <a:lnTo>
                        <a:pt x="501" y="514"/>
                      </a:lnTo>
                      <a:lnTo>
                        <a:pt x="506" y="514"/>
                      </a:lnTo>
                      <a:lnTo>
                        <a:pt x="514" y="517"/>
                      </a:lnTo>
                      <a:lnTo>
                        <a:pt x="526" y="504"/>
                      </a:lnTo>
                      <a:lnTo>
                        <a:pt x="534" y="498"/>
                      </a:lnTo>
                      <a:lnTo>
                        <a:pt x="544" y="507"/>
                      </a:lnTo>
                      <a:lnTo>
                        <a:pt x="552" y="509"/>
                      </a:lnTo>
                      <a:lnTo>
                        <a:pt x="563" y="506"/>
                      </a:lnTo>
                      <a:lnTo>
                        <a:pt x="564" y="495"/>
                      </a:lnTo>
                      <a:lnTo>
                        <a:pt x="553" y="483"/>
                      </a:lnTo>
                      <a:lnTo>
                        <a:pt x="544" y="474"/>
                      </a:lnTo>
                      <a:lnTo>
                        <a:pt x="542" y="465"/>
                      </a:lnTo>
                      <a:lnTo>
                        <a:pt x="531" y="456"/>
                      </a:lnTo>
                      <a:lnTo>
                        <a:pt x="523" y="455"/>
                      </a:lnTo>
                      <a:lnTo>
                        <a:pt x="520" y="441"/>
                      </a:lnTo>
                      <a:lnTo>
                        <a:pt x="514" y="432"/>
                      </a:lnTo>
                      <a:lnTo>
                        <a:pt x="508" y="426"/>
                      </a:lnTo>
                      <a:lnTo>
                        <a:pt x="506" y="409"/>
                      </a:lnTo>
                      <a:lnTo>
                        <a:pt x="509" y="407"/>
                      </a:lnTo>
                      <a:lnTo>
                        <a:pt x="520" y="417"/>
                      </a:lnTo>
                      <a:lnTo>
                        <a:pt x="520" y="426"/>
                      </a:lnTo>
                      <a:lnTo>
                        <a:pt x="528" y="435"/>
                      </a:lnTo>
                      <a:lnTo>
                        <a:pt x="535" y="443"/>
                      </a:lnTo>
                      <a:lnTo>
                        <a:pt x="541" y="448"/>
                      </a:lnTo>
                      <a:lnTo>
                        <a:pt x="547" y="441"/>
                      </a:lnTo>
                      <a:lnTo>
                        <a:pt x="552" y="437"/>
                      </a:lnTo>
                      <a:lnTo>
                        <a:pt x="558" y="435"/>
                      </a:lnTo>
                      <a:lnTo>
                        <a:pt x="561" y="428"/>
                      </a:lnTo>
                      <a:lnTo>
                        <a:pt x="569" y="426"/>
                      </a:lnTo>
                      <a:lnTo>
                        <a:pt x="563" y="435"/>
                      </a:lnTo>
                      <a:lnTo>
                        <a:pt x="566" y="444"/>
                      </a:lnTo>
                      <a:lnTo>
                        <a:pt x="575" y="448"/>
                      </a:lnTo>
                      <a:lnTo>
                        <a:pt x="574" y="456"/>
                      </a:lnTo>
                      <a:lnTo>
                        <a:pt x="566" y="465"/>
                      </a:lnTo>
                      <a:lnTo>
                        <a:pt x="570" y="473"/>
                      </a:lnTo>
                      <a:lnTo>
                        <a:pt x="580" y="479"/>
                      </a:lnTo>
                      <a:lnTo>
                        <a:pt x="586" y="487"/>
                      </a:lnTo>
                      <a:lnTo>
                        <a:pt x="580" y="496"/>
                      </a:lnTo>
                      <a:lnTo>
                        <a:pt x="574" y="506"/>
                      </a:lnTo>
                      <a:lnTo>
                        <a:pt x="575" y="513"/>
                      </a:lnTo>
                      <a:lnTo>
                        <a:pt x="571" y="521"/>
                      </a:lnTo>
                      <a:lnTo>
                        <a:pt x="566" y="529"/>
                      </a:lnTo>
                      <a:lnTo>
                        <a:pt x="561" y="535"/>
                      </a:lnTo>
                      <a:lnTo>
                        <a:pt x="555" y="529"/>
                      </a:lnTo>
                      <a:lnTo>
                        <a:pt x="545" y="529"/>
                      </a:lnTo>
                      <a:lnTo>
                        <a:pt x="539" y="522"/>
                      </a:lnTo>
                      <a:lnTo>
                        <a:pt x="537" y="514"/>
                      </a:lnTo>
                      <a:lnTo>
                        <a:pt x="530" y="512"/>
                      </a:lnTo>
                      <a:lnTo>
                        <a:pt x="528" y="517"/>
                      </a:lnTo>
                      <a:lnTo>
                        <a:pt x="531" y="522"/>
                      </a:lnTo>
                      <a:lnTo>
                        <a:pt x="533" y="531"/>
                      </a:lnTo>
                      <a:lnTo>
                        <a:pt x="533" y="537"/>
                      </a:lnTo>
                      <a:lnTo>
                        <a:pt x="539" y="536"/>
                      </a:lnTo>
                      <a:lnTo>
                        <a:pt x="545" y="540"/>
                      </a:lnTo>
                      <a:lnTo>
                        <a:pt x="545" y="548"/>
                      </a:lnTo>
                      <a:lnTo>
                        <a:pt x="539" y="559"/>
                      </a:lnTo>
                      <a:lnTo>
                        <a:pt x="541" y="572"/>
                      </a:lnTo>
                      <a:lnTo>
                        <a:pt x="537" y="589"/>
                      </a:lnTo>
                      <a:lnTo>
                        <a:pt x="539" y="605"/>
                      </a:lnTo>
                      <a:lnTo>
                        <a:pt x="537" y="614"/>
                      </a:lnTo>
                      <a:lnTo>
                        <a:pt x="528" y="623"/>
                      </a:lnTo>
                      <a:lnTo>
                        <a:pt x="528" y="631"/>
                      </a:lnTo>
                      <a:lnTo>
                        <a:pt x="533" y="641"/>
                      </a:lnTo>
                      <a:lnTo>
                        <a:pt x="542" y="643"/>
                      </a:lnTo>
                      <a:lnTo>
                        <a:pt x="553" y="650"/>
                      </a:lnTo>
                      <a:lnTo>
                        <a:pt x="558" y="660"/>
                      </a:lnTo>
                      <a:lnTo>
                        <a:pt x="553" y="664"/>
                      </a:lnTo>
                      <a:lnTo>
                        <a:pt x="541" y="677"/>
                      </a:lnTo>
                      <a:lnTo>
                        <a:pt x="528" y="683"/>
                      </a:lnTo>
                      <a:lnTo>
                        <a:pt x="516" y="70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7862760" y="4124160"/>
                  <a:ext cx="568440" cy="636840"/>
                  <a:chOff x="7862760" y="4124160"/>
                  <a:chExt cx="568440" cy="6368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7975800" y="4630680"/>
                    <a:ext cx="396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3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2" y="27"/>
                        </a:lnTo>
                        <a:lnTo>
                          <a:pt x="9" y="27"/>
                        </a:lnTo>
                        <a:lnTo>
                          <a:pt x="24" y="32"/>
                        </a:lnTo>
                        <a:lnTo>
                          <a:pt x="19" y="19"/>
                        </a:lnTo>
                        <a:lnTo>
                          <a:pt x="21" y="13"/>
                        </a:lnTo>
                        <a:lnTo>
                          <a:pt x="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7977240" y="4570200"/>
                    <a:ext cx="1033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0">
                        <a:moveTo>
                          <a:pt x="3" y="0"/>
                        </a:moveTo>
                        <a:lnTo>
                          <a:pt x="23" y="11"/>
                        </a:lnTo>
                        <a:lnTo>
                          <a:pt x="30" y="11"/>
                        </a:lnTo>
                        <a:lnTo>
                          <a:pt x="31" y="23"/>
                        </a:lnTo>
                        <a:lnTo>
                          <a:pt x="38" y="30"/>
                        </a:lnTo>
                        <a:lnTo>
                          <a:pt x="45" y="38"/>
                        </a:lnTo>
                        <a:lnTo>
                          <a:pt x="53" y="36"/>
                        </a:lnTo>
                        <a:lnTo>
                          <a:pt x="63" y="45"/>
                        </a:lnTo>
                        <a:lnTo>
                          <a:pt x="61" y="53"/>
                        </a:lnTo>
                        <a:lnTo>
                          <a:pt x="64" y="59"/>
                        </a:lnTo>
                        <a:lnTo>
                          <a:pt x="53" y="69"/>
                        </a:lnTo>
                        <a:lnTo>
                          <a:pt x="45" y="78"/>
                        </a:lnTo>
                        <a:lnTo>
                          <a:pt x="38" y="79"/>
                        </a:lnTo>
                        <a:lnTo>
                          <a:pt x="37" y="72"/>
                        </a:lnTo>
                        <a:lnTo>
                          <a:pt x="39" y="65"/>
                        </a:lnTo>
                        <a:lnTo>
                          <a:pt x="37" y="57"/>
                        </a:lnTo>
                        <a:lnTo>
                          <a:pt x="36" y="42"/>
                        </a:lnTo>
                        <a:lnTo>
                          <a:pt x="26" y="34"/>
                        </a:lnTo>
                        <a:lnTo>
                          <a:pt x="15" y="34"/>
                        </a:lnTo>
                        <a:lnTo>
                          <a:pt x="14" y="28"/>
                        </a:lnTo>
                        <a:lnTo>
                          <a:pt x="9" y="23"/>
                        </a:lnTo>
                        <a:lnTo>
                          <a:pt x="0" y="17"/>
                        </a:lnTo>
                        <a:lnTo>
                          <a:pt x="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8231040" y="4724280"/>
                    <a:ext cx="32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0" y="0"/>
                        </a:moveTo>
                        <a:lnTo>
                          <a:pt x="4" y="20"/>
                        </a:lnTo>
                        <a:lnTo>
                          <a:pt x="19" y="22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8304120" y="4730760"/>
                    <a:ext cx="38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0" y="15"/>
                        </a:moveTo>
                        <a:lnTo>
                          <a:pt x="12" y="0"/>
                        </a:lnTo>
                        <a:lnTo>
                          <a:pt x="23" y="4"/>
                        </a:lnTo>
                        <a:lnTo>
                          <a:pt x="15" y="18"/>
                        </a:lnTo>
                        <a:lnTo>
                          <a:pt x="0" y="1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8388360" y="4678200"/>
                    <a:ext cx="42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0" y="16"/>
                        </a:moveTo>
                        <a:lnTo>
                          <a:pt x="26" y="23"/>
                        </a:lnTo>
                        <a:lnTo>
                          <a:pt x="12" y="0"/>
                        </a:lnTo>
                        <a:lnTo>
                          <a:pt x="0" y="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7862760" y="4124160"/>
                    <a:ext cx="125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7">
                        <a:moveTo>
                          <a:pt x="0" y="22"/>
                        </a:moveTo>
                        <a:lnTo>
                          <a:pt x="36" y="25"/>
                        </a:lnTo>
                        <a:lnTo>
                          <a:pt x="47" y="33"/>
                        </a:lnTo>
                        <a:lnTo>
                          <a:pt x="58" y="36"/>
                        </a:lnTo>
                        <a:lnTo>
                          <a:pt x="78" y="28"/>
                        </a:lnTo>
                        <a:lnTo>
                          <a:pt x="67" y="17"/>
                        </a:lnTo>
                        <a:lnTo>
                          <a:pt x="50" y="17"/>
                        </a:lnTo>
                        <a:lnTo>
                          <a:pt x="45" y="0"/>
                        </a:lnTo>
                        <a:lnTo>
                          <a:pt x="31" y="3"/>
                        </a:lnTo>
                        <a:lnTo>
                          <a:pt x="0" y="2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7" name=""/>
                <p:cNvSpPr/>
                <p:nvPr/>
              </p:nvSpPr>
              <p:spPr>
                <a:xfrm>
                  <a:off x="8410680" y="4270320"/>
                  <a:ext cx="195120" cy="136440"/>
                </a:xfrm>
                <a:custGeom>
                  <a:avLst/>
                  <a:gdLst/>
                  <a:ahLst/>
                  <a:rect l="l" t="t" r="r" b="b"/>
                  <a:pathLst>
                    <a:path w="123" h="86">
                      <a:moveTo>
                        <a:pt x="118" y="52"/>
                      </a:moveTo>
                      <a:lnTo>
                        <a:pt x="122" y="76"/>
                      </a:lnTo>
                      <a:lnTo>
                        <a:pt x="108" y="82"/>
                      </a:lnTo>
                      <a:lnTo>
                        <a:pt x="93" y="85"/>
                      </a:lnTo>
                      <a:lnTo>
                        <a:pt x="81" y="77"/>
                      </a:lnTo>
                      <a:lnTo>
                        <a:pt x="73" y="66"/>
                      </a:lnTo>
                      <a:lnTo>
                        <a:pt x="67" y="59"/>
                      </a:lnTo>
                      <a:lnTo>
                        <a:pt x="50" y="62"/>
                      </a:lnTo>
                      <a:lnTo>
                        <a:pt x="34" y="63"/>
                      </a:lnTo>
                      <a:lnTo>
                        <a:pt x="23" y="59"/>
                      </a:lnTo>
                      <a:lnTo>
                        <a:pt x="17" y="49"/>
                      </a:lnTo>
                      <a:lnTo>
                        <a:pt x="0" y="48"/>
                      </a:lnTo>
                      <a:lnTo>
                        <a:pt x="1" y="38"/>
                      </a:lnTo>
                      <a:lnTo>
                        <a:pt x="4" y="30"/>
                      </a:lnTo>
                      <a:lnTo>
                        <a:pt x="1" y="21"/>
                      </a:lnTo>
                      <a:lnTo>
                        <a:pt x="3" y="13"/>
                      </a:lnTo>
                      <a:lnTo>
                        <a:pt x="5" y="7"/>
                      </a:lnTo>
                      <a:lnTo>
                        <a:pt x="17" y="0"/>
                      </a:lnTo>
                      <a:lnTo>
                        <a:pt x="28" y="2"/>
                      </a:lnTo>
                      <a:lnTo>
                        <a:pt x="28" y="13"/>
                      </a:lnTo>
                      <a:lnTo>
                        <a:pt x="28" y="21"/>
                      </a:lnTo>
                      <a:lnTo>
                        <a:pt x="32" y="25"/>
                      </a:lnTo>
                      <a:lnTo>
                        <a:pt x="40" y="27"/>
                      </a:lnTo>
                      <a:lnTo>
                        <a:pt x="45" y="29"/>
                      </a:lnTo>
                      <a:lnTo>
                        <a:pt x="52" y="26"/>
                      </a:lnTo>
                      <a:lnTo>
                        <a:pt x="58" y="26"/>
                      </a:lnTo>
                      <a:lnTo>
                        <a:pt x="63" y="19"/>
                      </a:lnTo>
                      <a:lnTo>
                        <a:pt x="70" y="21"/>
                      </a:lnTo>
                      <a:lnTo>
                        <a:pt x="75" y="29"/>
                      </a:lnTo>
                      <a:lnTo>
                        <a:pt x="74" y="35"/>
                      </a:lnTo>
                      <a:lnTo>
                        <a:pt x="86" y="35"/>
                      </a:lnTo>
                      <a:lnTo>
                        <a:pt x="99" y="32"/>
                      </a:lnTo>
                      <a:lnTo>
                        <a:pt x="105" y="37"/>
                      </a:lnTo>
                      <a:lnTo>
                        <a:pt x="118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4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 MUDANÇAS NO AMBIENTE DE NEGÓCIO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GLOBALIZAÇÃO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ECONOMIA INDUSTRIAL – CONHECIMENTO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(economia de serviço baseada em informação)</a:t>
            </a:r>
            <a:endParaRPr b="1" lang="en-US" sz="24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Arial"/>
              </a:rPr>
              <a:t>TRANSFORMAÇÃO EMPREENDIMENTO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descentralizado, gerenciamento flexível)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IZAÇÃ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conomia depende de exportação e importação – habilidade de funcionar de forma globalizad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ERENCIAMENTO E CONTROLE EM MERCADOS GLOBAIS (fornecedores)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ETIÇÃO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GRUPOS DE TRABALHO               GLOBAI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GLOBAL DELIVERY SYSTEM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6327720" y="3706920"/>
            <a:ext cx="2711520" cy="2751120"/>
            <a:chOff x="6327720" y="3706920"/>
            <a:chExt cx="2711520" cy="2751120"/>
          </a:xfrm>
        </p:grpSpPr>
        <p:sp>
          <p:nvSpPr>
            <p:cNvPr id="303" name=""/>
            <p:cNvSpPr/>
            <p:nvPr/>
          </p:nvSpPr>
          <p:spPr>
            <a:xfrm>
              <a:off x="6327720" y="3709800"/>
              <a:ext cx="2711520" cy="27482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813720" y="3706920"/>
              <a:ext cx="2219040" cy="2689200"/>
              <a:chOff x="6813720" y="3706920"/>
              <a:chExt cx="2219040" cy="268920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6813720" y="3943440"/>
                <a:ext cx="1049040" cy="2452680"/>
                <a:chOff x="6813720" y="3943440"/>
                <a:chExt cx="1049040" cy="2452680"/>
              </a:xfrm>
            </p:grpSpPr>
            <p:grpSp>
              <p:nvGrpSpPr>
                <p:cNvPr id="306" name=""/>
                <p:cNvGrpSpPr/>
                <p:nvPr/>
              </p:nvGrpSpPr>
              <p:grpSpPr>
                <a:xfrm>
                  <a:off x="7116840" y="5348160"/>
                  <a:ext cx="744480" cy="1047960"/>
                  <a:chOff x="7116840" y="5348160"/>
                  <a:chExt cx="744480" cy="104796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7116840" y="5348160"/>
                    <a:ext cx="744480" cy="10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638">
                        <a:moveTo>
                          <a:pt x="56" y="18"/>
                        </a:moveTo>
                        <a:lnTo>
                          <a:pt x="83" y="0"/>
                        </a:lnTo>
                        <a:lnTo>
                          <a:pt x="106" y="0"/>
                        </a:lnTo>
                        <a:lnTo>
                          <a:pt x="113" y="1"/>
                        </a:lnTo>
                        <a:lnTo>
                          <a:pt x="113" y="7"/>
                        </a:lnTo>
                        <a:lnTo>
                          <a:pt x="113" y="15"/>
                        </a:lnTo>
                        <a:lnTo>
                          <a:pt x="118" y="18"/>
                        </a:lnTo>
                        <a:lnTo>
                          <a:pt x="122" y="10"/>
                        </a:lnTo>
                        <a:lnTo>
                          <a:pt x="125" y="1"/>
                        </a:lnTo>
                        <a:lnTo>
                          <a:pt x="130" y="1"/>
                        </a:lnTo>
                        <a:lnTo>
                          <a:pt x="133" y="7"/>
                        </a:lnTo>
                        <a:lnTo>
                          <a:pt x="141" y="13"/>
                        </a:lnTo>
                        <a:lnTo>
                          <a:pt x="149" y="18"/>
                        </a:lnTo>
                        <a:lnTo>
                          <a:pt x="171" y="18"/>
                        </a:lnTo>
                        <a:lnTo>
                          <a:pt x="182" y="20"/>
                        </a:lnTo>
                        <a:lnTo>
                          <a:pt x="187" y="21"/>
                        </a:lnTo>
                        <a:lnTo>
                          <a:pt x="193" y="21"/>
                        </a:lnTo>
                        <a:lnTo>
                          <a:pt x="201" y="26"/>
                        </a:lnTo>
                        <a:lnTo>
                          <a:pt x="205" y="32"/>
                        </a:lnTo>
                        <a:lnTo>
                          <a:pt x="205" y="38"/>
                        </a:lnTo>
                        <a:lnTo>
                          <a:pt x="220" y="43"/>
                        </a:lnTo>
                        <a:lnTo>
                          <a:pt x="229" y="55"/>
                        </a:lnTo>
                        <a:lnTo>
                          <a:pt x="242" y="66"/>
                        </a:lnTo>
                        <a:lnTo>
                          <a:pt x="251" y="71"/>
                        </a:lnTo>
                        <a:lnTo>
                          <a:pt x="256" y="71"/>
                        </a:lnTo>
                        <a:lnTo>
                          <a:pt x="270" y="71"/>
                        </a:lnTo>
                        <a:lnTo>
                          <a:pt x="279" y="76"/>
                        </a:lnTo>
                        <a:lnTo>
                          <a:pt x="289" y="87"/>
                        </a:lnTo>
                        <a:lnTo>
                          <a:pt x="303" y="95"/>
                        </a:lnTo>
                        <a:lnTo>
                          <a:pt x="311" y="104"/>
                        </a:lnTo>
                        <a:lnTo>
                          <a:pt x="315" y="118"/>
                        </a:lnTo>
                        <a:lnTo>
                          <a:pt x="309" y="123"/>
                        </a:lnTo>
                        <a:lnTo>
                          <a:pt x="303" y="136"/>
                        </a:lnTo>
                        <a:lnTo>
                          <a:pt x="311" y="145"/>
                        </a:lnTo>
                        <a:lnTo>
                          <a:pt x="316" y="147"/>
                        </a:lnTo>
                        <a:lnTo>
                          <a:pt x="326" y="140"/>
                        </a:lnTo>
                        <a:lnTo>
                          <a:pt x="339" y="136"/>
                        </a:lnTo>
                        <a:lnTo>
                          <a:pt x="350" y="140"/>
                        </a:lnTo>
                        <a:lnTo>
                          <a:pt x="360" y="140"/>
                        </a:lnTo>
                        <a:lnTo>
                          <a:pt x="373" y="146"/>
                        </a:lnTo>
                        <a:lnTo>
                          <a:pt x="386" y="153"/>
                        </a:lnTo>
                        <a:lnTo>
                          <a:pt x="400" y="153"/>
                        </a:lnTo>
                        <a:lnTo>
                          <a:pt x="416" y="154"/>
                        </a:lnTo>
                        <a:lnTo>
                          <a:pt x="432" y="166"/>
                        </a:lnTo>
                        <a:lnTo>
                          <a:pt x="449" y="170"/>
                        </a:lnTo>
                        <a:lnTo>
                          <a:pt x="461" y="175"/>
                        </a:lnTo>
                        <a:lnTo>
                          <a:pt x="468" y="186"/>
                        </a:lnTo>
                        <a:lnTo>
                          <a:pt x="466" y="200"/>
                        </a:lnTo>
                        <a:lnTo>
                          <a:pt x="457" y="213"/>
                        </a:lnTo>
                        <a:lnTo>
                          <a:pt x="449" y="224"/>
                        </a:lnTo>
                        <a:lnTo>
                          <a:pt x="438" y="236"/>
                        </a:lnTo>
                        <a:lnTo>
                          <a:pt x="434" y="250"/>
                        </a:lnTo>
                        <a:lnTo>
                          <a:pt x="422" y="260"/>
                        </a:lnTo>
                        <a:lnTo>
                          <a:pt x="430" y="275"/>
                        </a:lnTo>
                        <a:lnTo>
                          <a:pt x="429" y="294"/>
                        </a:lnTo>
                        <a:lnTo>
                          <a:pt x="421" y="308"/>
                        </a:lnTo>
                        <a:lnTo>
                          <a:pt x="421" y="322"/>
                        </a:lnTo>
                        <a:lnTo>
                          <a:pt x="414" y="336"/>
                        </a:lnTo>
                        <a:lnTo>
                          <a:pt x="404" y="341"/>
                        </a:lnTo>
                        <a:lnTo>
                          <a:pt x="393" y="347"/>
                        </a:lnTo>
                        <a:lnTo>
                          <a:pt x="380" y="346"/>
                        </a:lnTo>
                        <a:lnTo>
                          <a:pt x="360" y="350"/>
                        </a:lnTo>
                        <a:lnTo>
                          <a:pt x="344" y="363"/>
                        </a:lnTo>
                        <a:lnTo>
                          <a:pt x="335" y="374"/>
                        </a:lnTo>
                        <a:lnTo>
                          <a:pt x="331" y="380"/>
                        </a:lnTo>
                        <a:lnTo>
                          <a:pt x="339" y="387"/>
                        </a:lnTo>
                        <a:lnTo>
                          <a:pt x="339" y="398"/>
                        </a:lnTo>
                        <a:lnTo>
                          <a:pt x="317" y="416"/>
                        </a:lnTo>
                        <a:lnTo>
                          <a:pt x="304" y="442"/>
                        </a:lnTo>
                        <a:lnTo>
                          <a:pt x="286" y="456"/>
                        </a:lnTo>
                        <a:lnTo>
                          <a:pt x="270" y="457"/>
                        </a:lnTo>
                        <a:lnTo>
                          <a:pt x="251" y="443"/>
                        </a:lnTo>
                        <a:lnTo>
                          <a:pt x="251" y="463"/>
                        </a:lnTo>
                        <a:lnTo>
                          <a:pt x="259" y="472"/>
                        </a:lnTo>
                        <a:lnTo>
                          <a:pt x="257" y="489"/>
                        </a:lnTo>
                        <a:lnTo>
                          <a:pt x="231" y="504"/>
                        </a:lnTo>
                        <a:lnTo>
                          <a:pt x="220" y="501"/>
                        </a:lnTo>
                        <a:lnTo>
                          <a:pt x="207" y="524"/>
                        </a:lnTo>
                        <a:lnTo>
                          <a:pt x="195" y="527"/>
                        </a:lnTo>
                        <a:lnTo>
                          <a:pt x="190" y="536"/>
                        </a:lnTo>
                        <a:lnTo>
                          <a:pt x="195" y="546"/>
                        </a:lnTo>
                        <a:lnTo>
                          <a:pt x="184" y="562"/>
                        </a:lnTo>
                        <a:lnTo>
                          <a:pt x="194" y="585"/>
                        </a:lnTo>
                        <a:lnTo>
                          <a:pt x="183" y="601"/>
                        </a:lnTo>
                        <a:lnTo>
                          <a:pt x="175" y="618"/>
                        </a:lnTo>
                        <a:lnTo>
                          <a:pt x="184" y="630"/>
                        </a:lnTo>
                        <a:lnTo>
                          <a:pt x="165" y="630"/>
                        </a:lnTo>
                        <a:lnTo>
                          <a:pt x="148" y="637"/>
                        </a:lnTo>
                        <a:lnTo>
                          <a:pt x="129" y="607"/>
                        </a:lnTo>
                        <a:lnTo>
                          <a:pt x="124" y="583"/>
                        </a:lnTo>
                        <a:lnTo>
                          <a:pt x="124" y="530"/>
                        </a:lnTo>
                        <a:lnTo>
                          <a:pt x="106" y="508"/>
                        </a:lnTo>
                        <a:lnTo>
                          <a:pt x="108" y="475"/>
                        </a:lnTo>
                        <a:lnTo>
                          <a:pt x="117" y="453"/>
                        </a:lnTo>
                        <a:lnTo>
                          <a:pt x="112" y="430"/>
                        </a:lnTo>
                        <a:lnTo>
                          <a:pt x="111" y="405"/>
                        </a:lnTo>
                        <a:lnTo>
                          <a:pt x="113" y="341"/>
                        </a:lnTo>
                        <a:lnTo>
                          <a:pt x="119" y="313"/>
                        </a:lnTo>
                        <a:lnTo>
                          <a:pt x="107" y="295"/>
                        </a:lnTo>
                        <a:lnTo>
                          <a:pt x="95" y="283"/>
                        </a:lnTo>
                        <a:lnTo>
                          <a:pt x="85" y="276"/>
                        </a:lnTo>
                        <a:lnTo>
                          <a:pt x="83" y="267"/>
                        </a:lnTo>
                        <a:lnTo>
                          <a:pt x="75" y="268"/>
                        </a:lnTo>
                        <a:lnTo>
                          <a:pt x="64" y="271"/>
                        </a:lnTo>
                        <a:lnTo>
                          <a:pt x="60" y="265"/>
                        </a:lnTo>
                        <a:lnTo>
                          <a:pt x="53" y="258"/>
                        </a:lnTo>
                        <a:lnTo>
                          <a:pt x="48" y="246"/>
                        </a:lnTo>
                        <a:lnTo>
                          <a:pt x="49" y="241"/>
                        </a:lnTo>
                        <a:lnTo>
                          <a:pt x="45" y="227"/>
                        </a:lnTo>
                        <a:lnTo>
                          <a:pt x="38" y="215"/>
                        </a:lnTo>
                        <a:lnTo>
                          <a:pt x="36" y="213"/>
                        </a:lnTo>
                        <a:lnTo>
                          <a:pt x="36" y="207"/>
                        </a:lnTo>
                        <a:lnTo>
                          <a:pt x="33" y="203"/>
                        </a:lnTo>
                        <a:lnTo>
                          <a:pt x="25" y="189"/>
                        </a:lnTo>
                        <a:lnTo>
                          <a:pt x="23" y="184"/>
                        </a:lnTo>
                        <a:lnTo>
                          <a:pt x="14" y="177"/>
                        </a:lnTo>
                        <a:lnTo>
                          <a:pt x="12" y="164"/>
                        </a:lnTo>
                        <a:lnTo>
                          <a:pt x="7" y="155"/>
                        </a:lnTo>
                        <a:lnTo>
                          <a:pt x="0" y="146"/>
                        </a:lnTo>
                        <a:lnTo>
                          <a:pt x="12" y="136"/>
                        </a:lnTo>
                        <a:lnTo>
                          <a:pt x="22" y="131"/>
                        </a:lnTo>
                        <a:lnTo>
                          <a:pt x="12" y="125"/>
                        </a:lnTo>
                        <a:lnTo>
                          <a:pt x="8" y="112"/>
                        </a:lnTo>
                        <a:lnTo>
                          <a:pt x="11" y="103"/>
                        </a:lnTo>
                        <a:lnTo>
                          <a:pt x="22" y="93"/>
                        </a:lnTo>
                        <a:lnTo>
                          <a:pt x="34" y="88"/>
                        </a:lnTo>
                        <a:lnTo>
                          <a:pt x="44" y="73"/>
                        </a:lnTo>
                        <a:lnTo>
                          <a:pt x="49" y="65"/>
                        </a:lnTo>
                        <a:lnTo>
                          <a:pt x="48" y="54"/>
                        </a:lnTo>
                        <a:lnTo>
                          <a:pt x="48" y="43"/>
                        </a:lnTo>
                        <a:lnTo>
                          <a:pt x="56" y="1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7378560" y="6364080"/>
                    <a:ext cx="842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7" y="0"/>
                        </a:moveTo>
                        <a:lnTo>
                          <a:pt x="0" y="11"/>
                        </a:lnTo>
                        <a:lnTo>
                          <a:pt x="11" y="19"/>
                        </a:lnTo>
                        <a:lnTo>
                          <a:pt x="33" y="18"/>
                        </a:lnTo>
                        <a:lnTo>
                          <a:pt x="52" y="19"/>
                        </a:lnTo>
                        <a:lnTo>
                          <a:pt x="34" y="8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9" name=""/>
                <p:cNvGrpSpPr/>
                <p:nvPr/>
              </p:nvGrpSpPr>
              <p:grpSpPr>
                <a:xfrm>
                  <a:off x="6813720" y="4043160"/>
                  <a:ext cx="1049040" cy="1371600"/>
                  <a:chOff x="6813720" y="4043160"/>
                  <a:chExt cx="1049040" cy="137160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7388280" y="450540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0" y="17"/>
                        </a:moveTo>
                        <a:lnTo>
                          <a:pt x="18" y="23"/>
                        </a:lnTo>
                        <a:lnTo>
                          <a:pt x="17" y="15"/>
                        </a:lnTo>
                        <a:lnTo>
                          <a:pt x="18" y="4"/>
                        </a:lnTo>
                        <a:lnTo>
                          <a:pt x="9" y="0"/>
                        </a:lnTo>
                        <a:lnTo>
                          <a:pt x="6" y="9"/>
                        </a:lnTo>
                        <a:lnTo>
                          <a:pt x="0" y="1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6813720" y="4043160"/>
                    <a:ext cx="1049040" cy="1371600"/>
                    <a:chOff x="6813720" y="4043160"/>
                    <a:chExt cx="1049040" cy="137160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6813720" y="4043160"/>
                      <a:ext cx="753840" cy="137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864">
                          <a:moveTo>
                            <a:pt x="245" y="843"/>
                          </a:moveTo>
                          <a:lnTo>
                            <a:pt x="225" y="825"/>
                          </a:lnTo>
                          <a:lnTo>
                            <a:pt x="208" y="827"/>
                          </a:lnTo>
                          <a:lnTo>
                            <a:pt x="191" y="812"/>
                          </a:lnTo>
                          <a:lnTo>
                            <a:pt x="188" y="793"/>
                          </a:lnTo>
                          <a:lnTo>
                            <a:pt x="197" y="785"/>
                          </a:lnTo>
                          <a:lnTo>
                            <a:pt x="197" y="780"/>
                          </a:lnTo>
                          <a:lnTo>
                            <a:pt x="203" y="770"/>
                          </a:lnTo>
                          <a:lnTo>
                            <a:pt x="194" y="748"/>
                          </a:lnTo>
                          <a:lnTo>
                            <a:pt x="181" y="747"/>
                          </a:lnTo>
                          <a:lnTo>
                            <a:pt x="163" y="733"/>
                          </a:lnTo>
                          <a:lnTo>
                            <a:pt x="164" y="724"/>
                          </a:lnTo>
                          <a:lnTo>
                            <a:pt x="180" y="698"/>
                          </a:lnTo>
                          <a:lnTo>
                            <a:pt x="175" y="693"/>
                          </a:lnTo>
                          <a:lnTo>
                            <a:pt x="156" y="684"/>
                          </a:lnTo>
                          <a:lnTo>
                            <a:pt x="145" y="693"/>
                          </a:lnTo>
                          <a:lnTo>
                            <a:pt x="140" y="701"/>
                          </a:lnTo>
                          <a:lnTo>
                            <a:pt x="122" y="698"/>
                          </a:lnTo>
                          <a:lnTo>
                            <a:pt x="108" y="692"/>
                          </a:lnTo>
                          <a:lnTo>
                            <a:pt x="95" y="666"/>
                          </a:lnTo>
                          <a:lnTo>
                            <a:pt x="102" y="646"/>
                          </a:lnTo>
                          <a:lnTo>
                            <a:pt x="106" y="630"/>
                          </a:lnTo>
                          <a:lnTo>
                            <a:pt x="110" y="621"/>
                          </a:lnTo>
                          <a:lnTo>
                            <a:pt x="120" y="613"/>
                          </a:lnTo>
                          <a:lnTo>
                            <a:pt x="126" y="604"/>
                          </a:lnTo>
                          <a:lnTo>
                            <a:pt x="140" y="594"/>
                          </a:lnTo>
                          <a:lnTo>
                            <a:pt x="153" y="588"/>
                          </a:lnTo>
                          <a:lnTo>
                            <a:pt x="164" y="597"/>
                          </a:lnTo>
                          <a:lnTo>
                            <a:pt x="175" y="599"/>
                          </a:lnTo>
                          <a:lnTo>
                            <a:pt x="182" y="610"/>
                          </a:lnTo>
                          <a:lnTo>
                            <a:pt x="192" y="608"/>
                          </a:lnTo>
                          <a:lnTo>
                            <a:pt x="205" y="604"/>
                          </a:lnTo>
                          <a:lnTo>
                            <a:pt x="216" y="610"/>
                          </a:lnTo>
                          <a:lnTo>
                            <a:pt x="236" y="630"/>
                          </a:lnTo>
                          <a:lnTo>
                            <a:pt x="229" y="645"/>
                          </a:lnTo>
                          <a:lnTo>
                            <a:pt x="236" y="654"/>
                          </a:lnTo>
                          <a:lnTo>
                            <a:pt x="236" y="660"/>
                          </a:lnTo>
                          <a:lnTo>
                            <a:pt x="244" y="667"/>
                          </a:lnTo>
                          <a:lnTo>
                            <a:pt x="252" y="675"/>
                          </a:lnTo>
                          <a:lnTo>
                            <a:pt x="255" y="671"/>
                          </a:lnTo>
                          <a:lnTo>
                            <a:pt x="255" y="657"/>
                          </a:lnTo>
                          <a:lnTo>
                            <a:pt x="255" y="637"/>
                          </a:lnTo>
                          <a:lnTo>
                            <a:pt x="255" y="619"/>
                          </a:lnTo>
                          <a:lnTo>
                            <a:pt x="252" y="613"/>
                          </a:lnTo>
                          <a:lnTo>
                            <a:pt x="260" y="602"/>
                          </a:lnTo>
                          <a:lnTo>
                            <a:pt x="274" y="599"/>
                          </a:lnTo>
                          <a:lnTo>
                            <a:pt x="280" y="593"/>
                          </a:lnTo>
                          <a:lnTo>
                            <a:pt x="290" y="596"/>
                          </a:lnTo>
                          <a:lnTo>
                            <a:pt x="299" y="587"/>
                          </a:lnTo>
                          <a:lnTo>
                            <a:pt x="312" y="576"/>
                          </a:lnTo>
                          <a:lnTo>
                            <a:pt x="321" y="572"/>
                          </a:lnTo>
                          <a:lnTo>
                            <a:pt x="317" y="563"/>
                          </a:lnTo>
                          <a:lnTo>
                            <a:pt x="328" y="549"/>
                          </a:lnTo>
                          <a:lnTo>
                            <a:pt x="338" y="539"/>
                          </a:lnTo>
                          <a:lnTo>
                            <a:pt x="346" y="534"/>
                          </a:lnTo>
                          <a:lnTo>
                            <a:pt x="366" y="536"/>
                          </a:lnTo>
                          <a:lnTo>
                            <a:pt x="362" y="522"/>
                          </a:lnTo>
                          <a:lnTo>
                            <a:pt x="381" y="511"/>
                          </a:lnTo>
                          <a:lnTo>
                            <a:pt x="397" y="505"/>
                          </a:lnTo>
                          <a:lnTo>
                            <a:pt x="412" y="503"/>
                          </a:lnTo>
                          <a:lnTo>
                            <a:pt x="407" y="517"/>
                          </a:lnTo>
                          <a:lnTo>
                            <a:pt x="422" y="501"/>
                          </a:lnTo>
                          <a:lnTo>
                            <a:pt x="414" y="492"/>
                          </a:lnTo>
                          <a:lnTo>
                            <a:pt x="413" y="471"/>
                          </a:lnTo>
                          <a:lnTo>
                            <a:pt x="397" y="471"/>
                          </a:lnTo>
                          <a:lnTo>
                            <a:pt x="401" y="460"/>
                          </a:lnTo>
                          <a:lnTo>
                            <a:pt x="448" y="461"/>
                          </a:lnTo>
                          <a:lnTo>
                            <a:pt x="474" y="445"/>
                          </a:lnTo>
                          <a:lnTo>
                            <a:pt x="472" y="434"/>
                          </a:lnTo>
                          <a:lnTo>
                            <a:pt x="459" y="422"/>
                          </a:lnTo>
                          <a:lnTo>
                            <a:pt x="460" y="403"/>
                          </a:lnTo>
                          <a:lnTo>
                            <a:pt x="451" y="399"/>
                          </a:lnTo>
                          <a:lnTo>
                            <a:pt x="447" y="385"/>
                          </a:lnTo>
                          <a:lnTo>
                            <a:pt x="442" y="378"/>
                          </a:lnTo>
                          <a:lnTo>
                            <a:pt x="432" y="381"/>
                          </a:lnTo>
                          <a:lnTo>
                            <a:pt x="414" y="366"/>
                          </a:lnTo>
                          <a:lnTo>
                            <a:pt x="409" y="350"/>
                          </a:lnTo>
                          <a:lnTo>
                            <a:pt x="392" y="330"/>
                          </a:lnTo>
                          <a:lnTo>
                            <a:pt x="367" y="355"/>
                          </a:lnTo>
                          <a:lnTo>
                            <a:pt x="367" y="384"/>
                          </a:lnTo>
                          <a:lnTo>
                            <a:pt x="362" y="393"/>
                          </a:lnTo>
                          <a:lnTo>
                            <a:pt x="351" y="393"/>
                          </a:lnTo>
                          <a:lnTo>
                            <a:pt x="345" y="399"/>
                          </a:lnTo>
                          <a:lnTo>
                            <a:pt x="343" y="414"/>
                          </a:lnTo>
                          <a:lnTo>
                            <a:pt x="334" y="431"/>
                          </a:lnTo>
                          <a:lnTo>
                            <a:pt x="324" y="414"/>
                          </a:lnTo>
                          <a:lnTo>
                            <a:pt x="332" y="393"/>
                          </a:lnTo>
                          <a:lnTo>
                            <a:pt x="329" y="378"/>
                          </a:lnTo>
                          <a:lnTo>
                            <a:pt x="319" y="373"/>
                          </a:lnTo>
                          <a:lnTo>
                            <a:pt x="298" y="340"/>
                          </a:lnTo>
                          <a:lnTo>
                            <a:pt x="300" y="329"/>
                          </a:lnTo>
                          <a:lnTo>
                            <a:pt x="324" y="297"/>
                          </a:lnTo>
                          <a:lnTo>
                            <a:pt x="342" y="297"/>
                          </a:lnTo>
                          <a:lnTo>
                            <a:pt x="357" y="296"/>
                          </a:lnTo>
                          <a:lnTo>
                            <a:pt x="364" y="282"/>
                          </a:lnTo>
                          <a:lnTo>
                            <a:pt x="383" y="286"/>
                          </a:lnTo>
                          <a:lnTo>
                            <a:pt x="389" y="277"/>
                          </a:lnTo>
                          <a:lnTo>
                            <a:pt x="407" y="278"/>
                          </a:lnTo>
                          <a:lnTo>
                            <a:pt x="397" y="266"/>
                          </a:lnTo>
                          <a:lnTo>
                            <a:pt x="395" y="248"/>
                          </a:lnTo>
                          <a:lnTo>
                            <a:pt x="381" y="267"/>
                          </a:lnTo>
                          <a:lnTo>
                            <a:pt x="370" y="261"/>
                          </a:lnTo>
                          <a:lnTo>
                            <a:pt x="384" y="240"/>
                          </a:lnTo>
                          <a:lnTo>
                            <a:pt x="383" y="219"/>
                          </a:lnTo>
                          <a:lnTo>
                            <a:pt x="369" y="234"/>
                          </a:lnTo>
                          <a:lnTo>
                            <a:pt x="356" y="248"/>
                          </a:lnTo>
                          <a:lnTo>
                            <a:pt x="312" y="213"/>
                          </a:lnTo>
                          <a:lnTo>
                            <a:pt x="315" y="149"/>
                          </a:lnTo>
                          <a:lnTo>
                            <a:pt x="295" y="130"/>
                          </a:lnTo>
                          <a:lnTo>
                            <a:pt x="293" y="105"/>
                          </a:lnTo>
                          <a:lnTo>
                            <a:pt x="305" y="75"/>
                          </a:lnTo>
                          <a:lnTo>
                            <a:pt x="310" y="41"/>
                          </a:lnTo>
                          <a:lnTo>
                            <a:pt x="293" y="23"/>
                          </a:lnTo>
                          <a:lnTo>
                            <a:pt x="275" y="21"/>
                          </a:lnTo>
                          <a:lnTo>
                            <a:pt x="265" y="15"/>
                          </a:lnTo>
                          <a:lnTo>
                            <a:pt x="263" y="0"/>
                          </a:lnTo>
                          <a:lnTo>
                            <a:pt x="247" y="23"/>
                          </a:lnTo>
                          <a:lnTo>
                            <a:pt x="231" y="25"/>
                          </a:lnTo>
                          <a:lnTo>
                            <a:pt x="225" y="6"/>
                          </a:lnTo>
                          <a:lnTo>
                            <a:pt x="213" y="12"/>
                          </a:lnTo>
                          <a:lnTo>
                            <a:pt x="200" y="13"/>
                          </a:lnTo>
                          <a:lnTo>
                            <a:pt x="165" y="50"/>
                          </a:lnTo>
                          <a:lnTo>
                            <a:pt x="153" y="45"/>
                          </a:lnTo>
                          <a:lnTo>
                            <a:pt x="137" y="18"/>
                          </a:lnTo>
                          <a:lnTo>
                            <a:pt x="139" y="41"/>
                          </a:lnTo>
                          <a:lnTo>
                            <a:pt x="150" y="59"/>
                          </a:lnTo>
                          <a:lnTo>
                            <a:pt x="169" y="73"/>
                          </a:lnTo>
                          <a:lnTo>
                            <a:pt x="181" y="75"/>
                          </a:lnTo>
                          <a:lnTo>
                            <a:pt x="182" y="91"/>
                          </a:lnTo>
                          <a:lnTo>
                            <a:pt x="190" y="103"/>
                          </a:lnTo>
                          <a:lnTo>
                            <a:pt x="185" y="114"/>
                          </a:lnTo>
                          <a:lnTo>
                            <a:pt x="186" y="137"/>
                          </a:lnTo>
                          <a:lnTo>
                            <a:pt x="175" y="170"/>
                          </a:lnTo>
                          <a:lnTo>
                            <a:pt x="149" y="216"/>
                          </a:lnTo>
                          <a:lnTo>
                            <a:pt x="138" y="218"/>
                          </a:lnTo>
                          <a:lnTo>
                            <a:pt x="118" y="263"/>
                          </a:lnTo>
                          <a:lnTo>
                            <a:pt x="111" y="288"/>
                          </a:lnTo>
                          <a:lnTo>
                            <a:pt x="98" y="284"/>
                          </a:lnTo>
                          <a:lnTo>
                            <a:pt x="98" y="293"/>
                          </a:lnTo>
                          <a:lnTo>
                            <a:pt x="82" y="309"/>
                          </a:lnTo>
                          <a:lnTo>
                            <a:pt x="65" y="319"/>
                          </a:lnTo>
                          <a:lnTo>
                            <a:pt x="42" y="341"/>
                          </a:lnTo>
                          <a:lnTo>
                            <a:pt x="26" y="362"/>
                          </a:lnTo>
                          <a:lnTo>
                            <a:pt x="26" y="379"/>
                          </a:lnTo>
                          <a:lnTo>
                            <a:pt x="20" y="388"/>
                          </a:lnTo>
                          <a:lnTo>
                            <a:pt x="13" y="398"/>
                          </a:lnTo>
                          <a:lnTo>
                            <a:pt x="9" y="412"/>
                          </a:lnTo>
                          <a:lnTo>
                            <a:pt x="13" y="427"/>
                          </a:lnTo>
                          <a:lnTo>
                            <a:pt x="17" y="452"/>
                          </a:lnTo>
                          <a:lnTo>
                            <a:pt x="10" y="464"/>
                          </a:lnTo>
                          <a:lnTo>
                            <a:pt x="3" y="490"/>
                          </a:lnTo>
                          <a:lnTo>
                            <a:pt x="0" y="523"/>
                          </a:lnTo>
                          <a:lnTo>
                            <a:pt x="4" y="539"/>
                          </a:lnTo>
                          <a:lnTo>
                            <a:pt x="1" y="568"/>
                          </a:lnTo>
                          <a:lnTo>
                            <a:pt x="10" y="579"/>
                          </a:lnTo>
                          <a:lnTo>
                            <a:pt x="14" y="530"/>
                          </a:lnTo>
                          <a:lnTo>
                            <a:pt x="14" y="494"/>
                          </a:lnTo>
                          <a:lnTo>
                            <a:pt x="24" y="481"/>
                          </a:lnTo>
                          <a:lnTo>
                            <a:pt x="26" y="499"/>
                          </a:lnTo>
                          <a:lnTo>
                            <a:pt x="23" y="511"/>
                          </a:lnTo>
                          <a:lnTo>
                            <a:pt x="23" y="524"/>
                          </a:lnTo>
                          <a:lnTo>
                            <a:pt x="22" y="547"/>
                          </a:lnTo>
                          <a:lnTo>
                            <a:pt x="29" y="569"/>
                          </a:lnTo>
                          <a:lnTo>
                            <a:pt x="30" y="591"/>
                          </a:lnTo>
                          <a:lnTo>
                            <a:pt x="33" y="602"/>
                          </a:lnTo>
                          <a:lnTo>
                            <a:pt x="37" y="615"/>
                          </a:lnTo>
                          <a:lnTo>
                            <a:pt x="30" y="630"/>
                          </a:lnTo>
                          <a:lnTo>
                            <a:pt x="33" y="649"/>
                          </a:lnTo>
                          <a:lnTo>
                            <a:pt x="41" y="674"/>
                          </a:lnTo>
                          <a:lnTo>
                            <a:pt x="56" y="686"/>
                          </a:lnTo>
                          <a:lnTo>
                            <a:pt x="73" y="706"/>
                          </a:lnTo>
                          <a:lnTo>
                            <a:pt x="86" y="720"/>
                          </a:lnTo>
                          <a:lnTo>
                            <a:pt x="95" y="718"/>
                          </a:lnTo>
                          <a:lnTo>
                            <a:pt x="106" y="728"/>
                          </a:lnTo>
                          <a:lnTo>
                            <a:pt x="114" y="733"/>
                          </a:lnTo>
                          <a:lnTo>
                            <a:pt x="121" y="745"/>
                          </a:lnTo>
                          <a:lnTo>
                            <a:pt x="145" y="767"/>
                          </a:lnTo>
                          <a:lnTo>
                            <a:pt x="153" y="770"/>
                          </a:lnTo>
                          <a:lnTo>
                            <a:pt x="169" y="784"/>
                          </a:lnTo>
                          <a:lnTo>
                            <a:pt x="170" y="806"/>
                          </a:lnTo>
                          <a:lnTo>
                            <a:pt x="189" y="828"/>
                          </a:lnTo>
                          <a:lnTo>
                            <a:pt x="205" y="847"/>
                          </a:lnTo>
                          <a:lnTo>
                            <a:pt x="214" y="850"/>
                          </a:lnTo>
                          <a:lnTo>
                            <a:pt x="222" y="843"/>
                          </a:lnTo>
                          <a:lnTo>
                            <a:pt x="227" y="841"/>
                          </a:lnTo>
                          <a:lnTo>
                            <a:pt x="240" y="863"/>
                          </a:lnTo>
                          <a:lnTo>
                            <a:pt x="245" y="8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145280" y="5126040"/>
                      <a:ext cx="13176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55">
                          <a:moveTo>
                            <a:pt x="1" y="0"/>
                          </a:moveTo>
                          <a:lnTo>
                            <a:pt x="24" y="4"/>
                          </a:lnTo>
                          <a:lnTo>
                            <a:pt x="38" y="16"/>
                          </a:lnTo>
                          <a:lnTo>
                            <a:pt x="46" y="25"/>
                          </a:lnTo>
                          <a:lnTo>
                            <a:pt x="54" y="27"/>
                          </a:lnTo>
                          <a:lnTo>
                            <a:pt x="65" y="36"/>
                          </a:lnTo>
                          <a:lnTo>
                            <a:pt x="73" y="47"/>
                          </a:lnTo>
                          <a:lnTo>
                            <a:pt x="82" y="54"/>
                          </a:lnTo>
                          <a:lnTo>
                            <a:pt x="63" y="54"/>
                          </a:lnTo>
                          <a:lnTo>
                            <a:pt x="51" y="42"/>
                          </a:lnTo>
                          <a:lnTo>
                            <a:pt x="35" y="37"/>
                          </a:lnTo>
                          <a:lnTo>
                            <a:pt x="27" y="27"/>
                          </a:lnTo>
                          <a:lnTo>
                            <a:pt x="11" y="19"/>
                          </a:lnTo>
                          <a:lnTo>
                            <a:pt x="0" y="1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7273800" y="5218200"/>
                      <a:ext cx="7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5">
                          <a:moveTo>
                            <a:pt x="0" y="13"/>
                          </a:moveTo>
                          <a:lnTo>
                            <a:pt x="15" y="0"/>
                          </a:lnTo>
                          <a:lnTo>
                            <a:pt x="31" y="2"/>
                          </a:lnTo>
                          <a:lnTo>
                            <a:pt x="47" y="16"/>
                          </a:lnTo>
                          <a:lnTo>
                            <a:pt x="47" y="22"/>
                          </a:lnTo>
                          <a:lnTo>
                            <a:pt x="36" y="24"/>
                          </a:lnTo>
                          <a:lnTo>
                            <a:pt x="27" y="19"/>
                          </a:lnTo>
                          <a:lnTo>
                            <a:pt x="15" y="19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7321680" y="4298760"/>
                      <a:ext cx="745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56">
                          <a:moveTo>
                            <a:pt x="11" y="0"/>
                          </a:moveTo>
                          <a:lnTo>
                            <a:pt x="23" y="9"/>
                          </a:lnTo>
                          <a:lnTo>
                            <a:pt x="27" y="8"/>
                          </a:lnTo>
                          <a:lnTo>
                            <a:pt x="44" y="24"/>
                          </a:lnTo>
                          <a:lnTo>
                            <a:pt x="46" y="31"/>
                          </a:lnTo>
                          <a:lnTo>
                            <a:pt x="39" y="36"/>
                          </a:lnTo>
                          <a:lnTo>
                            <a:pt x="39" y="39"/>
                          </a:lnTo>
                          <a:lnTo>
                            <a:pt x="34" y="41"/>
                          </a:lnTo>
                          <a:lnTo>
                            <a:pt x="34" y="44"/>
                          </a:lnTo>
                          <a:lnTo>
                            <a:pt x="28" y="55"/>
                          </a:lnTo>
                          <a:lnTo>
                            <a:pt x="19" y="49"/>
                          </a:lnTo>
                          <a:lnTo>
                            <a:pt x="14" y="52"/>
                          </a:lnTo>
                          <a:lnTo>
                            <a:pt x="0" y="34"/>
                          </a:lnTo>
                          <a:lnTo>
                            <a:pt x="8" y="20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396200" y="4279680"/>
                      <a:ext cx="4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6">
                          <a:moveTo>
                            <a:pt x="0" y="14"/>
                          </a:moveTo>
                          <a:lnTo>
                            <a:pt x="17" y="25"/>
                          </a:lnTo>
                          <a:lnTo>
                            <a:pt x="20" y="20"/>
                          </a:lnTo>
                          <a:lnTo>
                            <a:pt x="29" y="9"/>
                          </a:lnTo>
                          <a:lnTo>
                            <a:pt x="25" y="3"/>
                          </a:lnTo>
                          <a:lnTo>
                            <a:pt x="19" y="5"/>
                          </a:lnTo>
                          <a:lnTo>
                            <a:pt x="17" y="0"/>
                          </a:lnTo>
                          <a:lnTo>
                            <a:pt x="12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34280" y="426240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0" y="1"/>
                          </a:moveTo>
                          <a:lnTo>
                            <a:pt x="16" y="0"/>
                          </a:lnTo>
                          <a:lnTo>
                            <a:pt x="30" y="18"/>
                          </a:lnTo>
                          <a:lnTo>
                            <a:pt x="18" y="18"/>
                          </a:lnTo>
                          <a:lnTo>
                            <a:pt x="17" y="15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5" y="15"/>
                          </a:lnTo>
                          <a:lnTo>
                            <a:pt x="7" y="1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7440480" y="4387680"/>
                      <a:ext cx="114480" cy="20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31">
                          <a:moveTo>
                            <a:pt x="31" y="73"/>
                          </a:moveTo>
                          <a:lnTo>
                            <a:pt x="19" y="88"/>
                          </a:lnTo>
                          <a:lnTo>
                            <a:pt x="14" y="88"/>
                          </a:lnTo>
                          <a:lnTo>
                            <a:pt x="9" y="92"/>
                          </a:lnTo>
                          <a:lnTo>
                            <a:pt x="3" y="92"/>
                          </a:lnTo>
                          <a:lnTo>
                            <a:pt x="2" y="96"/>
                          </a:lnTo>
                          <a:lnTo>
                            <a:pt x="12" y="97"/>
                          </a:lnTo>
                          <a:lnTo>
                            <a:pt x="16" y="100"/>
                          </a:lnTo>
                          <a:lnTo>
                            <a:pt x="20" y="106"/>
                          </a:lnTo>
                          <a:lnTo>
                            <a:pt x="20" y="108"/>
                          </a:lnTo>
                          <a:lnTo>
                            <a:pt x="27" y="114"/>
                          </a:lnTo>
                          <a:lnTo>
                            <a:pt x="27" y="119"/>
                          </a:lnTo>
                          <a:lnTo>
                            <a:pt x="31" y="119"/>
                          </a:lnTo>
                          <a:lnTo>
                            <a:pt x="44" y="130"/>
                          </a:lnTo>
                          <a:lnTo>
                            <a:pt x="41" y="122"/>
                          </a:lnTo>
                          <a:lnTo>
                            <a:pt x="41" y="114"/>
                          </a:lnTo>
                          <a:lnTo>
                            <a:pt x="45" y="114"/>
                          </a:lnTo>
                          <a:lnTo>
                            <a:pt x="49" y="118"/>
                          </a:lnTo>
                          <a:lnTo>
                            <a:pt x="52" y="118"/>
                          </a:lnTo>
                          <a:lnTo>
                            <a:pt x="54" y="119"/>
                          </a:lnTo>
                          <a:lnTo>
                            <a:pt x="56" y="118"/>
                          </a:lnTo>
                          <a:lnTo>
                            <a:pt x="56" y="111"/>
                          </a:lnTo>
                          <a:lnTo>
                            <a:pt x="52" y="106"/>
                          </a:lnTo>
                          <a:lnTo>
                            <a:pt x="51" y="97"/>
                          </a:lnTo>
                          <a:lnTo>
                            <a:pt x="53" y="89"/>
                          </a:lnTo>
                          <a:lnTo>
                            <a:pt x="68" y="104"/>
                          </a:lnTo>
                          <a:lnTo>
                            <a:pt x="68" y="95"/>
                          </a:lnTo>
                          <a:lnTo>
                            <a:pt x="71" y="84"/>
                          </a:lnTo>
                          <a:lnTo>
                            <a:pt x="61" y="73"/>
                          </a:lnTo>
                          <a:lnTo>
                            <a:pt x="60" y="65"/>
                          </a:lnTo>
                          <a:lnTo>
                            <a:pt x="61" y="49"/>
                          </a:lnTo>
                          <a:lnTo>
                            <a:pt x="47" y="31"/>
                          </a:lnTo>
                          <a:lnTo>
                            <a:pt x="33" y="20"/>
                          </a:lnTo>
                          <a:lnTo>
                            <a:pt x="36" y="15"/>
                          </a:lnTo>
                          <a:lnTo>
                            <a:pt x="30" y="11"/>
                          </a:lnTo>
                          <a:lnTo>
                            <a:pt x="30" y="4"/>
                          </a:lnTo>
                          <a:lnTo>
                            <a:pt x="19" y="15"/>
                          </a:lnTo>
                          <a:lnTo>
                            <a:pt x="16" y="12"/>
                          </a:lnTo>
                          <a:lnTo>
                            <a:pt x="20" y="6"/>
                          </a:lnTo>
                          <a:lnTo>
                            <a:pt x="20" y="0"/>
                          </a:lnTo>
                          <a:lnTo>
                            <a:pt x="14" y="0"/>
                          </a:lnTo>
                          <a:lnTo>
                            <a:pt x="8" y="3"/>
                          </a:lnTo>
                          <a:lnTo>
                            <a:pt x="0" y="5"/>
                          </a:lnTo>
                          <a:lnTo>
                            <a:pt x="0" y="12"/>
                          </a:lnTo>
                          <a:lnTo>
                            <a:pt x="0" y="19"/>
                          </a:lnTo>
                          <a:lnTo>
                            <a:pt x="2" y="22"/>
                          </a:lnTo>
                          <a:lnTo>
                            <a:pt x="11" y="27"/>
                          </a:lnTo>
                          <a:lnTo>
                            <a:pt x="9" y="34"/>
                          </a:lnTo>
                          <a:lnTo>
                            <a:pt x="13" y="37"/>
                          </a:lnTo>
                          <a:lnTo>
                            <a:pt x="17" y="39"/>
                          </a:lnTo>
                          <a:lnTo>
                            <a:pt x="24" y="39"/>
                          </a:lnTo>
                          <a:lnTo>
                            <a:pt x="30" y="45"/>
                          </a:lnTo>
                          <a:lnTo>
                            <a:pt x="31" y="54"/>
                          </a:lnTo>
                          <a:lnTo>
                            <a:pt x="30" y="64"/>
                          </a:lnTo>
                          <a:lnTo>
                            <a:pt x="31" y="7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7497720" y="4275000"/>
                      <a:ext cx="1112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59">
                          <a:moveTo>
                            <a:pt x="0" y="43"/>
                          </a:moveTo>
                          <a:lnTo>
                            <a:pt x="16" y="58"/>
                          </a:lnTo>
                          <a:lnTo>
                            <a:pt x="26" y="49"/>
                          </a:lnTo>
                          <a:lnTo>
                            <a:pt x="32" y="49"/>
                          </a:lnTo>
                          <a:lnTo>
                            <a:pt x="46" y="29"/>
                          </a:lnTo>
                          <a:lnTo>
                            <a:pt x="53" y="31"/>
                          </a:lnTo>
                          <a:lnTo>
                            <a:pt x="65" y="18"/>
                          </a:lnTo>
                          <a:lnTo>
                            <a:pt x="64" y="14"/>
                          </a:lnTo>
                          <a:lnTo>
                            <a:pt x="69" y="10"/>
                          </a:lnTo>
                          <a:lnTo>
                            <a:pt x="65" y="6"/>
                          </a:lnTo>
                          <a:lnTo>
                            <a:pt x="54" y="6"/>
                          </a:lnTo>
                          <a:lnTo>
                            <a:pt x="46" y="5"/>
                          </a:lnTo>
                          <a:lnTo>
                            <a:pt x="41" y="0"/>
                          </a:lnTo>
                          <a:lnTo>
                            <a:pt x="32" y="1"/>
                          </a:lnTo>
                          <a:lnTo>
                            <a:pt x="29" y="6"/>
                          </a:lnTo>
                          <a:lnTo>
                            <a:pt x="29" y="11"/>
                          </a:lnTo>
                          <a:lnTo>
                            <a:pt x="29" y="22"/>
                          </a:lnTo>
                          <a:lnTo>
                            <a:pt x="23" y="24"/>
                          </a:lnTo>
                          <a:lnTo>
                            <a:pt x="20" y="29"/>
                          </a:lnTo>
                          <a:lnTo>
                            <a:pt x="8" y="41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804080" y="4503600"/>
                      <a:ext cx="586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1">
                          <a:moveTo>
                            <a:pt x="0" y="16"/>
                          </a:moveTo>
                          <a:lnTo>
                            <a:pt x="13" y="7"/>
                          </a:lnTo>
                          <a:lnTo>
                            <a:pt x="17" y="7"/>
                          </a:lnTo>
                          <a:lnTo>
                            <a:pt x="17" y="3"/>
                          </a:lnTo>
                          <a:lnTo>
                            <a:pt x="20" y="0"/>
                          </a:lnTo>
                          <a:lnTo>
                            <a:pt x="24" y="1"/>
                          </a:lnTo>
                          <a:lnTo>
                            <a:pt x="32" y="7"/>
                          </a:lnTo>
                          <a:lnTo>
                            <a:pt x="32" y="11"/>
                          </a:lnTo>
                          <a:lnTo>
                            <a:pt x="36" y="13"/>
                          </a:lnTo>
                          <a:lnTo>
                            <a:pt x="36" y="19"/>
                          </a:lnTo>
                          <a:lnTo>
                            <a:pt x="32" y="20"/>
                          </a:lnTo>
                          <a:lnTo>
                            <a:pt x="32" y="25"/>
                          </a:lnTo>
                          <a:lnTo>
                            <a:pt x="26" y="30"/>
                          </a:lnTo>
                          <a:lnTo>
                            <a:pt x="9" y="30"/>
                          </a:lnTo>
                          <a:lnTo>
                            <a:pt x="7" y="2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575480" y="4286160"/>
                      <a:ext cx="20160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214">
                          <a:moveTo>
                            <a:pt x="0" y="63"/>
                          </a:moveTo>
                          <a:lnTo>
                            <a:pt x="0" y="44"/>
                          </a:lnTo>
                          <a:lnTo>
                            <a:pt x="5" y="42"/>
                          </a:lnTo>
                          <a:lnTo>
                            <a:pt x="4" y="38"/>
                          </a:lnTo>
                          <a:lnTo>
                            <a:pt x="18" y="22"/>
                          </a:lnTo>
                          <a:lnTo>
                            <a:pt x="26" y="16"/>
                          </a:lnTo>
                          <a:lnTo>
                            <a:pt x="30" y="13"/>
                          </a:lnTo>
                          <a:lnTo>
                            <a:pt x="39" y="7"/>
                          </a:lnTo>
                          <a:lnTo>
                            <a:pt x="41" y="7"/>
                          </a:lnTo>
                          <a:lnTo>
                            <a:pt x="45" y="7"/>
                          </a:lnTo>
                          <a:lnTo>
                            <a:pt x="49" y="2"/>
                          </a:lnTo>
                          <a:lnTo>
                            <a:pt x="56" y="1"/>
                          </a:lnTo>
                          <a:lnTo>
                            <a:pt x="69" y="0"/>
                          </a:lnTo>
                          <a:lnTo>
                            <a:pt x="77" y="8"/>
                          </a:lnTo>
                          <a:lnTo>
                            <a:pt x="76" y="13"/>
                          </a:lnTo>
                          <a:lnTo>
                            <a:pt x="81" y="16"/>
                          </a:lnTo>
                          <a:lnTo>
                            <a:pt x="92" y="3"/>
                          </a:lnTo>
                          <a:lnTo>
                            <a:pt x="93" y="16"/>
                          </a:lnTo>
                          <a:lnTo>
                            <a:pt x="99" y="34"/>
                          </a:lnTo>
                          <a:lnTo>
                            <a:pt x="103" y="50"/>
                          </a:lnTo>
                          <a:lnTo>
                            <a:pt x="114" y="66"/>
                          </a:lnTo>
                          <a:lnTo>
                            <a:pt x="115" y="75"/>
                          </a:lnTo>
                          <a:lnTo>
                            <a:pt x="117" y="91"/>
                          </a:lnTo>
                          <a:lnTo>
                            <a:pt x="121" y="99"/>
                          </a:lnTo>
                          <a:lnTo>
                            <a:pt x="126" y="115"/>
                          </a:lnTo>
                          <a:lnTo>
                            <a:pt x="122" y="126"/>
                          </a:lnTo>
                          <a:lnTo>
                            <a:pt x="121" y="131"/>
                          </a:lnTo>
                          <a:lnTo>
                            <a:pt x="113" y="133"/>
                          </a:lnTo>
                          <a:lnTo>
                            <a:pt x="104" y="140"/>
                          </a:lnTo>
                          <a:lnTo>
                            <a:pt x="100" y="144"/>
                          </a:lnTo>
                          <a:lnTo>
                            <a:pt x="101" y="148"/>
                          </a:lnTo>
                          <a:lnTo>
                            <a:pt x="93" y="156"/>
                          </a:lnTo>
                          <a:lnTo>
                            <a:pt x="88" y="160"/>
                          </a:lnTo>
                          <a:lnTo>
                            <a:pt x="84" y="160"/>
                          </a:lnTo>
                          <a:lnTo>
                            <a:pt x="77" y="165"/>
                          </a:lnTo>
                          <a:lnTo>
                            <a:pt x="78" y="171"/>
                          </a:lnTo>
                          <a:lnTo>
                            <a:pt x="69" y="178"/>
                          </a:lnTo>
                          <a:lnTo>
                            <a:pt x="69" y="185"/>
                          </a:lnTo>
                          <a:lnTo>
                            <a:pt x="66" y="194"/>
                          </a:lnTo>
                          <a:lnTo>
                            <a:pt x="66" y="203"/>
                          </a:lnTo>
                          <a:lnTo>
                            <a:pt x="65" y="209"/>
                          </a:lnTo>
                          <a:lnTo>
                            <a:pt x="61" y="213"/>
                          </a:lnTo>
                          <a:lnTo>
                            <a:pt x="52" y="213"/>
                          </a:lnTo>
                          <a:lnTo>
                            <a:pt x="45" y="212"/>
                          </a:lnTo>
                          <a:lnTo>
                            <a:pt x="34" y="205"/>
                          </a:lnTo>
                          <a:lnTo>
                            <a:pt x="28" y="199"/>
                          </a:lnTo>
                          <a:lnTo>
                            <a:pt x="27" y="194"/>
                          </a:lnTo>
                          <a:lnTo>
                            <a:pt x="27" y="187"/>
                          </a:lnTo>
                          <a:lnTo>
                            <a:pt x="23" y="178"/>
                          </a:lnTo>
                          <a:lnTo>
                            <a:pt x="21" y="171"/>
                          </a:lnTo>
                          <a:lnTo>
                            <a:pt x="22" y="165"/>
                          </a:lnTo>
                          <a:lnTo>
                            <a:pt x="21" y="156"/>
                          </a:lnTo>
                          <a:lnTo>
                            <a:pt x="17" y="154"/>
                          </a:lnTo>
                          <a:lnTo>
                            <a:pt x="23" y="148"/>
                          </a:lnTo>
                          <a:lnTo>
                            <a:pt x="27" y="140"/>
                          </a:lnTo>
                          <a:lnTo>
                            <a:pt x="27" y="135"/>
                          </a:lnTo>
                          <a:lnTo>
                            <a:pt x="24" y="128"/>
                          </a:lnTo>
                          <a:lnTo>
                            <a:pt x="19" y="121"/>
                          </a:lnTo>
                          <a:lnTo>
                            <a:pt x="22" y="110"/>
                          </a:lnTo>
                          <a:lnTo>
                            <a:pt x="20" y="98"/>
                          </a:lnTo>
                          <a:lnTo>
                            <a:pt x="18" y="87"/>
                          </a:lnTo>
                          <a:lnTo>
                            <a:pt x="16" y="74"/>
                          </a:lnTo>
                          <a:lnTo>
                            <a:pt x="8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523280" y="4770360"/>
                      <a:ext cx="66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0"/>
                          </a:moveTo>
                          <a:lnTo>
                            <a:pt x="15" y="36"/>
                          </a:lnTo>
                          <a:lnTo>
                            <a:pt x="26" y="37"/>
                          </a:lnTo>
                          <a:lnTo>
                            <a:pt x="33" y="40"/>
                          </a:lnTo>
                          <a:lnTo>
                            <a:pt x="37" y="42"/>
                          </a:lnTo>
                          <a:lnTo>
                            <a:pt x="41" y="34"/>
                          </a:lnTo>
                          <a:lnTo>
                            <a:pt x="40" y="30"/>
                          </a:lnTo>
                          <a:lnTo>
                            <a:pt x="41" y="25"/>
                          </a:lnTo>
                          <a:lnTo>
                            <a:pt x="39" y="20"/>
                          </a:lnTo>
                          <a:lnTo>
                            <a:pt x="36" y="23"/>
                          </a:lnTo>
                          <a:lnTo>
                            <a:pt x="26" y="12"/>
                          </a:lnTo>
                          <a:lnTo>
                            <a:pt x="26" y="4"/>
                          </a:lnTo>
                          <a:lnTo>
                            <a:pt x="30" y="1"/>
                          </a:lnTo>
                          <a:lnTo>
                            <a:pt x="27" y="0"/>
                          </a:lnTo>
                          <a:lnTo>
                            <a:pt x="16" y="5"/>
                          </a:lnTo>
                          <a:lnTo>
                            <a:pt x="16" y="11"/>
                          </a:lnTo>
                          <a:lnTo>
                            <a:pt x="14" y="19"/>
                          </a:lnTo>
                          <a:lnTo>
                            <a:pt x="8" y="27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201080" y="4724280"/>
                  <a:ext cx="139680" cy="133560"/>
                  <a:chOff x="7201080" y="4724280"/>
                  <a:chExt cx="139680" cy="13356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7201080" y="472428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0" y="6"/>
                        </a:move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7" y="2"/>
                        </a:lnTo>
                        <a:lnTo>
                          <a:pt x="26" y="0"/>
                        </a:lnTo>
                        <a:lnTo>
                          <a:pt x="32" y="4"/>
                        </a:lnTo>
                        <a:lnTo>
                          <a:pt x="36" y="4"/>
                        </a:lnTo>
                        <a:lnTo>
                          <a:pt x="38" y="11"/>
                        </a:lnTo>
                        <a:lnTo>
                          <a:pt x="42" y="13"/>
                        </a:lnTo>
                        <a:lnTo>
                          <a:pt x="42" y="19"/>
                        </a:lnTo>
                        <a:lnTo>
                          <a:pt x="43" y="25"/>
                        </a:lnTo>
                        <a:lnTo>
                          <a:pt x="44" y="30"/>
                        </a:lnTo>
                        <a:lnTo>
                          <a:pt x="52" y="40"/>
                        </a:lnTo>
                        <a:lnTo>
                          <a:pt x="55" y="42"/>
                        </a:lnTo>
                        <a:lnTo>
                          <a:pt x="58" y="43"/>
                        </a:lnTo>
                        <a:lnTo>
                          <a:pt x="59" y="48"/>
                        </a:lnTo>
                        <a:lnTo>
                          <a:pt x="53" y="54"/>
                        </a:lnTo>
                        <a:lnTo>
                          <a:pt x="44" y="66"/>
                        </a:lnTo>
                        <a:lnTo>
                          <a:pt x="42" y="65"/>
                        </a:lnTo>
                        <a:lnTo>
                          <a:pt x="40" y="59"/>
                        </a:lnTo>
                        <a:lnTo>
                          <a:pt x="41" y="49"/>
                        </a:lnTo>
                        <a:lnTo>
                          <a:pt x="42" y="46"/>
                        </a:lnTo>
                        <a:lnTo>
                          <a:pt x="42" y="41"/>
                        </a:lnTo>
                        <a:lnTo>
                          <a:pt x="28" y="43"/>
                        </a:lnTo>
                        <a:lnTo>
                          <a:pt x="17" y="52"/>
                        </a:lnTo>
                        <a:lnTo>
                          <a:pt x="17" y="56"/>
                        </a:lnTo>
                        <a:lnTo>
                          <a:pt x="15" y="63"/>
                        </a:lnTo>
                        <a:lnTo>
                          <a:pt x="7" y="63"/>
                        </a:lnTo>
                        <a:lnTo>
                          <a:pt x="4" y="60"/>
                        </a:lnTo>
                        <a:lnTo>
                          <a:pt x="7" y="54"/>
                        </a:lnTo>
                        <a:lnTo>
                          <a:pt x="8" y="49"/>
                        </a:lnTo>
                        <a:lnTo>
                          <a:pt x="11" y="48"/>
                        </a:lnTo>
                        <a:lnTo>
                          <a:pt x="9" y="44"/>
                        </a:lnTo>
                        <a:lnTo>
                          <a:pt x="16" y="35"/>
                        </a:lnTo>
                        <a:lnTo>
                          <a:pt x="20" y="35"/>
                        </a:lnTo>
                        <a:lnTo>
                          <a:pt x="26" y="36"/>
                        </a:lnTo>
                        <a:lnTo>
                          <a:pt x="30" y="32"/>
                        </a:lnTo>
                        <a:lnTo>
                          <a:pt x="34" y="31"/>
                        </a:lnTo>
                        <a:lnTo>
                          <a:pt x="34" y="28"/>
                        </a:lnTo>
                        <a:lnTo>
                          <a:pt x="22" y="26"/>
                        </a:lnTo>
                        <a:lnTo>
                          <a:pt x="23" y="16"/>
                        </a:lnTo>
                        <a:lnTo>
                          <a:pt x="19" y="16"/>
                        </a:lnTo>
                        <a:lnTo>
                          <a:pt x="11" y="16"/>
                        </a:lnTo>
                        <a:lnTo>
                          <a:pt x="0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7254720" y="4841640"/>
                    <a:ext cx="381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0" y="7"/>
                        </a:moveTo>
                        <a:lnTo>
                          <a:pt x="13" y="9"/>
                        </a:lnTo>
                        <a:lnTo>
                          <a:pt x="23" y="1"/>
                        </a:lnTo>
                        <a:lnTo>
                          <a:pt x="13" y="0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7305840" y="483552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5"/>
                        </a:moveTo>
                        <a:lnTo>
                          <a:pt x="12" y="8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594560" y="3943440"/>
                  <a:ext cx="31680" cy="52200"/>
                  <a:chOff x="7594560" y="3943440"/>
                  <a:chExt cx="31680" cy="5220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7594560" y="3970440"/>
                    <a:ext cx="31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0" y="10"/>
                        </a:moveTo>
                        <a:lnTo>
                          <a:pt x="19" y="15"/>
                        </a:lnTo>
                        <a:lnTo>
                          <a:pt x="18" y="6"/>
                        </a:lnTo>
                        <a:lnTo>
                          <a:pt x="18" y="0"/>
                        </a:lnTo>
                        <a:lnTo>
                          <a:pt x="9" y="4"/>
                        </a:lnTo>
                        <a:lnTo>
                          <a:pt x="0" y="1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594560" y="3943440"/>
                    <a:ext cx="25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9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7236000" y="3706920"/>
                <a:ext cx="1796760" cy="2261880"/>
                <a:chOff x="7236000" y="3706920"/>
                <a:chExt cx="1796760" cy="22618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8058240" y="4703760"/>
                  <a:ext cx="974520" cy="1265040"/>
                </a:xfrm>
                <a:custGeom>
                  <a:avLst/>
                  <a:gdLst/>
                  <a:ahLst/>
                  <a:rect l="l" t="t" r="r" b="b"/>
                  <a:pathLst>
                    <a:path w="614" h="797">
                      <a:moveTo>
                        <a:pt x="50" y="120"/>
                      </a:moveTo>
                      <a:lnTo>
                        <a:pt x="86" y="106"/>
                      </a:lnTo>
                      <a:lnTo>
                        <a:pt x="102" y="79"/>
                      </a:lnTo>
                      <a:lnTo>
                        <a:pt x="119" y="73"/>
                      </a:lnTo>
                      <a:lnTo>
                        <a:pt x="143" y="54"/>
                      </a:lnTo>
                      <a:lnTo>
                        <a:pt x="168" y="84"/>
                      </a:lnTo>
                      <a:lnTo>
                        <a:pt x="181" y="73"/>
                      </a:lnTo>
                      <a:lnTo>
                        <a:pt x="190" y="76"/>
                      </a:lnTo>
                      <a:lnTo>
                        <a:pt x="202" y="71"/>
                      </a:lnTo>
                      <a:lnTo>
                        <a:pt x="210" y="71"/>
                      </a:lnTo>
                      <a:lnTo>
                        <a:pt x="227" y="73"/>
                      </a:lnTo>
                      <a:lnTo>
                        <a:pt x="246" y="62"/>
                      </a:lnTo>
                      <a:lnTo>
                        <a:pt x="232" y="46"/>
                      </a:lnTo>
                      <a:lnTo>
                        <a:pt x="251" y="26"/>
                      </a:lnTo>
                      <a:lnTo>
                        <a:pt x="268" y="26"/>
                      </a:lnTo>
                      <a:lnTo>
                        <a:pt x="290" y="4"/>
                      </a:lnTo>
                      <a:lnTo>
                        <a:pt x="307" y="4"/>
                      </a:lnTo>
                      <a:lnTo>
                        <a:pt x="315" y="0"/>
                      </a:lnTo>
                      <a:lnTo>
                        <a:pt x="339" y="4"/>
                      </a:lnTo>
                      <a:lnTo>
                        <a:pt x="350" y="13"/>
                      </a:lnTo>
                      <a:lnTo>
                        <a:pt x="359" y="15"/>
                      </a:lnTo>
                      <a:lnTo>
                        <a:pt x="378" y="24"/>
                      </a:lnTo>
                      <a:lnTo>
                        <a:pt x="397" y="32"/>
                      </a:lnTo>
                      <a:lnTo>
                        <a:pt x="414" y="43"/>
                      </a:lnTo>
                      <a:lnTo>
                        <a:pt x="436" y="65"/>
                      </a:lnTo>
                      <a:lnTo>
                        <a:pt x="444" y="79"/>
                      </a:lnTo>
                      <a:lnTo>
                        <a:pt x="468" y="76"/>
                      </a:lnTo>
                      <a:lnTo>
                        <a:pt x="505" y="82"/>
                      </a:lnTo>
                      <a:lnTo>
                        <a:pt x="524" y="93"/>
                      </a:lnTo>
                      <a:lnTo>
                        <a:pt x="562" y="65"/>
                      </a:lnTo>
                      <a:lnTo>
                        <a:pt x="560" y="49"/>
                      </a:lnTo>
                      <a:lnTo>
                        <a:pt x="573" y="32"/>
                      </a:lnTo>
                      <a:lnTo>
                        <a:pt x="587" y="26"/>
                      </a:lnTo>
                      <a:lnTo>
                        <a:pt x="593" y="49"/>
                      </a:lnTo>
                      <a:lnTo>
                        <a:pt x="595" y="79"/>
                      </a:lnTo>
                      <a:lnTo>
                        <a:pt x="604" y="112"/>
                      </a:lnTo>
                      <a:lnTo>
                        <a:pt x="604" y="137"/>
                      </a:lnTo>
                      <a:lnTo>
                        <a:pt x="590" y="156"/>
                      </a:lnTo>
                      <a:lnTo>
                        <a:pt x="606" y="162"/>
                      </a:lnTo>
                      <a:lnTo>
                        <a:pt x="601" y="186"/>
                      </a:lnTo>
                      <a:lnTo>
                        <a:pt x="595" y="217"/>
                      </a:lnTo>
                      <a:lnTo>
                        <a:pt x="587" y="239"/>
                      </a:lnTo>
                      <a:lnTo>
                        <a:pt x="576" y="258"/>
                      </a:lnTo>
                      <a:lnTo>
                        <a:pt x="571" y="271"/>
                      </a:lnTo>
                      <a:lnTo>
                        <a:pt x="573" y="291"/>
                      </a:lnTo>
                      <a:lnTo>
                        <a:pt x="579" y="316"/>
                      </a:lnTo>
                      <a:lnTo>
                        <a:pt x="573" y="332"/>
                      </a:lnTo>
                      <a:lnTo>
                        <a:pt x="576" y="346"/>
                      </a:lnTo>
                      <a:lnTo>
                        <a:pt x="582" y="357"/>
                      </a:lnTo>
                      <a:lnTo>
                        <a:pt x="590" y="373"/>
                      </a:lnTo>
                      <a:lnTo>
                        <a:pt x="613" y="399"/>
                      </a:lnTo>
                      <a:lnTo>
                        <a:pt x="608" y="420"/>
                      </a:lnTo>
                      <a:lnTo>
                        <a:pt x="598" y="462"/>
                      </a:lnTo>
                      <a:lnTo>
                        <a:pt x="586" y="507"/>
                      </a:lnTo>
                      <a:lnTo>
                        <a:pt x="575" y="541"/>
                      </a:lnTo>
                      <a:lnTo>
                        <a:pt x="560" y="577"/>
                      </a:lnTo>
                      <a:lnTo>
                        <a:pt x="540" y="621"/>
                      </a:lnTo>
                      <a:lnTo>
                        <a:pt x="523" y="655"/>
                      </a:lnTo>
                      <a:lnTo>
                        <a:pt x="502" y="693"/>
                      </a:lnTo>
                      <a:lnTo>
                        <a:pt x="484" y="721"/>
                      </a:lnTo>
                      <a:lnTo>
                        <a:pt x="464" y="751"/>
                      </a:lnTo>
                      <a:lnTo>
                        <a:pt x="437" y="785"/>
                      </a:lnTo>
                      <a:lnTo>
                        <a:pt x="414" y="796"/>
                      </a:lnTo>
                      <a:lnTo>
                        <a:pt x="395" y="790"/>
                      </a:lnTo>
                      <a:lnTo>
                        <a:pt x="384" y="765"/>
                      </a:lnTo>
                      <a:lnTo>
                        <a:pt x="389" y="759"/>
                      </a:lnTo>
                      <a:lnTo>
                        <a:pt x="395" y="740"/>
                      </a:lnTo>
                      <a:lnTo>
                        <a:pt x="384" y="729"/>
                      </a:lnTo>
                      <a:lnTo>
                        <a:pt x="384" y="716"/>
                      </a:lnTo>
                      <a:lnTo>
                        <a:pt x="375" y="705"/>
                      </a:lnTo>
                      <a:lnTo>
                        <a:pt x="375" y="668"/>
                      </a:lnTo>
                      <a:lnTo>
                        <a:pt x="365" y="644"/>
                      </a:lnTo>
                      <a:lnTo>
                        <a:pt x="359" y="629"/>
                      </a:lnTo>
                      <a:lnTo>
                        <a:pt x="348" y="616"/>
                      </a:lnTo>
                      <a:lnTo>
                        <a:pt x="331" y="599"/>
                      </a:lnTo>
                      <a:lnTo>
                        <a:pt x="345" y="575"/>
                      </a:lnTo>
                      <a:lnTo>
                        <a:pt x="348" y="555"/>
                      </a:lnTo>
                      <a:lnTo>
                        <a:pt x="348" y="544"/>
                      </a:lnTo>
                      <a:lnTo>
                        <a:pt x="359" y="536"/>
                      </a:lnTo>
                      <a:lnTo>
                        <a:pt x="353" y="519"/>
                      </a:lnTo>
                      <a:lnTo>
                        <a:pt x="350" y="497"/>
                      </a:lnTo>
                      <a:lnTo>
                        <a:pt x="345" y="476"/>
                      </a:lnTo>
                      <a:lnTo>
                        <a:pt x="290" y="431"/>
                      </a:lnTo>
                      <a:lnTo>
                        <a:pt x="285" y="418"/>
                      </a:lnTo>
                      <a:lnTo>
                        <a:pt x="290" y="387"/>
                      </a:lnTo>
                      <a:lnTo>
                        <a:pt x="276" y="373"/>
                      </a:lnTo>
                      <a:lnTo>
                        <a:pt x="262" y="381"/>
                      </a:lnTo>
                      <a:lnTo>
                        <a:pt x="235" y="385"/>
                      </a:lnTo>
                      <a:lnTo>
                        <a:pt x="224" y="371"/>
                      </a:lnTo>
                      <a:lnTo>
                        <a:pt x="208" y="387"/>
                      </a:lnTo>
                      <a:lnTo>
                        <a:pt x="198" y="404"/>
                      </a:lnTo>
                      <a:lnTo>
                        <a:pt x="179" y="404"/>
                      </a:lnTo>
                      <a:lnTo>
                        <a:pt x="166" y="415"/>
                      </a:lnTo>
                      <a:lnTo>
                        <a:pt x="146" y="415"/>
                      </a:lnTo>
                      <a:lnTo>
                        <a:pt x="124" y="431"/>
                      </a:lnTo>
                      <a:lnTo>
                        <a:pt x="97" y="429"/>
                      </a:lnTo>
                      <a:lnTo>
                        <a:pt x="61" y="401"/>
                      </a:lnTo>
                      <a:lnTo>
                        <a:pt x="31" y="379"/>
                      </a:lnTo>
                      <a:lnTo>
                        <a:pt x="17" y="362"/>
                      </a:lnTo>
                      <a:lnTo>
                        <a:pt x="17" y="313"/>
                      </a:lnTo>
                      <a:lnTo>
                        <a:pt x="0" y="299"/>
                      </a:lnTo>
                      <a:lnTo>
                        <a:pt x="0" y="282"/>
                      </a:lnTo>
                      <a:lnTo>
                        <a:pt x="3" y="269"/>
                      </a:lnTo>
                      <a:lnTo>
                        <a:pt x="14" y="250"/>
                      </a:lnTo>
                      <a:lnTo>
                        <a:pt x="6" y="233"/>
                      </a:lnTo>
                      <a:lnTo>
                        <a:pt x="14" y="214"/>
                      </a:lnTo>
                      <a:lnTo>
                        <a:pt x="28" y="205"/>
                      </a:lnTo>
                      <a:lnTo>
                        <a:pt x="39" y="194"/>
                      </a:lnTo>
                      <a:lnTo>
                        <a:pt x="39" y="183"/>
                      </a:lnTo>
                      <a:lnTo>
                        <a:pt x="28" y="175"/>
                      </a:lnTo>
                      <a:lnTo>
                        <a:pt x="28" y="162"/>
                      </a:lnTo>
                      <a:lnTo>
                        <a:pt x="36" y="153"/>
                      </a:lnTo>
                      <a:lnTo>
                        <a:pt x="50" y="12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8837640" y="5165640"/>
                  <a:ext cx="111240" cy="271440"/>
                  <a:chOff x="8837640" y="5165640"/>
                  <a:chExt cx="111240" cy="27144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8837640" y="5165640"/>
                    <a:ext cx="44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8">
                        <a:moveTo>
                          <a:pt x="19" y="0"/>
                        </a:moveTo>
                        <a:lnTo>
                          <a:pt x="0" y="13"/>
                        </a:lnTo>
                        <a:lnTo>
                          <a:pt x="8" y="33"/>
                        </a:lnTo>
                        <a:lnTo>
                          <a:pt x="14" y="47"/>
                        </a:lnTo>
                        <a:lnTo>
                          <a:pt x="27" y="36"/>
                        </a:lnTo>
                        <a:lnTo>
                          <a:pt x="19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8910720" y="5357880"/>
                    <a:ext cx="38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0">
                        <a:moveTo>
                          <a:pt x="15" y="0"/>
                        </a:moveTo>
                        <a:lnTo>
                          <a:pt x="0" y="10"/>
                        </a:lnTo>
                        <a:lnTo>
                          <a:pt x="3" y="26"/>
                        </a:lnTo>
                        <a:lnTo>
                          <a:pt x="6" y="46"/>
                        </a:lnTo>
                        <a:lnTo>
                          <a:pt x="23" y="49"/>
                        </a:lnTo>
                        <a:lnTo>
                          <a:pt x="23" y="33"/>
                        </a:lnTo>
                        <a:lnTo>
                          <a:pt x="1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7236000" y="3706920"/>
                  <a:ext cx="1687320" cy="1195200"/>
                </a:xfrm>
                <a:custGeom>
                  <a:avLst/>
                  <a:gdLst/>
                  <a:ahLst/>
                  <a:rect l="l" t="t" r="r" b="b"/>
                  <a:pathLst>
                    <a:path w="1063" h="753">
                      <a:moveTo>
                        <a:pt x="516" y="700"/>
                      </a:moveTo>
                      <a:lnTo>
                        <a:pt x="531" y="721"/>
                      </a:lnTo>
                      <a:lnTo>
                        <a:pt x="526" y="733"/>
                      </a:lnTo>
                      <a:lnTo>
                        <a:pt x="533" y="742"/>
                      </a:lnTo>
                      <a:lnTo>
                        <a:pt x="542" y="752"/>
                      </a:lnTo>
                      <a:lnTo>
                        <a:pt x="556" y="750"/>
                      </a:lnTo>
                      <a:lnTo>
                        <a:pt x="570" y="733"/>
                      </a:lnTo>
                      <a:lnTo>
                        <a:pt x="586" y="722"/>
                      </a:lnTo>
                      <a:lnTo>
                        <a:pt x="594" y="712"/>
                      </a:lnTo>
                      <a:lnTo>
                        <a:pt x="591" y="701"/>
                      </a:lnTo>
                      <a:lnTo>
                        <a:pt x="589" y="690"/>
                      </a:lnTo>
                      <a:lnTo>
                        <a:pt x="589" y="677"/>
                      </a:lnTo>
                      <a:lnTo>
                        <a:pt x="597" y="672"/>
                      </a:lnTo>
                      <a:lnTo>
                        <a:pt x="597" y="660"/>
                      </a:lnTo>
                      <a:lnTo>
                        <a:pt x="594" y="653"/>
                      </a:lnTo>
                      <a:lnTo>
                        <a:pt x="600" y="647"/>
                      </a:lnTo>
                      <a:lnTo>
                        <a:pt x="610" y="647"/>
                      </a:lnTo>
                      <a:lnTo>
                        <a:pt x="613" y="641"/>
                      </a:lnTo>
                      <a:lnTo>
                        <a:pt x="613" y="632"/>
                      </a:lnTo>
                      <a:lnTo>
                        <a:pt x="616" y="625"/>
                      </a:lnTo>
                      <a:lnTo>
                        <a:pt x="640" y="628"/>
                      </a:lnTo>
                      <a:lnTo>
                        <a:pt x="649" y="635"/>
                      </a:lnTo>
                      <a:lnTo>
                        <a:pt x="691" y="631"/>
                      </a:lnTo>
                      <a:lnTo>
                        <a:pt x="692" y="622"/>
                      </a:lnTo>
                      <a:lnTo>
                        <a:pt x="680" y="612"/>
                      </a:lnTo>
                      <a:lnTo>
                        <a:pt x="651" y="613"/>
                      </a:lnTo>
                      <a:lnTo>
                        <a:pt x="638" y="612"/>
                      </a:lnTo>
                      <a:lnTo>
                        <a:pt x="633" y="606"/>
                      </a:lnTo>
                      <a:lnTo>
                        <a:pt x="633" y="597"/>
                      </a:lnTo>
                      <a:lnTo>
                        <a:pt x="638" y="591"/>
                      </a:lnTo>
                      <a:lnTo>
                        <a:pt x="649" y="600"/>
                      </a:lnTo>
                      <a:lnTo>
                        <a:pt x="665" y="600"/>
                      </a:lnTo>
                      <a:lnTo>
                        <a:pt x="676" y="601"/>
                      </a:lnTo>
                      <a:lnTo>
                        <a:pt x="687" y="601"/>
                      </a:lnTo>
                      <a:lnTo>
                        <a:pt x="696" y="608"/>
                      </a:lnTo>
                      <a:lnTo>
                        <a:pt x="710" y="614"/>
                      </a:lnTo>
                      <a:lnTo>
                        <a:pt x="722" y="616"/>
                      </a:lnTo>
                      <a:lnTo>
                        <a:pt x="722" y="605"/>
                      </a:lnTo>
                      <a:lnTo>
                        <a:pt x="730" y="601"/>
                      </a:lnTo>
                      <a:lnTo>
                        <a:pt x="726" y="593"/>
                      </a:lnTo>
                      <a:lnTo>
                        <a:pt x="719" y="586"/>
                      </a:lnTo>
                      <a:lnTo>
                        <a:pt x="721" y="578"/>
                      </a:lnTo>
                      <a:lnTo>
                        <a:pt x="725" y="572"/>
                      </a:lnTo>
                      <a:lnTo>
                        <a:pt x="734" y="559"/>
                      </a:lnTo>
                      <a:lnTo>
                        <a:pt x="740" y="567"/>
                      </a:lnTo>
                      <a:lnTo>
                        <a:pt x="735" y="578"/>
                      </a:lnTo>
                      <a:lnTo>
                        <a:pt x="743" y="583"/>
                      </a:lnTo>
                      <a:lnTo>
                        <a:pt x="752" y="586"/>
                      </a:lnTo>
                      <a:lnTo>
                        <a:pt x="760" y="591"/>
                      </a:lnTo>
                      <a:lnTo>
                        <a:pt x="772" y="591"/>
                      </a:lnTo>
                      <a:lnTo>
                        <a:pt x="782" y="589"/>
                      </a:lnTo>
                      <a:lnTo>
                        <a:pt x="785" y="582"/>
                      </a:lnTo>
                      <a:lnTo>
                        <a:pt x="785" y="573"/>
                      </a:lnTo>
                      <a:lnTo>
                        <a:pt x="791" y="567"/>
                      </a:lnTo>
                      <a:lnTo>
                        <a:pt x="802" y="561"/>
                      </a:lnTo>
                      <a:lnTo>
                        <a:pt x="806" y="555"/>
                      </a:lnTo>
                      <a:lnTo>
                        <a:pt x="804" y="548"/>
                      </a:lnTo>
                      <a:lnTo>
                        <a:pt x="808" y="540"/>
                      </a:lnTo>
                      <a:lnTo>
                        <a:pt x="820" y="555"/>
                      </a:lnTo>
                      <a:lnTo>
                        <a:pt x="826" y="567"/>
                      </a:lnTo>
                      <a:lnTo>
                        <a:pt x="829" y="571"/>
                      </a:lnTo>
                      <a:lnTo>
                        <a:pt x="834" y="582"/>
                      </a:lnTo>
                      <a:lnTo>
                        <a:pt x="839" y="589"/>
                      </a:lnTo>
                      <a:lnTo>
                        <a:pt x="838" y="600"/>
                      </a:lnTo>
                      <a:lnTo>
                        <a:pt x="837" y="609"/>
                      </a:lnTo>
                      <a:lnTo>
                        <a:pt x="843" y="619"/>
                      </a:lnTo>
                      <a:lnTo>
                        <a:pt x="853" y="625"/>
                      </a:lnTo>
                      <a:lnTo>
                        <a:pt x="864" y="625"/>
                      </a:lnTo>
                      <a:lnTo>
                        <a:pt x="875" y="623"/>
                      </a:lnTo>
                      <a:lnTo>
                        <a:pt x="894" y="625"/>
                      </a:lnTo>
                      <a:lnTo>
                        <a:pt x="916" y="638"/>
                      </a:lnTo>
                      <a:lnTo>
                        <a:pt x="927" y="635"/>
                      </a:lnTo>
                      <a:lnTo>
                        <a:pt x="936" y="646"/>
                      </a:lnTo>
                      <a:lnTo>
                        <a:pt x="944" y="653"/>
                      </a:lnTo>
                      <a:lnTo>
                        <a:pt x="961" y="660"/>
                      </a:lnTo>
                      <a:lnTo>
                        <a:pt x="972" y="659"/>
                      </a:lnTo>
                      <a:lnTo>
                        <a:pt x="986" y="663"/>
                      </a:lnTo>
                      <a:lnTo>
                        <a:pt x="1000" y="674"/>
                      </a:lnTo>
                      <a:lnTo>
                        <a:pt x="1019" y="693"/>
                      </a:lnTo>
                      <a:lnTo>
                        <a:pt x="1035" y="706"/>
                      </a:lnTo>
                      <a:lnTo>
                        <a:pt x="1043" y="689"/>
                      </a:lnTo>
                      <a:lnTo>
                        <a:pt x="1047" y="675"/>
                      </a:lnTo>
                      <a:lnTo>
                        <a:pt x="1055" y="657"/>
                      </a:lnTo>
                      <a:lnTo>
                        <a:pt x="1059" y="631"/>
                      </a:lnTo>
                      <a:lnTo>
                        <a:pt x="1062" y="602"/>
                      </a:lnTo>
                      <a:lnTo>
                        <a:pt x="1058" y="597"/>
                      </a:lnTo>
                      <a:lnTo>
                        <a:pt x="1061" y="564"/>
                      </a:lnTo>
                      <a:lnTo>
                        <a:pt x="1060" y="543"/>
                      </a:lnTo>
                      <a:lnTo>
                        <a:pt x="1055" y="529"/>
                      </a:lnTo>
                      <a:lnTo>
                        <a:pt x="1055" y="509"/>
                      </a:lnTo>
                      <a:lnTo>
                        <a:pt x="1047" y="501"/>
                      </a:lnTo>
                      <a:lnTo>
                        <a:pt x="1042" y="492"/>
                      </a:lnTo>
                      <a:lnTo>
                        <a:pt x="1036" y="479"/>
                      </a:lnTo>
                      <a:lnTo>
                        <a:pt x="1036" y="469"/>
                      </a:lnTo>
                      <a:lnTo>
                        <a:pt x="1030" y="460"/>
                      </a:lnTo>
                      <a:lnTo>
                        <a:pt x="1018" y="460"/>
                      </a:lnTo>
                      <a:lnTo>
                        <a:pt x="1009" y="460"/>
                      </a:lnTo>
                      <a:lnTo>
                        <a:pt x="1004" y="470"/>
                      </a:lnTo>
                      <a:lnTo>
                        <a:pt x="996" y="471"/>
                      </a:lnTo>
                      <a:lnTo>
                        <a:pt x="985" y="471"/>
                      </a:lnTo>
                      <a:lnTo>
                        <a:pt x="985" y="487"/>
                      </a:lnTo>
                      <a:lnTo>
                        <a:pt x="989" y="496"/>
                      </a:lnTo>
                      <a:lnTo>
                        <a:pt x="986" y="505"/>
                      </a:lnTo>
                      <a:lnTo>
                        <a:pt x="984" y="515"/>
                      </a:lnTo>
                      <a:lnTo>
                        <a:pt x="974" y="518"/>
                      </a:lnTo>
                      <a:lnTo>
                        <a:pt x="967" y="517"/>
                      </a:lnTo>
                      <a:lnTo>
                        <a:pt x="960" y="514"/>
                      </a:lnTo>
                      <a:lnTo>
                        <a:pt x="955" y="512"/>
                      </a:lnTo>
                      <a:lnTo>
                        <a:pt x="949" y="512"/>
                      </a:lnTo>
                      <a:lnTo>
                        <a:pt x="941" y="510"/>
                      </a:lnTo>
                      <a:lnTo>
                        <a:pt x="932" y="509"/>
                      </a:lnTo>
                      <a:lnTo>
                        <a:pt x="925" y="509"/>
                      </a:lnTo>
                      <a:lnTo>
                        <a:pt x="919" y="498"/>
                      </a:lnTo>
                      <a:lnTo>
                        <a:pt x="929" y="491"/>
                      </a:lnTo>
                      <a:lnTo>
                        <a:pt x="936" y="490"/>
                      </a:lnTo>
                      <a:lnTo>
                        <a:pt x="940" y="493"/>
                      </a:lnTo>
                      <a:lnTo>
                        <a:pt x="947" y="492"/>
                      </a:lnTo>
                      <a:lnTo>
                        <a:pt x="961" y="485"/>
                      </a:lnTo>
                      <a:lnTo>
                        <a:pt x="967" y="473"/>
                      </a:lnTo>
                      <a:lnTo>
                        <a:pt x="977" y="460"/>
                      </a:lnTo>
                      <a:lnTo>
                        <a:pt x="985" y="448"/>
                      </a:lnTo>
                      <a:lnTo>
                        <a:pt x="990" y="440"/>
                      </a:lnTo>
                      <a:lnTo>
                        <a:pt x="999" y="431"/>
                      </a:lnTo>
                      <a:lnTo>
                        <a:pt x="1000" y="420"/>
                      </a:lnTo>
                      <a:lnTo>
                        <a:pt x="1007" y="397"/>
                      </a:lnTo>
                      <a:lnTo>
                        <a:pt x="974" y="352"/>
                      </a:lnTo>
                      <a:lnTo>
                        <a:pt x="944" y="311"/>
                      </a:lnTo>
                      <a:lnTo>
                        <a:pt x="913" y="276"/>
                      </a:lnTo>
                      <a:lnTo>
                        <a:pt x="881" y="245"/>
                      </a:lnTo>
                      <a:lnTo>
                        <a:pt x="857" y="222"/>
                      </a:lnTo>
                      <a:lnTo>
                        <a:pt x="837" y="204"/>
                      </a:lnTo>
                      <a:lnTo>
                        <a:pt x="810" y="182"/>
                      </a:lnTo>
                      <a:lnTo>
                        <a:pt x="783" y="162"/>
                      </a:lnTo>
                      <a:lnTo>
                        <a:pt x="749" y="136"/>
                      </a:lnTo>
                      <a:lnTo>
                        <a:pt x="719" y="117"/>
                      </a:lnTo>
                      <a:lnTo>
                        <a:pt x="691" y="102"/>
                      </a:lnTo>
                      <a:lnTo>
                        <a:pt x="661" y="88"/>
                      </a:lnTo>
                      <a:lnTo>
                        <a:pt x="625" y="71"/>
                      </a:lnTo>
                      <a:lnTo>
                        <a:pt x="574" y="51"/>
                      </a:lnTo>
                      <a:lnTo>
                        <a:pt x="520" y="33"/>
                      </a:lnTo>
                      <a:lnTo>
                        <a:pt x="474" y="21"/>
                      </a:lnTo>
                      <a:lnTo>
                        <a:pt x="440" y="14"/>
                      </a:lnTo>
                      <a:lnTo>
                        <a:pt x="391" y="6"/>
                      </a:lnTo>
                      <a:lnTo>
                        <a:pt x="333" y="1"/>
                      </a:lnTo>
                      <a:lnTo>
                        <a:pt x="256" y="0"/>
                      </a:lnTo>
                      <a:lnTo>
                        <a:pt x="195" y="4"/>
                      </a:lnTo>
                      <a:lnTo>
                        <a:pt x="190" y="14"/>
                      </a:lnTo>
                      <a:lnTo>
                        <a:pt x="178" y="18"/>
                      </a:lnTo>
                      <a:lnTo>
                        <a:pt x="170" y="21"/>
                      </a:lnTo>
                      <a:lnTo>
                        <a:pt x="154" y="21"/>
                      </a:lnTo>
                      <a:lnTo>
                        <a:pt x="138" y="27"/>
                      </a:lnTo>
                      <a:lnTo>
                        <a:pt x="119" y="29"/>
                      </a:lnTo>
                      <a:lnTo>
                        <a:pt x="105" y="44"/>
                      </a:lnTo>
                      <a:lnTo>
                        <a:pt x="103" y="56"/>
                      </a:lnTo>
                      <a:lnTo>
                        <a:pt x="92" y="71"/>
                      </a:lnTo>
                      <a:lnTo>
                        <a:pt x="78" y="71"/>
                      </a:lnTo>
                      <a:lnTo>
                        <a:pt x="65" y="83"/>
                      </a:lnTo>
                      <a:lnTo>
                        <a:pt x="65" y="66"/>
                      </a:lnTo>
                      <a:lnTo>
                        <a:pt x="77" y="38"/>
                      </a:lnTo>
                      <a:lnTo>
                        <a:pt x="78" y="25"/>
                      </a:lnTo>
                      <a:lnTo>
                        <a:pt x="50" y="33"/>
                      </a:lnTo>
                      <a:lnTo>
                        <a:pt x="27" y="40"/>
                      </a:lnTo>
                      <a:lnTo>
                        <a:pt x="29" y="50"/>
                      </a:lnTo>
                      <a:lnTo>
                        <a:pt x="46" y="63"/>
                      </a:lnTo>
                      <a:lnTo>
                        <a:pt x="44" y="71"/>
                      </a:lnTo>
                      <a:lnTo>
                        <a:pt x="41" y="84"/>
                      </a:lnTo>
                      <a:lnTo>
                        <a:pt x="31" y="95"/>
                      </a:lnTo>
                      <a:lnTo>
                        <a:pt x="18" y="107"/>
                      </a:lnTo>
                      <a:lnTo>
                        <a:pt x="16" y="124"/>
                      </a:lnTo>
                      <a:lnTo>
                        <a:pt x="10" y="141"/>
                      </a:lnTo>
                      <a:lnTo>
                        <a:pt x="12" y="154"/>
                      </a:lnTo>
                      <a:lnTo>
                        <a:pt x="29" y="152"/>
                      </a:lnTo>
                      <a:lnTo>
                        <a:pt x="27" y="173"/>
                      </a:lnTo>
                      <a:lnTo>
                        <a:pt x="13" y="181"/>
                      </a:lnTo>
                      <a:lnTo>
                        <a:pt x="0" y="193"/>
                      </a:lnTo>
                      <a:lnTo>
                        <a:pt x="16" y="208"/>
                      </a:lnTo>
                      <a:lnTo>
                        <a:pt x="32" y="192"/>
                      </a:lnTo>
                      <a:lnTo>
                        <a:pt x="41" y="190"/>
                      </a:lnTo>
                      <a:lnTo>
                        <a:pt x="56" y="187"/>
                      </a:lnTo>
                      <a:lnTo>
                        <a:pt x="68" y="182"/>
                      </a:lnTo>
                      <a:lnTo>
                        <a:pt x="78" y="181"/>
                      </a:lnTo>
                      <a:lnTo>
                        <a:pt x="92" y="169"/>
                      </a:lnTo>
                      <a:lnTo>
                        <a:pt x="104" y="151"/>
                      </a:lnTo>
                      <a:lnTo>
                        <a:pt x="115" y="148"/>
                      </a:lnTo>
                      <a:lnTo>
                        <a:pt x="126" y="143"/>
                      </a:lnTo>
                      <a:lnTo>
                        <a:pt x="142" y="140"/>
                      </a:lnTo>
                      <a:lnTo>
                        <a:pt x="148" y="143"/>
                      </a:lnTo>
                      <a:lnTo>
                        <a:pt x="158" y="141"/>
                      </a:lnTo>
                      <a:lnTo>
                        <a:pt x="166" y="138"/>
                      </a:lnTo>
                      <a:lnTo>
                        <a:pt x="185" y="137"/>
                      </a:lnTo>
                      <a:lnTo>
                        <a:pt x="191" y="140"/>
                      </a:lnTo>
                      <a:lnTo>
                        <a:pt x="211" y="142"/>
                      </a:lnTo>
                      <a:lnTo>
                        <a:pt x="225" y="138"/>
                      </a:lnTo>
                      <a:lnTo>
                        <a:pt x="236" y="127"/>
                      </a:lnTo>
                      <a:lnTo>
                        <a:pt x="253" y="129"/>
                      </a:lnTo>
                      <a:lnTo>
                        <a:pt x="268" y="127"/>
                      </a:lnTo>
                      <a:lnTo>
                        <a:pt x="277" y="127"/>
                      </a:lnTo>
                      <a:lnTo>
                        <a:pt x="275" y="141"/>
                      </a:lnTo>
                      <a:lnTo>
                        <a:pt x="281" y="146"/>
                      </a:lnTo>
                      <a:lnTo>
                        <a:pt x="291" y="151"/>
                      </a:lnTo>
                      <a:lnTo>
                        <a:pt x="301" y="144"/>
                      </a:lnTo>
                      <a:lnTo>
                        <a:pt x="313" y="149"/>
                      </a:lnTo>
                      <a:lnTo>
                        <a:pt x="325" y="155"/>
                      </a:lnTo>
                      <a:lnTo>
                        <a:pt x="339" y="159"/>
                      </a:lnTo>
                      <a:lnTo>
                        <a:pt x="362" y="162"/>
                      </a:lnTo>
                      <a:lnTo>
                        <a:pt x="335" y="166"/>
                      </a:lnTo>
                      <a:lnTo>
                        <a:pt x="325" y="169"/>
                      </a:lnTo>
                      <a:lnTo>
                        <a:pt x="320" y="174"/>
                      </a:lnTo>
                      <a:lnTo>
                        <a:pt x="329" y="193"/>
                      </a:lnTo>
                      <a:lnTo>
                        <a:pt x="337" y="202"/>
                      </a:lnTo>
                      <a:lnTo>
                        <a:pt x="355" y="200"/>
                      </a:lnTo>
                      <a:lnTo>
                        <a:pt x="368" y="204"/>
                      </a:lnTo>
                      <a:lnTo>
                        <a:pt x="384" y="211"/>
                      </a:lnTo>
                      <a:lnTo>
                        <a:pt x="401" y="212"/>
                      </a:lnTo>
                      <a:lnTo>
                        <a:pt x="412" y="213"/>
                      </a:lnTo>
                      <a:lnTo>
                        <a:pt x="436" y="198"/>
                      </a:lnTo>
                      <a:lnTo>
                        <a:pt x="442" y="199"/>
                      </a:lnTo>
                      <a:lnTo>
                        <a:pt x="429" y="212"/>
                      </a:lnTo>
                      <a:lnTo>
                        <a:pt x="444" y="228"/>
                      </a:lnTo>
                      <a:lnTo>
                        <a:pt x="470" y="222"/>
                      </a:lnTo>
                      <a:lnTo>
                        <a:pt x="475" y="219"/>
                      </a:lnTo>
                      <a:lnTo>
                        <a:pt x="475" y="207"/>
                      </a:lnTo>
                      <a:lnTo>
                        <a:pt x="486" y="212"/>
                      </a:lnTo>
                      <a:lnTo>
                        <a:pt x="504" y="225"/>
                      </a:lnTo>
                      <a:lnTo>
                        <a:pt x="486" y="223"/>
                      </a:lnTo>
                      <a:lnTo>
                        <a:pt x="481" y="227"/>
                      </a:lnTo>
                      <a:lnTo>
                        <a:pt x="474" y="229"/>
                      </a:lnTo>
                      <a:lnTo>
                        <a:pt x="464" y="232"/>
                      </a:lnTo>
                      <a:lnTo>
                        <a:pt x="454" y="233"/>
                      </a:lnTo>
                      <a:lnTo>
                        <a:pt x="442" y="242"/>
                      </a:lnTo>
                      <a:lnTo>
                        <a:pt x="454" y="247"/>
                      </a:lnTo>
                      <a:lnTo>
                        <a:pt x="488" y="246"/>
                      </a:lnTo>
                      <a:lnTo>
                        <a:pt x="485" y="259"/>
                      </a:lnTo>
                      <a:lnTo>
                        <a:pt x="481" y="275"/>
                      </a:lnTo>
                      <a:lnTo>
                        <a:pt x="491" y="277"/>
                      </a:lnTo>
                      <a:lnTo>
                        <a:pt x="499" y="283"/>
                      </a:lnTo>
                      <a:lnTo>
                        <a:pt x="503" y="300"/>
                      </a:lnTo>
                      <a:lnTo>
                        <a:pt x="509" y="308"/>
                      </a:lnTo>
                      <a:lnTo>
                        <a:pt x="508" y="317"/>
                      </a:lnTo>
                      <a:lnTo>
                        <a:pt x="508" y="329"/>
                      </a:lnTo>
                      <a:lnTo>
                        <a:pt x="541" y="357"/>
                      </a:lnTo>
                      <a:lnTo>
                        <a:pt x="539" y="368"/>
                      </a:lnTo>
                      <a:lnTo>
                        <a:pt x="534" y="373"/>
                      </a:lnTo>
                      <a:lnTo>
                        <a:pt x="528" y="370"/>
                      </a:lnTo>
                      <a:lnTo>
                        <a:pt x="520" y="368"/>
                      </a:lnTo>
                      <a:lnTo>
                        <a:pt x="514" y="368"/>
                      </a:lnTo>
                      <a:lnTo>
                        <a:pt x="511" y="368"/>
                      </a:lnTo>
                      <a:lnTo>
                        <a:pt x="523" y="355"/>
                      </a:lnTo>
                      <a:lnTo>
                        <a:pt x="520" y="346"/>
                      </a:lnTo>
                      <a:lnTo>
                        <a:pt x="509" y="343"/>
                      </a:lnTo>
                      <a:lnTo>
                        <a:pt x="504" y="344"/>
                      </a:lnTo>
                      <a:lnTo>
                        <a:pt x="497" y="346"/>
                      </a:lnTo>
                      <a:lnTo>
                        <a:pt x="486" y="352"/>
                      </a:lnTo>
                      <a:lnTo>
                        <a:pt x="481" y="357"/>
                      </a:lnTo>
                      <a:lnTo>
                        <a:pt x="467" y="359"/>
                      </a:lnTo>
                      <a:lnTo>
                        <a:pt x="457" y="359"/>
                      </a:lnTo>
                      <a:lnTo>
                        <a:pt x="459" y="370"/>
                      </a:lnTo>
                      <a:lnTo>
                        <a:pt x="459" y="384"/>
                      </a:lnTo>
                      <a:lnTo>
                        <a:pt x="457" y="398"/>
                      </a:lnTo>
                      <a:lnTo>
                        <a:pt x="459" y="410"/>
                      </a:lnTo>
                      <a:lnTo>
                        <a:pt x="464" y="420"/>
                      </a:lnTo>
                      <a:lnTo>
                        <a:pt x="463" y="429"/>
                      </a:lnTo>
                      <a:lnTo>
                        <a:pt x="468" y="437"/>
                      </a:lnTo>
                      <a:lnTo>
                        <a:pt x="476" y="444"/>
                      </a:lnTo>
                      <a:lnTo>
                        <a:pt x="475" y="452"/>
                      </a:lnTo>
                      <a:lnTo>
                        <a:pt x="485" y="456"/>
                      </a:lnTo>
                      <a:lnTo>
                        <a:pt x="479" y="470"/>
                      </a:lnTo>
                      <a:lnTo>
                        <a:pt x="481" y="485"/>
                      </a:lnTo>
                      <a:lnTo>
                        <a:pt x="487" y="496"/>
                      </a:lnTo>
                      <a:lnTo>
                        <a:pt x="501" y="514"/>
                      </a:lnTo>
                      <a:lnTo>
                        <a:pt x="506" y="514"/>
                      </a:lnTo>
                      <a:lnTo>
                        <a:pt x="514" y="517"/>
                      </a:lnTo>
                      <a:lnTo>
                        <a:pt x="526" y="504"/>
                      </a:lnTo>
                      <a:lnTo>
                        <a:pt x="534" y="498"/>
                      </a:lnTo>
                      <a:lnTo>
                        <a:pt x="544" y="507"/>
                      </a:lnTo>
                      <a:lnTo>
                        <a:pt x="552" y="509"/>
                      </a:lnTo>
                      <a:lnTo>
                        <a:pt x="563" y="506"/>
                      </a:lnTo>
                      <a:lnTo>
                        <a:pt x="564" y="495"/>
                      </a:lnTo>
                      <a:lnTo>
                        <a:pt x="553" y="483"/>
                      </a:lnTo>
                      <a:lnTo>
                        <a:pt x="544" y="474"/>
                      </a:lnTo>
                      <a:lnTo>
                        <a:pt x="542" y="465"/>
                      </a:lnTo>
                      <a:lnTo>
                        <a:pt x="531" y="456"/>
                      </a:lnTo>
                      <a:lnTo>
                        <a:pt x="523" y="455"/>
                      </a:lnTo>
                      <a:lnTo>
                        <a:pt x="520" y="441"/>
                      </a:lnTo>
                      <a:lnTo>
                        <a:pt x="514" y="432"/>
                      </a:lnTo>
                      <a:lnTo>
                        <a:pt x="508" y="426"/>
                      </a:lnTo>
                      <a:lnTo>
                        <a:pt x="506" y="409"/>
                      </a:lnTo>
                      <a:lnTo>
                        <a:pt x="509" y="407"/>
                      </a:lnTo>
                      <a:lnTo>
                        <a:pt x="520" y="417"/>
                      </a:lnTo>
                      <a:lnTo>
                        <a:pt x="520" y="426"/>
                      </a:lnTo>
                      <a:lnTo>
                        <a:pt x="528" y="435"/>
                      </a:lnTo>
                      <a:lnTo>
                        <a:pt x="535" y="443"/>
                      </a:lnTo>
                      <a:lnTo>
                        <a:pt x="541" y="448"/>
                      </a:lnTo>
                      <a:lnTo>
                        <a:pt x="547" y="441"/>
                      </a:lnTo>
                      <a:lnTo>
                        <a:pt x="552" y="437"/>
                      </a:lnTo>
                      <a:lnTo>
                        <a:pt x="558" y="435"/>
                      </a:lnTo>
                      <a:lnTo>
                        <a:pt x="561" y="428"/>
                      </a:lnTo>
                      <a:lnTo>
                        <a:pt x="569" y="426"/>
                      </a:lnTo>
                      <a:lnTo>
                        <a:pt x="563" y="435"/>
                      </a:lnTo>
                      <a:lnTo>
                        <a:pt x="566" y="444"/>
                      </a:lnTo>
                      <a:lnTo>
                        <a:pt x="575" y="448"/>
                      </a:lnTo>
                      <a:lnTo>
                        <a:pt x="574" y="456"/>
                      </a:lnTo>
                      <a:lnTo>
                        <a:pt x="566" y="465"/>
                      </a:lnTo>
                      <a:lnTo>
                        <a:pt x="570" y="473"/>
                      </a:lnTo>
                      <a:lnTo>
                        <a:pt x="580" y="479"/>
                      </a:lnTo>
                      <a:lnTo>
                        <a:pt x="586" y="487"/>
                      </a:lnTo>
                      <a:lnTo>
                        <a:pt x="580" y="496"/>
                      </a:lnTo>
                      <a:lnTo>
                        <a:pt x="574" y="506"/>
                      </a:lnTo>
                      <a:lnTo>
                        <a:pt x="575" y="513"/>
                      </a:lnTo>
                      <a:lnTo>
                        <a:pt x="571" y="521"/>
                      </a:lnTo>
                      <a:lnTo>
                        <a:pt x="566" y="529"/>
                      </a:lnTo>
                      <a:lnTo>
                        <a:pt x="561" y="535"/>
                      </a:lnTo>
                      <a:lnTo>
                        <a:pt x="555" y="529"/>
                      </a:lnTo>
                      <a:lnTo>
                        <a:pt x="545" y="529"/>
                      </a:lnTo>
                      <a:lnTo>
                        <a:pt x="539" y="522"/>
                      </a:lnTo>
                      <a:lnTo>
                        <a:pt x="537" y="514"/>
                      </a:lnTo>
                      <a:lnTo>
                        <a:pt x="530" y="512"/>
                      </a:lnTo>
                      <a:lnTo>
                        <a:pt x="528" y="517"/>
                      </a:lnTo>
                      <a:lnTo>
                        <a:pt x="531" y="522"/>
                      </a:lnTo>
                      <a:lnTo>
                        <a:pt x="533" y="531"/>
                      </a:lnTo>
                      <a:lnTo>
                        <a:pt x="533" y="537"/>
                      </a:lnTo>
                      <a:lnTo>
                        <a:pt x="539" y="536"/>
                      </a:lnTo>
                      <a:lnTo>
                        <a:pt x="545" y="540"/>
                      </a:lnTo>
                      <a:lnTo>
                        <a:pt x="545" y="548"/>
                      </a:lnTo>
                      <a:lnTo>
                        <a:pt x="539" y="559"/>
                      </a:lnTo>
                      <a:lnTo>
                        <a:pt x="541" y="572"/>
                      </a:lnTo>
                      <a:lnTo>
                        <a:pt x="537" y="589"/>
                      </a:lnTo>
                      <a:lnTo>
                        <a:pt x="539" y="605"/>
                      </a:lnTo>
                      <a:lnTo>
                        <a:pt x="537" y="614"/>
                      </a:lnTo>
                      <a:lnTo>
                        <a:pt x="528" y="623"/>
                      </a:lnTo>
                      <a:lnTo>
                        <a:pt x="528" y="631"/>
                      </a:lnTo>
                      <a:lnTo>
                        <a:pt x="533" y="641"/>
                      </a:lnTo>
                      <a:lnTo>
                        <a:pt x="542" y="643"/>
                      </a:lnTo>
                      <a:lnTo>
                        <a:pt x="553" y="650"/>
                      </a:lnTo>
                      <a:lnTo>
                        <a:pt x="558" y="660"/>
                      </a:lnTo>
                      <a:lnTo>
                        <a:pt x="553" y="664"/>
                      </a:lnTo>
                      <a:lnTo>
                        <a:pt x="541" y="677"/>
                      </a:lnTo>
                      <a:lnTo>
                        <a:pt x="528" y="683"/>
                      </a:lnTo>
                      <a:lnTo>
                        <a:pt x="516" y="70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6" name=""/>
                <p:cNvGrpSpPr/>
                <p:nvPr/>
              </p:nvGrpSpPr>
              <p:grpSpPr>
                <a:xfrm>
                  <a:off x="7862760" y="4124160"/>
                  <a:ext cx="568440" cy="636840"/>
                  <a:chOff x="7862760" y="4124160"/>
                  <a:chExt cx="568440" cy="6368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7975800" y="4630680"/>
                    <a:ext cx="396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3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2" y="27"/>
                        </a:lnTo>
                        <a:lnTo>
                          <a:pt x="9" y="27"/>
                        </a:lnTo>
                        <a:lnTo>
                          <a:pt x="24" y="32"/>
                        </a:lnTo>
                        <a:lnTo>
                          <a:pt x="19" y="19"/>
                        </a:lnTo>
                        <a:lnTo>
                          <a:pt x="21" y="13"/>
                        </a:lnTo>
                        <a:lnTo>
                          <a:pt x="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977240" y="4570200"/>
                    <a:ext cx="1033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0">
                        <a:moveTo>
                          <a:pt x="3" y="0"/>
                        </a:moveTo>
                        <a:lnTo>
                          <a:pt x="23" y="11"/>
                        </a:lnTo>
                        <a:lnTo>
                          <a:pt x="30" y="11"/>
                        </a:lnTo>
                        <a:lnTo>
                          <a:pt x="31" y="23"/>
                        </a:lnTo>
                        <a:lnTo>
                          <a:pt x="38" y="30"/>
                        </a:lnTo>
                        <a:lnTo>
                          <a:pt x="45" y="38"/>
                        </a:lnTo>
                        <a:lnTo>
                          <a:pt x="53" y="36"/>
                        </a:lnTo>
                        <a:lnTo>
                          <a:pt x="63" y="45"/>
                        </a:lnTo>
                        <a:lnTo>
                          <a:pt x="61" y="53"/>
                        </a:lnTo>
                        <a:lnTo>
                          <a:pt x="64" y="59"/>
                        </a:lnTo>
                        <a:lnTo>
                          <a:pt x="53" y="69"/>
                        </a:lnTo>
                        <a:lnTo>
                          <a:pt x="45" y="78"/>
                        </a:lnTo>
                        <a:lnTo>
                          <a:pt x="38" y="79"/>
                        </a:lnTo>
                        <a:lnTo>
                          <a:pt x="37" y="72"/>
                        </a:lnTo>
                        <a:lnTo>
                          <a:pt x="39" y="65"/>
                        </a:lnTo>
                        <a:lnTo>
                          <a:pt x="37" y="57"/>
                        </a:lnTo>
                        <a:lnTo>
                          <a:pt x="36" y="42"/>
                        </a:lnTo>
                        <a:lnTo>
                          <a:pt x="26" y="34"/>
                        </a:lnTo>
                        <a:lnTo>
                          <a:pt x="15" y="34"/>
                        </a:lnTo>
                        <a:lnTo>
                          <a:pt x="14" y="28"/>
                        </a:lnTo>
                        <a:lnTo>
                          <a:pt x="9" y="23"/>
                        </a:lnTo>
                        <a:lnTo>
                          <a:pt x="0" y="17"/>
                        </a:lnTo>
                        <a:lnTo>
                          <a:pt x="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8231040" y="4724280"/>
                    <a:ext cx="32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0" y="0"/>
                        </a:moveTo>
                        <a:lnTo>
                          <a:pt x="4" y="20"/>
                        </a:lnTo>
                        <a:lnTo>
                          <a:pt x="19" y="22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8304120" y="4730760"/>
                    <a:ext cx="38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0" y="15"/>
                        </a:moveTo>
                        <a:lnTo>
                          <a:pt x="12" y="0"/>
                        </a:lnTo>
                        <a:lnTo>
                          <a:pt x="23" y="4"/>
                        </a:lnTo>
                        <a:lnTo>
                          <a:pt x="15" y="18"/>
                        </a:lnTo>
                        <a:lnTo>
                          <a:pt x="0" y="1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388360" y="4678200"/>
                    <a:ext cx="42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0" y="16"/>
                        </a:moveTo>
                        <a:lnTo>
                          <a:pt x="26" y="23"/>
                        </a:lnTo>
                        <a:lnTo>
                          <a:pt x="12" y="0"/>
                        </a:lnTo>
                        <a:lnTo>
                          <a:pt x="0" y="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862760" y="4124160"/>
                    <a:ext cx="125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7">
                        <a:moveTo>
                          <a:pt x="0" y="22"/>
                        </a:moveTo>
                        <a:lnTo>
                          <a:pt x="36" y="25"/>
                        </a:lnTo>
                        <a:lnTo>
                          <a:pt x="47" y="33"/>
                        </a:lnTo>
                        <a:lnTo>
                          <a:pt x="58" y="36"/>
                        </a:lnTo>
                        <a:lnTo>
                          <a:pt x="78" y="28"/>
                        </a:lnTo>
                        <a:lnTo>
                          <a:pt x="67" y="17"/>
                        </a:lnTo>
                        <a:lnTo>
                          <a:pt x="50" y="17"/>
                        </a:lnTo>
                        <a:lnTo>
                          <a:pt x="45" y="0"/>
                        </a:lnTo>
                        <a:lnTo>
                          <a:pt x="31" y="3"/>
                        </a:lnTo>
                        <a:lnTo>
                          <a:pt x="0" y="2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8410680" y="4270320"/>
                  <a:ext cx="195120" cy="136440"/>
                </a:xfrm>
                <a:custGeom>
                  <a:avLst/>
                  <a:gdLst/>
                  <a:ahLst/>
                  <a:rect l="l" t="t" r="r" b="b"/>
                  <a:pathLst>
                    <a:path w="123" h="86">
                      <a:moveTo>
                        <a:pt x="118" y="52"/>
                      </a:moveTo>
                      <a:lnTo>
                        <a:pt x="122" y="76"/>
                      </a:lnTo>
                      <a:lnTo>
                        <a:pt x="108" y="82"/>
                      </a:lnTo>
                      <a:lnTo>
                        <a:pt x="93" y="85"/>
                      </a:lnTo>
                      <a:lnTo>
                        <a:pt x="81" y="77"/>
                      </a:lnTo>
                      <a:lnTo>
                        <a:pt x="73" y="66"/>
                      </a:lnTo>
                      <a:lnTo>
                        <a:pt x="67" y="59"/>
                      </a:lnTo>
                      <a:lnTo>
                        <a:pt x="50" y="62"/>
                      </a:lnTo>
                      <a:lnTo>
                        <a:pt x="34" y="63"/>
                      </a:lnTo>
                      <a:lnTo>
                        <a:pt x="23" y="59"/>
                      </a:lnTo>
                      <a:lnTo>
                        <a:pt x="17" y="49"/>
                      </a:lnTo>
                      <a:lnTo>
                        <a:pt x="0" y="48"/>
                      </a:lnTo>
                      <a:lnTo>
                        <a:pt x="1" y="38"/>
                      </a:lnTo>
                      <a:lnTo>
                        <a:pt x="4" y="30"/>
                      </a:lnTo>
                      <a:lnTo>
                        <a:pt x="1" y="21"/>
                      </a:lnTo>
                      <a:lnTo>
                        <a:pt x="3" y="13"/>
                      </a:lnTo>
                      <a:lnTo>
                        <a:pt x="5" y="7"/>
                      </a:lnTo>
                      <a:lnTo>
                        <a:pt x="17" y="0"/>
                      </a:lnTo>
                      <a:lnTo>
                        <a:pt x="28" y="2"/>
                      </a:lnTo>
                      <a:lnTo>
                        <a:pt x="28" y="13"/>
                      </a:lnTo>
                      <a:lnTo>
                        <a:pt x="28" y="21"/>
                      </a:lnTo>
                      <a:lnTo>
                        <a:pt x="32" y="25"/>
                      </a:lnTo>
                      <a:lnTo>
                        <a:pt x="40" y="27"/>
                      </a:lnTo>
                      <a:lnTo>
                        <a:pt x="45" y="29"/>
                      </a:lnTo>
                      <a:lnTo>
                        <a:pt x="52" y="26"/>
                      </a:lnTo>
                      <a:lnTo>
                        <a:pt x="58" y="26"/>
                      </a:lnTo>
                      <a:lnTo>
                        <a:pt x="63" y="19"/>
                      </a:lnTo>
                      <a:lnTo>
                        <a:pt x="70" y="21"/>
                      </a:lnTo>
                      <a:lnTo>
                        <a:pt x="75" y="29"/>
                      </a:lnTo>
                      <a:lnTo>
                        <a:pt x="74" y="35"/>
                      </a:lnTo>
                      <a:lnTo>
                        <a:pt x="86" y="35"/>
                      </a:lnTo>
                      <a:lnTo>
                        <a:pt x="99" y="32"/>
                      </a:lnTo>
                      <a:lnTo>
                        <a:pt x="105" y="37"/>
                      </a:lnTo>
                      <a:lnTo>
                        <a:pt x="118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4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IA INDUSTRI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95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CONOMIA BASEADA EM CONHECIMENT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PRODUTIVIDADE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não manufaturado)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NOVOS PRODUTOS &amp; SERVIÇOS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(engenharia ambiental)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AMBIENTE TURBULENT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ASE DE CONHECIMENTO                    DOS EMPREGADOS É                            LIMITADA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327720" y="3706920"/>
            <a:ext cx="2711520" cy="2751120"/>
            <a:chOff x="6327720" y="3706920"/>
            <a:chExt cx="2711520" cy="2751120"/>
          </a:xfrm>
        </p:grpSpPr>
        <p:sp>
          <p:nvSpPr>
            <p:cNvPr id="347" name=""/>
            <p:cNvSpPr/>
            <p:nvPr/>
          </p:nvSpPr>
          <p:spPr>
            <a:xfrm>
              <a:off x="6327720" y="3709800"/>
              <a:ext cx="2711520" cy="27482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6813720" y="3706920"/>
              <a:ext cx="2219040" cy="2689200"/>
              <a:chOff x="6813720" y="3706920"/>
              <a:chExt cx="2219040" cy="268920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6813720" y="3943440"/>
                <a:ext cx="1049040" cy="2452680"/>
                <a:chOff x="6813720" y="3943440"/>
                <a:chExt cx="1049040" cy="2452680"/>
              </a:xfrm>
            </p:grpSpPr>
            <p:grpSp>
              <p:nvGrpSpPr>
                <p:cNvPr id="350" name=""/>
                <p:cNvGrpSpPr/>
                <p:nvPr/>
              </p:nvGrpSpPr>
              <p:grpSpPr>
                <a:xfrm>
                  <a:off x="7116840" y="5348160"/>
                  <a:ext cx="744480" cy="1047960"/>
                  <a:chOff x="7116840" y="5348160"/>
                  <a:chExt cx="744480" cy="1047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7116840" y="5348160"/>
                    <a:ext cx="744480" cy="10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638">
                        <a:moveTo>
                          <a:pt x="56" y="18"/>
                        </a:moveTo>
                        <a:lnTo>
                          <a:pt x="83" y="0"/>
                        </a:lnTo>
                        <a:lnTo>
                          <a:pt x="106" y="0"/>
                        </a:lnTo>
                        <a:lnTo>
                          <a:pt x="113" y="1"/>
                        </a:lnTo>
                        <a:lnTo>
                          <a:pt x="113" y="7"/>
                        </a:lnTo>
                        <a:lnTo>
                          <a:pt x="113" y="15"/>
                        </a:lnTo>
                        <a:lnTo>
                          <a:pt x="118" y="18"/>
                        </a:lnTo>
                        <a:lnTo>
                          <a:pt x="122" y="10"/>
                        </a:lnTo>
                        <a:lnTo>
                          <a:pt x="125" y="1"/>
                        </a:lnTo>
                        <a:lnTo>
                          <a:pt x="130" y="1"/>
                        </a:lnTo>
                        <a:lnTo>
                          <a:pt x="133" y="7"/>
                        </a:lnTo>
                        <a:lnTo>
                          <a:pt x="141" y="13"/>
                        </a:lnTo>
                        <a:lnTo>
                          <a:pt x="149" y="18"/>
                        </a:lnTo>
                        <a:lnTo>
                          <a:pt x="171" y="18"/>
                        </a:lnTo>
                        <a:lnTo>
                          <a:pt x="182" y="20"/>
                        </a:lnTo>
                        <a:lnTo>
                          <a:pt x="187" y="21"/>
                        </a:lnTo>
                        <a:lnTo>
                          <a:pt x="193" y="21"/>
                        </a:lnTo>
                        <a:lnTo>
                          <a:pt x="201" y="26"/>
                        </a:lnTo>
                        <a:lnTo>
                          <a:pt x="205" y="32"/>
                        </a:lnTo>
                        <a:lnTo>
                          <a:pt x="205" y="38"/>
                        </a:lnTo>
                        <a:lnTo>
                          <a:pt x="220" y="43"/>
                        </a:lnTo>
                        <a:lnTo>
                          <a:pt x="229" y="55"/>
                        </a:lnTo>
                        <a:lnTo>
                          <a:pt x="242" y="66"/>
                        </a:lnTo>
                        <a:lnTo>
                          <a:pt x="251" y="71"/>
                        </a:lnTo>
                        <a:lnTo>
                          <a:pt x="256" y="71"/>
                        </a:lnTo>
                        <a:lnTo>
                          <a:pt x="270" y="71"/>
                        </a:lnTo>
                        <a:lnTo>
                          <a:pt x="279" y="76"/>
                        </a:lnTo>
                        <a:lnTo>
                          <a:pt x="289" y="87"/>
                        </a:lnTo>
                        <a:lnTo>
                          <a:pt x="303" y="95"/>
                        </a:lnTo>
                        <a:lnTo>
                          <a:pt x="311" y="104"/>
                        </a:lnTo>
                        <a:lnTo>
                          <a:pt x="315" y="118"/>
                        </a:lnTo>
                        <a:lnTo>
                          <a:pt x="309" y="123"/>
                        </a:lnTo>
                        <a:lnTo>
                          <a:pt x="303" y="136"/>
                        </a:lnTo>
                        <a:lnTo>
                          <a:pt x="311" y="145"/>
                        </a:lnTo>
                        <a:lnTo>
                          <a:pt x="316" y="147"/>
                        </a:lnTo>
                        <a:lnTo>
                          <a:pt x="326" y="140"/>
                        </a:lnTo>
                        <a:lnTo>
                          <a:pt x="339" y="136"/>
                        </a:lnTo>
                        <a:lnTo>
                          <a:pt x="350" y="140"/>
                        </a:lnTo>
                        <a:lnTo>
                          <a:pt x="360" y="140"/>
                        </a:lnTo>
                        <a:lnTo>
                          <a:pt x="373" y="146"/>
                        </a:lnTo>
                        <a:lnTo>
                          <a:pt x="386" y="153"/>
                        </a:lnTo>
                        <a:lnTo>
                          <a:pt x="400" y="153"/>
                        </a:lnTo>
                        <a:lnTo>
                          <a:pt x="416" y="154"/>
                        </a:lnTo>
                        <a:lnTo>
                          <a:pt x="432" y="166"/>
                        </a:lnTo>
                        <a:lnTo>
                          <a:pt x="449" y="170"/>
                        </a:lnTo>
                        <a:lnTo>
                          <a:pt x="461" y="175"/>
                        </a:lnTo>
                        <a:lnTo>
                          <a:pt x="468" y="186"/>
                        </a:lnTo>
                        <a:lnTo>
                          <a:pt x="466" y="200"/>
                        </a:lnTo>
                        <a:lnTo>
                          <a:pt x="457" y="213"/>
                        </a:lnTo>
                        <a:lnTo>
                          <a:pt x="449" y="224"/>
                        </a:lnTo>
                        <a:lnTo>
                          <a:pt x="438" y="236"/>
                        </a:lnTo>
                        <a:lnTo>
                          <a:pt x="434" y="250"/>
                        </a:lnTo>
                        <a:lnTo>
                          <a:pt x="422" y="260"/>
                        </a:lnTo>
                        <a:lnTo>
                          <a:pt x="430" y="275"/>
                        </a:lnTo>
                        <a:lnTo>
                          <a:pt x="429" y="294"/>
                        </a:lnTo>
                        <a:lnTo>
                          <a:pt x="421" y="308"/>
                        </a:lnTo>
                        <a:lnTo>
                          <a:pt x="421" y="322"/>
                        </a:lnTo>
                        <a:lnTo>
                          <a:pt x="414" y="336"/>
                        </a:lnTo>
                        <a:lnTo>
                          <a:pt x="404" y="341"/>
                        </a:lnTo>
                        <a:lnTo>
                          <a:pt x="393" y="347"/>
                        </a:lnTo>
                        <a:lnTo>
                          <a:pt x="380" y="346"/>
                        </a:lnTo>
                        <a:lnTo>
                          <a:pt x="360" y="350"/>
                        </a:lnTo>
                        <a:lnTo>
                          <a:pt x="344" y="363"/>
                        </a:lnTo>
                        <a:lnTo>
                          <a:pt x="335" y="374"/>
                        </a:lnTo>
                        <a:lnTo>
                          <a:pt x="331" y="380"/>
                        </a:lnTo>
                        <a:lnTo>
                          <a:pt x="339" y="387"/>
                        </a:lnTo>
                        <a:lnTo>
                          <a:pt x="339" y="398"/>
                        </a:lnTo>
                        <a:lnTo>
                          <a:pt x="317" y="416"/>
                        </a:lnTo>
                        <a:lnTo>
                          <a:pt x="304" y="442"/>
                        </a:lnTo>
                        <a:lnTo>
                          <a:pt x="286" y="456"/>
                        </a:lnTo>
                        <a:lnTo>
                          <a:pt x="270" y="457"/>
                        </a:lnTo>
                        <a:lnTo>
                          <a:pt x="251" y="443"/>
                        </a:lnTo>
                        <a:lnTo>
                          <a:pt x="251" y="463"/>
                        </a:lnTo>
                        <a:lnTo>
                          <a:pt x="259" y="472"/>
                        </a:lnTo>
                        <a:lnTo>
                          <a:pt x="257" y="489"/>
                        </a:lnTo>
                        <a:lnTo>
                          <a:pt x="231" y="504"/>
                        </a:lnTo>
                        <a:lnTo>
                          <a:pt x="220" y="501"/>
                        </a:lnTo>
                        <a:lnTo>
                          <a:pt x="207" y="524"/>
                        </a:lnTo>
                        <a:lnTo>
                          <a:pt x="195" y="527"/>
                        </a:lnTo>
                        <a:lnTo>
                          <a:pt x="190" y="536"/>
                        </a:lnTo>
                        <a:lnTo>
                          <a:pt x="195" y="546"/>
                        </a:lnTo>
                        <a:lnTo>
                          <a:pt x="184" y="562"/>
                        </a:lnTo>
                        <a:lnTo>
                          <a:pt x="194" y="585"/>
                        </a:lnTo>
                        <a:lnTo>
                          <a:pt x="183" y="601"/>
                        </a:lnTo>
                        <a:lnTo>
                          <a:pt x="175" y="618"/>
                        </a:lnTo>
                        <a:lnTo>
                          <a:pt x="184" y="630"/>
                        </a:lnTo>
                        <a:lnTo>
                          <a:pt x="165" y="630"/>
                        </a:lnTo>
                        <a:lnTo>
                          <a:pt x="148" y="637"/>
                        </a:lnTo>
                        <a:lnTo>
                          <a:pt x="129" y="607"/>
                        </a:lnTo>
                        <a:lnTo>
                          <a:pt x="124" y="583"/>
                        </a:lnTo>
                        <a:lnTo>
                          <a:pt x="124" y="530"/>
                        </a:lnTo>
                        <a:lnTo>
                          <a:pt x="106" y="508"/>
                        </a:lnTo>
                        <a:lnTo>
                          <a:pt x="108" y="475"/>
                        </a:lnTo>
                        <a:lnTo>
                          <a:pt x="117" y="453"/>
                        </a:lnTo>
                        <a:lnTo>
                          <a:pt x="112" y="430"/>
                        </a:lnTo>
                        <a:lnTo>
                          <a:pt x="111" y="405"/>
                        </a:lnTo>
                        <a:lnTo>
                          <a:pt x="113" y="341"/>
                        </a:lnTo>
                        <a:lnTo>
                          <a:pt x="119" y="313"/>
                        </a:lnTo>
                        <a:lnTo>
                          <a:pt x="107" y="295"/>
                        </a:lnTo>
                        <a:lnTo>
                          <a:pt x="95" y="283"/>
                        </a:lnTo>
                        <a:lnTo>
                          <a:pt x="85" y="276"/>
                        </a:lnTo>
                        <a:lnTo>
                          <a:pt x="83" y="267"/>
                        </a:lnTo>
                        <a:lnTo>
                          <a:pt x="75" y="268"/>
                        </a:lnTo>
                        <a:lnTo>
                          <a:pt x="64" y="271"/>
                        </a:lnTo>
                        <a:lnTo>
                          <a:pt x="60" y="265"/>
                        </a:lnTo>
                        <a:lnTo>
                          <a:pt x="53" y="258"/>
                        </a:lnTo>
                        <a:lnTo>
                          <a:pt x="48" y="246"/>
                        </a:lnTo>
                        <a:lnTo>
                          <a:pt x="49" y="241"/>
                        </a:lnTo>
                        <a:lnTo>
                          <a:pt x="45" y="227"/>
                        </a:lnTo>
                        <a:lnTo>
                          <a:pt x="38" y="215"/>
                        </a:lnTo>
                        <a:lnTo>
                          <a:pt x="36" y="213"/>
                        </a:lnTo>
                        <a:lnTo>
                          <a:pt x="36" y="207"/>
                        </a:lnTo>
                        <a:lnTo>
                          <a:pt x="33" y="203"/>
                        </a:lnTo>
                        <a:lnTo>
                          <a:pt x="25" y="189"/>
                        </a:lnTo>
                        <a:lnTo>
                          <a:pt x="23" y="184"/>
                        </a:lnTo>
                        <a:lnTo>
                          <a:pt x="14" y="177"/>
                        </a:lnTo>
                        <a:lnTo>
                          <a:pt x="12" y="164"/>
                        </a:lnTo>
                        <a:lnTo>
                          <a:pt x="7" y="155"/>
                        </a:lnTo>
                        <a:lnTo>
                          <a:pt x="0" y="146"/>
                        </a:lnTo>
                        <a:lnTo>
                          <a:pt x="12" y="136"/>
                        </a:lnTo>
                        <a:lnTo>
                          <a:pt x="22" y="131"/>
                        </a:lnTo>
                        <a:lnTo>
                          <a:pt x="12" y="125"/>
                        </a:lnTo>
                        <a:lnTo>
                          <a:pt x="8" y="112"/>
                        </a:lnTo>
                        <a:lnTo>
                          <a:pt x="11" y="103"/>
                        </a:lnTo>
                        <a:lnTo>
                          <a:pt x="22" y="93"/>
                        </a:lnTo>
                        <a:lnTo>
                          <a:pt x="34" y="88"/>
                        </a:lnTo>
                        <a:lnTo>
                          <a:pt x="44" y="73"/>
                        </a:lnTo>
                        <a:lnTo>
                          <a:pt x="49" y="65"/>
                        </a:lnTo>
                        <a:lnTo>
                          <a:pt x="48" y="54"/>
                        </a:lnTo>
                        <a:lnTo>
                          <a:pt x="48" y="43"/>
                        </a:lnTo>
                        <a:lnTo>
                          <a:pt x="56" y="1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7378560" y="6364080"/>
                    <a:ext cx="842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7" y="0"/>
                        </a:moveTo>
                        <a:lnTo>
                          <a:pt x="0" y="11"/>
                        </a:lnTo>
                        <a:lnTo>
                          <a:pt x="11" y="19"/>
                        </a:lnTo>
                        <a:lnTo>
                          <a:pt x="33" y="18"/>
                        </a:lnTo>
                        <a:lnTo>
                          <a:pt x="52" y="19"/>
                        </a:lnTo>
                        <a:lnTo>
                          <a:pt x="34" y="8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6813720" y="4043160"/>
                  <a:ext cx="1049040" cy="1371600"/>
                  <a:chOff x="6813720" y="4043160"/>
                  <a:chExt cx="1049040" cy="137160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7388280" y="450540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0" y="17"/>
                        </a:moveTo>
                        <a:lnTo>
                          <a:pt x="18" y="23"/>
                        </a:lnTo>
                        <a:lnTo>
                          <a:pt x="17" y="15"/>
                        </a:lnTo>
                        <a:lnTo>
                          <a:pt x="18" y="4"/>
                        </a:lnTo>
                        <a:lnTo>
                          <a:pt x="9" y="0"/>
                        </a:lnTo>
                        <a:lnTo>
                          <a:pt x="6" y="9"/>
                        </a:lnTo>
                        <a:lnTo>
                          <a:pt x="0" y="1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6813720" y="4043160"/>
                    <a:ext cx="1049040" cy="1371600"/>
                    <a:chOff x="6813720" y="4043160"/>
                    <a:chExt cx="1049040" cy="137160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6813720" y="4043160"/>
                      <a:ext cx="753840" cy="137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864">
                          <a:moveTo>
                            <a:pt x="245" y="843"/>
                          </a:moveTo>
                          <a:lnTo>
                            <a:pt x="225" y="825"/>
                          </a:lnTo>
                          <a:lnTo>
                            <a:pt x="208" y="827"/>
                          </a:lnTo>
                          <a:lnTo>
                            <a:pt x="191" y="812"/>
                          </a:lnTo>
                          <a:lnTo>
                            <a:pt x="188" y="793"/>
                          </a:lnTo>
                          <a:lnTo>
                            <a:pt x="197" y="785"/>
                          </a:lnTo>
                          <a:lnTo>
                            <a:pt x="197" y="780"/>
                          </a:lnTo>
                          <a:lnTo>
                            <a:pt x="203" y="770"/>
                          </a:lnTo>
                          <a:lnTo>
                            <a:pt x="194" y="748"/>
                          </a:lnTo>
                          <a:lnTo>
                            <a:pt x="181" y="747"/>
                          </a:lnTo>
                          <a:lnTo>
                            <a:pt x="163" y="733"/>
                          </a:lnTo>
                          <a:lnTo>
                            <a:pt x="164" y="724"/>
                          </a:lnTo>
                          <a:lnTo>
                            <a:pt x="180" y="698"/>
                          </a:lnTo>
                          <a:lnTo>
                            <a:pt x="175" y="693"/>
                          </a:lnTo>
                          <a:lnTo>
                            <a:pt x="156" y="684"/>
                          </a:lnTo>
                          <a:lnTo>
                            <a:pt x="145" y="693"/>
                          </a:lnTo>
                          <a:lnTo>
                            <a:pt x="140" y="701"/>
                          </a:lnTo>
                          <a:lnTo>
                            <a:pt x="122" y="698"/>
                          </a:lnTo>
                          <a:lnTo>
                            <a:pt x="108" y="692"/>
                          </a:lnTo>
                          <a:lnTo>
                            <a:pt x="95" y="666"/>
                          </a:lnTo>
                          <a:lnTo>
                            <a:pt x="102" y="646"/>
                          </a:lnTo>
                          <a:lnTo>
                            <a:pt x="106" y="630"/>
                          </a:lnTo>
                          <a:lnTo>
                            <a:pt x="110" y="621"/>
                          </a:lnTo>
                          <a:lnTo>
                            <a:pt x="120" y="613"/>
                          </a:lnTo>
                          <a:lnTo>
                            <a:pt x="126" y="604"/>
                          </a:lnTo>
                          <a:lnTo>
                            <a:pt x="140" y="594"/>
                          </a:lnTo>
                          <a:lnTo>
                            <a:pt x="153" y="588"/>
                          </a:lnTo>
                          <a:lnTo>
                            <a:pt x="164" y="597"/>
                          </a:lnTo>
                          <a:lnTo>
                            <a:pt x="175" y="599"/>
                          </a:lnTo>
                          <a:lnTo>
                            <a:pt x="182" y="610"/>
                          </a:lnTo>
                          <a:lnTo>
                            <a:pt x="192" y="608"/>
                          </a:lnTo>
                          <a:lnTo>
                            <a:pt x="205" y="604"/>
                          </a:lnTo>
                          <a:lnTo>
                            <a:pt x="216" y="610"/>
                          </a:lnTo>
                          <a:lnTo>
                            <a:pt x="236" y="630"/>
                          </a:lnTo>
                          <a:lnTo>
                            <a:pt x="229" y="645"/>
                          </a:lnTo>
                          <a:lnTo>
                            <a:pt x="236" y="654"/>
                          </a:lnTo>
                          <a:lnTo>
                            <a:pt x="236" y="660"/>
                          </a:lnTo>
                          <a:lnTo>
                            <a:pt x="244" y="667"/>
                          </a:lnTo>
                          <a:lnTo>
                            <a:pt x="252" y="675"/>
                          </a:lnTo>
                          <a:lnTo>
                            <a:pt x="255" y="671"/>
                          </a:lnTo>
                          <a:lnTo>
                            <a:pt x="255" y="657"/>
                          </a:lnTo>
                          <a:lnTo>
                            <a:pt x="255" y="637"/>
                          </a:lnTo>
                          <a:lnTo>
                            <a:pt x="255" y="619"/>
                          </a:lnTo>
                          <a:lnTo>
                            <a:pt x="252" y="613"/>
                          </a:lnTo>
                          <a:lnTo>
                            <a:pt x="260" y="602"/>
                          </a:lnTo>
                          <a:lnTo>
                            <a:pt x="274" y="599"/>
                          </a:lnTo>
                          <a:lnTo>
                            <a:pt x="280" y="593"/>
                          </a:lnTo>
                          <a:lnTo>
                            <a:pt x="290" y="596"/>
                          </a:lnTo>
                          <a:lnTo>
                            <a:pt x="299" y="587"/>
                          </a:lnTo>
                          <a:lnTo>
                            <a:pt x="312" y="576"/>
                          </a:lnTo>
                          <a:lnTo>
                            <a:pt x="321" y="572"/>
                          </a:lnTo>
                          <a:lnTo>
                            <a:pt x="317" y="563"/>
                          </a:lnTo>
                          <a:lnTo>
                            <a:pt x="328" y="549"/>
                          </a:lnTo>
                          <a:lnTo>
                            <a:pt x="338" y="539"/>
                          </a:lnTo>
                          <a:lnTo>
                            <a:pt x="346" y="534"/>
                          </a:lnTo>
                          <a:lnTo>
                            <a:pt x="366" y="536"/>
                          </a:lnTo>
                          <a:lnTo>
                            <a:pt x="362" y="522"/>
                          </a:lnTo>
                          <a:lnTo>
                            <a:pt x="381" y="511"/>
                          </a:lnTo>
                          <a:lnTo>
                            <a:pt x="397" y="505"/>
                          </a:lnTo>
                          <a:lnTo>
                            <a:pt x="412" y="503"/>
                          </a:lnTo>
                          <a:lnTo>
                            <a:pt x="407" y="517"/>
                          </a:lnTo>
                          <a:lnTo>
                            <a:pt x="422" y="501"/>
                          </a:lnTo>
                          <a:lnTo>
                            <a:pt x="414" y="492"/>
                          </a:lnTo>
                          <a:lnTo>
                            <a:pt x="413" y="471"/>
                          </a:lnTo>
                          <a:lnTo>
                            <a:pt x="397" y="471"/>
                          </a:lnTo>
                          <a:lnTo>
                            <a:pt x="401" y="460"/>
                          </a:lnTo>
                          <a:lnTo>
                            <a:pt x="448" y="461"/>
                          </a:lnTo>
                          <a:lnTo>
                            <a:pt x="474" y="445"/>
                          </a:lnTo>
                          <a:lnTo>
                            <a:pt x="472" y="434"/>
                          </a:lnTo>
                          <a:lnTo>
                            <a:pt x="459" y="422"/>
                          </a:lnTo>
                          <a:lnTo>
                            <a:pt x="460" y="403"/>
                          </a:lnTo>
                          <a:lnTo>
                            <a:pt x="451" y="399"/>
                          </a:lnTo>
                          <a:lnTo>
                            <a:pt x="447" y="385"/>
                          </a:lnTo>
                          <a:lnTo>
                            <a:pt x="442" y="378"/>
                          </a:lnTo>
                          <a:lnTo>
                            <a:pt x="432" y="381"/>
                          </a:lnTo>
                          <a:lnTo>
                            <a:pt x="414" y="366"/>
                          </a:lnTo>
                          <a:lnTo>
                            <a:pt x="409" y="350"/>
                          </a:lnTo>
                          <a:lnTo>
                            <a:pt x="392" y="330"/>
                          </a:lnTo>
                          <a:lnTo>
                            <a:pt x="367" y="355"/>
                          </a:lnTo>
                          <a:lnTo>
                            <a:pt x="367" y="384"/>
                          </a:lnTo>
                          <a:lnTo>
                            <a:pt x="362" y="393"/>
                          </a:lnTo>
                          <a:lnTo>
                            <a:pt x="351" y="393"/>
                          </a:lnTo>
                          <a:lnTo>
                            <a:pt x="345" y="399"/>
                          </a:lnTo>
                          <a:lnTo>
                            <a:pt x="343" y="414"/>
                          </a:lnTo>
                          <a:lnTo>
                            <a:pt x="334" y="431"/>
                          </a:lnTo>
                          <a:lnTo>
                            <a:pt x="324" y="414"/>
                          </a:lnTo>
                          <a:lnTo>
                            <a:pt x="332" y="393"/>
                          </a:lnTo>
                          <a:lnTo>
                            <a:pt x="329" y="378"/>
                          </a:lnTo>
                          <a:lnTo>
                            <a:pt x="319" y="373"/>
                          </a:lnTo>
                          <a:lnTo>
                            <a:pt x="298" y="340"/>
                          </a:lnTo>
                          <a:lnTo>
                            <a:pt x="300" y="329"/>
                          </a:lnTo>
                          <a:lnTo>
                            <a:pt x="324" y="297"/>
                          </a:lnTo>
                          <a:lnTo>
                            <a:pt x="342" y="297"/>
                          </a:lnTo>
                          <a:lnTo>
                            <a:pt x="357" y="296"/>
                          </a:lnTo>
                          <a:lnTo>
                            <a:pt x="364" y="282"/>
                          </a:lnTo>
                          <a:lnTo>
                            <a:pt x="383" y="286"/>
                          </a:lnTo>
                          <a:lnTo>
                            <a:pt x="389" y="277"/>
                          </a:lnTo>
                          <a:lnTo>
                            <a:pt x="407" y="278"/>
                          </a:lnTo>
                          <a:lnTo>
                            <a:pt x="397" y="266"/>
                          </a:lnTo>
                          <a:lnTo>
                            <a:pt x="395" y="248"/>
                          </a:lnTo>
                          <a:lnTo>
                            <a:pt x="381" y="267"/>
                          </a:lnTo>
                          <a:lnTo>
                            <a:pt x="370" y="261"/>
                          </a:lnTo>
                          <a:lnTo>
                            <a:pt x="384" y="240"/>
                          </a:lnTo>
                          <a:lnTo>
                            <a:pt x="383" y="219"/>
                          </a:lnTo>
                          <a:lnTo>
                            <a:pt x="369" y="234"/>
                          </a:lnTo>
                          <a:lnTo>
                            <a:pt x="356" y="248"/>
                          </a:lnTo>
                          <a:lnTo>
                            <a:pt x="312" y="213"/>
                          </a:lnTo>
                          <a:lnTo>
                            <a:pt x="315" y="149"/>
                          </a:lnTo>
                          <a:lnTo>
                            <a:pt x="295" y="130"/>
                          </a:lnTo>
                          <a:lnTo>
                            <a:pt x="293" y="105"/>
                          </a:lnTo>
                          <a:lnTo>
                            <a:pt x="305" y="75"/>
                          </a:lnTo>
                          <a:lnTo>
                            <a:pt x="310" y="41"/>
                          </a:lnTo>
                          <a:lnTo>
                            <a:pt x="293" y="23"/>
                          </a:lnTo>
                          <a:lnTo>
                            <a:pt x="275" y="21"/>
                          </a:lnTo>
                          <a:lnTo>
                            <a:pt x="265" y="15"/>
                          </a:lnTo>
                          <a:lnTo>
                            <a:pt x="263" y="0"/>
                          </a:lnTo>
                          <a:lnTo>
                            <a:pt x="247" y="23"/>
                          </a:lnTo>
                          <a:lnTo>
                            <a:pt x="231" y="25"/>
                          </a:lnTo>
                          <a:lnTo>
                            <a:pt x="225" y="6"/>
                          </a:lnTo>
                          <a:lnTo>
                            <a:pt x="213" y="12"/>
                          </a:lnTo>
                          <a:lnTo>
                            <a:pt x="200" y="13"/>
                          </a:lnTo>
                          <a:lnTo>
                            <a:pt x="165" y="50"/>
                          </a:lnTo>
                          <a:lnTo>
                            <a:pt x="153" y="45"/>
                          </a:lnTo>
                          <a:lnTo>
                            <a:pt x="137" y="18"/>
                          </a:lnTo>
                          <a:lnTo>
                            <a:pt x="139" y="41"/>
                          </a:lnTo>
                          <a:lnTo>
                            <a:pt x="150" y="59"/>
                          </a:lnTo>
                          <a:lnTo>
                            <a:pt x="169" y="73"/>
                          </a:lnTo>
                          <a:lnTo>
                            <a:pt x="181" y="75"/>
                          </a:lnTo>
                          <a:lnTo>
                            <a:pt x="182" y="91"/>
                          </a:lnTo>
                          <a:lnTo>
                            <a:pt x="190" y="103"/>
                          </a:lnTo>
                          <a:lnTo>
                            <a:pt x="185" y="114"/>
                          </a:lnTo>
                          <a:lnTo>
                            <a:pt x="186" y="137"/>
                          </a:lnTo>
                          <a:lnTo>
                            <a:pt x="175" y="170"/>
                          </a:lnTo>
                          <a:lnTo>
                            <a:pt x="149" y="216"/>
                          </a:lnTo>
                          <a:lnTo>
                            <a:pt x="138" y="218"/>
                          </a:lnTo>
                          <a:lnTo>
                            <a:pt x="118" y="263"/>
                          </a:lnTo>
                          <a:lnTo>
                            <a:pt x="111" y="288"/>
                          </a:lnTo>
                          <a:lnTo>
                            <a:pt x="98" y="284"/>
                          </a:lnTo>
                          <a:lnTo>
                            <a:pt x="98" y="293"/>
                          </a:lnTo>
                          <a:lnTo>
                            <a:pt x="82" y="309"/>
                          </a:lnTo>
                          <a:lnTo>
                            <a:pt x="65" y="319"/>
                          </a:lnTo>
                          <a:lnTo>
                            <a:pt x="42" y="341"/>
                          </a:lnTo>
                          <a:lnTo>
                            <a:pt x="26" y="362"/>
                          </a:lnTo>
                          <a:lnTo>
                            <a:pt x="26" y="379"/>
                          </a:lnTo>
                          <a:lnTo>
                            <a:pt x="20" y="388"/>
                          </a:lnTo>
                          <a:lnTo>
                            <a:pt x="13" y="398"/>
                          </a:lnTo>
                          <a:lnTo>
                            <a:pt x="9" y="412"/>
                          </a:lnTo>
                          <a:lnTo>
                            <a:pt x="13" y="427"/>
                          </a:lnTo>
                          <a:lnTo>
                            <a:pt x="17" y="452"/>
                          </a:lnTo>
                          <a:lnTo>
                            <a:pt x="10" y="464"/>
                          </a:lnTo>
                          <a:lnTo>
                            <a:pt x="3" y="490"/>
                          </a:lnTo>
                          <a:lnTo>
                            <a:pt x="0" y="523"/>
                          </a:lnTo>
                          <a:lnTo>
                            <a:pt x="4" y="539"/>
                          </a:lnTo>
                          <a:lnTo>
                            <a:pt x="1" y="568"/>
                          </a:lnTo>
                          <a:lnTo>
                            <a:pt x="10" y="579"/>
                          </a:lnTo>
                          <a:lnTo>
                            <a:pt x="14" y="530"/>
                          </a:lnTo>
                          <a:lnTo>
                            <a:pt x="14" y="494"/>
                          </a:lnTo>
                          <a:lnTo>
                            <a:pt x="24" y="481"/>
                          </a:lnTo>
                          <a:lnTo>
                            <a:pt x="26" y="499"/>
                          </a:lnTo>
                          <a:lnTo>
                            <a:pt x="23" y="511"/>
                          </a:lnTo>
                          <a:lnTo>
                            <a:pt x="23" y="524"/>
                          </a:lnTo>
                          <a:lnTo>
                            <a:pt x="22" y="547"/>
                          </a:lnTo>
                          <a:lnTo>
                            <a:pt x="29" y="569"/>
                          </a:lnTo>
                          <a:lnTo>
                            <a:pt x="30" y="591"/>
                          </a:lnTo>
                          <a:lnTo>
                            <a:pt x="33" y="602"/>
                          </a:lnTo>
                          <a:lnTo>
                            <a:pt x="37" y="615"/>
                          </a:lnTo>
                          <a:lnTo>
                            <a:pt x="30" y="630"/>
                          </a:lnTo>
                          <a:lnTo>
                            <a:pt x="33" y="649"/>
                          </a:lnTo>
                          <a:lnTo>
                            <a:pt x="41" y="674"/>
                          </a:lnTo>
                          <a:lnTo>
                            <a:pt x="56" y="686"/>
                          </a:lnTo>
                          <a:lnTo>
                            <a:pt x="73" y="706"/>
                          </a:lnTo>
                          <a:lnTo>
                            <a:pt x="86" y="720"/>
                          </a:lnTo>
                          <a:lnTo>
                            <a:pt x="95" y="718"/>
                          </a:lnTo>
                          <a:lnTo>
                            <a:pt x="106" y="728"/>
                          </a:lnTo>
                          <a:lnTo>
                            <a:pt x="114" y="733"/>
                          </a:lnTo>
                          <a:lnTo>
                            <a:pt x="121" y="745"/>
                          </a:lnTo>
                          <a:lnTo>
                            <a:pt x="145" y="767"/>
                          </a:lnTo>
                          <a:lnTo>
                            <a:pt x="153" y="770"/>
                          </a:lnTo>
                          <a:lnTo>
                            <a:pt x="169" y="784"/>
                          </a:lnTo>
                          <a:lnTo>
                            <a:pt x="170" y="806"/>
                          </a:lnTo>
                          <a:lnTo>
                            <a:pt x="189" y="828"/>
                          </a:lnTo>
                          <a:lnTo>
                            <a:pt x="205" y="847"/>
                          </a:lnTo>
                          <a:lnTo>
                            <a:pt x="214" y="850"/>
                          </a:lnTo>
                          <a:lnTo>
                            <a:pt x="222" y="843"/>
                          </a:lnTo>
                          <a:lnTo>
                            <a:pt x="227" y="841"/>
                          </a:lnTo>
                          <a:lnTo>
                            <a:pt x="240" y="863"/>
                          </a:lnTo>
                          <a:lnTo>
                            <a:pt x="245" y="8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7145280" y="5126040"/>
                      <a:ext cx="13176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55">
                          <a:moveTo>
                            <a:pt x="1" y="0"/>
                          </a:moveTo>
                          <a:lnTo>
                            <a:pt x="24" y="4"/>
                          </a:lnTo>
                          <a:lnTo>
                            <a:pt x="38" y="16"/>
                          </a:lnTo>
                          <a:lnTo>
                            <a:pt x="46" y="25"/>
                          </a:lnTo>
                          <a:lnTo>
                            <a:pt x="54" y="27"/>
                          </a:lnTo>
                          <a:lnTo>
                            <a:pt x="65" y="36"/>
                          </a:lnTo>
                          <a:lnTo>
                            <a:pt x="73" y="47"/>
                          </a:lnTo>
                          <a:lnTo>
                            <a:pt x="82" y="54"/>
                          </a:lnTo>
                          <a:lnTo>
                            <a:pt x="63" y="54"/>
                          </a:lnTo>
                          <a:lnTo>
                            <a:pt x="51" y="42"/>
                          </a:lnTo>
                          <a:lnTo>
                            <a:pt x="35" y="37"/>
                          </a:lnTo>
                          <a:lnTo>
                            <a:pt x="27" y="27"/>
                          </a:lnTo>
                          <a:lnTo>
                            <a:pt x="11" y="19"/>
                          </a:lnTo>
                          <a:lnTo>
                            <a:pt x="0" y="1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7273800" y="5218200"/>
                      <a:ext cx="7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5">
                          <a:moveTo>
                            <a:pt x="0" y="13"/>
                          </a:moveTo>
                          <a:lnTo>
                            <a:pt x="15" y="0"/>
                          </a:lnTo>
                          <a:lnTo>
                            <a:pt x="31" y="2"/>
                          </a:lnTo>
                          <a:lnTo>
                            <a:pt x="47" y="16"/>
                          </a:lnTo>
                          <a:lnTo>
                            <a:pt x="47" y="22"/>
                          </a:lnTo>
                          <a:lnTo>
                            <a:pt x="36" y="24"/>
                          </a:lnTo>
                          <a:lnTo>
                            <a:pt x="27" y="19"/>
                          </a:lnTo>
                          <a:lnTo>
                            <a:pt x="15" y="19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7321680" y="4298760"/>
                      <a:ext cx="745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56">
                          <a:moveTo>
                            <a:pt x="11" y="0"/>
                          </a:moveTo>
                          <a:lnTo>
                            <a:pt x="23" y="9"/>
                          </a:lnTo>
                          <a:lnTo>
                            <a:pt x="27" y="8"/>
                          </a:lnTo>
                          <a:lnTo>
                            <a:pt x="44" y="24"/>
                          </a:lnTo>
                          <a:lnTo>
                            <a:pt x="46" y="31"/>
                          </a:lnTo>
                          <a:lnTo>
                            <a:pt x="39" y="36"/>
                          </a:lnTo>
                          <a:lnTo>
                            <a:pt x="39" y="39"/>
                          </a:lnTo>
                          <a:lnTo>
                            <a:pt x="34" y="41"/>
                          </a:lnTo>
                          <a:lnTo>
                            <a:pt x="34" y="44"/>
                          </a:lnTo>
                          <a:lnTo>
                            <a:pt x="28" y="55"/>
                          </a:lnTo>
                          <a:lnTo>
                            <a:pt x="19" y="49"/>
                          </a:lnTo>
                          <a:lnTo>
                            <a:pt x="14" y="52"/>
                          </a:lnTo>
                          <a:lnTo>
                            <a:pt x="0" y="34"/>
                          </a:lnTo>
                          <a:lnTo>
                            <a:pt x="8" y="20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7396200" y="4279680"/>
                      <a:ext cx="4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6">
                          <a:moveTo>
                            <a:pt x="0" y="14"/>
                          </a:moveTo>
                          <a:lnTo>
                            <a:pt x="17" y="25"/>
                          </a:lnTo>
                          <a:lnTo>
                            <a:pt x="20" y="20"/>
                          </a:lnTo>
                          <a:lnTo>
                            <a:pt x="29" y="9"/>
                          </a:lnTo>
                          <a:lnTo>
                            <a:pt x="25" y="3"/>
                          </a:lnTo>
                          <a:lnTo>
                            <a:pt x="19" y="5"/>
                          </a:lnTo>
                          <a:lnTo>
                            <a:pt x="17" y="0"/>
                          </a:lnTo>
                          <a:lnTo>
                            <a:pt x="12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7334280" y="426240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0" y="1"/>
                          </a:moveTo>
                          <a:lnTo>
                            <a:pt x="16" y="0"/>
                          </a:lnTo>
                          <a:lnTo>
                            <a:pt x="30" y="18"/>
                          </a:lnTo>
                          <a:lnTo>
                            <a:pt x="18" y="18"/>
                          </a:lnTo>
                          <a:lnTo>
                            <a:pt x="17" y="15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5" y="15"/>
                          </a:lnTo>
                          <a:lnTo>
                            <a:pt x="7" y="1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7440480" y="4387680"/>
                      <a:ext cx="114480" cy="20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31">
                          <a:moveTo>
                            <a:pt x="31" y="73"/>
                          </a:moveTo>
                          <a:lnTo>
                            <a:pt x="19" y="88"/>
                          </a:lnTo>
                          <a:lnTo>
                            <a:pt x="14" y="88"/>
                          </a:lnTo>
                          <a:lnTo>
                            <a:pt x="9" y="92"/>
                          </a:lnTo>
                          <a:lnTo>
                            <a:pt x="3" y="92"/>
                          </a:lnTo>
                          <a:lnTo>
                            <a:pt x="2" y="96"/>
                          </a:lnTo>
                          <a:lnTo>
                            <a:pt x="12" y="97"/>
                          </a:lnTo>
                          <a:lnTo>
                            <a:pt x="16" y="100"/>
                          </a:lnTo>
                          <a:lnTo>
                            <a:pt x="20" y="106"/>
                          </a:lnTo>
                          <a:lnTo>
                            <a:pt x="20" y="108"/>
                          </a:lnTo>
                          <a:lnTo>
                            <a:pt x="27" y="114"/>
                          </a:lnTo>
                          <a:lnTo>
                            <a:pt x="27" y="119"/>
                          </a:lnTo>
                          <a:lnTo>
                            <a:pt x="31" y="119"/>
                          </a:lnTo>
                          <a:lnTo>
                            <a:pt x="44" y="130"/>
                          </a:lnTo>
                          <a:lnTo>
                            <a:pt x="41" y="122"/>
                          </a:lnTo>
                          <a:lnTo>
                            <a:pt x="41" y="114"/>
                          </a:lnTo>
                          <a:lnTo>
                            <a:pt x="45" y="114"/>
                          </a:lnTo>
                          <a:lnTo>
                            <a:pt x="49" y="118"/>
                          </a:lnTo>
                          <a:lnTo>
                            <a:pt x="52" y="118"/>
                          </a:lnTo>
                          <a:lnTo>
                            <a:pt x="54" y="119"/>
                          </a:lnTo>
                          <a:lnTo>
                            <a:pt x="56" y="118"/>
                          </a:lnTo>
                          <a:lnTo>
                            <a:pt x="56" y="111"/>
                          </a:lnTo>
                          <a:lnTo>
                            <a:pt x="52" y="106"/>
                          </a:lnTo>
                          <a:lnTo>
                            <a:pt x="51" y="97"/>
                          </a:lnTo>
                          <a:lnTo>
                            <a:pt x="53" y="89"/>
                          </a:lnTo>
                          <a:lnTo>
                            <a:pt x="68" y="104"/>
                          </a:lnTo>
                          <a:lnTo>
                            <a:pt x="68" y="95"/>
                          </a:lnTo>
                          <a:lnTo>
                            <a:pt x="71" y="84"/>
                          </a:lnTo>
                          <a:lnTo>
                            <a:pt x="61" y="73"/>
                          </a:lnTo>
                          <a:lnTo>
                            <a:pt x="60" y="65"/>
                          </a:lnTo>
                          <a:lnTo>
                            <a:pt x="61" y="49"/>
                          </a:lnTo>
                          <a:lnTo>
                            <a:pt x="47" y="31"/>
                          </a:lnTo>
                          <a:lnTo>
                            <a:pt x="33" y="20"/>
                          </a:lnTo>
                          <a:lnTo>
                            <a:pt x="36" y="15"/>
                          </a:lnTo>
                          <a:lnTo>
                            <a:pt x="30" y="11"/>
                          </a:lnTo>
                          <a:lnTo>
                            <a:pt x="30" y="4"/>
                          </a:lnTo>
                          <a:lnTo>
                            <a:pt x="19" y="15"/>
                          </a:lnTo>
                          <a:lnTo>
                            <a:pt x="16" y="12"/>
                          </a:lnTo>
                          <a:lnTo>
                            <a:pt x="20" y="6"/>
                          </a:lnTo>
                          <a:lnTo>
                            <a:pt x="20" y="0"/>
                          </a:lnTo>
                          <a:lnTo>
                            <a:pt x="14" y="0"/>
                          </a:lnTo>
                          <a:lnTo>
                            <a:pt x="8" y="3"/>
                          </a:lnTo>
                          <a:lnTo>
                            <a:pt x="0" y="5"/>
                          </a:lnTo>
                          <a:lnTo>
                            <a:pt x="0" y="12"/>
                          </a:lnTo>
                          <a:lnTo>
                            <a:pt x="0" y="19"/>
                          </a:lnTo>
                          <a:lnTo>
                            <a:pt x="2" y="22"/>
                          </a:lnTo>
                          <a:lnTo>
                            <a:pt x="11" y="27"/>
                          </a:lnTo>
                          <a:lnTo>
                            <a:pt x="9" y="34"/>
                          </a:lnTo>
                          <a:lnTo>
                            <a:pt x="13" y="37"/>
                          </a:lnTo>
                          <a:lnTo>
                            <a:pt x="17" y="39"/>
                          </a:lnTo>
                          <a:lnTo>
                            <a:pt x="24" y="39"/>
                          </a:lnTo>
                          <a:lnTo>
                            <a:pt x="30" y="45"/>
                          </a:lnTo>
                          <a:lnTo>
                            <a:pt x="31" y="54"/>
                          </a:lnTo>
                          <a:lnTo>
                            <a:pt x="30" y="64"/>
                          </a:lnTo>
                          <a:lnTo>
                            <a:pt x="31" y="7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7497720" y="4275000"/>
                      <a:ext cx="1112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59">
                          <a:moveTo>
                            <a:pt x="0" y="43"/>
                          </a:moveTo>
                          <a:lnTo>
                            <a:pt x="16" y="58"/>
                          </a:lnTo>
                          <a:lnTo>
                            <a:pt x="26" y="49"/>
                          </a:lnTo>
                          <a:lnTo>
                            <a:pt x="32" y="49"/>
                          </a:lnTo>
                          <a:lnTo>
                            <a:pt x="46" y="29"/>
                          </a:lnTo>
                          <a:lnTo>
                            <a:pt x="53" y="31"/>
                          </a:lnTo>
                          <a:lnTo>
                            <a:pt x="65" y="18"/>
                          </a:lnTo>
                          <a:lnTo>
                            <a:pt x="64" y="14"/>
                          </a:lnTo>
                          <a:lnTo>
                            <a:pt x="69" y="10"/>
                          </a:lnTo>
                          <a:lnTo>
                            <a:pt x="65" y="6"/>
                          </a:lnTo>
                          <a:lnTo>
                            <a:pt x="54" y="6"/>
                          </a:lnTo>
                          <a:lnTo>
                            <a:pt x="46" y="5"/>
                          </a:lnTo>
                          <a:lnTo>
                            <a:pt x="41" y="0"/>
                          </a:lnTo>
                          <a:lnTo>
                            <a:pt x="32" y="1"/>
                          </a:lnTo>
                          <a:lnTo>
                            <a:pt x="29" y="6"/>
                          </a:lnTo>
                          <a:lnTo>
                            <a:pt x="29" y="11"/>
                          </a:lnTo>
                          <a:lnTo>
                            <a:pt x="29" y="22"/>
                          </a:lnTo>
                          <a:lnTo>
                            <a:pt x="23" y="24"/>
                          </a:lnTo>
                          <a:lnTo>
                            <a:pt x="20" y="29"/>
                          </a:lnTo>
                          <a:lnTo>
                            <a:pt x="8" y="41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7804080" y="4503600"/>
                      <a:ext cx="586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1">
                          <a:moveTo>
                            <a:pt x="0" y="16"/>
                          </a:moveTo>
                          <a:lnTo>
                            <a:pt x="13" y="7"/>
                          </a:lnTo>
                          <a:lnTo>
                            <a:pt x="17" y="7"/>
                          </a:lnTo>
                          <a:lnTo>
                            <a:pt x="17" y="3"/>
                          </a:lnTo>
                          <a:lnTo>
                            <a:pt x="20" y="0"/>
                          </a:lnTo>
                          <a:lnTo>
                            <a:pt x="24" y="1"/>
                          </a:lnTo>
                          <a:lnTo>
                            <a:pt x="32" y="7"/>
                          </a:lnTo>
                          <a:lnTo>
                            <a:pt x="32" y="11"/>
                          </a:lnTo>
                          <a:lnTo>
                            <a:pt x="36" y="13"/>
                          </a:lnTo>
                          <a:lnTo>
                            <a:pt x="36" y="19"/>
                          </a:lnTo>
                          <a:lnTo>
                            <a:pt x="32" y="20"/>
                          </a:lnTo>
                          <a:lnTo>
                            <a:pt x="32" y="25"/>
                          </a:lnTo>
                          <a:lnTo>
                            <a:pt x="26" y="30"/>
                          </a:lnTo>
                          <a:lnTo>
                            <a:pt x="9" y="30"/>
                          </a:lnTo>
                          <a:lnTo>
                            <a:pt x="7" y="2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7575480" y="4286160"/>
                      <a:ext cx="20160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214">
                          <a:moveTo>
                            <a:pt x="0" y="63"/>
                          </a:moveTo>
                          <a:lnTo>
                            <a:pt x="0" y="44"/>
                          </a:lnTo>
                          <a:lnTo>
                            <a:pt x="5" y="42"/>
                          </a:lnTo>
                          <a:lnTo>
                            <a:pt x="4" y="38"/>
                          </a:lnTo>
                          <a:lnTo>
                            <a:pt x="18" y="22"/>
                          </a:lnTo>
                          <a:lnTo>
                            <a:pt x="26" y="16"/>
                          </a:lnTo>
                          <a:lnTo>
                            <a:pt x="30" y="13"/>
                          </a:lnTo>
                          <a:lnTo>
                            <a:pt x="39" y="7"/>
                          </a:lnTo>
                          <a:lnTo>
                            <a:pt x="41" y="7"/>
                          </a:lnTo>
                          <a:lnTo>
                            <a:pt x="45" y="7"/>
                          </a:lnTo>
                          <a:lnTo>
                            <a:pt x="49" y="2"/>
                          </a:lnTo>
                          <a:lnTo>
                            <a:pt x="56" y="1"/>
                          </a:lnTo>
                          <a:lnTo>
                            <a:pt x="69" y="0"/>
                          </a:lnTo>
                          <a:lnTo>
                            <a:pt x="77" y="8"/>
                          </a:lnTo>
                          <a:lnTo>
                            <a:pt x="76" y="13"/>
                          </a:lnTo>
                          <a:lnTo>
                            <a:pt x="81" y="16"/>
                          </a:lnTo>
                          <a:lnTo>
                            <a:pt x="92" y="3"/>
                          </a:lnTo>
                          <a:lnTo>
                            <a:pt x="93" y="16"/>
                          </a:lnTo>
                          <a:lnTo>
                            <a:pt x="99" y="34"/>
                          </a:lnTo>
                          <a:lnTo>
                            <a:pt x="103" y="50"/>
                          </a:lnTo>
                          <a:lnTo>
                            <a:pt x="114" y="66"/>
                          </a:lnTo>
                          <a:lnTo>
                            <a:pt x="115" y="75"/>
                          </a:lnTo>
                          <a:lnTo>
                            <a:pt x="117" y="91"/>
                          </a:lnTo>
                          <a:lnTo>
                            <a:pt x="121" y="99"/>
                          </a:lnTo>
                          <a:lnTo>
                            <a:pt x="126" y="115"/>
                          </a:lnTo>
                          <a:lnTo>
                            <a:pt x="122" y="126"/>
                          </a:lnTo>
                          <a:lnTo>
                            <a:pt x="121" y="131"/>
                          </a:lnTo>
                          <a:lnTo>
                            <a:pt x="113" y="133"/>
                          </a:lnTo>
                          <a:lnTo>
                            <a:pt x="104" y="140"/>
                          </a:lnTo>
                          <a:lnTo>
                            <a:pt x="100" y="144"/>
                          </a:lnTo>
                          <a:lnTo>
                            <a:pt x="101" y="148"/>
                          </a:lnTo>
                          <a:lnTo>
                            <a:pt x="93" y="156"/>
                          </a:lnTo>
                          <a:lnTo>
                            <a:pt x="88" y="160"/>
                          </a:lnTo>
                          <a:lnTo>
                            <a:pt x="84" y="160"/>
                          </a:lnTo>
                          <a:lnTo>
                            <a:pt x="77" y="165"/>
                          </a:lnTo>
                          <a:lnTo>
                            <a:pt x="78" y="171"/>
                          </a:lnTo>
                          <a:lnTo>
                            <a:pt x="69" y="178"/>
                          </a:lnTo>
                          <a:lnTo>
                            <a:pt x="69" y="185"/>
                          </a:lnTo>
                          <a:lnTo>
                            <a:pt x="66" y="194"/>
                          </a:lnTo>
                          <a:lnTo>
                            <a:pt x="66" y="203"/>
                          </a:lnTo>
                          <a:lnTo>
                            <a:pt x="65" y="209"/>
                          </a:lnTo>
                          <a:lnTo>
                            <a:pt x="61" y="213"/>
                          </a:lnTo>
                          <a:lnTo>
                            <a:pt x="52" y="213"/>
                          </a:lnTo>
                          <a:lnTo>
                            <a:pt x="45" y="212"/>
                          </a:lnTo>
                          <a:lnTo>
                            <a:pt x="34" y="205"/>
                          </a:lnTo>
                          <a:lnTo>
                            <a:pt x="28" y="199"/>
                          </a:lnTo>
                          <a:lnTo>
                            <a:pt x="27" y="194"/>
                          </a:lnTo>
                          <a:lnTo>
                            <a:pt x="27" y="187"/>
                          </a:lnTo>
                          <a:lnTo>
                            <a:pt x="23" y="178"/>
                          </a:lnTo>
                          <a:lnTo>
                            <a:pt x="21" y="171"/>
                          </a:lnTo>
                          <a:lnTo>
                            <a:pt x="22" y="165"/>
                          </a:lnTo>
                          <a:lnTo>
                            <a:pt x="21" y="156"/>
                          </a:lnTo>
                          <a:lnTo>
                            <a:pt x="17" y="154"/>
                          </a:lnTo>
                          <a:lnTo>
                            <a:pt x="23" y="148"/>
                          </a:lnTo>
                          <a:lnTo>
                            <a:pt x="27" y="140"/>
                          </a:lnTo>
                          <a:lnTo>
                            <a:pt x="27" y="135"/>
                          </a:lnTo>
                          <a:lnTo>
                            <a:pt x="24" y="128"/>
                          </a:lnTo>
                          <a:lnTo>
                            <a:pt x="19" y="121"/>
                          </a:lnTo>
                          <a:lnTo>
                            <a:pt x="22" y="110"/>
                          </a:lnTo>
                          <a:lnTo>
                            <a:pt x="20" y="98"/>
                          </a:lnTo>
                          <a:lnTo>
                            <a:pt x="18" y="87"/>
                          </a:lnTo>
                          <a:lnTo>
                            <a:pt x="16" y="74"/>
                          </a:lnTo>
                          <a:lnTo>
                            <a:pt x="8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7523280" y="4770360"/>
                      <a:ext cx="66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0"/>
                          </a:moveTo>
                          <a:lnTo>
                            <a:pt x="15" y="36"/>
                          </a:lnTo>
                          <a:lnTo>
                            <a:pt x="26" y="37"/>
                          </a:lnTo>
                          <a:lnTo>
                            <a:pt x="33" y="40"/>
                          </a:lnTo>
                          <a:lnTo>
                            <a:pt x="37" y="42"/>
                          </a:lnTo>
                          <a:lnTo>
                            <a:pt x="41" y="34"/>
                          </a:lnTo>
                          <a:lnTo>
                            <a:pt x="40" y="30"/>
                          </a:lnTo>
                          <a:lnTo>
                            <a:pt x="41" y="25"/>
                          </a:lnTo>
                          <a:lnTo>
                            <a:pt x="39" y="20"/>
                          </a:lnTo>
                          <a:lnTo>
                            <a:pt x="36" y="23"/>
                          </a:lnTo>
                          <a:lnTo>
                            <a:pt x="26" y="12"/>
                          </a:lnTo>
                          <a:lnTo>
                            <a:pt x="26" y="4"/>
                          </a:lnTo>
                          <a:lnTo>
                            <a:pt x="30" y="1"/>
                          </a:lnTo>
                          <a:lnTo>
                            <a:pt x="27" y="0"/>
                          </a:lnTo>
                          <a:lnTo>
                            <a:pt x="16" y="5"/>
                          </a:lnTo>
                          <a:lnTo>
                            <a:pt x="16" y="11"/>
                          </a:lnTo>
                          <a:lnTo>
                            <a:pt x="14" y="19"/>
                          </a:lnTo>
                          <a:lnTo>
                            <a:pt x="8" y="27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67" name=""/>
                <p:cNvGrpSpPr/>
                <p:nvPr/>
              </p:nvGrpSpPr>
              <p:grpSpPr>
                <a:xfrm>
                  <a:off x="7201080" y="4724280"/>
                  <a:ext cx="139680" cy="133560"/>
                  <a:chOff x="7201080" y="4724280"/>
                  <a:chExt cx="139680" cy="133560"/>
                </a:xfrm>
              </p:grpSpPr>
              <p:sp>
                <p:nvSpPr>
                  <p:cNvPr id="368" name=""/>
                  <p:cNvSpPr/>
                  <p:nvPr/>
                </p:nvSpPr>
                <p:spPr>
                  <a:xfrm>
                    <a:off x="7201080" y="472428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0" y="6"/>
                        </a:move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7" y="2"/>
                        </a:lnTo>
                        <a:lnTo>
                          <a:pt x="26" y="0"/>
                        </a:lnTo>
                        <a:lnTo>
                          <a:pt x="32" y="4"/>
                        </a:lnTo>
                        <a:lnTo>
                          <a:pt x="36" y="4"/>
                        </a:lnTo>
                        <a:lnTo>
                          <a:pt x="38" y="11"/>
                        </a:lnTo>
                        <a:lnTo>
                          <a:pt x="42" y="13"/>
                        </a:lnTo>
                        <a:lnTo>
                          <a:pt x="42" y="19"/>
                        </a:lnTo>
                        <a:lnTo>
                          <a:pt x="43" y="25"/>
                        </a:lnTo>
                        <a:lnTo>
                          <a:pt x="44" y="30"/>
                        </a:lnTo>
                        <a:lnTo>
                          <a:pt x="52" y="40"/>
                        </a:lnTo>
                        <a:lnTo>
                          <a:pt x="55" y="42"/>
                        </a:lnTo>
                        <a:lnTo>
                          <a:pt x="58" y="43"/>
                        </a:lnTo>
                        <a:lnTo>
                          <a:pt x="59" y="48"/>
                        </a:lnTo>
                        <a:lnTo>
                          <a:pt x="53" y="54"/>
                        </a:lnTo>
                        <a:lnTo>
                          <a:pt x="44" y="66"/>
                        </a:lnTo>
                        <a:lnTo>
                          <a:pt x="42" y="65"/>
                        </a:lnTo>
                        <a:lnTo>
                          <a:pt x="40" y="59"/>
                        </a:lnTo>
                        <a:lnTo>
                          <a:pt x="41" y="49"/>
                        </a:lnTo>
                        <a:lnTo>
                          <a:pt x="42" y="46"/>
                        </a:lnTo>
                        <a:lnTo>
                          <a:pt x="42" y="41"/>
                        </a:lnTo>
                        <a:lnTo>
                          <a:pt x="28" y="43"/>
                        </a:lnTo>
                        <a:lnTo>
                          <a:pt x="17" y="52"/>
                        </a:lnTo>
                        <a:lnTo>
                          <a:pt x="17" y="56"/>
                        </a:lnTo>
                        <a:lnTo>
                          <a:pt x="15" y="63"/>
                        </a:lnTo>
                        <a:lnTo>
                          <a:pt x="7" y="63"/>
                        </a:lnTo>
                        <a:lnTo>
                          <a:pt x="4" y="60"/>
                        </a:lnTo>
                        <a:lnTo>
                          <a:pt x="7" y="54"/>
                        </a:lnTo>
                        <a:lnTo>
                          <a:pt x="8" y="49"/>
                        </a:lnTo>
                        <a:lnTo>
                          <a:pt x="11" y="48"/>
                        </a:lnTo>
                        <a:lnTo>
                          <a:pt x="9" y="44"/>
                        </a:lnTo>
                        <a:lnTo>
                          <a:pt x="16" y="35"/>
                        </a:lnTo>
                        <a:lnTo>
                          <a:pt x="20" y="35"/>
                        </a:lnTo>
                        <a:lnTo>
                          <a:pt x="26" y="36"/>
                        </a:lnTo>
                        <a:lnTo>
                          <a:pt x="30" y="32"/>
                        </a:lnTo>
                        <a:lnTo>
                          <a:pt x="34" y="31"/>
                        </a:lnTo>
                        <a:lnTo>
                          <a:pt x="34" y="28"/>
                        </a:lnTo>
                        <a:lnTo>
                          <a:pt x="22" y="26"/>
                        </a:lnTo>
                        <a:lnTo>
                          <a:pt x="23" y="16"/>
                        </a:lnTo>
                        <a:lnTo>
                          <a:pt x="19" y="16"/>
                        </a:lnTo>
                        <a:lnTo>
                          <a:pt x="11" y="16"/>
                        </a:lnTo>
                        <a:lnTo>
                          <a:pt x="0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7254720" y="4841640"/>
                    <a:ext cx="381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0" y="7"/>
                        </a:moveTo>
                        <a:lnTo>
                          <a:pt x="13" y="9"/>
                        </a:lnTo>
                        <a:lnTo>
                          <a:pt x="23" y="1"/>
                        </a:lnTo>
                        <a:lnTo>
                          <a:pt x="13" y="0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305840" y="483552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5"/>
                        </a:moveTo>
                        <a:lnTo>
                          <a:pt x="12" y="8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7594560" y="3943440"/>
                  <a:ext cx="31680" cy="52200"/>
                  <a:chOff x="7594560" y="3943440"/>
                  <a:chExt cx="31680" cy="5220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7594560" y="3970440"/>
                    <a:ext cx="31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0" y="10"/>
                        </a:moveTo>
                        <a:lnTo>
                          <a:pt x="19" y="15"/>
                        </a:lnTo>
                        <a:lnTo>
                          <a:pt x="18" y="6"/>
                        </a:lnTo>
                        <a:lnTo>
                          <a:pt x="18" y="0"/>
                        </a:lnTo>
                        <a:lnTo>
                          <a:pt x="9" y="4"/>
                        </a:lnTo>
                        <a:lnTo>
                          <a:pt x="0" y="1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594560" y="3943440"/>
                    <a:ext cx="25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9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4" name=""/>
              <p:cNvGrpSpPr/>
              <p:nvPr/>
            </p:nvGrpSpPr>
            <p:grpSpPr>
              <a:xfrm>
                <a:off x="7236000" y="3706920"/>
                <a:ext cx="1796760" cy="2261880"/>
                <a:chOff x="7236000" y="3706920"/>
                <a:chExt cx="1796760" cy="22618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8058240" y="4703760"/>
                  <a:ext cx="974520" cy="1265040"/>
                </a:xfrm>
                <a:custGeom>
                  <a:avLst/>
                  <a:gdLst/>
                  <a:ahLst/>
                  <a:rect l="l" t="t" r="r" b="b"/>
                  <a:pathLst>
                    <a:path w="614" h="797">
                      <a:moveTo>
                        <a:pt x="50" y="120"/>
                      </a:moveTo>
                      <a:lnTo>
                        <a:pt x="86" y="106"/>
                      </a:lnTo>
                      <a:lnTo>
                        <a:pt x="102" y="79"/>
                      </a:lnTo>
                      <a:lnTo>
                        <a:pt x="119" y="73"/>
                      </a:lnTo>
                      <a:lnTo>
                        <a:pt x="143" y="54"/>
                      </a:lnTo>
                      <a:lnTo>
                        <a:pt x="168" y="84"/>
                      </a:lnTo>
                      <a:lnTo>
                        <a:pt x="181" y="73"/>
                      </a:lnTo>
                      <a:lnTo>
                        <a:pt x="190" y="76"/>
                      </a:lnTo>
                      <a:lnTo>
                        <a:pt x="202" y="71"/>
                      </a:lnTo>
                      <a:lnTo>
                        <a:pt x="210" y="71"/>
                      </a:lnTo>
                      <a:lnTo>
                        <a:pt x="227" y="73"/>
                      </a:lnTo>
                      <a:lnTo>
                        <a:pt x="246" y="62"/>
                      </a:lnTo>
                      <a:lnTo>
                        <a:pt x="232" y="46"/>
                      </a:lnTo>
                      <a:lnTo>
                        <a:pt x="251" y="26"/>
                      </a:lnTo>
                      <a:lnTo>
                        <a:pt x="268" y="26"/>
                      </a:lnTo>
                      <a:lnTo>
                        <a:pt x="290" y="4"/>
                      </a:lnTo>
                      <a:lnTo>
                        <a:pt x="307" y="4"/>
                      </a:lnTo>
                      <a:lnTo>
                        <a:pt x="315" y="0"/>
                      </a:lnTo>
                      <a:lnTo>
                        <a:pt x="339" y="4"/>
                      </a:lnTo>
                      <a:lnTo>
                        <a:pt x="350" y="13"/>
                      </a:lnTo>
                      <a:lnTo>
                        <a:pt x="359" y="15"/>
                      </a:lnTo>
                      <a:lnTo>
                        <a:pt x="378" y="24"/>
                      </a:lnTo>
                      <a:lnTo>
                        <a:pt x="397" y="32"/>
                      </a:lnTo>
                      <a:lnTo>
                        <a:pt x="414" y="43"/>
                      </a:lnTo>
                      <a:lnTo>
                        <a:pt x="436" y="65"/>
                      </a:lnTo>
                      <a:lnTo>
                        <a:pt x="444" y="79"/>
                      </a:lnTo>
                      <a:lnTo>
                        <a:pt x="468" y="76"/>
                      </a:lnTo>
                      <a:lnTo>
                        <a:pt x="505" y="82"/>
                      </a:lnTo>
                      <a:lnTo>
                        <a:pt x="524" y="93"/>
                      </a:lnTo>
                      <a:lnTo>
                        <a:pt x="562" y="65"/>
                      </a:lnTo>
                      <a:lnTo>
                        <a:pt x="560" y="49"/>
                      </a:lnTo>
                      <a:lnTo>
                        <a:pt x="573" y="32"/>
                      </a:lnTo>
                      <a:lnTo>
                        <a:pt x="587" y="26"/>
                      </a:lnTo>
                      <a:lnTo>
                        <a:pt x="593" y="49"/>
                      </a:lnTo>
                      <a:lnTo>
                        <a:pt x="595" y="79"/>
                      </a:lnTo>
                      <a:lnTo>
                        <a:pt x="604" y="112"/>
                      </a:lnTo>
                      <a:lnTo>
                        <a:pt x="604" y="137"/>
                      </a:lnTo>
                      <a:lnTo>
                        <a:pt x="590" y="156"/>
                      </a:lnTo>
                      <a:lnTo>
                        <a:pt x="606" y="162"/>
                      </a:lnTo>
                      <a:lnTo>
                        <a:pt x="601" y="186"/>
                      </a:lnTo>
                      <a:lnTo>
                        <a:pt x="595" y="217"/>
                      </a:lnTo>
                      <a:lnTo>
                        <a:pt x="587" y="239"/>
                      </a:lnTo>
                      <a:lnTo>
                        <a:pt x="576" y="258"/>
                      </a:lnTo>
                      <a:lnTo>
                        <a:pt x="571" y="271"/>
                      </a:lnTo>
                      <a:lnTo>
                        <a:pt x="573" y="291"/>
                      </a:lnTo>
                      <a:lnTo>
                        <a:pt x="579" y="316"/>
                      </a:lnTo>
                      <a:lnTo>
                        <a:pt x="573" y="332"/>
                      </a:lnTo>
                      <a:lnTo>
                        <a:pt x="576" y="346"/>
                      </a:lnTo>
                      <a:lnTo>
                        <a:pt x="582" y="357"/>
                      </a:lnTo>
                      <a:lnTo>
                        <a:pt x="590" y="373"/>
                      </a:lnTo>
                      <a:lnTo>
                        <a:pt x="613" y="399"/>
                      </a:lnTo>
                      <a:lnTo>
                        <a:pt x="608" y="420"/>
                      </a:lnTo>
                      <a:lnTo>
                        <a:pt x="598" y="462"/>
                      </a:lnTo>
                      <a:lnTo>
                        <a:pt x="586" y="507"/>
                      </a:lnTo>
                      <a:lnTo>
                        <a:pt x="575" y="541"/>
                      </a:lnTo>
                      <a:lnTo>
                        <a:pt x="560" y="577"/>
                      </a:lnTo>
                      <a:lnTo>
                        <a:pt x="540" y="621"/>
                      </a:lnTo>
                      <a:lnTo>
                        <a:pt x="523" y="655"/>
                      </a:lnTo>
                      <a:lnTo>
                        <a:pt x="502" y="693"/>
                      </a:lnTo>
                      <a:lnTo>
                        <a:pt x="484" y="721"/>
                      </a:lnTo>
                      <a:lnTo>
                        <a:pt x="464" y="751"/>
                      </a:lnTo>
                      <a:lnTo>
                        <a:pt x="437" y="785"/>
                      </a:lnTo>
                      <a:lnTo>
                        <a:pt x="414" y="796"/>
                      </a:lnTo>
                      <a:lnTo>
                        <a:pt x="395" y="790"/>
                      </a:lnTo>
                      <a:lnTo>
                        <a:pt x="384" y="765"/>
                      </a:lnTo>
                      <a:lnTo>
                        <a:pt x="389" y="759"/>
                      </a:lnTo>
                      <a:lnTo>
                        <a:pt x="395" y="740"/>
                      </a:lnTo>
                      <a:lnTo>
                        <a:pt x="384" y="729"/>
                      </a:lnTo>
                      <a:lnTo>
                        <a:pt x="384" y="716"/>
                      </a:lnTo>
                      <a:lnTo>
                        <a:pt x="375" y="705"/>
                      </a:lnTo>
                      <a:lnTo>
                        <a:pt x="375" y="668"/>
                      </a:lnTo>
                      <a:lnTo>
                        <a:pt x="365" y="644"/>
                      </a:lnTo>
                      <a:lnTo>
                        <a:pt x="359" y="629"/>
                      </a:lnTo>
                      <a:lnTo>
                        <a:pt x="348" y="616"/>
                      </a:lnTo>
                      <a:lnTo>
                        <a:pt x="331" y="599"/>
                      </a:lnTo>
                      <a:lnTo>
                        <a:pt x="345" y="575"/>
                      </a:lnTo>
                      <a:lnTo>
                        <a:pt x="348" y="555"/>
                      </a:lnTo>
                      <a:lnTo>
                        <a:pt x="348" y="544"/>
                      </a:lnTo>
                      <a:lnTo>
                        <a:pt x="359" y="536"/>
                      </a:lnTo>
                      <a:lnTo>
                        <a:pt x="353" y="519"/>
                      </a:lnTo>
                      <a:lnTo>
                        <a:pt x="350" y="497"/>
                      </a:lnTo>
                      <a:lnTo>
                        <a:pt x="345" y="476"/>
                      </a:lnTo>
                      <a:lnTo>
                        <a:pt x="290" y="431"/>
                      </a:lnTo>
                      <a:lnTo>
                        <a:pt x="285" y="418"/>
                      </a:lnTo>
                      <a:lnTo>
                        <a:pt x="290" y="387"/>
                      </a:lnTo>
                      <a:lnTo>
                        <a:pt x="276" y="373"/>
                      </a:lnTo>
                      <a:lnTo>
                        <a:pt x="262" y="381"/>
                      </a:lnTo>
                      <a:lnTo>
                        <a:pt x="235" y="385"/>
                      </a:lnTo>
                      <a:lnTo>
                        <a:pt x="224" y="371"/>
                      </a:lnTo>
                      <a:lnTo>
                        <a:pt x="208" y="387"/>
                      </a:lnTo>
                      <a:lnTo>
                        <a:pt x="198" y="404"/>
                      </a:lnTo>
                      <a:lnTo>
                        <a:pt x="179" y="404"/>
                      </a:lnTo>
                      <a:lnTo>
                        <a:pt x="166" y="415"/>
                      </a:lnTo>
                      <a:lnTo>
                        <a:pt x="146" y="415"/>
                      </a:lnTo>
                      <a:lnTo>
                        <a:pt x="124" y="431"/>
                      </a:lnTo>
                      <a:lnTo>
                        <a:pt x="97" y="429"/>
                      </a:lnTo>
                      <a:lnTo>
                        <a:pt x="61" y="401"/>
                      </a:lnTo>
                      <a:lnTo>
                        <a:pt x="31" y="379"/>
                      </a:lnTo>
                      <a:lnTo>
                        <a:pt x="17" y="362"/>
                      </a:lnTo>
                      <a:lnTo>
                        <a:pt x="17" y="313"/>
                      </a:lnTo>
                      <a:lnTo>
                        <a:pt x="0" y="299"/>
                      </a:lnTo>
                      <a:lnTo>
                        <a:pt x="0" y="282"/>
                      </a:lnTo>
                      <a:lnTo>
                        <a:pt x="3" y="269"/>
                      </a:lnTo>
                      <a:lnTo>
                        <a:pt x="14" y="250"/>
                      </a:lnTo>
                      <a:lnTo>
                        <a:pt x="6" y="233"/>
                      </a:lnTo>
                      <a:lnTo>
                        <a:pt x="14" y="214"/>
                      </a:lnTo>
                      <a:lnTo>
                        <a:pt x="28" y="205"/>
                      </a:lnTo>
                      <a:lnTo>
                        <a:pt x="39" y="194"/>
                      </a:lnTo>
                      <a:lnTo>
                        <a:pt x="39" y="183"/>
                      </a:lnTo>
                      <a:lnTo>
                        <a:pt x="28" y="175"/>
                      </a:lnTo>
                      <a:lnTo>
                        <a:pt x="28" y="162"/>
                      </a:lnTo>
                      <a:lnTo>
                        <a:pt x="36" y="153"/>
                      </a:lnTo>
                      <a:lnTo>
                        <a:pt x="50" y="12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8837640" y="5165640"/>
                  <a:ext cx="111240" cy="271440"/>
                  <a:chOff x="8837640" y="5165640"/>
                  <a:chExt cx="111240" cy="27144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8837640" y="5165640"/>
                    <a:ext cx="44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8">
                        <a:moveTo>
                          <a:pt x="19" y="0"/>
                        </a:moveTo>
                        <a:lnTo>
                          <a:pt x="0" y="13"/>
                        </a:lnTo>
                        <a:lnTo>
                          <a:pt x="8" y="33"/>
                        </a:lnTo>
                        <a:lnTo>
                          <a:pt x="14" y="47"/>
                        </a:lnTo>
                        <a:lnTo>
                          <a:pt x="27" y="36"/>
                        </a:lnTo>
                        <a:lnTo>
                          <a:pt x="19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8910720" y="5357880"/>
                    <a:ext cx="38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0">
                        <a:moveTo>
                          <a:pt x="15" y="0"/>
                        </a:moveTo>
                        <a:lnTo>
                          <a:pt x="0" y="10"/>
                        </a:lnTo>
                        <a:lnTo>
                          <a:pt x="3" y="26"/>
                        </a:lnTo>
                        <a:lnTo>
                          <a:pt x="6" y="46"/>
                        </a:lnTo>
                        <a:lnTo>
                          <a:pt x="23" y="49"/>
                        </a:lnTo>
                        <a:lnTo>
                          <a:pt x="23" y="33"/>
                        </a:lnTo>
                        <a:lnTo>
                          <a:pt x="1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9" name=""/>
                <p:cNvSpPr/>
                <p:nvPr/>
              </p:nvSpPr>
              <p:spPr>
                <a:xfrm>
                  <a:off x="7236000" y="3706920"/>
                  <a:ext cx="1687320" cy="1195200"/>
                </a:xfrm>
                <a:custGeom>
                  <a:avLst/>
                  <a:gdLst/>
                  <a:ahLst/>
                  <a:rect l="l" t="t" r="r" b="b"/>
                  <a:pathLst>
                    <a:path w="1063" h="753">
                      <a:moveTo>
                        <a:pt x="516" y="700"/>
                      </a:moveTo>
                      <a:lnTo>
                        <a:pt x="531" y="721"/>
                      </a:lnTo>
                      <a:lnTo>
                        <a:pt x="526" y="733"/>
                      </a:lnTo>
                      <a:lnTo>
                        <a:pt x="533" y="742"/>
                      </a:lnTo>
                      <a:lnTo>
                        <a:pt x="542" y="752"/>
                      </a:lnTo>
                      <a:lnTo>
                        <a:pt x="556" y="750"/>
                      </a:lnTo>
                      <a:lnTo>
                        <a:pt x="570" y="733"/>
                      </a:lnTo>
                      <a:lnTo>
                        <a:pt x="586" y="722"/>
                      </a:lnTo>
                      <a:lnTo>
                        <a:pt x="594" y="712"/>
                      </a:lnTo>
                      <a:lnTo>
                        <a:pt x="591" y="701"/>
                      </a:lnTo>
                      <a:lnTo>
                        <a:pt x="589" y="690"/>
                      </a:lnTo>
                      <a:lnTo>
                        <a:pt x="589" y="677"/>
                      </a:lnTo>
                      <a:lnTo>
                        <a:pt x="597" y="672"/>
                      </a:lnTo>
                      <a:lnTo>
                        <a:pt x="597" y="660"/>
                      </a:lnTo>
                      <a:lnTo>
                        <a:pt x="594" y="653"/>
                      </a:lnTo>
                      <a:lnTo>
                        <a:pt x="600" y="647"/>
                      </a:lnTo>
                      <a:lnTo>
                        <a:pt x="610" y="647"/>
                      </a:lnTo>
                      <a:lnTo>
                        <a:pt x="613" y="641"/>
                      </a:lnTo>
                      <a:lnTo>
                        <a:pt x="613" y="632"/>
                      </a:lnTo>
                      <a:lnTo>
                        <a:pt x="616" y="625"/>
                      </a:lnTo>
                      <a:lnTo>
                        <a:pt x="640" y="628"/>
                      </a:lnTo>
                      <a:lnTo>
                        <a:pt x="649" y="635"/>
                      </a:lnTo>
                      <a:lnTo>
                        <a:pt x="691" y="631"/>
                      </a:lnTo>
                      <a:lnTo>
                        <a:pt x="692" y="622"/>
                      </a:lnTo>
                      <a:lnTo>
                        <a:pt x="680" y="612"/>
                      </a:lnTo>
                      <a:lnTo>
                        <a:pt x="651" y="613"/>
                      </a:lnTo>
                      <a:lnTo>
                        <a:pt x="638" y="612"/>
                      </a:lnTo>
                      <a:lnTo>
                        <a:pt x="633" y="606"/>
                      </a:lnTo>
                      <a:lnTo>
                        <a:pt x="633" y="597"/>
                      </a:lnTo>
                      <a:lnTo>
                        <a:pt x="638" y="591"/>
                      </a:lnTo>
                      <a:lnTo>
                        <a:pt x="649" y="600"/>
                      </a:lnTo>
                      <a:lnTo>
                        <a:pt x="665" y="600"/>
                      </a:lnTo>
                      <a:lnTo>
                        <a:pt x="676" y="601"/>
                      </a:lnTo>
                      <a:lnTo>
                        <a:pt x="687" y="601"/>
                      </a:lnTo>
                      <a:lnTo>
                        <a:pt x="696" y="608"/>
                      </a:lnTo>
                      <a:lnTo>
                        <a:pt x="710" y="614"/>
                      </a:lnTo>
                      <a:lnTo>
                        <a:pt x="722" y="616"/>
                      </a:lnTo>
                      <a:lnTo>
                        <a:pt x="722" y="605"/>
                      </a:lnTo>
                      <a:lnTo>
                        <a:pt x="730" y="601"/>
                      </a:lnTo>
                      <a:lnTo>
                        <a:pt x="726" y="593"/>
                      </a:lnTo>
                      <a:lnTo>
                        <a:pt x="719" y="586"/>
                      </a:lnTo>
                      <a:lnTo>
                        <a:pt x="721" y="578"/>
                      </a:lnTo>
                      <a:lnTo>
                        <a:pt x="725" y="572"/>
                      </a:lnTo>
                      <a:lnTo>
                        <a:pt x="734" y="559"/>
                      </a:lnTo>
                      <a:lnTo>
                        <a:pt x="740" y="567"/>
                      </a:lnTo>
                      <a:lnTo>
                        <a:pt x="735" y="578"/>
                      </a:lnTo>
                      <a:lnTo>
                        <a:pt x="743" y="583"/>
                      </a:lnTo>
                      <a:lnTo>
                        <a:pt x="752" y="586"/>
                      </a:lnTo>
                      <a:lnTo>
                        <a:pt x="760" y="591"/>
                      </a:lnTo>
                      <a:lnTo>
                        <a:pt x="772" y="591"/>
                      </a:lnTo>
                      <a:lnTo>
                        <a:pt x="782" y="589"/>
                      </a:lnTo>
                      <a:lnTo>
                        <a:pt x="785" y="582"/>
                      </a:lnTo>
                      <a:lnTo>
                        <a:pt x="785" y="573"/>
                      </a:lnTo>
                      <a:lnTo>
                        <a:pt x="791" y="567"/>
                      </a:lnTo>
                      <a:lnTo>
                        <a:pt x="802" y="561"/>
                      </a:lnTo>
                      <a:lnTo>
                        <a:pt x="806" y="555"/>
                      </a:lnTo>
                      <a:lnTo>
                        <a:pt x="804" y="548"/>
                      </a:lnTo>
                      <a:lnTo>
                        <a:pt x="808" y="540"/>
                      </a:lnTo>
                      <a:lnTo>
                        <a:pt x="820" y="555"/>
                      </a:lnTo>
                      <a:lnTo>
                        <a:pt x="826" y="567"/>
                      </a:lnTo>
                      <a:lnTo>
                        <a:pt x="829" y="571"/>
                      </a:lnTo>
                      <a:lnTo>
                        <a:pt x="834" y="582"/>
                      </a:lnTo>
                      <a:lnTo>
                        <a:pt x="839" y="589"/>
                      </a:lnTo>
                      <a:lnTo>
                        <a:pt x="838" y="600"/>
                      </a:lnTo>
                      <a:lnTo>
                        <a:pt x="837" y="609"/>
                      </a:lnTo>
                      <a:lnTo>
                        <a:pt x="843" y="619"/>
                      </a:lnTo>
                      <a:lnTo>
                        <a:pt x="853" y="625"/>
                      </a:lnTo>
                      <a:lnTo>
                        <a:pt x="864" y="625"/>
                      </a:lnTo>
                      <a:lnTo>
                        <a:pt x="875" y="623"/>
                      </a:lnTo>
                      <a:lnTo>
                        <a:pt x="894" y="625"/>
                      </a:lnTo>
                      <a:lnTo>
                        <a:pt x="916" y="638"/>
                      </a:lnTo>
                      <a:lnTo>
                        <a:pt x="927" y="635"/>
                      </a:lnTo>
                      <a:lnTo>
                        <a:pt x="936" y="646"/>
                      </a:lnTo>
                      <a:lnTo>
                        <a:pt x="944" y="653"/>
                      </a:lnTo>
                      <a:lnTo>
                        <a:pt x="961" y="660"/>
                      </a:lnTo>
                      <a:lnTo>
                        <a:pt x="972" y="659"/>
                      </a:lnTo>
                      <a:lnTo>
                        <a:pt x="986" y="663"/>
                      </a:lnTo>
                      <a:lnTo>
                        <a:pt x="1000" y="674"/>
                      </a:lnTo>
                      <a:lnTo>
                        <a:pt x="1019" y="693"/>
                      </a:lnTo>
                      <a:lnTo>
                        <a:pt x="1035" y="706"/>
                      </a:lnTo>
                      <a:lnTo>
                        <a:pt x="1043" y="689"/>
                      </a:lnTo>
                      <a:lnTo>
                        <a:pt x="1047" y="675"/>
                      </a:lnTo>
                      <a:lnTo>
                        <a:pt x="1055" y="657"/>
                      </a:lnTo>
                      <a:lnTo>
                        <a:pt x="1059" y="631"/>
                      </a:lnTo>
                      <a:lnTo>
                        <a:pt x="1062" y="602"/>
                      </a:lnTo>
                      <a:lnTo>
                        <a:pt x="1058" y="597"/>
                      </a:lnTo>
                      <a:lnTo>
                        <a:pt x="1061" y="564"/>
                      </a:lnTo>
                      <a:lnTo>
                        <a:pt x="1060" y="543"/>
                      </a:lnTo>
                      <a:lnTo>
                        <a:pt x="1055" y="529"/>
                      </a:lnTo>
                      <a:lnTo>
                        <a:pt x="1055" y="509"/>
                      </a:lnTo>
                      <a:lnTo>
                        <a:pt x="1047" y="501"/>
                      </a:lnTo>
                      <a:lnTo>
                        <a:pt x="1042" y="492"/>
                      </a:lnTo>
                      <a:lnTo>
                        <a:pt x="1036" y="479"/>
                      </a:lnTo>
                      <a:lnTo>
                        <a:pt x="1036" y="469"/>
                      </a:lnTo>
                      <a:lnTo>
                        <a:pt x="1030" y="460"/>
                      </a:lnTo>
                      <a:lnTo>
                        <a:pt x="1018" y="460"/>
                      </a:lnTo>
                      <a:lnTo>
                        <a:pt x="1009" y="460"/>
                      </a:lnTo>
                      <a:lnTo>
                        <a:pt x="1004" y="470"/>
                      </a:lnTo>
                      <a:lnTo>
                        <a:pt x="996" y="471"/>
                      </a:lnTo>
                      <a:lnTo>
                        <a:pt x="985" y="471"/>
                      </a:lnTo>
                      <a:lnTo>
                        <a:pt x="985" y="487"/>
                      </a:lnTo>
                      <a:lnTo>
                        <a:pt x="989" y="496"/>
                      </a:lnTo>
                      <a:lnTo>
                        <a:pt x="986" y="505"/>
                      </a:lnTo>
                      <a:lnTo>
                        <a:pt x="984" y="515"/>
                      </a:lnTo>
                      <a:lnTo>
                        <a:pt x="974" y="518"/>
                      </a:lnTo>
                      <a:lnTo>
                        <a:pt x="967" y="517"/>
                      </a:lnTo>
                      <a:lnTo>
                        <a:pt x="960" y="514"/>
                      </a:lnTo>
                      <a:lnTo>
                        <a:pt x="955" y="512"/>
                      </a:lnTo>
                      <a:lnTo>
                        <a:pt x="949" y="512"/>
                      </a:lnTo>
                      <a:lnTo>
                        <a:pt x="941" y="510"/>
                      </a:lnTo>
                      <a:lnTo>
                        <a:pt x="932" y="509"/>
                      </a:lnTo>
                      <a:lnTo>
                        <a:pt x="925" y="509"/>
                      </a:lnTo>
                      <a:lnTo>
                        <a:pt x="919" y="498"/>
                      </a:lnTo>
                      <a:lnTo>
                        <a:pt x="929" y="491"/>
                      </a:lnTo>
                      <a:lnTo>
                        <a:pt x="936" y="490"/>
                      </a:lnTo>
                      <a:lnTo>
                        <a:pt x="940" y="493"/>
                      </a:lnTo>
                      <a:lnTo>
                        <a:pt x="947" y="492"/>
                      </a:lnTo>
                      <a:lnTo>
                        <a:pt x="961" y="485"/>
                      </a:lnTo>
                      <a:lnTo>
                        <a:pt x="967" y="473"/>
                      </a:lnTo>
                      <a:lnTo>
                        <a:pt x="977" y="460"/>
                      </a:lnTo>
                      <a:lnTo>
                        <a:pt x="985" y="448"/>
                      </a:lnTo>
                      <a:lnTo>
                        <a:pt x="990" y="440"/>
                      </a:lnTo>
                      <a:lnTo>
                        <a:pt x="999" y="431"/>
                      </a:lnTo>
                      <a:lnTo>
                        <a:pt x="1000" y="420"/>
                      </a:lnTo>
                      <a:lnTo>
                        <a:pt x="1007" y="397"/>
                      </a:lnTo>
                      <a:lnTo>
                        <a:pt x="974" y="352"/>
                      </a:lnTo>
                      <a:lnTo>
                        <a:pt x="944" y="311"/>
                      </a:lnTo>
                      <a:lnTo>
                        <a:pt x="913" y="276"/>
                      </a:lnTo>
                      <a:lnTo>
                        <a:pt x="881" y="245"/>
                      </a:lnTo>
                      <a:lnTo>
                        <a:pt x="857" y="222"/>
                      </a:lnTo>
                      <a:lnTo>
                        <a:pt x="837" y="204"/>
                      </a:lnTo>
                      <a:lnTo>
                        <a:pt x="810" y="182"/>
                      </a:lnTo>
                      <a:lnTo>
                        <a:pt x="783" y="162"/>
                      </a:lnTo>
                      <a:lnTo>
                        <a:pt x="749" y="136"/>
                      </a:lnTo>
                      <a:lnTo>
                        <a:pt x="719" y="117"/>
                      </a:lnTo>
                      <a:lnTo>
                        <a:pt x="691" y="102"/>
                      </a:lnTo>
                      <a:lnTo>
                        <a:pt x="661" y="88"/>
                      </a:lnTo>
                      <a:lnTo>
                        <a:pt x="625" y="71"/>
                      </a:lnTo>
                      <a:lnTo>
                        <a:pt x="574" y="51"/>
                      </a:lnTo>
                      <a:lnTo>
                        <a:pt x="520" y="33"/>
                      </a:lnTo>
                      <a:lnTo>
                        <a:pt x="474" y="21"/>
                      </a:lnTo>
                      <a:lnTo>
                        <a:pt x="440" y="14"/>
                      </a:lnTo>
                      <a:lnTo>
                        <a:pt x="391" y="6"/>
                      </a:lnTo>
                      <a:lnTo>
                        <a:pt x="333" y="1"/>
                      </a:lnTo>
                      <a:lnTo>
                        <a:pt x="256" y="0"/>
                      </a:lnTo>
                      <a:lnTo>
                        <a:pt x="195" y="4"/>
                      </a:lnTo>
                      <a:lnTo>
                        <a:pt x="190" y="14"/>
                      </a:lnTo>
                      <a:lnTo>
                        <a:pt x="178" y="18"/>
                      </a:lnTo>
                      <a:lnTo>
                        <a:pt x="170" y="21"/>
                      </a:lnTo>
                      <a:lnTo>
                        <a:pt x="154" y="21"/>
                      </a:lnTo>
                      <a:lnTo>
                        <a:pt x="138" y="27"/>
                      </a:lnTo>
                      <a:lnTo>
                        <a:pt x="119" y="29"/>
                      </a:lnTo>
                      <a:lnTo>
                        <a:pt x="105" y="44"/>
                      </a:lnTo>
                      <a:lnTo>
                        <a:pt x="103" y="56"/>
                      </a:lnTo>
                      <a:lnTo>
                        <a:pt x="92" y="71"/>
                      </a:lnTo>
                      <a:lnTo>
                        <a:pt x="78" y="71"/>
                      </a:lnTo>
                      <a:lnTo>
                        <a:pt x="65" y="83"/>
                      </a:lnTo>
                      <a:lnTo>
                        <a:pt x="65" y="66"/>
                      </a:lnTo>
                      <a:lnTo>
                        <a:pt x="77" y="38"/>
                      </a:lnTo>
                      <a:lnTo>
                        <a:pt x="78" y="25"/>
                      </a:lnTo>
                      <a:lnTo>
                        <a:pt x="50" y="33"/>
                      </a:lnTo>
                      <a:lnTo>
                        <a:pt x="27" y="40"/>
                      </a:lnTo>
                      <a:lnTo>
                        <a:pt x="29" y="50"/>
                      </a:lnTo>
                      <a:lnTo>
                        <a:pt x="46" y="63"/>
                      </a:lnTo>
                      <a:lnTo>
                        <a:pt x="44" y="71"/>
                      </a:lnTo>
                      <a:lnTo>
                        <a:pt x="41" y="84"/>
                      </a:lnTo>
                      <a:lnTo>
                        <a:pt x="31" y="95"/>
                      </a:lnTo>
                      <a:lnTo>
                        <a:pt x="18" y="107"/>
                      </a:lnTo>
                      <a:lnTo>
                        <a:pt x="16" y="124"/>
                      </a:lnTo>
                      <a:lnTo>
                        <a:pt x="10" y="141"/>
                      </a:lnTo>
                      <a:lnTo>
                        <a:pt x="12" y="154"/>
                      </a:lnTo>
                      <a:lnTo>
                        <a:pt x="29" y="152"/>
                      </a:lnTo>
                      <a:lnTo>
                        <a:pt x="27" y="173"/>
                      </a:lnTo>
                      <a:lnTo>
                        <a:pt x="13" y="181"/>
                      </a:lnTo>
                      <a:lnTo>
                        <a:pt x="0" y="193"/>
                      </a:lnTo>
                      <a:lnTo>
                        <a:pt x="16" y="208"/>
                      </a:lnTo>
                      <a:lnTo>
                        <a:pt x="32" y="192"/>
                      </a:lnTo>
                      <a:lnTo>
                        <a:pt x="41" y="190"/>
                      </a:lnTo>
                      <a:lnTo>
                        <a:pt x="56" y="187"/>
                      </a:lnTo>
                      <a:lnTo>
                        <a:pt x="68" y="182"/>
                      </a:lnTo>
                      <a:lnTo>
                        <a:pt x="78" y="181"/>
                      </a:lnTo>
                      <a:lnTo>
                        <a:pt x="92" y="169"/>
                      </a:lnTo>
                      <a:lnTo>
                        <a:pt x="104" y="151"/>
                      </a:lnTo>
                      <a:lnTo>
                        <a:pt x="115" y="148"/>
                      </a:lnTo>
                      <a:lnTo>
                        <a:pt x="126" y="143"/>
                      </a:lnTo>
                      <a:lnTo>
                        <a:pt x="142" y="140"/>
                      </a:lnTo>
                      <a:lnTo>
                        <a:pt x="148" y="143"/>
                      </a:lnTo>
                      <a:lnTo>
                        <a:pt x="158" y="141"/>
                      </a:lnTo>
                      <a:lnTo>
                        <a:pt x="166" y="138"/>
                      </a:lnTo>
                      <a:lnTo>
                        <a:pt x="185" y="137"/>
                      </a:lnTo>
                      <a:lnTo>
                        <a:pt x="191" y="140"/>
                      </a:lnTo>
                      <a:lnTo>
                        <a:pt x="211" y="142"/>
                      </a:lnTo>
                      <a:lnTo>
                        <a:pt x="225" y="138"/>
                      </a:lnTo>
                      <a:lnTo>
                        <a:pt x="236" y="127"/>
                      </a:lnTo>
                      <a:lnTo>
                        <a:pt x="253" y="129"/>
                      </a:lnTo>
                      <a:lnTo>
                        <a:pt x="268" y="127"/>
                      </a:lnTo>
                      <a:lnTo>
                        <a:pt x="277" y="127"/>
                      </a:lnTo>
                      <a:lnTo>
                        <a:pt x="275" y="141"/>
                      </a:lnTo>
                      <a:lnTo>
                        <a:pt x="281" y="146"/>
                      </a:lnTo>
                      <a:lnTo>
                        <a:pt x="291" y="151"/>
                      </a:lnTo>
                      <a:lnTo>
                        <a:pt x="301" y="144"/>
                      </a:lnTo>
                      <a:lnTo>
                        <a:pt x="313" y="149"/>
                      </a:lnTo>
                      <a:lnTo>
                        <a:pt x="325" y="155"/>
                      </a:lnTo>
                      <a:lnTo>
                        <a:pt x="339" y="159"/>
                      </a:lnTo>
                      <a:lnTo>
                        <a:pt x="362" y="162"/>
                      </a:lnTo>
                      <a:lnTo>
                        <a:pt x="335" y="166"/>
                      </a:lnTo>
                      <a:lnTo>
                        <a:pt x="325" y="169"/>
                      </a:lnTo>
                      <a:lnTo>
                        <a:pt x="320" y="174"/>
                      </a:lnTo>
                      <a:lnTo>
                        <a:pt x="329" y="193"/>
                      </a:lnTo>
                      <a:lnTo>
                        <a:pt x="337" y="202"/>
                      </a:lnTo>
                      <a:lnTo>
                        <a:pt x="355" y="200"/>
                      </a:lnTo>
                      <a:lnTo>
                        <a:pt x="368" y="204"/>
                      </a:lnTo>
                      <a:lnTo>
                        <a:pt x="384" y="211"/>
                      </a:lnTo>
                      <a:lnTo>
                        <a:pt x="401" y="212"/>
                      </a:lnTo>
                      <a:lnTo>
                        <a:pt x="412" y="213"/>
                      </a:lnTo>
                      <a:lnTo>
                        <a:pt x="436" y="198"/>
                      </a:lnTo>
                      <a:lnTo>
                        <a:pt x="442" y="199"/>
                      </a:lnTo>
                      <a:lnTo>
                        <a:pt x="429" y="212"/>
                      </a:lnTo>
                      <a:lnTo>
                        <a:pt x="444" y="228"/>
                      </a:lnTo>
                      <a:lnTo>
                        <a:pt x="470" y="222"/>
                      </a:lnTo>
                      <a:lnTo>
                        <a:pt x="475" y="219"/>
                      </a:lnTo>
                      <a:lnTo>
                        <a:pt x="475" y="207"/>
                      </a:lnTo>
                      <a:lnTo>
                        <a:pt x="486" y="212"/>
                      </a:lnTo>
                      <a:lnTo>
                        <a:pt x="504" y="225"/>
                      </a:lnTo>
                      <a:lnTo>
                        <a:pt x="486" y="223"/>
                      </a:lnTo>
                      <a:lnTo>
                        <a:pt x="481" y="227"/>
                      </a:lnTo>
                      <a:lnTo>
                        <a:pt x="474" y="229"/>
                      </a:lnTo>
                      <a:lnTo>
                        <a:pt x="464" y="232"/>
                      </a:lnTo>
                      <a:lnTo>
                        <a:pt x="454" y="233"/>
                      </a:lnTo>
                      <a:lnTo>
                        <a:pt x="442" y="242"/>
                      </a:lnTo>
                      <a:lnTo>
                        <a:pt x="454" y="247"/>
                      </a:lnTo>
                      <a:lnTo>
                        <a:pt x="488" y="246"/>
                      </a:lnTo>
                      <a:lnTo>
                        <a:pt x="485" y="259"/>
                      </a:lnTo>
                      <a:lnTo>
                        <a:pt x="481" y="275"/>
                      </a:lnTo>
                      <a:lnTo>
                        <a:pt x="491" y="277"/>
                      </a:lnTo>
                      <a:lnTo>
                        <a:pt x="499" y="283"/>
                      </a:lnTo>
                      <a:lnTo>
                        <a:pt x="503" y="300"/>
                      </a:lnTo>
                      <a:lnTo>
                        <a:pt x="509" y="308"/>
                      </a:lnTo>
                      <a:lnTo>
                        <a:pt x="508" y="317"/>
                      </a:lnTo>
                      <a:lnTo>
                        <a:pt x="508" y="329"/>
                      </a:lnTo>
                      <a:lnTo>
                        <a:pt x="541" y="357"/>
                      </a:lnTo>
                      <a:lnTo>
                        <a:pt x="539" y="368"/>
                      </a:lnTo>
                      <a:lnTo>
                        <a:pt x="534" y="373"/>
                      </a:lnTo>
                      <a:lnTo>
                        <a:pt x="528" y="370"/>
                      </a:lnTo>
                      <a:lnTo>
                        <a:pt x="520" y="368"/>
                      </a:lnTo>
                      <a:lnTo>
                        <a:pt x="514" y="368"/>
                      </a:lnTo>
                      <a:lnTo>
                        <a:pt x="511" y="368"/>
                      </a:lnTo>
                      <a:lnTo>
                        <a:pt x="523" y="355"/>
                      </a:lnTo>
                      <a:lnTo>
                        <a:pt x="520" y="346"/>
                      </a:lnTo>
                      <a:lnTo>
                        <a:pt x="509" y="343"/>
                      </a:lnTo>
                      <a:lnTo>
                        <a:pt x="504" y="344"/>
                      </a:lnTo>
                      <a:lnTo>
                        <a:pt x="497" y="346"/>
                      </a:lnTo>
                      <a:lnTo>
                        <a:pt x="486" y="352"/>
                      </a:lnTo>
                      <a:lnTo>
                        <a:pt x="481" y="357"/>
                      </a:lnTo>
                      <a:lnTo>
                        <a:pt x="467" y="359"/>
                      </a:lnTo>
                      <a:lnTo>
                        <a:pt x="457" y="359"/>
                      </a:lnTo>
                      <a:lnTo>
                        <a:pt x="459" y="370"/>
                      </a:lnTo>
                      <a:lnTo>
                        <a:pt x="459" y="384"/>
                      </a:lnTo>
                      <a:lnTo>
                        <a:pt x="457" y="398"/>
                      </a:lnTo>
                      <a:lnTo>
                        <a:pt x="459" y="410"/>
                      </a:lnTo>
                      <a:lnTo>
                        <a:pt x="464" y="420"/>
                      </a:lnTo>
                      <a:lnTo>
                        <a:pt x="463" y="429"/>
                      </a:lnTo>
                      <a:lnTo>
                        <a:pt x="468" y="437"/>
                      </a:lnTo>
                      <a:lnTo>
                        <a:pt x="476" y="444"/>
                      </a:lnTo>
                      <a:lnTo>
                        <a:pt x="475" y="452"/>
                      </a:lnTo>
                      <a:lnTo>
                        <a:pt x="485" y="456"/>
                      </a:lnTo>
                      <a:lnTo>
                        <a:pt x="479" y="470"/>
                      </a:lnTo>
                      <a:lnTo>
                        <a:pt x="481" y="485"/>
                      </a:lnTo>
                      <a:lnTo>
                        <a:pt x="487" y="496"/>
                      </a:lnTo>
                      <a:lnTo>
                        <a:pt x="501" y="514"/>
                      </a:lnTo>
                      <a:lnTo>
                        <a:pt x="506" y="514"/>
                      </a:lnTo>
                      <a:lnTo>
                        <a:pt x="514" y="517"/>
                      </a:lnTo>
                      <a:lnTo>
                        <a:pt x="526" y="504"/>
                      </a:lnTo>
                      <a:lnTo>
                        <a:pt x="534" y="498"/>
                      </a:lnTo>
                      <a:lnTo>
                        <a:pt x="544" y="507"/>
                      </a:lnTo>
                      <a:lnTo>
                        <a:pt x="552" y="509"/>
                      </a:lnTo>
                      <a:lnTo>
                        <a:pt x="563" y="506"/>
                      </a:lnTo>
                      <a:lnTo>
                        <a:pt x="564" y="495"/>
                      </a:lnTo>
                      <a:lnTo>
                        <a:pt x="553" y="483"/>
                      </a:lnTo>
                      <a:lnTo>
                        <a:pt x="544" y="474"/>
                      </a:lnTo>
                      <a:lnTo>
                        <a:pt x="542" y="465"/>
                      </a:lnTo>
                      <a:lnTo>
                        <a:pt x="531" y="456"/>
                      </a:lnTo>
                      <a:lnTo>
                        <a:pt x="523" y="455"/>
                      </a:lnTo>
                      <a:lnTo>
                        <a:pt x="520" y="441"/>
                      </a:lnTo>
                      <a:lnTo>
                        <a:pt x="514" y="432"/>
                      </a:lnTo>
                      <a:lnTo>
                        <a:pt x="508" y="426"/>
                      </a:lnTo>
                      <a:lnTo>
                        <a:pt x="506" y="409"/>
                      </a:lnTo>
                      <a:lnTo>
                        <a:pt x="509" y="407"/>
                      </a:lnTo>
                      <a:lnTo>
                        <a:pt x="520" y="417"/>
                      </a:lnTo>
                      <a:lnTo>
                        <a:pt x="520" y="426"/>
                      </a:lnTo>
                      <a:lnTo>
                        <a:pt x="528" y="435"/>
                      </a:lnTo>
                      <a:lnTo>
                        <a:pt x="535" y="443"/>
                      </a:lnTo>
                      <a:lnTo>
                        <a:pt x="541" y="448"/>
                      </a:lnTo>
                      <a:lnTo>
                        <a:pt x="547" y="441"/>
                      </a:lnTo>
                      <a:lnTo>
                        <a:pt x="552" y="437"/>
                      </a:lnTo>
                      <a:lnTo>
                        <a:pt x="558" y="435"/>
                      </a:lnTo>
                      <a:lnTo>
                        <a:pt x="561" y="428"/>
                      </a:lnTo>
                      <a:lnTo>
                        <a:pt x="569" y="426"/>
                      </a:lnTo>
                      <a:lnTo>
                        <a:pt x="563" y="435"/>
                      </a:lnTo>
                      <a:lnTo>
                        <a:pt x="566" y="444"/>
                      </a:lnTo>
                      <a:lnTo>
                        <a:pt x="575" y="448"/>
                      </a:lnTo>
                      <a:lnTo>
                        <a:pt x="574" y="456"/>
                      </a:lnTo>
                      <a:lnTo>
                        <a:pt x="566" y="465"/>
                      </a:lnTo>
                      <a:lnTo>
                        <a:pt x="570" y="473"/>
                      </a:lnTo>
                      <a:lnTo>
                        <a:pt x="580" y="479"/>
                      </a:lnTo>
                      <a:lnTo>
                        <a:pt x="586" y="487"/>
                      </a:lnTo>
                      <a:lnTo>
                        <a:pt x="580" y="496"/>
                      </a:lnTo>
                      <a:lnTo>
                        <a:pt x="574" y="506"/>
                      </a:lnTo>
                      <a:lnTo>
                        <a:pt x="575" y="513"/>
                      </a:lnTo>
                      <a:lnTo>
                        <a:pt x="571" y="521"/>
                      </a:lnTo>
                      <a:lnTo>
                        <a:pt x="566" y="529"/>
                      </a:lnTo>
                      <a:lnTo>
                        <a:pt x="561" y="535"/>
                      </a:lnTo>
                      <a:lnTo>
                        <a:pt x="555" y="529"/>
                      </a:lnTo>
                      <a:lnTo>
                        <a:pt x="545" y="529"/>
                      </a:lnTo>
                      <a:lnTo>
                        <a:pt x="539" y="522"/>
                      </a:lnTo>
                      <a:lnTo>
                        <a:pt x="537" y="514"/>
                      </a:lnTo>
                      <a:lnTo>
                        <a:pt x="530" y="512"/>
                      </a:lnTo>
                      <a:lnTo>
                        <a:pt x="528" y="517"/>
                      </a:lnTo>
                      <a:lnTo>
                        <a:pt x="531" y="522"/>
                      </a:lnTo>
                      <a:lnTo>
                        <a:pt x="533" y="531"/>
                      </a:lnTo>
                      <a:lnTo>
                        <a:pt x="533" y="537"/>
                      </a:lnTo>
                      <a:lnTo>
                        <a:pt x="539" y="536"/>
                      </a:lnTo>
                      <a:lnTo>
                        <a:pt x="545" y="540"/>
                      </a:lnTo>
                      <a:lnTo>
                        <a:pt x="545" y="548"/>
                      </a:lnTo>
                      <a:lnTo>
                        <a:pt x="539" y="559"/>
                      </a:lnTo>
                      <a:lnTo>
                        <a:pt x="541" y="572"/>
                      </a:lnTo>
                      <a:lnTo>
                        <a:pt x="537" y="589"/>
                      </a:lnTo>
                      <a:lnTo>
                        <a:pt x="539" y="605"/>
                      </a:lnTo>
                      <a:lnTo>
                        <a:pt x="537" y="614"/>
                      </a:lnTo>
                      <a:lnTo>
                        <a:pt x="528" y="623"/>
                      </a:lnTo>
                      <a:lnTo>
                        <a:pt x="528" y="631"/>
                      </a:lnTo>
                      <a:lnTo>
                        <a:pt x="533" y="641"/>
                      </a:lnTo>
                      <a:lnTo>
                        <a:pt x="542" y="643"/>
                      </a:lnTo>
                      <a:lnTo>
                        <a:pt x="553" y="650"/>
                      </a:lnTo>
                      <a:lnTo>
                        <a:pt x="558" y="660"/>
                      </a:lnTo>
                      <a:lnTo>
                        <a:pt x="553" y="664"/>
                      </a:lnTo>
                      <a:lnTo>
                        <a:pt x="541" y="677"/>
                      </a:lnTo>
                      <a:lnTo>
                        <a:pt x="528" y="683"/>
                      </a:lnTo>
                      <a:lnTo>
                        <a:pt x="516" y="70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7862760" y="4124160"/>
                  <a:ext cx="568440" cy="636840"/>
                  <a:chOff x="7862760" y="4124160"/>
                  <a:chExt cx="568440" cy="63684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7975800" y="4630680"/>
                    <a:ext cx="396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3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2" y="27"/>
                        </a:lnTo>
                        <a:lnTo>
                          <a:pt x="9" y="27"/>
                        </a:lnTo>
                        <a:lnTo>
                          <a:pt x="24" y="32"/>
                        </a:lnTo>
                        <a:lnTo>
                          <a:pt x="19" y="19"/>
                        </a:lnTo>
                        <a:lnTo>
                          <a:pt x="21" y="13"/>
                        </a:lnTo>
                        <a:lnTo>
                          <a:pt x="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977240" y="4570200"/>
                    <a:ext cx="1033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0">
                        <a:moveTo>
                          <a:pt x="3" y="0"/>
                        </a:moveTo>
                        <a:lnTo>
                          <a:pt x="23" y="11"/>
                        </a:lnTo>
                        <a:lnTo>
                          <a:pt x="30" y="11"/>
                        </a:lnTo>
                        <a:lnTo>
                          <a:pt x="31" y="23"/>
                        </a:lnTo>
                        <a:lnTo>
                          <a:pt x="38" y="30"/>
                        </a:lnTo>
                        <a:lnTo>
                          <a:pt x="45" y="38"/>
                        </a:lnTo>
                        <a:lnTo>
                          <a:pt x="53" y="36"/>
                        </a:lnTo>
                        <a:lnTo>
                          <a:pt x="63" y="45"/>
                        </a:lnTo>
                        <a:lnTo>
                          <a:pt x="61" y="53"/>
                        </a:lnTo>
                        <a:lnTo>
                          <a:pt x="64" y="59"/>
                        </a:lnTo>
                        <a:lnTo>
                          <a:pt x="53" y="69"/>
                        </a:lnTo>
                        <a:lnTo>
                          <a:pt x="45" y="78"/>
                        </a:lnTo>
                        <a:lnTo>
                          <a:pt x="38" y="79"/>
                        </a:lnTo>
                        <a:lnTo>
                          <a:pt x="37" y="72"/>
                        </a:lnTo>
                        <a:lnTo>
                          <a:pt x="39" y="65"/>
                        </a:lnTo>
                        <a:lnTo>
                          <a:pt x="37" y="57"/>
                        </a:lnTo>
                        <a:lnTo>
                          <a:pt x="36" y="42"/>
                        </a:lnTo>
                        <a:lnTo>
                          <a:pt x="26" y="34"/>
                        </a:lnTo>
                        <a:lnTo>
                          <a:pt x="15" y="34"/>
                        </a:lnTo>
                        <a:lnTo>
                          <a:pt x="14" y="28"/>
                        </a:lnTo>
                        <a:lnTo>
                          <a:pt x="9" y="23"/>
                        </a:lnTo>
                        <a:lnTo>
                          <a:pt x="0" y="17"/>
                        </a:lnTo>
                        <a:lnTo>
                          <a:pt x="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8231040" y="4724280"/>
                    <a:ext cx="32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0" y="0"/>
                        </a:moveTo>
                        <a:lnTo>
                          <a:pt x="4" y="20"/>
                        </a:lnTo>
                        <a:lnTo>
                          <a:pt x="19" y="22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8304120" y="4730760"/>
                    <a:ext cx="38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0" y="15"/>
                        </a:moveTo>
                        <a:lnTo>
                          <a:pt x="12" y="0"/>
                        </a:lnTo>
                        <a:lnTo>
                          <a:pt x="23" y="4"/>
                        </a:lnTo>
                        <a:lnTo>
                          <a:pt x="15" y="18"/>
                        </a:lnTo>
                        <a:lnTo>
                          <a:pt x="0" y="1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8388360" y="4678200"/>
                    <a:ext cx="42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0" y="16"/>
                        </a:moveTo>
                        <a:lnTo>
                          <a:pt x="26" y="23"/>
                        </a:lnTo>
                        <a:lnTo>
                          <a:pt x="12" y="0"/>
                        </a:lnTo>
                        <a:lnTo>
                          <a:pt x="0" y="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862760" y="4124160"/>
                    <a:ext cx="125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7">
                        <a:moveTo>
                          <a:pt x="0" y="22"/>
                        </a:moveTo>
                        <a:lnTo>
                          <a:pt x="36" y="25"/>
                        </a:lnTo>
                        <a:lnTo>
                          <a:pt x="47" y="33"/>
                        </a:lnTo>
                        <a:lnTo>
                          <a:pt x="58" y="36"/>
                        </a:lnTo>
                        <a:lnTo>
                          <a:pt x="78" y="28"/>
                        </a:lnTo>
                        <a:lnTo>
                          <a:pt x="67" y="17"/>
                        </a:lnTo>
                        <a:lnTo>
                          <a:pt x="50" y="17"/>
                        </a:lnTo>
                        <a:lnTo>
                          <a:pt x="45" y="0"/>
                        </a:lnTo>
                        <a:lnTo>
                          <a:pt x="31" y="3"/>
                        </a:lnTo>
                        <a:lnTo>
                          <a:pt x="0" y="2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>
                  <a:off x="8410680" y="4270320"/>
                  <a:ext cx="195120" cy="136440"/>
                </a:xfrm>
                <a:custGeom>
                  <a:avLst/>
                  <a:gdLst/>
                  <a:ahLst/>
                  <a:rect l="l" t="t" r="r" b="b"/>
                  <a:pathLst>
                    <a:path w="123" h="86">
                      <a:moveTo>
                        <a:pt x="118" y="52"/>
                      </a:moveTo>
                      <a:lnTo>
                        <a:pt x="122" y="76"/>
                      </a:lnTo>
                      <a:lnTo>
                        <a:pt x="108" y="82"/>
                      </a:lnTo>
                      <a:lnTo>
                        <a:pt x="93" y="85"/>
                      </a:lnTo>
                      <a:lnTo>
                        <a:pt x="81" y="77"/>
                      </a:lnTo>
                      <a:lnTo>
                        <a:pt x="73" y="66"/>
                      </a:lnTo>
                      <a:lnTo>
                        <a:pt x="67" y="59"/>
                      </a:lnTo>
                      <a:lnTo>
                        <a:pt x="50" y="62"/>
                      </a:lnTo>
                      <a:lnTo>
                        <a:pt x="34" y="63"/>
                      </a:lnTo>
                      <a:lnTo>
                        <a:pt x="23" y="59"/>
                      </a:lnTo>
                      <a:lnTo>
                        <a:pt x="17" y="49"/>
                      </a:lnTo>
                      <a:lnTo>
                        <a:pt x="0" y="48"/>
                      </a:lnTo>
                      <a:lnTo>
                        <a:pt x="1" y="38"/>
                      </a:lnTo>
                      <a:lnTo>
                        <a:pt x="4" y="30"/>
                      </a:lnTo>
                      <a:lnTo>
                        <a:pt x="1" y="21"/>
                      </a:lnTo>
                      <a:lnTo>
                        <a:pt x="3" y="13"/>
                      </a:lnTo>
                      <a:lnTo>
                        <a:pt x="5" y="7"/>
                      </a:lnTo>
                      <a:lnTo>
                        <a:pt x="17" y="0"/>
                      </a:lnTo>
                      <a:lnTo>
                        <a:pt x="28" y="2"/>
                      </a:lnTo>
                      <a:lnTo>
                        <a:pt x="28" y="13"/>
                      </a:lnTo>
                      <a:lnTo>
                        <a:pt x="28" y="21"/>
                      </a:lnTo>
                      <a:lnTo>
                        <a:pt x="32" y="25"/>
                      </a:lnTo>
                      <a:lnTo>
                        <a:pt x="40" y="27"/>
                      </a:lnTo>
                      <a:lnTo>
                        <a:pt x="45" y="29"/>
                      </a:lnTo>
                      <a:lnTo>
                        <a:pt x="52" y="26"/>
                      </a:lnTo>
                      <a:lnTo>
                        <a:pt x="58" y="26"/>
                      </a:lnTo>
                      <a:lnTo>
                        <a:pt x="63" y="19"/>
                      </a:lnTo>
                      <a:lnTo>
                        <a:pt x="70" y="21"/>
                      </a:lnTo>
                      <a:lnTo>
                        <a:pt x="75" y="29"/>
                      </a:lnTo>
                      <a:lnTo>
                        <a:pt x="74" y="35"/>
                      </a:lnTo>
                      <a:lnTo>
                        <a:pt x="86" y="35"/>
                      </a:lnTo>
                      <a:lnTo>
                        <a:pt x="99" y="32"/>
                      </a:lnTo>
                      <a:lnTo>
                        <a:pt x="105" y="37"/>
                      </a:lnTo>
                      <a:lnTo>
                        <a:pt x="118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4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FORMAÇÃO DAS EMPRESA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HORIZONTAL (MENOS HIERÁRQUICA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SCENTRALIZAD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LEXÍVE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DEPENDENTE DE LOCALIZ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AIXO CUSTO DE TRANS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RABALHO                     COLABORATIV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6432480" y="4106880"/>
            <a:ext cx="2711520" cy="2751120"/>
            <a:chOff x="6432480" y="4106880"/>
            <a:chExt cx="2711520" cy="2751120"/>
          </a:xfrm>
        </p:grpSpPr>
        <p:sp>
          <p:nvSpPr>
            <p:cNvPr id="391" name=""/>
            <p:cNvSpPr/>
            <p:nvPr/>
          </p:nvSpPr>
          <p:spPr>
            <a:xfrm>
              <a:off x="6432480" y="4109760"/>
              <a:ext cx="2711520" cy="27482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6918480" y="4106880"/>
              <a:ext cx="2219040" cy="2689200"/>
              <a:chOff x="6918480" y="4106880"/>
              <a:chExt cx="2219040" cy="2689200"/>
            </a:xfrm>
          </p:grpSpPr>
          <p:grpSp>
            <p:nvGrpSpPr>
              <p:cNvPr id="393" name=""/>
              <p:cNvGrpSpPr/>
              <p:nvPr/>
            </p:nvGrpSpPr>
            <p:grpSpPr>
              <a:xfrm>
                <a:off x="6918480" y="4343400"/>
                <a:ext cx="1049040" cy="2452680"/>
                <a:chOff x="6918480" y="4343400"/>
                <a:chExt cx="1049040" cy="2452680"/>
              </a:xfrm>
            </p:grpSpPr>
            <p:grpSp>
              <p:nvGrpSpPr>
                <p:cNvPr id="394" name=""/>
                <p:cNvGrpSpPr/>
                <p:nvPr/>
              </p:nvGrpSpPr>
              <p:grpSpPr>
                <a:xfrm>
                  <a:off x="7221600" y="5748120"/>
                  <a:ext cx="744480" cy="1047960"/>
                  <a:chOff x="7221600" y="5748120"/>
                  <a:chExt cx="744480" cy="10479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7221600" y="5748120"/>
                    <a:ext cx="744480" cy="10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638">
                        <a:moveTo>
                          <a:pt x="56" y="18"/>
                        </a:moveTo>
                        <a:lnTo>
                          <a:pt x="83" y="0"/>
                        </a:lnTo>
                        <a:lnTo>
                          <a:pt x="106" y="0"/>
                        </a:lnTo>
                        <a:lnTo>
                          <a:pt x="113" y="1"/>
                        </a:lnTo>
                        <a:lnTo>
                          <a:pt x="113" y="7"/>
                        </a:lnTo>
                        <a:lnTo>
                          <a:pt x="113" y="15"/>
                        </a:lnTo>
                        <a:lnTo>
                          <a:pt x="118" y="18"/>
                        </a:lnTo>
                        <a:lnTo>
                          <a:pt x="122" y="10"/>
                        </a:lnTo>
                        <a:lnTo>
                          <a:pt x="125" y="1"/>
                        </a:lnTo>
                        <a:lnTo>
                          <a:pt x="130" y="1"/>
                        </a:lnTo>
                        <a:lnTo>
                          <a:pt x="133" y="7"/>
                        </a:lnTo>
                        <a:lnTo>
                          <a:pt x="141" y="13"/>
                        </a:lnTo>
                        <a:lnTo>
                          <a:pt x="149" y="18"/>
                        </a:lnTo>
                        <a:lnTo>
                          <a:pt x="171" y="18"/>
                        </a:lnTo>
                        <a:lnTo>
                          <a:pt x="182" y="20"/>
                        </a:lnTo>
                        <a:lnTo>
                          <a:pt x="187" y="21"/>
                        </a:lnTo>
                        <a:lnTo>
                          <a:pt x="193" y="21"/>
                        </a:lnTo>
                        <a:lnTo>
                          <a:pt x="201" y="26"/>
                        </a:lnTo>
                        <a:lnTo>
                          <a:pt x="205" y="32"/>
                        </a:lnTo>
                        <a:lnTo>
                          <a:pt x="205" y="38"/>
                        </a:lnTo>
                        <a:lnTo>
                          <a:pt x="220" y="43"/>
                        </a:lnTo>
                        <a:lnTo>
                          <a:pt x="229" y="55"/>
                        </a:lnTo>
                        <a:lnTo>
                          <a:pt x="242" y="66"/>
                        </a:lnTo>
                        <a:lnTo>
                          <a:pt x="251" y="71"/>
                        </a:lnTo>
                        <a:lnTo>
                          <a:pt x="256" y="71"/>
                        </a:lnTo>
                        <a:lnTo>
                          <a:pt x="270" y="71"/>
                        </a:lnTo>
                        <a:lnTo>
                          <a:pt x="279" y="76"/>
                        </a:lnTo>
                        <a:lnTo>
                          <a:pt x="289" y="87"/>
                        </a:lnTo>
                        <a:lnTo>
                          <a:pt x="303" y="95"/>
                        </a:lnTo>
                        <a:lnTo>
                          <a:pt x="311" y="104"/>
                        </a:lnTo>
                        <a:lnTo>
                          <a:pt x="315" y="118"/>
                        </a:lnTo>
                        <a:lnTo>
                          <a:pt x="309" y="123"/>
                        </a:lnTo>
                        <a:lnTo>
                          <a:pt x="303" y="136"/>
                        </a:lnTo>
                        <a:lnTo>
                          <a:pt x="311" y="145"/>
                        </a:lnTo>
                        <a:lnTo>
                          <a:pt x="316" y="147"/>
                        </a:lnTo>
                        <a:lnTo>
                          <a:pt x="326" y="140"/>
                        </a:lnTo>
                        <a:lnTo>
                          <a:pt x="339" y="136"/>
                        </a:lnTo>
                        <a:lnTo>
                          <a:pt x="350" y="140"/>
                        </a:lnTo>
                        <a:lnTo>
                          <a:pt x="360" y="140"/>
                        </a:lnTo>
                        <a:lnTo>
                          <a:pt x="373" y="146"/>
                        </a:lnTo>
                        <a:lnTo>
                          <a:pt x="386" y="153"/>
                        </a:lnTo>
                        <a:lnTo>
                          <a:pt x="400" y="153"/>
                        </a:lnTo>
                        <a:lnTo>
                          <a:pt x="416" y="154"/>
                        </a:lnTo>
                        <a:lnTo>
                          <a:pt x="432" y="166"/>
                        </a:lnTo>
                        <a:lnTo>
                          <a:pt x="449" y="170"/>
                        </a:lnTo>
                        <a:lnTo>
                          <a:pt x="461" y="175"/>
                        </a:lnTo>
                        <a:lnTo>
                          <a:pt x="468" y="186"/>
                        </a:lnTo>
                        <a:lnTo>
                          <a:pt x="466" y="200"/>
                        </a:lnTo>
                        <a:lnTo>
                          <a:pt x="457" y="213"/>
                        </a:lnTo>
                        <a:lnTo>
                          <a:pt x="449" y="224"/>
                        </a:lnTo>
                        <a:lnTo>
                          <a:pt x="438" y="236"/>
                        </a:lnTo>
                        <a:lnTo>
                          <a:pt x="434" y="250"/>
                        </a:lnTo>
                        <a:lnTo>
                          <a:pt x="422" y="260"/>
                        </a:lnTo>
                        <a:lnTo>
                          <a:pt x="430" y="275"/>
                        </a:lnTo>
                        <a:lnTo>
                          <a:pt x="429" y="294"/>
                        </a:lnTo>
                        <a:lnTo>
                          <a:pt x="421" y="308"/>
                        </a:lnTo>
                        <a:lnTo>
                          <a:pt x="421" y="322"/>
                        </a:lnTo>
                        <a:lnTo>
                          <a:pt x="414" y="336"/>
                        </a:lnTo>
                        <a:lnTo>
                          <a:pt x="404" y="341"/>
                        </a:lnTo>
                        <a:lnTo>
                          <a:pt x="393" y="347"/>
                        </a:lnTo>
                        <a:lnTo>
                          <a:pt x="380" y="346"/>
                        </a:lnTo>
                        <a:lnTo>
                          <a:pt x="360" y="350"/>
                        </a:lnTo>
                        <a:lnTo>
                          <a:pt x="344" y="363"/>
                        </a:lnTo>
                        <a:lnTo>
                          <a:pt x="335" y="374"/>
                        </a:lnTo>
                        <a:lnTo>
                          <a:pt x="331" y="380"/>
                        </a:lnTo>
                        <a:lnTo>
                          <a:pt x="339" y="387"/>
                        </a:lnTo>
                        <a:lnTo>
                          <a:pt x="339" y="398"/>
                        </a:lnTo>
                        <a:lnTo>
                          <a:pt x="317" y="416"/>
                        </a:lnTo>
                        <a:lnTo>
                          <a:pt x="304" y="442"/>
                        </a:lnTo>
                        <a:lnTo>
                          <a:pt x="286" y="456"/>
                        </a:lnTo>
                        <a:lnTo>
                          <a:pt x="270" y="457"/>
                        </a:lnTo>
                        <a:lnTo>
                          <a:pt x="251" y="443"/>
                        </a:lnTo>
                        <a:lnTo>
                          <a:pt x="251" y="463"/>
                        </a:lnTo>
                        <a:lnTo>
                          <a:pt x="259" y="472"/>
                        </a:lnTo>
                        <a:lnTo>
                          <a:pt x="257" y="489"/>
                        </a:lnTo>
                        <a:lnTo>
                          <a:pt x="231" y="504"/>
                        </a:lnTo>
                        <a:lnTo>
                          <a:pt x="220" y="501"/>
                        </a:lnTo>
                        <a:lnTo>
                          <a:pt x="207" y="524"/>
                        </a:lnTo>
                        <a:lnTo>
                          <a:pt x="195" y="527"/>
                        </a:lnTo>
                        <a:lnTo>
                          <a:pt x="190" y="536"/>
                        </a:lnTo>
                        <a:lnTo>
                          <a:pt x="195" y="546"/>
                        </a:lnTo>
                        <a:lnTo>
                          <a:pt x="184" y="562"/>
                        </a:lnTo>
                        <a:lnTo>
                          <a:pt x="194" y="585"/>
                        </a:lnTo>
                        <a:lnTo>
                          <a:pt x="183" y="601"/>
                        </a:lnTo>
                        <a:lnTo>
                          <a:pt x="175" y="618"/>
                        </a:lnTo>
                        <a:lnTo>
                          <a:pt x="184" y="630"/>
                        </a:lnTo>
                        <a:lnTo>
                          <a:pt x="165" y="630"/>
                        </a:lnTo>
                        <a:lnTo>
                          <a:pt x="148" y="637"/>
                        </a:lnTo>
                        <a:lnTo>
                          <a:pt x="129" y="607"/>
                        </a:lnTo>
                        <a:lnTo>
                          <a:pt x="124" y="583"/>
                        </a:lnTo>
                        <a:lnTo>
                          <a:pt x="124" y="530"/>
                        </a:lnTo>
                        <a:lnTo>
                          <a:pt x="106" y="508"/>
                        </a:lnTo>
                        <a:lnTo>
                          <a:pt x="108" y="475"/>
                        </a:lnTo>
                        <a:lnTo>
                          <a:pt x="117" y="453"/>
                        </a:lnTo>
                        <a:lnTo>
                          <a:pt x="112" y="430"/>
                        </a:lnTo>
                        <a:lnTo>
                          <a:pt x="111" y="405"/>
                        </a:lnTo>
                        <a:lnTo>
                          <a:pt x="113" y="341"/>
                        </a:lnTo>
                        <a:lnTo>
                          <a:pt x="119" y="313"/>
                        </a:lnTo>
                        <a:lnTo>
                          <a:pt x="107" y="295"/>
                        </a:lnTo>
                        <a:lnTo>
                          <a:pt x="95" y="283"/>
                        </a:lnTo>
                        <a:lnTo>
                          <a:pt x="85" y="276"/>
                        </a:lnTo>
                        <a:lnTo>
                          <a:pt x="83" y="267"/>
                        </a:lnTo>
                        <a:lnTo>
                          <a:pt x="75" y="268"/>
                        </a:lnTo>
                        <a:lnTo>
                          <a:pt x="64" y="271"/>
                        </a:lnTo>
                        <a:lnTo>
                          <a:pt x="60" y="265"/>
                        </a:lnTo>
                        <a:lnTo>
                          <a:pt x="53" y="258"/>
                        </a:lnTo>
                        <a:lnTo>
                          <a:pt x="48" y="246"/>
                        </a:lnTo>
                        <a:lnTo>
                          <a:pt x="49" y="241"/>
                        </a:lnTo>
                        <a:lnTo>
                          <a:pt x="45" y="227"/>
                        </a:lnTo>
                        <a:lnTo>
                          <a:pt x="38" y="215"/>
                        </a:lnTo>
                        <a:lnTo>
                          <a:pt x="36" y="213"/>
                        </a:lnTo>
                        <a:lnTo>
                          <a:pt x="36" y="207"/>
                        </a:lnTo>
                        <a:lnTo>
                          <a:pt x="33" y="203"/>
                        </a:lnTo>
                        <a:lnTo>
                          <a:pt x="25" y="189"/>
                        </a:lnTo>
                        <a:lnTo>
                          <a:pt x="23" y="184"/>
                        </a:lnTo>
                        <a:lnTo>
                          <a:pt x="14" y="177"/>
                        </a:lnTo>
                        <a:lnTo>
                          <a:pt x="12" y="164"/>
                        </a:lnTo>
                        <a:lnTo>
                          <a:pt x="7" y="155"/>
                        </a:lnTo>
                        <a:lnTo>
                          <a:pt x="0" y="146"/>
                        </a:lnTo>
                        <a:lnTo>
                          <a:pt x="12" y="136"/>
                        </a:lnTo>
                        <a:lnTo>
                          <a:pt x="22" y="131"/>
                        </a:lnTo>
                        <a:lnTo>
                          <a:pt x="12" y="125"/>
                        </a:lnTo>
                        <a:lnTo>
                          <a:pt x="8" y="112"/>
                        </a:lnTo>
                        <a:lnTo>
                          <a:pt x="11" y="103"/>
                        </a:lnTo>
                        <a:lnTo>
                          <a:pt x="22" y="93"/>
                        </a:lnTo>
                        <a:lnTo>
                          <a:pt x="34" y="88"/>
                        </a:lnTo>
                        <a:lnTo>
                          <a:pt x="44" y="73"/>
                        </a:lnTo>
                        <a:lnTo>
                          <a:pt x="49" y="65"/>
                        </a:lnTo>
                        <a:lnTo>
                          <a:pt x="48" y="54"/>
                        </a:lnTo>
                        <a:lnTo>
                          <a:pt x="48" y="43"/>
                        </a:lnTo>
                        <a:lnTo>
                          <a:pt x="56" y="1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7483320" y="6764040"/>
                    <a:ext cx="842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7" y="0"/>
                        </a:moveTo>
                        <a:lnTo>
                          <a:pt x="0" y="11"/>
                        </a:lnTo>
                        <a:lnTo>
                          <a:pt x="11" y="19"/>
                        </a:lnTo>
                        <a:lnTo>
                          <a:pt x="33" y="18"/>
                        </a:lnTo>
                        <a:lnTo>
                          <a:pt x="52" y="19"/>
                        </a:lnTo>
                        <a:lnTo>
                          <a:pt x="34" y="8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7" name=""/>
                <p:cNvGrpSpPr/>
                <p:nvPr/>
              </p:nvGrpSpPr>
              <p:grpSpPr>
                <a:xfrm>
                  <a:off x="6918480" y="4443120"/>
                  <a:ext cx="1049040" cy="1371600"/>
                  <a:chOff x="6918480" y="4443120"/>
                  <a:chExt cx="1049040" cy="13716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7493040" y="490536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0" y="17"/>
                        </a:moveTo>
                        <a:lnTo>
                          <a:pt x="18" y="23"/>
                        </a:lnTo>
                        <a:lnTo>
                          <a:pt x="17" y="15"/>
                        </a:lnTo>
                        <a:lnTo>
                          <a:pt x="18" y="4"/>
                        </a:lnTo>
                        <a:lnTo>
                          <a:pt x="9" y="0"/>
                        </a:lnTo>
                        <a:lnTo>
                          <a:pt x="6" y="9"/>
                        </a:lnTo>
                        <a:lnTo>
                          <a:pt x="0" y="1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6918480" y="4443120"/>
                    <a:ext cx="1049040" cy="1371600"/>
                    <a:chOff x="6918480" y="4443120"/>
                    <a:chExt cx="1049040" cy="13716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6918480" y="4443120"/>
                      <a:ext cx="753840" cy="137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864">
                          <a:moveTo>
                            <a:pt x="245" y="843"/>
                          </a:moveTo>
                          <a:lnTo>
                            <a:pt x="225" y="825"/>
                          </a:lnTo>
                          <a:lnTo>
                            <a:pt x="208" y="827"/>
                          </a:lnTo>
                          <a:lnTo>
                            <a:pt x="191" y="812"/>
                          </a:lnTo>
                          <a:lnTo>
                            <a:pt x="188" y="793"/>
                          </a:lnTo>
                          <a:lnTo>
                            <a:pt x="197" y="785"/>
                          </a:lnTo>
                          <a:lnTo>
                            <a:pt x="197" y="780"/>
                          </a:lnTo>
                          <a:lnTo>
                            <a:pt x="203" y="770"/>
                          </a:lnTo>
                          <a:lnTo>
                            <a:pt x="194" y="748"/>
                          </a:lnTo>
                          <a:lnTo>
                            <a:pt x="181" y="747"/>
                          </a:lnTo>
                          <a:lnTo>
                            <a:pt x="163" y="733"/>
                          </a:lnTo>
                          <a:lnTo>
                            <a:pt x="164" y="724"/>
                          </a:lnTo>
                          <a:lnTo>
                            <a:pt x="180" y="698"/>
                          </a:lnTo>
                          <a:lnTo>
                            <a:pt x="175" y="693"/>
                          </a:lnTo>
                          <a:lnTo>
                            <a:pt x="156" y="684"/>
                          </a:lnTo>
                          <a:lnTo>
                            <a:pt x="145" y="693"/>
                          </a:lnTo>
                          <a:lnTo>
                            <a:pt x="140" y="701"/>
                          </a:lnTo>
                          <a:lnTo>
                            <a:pt x="122" y="698"/>
                          </a:lnTo>
                          <a:lnTo>
                            <a:pt x="108" y="692"/>
                          </a:lnTo>
                          <a:lnTo>
                            <a:pt x="95" y="666"/>
                          </a:lnTo>
                          <a:lnTo>
                            <a:pt x="102" y="646"/>
                          </a:lnTo>
                          <a:lnTo>
                            <a:pt x="106" y="630"/>
                          </a:lnTo>
                          <a:lnTo>
                            <a:pt x="110" y="621"/>
                          </a:lnTo>
                          <a:lnTo>
                            <a:pt x="120" y="613"/>
                          </a:lnTo>
                          <a:lnTo>
                            <a:pt x="126" y="604"/>
                          </a:lnTo>
                          <a:lnTo>
                            <a:pt x="140" y="594"/>
                          </a:lnTo>
                          <a:lnTo>
                            <a:pt x="153" y="588"/>
                          </a:lnTo>
                          <a:lnTo>
                            <a:pt x="164" y="597"/>
                          </a:lnTo>
                          <a:lnTo>
                            <a:pt x="175" y="599"/>
                          </a:lnTo>
                          <a:lnTo>
                            <a:pt x="182" y="610"/>
                          </a:lnTo>
                          <a:lnTo>
                            <a:pt x="192" y="608"/>
                          </a:lnTo>
                          <a:lnTo>
                            <a:pt x="205" y="604"/>
                          </a:lnTo>
                          <a:lnTo>
                            <a:pt x="216" y="610"/>
                          </a:lnTo>
                          <a:lnTo>
                            <a:pt x="236" y="630"/>
                          </a:lnTo>
                          <a:lnTo>
                            <a:pt x="229" y="645"/>
                          </a:lnTo>
                          <a:lnTo>
                            <a:pt x="236" y="654"/>
                          </a:lnTo>
                          <a:lnTo>
                            <a:pt x="236" y="660"/>
                          </a:lnTo>
                          <a:lnTo>
                            <a:pt x="244" y="667"/>
                          </a:lnTo>
                          <a:lnTo>
                            <a:pt x="252" y="675"/>
                          </a:lnTo>
                          <a:lnTo>
                            <a:pt x="255" y="671"/>
                          </a:lnTo>
                          <a:lnTo>
                            <a:pt x="255" y="657"/>
                          </a:lnTo>
                          <a:lnTo>
                            <a:pt x="255" y="637"/>
                          </a:lnTo>
                          <a:lnTo>
                            <a:pt x="255" y="619"/>
                          </a:lnTo>
                          <a:lnTo>
                            <a:pt x="252" y="613"/>
                          </a:lnTo>
                          <a:lnTo>
                            <a:pt x="260" y="602"/>
                          </a:lnTo>
                          <a:lnTo>
                            <a:pt x="274" y="599"/>
                          </a:lnTo>
                          <a:lnTo>
                            <a:pt x="280" y="593"/>
                          </a:lnTo>
                          <a:lnTo>
                            <a:pt x="290" y="596"/>
                          </a:lnTo>
                          <a:lnTo>
                            <a:pt x="299" y="587"/>
                          </a:lnTo>
                          <a:lnTo>
                            <a:pt x="312" y="576"/>
                          </a:lnTo>
                          <a:lnTo>
                            <a:pt x="321" y="572"/>
                          </a:lnTo>
                          <a:lnTo>
                            <a:pt x="317" y="563"/>
                          </a:lnTo>
                          <a:lnTo>
                            <a:pt x="328" y="549"/>
                          </a:lnTo>
                          <a:lnTo>
                            <a:pt x="338" y="539"/>
                          </a:lnTo>
                          <a:lnTo>
                            <a:pt x="346" y="534"/>
                          </a:lnTo>
                          <a:lnTo>
                            <a:pt x="366" y="536"/>
                          </a:lnTo>
                          <a:lnTo>
                            <a:pt x="362" y="522"/>
                          </a:lnTo>
                          <a:lnTo>
                            <a:pt x="381" y="511"/>
                          </a:lnTo>
                          <a:lnTo>
                            <a:pt x="397" y="505"/>
                          </a:lnTo>
                          <a:lnTo>
                            <a:pt x="412" y="503"/>
                          </a:lnTo>
                          <a:lnTo>
                            <a:pt x="407" y="517"/>
                          </a:lnTo>
                          <a:lnTo>
                            <a:pt x="422" y="501"/>
                          </a:lnTo>
                          <a:lnTo>
                            <a:pt x="414" y="492"/>
                          </a:lnTo>
                          <a:lnTo>
                            <a:pt x="413" y="471"/>
                          </a:lnTo>
                          <a:lnTo>
                            <a:pt x="397" y="471"/>
                          </a:lnTo>
                          <a:lnTo>
                            <a:pt x="401" y="460"/>
                          </a:lnTo>
                          <a:lnTo>
                            <a:pt x="448" y="461"/>
                          </a:lnTo>
                          <a:lnTo>
                            <a:pt x="474" y="445"/>
                          </a:lnTo>
                          <a:lnTo>
                            <a:pt x="472" y="434"/>
                          </a:lnTo>
                          <a:lnTo>
                            <a:pt x="459" y="422"/>
                          </a:lnTo>
                          <a:lnTo>
                            <a:pt x="460" y="403"/>
                          </a:lnTo>
                          <a:lnTo>
                            <a:pt x="451" y="399"/>
                          </a:lnTo>
                          <a:lnTo>
                            <a:pt x="447" y="385"/>
                          </a:lnTo>
                          <a:lnTo>
                            <a:pt x="442" y="378"/>
                          </a:lnTo>
                          <a:lnTo>
                            <a:pt x="432" y="381"/>
                          </a:lnTo>
                          <a:lnTo>
                            <a:pt x="414" y="366"/>
                          </a:lnTo>
                          <a:lnTo>
                            <a:pt x="409" y="350"/>
                          </a:lnTo>
                          <a:lnTo>
                            <a:pt x="392" y="330"/>
                          </a:lnTo>
                          <a:lnTo>
                            <a:pt x="367" y="355"/>
                          </a:lnTo>
                          <a:lnTo>
                            <a:pt x="367" y="384"/>
                          </a:lnTo>
                          <a:lnTo>
                            <a:pt x="362" y="393"/>
                          </a:lnTo>
                          <a:lnTo>
                            <a:pt x="351" y="393"/>
                          </a:lnTo>
                          <a:lnTo>
                            <a:pt x="345" y="399"/>
                          </a:lnTo>
                          <a:lnTo>
                            <a:pt x="343" y="414"/>
                          </a:lnTo>
                          <a:lnTo>
                            <a:pt x="334" y="431"/>
                          </a:lnTo>
                          <a:lnTo>
                            <a:pt x="324" y="414"/>
                          </a:lnTo>
                          <a:lnTo>
                            <a:pt x="332" y="393"/>
                          </a:lnTo>
                          <a:lnTo>
                            <a:pt x="329" y="378"/>
                          </a:lnTo>
                          <a:lnTo>
                            <a:pt x="319" y="373"/>
                          </a:lnTo>
                          <a:lnTo>
                            <a:pt x="298" y="340"/>
                          </a:lnTo>
                          <a:lnTo>
                            <a:pt x="300" y="329"/>
                          </a:lnTo>
                          <a:lnTo>
                            <a:pt x="324" y="297"/>
                          </a:lnTo>
                          <a:lnTo>
                            <a:pt x="342" y="297"/>
                          </a:lnTo>
                          <a:lnTo>
                            <a:pt x="357" y="296"/>
                          </a:lnTo>
                          <a:lnTo>
                            <a:pt x="364" y="282"/>
                          </a:lnTo>
                          <a:lnTo>
                            <a:pt x="383" y="286"/>
                          </a:lnTo>
                          <a:lnTo>
                            <a:pt x="389" y="277"/>
                          </a:lnTo>
                          <a:lnTo>
                            <a:pt x="407" y="278"/>
                          </a:lnTo>
                          <a:lnTo>
                            <a:pt x="397" y="266"/>
                          </a:lnTo>
                          <a:lnTo>
                            <a:pt x="395" y="248"/>
                          </a:lnTo>
                          <a:lnTo>
                            <a:pt x="381" y="267"/>
                          </a:lnTo>
                          <a:lnTo>
                            <a:pt x="370" y="261"/>
                          </a:lnTo>
                          <a:lnTo>
                            <a:pt x="384" y="240"/>
                          </a:lnTo>
                          <a:lnTo>
                            <a:pt x="383" y="219"/>
                          </a:lnTo>
                          <a:lnTo>
                            <a:pt x="369" y="234"/>
                          </a:lnTo>
                          <a:lnTo>
                            <a:pt x="356" y="248"/>
                          </a:lnTo>
                          <a:lnTo>
                            <a:pt x="312" y="213"/>
                          </a:lnTo>
                          <a:lnTo>
                            <a:pt x="315" y="149"/>
                          </a:lnTo>
                          <a:lnTo>
                            <a:pt x="295" y="130"/>
                          </a:lnTo>
                          <a:lnTo>
                            <a:pt x="293" y="105"/>
                          </a:lnTo>
                          <a:lnTo>
                            <a:pt x="305" y="75"/>
                          </a:lnTo>
                          <a:lnTo>
                            <a:pt x="310" y="41"/>
                          </a:lnTo>
                          <a:lnTo>
                            <a:pt x="293" y="23"/>
                          </a:lnTo>
                          <a:lnTo>
                            <a:pt x="275" y="21"/>
                          </a:lnTo>
                          <a:lnTo>
                            <a:pt x="265" y="15"/>
                          </a:lnTo>
                          <a:lnTo>
                            <a:pt x="263" y="0"/>
                          </a:lnTo>
                          <a:lnTo>
                            <a:pt x="247" y="23"/>
                          </a:lnTo>
                          <a:lnTo>
                            <a:pt x="231" y="25"/>
                          </a:lnTo>
                          <a:lnTo>
                            <a:pt x="225" y="6"/>
                          </a:lnTo>
                          <a:lnTo>
                            <a:pt x="213" y="12"/>
                          </a:lnTo>
                          <a:lnTo>
                            <a:pt x="200" y="13"/>
                          </a:lnTo>
                          <a:lnTo>
                            <a:pt x="165" y="50"/>
                          </a:lnTo>
                          <a:lnTo>
                            <a:pt x="153" y="45"/>
                          </a:lnTo>
                          <a:lnTo>
                            <a:pt x="137" y="18"/>
                          </a:lnTo>
                          <a:lnTo>
                            <a:pt x="139" y="41"/>
                          </a:lnTo>
                          <a:lnTo>
                            <a:pt x="150" y="59"/>
                          </a:lnTo>
                          <a:lnTo>
                            <a:pt x="169" y="73"/>
                          </a:lnTo>
                          <a:lnTo>
                            <a:pt x="181" y="75"/>
                          </a:lnTo>
                          <a:lnTo>
                            <a:pt x="182" y="91"/>
                          </a:lnTo>
                          <a:lnTo>
                            <a:pt x="190" y="103"/>
                          </a:lnTo>
                          <a:lnTo>
                            <a:pt x="185" y="114"/>
                          </a:lnTo>
                          <a:lnTo>
                            <a:pt x="186" y="137"/>
                          </a:lnTo>
                          <a:lnTo>
                            <a:pt x="175" y="170"/>
                          </a:lnTo>
                          <a:lnTo>
                            <a:pt x="149" y="216"/>
                          </a:lnTo>
                          <a:lnTo>
                            <a:pt x="138" y="218"/>
                          </a:lnTo>
                          <a:lnTo>
                            <a:pt x="118" y="263"/>
                          </a:lnTo>
                          <a:lnTo>
                            <a:pt x="111" y="288"/>
                          </a:lnTo>
                          <a:lnTo>
                            <a:pt x="98" y="284"/>
                          </a:lnTo>
                          <a:lnTo>
                            <a:pt x="98" y="293"/>
                          </a:lnTo>
                          <a:lnTo>
                            <a:pt x="82" y="309"/>
                          </a:lnTo>
                          <a:lnTo>
                            <a:pt x="65" y="319"/>
                          </a:lnTo>
                          <a:lnTo>
                            <a:pt x="42" y="341"/>
                          </a:lnTo>
                          <a:lnTo>
                            <a:pt x="26" y="362"/>
                          </a:lnTo>
                          <a:lnTo>
                            <a:pt x="26" y="379"/>
                          </a:lnTo>
                          <a:lnTo>
                            <a:pt x="20" y="388"/>
                          </a:lnTo>
                          <a:lnTo>
                            <a:pt x="13" y="398"/>
                          </a:lnTo>
                          <a:lnTo>
                            <a:pt x="9" y="412"/>
                          </a:lnTo>
                          <a:lnTo>
                            <a:pt x="13" y="427"/>
                          </a:lnTo>
                          <a:lnTo>
                            <a:pt x="17" y="452"/>
                          </a:lnTo>
                          <a:lnTo>
                            <a:pt x="10" y="464"/>
                          </a:lnTo>
                          <a:lnTo>
                            <a:pt x="3" y="490"/>
                          </a:lnTo>
                          <a:lnTo>
                            <a:pt x="0" y="523"/>
                          </a:lnTo>
                          <a:lnTo>
                            <a:pt x="4" y="539"/>
                          </a:lnTo>
                          <a:lnTo>
                            <a:pt x="1" y="568"/>
                          </a:lnTo>
                          <a:lnTo>
                            <a:pt x="10" y="579"/>
                          </a:lnTo>
                          <a:lnTo>
                            <a:pt x="14" y="530"/>
                          </a:lnTo>
                          <a:lnTo>
                            <a:pt x="14" y="494"/>
                          </a:lnTo>
                          <a:lnTo>
                            <a:pt x="24" y="481"/>
                          </a:lnTo>
                          <a:lnTo>
                            <a:pt x="26" y="499"/>
                          </a:lnTo>
                          <a:lnTo>
                            <a:pt x="23" y="511"/>
                          </a:lnTo>
                          <a:lnTo>
                            <a:pt x="23" y="524"/>
                          </a:lnTo>
                          <a:lnTo>
                            <a:pt x="22" y="547"/>
                          </a:lnTo>
                          <a:lnTo>
                            <a:pt x="29" y="569"/>
                          </a:lnTo>
                          <a:lnTo>
                            <a:pt x="30" y="591"/>
                          </a:lnTo>
                          <a:lnTo>
                            <a:pt x="33" y="602"/>
                          </a:lnTo>
                          <a:lnTo>
                            <a:pt x="37" y="615"/>
                          </a:lnTo>
                          <a:lnTo>
                            <a:pt x="30" y="630"/>
                          </a:lnTo>
                          <a:lnTo>
                            <a:pt x="33" y="649"/>
                          </a:lnTo>
                          <a:lnTo>
                            <a:pt x="41" y="674"/>
                          </a:lnTo>
                          <a:lnTo>
                            <a:pt x="56" y="686"/>
                          </a:lnTo>
                          <a:lnTo>
                            <a:pt x="73" y="706"/>
                          </a:lnTo>
                          <a:lnTo>
                            <a:pt x="86" y="720"/>
                          </a:lnTo>
                          <a:lnTo>
                            <a:pt x="95" y="718"/>
                          </a:lnTo>
                          <a:lnTo>
                            <a:pt x="106" y="728"/>
                          </a:lnTo>
                          <a:lnTo>
                            <a:pt x="114" y="733"/>
                          </a:lnTo>
                          <a:lnTo>
                            <a:pt x="121" y="745"/>
                          </a:lnTo>
                          <a:lnTo>
                            <a:pt x="145" y="767"/>
                          </a:lnTo>
                          <a:lnTo>
                            <a:pt x="153" y="770"/>
                          </a:lnTo>
                          <a:lnTo>
                            <a:pt x="169" y="784"/>
                          </a:lnTo>
                          <a:lnTo>
                            <a:pt x="170" y="806"/>
                          </a:lnTo>
                          <a:lnTo>
                            <a:pt x="189" y="828"/>
                          </a:lnTo>
                          <a:lnTo>
                            <a:pt x="205" y="847"/>
                          </a:lnTo>
                          <a:lnTo>
                            <a:pt x="214" y="850"/>
                          </a:lnTo>
                          <a:lnTo>
                            <a:pt x="222" y="843"/>
                          </a:lnTo>
                          <a:lnTo>
                            <a:pt x="227" y="841"/>
                          </a:lnTo>
                          <a:lnTo>
                            <a:pt x="240" y="863"/>
                          </a:lnTo>
                          <a:lnTo>
                            <a:pt x="245" y="8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7250040" y="5526000"/>
                      <a:ext cx="13176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55">
                          <a:moveTo>
                            <a:pt x="1" y="0"/>
                          </a:moveTo>
                          <a:lnTo>
                            <a:pt x="24" y="4"/>
                          </a:lnTo>
                          <a:lnTo>
                            <a:pt x="38" y="16"/>
                          </a:lnTo>
                          <a:lnTo>
                            <a:pt x="46" y="25"/>
                          </a:lnTo>
                          <a:lnTo>
                            <a:pt x="54" y="27"/>
                          </a:lnTo>
                          <a:lnTo>
                            <a:pt x="65" y="36"/>
                          </a:lnTo>
                          <a:lnTo>
                            <a:pt x="73" y="47"/>
                          </a:lnTo>
                          <a:lnTo>
                            <a:pt x="82" y="54"/>
                          </a:lnTo>
                          <a:lnTo>
                            <a:pt x="63" y="54"/>
                          </a:lnTo>
                          <a:lnTo>
                            <a:pt x="51" y="42"/>
                          </a:lnTo>
                          <a:lnTo>
                            <a:pt x="35" y="37"/>
                          </a:lnTo>
                          <a:lnTo>
                            <a:pt x="27" y="27"/>
                          </a:lnTo>
                          <a:lnTo>
                            <a:pt x="11" y="19"/>
                          </a:lnTo>
                          <a:lnTo>
                            <a:pt x="0" y="1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7378560" y="5618160"/>
                      <a:ext cx="7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5">
                          <a:moveTo>
                            <a:pt x="0" y="13"/>
                          </a:moveTo>
                          <a:lnTo>
                            <a:pt x="15" y="0"/>
                          </a:lnTo>
                          <a:lnTo>
                            <a:pt x="31" y="2"/>
                          </a:lnTo>
                          <a:lnTo>
                            <a:pt x="47" y="16"/>
                          </a:lnTo>
                          <a:lnTo>
                            <a:pt x="47" y="22"/>
                          </a:lnTo>
                          <a:lnTo>
                            <a:pt x="36" y="24"/>
                          </a:lnTo>
                          <a:lnTo>
                            <a:pt x="27" y="19"/>
                          </a:lnTo>
                          <a:lnTo>
                            <a:pt x="15" y="19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7426440" y="4698720"/>
                      <a:ext cx="745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56">
                          <a:moveTo>
                            <a:pt x="11" y="0"/>
                          </a:moveTo>
                          <a:lnTo>
                            <a:pt x="23" y="9"/>
                          </a:lnTo>
                          <a:lnTo>
                            <a:pt x="27" y="8"/>
                          </a:lnTo>
                          <a:lnTo>
                            <a:pt x="44" y="24"/>
                          </a:lnTo>
                          <a:lnTo>
                            <a:pt x="46" y="31"/>
                          </a:lnTo>
                          <a:lnTo>
                            <a:pt x="39" y="36"/>
                          </a:lnTo>
                          <a:lnTo>
                            <a:pt x="39" y="39"/>
                          </a:lnTo>
                          <a:lnTo>
                            <a:pt x="34" y="41"/>
                          </a:lnTo>
                          <a:lnTo>
                            <a:pt x="34" y="44"/>
                          </a:lnTo>
                          <a:lnTo>
                            <a:pt x="28" y="55"/>
                          </a:lnTo>
                          <a:lnTo>
                            <a:pt x="19" y="49"/>
                          </a:lnTo>
                          <a:lnTo>
                            <a:pt x="14" y="52"/>
                          </a:lnTo>
                          <a:lnTo>
                            <a:pt x="0" y="34"/>
                          </a:lnTo>
                          <a:lnTo>
                            <a:pt x="8" y="20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7500960" y="4679640"/>
                      <a:ext cx="4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6">
                          <a:moveTo>
                            <a:pt x="0" y="14"/>
                          </a:moveTo>
                          <a:lnTo>
                            <a:pt x="17" y="25"/>
                          </a:lnTo>
                          <a:lnTo>
                            <a:pt x="20" y="20"/>
                          </a:lnTo>
                          <a:lnTo>
                            <a:pt x="29" y="9"/>
                          </a:lnTo>
                          <a:lnTo>
                            <a:pt x="25" y="3"/>
                          </a:lnTo>
                          <a:lnTo>
                            <a:pt x="19" y="5"/>
                          </a:lnTo>
                          <a:lnTo>
                            <a:pt x="17" y="0"/>
                          </a:lnTo>
                          <a:lnTo>
                            <a:pt x="12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7439040" y="466236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0" y="1"/>
                          </a:moveTo>
                          <a:lnTo>
                            <a:pt x="16" y="0"/>
                          </a:lnTo>
                          <a:lnTo>
                            <a:pt x="30" y="18"/>
                          </a:lnTo>
                          <a:lnTo>
                            <a:pt x="18" y="18"/>
                          </a:lnTo>
                          <a:lnTo>
                            <a:pt x="17" y="15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5" y="15"/>
                          </a:lnTo>
                          <a:lnTo>
                            <a:pt x="7" y="1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7545240" y="4787640"/>
                      <a:ext cx="114480" cy="20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31">
                          <a:moveTo>
                            <a:pt x="31" y="73"/>
                          </a:moveTo>
                          <a:lnTo>
                            <a:pt x="19" y="88"/>
                          </a:lnTo>
                          <a:lnTo>
                            <a:pt x="14" y="88"/>
                          </a:lnTo>
                          <a:lnTo>
                            <a:pt x="9" y="92"/>
                          </a:lnTo>
                          <a:lnTo>
                            <a:pt x="3" y="92"/>
                          </a:lnTo>
                          <a:lnTo>
                            <a:pt x="2" y="96"/>
                          </a:lnTo>
                          <a:lnTo>
                            <a:pt x="12" y="97"/>
                          </a:lnTo>
                          <a:lnTo>
                            <a:pt x="16" y="100"/>
                          </a:lnTo>
                          <a:lnTo>
                            <a:pt x="20" y="106"/>
                          </a:lnTo>
                          <a:lnTo>
                            <a:pt x="20" y="108"/>
                          </a:lnTo>
                          <a:lnTo>
                            <a:pt x="27" y="114"/>
                          </a:lnTo>
                          <a:lnTo>
                            <a:pt x="27" y="119"/>
                          </a:lnTo>
                          <a:lnTo>
                            <a:pt x="31" y="119"/>
                          </a:lnTo>
                          <a:lnTo>
                            <a:pt x="44" y="130"/>
                          </a:lnTo>
                          <a:lnTo>
                            <a:pt x="41" y="122"/>
                          </a:lnTo>
                          <a:lnTo>
                            <a:pt x="41" y="114"/>
                          </a:lnTo>
                          <a:lnTo>
                            <a:pt x="45" y="114"/>
                          </a:lnTo>
                          <a:lnTo>
                            <a:pt x="49" y="118"/>
                          </a:lnTo>
                          <a:lnTo>
                            <a:pt x="52" y="118"/>
                          </a:lnTo>
                          <a:lnTo>
                            <a:pt x="54" y="119"/>
                          </a:lnTo>
                          <a:lnTo>
                            <a:pt x="56" y="118"/>
                          </a:lnTo>
                          <a:lnTo>
                            <a:pt x="56" y="111"/>
                          </a:lnTo>
                          <a:lnTo>
                            <a:pt x="52" y="106"/>
                          </a:lnTo>
                          <a:lnTo>
                            <a:pt x="51" y="97"/>
                          </a:lnTo>
                          <a:lnTo>
                            <a:pt x="53" y="89"/>
                          </a:lnTo>
                          <a:lnTo>
                            <a:pt x="68" y="104"/>
                          </a:lnTo>
                          <a:lnTo>
                            <a:pt x="68" y="95"/>
                          </a:lnTo>
                          <a:lnTo>
                            <a:pt x="71" y="84"/>
                          </a:lnTo>
                          <a:lnTo>
                            <a:pt x="61" y="73"/>
                          </a:lnTo>
                          <a:lnTo>
                            <a:pt x="60" y="65"/>
                          </a:lnTo>
                          <a:lnTo>
                            <a:pt x="61" y="49"/>
                          </a:lnTo>
                          <a:lnTo>
                            <a:pt x="47" y="31"/>
                          </a:lnTo>
                          <a:lnTo>
                            <a:pt x="33" y="20"/>
                          </a:lnTo>
                          <a:lnTo>
                            <a:pt x="36" y="15"/>
                          </a:lnTo>
                          <a:lnTo>
                            <a:pt x="30" y="11"/>
                          </a:lnTo>
                          <a:lnTo>
                            <a:pt x="30" y="4"/>
                          </a:lnTo>
                          <a:lnTo>
                            <a:pt x="19" y="15"/>
                          </a:lnTo>
                          <a:lnTo>
                            <a:pt x="16" y="12"/>
                          </a:lnTo>
                          <a:lnTo>
                            <a:pt x="20" y="6"/>
                          </a:lnTo>
                          <a:lnTo>
                            <a:pt x="20" y="0"/>
                          </a:lnTo>
                          <a:lnTo>
                            <a:pt x="14" y="0"/>
                          </a:lnTo>
                          <a:lnTo>
                            <a:pt x="8" y="3"/>
                          </a:lnTo>
                          <a:lnTo>
                            <a:pt x="0" y="5"/>
                          </a:lnTo>
                          <a:lnTo>
                            <a:pt x="0" y="12"/>
                          </a:lnTo>
                          <a:lnTo>
                            <a:pt x="0" y="19"/>
                          </a:lnTo>
                          <a:lnTo>
                            <a:pt x="2" y="22"/>
                          </a:lnTo>
                          <a:lnTo>
                            <a:pt x="11" y="27"/>
                          </a:lnTo>
                          <a:lnTo>
                            <a:pt x="9" y="34"/>
                          </a:lnTo>
                          <a:lnTo>
                            <a:pt x="13" y="37"/>
                          </a:lnTo>
                          <a:lnTo>
                            <a:pt x="17" y="39"/>
                          </a:lnTo>
                          <a:lnTo>
                            <a:pt x="24" y="39"/>
                          </a:lnTo>
                          <a:lnTo>
                            <a:pt x="30" y="45"/>
                          </a:lnTo>
                          <a:lnTo>
                            <a:pt x="31" y="54"/>
                          </a:lnTo>
                          <a:lnTo>
                            <a:pt x="30" y="64"/>
                          </a:lnTo>
                          <a:lnTo>
                            <a:pt x="31" y="7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7602480" y="4674960"/>
                      <a:ext cx="1112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59">
                          <a:moveTo>
                            <a:pt x="0" y="43"/>
                          </a:moveTo>
                          <a:lnTo>
                            <a:pt x="16" y="58"/>
                          </a:lnTo>
                          <a:lnTo>
                            <a:pt x="26" y="49"/>
                          </a:lnTo>
                          <a:lnTo>
                            <a:pt x="32" y="49"/>
                          </a:lnTo>
                          <a:lnTo>
                            <a:pt x="46" y="29"/>
                          </a:lnTo>
                          <a:lnTo>
                            <a:pt x="53" y="31"/>
                          </a:lnTo>
                          <a:lnTo>
                            <a:pt x="65" y="18"/>
                          </a:lnTo>
                          <a:lnTo>
                            <a:pt x="64" y="14"/>
                          </a:lnTo>
                          <a:lnTo>
                            <a:pt x="69" y="10"/>
                          </a:lnTo>
                          <a:lnTo>
                            <a:pt x="65" y="6"/>
                          </a:lnTo>
                          <a:lnTo>
                            <a:pt x="54" y="6"/>
                          </a:lnTo>
                          <a:lnTo>
                            <a:pt x="46" y="5"/>
                          </a:lnTo>
                          <a:lnTo>
                            <a:pt x="41" y="0"/>
                          </a:lnTo>
                          <a:lnTo>
                            <a:pt x="32" y="1"/>
                          </a:lnTo>
                          <a:lnTo>
                            <a:pt x="29" y="6"/>
                          </a:lnTo>
                          <a:lnTo>
                            <a:pt x="29" y="11"/>
                          </a:lnTo>
                          <a:lnTo>
                            <a:pt x="29" y="22"/>
                          </a:lnTo>
                          <a:lnTo>
                            <a:pt x="23" y="24"/>
                          </a:lnTo>
                          <a:lnTo>
                            <a:pt x="20" y="29"/>
                          </a:lnTo>
                          <a:lnTo>
                            <a:pt x="8" y="41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7908840" y="4903560"/>
                      <a:ext cx="586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1">
                          <a:moveTo>
                            <a:pt x="0" y="16"/>
                          </a:moveTo>
                          <a:lnTo>
                            <a:pt x="13" y="7"/>
                          </a:lnTo>
                          <a:lnTo>
                            <a:pt x="17" y="7"/>
                          </a:lnTo>
                          <a:lnTo>
                            <a:pt x="17" y="3"/>
                          </a:lnTo>
                          <a:lnTo>
                            <a:pt x="20" y="0"/>
                          </a:lnTo>
                          <a:lnTo>
                            <a:pt x="24" y="1"/>
                          </a:lnTo>
                          <a:lnTo>
                            <a:pt x="32" y="7"/>
                          </a:lnTo>
                          <a:lnTo>
                            <a:pt x="32" y="11"/>
                          </a:lnTo>
                          <a:lnTo>
                            <a:pt x="36" y="13"/>
                          </a:lnTo>
                          <a:lnTo>
                            <a:pt x="36" y="19"/>
                          </a:lnTo>
                          <a:lnTo>
                            <a:pt x="32" y="20"/>
                          </a:lnTo>
                          <a:lnTo>
                            <a:pt x="32" y="25"/>
                          </a:lnTo>
                          <a:lnTo>
                            <a:pt x="26" y="30"/>
                          </a:lnTo>
                          <a:lnTo>
                            <a:pt x="9" y="30"/>
                          </a:lnTo>
                          <a:lnTo>
                            <a:pt x="7" y="2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7680240" y="4686120"/>
                      <a:ext cx="20160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214">
                          <a:moveTo>
                            <a:pt x="0" y="63"/>
                          </a:moveTo>
                          <a:lnTo>
                            <a:pt x="0" y="44"/>
                          </a:lnTo>
                          <a:lnTo>
                            <a:pt x="5" y="42"/>
                          </a:lnTo>
                          <a:lnTo>
                            <a:pt x="4" y="38"/>
                          </a:lnTo>
                          <a:lnTo>
                            <a:pt x="18" y="22"/>
                          </a:lnTo>
                          <a:lnTo>
                            <a:pt x="26" y="16"/>
                          </a:lnTo>
                          <a:lnTo>
                            <a:pt x="30" y="13"/>
                          </a:lnTo>
                          <a:lnTo>
                            <a:pt x="39" y="7"/>
                          </a:lnTo>
                          <a:lnTo>
                            <a:pt x="41" y="7"/>
                          </a:lnTo>
                          <a:lnTo>
                            <a:pt x="45" y="7"/>
                          </a:lnTo>
                          <a:lnTo>
                            <a:pt x="49" y="2"/>
                          </a:lnTo>
                          <a:lnTo>
                            <a:pt x="56" y="1"/>
                          </a:lnTo>
                          <a:lnTo>
                            <a:pt x="69" y="0"/>
                          </a:lnTo>
                          <a:lnTo>
                            <a:pt x="77" y="8"/>
                          </a:lnTo>
                          <a:lnTo>
                            <a:pt x="76" y="13"/>
                          </a:lnTo>
                          <a:lnTo>
                            <a:pt x="81" y="16"/>
                          </a:lnTo>
                          <a:lnTo>
                            <a:pt x="92" y="3"/>
                          </a:lnTo>
                          <a:lnTo>
                            <a:pt x="93" y="16"/>
                          </a:lnTo>
                          <a:lnTo>
                            <a:pt x="99" y="34"/>
                          </a:lnTo>
                          <a:lnTo>
                            <a:pt x="103" y="50"/>
                          </a:lnTo>
                          <a:lnTo>
                            <a:pt x="114" y="66"/>
                          </a:lnTo>
                          <a:lnTo>
                            <a:pt x="115" y="75"/>
                          </a:lnTo>
                          <a:lnTo>
                            <a:pt x="117" y="91"/>
                          </a:lnTo>
                          <a:lnTo>
                            <a:pt x="121" y="99"/>
                          </a:lnTo>
                          <a:lnTo>
                            <a:pt x="126" y="115"/>
                          </a:lnTo>
                          <a:lnTo>
                            <a:pt x="122" y="126"/>
                          </a:lnTo>
                          <a:lnTo>
                            <a:pt x="121" y="131"/>
                          </a:lnTo>
                          <a:lnTo>
                            <a:pt x="113" y="133"/>
                          </a:lnTo>
                          <a:lnTo>
                            <a:pt x="104" y="140"/>
                          </a:lnTo>
                          <a:lnTo>
                            <a:pt x="100" y="144"/>
                          </a:lnTo>
                          <a:lnTo>
                            <a:pt x="101" y="148"/>
                          </a:lnTo>
                          <a:lnTo>
                            <a:pt x="93" y="156"/>
                          </a:lnTo>
                          <a:lnTo>
                            <a:pt x="88" y="160"/>
                          </a:lnTo>
                          <a:lnTo>
                            <a:pt x="84" y="160"/>
                          </a:lnTo>
                          <a:lnTo>
                            <a:pt x="77" y="165"/>
                          </a:lnTo>
                          <a:lnTo>
                            <a:pt x="78" y="171"/>
                          </a:lnTo>
                          <a:lnTo>
                            <a:pt x="69" y="178"/>
                          </a:lnTo>
                          <a:lnTo>
                            <a:pt x="69" y="185"/>
                          </a:lnTo>
                          <a:lnTo>
                            <a:pt x="66" y="194"/>
                          </a:lnTo>
                          <a:lnTo>
                            <a:pt x="66" y="203"/>
                          </a:lnTo>
                          <a:lnTo>
                            <a:pt x="65" y="209"/>
                          </a:lnTo>
                          <a:lnTo>
                            <a:pt x="61" y="213"/>
                          </a:lnTo>
                          <a:lnTo>
                            <a:pt x="52" y="213"/>
                          </a:lnTo>
                          <a:lnTo>
                            <a:pt x="45" y="212"/>
                          </a:lnTo>
                          <a:lnTo>
                            <a:pt x="34" y="205"/>
                          </a:lnTo>
                          <a:lnTo>
                            <a:pt x="28" y="199"/>
                          </a:lnTo>
                          <a:lnTo>
                            <a:pt x="27" y="194"/>
                          </a:lnTo>
                          <a:lnTo>
                            <a:pt x="27" y="187"/>
                          </a:lnTo>
                          <a:lnTo>
                            <a:pt x="23" y="178"/>
                          </a:lnTo>
                          <a:lnTo>
                            <a:pt x="21" y="171"/>
                          </a:lnTo>
                          <a:lnTo>
                            <a:pt x="22" y="165"/>
                          </a:lnTo>
                          <a:lnTo>
                            <a:pt x="21" y="156"/>
                          </a:lnTo>
                          <a:lnTo>
                            <a:pt x="17" y="154"/>
                          </a:lnTo>
                          <a:lnTo>
                            <a:pt x="23" y="148"/>
                          </a:lnTo>
                          <a:lnTo>
                            <a:pt x="27" y="140"/>
                          </a:lnTo>
                          <a:lnTo>
                            <a:pt x="27" y="135"/>
                          </a:lnTo>
                          <a:lnTo>
                            <a:pt x="24" y="128"/>
                          </a:lnTo>
                          <a:lnTo>
                            <a:pt x="19" y="121"/>
                          </a:lnTo>
                          <a:lnTo>
                            <a:pt x="22" y="110"/>
                          </a:lnTo>
                          <a:lnTo>
                            <a:pt x="20" y="98"/>
                          </a:lnTo>
                          <a:lnTo>
                            <a:pt x="18" y="87"/>
                          </a:lnTo>
                          <a:lnTo>
                            <a:pt x="16" y="74"/>
                          </a:lnTo>
                          <a:lnTo>
                            <a:pt x="8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7628040" y="5170320"/>
                      <a:ext cx="66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0"/>
                          </a:moveTo>
                          <a:lnTo>
                            <a:pt x="15" y="36"/>
                          </a:lnTo>
                          <a:lnTo>
                            <a:pt x="26" y="37"/>
                          </a:lnTo>
                          <a:lnTo>
                            <a:pt x="33" y="40"/>
                          </a:lnTo>
                          <a:lnTo>
                            <a:pt x="37" y="42"/>
                          </a:lnTo>
                          <a:lnTo>
                            <a:pt x="41" y="34"/>
                          </a:lnTo>
                          <a:lnTo>
                            <a:pt x="40" y="30"/>
                          </a:lnTo>
                          <a:lnTo>
                            <a:pt x="41" y="25"/>
                          </a:lnTo>
                          <a:lnTo>
                            <a:pt x="39" y="20"/>
                          </a:lnTo>
                          <a:lnTo>
                            <a:pt x="36" y="23"/>
                          </a:lnTo>
                          <a:lnTo>
                            <a:pt x="26" y="12"/>
                          </a:lnTo>
                          <a:lnTo>
                            <a:pt x="26" y="4"/>
                          </a:lnTo>
                          <a:lnTo>
                            <a:pt x="30" y="1"/>
                          </a:lnTo>
                          <a:lnTo>
                            <a:pt x="27" y="0"/>
                          </a:lnTo>
                          <a:lnTo>
                            <a:pt x="16" y="5"/>
                          </a:lnTo>
                          <a:lnTo>
                            <a:pt x="16" y="11"/>
                          </a:lnTo>
                          <a:lnTo>
                            <a:pt x="14" y="19"/>
                          </a:lnTo>
                          <a:lnTo>
                            <a:pt x="8" y="27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7305840" y="5124240"/>
                  <a:ext cx="139680" cy="133560"/>
                  <a:chOff x="7305840" y="5124240"/>
                  <a:chExt cx="139680" cy="13356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7305840" y="512424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0" y="6"/>
                        </a:move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7" y="2"/>
                        </a:lnTo>
                        <a:lnTo>
                          <a:pt x="26" y="0"/>
                        </a:lnTo>
                        <a:lnTo>
                          <a:pt x="32" y="4"/>
                        </a:lnTo>
                        <a:lnTo>
                          <a:pt x="36" y="4"/>
                        </a:lnTo>
                        <a:lnTo>
                          <a:pt x="38" y="11"/>
                        </a:lnTo>
                        <a:lnTo>
                          <a:pt x="42" y="13"/>
                        </a:lnTo>
                        <a:lnTo>
                          <a:pt x="42" y="19"/>
                        </a:lnTo>
                        <a:lnTo>
                          <a:pt x="43" y="25"/>
                        </a:lnTo>
                        <a:lnTo>
                          <a:pt x="44" y="30"/>
                        </a:lnTo>
                        <a:lnTo>
                          <a:pt x="52" y="40"/>
                        </a:lnTo>
                        <a:lnTo>
                          <a:pt x="55" y="42"/>
                        </a:lnTo>
                        <a:lnTo>
                          <a:pt x="58" y="43"/>
                        </a:lnTo>
                        <a:lnTo>
                          <a:pt x="59" y="48"/>
                        </a:lnTo>
                        <a:lnTo>
                          <a:pt x="53" y="54"/>
                        </a:lnTo>
                        <a:lnTo>
                          <a:pt x="44" y="66"/>
                        </a:lnTo>
                        <a:lnTo>
                          <a:pt x="42" y="65"/>
                        </a:lnTo>
                        <a:lnTo>
                          <a:pt x="40" y="59"/>
                        </a:lnTo>
                        <a:lnTo>
                          <a:pt x="41" y="49"/>
                        </a:lnTo>
                        <a:lnTo>
                          <a:pt x="42" y="46"/>
                        </a:lnTo>
                        <a:lnTo>
                          <a:pt x="42" y="41"/>
                        </a:lnTo>
                        <a:lnTo>
                          <a:pt x="28" y="43"/>
                        </a:lnTo>
                        <a:lnTo>
                          <a:pt x="17" y="52"/>
                        </a:lnTo>
                        <a:lnTo>
                          <a:pt x="17" y="56"/>
                        </a:lnTo>
                        <a:lnTo>
                          <a:pt x="15" y="63"/>
                        </a:lnTo>
                        <a:lnTo>
                          <a:pt x="7" y="63"/>
                        </a:lnTo>
                        <a:lnTo>
                          <a:pt x="4" y="60"/>
                        </a:lnTo>
                        <a:lnTo>
                          <a:pt x="7" y="54"/>
                        </a:lnTo>
                        <a:lnTo>
                          <a:pt x="8" y="49"/>
                        </a:lnTo>
                        <a:lnTo>
                          <a:pt x="11" y="48"/>
                        </a:lnTo>
                        <a:lnTo>
                          <a:pt x="9" y="44"/>
                        </a:lnTo>
                        <a:lnTo>
                          <a:pt x="16" y="35"/>
                        </a:lnTo>
                        <a:lnTo>
                          <a:pt x="20" y="35"/>
                        </a:lnTo>
                        <a:lnTo>
                          <a:pt x="26" y="36"/>
                        </a:lnTo>
                        <a:lnTo>
                          <a:pt x="30" y="32"/>
                        </a:lnTo>
                        <a:lnTo>
                          <a:pt x="34" y="31"/>
                        </a:lnTo>
                        <a:lnTo>
                          <a:pt x="34" y="28"/>
                        </a:lnTo>
                        <a:lnTo>
                          <a:pt x="22" y="26"/>
                        </a:lnTo>
                        <a:lnTo>
                          <a:pt x="23" y="16"/>
                        </a:lnTo>
                        <a:lnTo>
                          <a:pt x="19" y="16"/>
                        </a:lnTo>
                        <a:lnTo>
                          <a:pt x="11" y="16"/>
                        </a:lnTo>
                        <a:lnTo>
                          <a:pt x="0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7359480" y="5241600"/>
                    <a:ext cx="381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0" y="7"/>
                        </a:moveTo>
                        <a:lnTo>
                          <a:pt x="13" y="9"/>
                        </a:lnTo>
                        <a:lnTo>
                          <a:pt x="23" y="1"/>
                        </a:lnTo>
                        <a:lnTo>
                          <a:pt x="13" y="0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7410600" y="523548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5"/>
                        </a:moveTo>
                        <a:lnTo>
                          <a:pt x="12" y="8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5" name=""/>
                <p:cNvGrpSpPr/>
                <p:nvPr/>
              </p:nvGrpSpPr>
              <p:grpSpPr>
                <a:xfrm>
                  <a:off x="7699320" y="4343400"/>
                  <a:ext cx="31680" cy="52200"/>
                  <a:chOff x="7699320" y="4343400"/>
                  <a:chExt cx="31680" cy="52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7699320" y="4370400"/>
                    <a:ext cx="31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0" y="10"/>
                        </a:moveTo>
                        <a:lnTo>
                          <a:pt x="19" y="15"/>
                        </a:lnTo>
                        <a:lnTo>
                          <a:pt x="18" y="6"/>
                        </a:lnTo>
                        <a:lnTo>
                          <a:pt x="18" y="0"/>
                        </a:lnTo>
                        <a:lnTo>
                          <a:pt x="9" y="4"/>
                        </a:lnTo>
                        <a:lnTo>
                          <a:pt x="0" y="1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699320" y="4343400"/>
                    <a:ext cx="25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9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7340760" y="4106880"/>
                <a:ext cx="1796760" cy="2261880"/>
                <a:chOff x="7340760" y="4106880"/>
                <a:chExt cx="1796760" cy="22618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8163000" y="5103720"/>
                  <a:ext cx="974520" cy="1265040"/>
                </a:xfrm>
                <a:custGeom>
                  <a:avLst/>
                  <a:gdLst/>
                  <a:ahLst/>
                  <a:rect l="l" t="t" r="r" b="b"/>
                  <a:pathLst>
                    <a:path w="614" h="797">
                      <a:moveTo>
                        <a:pt x="50" y="120"/>
                      </a:moveTo>
                      <a:lnTo>
                        <a:pt x="86" y="106"/>
                      </a:lnTo>
                      <a:lnTo>
                        <a:pt x="102" y="79"/>
                      </a:lnTo>
                      <a:lnTo>
                        <a:pt x="119" y="73"/>
                      </a:lnTo>
                      <a:lnTo>
                        <a:pt x="143" y="54"/>
                      </a:lnTo>
                      <a:lnTo>
                        <a:pt x="168" y="84"/>
                      </a:lnTo>
                      <a:lnTo>
                        <a:pt x="181" y="73"/>
                      </a:lnTo>
                      <a:lnTo>
                        <a:pt x="190" y="76"/>
                      </a:lnTo>
                      <a:lnTo>
                        <a:pt x="202" y="71"/>
                      </a:lnTo>
                      <a:lnTo>
                        <a:pt x="210" y="71"/>
                      </a:lnTo>
                      <a:lnTo>
                        <a:pt x="227" y="73"/>
                      </a:lnTo>
                      <a:lnTo>
                        <a:pt x="246" y="62"/>
                      </a:lnTo>
                      <a:lnTo>
                        <a:pt x="232" y="46"/>
                      </a:lnTo>
                      <a:lnTo>
                        <a:pt x="251" y="26"/>
                      </a:lnTo>
                      <a:lnTo>
                        <a:pt x="268" y="26"/>
                      </a:lnTo>
                      <a:lnTo>
                        <a:pt x="290" y="4"/>
                      </a:lnTo>
                      <a:lnTo>
                        <a:pt x="307" y="4"/>
                      </a:lnTo>
                      <a:lnTo>
                        <a:pt x="315" y="0"/>
                      </a:lnTo>
                      <a:lnTo>
                        <a:pt x="339" y="4"/>
                      </a:lnTo>
                      <a:lnTo>
                        <a:pt x="350" y="13"/>
                      </a:lnTo>
                      <a:lnTo>
                        <a:pt x="359" y="15"/>
                      </a:lnTo>
                      <a:lnTo>
                        <a:pt x="378" y="24"/>
                      </a:lnTo>
                      <a:lnTo>
                        <a:pt x="397" y="32"/>
                      </a:lnTo>
                      <a:lnTo>
                        <a:pt x="414" y="43"/>
                      </a:lnTo>
                      <a:lnTo>
                        <a:pt x="436" y="65"/>
                      </a:lnTo>
                      <a:lnTo>
                        <a:pt x="444" y="79"/>
                      </a:lnTo>
                      <a:lnTo>
                        <a:pt x="468" y="76"/>
                      </a:lnTo>
                      <a:lnTo>
                        <a:pt x="505" y="82"/>
                      </a:lnTo>
                      <a:lnTo>
                        <a:pt x="524" y="93"/>
                      </a:lnTo>
                      <a:lnTo>
                        <a:pt x="562" y="65"/>
                      </a:lnTo>
                      <a:lnTo>
                        <a:pt x="560" y="49"/>
                      </a:lnTo>
                      <a:lnTo>
                        <a:pt x="573" y="32"/>
                      </a:lnTo>
                      <a:lnTo>
                        <a:pt x="587" y="26"/>
                      </a:lnTo>
                      <a:lnTo>
                        <a:pt x="593" y="49"/>
                      </a:lnTo>
                      <a:lnTo>
                        <a:pt x="595" y="79"/>
                      </a:lnTo>
                      <a:lnTo>
                        <a:pt x="604" y="112"/>
                      </a:lnTo>
                      <a:lnTo>
                        <a:pt x="604" y="137"/>
                      </a:lnTo>
                      <a:lnTo>
                        <a:pt x="590" y="156"/>
                      </a:lnTo>
                      <a:lnTo>
                        <a:pt x="606" y="162"/>
                      </a:lnTo>
                      <a:lnTo>
                        <a:pt x="601" y="186"/>
                      </a:lnTo>
                      <a:lnTo>
                        <a:pt x="595" y="217"/>
                      </a:lnTo>
                      <a:lnTo>
                        <a:pt x="587" y="239"/>
                      </a:lnTo>
                      <a:lnTo>
                        <a:pt x="576" y="258"/>
                      </a:lnTo>
                      <a:lnTo>
                        <a:pt x="571" y="271"/>
                      </a:lnTo>
                      <a:lnTo>
                        <a:pt x="573" y="291"/>
                      </a:lnTo>
                      <a:lnTo>
                        <a:pt x="579" y="316"/>
                      </a:lnTo>
                      <a:lnTo>
                        <a:pt x="573" y="332"/>
                      </a:lnTo>
                      <a:lnTo>
                        <a:pt x="576" y="346"/>
                      </a:lnTo>
                      <a:lnTo>
                        <a:pt x="582" y="357"/>
                      </a:lnTo>
                      <a:lnTo>
                        <a:pt x="590" y="373"/>
                      </a:lnTo>
                      <a:lnTo>
                        <a:pt x="613" y="399"/>
                      </a:lnTo>
                      <a:lnTo>
                        <a:pt x="608" y="420"/>
                      </a:lnTo>
                      <a:lnTo>
                        <a:pt x="598" y="462"/>
                      </a:lnTo>
                      <a:lnTo>
                        <a:pt x="586" y="507"/>
                      </a:lnTo>
                      <a:lnTo>
                        <a:pt x="575" y="541"/>
                      </a:lnTo>
                      <a:lnTo>
                        <a:pt x="560" y="577"/>
                      </a:lnTo>
                      <a:lnTo>
                        <a:pt x="540" y="621"/>
                      </a:lnTo>
                      <a:lnTo>
                        <a:pt x="523" y="655"/>
                      </a:lnTo>
                      <a:lnTo>
                        <a:pt x="502" y="693"/>
                      </a:lnTo>
                      <a:lnTo>
                        <a:pt x="484" y="721"/>
                      </a:lnTo>
                      <a:lnTo>
                        <a:pt x="464" y="751"/>
                      </a:lnTo>
                      <a:lnTo>
                        <a:pt x="437" y="785"/>
                      </a:lnTo>
                      <a:lnTo>
                        <a:pt x="414" y="796"/>
                      </a:lnTo>
                      <a:lnTo>
                        <a:pt x="395" y="790"/>
                      </a:lnTo>
                      <a:lnTo>
                        <a:pt x="384" y="765"/>
                      </a:lnTo>
                      <a:lnTo>
                        <a:pt x="389" y="759"/>
                      </a:lnTo>
                      <a:lnTo>
                        <a:pt x="395" y="740"/>
                      </a:lnTo>
                      <a:lnTo>
                        <a:pt x="384" y="729"/>
                      </a:lnTo>
                      <a:lnTo>
                        <a:pt x="384" y="716"/>
                      </a:lnTo>
                      <a:lnTo>
                        <a:pt x="375" y="705"/>
                      </a:lnTo>
                      <a:lnTo>
                        <a:pt x="375" y="668"/>
                      </a:lnTo>
                      <a:lnTo>
                        <a:pt x="365" y="644"/>
                      </a:lnTo>
                      <a:lnTo>
                        <a:pt x="359" y="629"/>
                      </a:lnTo>
                      <a:lnTo>
                        <a:pt x="348" y="616"/>
                      </a:lnTo>
                      <a:lnTo>
                        <a:pt x="331" y="599"/>
                      </a:lnTo>
                      <a:lnTo>
                        <a:pt x="345" y="575"/>
                      </a:lnTo>
                      <a:lnTo>
                        <a:pt x="348" y="555"/>
                      </a:lnTo>
                      <a:lnTo>
                        <a:pt x="348" y="544"/>
                      </a:lnTo>
                      <a:lnTo>
                        <a:pt x="359" y="536"/>
                      </a:lnTo>
                      <a:lnTo>
                        <a:pt x="353" y="519"/>
                      </a:lnTo>
                      <a:lnTo>
                        <a:pt x="350" y="497"/>
                      </a:lnTo>
                      <a:lnTo>
                        <a:pt x="345" y="476"/>
                      </a:lnTo>
                      <a:lnTo>
                        <a:pt x="290" y="431"/>
                      </a:lnTo>
                      <a:lnTo>
                        <a:pt x="285" y="418"/>
                      </a:lnTo>
                      <a:lnTo>
                        <a:pt x="290" y="387"/>
                      </a:lnTo>
                      <a:lnTo>
                        <a:pt x="276" y="373"/>
                      </a:lnTo>
                      <a:lnTo>
                        <a:pt x="262" y="381"/>
                      </a:lnTo>
                      <a:lnTo>
                        <a:pt x="235" y="385"/>
                      </a:lnTo>
                      <a:lnTo>
                        <a:pt x="224" y="371"/>
                      </a:lnTo>
                      <a:lnTo>
                        <a:pt x="208" y="387"/>
                      </a:lnTo>
                      <a:lnTo>
                        <a:pt x="198" y="404"/>
                      </a:lnTo>
                      <a:lnTo>
                        <a:pt x="179" y="404"/>
                      </a:lnTo>
                      <a:lnTo>
                        <a:pt x="166" y="415"/>
                      </a:lnTo>
                      <a:lnTo>
                        <a:pt x="146" y="415"/>
                      </a:lnTo>
                      <a:lnTo>
                        <a:pt x="124" y="431"/>
                      </a:lnTo>
                      <a:lnTo>
                        <a:pt x="97" y="429"/>
                      </a:lnTo>
                      <a:lnTo>
                        <a:pt x="61" y="401"/>
                      </a:lnTo>
                      <a:lnTo>
                        <a:pt x="31" y="379"/>
                      </a:lnTo>
                      <a:lnTo>
                        <a:pt x="17" y="362"/>
                      </a:lnTo>
                      <a:lnTo>
                        <a:pt x="17" y="313"/>
                      </a:lnTo>
                      <a:lnTo>
                        <a:pt x="0" y="299"/>
                      </a:lnTo>
                      <a:lnTo>
                        <a:pt x="0" y="282"/>
                      </a:lnTo>
                      <a:lnTo>
                        <a:pt x="3" y="269"/>
                      </a:lnTo>
                      <a:lnTo>
                        <a:pt x="14" y="250"/>
                      </a:lnTo>
                      <a:lnTo>
                        <a:pt x="6" y="233"/>
                      </a:lnTo>
                      <a:lnTo>
                        <a:pt x="14" y="214"/>
                      </a:lnTo>
                      <a:lnTo>
                        <a:pt x="28" y="205"/>
                      </a:lnTo>
                      <a:lnTo>
                        <a:pt x="39" y="194"/>
                      </a:lnTo>
                      <a:lnTo>
                        <a:pt x="39" y="183"/>
                      </a:lnTo>
                      <a:lnTo>
                        <a:pt x="28" y="175"/>
                      </a:lnTo>
                      <a:lnTo>
                        <a:pt x="28" y="162"/>
                      </a:lnTo>
                      <a:lnTo>
                        <a:pt x="36" y="153"/>
                      </a:lnTo>
                      <a:lnTo>
                        <a:pt x="50" y="12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8942400" y="5565600"/>
                  <a:ext cx="111240" cy="271440"/>
                  <a:chOff x="8942400" y="5565600"/>
                  <a:chExt cx="111240" cy="271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8942400" y="5565600"/>
                    <a:ext cx="44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8">
                        <a:moveTo>
                          <a:pt x="19" y="0"/>
                        </a:moveTo>
                        <a:lnTo>
                          <a:pt x="0" y="13"/>
                        </a:lnTo>
                        <a:lnTo>
                          <a:pt x="8" y="33"/>
                        </a:lnTo>
                        <a:lnTo>
                          <a:pt x="14" y="47"/>
                        </a:lnTo>
                        <a:lnTo>
                          <a:pt x="27" y="36"/>
                        </a:lnTo>
                        <a:lnTo>
                          <a:pt x="19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9015480" y="5757840"/>
                    <a:ext cx="38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0">
                        <a:moveTo>
                          <a:pt x="15" y="0"/>
                        </a:moveTo>
                        <a:lnTo>
                          <a:pt x="0" y="10"/>
                        </a:lnTo>
                        <a:lnTo>
                          <a:pt x="3" y="26"/>
                        </a:lnTo>
                        <a:lnTo>
                          <a:pt x="6" y="46"/>
                        </a:lnTo>
                        <a:lnTo>
                          <a:pt x="23" y="49"/>
                        </a:lnTo>
                        <a:lnTo>
                          <a:pt x="23" y="33"/>
                        </a:lnTo>
                        <a:lnTo>
                          <a:pt x="1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3" name=""/>
                <p:cNvSpPr/>
                <p:nvPr/>
              </p:nvSpPr>
              <p:spPr>
                <a:xfrm>
                  <a:off x="7340760" y="4106880"/>
                  <a:ext cx="1687320" cy="1195200"/>
                </a:xfrm>
                <a:custGeom>
                  <a:avLst/>
                  <a:gdLst/>
                  <a:ahLst/>
                  <a:rect l="l" t="t" r="r" b="b"/>
                  <a:pathLst>
                    <a:path w="1063" h="753">
                      <a:moveTo>
                        <a:pt x="516" y="700"/>
                      </a:moveTo>
                      <a:lnTo>
                        <a:pt x="531" y="721"/>
                      </a:lnTo>
                      <a:lnTo>
                        <a:pt x="526" y="733"/>
                      </a:lnTo>
                      <a:lnTo>
                        <a:pt x="533" y="742"/>
                      </a:lnTo>
                      <a:lnTo>
                        <a:pt x="542" y="752"/>
                      </a:lnTo>
                      <a:lnTo>
                        <a:pt x="556" y="750"/>
                      </a:lnTo>
                      <a:lnTo>
                        <a:pt x="570" y="733"/>
                      </a:lnTo>
                      <a:lnTo>
                        <a:pt x="586" y="722"/>
                      </a:lnTo>
                      <a:lnTo>
                        <a:pt x="594" y="712"/>
                      </a:lnTo>
                      <a:lnTo>
                        <a:pt x="591" y="701"/>
                      </a:lnTo>
                      <a:lnTo>
                        <a:pt x="589" y="690"/>
                      </a:lnTo>
                      <a:lnTo>
                        <a:pt x="589" y="677"/>
                      </a:lnTo>
                      <a:lnTo>
                        <a:pt x="597" y="672"/>
                      </a:lnTo>
                      <a:lnTo>
                        <a:pt x="597" y="660"/>
                      </a:lnTo>
                      <a:lnTo>
                        <a:pt x="594" y="653"/>
                      </a:lnTo>
                      <a:lnTo>
                        <a:pt x="600" y="647"/>
                      </a:lnTo>
                      <a:lnTo>
                        <a:pt x="610" y="647"/>
                      </a:lnTo>
                      <a:lnTo>
                        <a:pt x="613" y="641"/>
                      </a:lnTo>
                      <a:lnTo>
                        <a:pt x="613" y="632"/>
                      </a:lnTo>
                      <a:lnTo>
                        <a:pt x="616" y="625"/>
                      </a:lnTo>
                      <a:lnTo>
                        <a:pt x="640" y="628"/>
                      </a:lnTo>
                      <a:lnTo>
                        <a:pt x="649" y="635"/>
                      </a:lnTo>
                      <a:lnTo>
                        <a:pt x="691" y="631"/>
                      </a:lnTo>
                      <a:lnTo>
                        <a:pt x="692" y="622"/>
                      </a:lnTo>
                      <a:lnTo>
                        <a:pt x="680" y="612"/>
                      </a:lnTo>
                      <a:lnTo>
                        <a:pt x="651" y="613"/>
                      </a:lnTo>
                      <a:lnTo>
                        <a:pt x="638" y="612"/>
                      </a:lnTo>
                      <a:lnTo>
                        <a:pt x="633" y="606"/>
                      </a:lnTo>
                      <a:lnTo>
                        <a:pt x="633" y="597"/>
                      </a:lnTo>
                      <a:lnTo>
                        <a:pt x="638" y="591"/>
                      </a:lnTo>
                      <a:lnTo>
                        <a:pt x="649" y="600"/>
                      </a:lnTo>
                      <a:lnTo>
                        <a:pt x="665" y="600"/>
                      </a:lnTo>
                      <a:lnTo>
                        <a:pt x="676" y="601"/>
                      </a:lnTo>
                      <a:lnTo>
                        <a:pt x="687" y="601"/>
                      </a:lnTo>
                      <a:lnTo>
                        <a:pt x="696" y="608"/>
                      </a:lnTo>
                      <a:lnTo>
                        <a:pt x="710" y="614"/>
                      </a:lnTo>
                      <a:lnTo>
                        <a:pt x="722" y="616"/>
                      </a:lnTo>
                      <a:lnTo>
                        <a:pt x="722" y="605"/>
                      </a:lnTo>
                      <a:lnTo>
                        <a:pt x="730" y="601"/>
                      </a:lnTo>
                      <a:lnTo>
                        <a:pt x="726" y="593"/>
                      </a:lnTo>
                      <a:lnTo>
                        <a:pt x="719" y="586"/>
                      </a:lnTo>
                      <a:lnTo>
                        <a:pt x="721" y="578"/>
                      </a:lnTo>
                      <a:lnTo>
                        <a:pt x="725" y="572"/>
                      </a:lnTo>
                      <a:lnTo>
                        <a:pt x="734" y="559"/>
                      </a:lnTo>
                      <a:lnTo>
                        <a:pt x="740" y="567"/>
                      </a:lnTo>
                      <a:lnTo>
                        <a:pt x="735" y="578"/>
                      </a:lnTo>
                      <a:lnTo>
                        <a:pt x="743" y="583"/>
                      </a:lnTo>
                      <a:lnTo>
                        <a:pt x="752" y="586"/>
                      </a:lnTo>
                      <a:lnTo>
                        <a:pt x="760" y="591"/>
                      </a:lnTo>
                      <a:lnTo>
                        <a:pt x="772" y="591"/>
                      </a:lnTo>
                      <a:lnTo>
                        <a:pt x="782" y="589"/>
                      </a:lnTo>
                      <a:lnTo>
                        <a:pt x="785" y="582"/>
                      </a:lnTo>
                      <a:lnTo>
                        <a:pt x="785" y="573"/>
                      </a:lnTo>
                      <a:lnTo>
                        <a:pt x="791" y="567"/>
                      </a:lnTo>
                      <a:lnTo>
                        <a:pt x="802" y="561"/>
                      </a:lnTo>
                      <a:lnTo>
                        <a:pt x="806" y="555"/>
                      </a:lnTo>
                      <a:lnTo>
                        <a:pt x="804" y="548"/>
                      </a:lnTo>
                      <a:lnTo>
                        <a:pt x="808" y="540"/>
                      </a:lnTo>
                      <a:lnTo>
                        <a:pt x="820" y="555"/>
                      </a:lnTo>
                      <a:lnTo>
                        <a:pt x="826" y="567"/>
                      </a:lnTo>
                      <a:lnTo>
                        <a:pt x="829" y="571"/>
                      </a:lnTo>
                      <a:lnTo>
                        <a:pt x="834" y="582"/>
                      </a:lnTo>
                      <a:lnTo>
                        <a:pt x="839" y="589"/>
                      </a:lnTo>
                      <a:lnTo>
                        <a:pt x="838" y="600"/>
                      </a:lnTo>
                      <a:lnTo>
                        <a:pt x="837" y="609"/>
                      </a:lnTo>
                      <a:lnTo>
                        <a:pt x="843" y="619"/>
                      </a:lnTo>
                      <a:lnTo>
                        <a:pt x="853" y="625"/>
                      </a:lnTo>
                      <a:lnTo>
                        <a:pt x="864" y="625"/>
                      </a:lnTo>
                      <a:lnTo>
                        <a:pt x="875" y="623"/>
                      </a:lnTo>
                      <a:lnTo>
                        <a:pt x="894" y="625"/>
                      </a:lnTo>
                      <a:lnTo>
                        <a:pt x="916" y="638"/>
                      </a:lnTo>
                      <a:lnTo>
                        <a:pt x="927" y="635"/>
                      </a:lnTo>
                      <a:lnTo>
                        <a:pt x="936" y="646"/>
                      </a:lnTo>
                      <a:lnTo>
                        <a:pt x="944" y="653"/>
                      </a:lnTo>
                      <a:lnTo>
                        <a:pt x="961" y="660"/>
                      </a:lnTo>
                      <a:lnTo>
                        <a:pt x="972" y="659"/>
                      </a:lnTo>
                      <a:lnTo>
                        <a:pt x="986" y="663"/>
                      </a:lnTo>
                      <a:lnTo>
                        <a:pt x="1000" y="674"/>
                      </a:lnTo>
                      <a:lnTo>
                        <a:pt x="1019" y="693"/>
                      </a:lnTo>
                      <a:lnTo>
                        <a:pt x="1035" y="706"/>
                      </a:lnTo>
                      <a:lnTo>
                        <a:pt x="1043" y="689"/>
                      </a:lnTo>
                      <a:lnTo>
                        <a:pt x="1047" y="675"/>
                      </a:lnTo>
                      <a:lnTo>
                        <a:pt x="1055" y="657"/>
                      </a:lnTo>
                      <a:lnTo>
                        <a:pt x="1059" y="631"/>
                      </a:lnTo>
                      <a:lnTo>
                        <a:pt x="1062" y="602"/>
                      </a:lnTo>
                      <a:lnTo>
                        <a:pt x="1058" y="597"/>
                      </a:lnTo>
                      <a:lnTo>
                        <a:pt x="1061" y="564"/>
                      </a:lnTo>
                      <a:lnTo>
                        <a:pt x="1060" y="543"/>
                      </a:lnTo>
                      <a:lnTo>
                        <a:pt x="1055" y="529"/>
                      </a:lnTo>
                      <a:lnTo>
                        <a:pt x="1055" y="509"/>
                      </a:lnTo>
                      <a:lnTo>
                        <a:pt x="1047" y="501"/>
                      </a:lnTo>
                      <a:lnTo>
                        <a:pt x="1042" y="492"/>
                      </a:lnTo>
                      <a:lnTo>
                        <a:pt x="1036" y="479"/>
                      </a:lnTo>
                      <a:lnTo>
                        <a:pt x="1036" y="469"/>
                      </a:lnTo>
                      <a:lnTo>
                        <a:pt x="1030" y="460"/>
                      </a:lnTo>
                      <a:lnTo>
                        <a:pt x="1018" y="460"/>
                      </a:lnTo>
                      <a:lnTo>
                        <a:pt x="1009" y="460"/>
                      </a:lnTo>
                      <a:lnTo>
                        <a:pt x="1004" y="470"/>
                      </a:lnTo>
                      <a:lnTo>
                        <a:pt x="996" y="471"/>
                      </a:lnTo>
                      <a:lnTo>
                        <a:pt x="985" y="471"/>
                      </a:lnTo>
                      <a:lnTo>
                        <a:pt x="985" y="487"/>
                      </a:lnTo>
                      <a:lnTo>
                        <a:pt x="989" y="496"/>
                      </a:lnTo>
                      <a:lnTo>
                        <a:pt x="986" y="505"/>
                      </a:lnTo>
                      <a:lnTo>
                        <a:pt x="984" y="515"/>
                      </a:lnTo>
                      <a:lnTo>
                        <a:pt x="974" y="518"/>
                      </a:lnTo>
                      <a:lnTo>
                        <a:pt x="967" y="517"/>
                      </a:lnTo>
                      <a:lnTo>
                        <a:pt x="960" y="514"/>
                      </a:lnTo>
                      <a:lnTo>
                        <a:pt x="955" y="512"/>
                      </a:lnTo>
                      <a:lnTo>
                        <a:pt x="949" y="512"/>
                      </a:lnTo>
                      <a:lnTo>
                        <a:pt x="941" y="510"/>
                      </a:lnTo>
                      <a:lnTo>
                        <a:pt x="932" y="509"/>
                      </a:lnTo>
                      <a:lnTo>
                        <a:pt x="925" y="509"/>
                      </a:lnTo>
                      <a:lnTo>
                        <a:pt x="919" y="498"/>
                      </a:lnTo>
                      <a:lnTo>
                        <a:pt x="929" y="491"/>
                      </a:lnTo>
                      <a:lnTo>
                        <a:pt x="936" y="490"/>
                      </a:lnTo>
                      <a:lnTo>
                        <a:pt x="940" y="493"/>
                      </a:lnTo>
                      <a:lnTo>
                        <a:pt x="947" y="492"/>
                      </a:lnTo>
                      <a:lnTo>
                        <a:pt x="961" y="485"/>
                      </a:lnTo>
                      <a:lnTo>
                        <a:pt x="967" y="473"/>
                      </a:lnTo>
                      <a:lnTo>
                        <a:pt x="977" y="460"/>
                      </a:lnTo>
                      <a:lnTo>
                        <a:pt x="985" y="448"/>
                      </a:lnTo>
                      <a:lnTo>
                        <a:pt x="990" y="440"/>
                      </a:lnTo>
                      <a:lnTo>
                        <a:pt x="999" y="431"/>
                      </a:lnTo>
                      <a:lnTo>
                        <a:pt x="1000" y="420"/>
                      </a:lnTo>
                      <a:lnTo>
                        <a:pt x="1007" y="397"/>
                      </a:lnTo>
                      <a:lnTo>
                        <a:pt x="974" y="352"/>
                      </a:lnTo>
                      <a:lnTo>
                        <a:pt x="944" y="311"/>
                      </a:lnTo>
                      <a:lnTo>
                        <a:pt x="913" y="276"/>
                      </a:lnTo>
                      <a:lnTo>
                        <a:pt x="881" y="245"/>
                      </a:lnTo>
                      <a:lnTo>
                        <a:pt x="857" y="222"/>
                      </a:lnTo>
                      <a:lnTo>
                        <a:pt x="837" y="204"/>
                      </a:lnTo>
                      <a:lnTo>
                        <a:pt x="810" y="182"/>
                      </a:lnTo>
                      <a:lnTo>
                        <a:pt x="783" y="162"/>
                      </a:lnTo>
                      <a:lnTo>
                        <a:pt x="749" y="136"/>
                      </a:lnTo>
                      <a:lnTo>
                        <a:pt x="719" y="117"/>
                      </a:lnTo>
                      <a:lnTo>
                        <a:pt x="691" y="102"/>
                      </a:lnTo>
                      <a:lnTo>
                        <a:pt x="661" y="88"/>
                      </a:lnTo>
                      <a:lnTo>
                        <a:pt x="625" y="71"/>
                      </a:lnTo>
                      <a:lnTo>
                        <a:pt x="574" y="51"/>
                      </a:lnTo>
                      <a:lnTo>
                        <a:pt x="520" y="33"/>
                      </a:lnTo>
                      <a:lnTo>
                        <a:pt x="474" y="21"/>
                      </a:lnTo>
                      <a:lnTo>
                        <a:pt x="440" y="14"/>
                      </a:lnTo>
                      <a:lnTo>
                        <a:pt x="391" y="6"/>
                      </a:lnTo>
                      <a:lnTo>
                        <a:pt x="333" y="1"/>
                      </a:lnTo>
                      <a:lnTo>
                        <a:pt x="256" y="0"/>
                      </a:lnTo>
                      <a:lnTo>
                        <a:pt x="195" y="4"/>
                      </a:lnTo>
                      <a:lnTo>
                        <a:pt x="190" y="14"/>
                      </a:lnTo>
                      <a:lnTo>
                        <a:pt x="178" y="18"/>
                      </a:lnTo>
                      <a:lnTo>
                        <a:pt x="170" y="21"/>
                      </a:lnTo>
                      <a:lnTo>
                        <a:pt x="154" y="21"/>
                      </a:lnTo>
                      <a:lnTo>
                        <a:pt x="138" y="27"/>
                      </a:lnTo>
                      <a:lnTo>
                        <a:pt x="119" y="29"/>
                      </a:lnTo>
                      <a:lnTo>
                        <a:pt x="105" y="44"/>
                      </a:lnTo>
                      <a:lnTo>
                        <a:pt x="103" y="56"/>
                      </a:lnTo>
                      <a:lnTo>
                        <a:pt x="92" y="71"/>
                      </a:lnTo>
                      <a:lnTo>
                        <a:pt x="78" y="71"/>
                      </a:lnTo>
                      <a:lnTo>
                        <a:pt x="65" y="83"/>
                      </a:lnTo>
                      <a:lnTo>
                        <a:pt x="65" y="66"/>
                      </a:lnTo>
                      <a:lnTo>
                        <a:pt x="77" y="38"/>
                      </a:lnTo>
                      <a:lnTo>
                        <a:pt x="78" y="25"/>
                      </a:lnTo>
                      <a:lnTo>
                        <a:pt x="50" y="33"/>
                      </a:lnTo>
                      <a:lnTo>
                        <a:pt x="27" y="40"/>
                      </a:lnTo>
                      <a:lnTo>
                        <a:pt x="29" y="50"/>
                      </a:lnTo>
                      <a:lnTo>
                        <a:pt x="46" y="63"/>
                      </a:lnTo>
                      <a:lnTo>
                        <a:pt x="44" y="71"/>
                      </a:lnTo>
                      <a:lnTo>
                        <a:pt x="41" y="84"/>
                      </a:lnTo>
                      <a:lnTo>
                        <a:pt x="31" y="95"/>
                      </a:lnTo>
                      <a:lnTo>
                        <a:pt x="18" y="107"/>
                      </a:lnTo>
                      <a:lnTo>
                        <a:pt x="16" y="124"/>
                      </a:lnTo>
                      <a:lnTo>
                        <a:pt x="10" y="141"/>
                      </a:lnTo>
                      <a:lnTo>
                        <a:pt x="12" y="154"/>
                      </a:lnTo>
                      <a:lnTo>
                        <a:pt x="29" y="152"/>
                      </a:lnTo>
                      <a:lnTo>
                        <a:pt x="27" y="173"/>
                      </a:lnTo>
                      <a:lnTo>
                        <a:pt x="13" y="181"/>
                      </a:lnTo>
                      <a:lnTo>
                        <a:pt x="0" y="193"/>
                      </a:lnTo>
                      <a:lnTo>
                        <a:pt x="16" y="208"/>
                      </a:lnTo>
                      <a:lnTo>
                        <a:pt x="32" y="192"/>
                      </a:lnTo>
                      <a:lnTo>
                        <a:pt x="41" y="190"/>
                      </a:lnTo>
                      <a:lnTo>
                        <a:pt x="56" y="187"/>
                      </a:lnTo>
                      <a:lnTo>
                        <a:pt x="68" y="182"/>
                      </a:lnTo>
                      <a:lnTo>
                        <a:pt x="78" y="181"/>
                      </a:lnTo>
                      <a:lnTo>
                        <a:pt x="92" y="169"/>
                      </a:lnTo>
                      <a:lnTo>
                        <a:pt x="104" y="151"/>
                      </a:lnTo>
                      <a:lnTo>
                        <a:pt x="115" y="148"/>
                      </a:lnTo>
                      <a:lnTo>
                        <a:pt x="126" y="143"/>
                      </a:lnTo>
                      <a:lnTo>
                        <a:pt x="142" y="140"/>
                      </a:lnTo>
                      <a:lnTo>
                        <a:pt x="148" y="143"/>
                      </a:lnTo>
                      <a:lnTo>
                        <a:pt x="158" y="141"/>
                      </a:lnTo>
                      <a:lnTo>
                        <a:pt x="166" y="138"/>
                      </a:lnTo>
                      <a:lnTo>
                        <a:pt x="185" y="137"/>
                      </a:lnTo>
                      <a:lnTo>
                        <a:pt x="191" y="140"/>
                      </a:lnTo>
                      <a:lnTo>
                        <a:pt x="211" y="142"/>
                      </a:lnTo>
                      <a:lnTo>
                        <a:pt x="225" y="138"/>
                      </a:lnTo>
                      <a:lnTo>
                        <a:pt x="236" y="127"/>
                      </a:lnTo>
                      <a:lnTo>
                        <a:pt x="253" y="129"/>
                      </a:lnTo>
                      <a:lnTo>
                        <a:pt x="268" y="127"/>
                      </a:lnTo>
                      <a:lnTo>
                        <a:pt x="277" y="127"/>
                      </a:lnTo>
                      <a:lnTo>
                        <a:pt x="275" y="141"/>
                      </a:lnTo>
                      <a:lnTo>
                        <a:pt x="281" y="146"/>
                      </a:lnTo>
                      <a:lnTo>
                        <a:pt x="291" y="151"/>
                      </a:lnTo>
                      <a:lnTo>
                        <a:pt x="301" y="144"/>
                      </a:lnTo>
                      <a:lnTo>
                        <a:pt x="313" y="149"/>
                      </a:lnTo>
                      <a:lnTo>
                        <a:pt x="325" y="155"/>
                      </a:lnTo>
                      <a:lnTo>
                        <a:pt x="339" y="159"/>
                      </a:lnTo>
                      <a:lnTo>
                        <a:pt x="362" y="162"/>
                      </a:lnTo>
                      <a:lnTo>
                        <a:pt x="335" y="166"/>
                      </a:lnTo>
                      <a:lnTo>
                        <a:pt x="325" y="169"/>
                      </a:lnTo>
                      <a:lnTo>
                        <a:pt x="320" y="174"/>
                      </a:lnTo>
                      <a:lnTo>
                        <a:pt x="329" y="193"/>
                      </a:lnTo>
                      <a:lnTo>
                        <a:pt x="337" y="202"/>
                      </a:lnTo>
                      <a:lnTo>
                        <a:pt x="355" y="200"/>
                      </a:lnTo>
                      <a:lnTo>
                        <a:pt x="368" y="204"/>
                      </a:lnTo>
                      <a:lnTo>
                        <a:pt x="384" y="211"/>
                      </a:lnTo>
                      <a:lnTo>
                        <a:pt x="401" y="212"/>
                      </a:lnTo>
                      <a:lnTo>
                        <a:pt x="412" y="213"/>
                      </a:lnTo>
                      <a:lnTo>
                        <a:pt x="436" y="198"/>
                      </a:lnTo>
                      <a:lnTo>
                        <a:pt x="442" y="199"/>
                      </a:lnTo>
                      <a:lnTo>
                        <a:pt x="429" y="212"/>
                      </a:lnTo>
                      <a:lnTo>
                        <a:pt x="444" y="228"/>
                      </a:lnTo>
                      <a:lnTo>
                        <a:pt x="470" y="222"/>
                      </a:lnTo>
                      <a:lnTo>
                        <a:pt x="475" y="219"/>
                      </a:lnTo>
                      <a:lnTo>
                        <a:pt x="475" y="207"/>
                      </a:lnTo>
                      <a:lnTo>
                        <a:pt x="486" y="212"/>
                      </a:lnTo>
                      <a:lnTo>
                        <a:pt x="504" y="225"/>
                      </a:lnTo>
                      <a:lnTo>
                        <a:pt x="486" y="223"/>
                      </a:lnTo>
                      <a:lnTo>
                        <a:pt x="481" y="227"/>
                      </a:lnTo>
                      <a:lnTo>
                        <a:pt x="474" y="229"/>
                      </a:lnTo>
                      <a:lnTo>
                        <a:pt x="464" y="232"/>
                      </a:lnTo>
                      <a:lnTo>
                        <a:pt x="454" y="233"/>
                      </a:lnTo>
                      <a:lnTo>
                        <a:pt x="442" y="242"/>
                      </a:lnTo>
                      <a:lnTo>
                        <a:pt x="454" y="247"/>
                      </a:lnTo>
                      <a:lnTo>
                        <a:pt x="488" y="246"/>
                      </a:lnTo>
                      <a:lnTo>
                        <a:pt x="485" y="259"/>
                      </a:lnTo>
                      <a:lnTo>
                        <a:pt x="481" y="275"/>
                      </a:lnTo>
                      <a:lnTo>
                        <a:pt x="491" y="277"/>
                      </a:lnTo>
                      <a:lnTo>
                        <a:pt x="499" y="283"/>
                      </a:lnTo>
                      <a:lnTo>
                        <a:pt x="503" y="300"/>
                      </a:lnTo>
                      <a:lnTo>
                        <a:pt x="509" y="308"/>
                      </a:lnTo>
                      <a:lnTo>
                        <a:pt x="508" y="317"/>
                      </a:lnTo>
                      <a:lnTo>
                        <a:pt x="508" y="329"/>
                      </a:lnTo>
                      <a:lnTo>
                        <a:pt x="541" y="357"/>
                      </a:lnTo>
                      <a:lnTo>
                        <a:pt x="539" y="368"/>
                      </a:lnTo>
                      <a:lnTo>
                        <a:pt x="534" y="373"/>
                      </a:lnTo>
                      <a:lnTo>
                        <a:pt x="528" y="370"/>
                      </a:lnTo>
                      <a:lnTo>
                        <a:pt x="520" y="368"/>
                      </a:lnTo>
                      <a:lnTo>
                        <a:pt x="514" y="368"/>
                      </a:lnTo>
                      <a:lnTo>
                        <a:pt x="511" y="368"/>
                      </a:lnTo>
                      <a:lnTo>
                        <a:pt x="523" y="355"/>
                      </a:lnTo>
                      <a:lnTo>
                        <a:pt x="520" y="346"/>
                      </a:lnTo>
                      <a:lnTo>
                        <a:pt x="509" y="343"/>
                      </a:lnTo>
                      <a:lnTo>
                        <a:pt x="504" y="344"/>
                      </a:lnTo>
                      <a:lnTo>
                        <a:pt x="497" y="346"/>
                      </a:lnTo>
                      <a:lnTo>
                        <a:pt x="486" y="352"/>
                      </a:lnTo>
                      <a:lnTo>
                        <a:pt x="481" y="357"/>
                      </a:lnTo>
                      <a:lnTo>
                        <a:pt x="467" y="359"/>
                      </a:lnTo>
                      <a:lnTo>
                        <a:pt x="457" y="359"/>
                      </a:lnTo>
                      <a:lnTo>
                        <a:pt x="459" y="370"/>
                      </a:lnTo>
                      <a:lnTo>
                        <a:pt x="459" y="384"/>
                      </a:lnTo>
                      <a:lnTo>
                        <a:pt x="457" y="398"/>
                      </a:lnTo>
                      <a:lnTo>
                        <a:pt x="459" y="410"/>
                      </a:lnTo>
                      <a:lnTo>
                        <a:pt x="464" y="420"/>
                      </a:lnTo>
                      <a:lnTo>
                        <a:pt x="463" y="429"/>
                      </a:lnTo>
                      <a:lnTo>
                        <a:pt x="468" y="437"/>
                      </a:lnTo>
                      <a:lnTo>
                        <a:pt x="476" y="444"/>
                      </a:lnTo>
                      <a:lnTo>
                        <a:pt x="475" y="452"/>
                      </a:lnTo>
                      <a:lnTo>
                        <a:pt x="485" y="456"/>
                      </a:lnTo>
                      <a:lnTo>
                        <a:pt x="479" y="470"/>
                      </a:lnTo>
                      <a:lnTo>
                        <a:pt x="481" y="485"/>
                      </a:lnTo>
                      <a:lnTo>
                        <a:pt x="487" y="496"/>
                      </a:lnTo>
                      <a:lnTo>
                        <a:pt x="501" y="514"/>
                      </a:lnTo>
                      <a:lnTo>
                        <a:pt x="506" y="514"/>
                      </a:lnTo>
                      <a:lnTo>
                        <a:pt x="514" y="517"/>
                      </a:lnTo>
                      <a:lnTo>
                        <a:pt x="526" y="504"/>
                      </a:lnTo>
                      <a:lnTo>
                        <a:pt x="534" y="498"/>
                      </a:lnTo>
                      <a:lnTo>
                        <a:pt x="544" y="507"/>
                      </a:lnTo>
                      <a:lnTo>
                        <a:pt x="552" y="509"/>
                      </a:lnTo>
                      <a:lnTo>
                        <a:pt x="563" y="506"/>
                      </a:lnTo>
                      <a:lnTo>
                        <a:pt x="564" y="495"/>
                      </a:lnTo>
                      <a:lnTo>
                        <a:pt x="553" y="483"/>
                      </a:lnTo>
                      <a:lnTo>
                        <a:pt x="544" y="474"/>
                      </a:lnTo>
                      <a:lnTo>
                        <a:pt x="542" y="465"/>
                      </a:lnTo>
                      <a:lnTo>
                        <a:pt x="531" y="456"/>
                      </a:lnTo>
                      <a:lnTo>
                        <a:pt x="523" y="455"/>
                      </a:lnTo>
                      <a:lnTo>
                        <a:pt x="520" y="441"/>
                      </a:lnTo>
                      <a:lnTo>
                        <a:pt x="514" y="432"/>
                      </a:lnTo>
                      <a:lnTo>
                        <a:pt x="508" y="426"/>
                      </a:lnTo>
                      <a:lnTo>
                        <a:pt x="506" y="409"/>
                      </a:lnTo>
                      <a:lnTo>
                        <a:pt x="509" y="407"/>
                      </a:lnTo>
                      <a:lnTo>
                        <a:pt x="520" y="417"/>
                      </a:lnTo>
                      <a:lnTo>
                        <a:pt x="520" y="426"/>
                      </a:lnTo>
                      <a:lnTo>
                        <a:pt x="528" y="435"/>
                      </a:lnTo>
                      <a:lnTo>
                        <a:pt x="535" y="443"/>
                      </a:lnTo>
                      <a:lnTo>
                        <a:pt x="541" y="448"/>
                      </a:lnTo>
                      <a:lnTo>
                        <a:pt x="547" y="441"/>
                      </a:lnTo>
                      <a:lnTo>
                        <a:pt x="552" y="437"/>
                      </a:lnTo>
                      <a:lnTo>
                        <a:pt x="558" y="435"/>
                      </a:lnTo>
                      <a:lnTo>
                        <a:pt x="561" y="428"/>
                      </a:lnTo>
                      <a:lnTo>
                        <a:pt x="569" y="426"/>
                      </a:lnTo>
                      <a:lnTo>
                        <a:pt x="563" y="435"/>
                      </a:lnTo>
                      <a:lnTo>
                        <a:pt x="566" y="444"/>
                      </a:lnTo>
                      <a:lnTo>
                        <a:pt x="575" y="448"/>
                      </a:lnTo>
                      <a:lnTo>
                        <a:pt x="574" y="456"/>
                      </a:lnTo>
                      <a:lnTo>
                        <a:pt x="566" y="465"/>
                      </a:lnTo>
                      <a:lnTo>
                        <a:pt x="570" y="473"/>
                      </a:lnTo>
                      <a:lnTo>
                        <a:pt x="580" y="479"/>
                      </a:lnTo>
                      <a:lnTo>
                        <a:pt x="586" y="487"/>
                      </a:lnTo>
                      <a:lnTo>
                        <a:pt x="580" y="496"/>
                      </a:lnTo>
                      <a:lnTo>
                        <a:pt x="574" y="506"/>
                      </a:lnTo>
                      <a:lnTo>
                        <a:pt x="575" y="513"/>
                      </a:lnTo>
                      <a:lnTo>
                        <a:pt x="571" y="521"/>
                      </a:lnTo>
                      <a:lnTo>
                        <a:pt x="566" y="529"/>
                      </a:lnTo>
                      <a:lnTo>
                        <a:pt x="561" y="535"/>
                      </a:lnTo>
                      <a:lnTo>
                        <a:pt x="555" y="529"/>
                      </a:lnTo>
                      <a:lnTo>
                        <a:pt x="545" y="529"/>
                      </a:lnTo>
                      <a:lnTo>
                        <a:pt x="539" y="522"/>
                      </a:lnTo>
                      <a:lnTo>
                        <a:pt x="537" y="514"/>
                      </a:lnTo>
                      <a:lnTo>
                        <a:pt x="530" y="512"/>
                      </a:lnTo>
                      <a:lnTo>
                        <a:pt x="528" y="517"/>
                      </a:lnTo>
                      <a:lnTo>
                        <a:pt x="531" y="522"/>
                      </a:lnTo>
                      <a:lnTo>
                        <a:pt x="533" y="531"/>
                      </a:lnTo>
                      <a:lnTo>
                        <a:pt x="533" y="537"/>
                      </a:lnTo>
                      <a:lnTo>
                        <a:pt x="539" y="536"/>
                      </a:lnTo>
                      <a:lnTo>
                        <a:pt x="545" y="540"/>
                      </a:lnTo>
                      <a:lnTo>
                        <a:pt x="545" y="548"/>
                      </a:lnTo>
                      <a:lnTo>
                        <a:pt x="539" y="559"/>
                      </a:lnTo>
                      <a:lnTo>
                        <a:pt x="541" y="572"/>
                      </a:lnTo>
                      <a:lnTo>
                        <a:pt x="537" y="589"/>
                      </a:lnTo>
                      <a:lnTo>
                        <a:pt x="539" y="605"/>
                      </a:lnTo>
                      <a:lnTo>
                        <a:pt x="537" y="614"/>
                      </a:lnTo>
                      <a:lnTo>
                        <a:pt x="528" y="623"/>
                      </a:lnTo>
                      <a:lnTo>
                        <a:pt x="528" y="631"/>
                      </a:lnTo>
                      <a:lnTo>
                        <a:pt x="533" y="641"/>
                      </a:lnTo>
                      <a:lnTo>
                        <a:pt x="542" y="643"/>
                      </a:lnTo>
                      <a:lnTo>
                        <a:pt x="553" y="650"/>
                      </a:lnTo>
                      <a:lnTo>
                        <a:pt x="558" y="660"/>
                      </a:lnTo>
                      <a:lnTo>
                        <a:pt x="553" y="664"/>
                      </a:lnTo>
                      <a:lnTo>
                        <a:pt x="541" y="677"/>
                      </a:lnTo>
                      <a:lnTo>
                        <a:pt x="528" y="683"/>
                      </a:lnTo>
                      <a:lnTo>
                        <a:pt x="516" y="70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7967520" y="4524120"/>
                  <a:ext cx="568440" cy="636840"/>
                  <a:chOff x="7967520" y="4524120"/>
                  <a:chExt cx="568440" cy="63684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8080560" y="5030640"/>
                    <a:ext cx="396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3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2" y="27"/>
                        </a:lnTo>
                        <a:lnTo>
                          <a:pt x="9" y="27"/>
                        </a:lnTo>
                        <a:lnTo>
                          <a:pt x="24" y="32"/>
                        </a:lnTo>
                        <a:lnTo>
                          <a:pt x="19" y="19"/>
                        </a:lnTo>
                        <a:lnTo>
                          <a:pt x="21" y="13"/>
                        </a:lnTo>
                        <a:lnTo>
                          <a:pt x="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082000" y="4970160"/>
                    <a:ext cx="1033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0">
                        <a:moveTo>
                          <a:pt x="3" y="0"/>
                        </a:moveTo>
                        <a:lnTo>
                          <a:pt x="23" y="11"/>
                        </a:lnTo>
                        <a:lnTo>
                          <a:pt x="30" y="11"/>
                        </a:lnTo>
                        <a:lnTo>
                          <a:pt x="31" y="23"/>
                        </a:lnTo>
                        <a:lnTo>
                          <a:pt x="38" y="30"/>
                        </a:lnTo>
                        <a:lnTo>
                          <a:pt x="45" y="38"/>
                        </a:lnTo>
                        <a:lnTo>
                          <a:pt x="53" y="36"/>
                        </a:lnTo>
                        <a:lnTo>
                          <a:pt x="63" y="45"/>
                        </a:lnTo>
                        <a:lnTo>
                          <a:pt x="61" y="53"/>
                        </a:lnTo>
                        <a:lnTo>
                          <a:pt x="64" y="59"/>
                        </a:lnTo>
                        <a:lnTo>
                          <a:pt x="53" y="69"/>
                        </a:lnTo>
                        <a:lnTo>
                          <a:pt x="45" y="78"/>
                        </a:lnTo>
                        <a:lnTo>
                          <a:pt x="38" y="79"/>
                        </a:lnTo>
                        <a:lnTo>
                          <a:pt x="37" y="72"/>
                        </a:lnTo>
                        <a:lnTo>
                          <a:pt x="39" y="65"/>
                        </a:lnTo>
                        <a:lnTo>
                          <a:pt x="37" y="57"/>
                        </a:lnTo>
                        <a:lnTo>
                          <a:pt x="36" y="42"/>
                        </a:lnTo>
                        <a:lnTo>
                          <a:pt x="26" y="34"/>
                        </a:lnTo>
                        <a:lnTo>
                          <a:pt x="15" y="34"/>
                        </a:lnTo>
                        <a:lnTo>
                          <a:pt x="14" y="28"/>
                        </a:lnTo>
                        <a:lnTo>
                          <a:pt x="9" y="23"/>
                        </a:lnTo>
                        <a:lnTo>
                          <a:pt x="0" y="17"/>
                        </a:lnTo>
                        <a:lnTo>
                          <a:pt x="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335800" y="5124240"/>
                    <a:ext cx="32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0" y="0"/>
                        </a:moveTo>
                        <a:lnTo>
                          <a:pt x="4" y="20"/>
                        </a:lnTo>
                        <a:lnTo>
                          <a:pt x="19" y="22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8408880" y="5130720"/>
                    <a:ext cx="38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0" y="15"/>
                        </a:moveTo>
                        <a:lnTo>
                          <a:pt x="12" y="0"/>
                        </a:lnTo>
                        <a:lnTo>
                          <a:pt x="23" y="4"/>
                        </a:lnTo>
                        <a:lnTo>
                          <a:pt x="15" y="18"/>
                        </a:lnTo>
                        <a:lnTo>
                          <a:pt x="0" y="1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493120" y="5078160"/>
                    <a:ext cx="42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0" y="16"/>
                        </a:moveTo>
                        <a:lnTo>
                          <a:pt x="26" y="23"/>
                        </a:lnTo>
                        <a:lnTo>
                          <a:pt x="12" y="0"/>
                        </a:lnTo>
                        <a:lnTo>
                          <a:pt x="0" y="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7967520" y="4524120"/>
                    <a:ext cx="125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7">
                        <a:moveTo>
                          <a:pt x="0" y="22"/>
                        </a:moveTo>
                        <a:lnTo>
                          <a:pt x="36" y="25"/>
                        </a:lnTo>
                        <a:lnTo>
                          <a:pt x="47" y="33"/>
                        </a:lnTo>
                        <a:lnTo>
                          <a:pt x="58" y="36"/>
                        </a:lnTo>
                        <a:lnTo>
                          <a:pt x="78" y="28"/>
                        </a:lnTo>
                        <a:lnTo>
                          <a:pt x="67" y="17"/>
                        </a:lnTo>
                        <a:lnTo>
                          <a:pt x="50" y="17"/>
                        </a:lnTo>
                        <a:lnTo>
                          <a:pt x="45" y="0"/>
                        </a:lnTo>
                        <a:lnTo>
                          <a:pt x="31" y="3"/>
                        </a:lnTo>
                        <a:lnTo>
                          <a:pt x="0" y="2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8515440" y="4670280"/>
                  <a:ext cx="195120" cy="136440"/>
                </a:xfrm>
                <a:custGeom>
                  <a:avLst/>
                  <a:gdLst/>
                  <a:ahLst/>
                  <a:rect l="l" t="t" r="r" b="b"/>
                  <a:pathLst>
                    <a:path w="123" h="86">
                      <a:moveTo>
                        <a:pt x="118" y="52"/>
                      </a:moveTo>
                      <a:lnTo>
                        <a:pt x="122" y="76"/>
                      </a:lnTo>
                      <a:lnTo>
                        <a:pt x="108" y="82"/>
                      </a:lnTo>
                      <a:lnTo>
                        <a:pt x="93" y="85"/>
                      </a:lnTo>
                      <a:lnTo>
                        <a:pt x="81" y="77"/>
                      </a:lnTo>
                      <a:lnTo>
                        <a:pt x="73" y="66"/>
                      </a:lnTo>
                      <a:lnTo>
                        <a:pt x="67" y="59"/>
                      </a:lnTo>
                      <a:lnTo>
                        <a:pt x="50" y="62"/>
                      </a:lnTo>
                      <a:lnTo>
                        <a:pt x="34" y="63"/>
                      </a:lnTo>
                      <a:lnTo>
                        <a:pt x="23" y="59"/>
                      </a:lnTo>
                      <a:lnTo>
                        <a:pt x="17" y="49"/>
                      </a:lnTo>
                      <a:lnTo>
                        <a:pt x="0" y="48"/>
                      </a:lnTo>
                      <a:lnTo>
                        <a:pt x="1" y="38"/>
                      </a:lnTo>
                      <a:lnTo>
                        <a:pt x="4" y="30"/>
                      </a:lnTo>
                      <a:lnTo>
                        <a:pt x="1" y="21"/>
                      </a:lnTo>
                      <a:lnTo>
                        <a:pt x="3" y="13"/>
                      </a:lnTo>
                      <a:lnTo>
                        <a:pt x="5" y="7"/>
                      </a:lnTo>
                      <a:lnTo>
                        <a:pt x="17" y="0"/>
                      </a:lnTo>
                      <a:lnTo>
                        <a:pt x="28" y="2"/>
                      </a:lnTo>
                      <a:lnTo>
                        <a:pt x="28" y="13"/>
                      </a:lnTo>
                      <a:lnTo>
                        <a:pt x="28" y="21"/>
                      </a:lnTo>
                      <a:lnTo>
                        <a:pt x="32" y="25"/>
                      </a:lnTo>
                      <a:lnTo>
                        <a:pt x="40" y="27"/>
                      </a:lnTo>
                      <a:lnTo>
                        <a:pt x="45" y="29"/>
                      </a:lnTo>
                      <a:lnTo>
                        <a:pt x="52" y="26"/>
                      </a:lnTo>
                      <a:lnTo>
                        <a:pt x="58" y="26"/>
                      </a:lnTo>
                      <a:lnTo>
                        <a:pt x="63" y="19"/>
                      </a:lnTo>
                      <a:lnTo>
                        <a:pt x="70" y="21"/>
                      </a:lnTo>
                      <a:lnTo>
                        <a:pt x="75" y="29"/>
                      </a:lnTo>
                      <a:lnTo>
                        <a:pt x="74" y="35"/>
                      </a:lnTo>
                      <a:lnTo>
                        <a:pt x="86" y="35"/>
                      </a:lnTo>
                      <a:lnTo>
                        <a:pt x="99" y="32"/>
                      </a:lnTo>
                      <a:lnTo>
                        <a:pt x="105" y="37"/>
                      </a:lnTo>
                      <a:lnTo>
                        <a:pt x="118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4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RGIMENTO DA EMPRESA DIGIT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6676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PAZ DE RELACIONAR DIGITALMENTE COM CLIENETS, FORNECEDORES E EMPREGADO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NÚCLEO DO NEGÓCIO PROCESSA VIA REDES DIGITA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ERENCIAMENTO DIGITA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PERCEPÇÃO E RESPOSTAS RÁPIDAS PARA MUDANÇA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327720" y="3706920"/>
            <a:ext cx="2711520" cy="2751120"/>
            <a:chOff x="6327720" y="3706920"/>
            <a:chExt cx="2711520" cy="2751120"/>
          </a:xfrm>
        </p:grpSpPr>
        <p:sp>
          <p:nvSpPr>
            <p:cNvPr id="435" name=""/>
            <p:cNvSpPr/>
            <p:nvPr/>
          </p:nvSpPr>
          <p:spPr>
            <a:xfrm>
              <a:off x="6327720" y="3709800"/>
              <a:ext cx="2711520" cy="2748240"/>
            </a:xfrm>
            <a:prstGeom prst="ellipse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813720" y="3706920"/>
              <a:ext cx="2219040" cy="2689200"/>
              <a:chOff x="6813720" y="3706920"/>
              <a:chExt cx="2219040" cy="268920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6813720" y="3943440"/>
                <a:ext cx="1049040" cy="2452680"/>
                <a:chOff x="6813720" y="3943440"/>
                <a:chExt cx="1049040" cy="245268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7116840" y="5348160"/>
                  <a:ext cx="744480" cy="1047960"/>
                  <a:chOff x="7116840" y="5348160"/>
                  <a:chExt cx="744480" cy="104796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>
                    <a:off x="7116840" y="5348160"/>
                    <a:ext cx="744480" cy="10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9" h="638">
                        <a:moveTo>
                          <a:pt x="56" y="18"/>
                        </a:moveTo>
                        <a:lnTo>
                          <a:pt x="83" y="0"/>
                        </a:lnTo>
                        <a:lnTo>
                          <a:pt x="106" y="0"/>
                        </a:lnTo>
                        <a:lnTo>
                          <a:pt x="113" y="1"/>
                        </a:lnTo>
                        <a:lnTo>
                          <a:pt x="113" y="7"/>
                        </a:lnTo>
                        <a:lnTo>
                          <a:pt x="113" y="15"/>
                        </a:lnTo>
                        <a:lnTo>
                          <a:pt x="118" y="18"/>
                        </a:lnTo>
                        <a:lnTo>
                          <a:pt x="122" y="10"/>
                        </a:lnTo>
                        <a:lnTo>
                          <a:pt x="125" y="1"/>
                        </a:lnTo>
                        <a:lnTo>
                          <a:pt x="130" y="1"/>
                        </a:lnTo>
                        <a:lnTo>
                          <a:pt x="133" y="7"/>
                        </a:lnTo>
                        <a:lnTo>
                          <a:pt x="141" y="13"/>
                        </a:lnTo>
                        <a:lnTo>
                          <a:pt x="149" y="18"/>
                        </a:lnTo>
                        <a:lnTo>
                          <a:pt x="171" y="18"/>
                        </a:lnTo>
                        <a:lnTo>
                          <a:pt x="182" y="20"/>
                        </a:lnTo>
                        <a:lnTo>
                          <a:pt x="187" y="21"/>
                        </a:lnTo>
                        <a:lnTo>
                          <a:pt x="193" y="21"/>
                        </a:lnTo>
                        <a:lnTo>
                          <a:pt x="201" y="26"/>
                        </a:lnTo>
                        <a:lnTo>
                          <a:pt x="205" y="32"/>
                        </a:lnTo>
                        <a:lnTo>
                          <a:pt x="205" y="38"/>
                        </a:lnTo>
                        <a:lnTo>
                          <a:pt x="220" y="43"/>
                        </a:lnTo>
                        <a:lnTo>
                          <a:pt x="229" y="55"/>
                        </a:lnTo>
                        <a:lnTo>
                          <a:pt x="242" y="66"/>
                        </a:lnTo>
                        <a:lnTo>
                          <a:pt x="251" y="71"/>
                        </a:lnTo>
                        <a:lnTo>
                          <a:pt x="256" y="71"/>
                        </a:lnTo>
                        <a:lnTo>
                          <a:pt x="270" y="71"/>
                        </a:lnTo>
                        <a:lnTo>
                          <a:pt x="279" y="76"/>
                        </a:lnTo>
                        <a:lnTo>
                          <a:pt x="289" y="87"/>
                        </a:lnTo>
                        <a:lnTo>
                          <a:pt x="303" y="95"/>
                        </a:lnTo>
                        <a:lnTo>
                          <a:pt x="311" y="104"/>
                        </a:lnTo>
                        <a:lnTo>
                          <a:pt x="315" y="118"/>
                        </a:lnTo>
                        <a:lnTo>
                          <a:pt x="309" y="123"/>
                        </a:lnTo>
                        <a:lnTo>
                          <a:pt x="303" y="136"/>
                        </a:lnTo>
                        <a:lnTo>
                          <a:pt x="311" y="145"/>
                        </a:lnTo>
                        <a:lnTo>
                          <a:pt x="316" y="147"/>
                        </a:lnTo>
                        <a:lnTo>
                          <a:pt x="326" y="140"/>
                        </a:lnTo>
                        <a:lnTo>
                          <a:pt x="339" y="136"/>
                        </a:lnTo>
                        <a:lnTo>
                          <a:pt x="350" y="140"/>
                        </a:lnTo>
                        <a:lnTo>
                          <a:pt x="360" y="140"/>
                        </a:lnTo>
                        <a:lnTo>
                          <a:pt x="373" y="146"/>
                        </a:lnTo>
                        <a:lnTo>
                          <a:pt x="386" y="153"/>
                        </a:lnTo>
                        <a:lnTo>
                          <a:pt x="400" y="153"/>
                        </a:lnTo>
                        <a:lnTo>
                          <a:pt x="416" y="154"/>
                        </a:lnTo>
                        <a:lnTo>
                          <a:pt x="432" y="166"/>
                        </a:lnTo>
                        <a:lnTo>
                          <a:pt x="449" y="170"/>
                        </a:lnTo>
                        <a:lnTo>
                          <a:pt x="461" y="175"/>
                        </a:lnTo>
                        <a:lnTo>
                          <a:pt x="468" y="186"/>
                        </a:lnTo>
                        <a:lnTo>
                          <a:pt x="466" y="200"/>
                        </a:lnTo>
                        <a:lnTo>
                          <a:pt x="457" y="213"/>
                        </a:lnTo>
                        <a:lnTo>
                          <a:pt x="449" y="224"/>
                        </a:lnTo>
                        <a:lnTo>
                          <a:pt x="438" y="236"/>
                        </a:lnTo>
                        <a:lnTo>
                          <a:pt x="434" y="250"/>
                        </a:lnTo>
                        <a:lnTo>
                          <a:pt x="422" y="260"/>
                        </a:lnTo>
                        <a:lnTo>
                          <a:pt x="430" y="275"/>
                        </a:lnTo>
                        <a:lnTo>
                          <a:pt x="429" y="294"/>
                        </a:lnTo>
                        <a:lnTo>
                          <a:pt x="421" y="308"/>
                        </a:lnTo>
                        <a:lnTo>
                          <a:pt x="421" y="322"/>
                        </a:lnTo>
                        <a:lnTo>
                          <a:pt x="414" y="336"/>
                        </a:lnTo>
                        <a:lnTo>
                          <a:pt x="404" y="341"/>
                        </a:lnTo>
                        <a:lnTo>
                          <a:pt x="393" y="347"/>
                        </a:lnTo>
                        <a:lnTo>
                          <a:pt x="380" y="346"/>
                        </a:lnTo>
                        <a:lnTo>
                          <a:pt x="360" y="350"/>
                        </a:lnTo>
                        <a:lnTo>
                          <a:pt x="344" y="363"/>
                        </a:lnTo>
                        <a:lnTo>
                          <a:pt x="335" y="374"/>
                        </a:lnTo>
                        <a:lnTo>
                          <a:pt x="331" y="380"/>
                        </a:lnTo>
                        <a:lnTo>
                          <a:pt x="339" y="387"/>
                        </a:lnTo>
                        <a:lnTo>
                          <a:pt x="339" y="398"/>
                        </a:lnTo>
                        <a:lnTo>
                          <a:pt x="317" y="416"/>
                        </a:lnTo>
                        <a:lnTo>
                          <a:pt x="304" y="442"/>
                        </a:lnTo>
                        <a:lnTo>
                          <a:pt x="286" y="456"/>
                        </a:lnTo>
                        <a:lnTo>
                          <a:pt x="270" y="457"/>
                        </a:lnTo>
                        <a:lnTo>
                          <a:pt x="251" y="443"/>
                        </a:lnTo>
                        <a:lnTo>
                          <a:pt x="251" y="463"/>
                        </a:lnTo>
                        <a:lnTo>
                          <a:pt x="259" y="472"/>
                        </a:lnTo>
                        <a:lnTo>
                          <a:pt x="257" y="489"/>
                        </a:lnTo>
                        <a:lnTo>
                          <a:pt x="231" y="504"/>
                        </a:lnTo>
                        <a:lnTo>
                          <a:pt x="220" y="501"/>
                        </a:lnTo>
                        <a:lnTo>
                          <a:pt x="207" y="524"/>
                        </a:lnTo>
                        <a:lnTo>
                          <a:pt x="195" y="527"/>
                        </a:lnTo>
                        <a:lnTo>
                          <a:pt x="190" y="536"/>
                        </a:lnTo>
                        <a:lnTo>
                          <a:pt x="195" y="546"/>
                        </a:lnTo>
                        <a:lnTo>
                          <a:pt x="184" y="562"/>
                        </a:lnTo>
                        <a:lnTo>
                          <a:pt x="194" y="585"/>
                        </a:lnTo>
                        <a:lnTo>
                          <a:pt x="183" y="601"/>
                        </a:lnTo>
                        <a:lnTo>
                          <a:pt x="175" y="618"/>
                        </a:lnTo>
                        <a:lnTo>
                          <a:pt x="184" y="630"/>
                        </a:lnTo>
                        <a:lnTo>
                          <a:pt x="165" y="630"/>
                        </a:lnTo>
                        <a:lnTo>
                          <a:pt x="148" y="637"/>
                        </a:lnTo>
                        <a:lnTo>
                          <a:pt x="129" y="607"/>
                        </a:lnTo>
                        <a:lnTo>
                          <a:pt x="124" y="583"/>
                        </a:lnTo>
                        <a:lnTo>
                          <a:pt x="124" y="530"/>
                        </a:lnTo>
                        <a:lnTo>
                          <a:pt x="106" y="508"/>
                        </a:lnTo>
                        <a:lnTo>
                          <a:pt x="108" y="475"/>
                        </a:lnTo>
                        <a:lnTo>
                          <a:pt x="117" y="453"/>
                        </a:lnTo>
                        <a:lnTo>
                          <a:pt x="112" y="430"/>
                        </a:lnTo>
                        <a:lnTo>
                          <a:pt x="111" y="405"/>
                        </a:lnTo>
                        <a:lnTo>
                          <a:pt x="113" y="341"/>
                        </a:lnTo>
                        <a:lnTo>
                          <a:pt x="119" y="313"/>
                        </a:lnTo>
                        <a:lnTo>
                          <a:pt x="107" y="295"/>
                        </a:lnTo>
                        <a:lnTo>
                          <a:pt x="95" y="283"/>
                        </a:lnTo>
                        <a:lnTo>
                          <a:pt x="85" y="276"/>
                        </a:lnTo>
                        <a:lnTo>
                          <a:pt x="83" y="267"/>
                        </a:lnTo>
                        <a:lnTo>
                          <a:pt x="75" y="268"/>
                        </a:lnTo>
                        <a:lnTo>
                          <a:pt x="64" y="271"/>
                        </a:lnTo>
                        <a:lnTo>
                          <a:pt x="60" y="265"/>
                        </a:lnTo>
                        <a:lnTo>
                          <a:pt x="53" y="258"/>
                        </a:lnTo>
                        <a:lnTo>
                          <a:pt x="48" y="246"/>
                        </a:lnTo>
                        <a:lnTo>
                          <a:pt x="49" y="241"/>
                        </a:lnTo>
                        <a:lnTo>
                          <a:pt x="45" y="227"/>
                        </a:lnTo>
                        <a:lnTo>
                          <a:pt x="38" y="215"/>
                        </a:lnTo>
                        <a:lnTo>
                          <a:pt x="36" y="213"/>
                        </a:lnTo>
                        <a:lnTo>
                          <a:pt x="36" y="207"/>
                        </a:lnTo>
                        <a:lnTo>
                          <a:pt x="33" y="203"/>
                        </a:lnTo>
                        <a:lnTo>
                          <a:pt x="25" y="189"/>
                        </a:lnTo>
                        <a:lnTo>
                          <a:pt x="23" y="184"/>
                        </a:lnTo>
                        <a:lnTo>
                          <a:pt x="14" y="177"/>
                        </a:lnTo>
                        <a:lnTo>
                          <a:pt x="12" y="164"/>
                        </a:lnTo>
                        <a:lnTo>
                          <a:pt x="7" y="155"/>
                        </a:lnTo>
                        <a:lnTo>
                          <a:pt x="0" y="146"/>
                        </a:lnTo>
                        <a:lnTo>
                          <a:pt x="12" y="136"/>
                        </a:lnTo>
                        <a:lnTo>
                          <a:pt x="22" y="131"/>
                        </a:lnTo>
                        <a:lnTo>
                          <a:pt x="12" y="125"/>
                        </a:lnTo>
                        <a:lnTo>
                          <a:pt x="8" y="112"/>
                        </a:lnTo>
                        <a:lnTo>
                          <a:pt x="11" y="103"/>
                        </a:lnTo>
                        <a:lnTo>
                          <a:pt x="22" y="93"/>
                        </a:lnTo>
                        <a:lnTo>
                          <a:pt x="34" y="88"/>
                        </a:lnTo>
                        <a:lnTo>
                          <a:pt x="44" y="73"/>
                        </a:lnTo>
                        <a:lnTo>
                          <a:pt x="49" y="65"/>
                        </a:lnTo>
                        <a:lnTo>
                          <a:pt x="48" y="54"/>
                        </a:lnTo>
                        <a:lnTo>
                          <a:pt x="48" y="43"/>
                        </a:lnTo>
                        <a:lnTo>
                          <a:pt x="56" y="1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378560" y="6364080"/>
                    <a:ext cx="8424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0">
                        <a:moveTo>
                          <a:pt x="17" y="0"/>
                        </a:moveTo>
                        <a:lnTo>
                          <a:pt x="0" y="11"/>
                        </a:lnTo>
                        <a:lnTo>
                          <a:pt x="11" y="19"/>
                        </a:lnTo>
                        <a:lnTo>
                          <a:pt x="33" y="18"/>
                        </a:lnTo>
                        <a:lnTo>
                          <a:pt x="52" y="19"/>
                        </a:lnTo>
                        <a:lnTo>
                          <a:pt x="34" y="8"/>
                        </a:lnTo>
                        <a:lnTo>
                          <a:pt x="1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" name=""/>
                <p:cNvGrpSpPr/>
                <p:nvPr/>
              </p:nvGrpSpPr>
              <p:grpSpPr>
                <a:xfrm>
                  <a:off x="6813720" y="4043160"/>
                  <a:ext cx="1049040" cy="1371600"/>
                  <a:chOff x="6813720" y="4043160"/>
                  <a:chExt cx="1049040" cy="13716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7388280" y="4505400"/>
                    <a:ext cx="302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4">
                        <a:moveTo>
                          <a:pt x="0" y="17"/>
                        </a:moveTo>
                        <a:lnTo>
                          <a:pt x="18" y="23"/>
                        </a:lnTo>
                        <a:lnTo>
                          <a:pt x="17" y="15"/>
                        </a:lnTo>
                        <a:lnTo>
                          <a:pt x="18" y="4"/>
                        </a:lnTo>
                        <a:lnTo>
                          <a:pt x="9" y="0"/>
                        </a:lnTo>
                        <a:lnTo>
                          <a:pt x="6" y="9"/>
                        </a:lnTo>
                        <a:lnTo>
                          <a:pt x="0" y="1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18ffd"/>
                      </a:gs>
                      <a:gs pos="100000">
                        <a:srgbClr val="1c2a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6813720" y="4043160"/>
                    <a:ext cx="1049040" cy="1371600"/>
                    <a:chOff x="6813720" y="4043160"/>
                    <a:chExt cx="1049040" cy="137160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6813720" y="4043160"/>
                      <a:ext cx="753840" cy="137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5" h="864">
                          <a:moveTo>
                            <a:pt x="245" y="843"/>
                          </a:moveTo>
                          <a:lnTo>
                            <a:pt x="225" y="825"/>
                          </a:lnTo>
                          <a:lnTo>
                            <a:pt x="208" y="827"/>
                          </a:lnTo>
                          <a:lnTo>
                            <a:pt x="191" y="812"/>
                          </a:lnTo>
                          <a:lnTo>
                            <a:pt x="188" y="793"/>
                          </a:lnTo>
                          <a:lnTo>
                            <a:pt x="197" y="785"/>
                          </a:lnTo>
                          <a:lnTo>
                            <a:pt x="197" y="780"/>
                          </a:lnTo>
                          <a:lnTo>
                            <a:pt x="203" y="770"/>
                          </a:lnTo>
                          <a:lnTo>
                            <a:pt x="194" y="748"/>
                          </a:lnTo>
                          <a:lnTo>
                            <a:pt x="181" y="747"/>
                          </a:lnTo>
                          <a:lnTo>
                            <a:pt x="163" y="733"/>
                          </a:lnTo>
                          <a:lnTo>
                            <a:pt x="164" y="724"/>
                          </a:lnTo>
                          <a:lnTo>
                            <a:pt x="180" y="698"/>
                          </a:lnTo>
                          <a:lnTo>
                            <a:pt x="175" y="693"/>
                          </a:lnTo>
                          <a:lnTo>
                            <a:pt x="156" y="684"/>
                          </a:lnTo>
                          <a:lnTo>
                            <a:pt x="145" y="693"/>
                          </a:lnTo>
                          <a:lnTo>
                            <a:pt x="140" y="701"/>
                          </a:lnTo>
                          <a:lnTo>
                            <a:pt x="122" y="698"/>
                          </a:lnTo>
                          <a:lnTo>
                            <a:pt x="108" y="692"/>
                          </a:lnTo>
                          <a:lnTo>
                            <a:pt x="95" y="666"/>
                          </a:lnTo>
                          <a:lnTo>
                            <a:pt x="102" y="646"/>
                          </a:lnTo>
                          <a:lnTo>
                            <a:pt x="106" y="630"/>
                          </a:lnTo>
                          <a:lnTo>
                            <a:pt x="110" y="621"/>
                          </a:lnTo>
                          <a:lnTo>
                            <a:pt x="120" y="613"/>
                          </a:lnTo>
                          <a:lnTo>
                            <a:pt x="126" y="604"/>
                          </a:lnTo>
                          <a:lnTo>
                            <a:pt x="140" y="594"/>
                          </a:lnTo>
                          <a:lnTo>
                            <a:pt x="153" y="588"/>
                          </a:lnTo>
                          <a:lnTo>
                            <a:pt x="164" y="597"/>
                          </a:lnTo>
                          <a:lnTo>
                            <a:pt x="175" y="599"/>
                          </a:lnTo>
                          <a:lnTo>
                            <a:pt x="182" y="610"/>
                          </a:lnTo>
                          <a:lnTo>
                            <a:pt x="192" y="608"/>
                          </a:lnTo>
                          <a:lnTo>
                            <a:pt x="205" y="604"/>
                          </a:lnTo>
                          <a:lnTo>
                            <a:pt x="216" y="610"/>
                          </a:lnTo>
                          <a:lnTo>
                            <a:pt x="236" y="630"/>
                          </a:lnTo>
                          <a:lnTo>
                            <a:pt x="229" y="645"/>
                          </a:lnTo>
                          <a:lnTo>
                            <a:pt x="236" y="654"/>
                          </a:lnTo>
                          <a:lnTo>
                            <a:pt x="236" y="660"/>
                          </a:lnTo>
                          <a:lnTo>
                            <a:pt x="244" y="667"/>
                          </a:lnTo>
                          <a:lnTo>
                            <a:pt x="252" y="675"/>
                          </a:lnTo>
                          <a:lnTo>
                            <a:pt x="255" y="671"/>
                          </a:lnTo>
                          <a:lnTo>
                            <a:pt x="255" y="657"/>
                          </a:lnTo>
                          <a:lnTo>
                            <a:pt x="255" y="637"/>
                          </a:lnTo>
                          <a:lnTo>
                            <a:pt x="255" y="619"/>
                          </a:lnTo>
                          <a:lnTo>
                            <a:pt x="252" y="613"/>
                          </a:lnTo>
                          <a:lnTo>
                            <a:pt x="260" y="602"/>
                          </a:lnTo>
                          <a:lnTo>
                            <a:pt x="274" y="599"/>
                          </a:lnTo>
                          <a:lnTo>
                            <a:pt x="280" y="593"/>
                          </a:lnTo>
                          <a:lnTo>
                            <a:pt x="290" y="596"/>
                          </a:lnTo>
                          <a:lnTo>
                            <a:pt x="299" y="587"/>
                          </a:lnTo>
                          <a:lnTo>
                            <a:pt x="312" y="576"/>
                          </a:lnTo>
                          <a:lnTo>
                            <a:pt x="321" y="572"/>
                          </a:lnTo>
                          <a:lnTo>
                            <a:pt x="317" y="563"/>
                          </a:lnTo>
                          <a:lnTo>
                            <a:pt x="328" y="549"/>
                          </a:lnTo>
                          <a:lnTo>
                            <a:pt x="338" y="539"/>
                          </a:lnTo>
                          <a:lnTo>
                            <a:pt x="346" y="534"/>
                          </a:lnTo>
                          <a:lnTo>
                            <a:pt x="366" y="536"/>
                          </a:lnTo>
                          <a:lnTo>
                            <a:pt x="362" y="522"/>
                          </a:lnTo>
                          <a:lnTo>
                            <a:pt x="381" y="511"/>
                          </a:lnTo>
                          <a:lnTo>
                            <a:pt x="397" y="505"/>
                          </a:lnTo>
                          <a:lnTo>
                            <a:pt x="412" y="503"/>
                          </a:lnTo>
                          <a:lnTo>
                            <a:pt x="407" y="517"/>
                          </a:lnTo>
                          <a:lnTo>
                            <a:pt x="422" y="501"/>
                          </a:lnTo>
                          <a:lnTo>
                            <a:pt x="414" y="492"/>
                          </a:lnTo>
                          <a:lnTo>
                            <a:pt x="413" y="471"/>
                          </a:lnTo>
                          <a:lnTo>
                            <a:pt x="397" y="471"/>
                          </a:lnTo>
                          <a:lnTo>
                            <a:pt x="401" y="460"/>
                          </a:lnTo>
                          <a:lnTo>
                            <a:pt x="448" y="461"/>
                          </a:lnTo>
                          <a:lnTo>
                            <a:pt x="474" y="445"/>
                          </a:lnTo>
                          <a:lnTo>
                            <a:pt x="472" y="434"/>
                          </a:lnTo>
                          <a:lnTo>
                            <a:pt x="459" y="422"/>
                          </a:lnTo>
                          <a:lnTo>
                            <a:pt x="460" y="403"/>
                          </a:lnTo>
                          <a:lnTo>
                            <a:pt x="451" y="399"/>
                          </a:lnTo>
                          <a:lnTo>
                            <a:pt x="447" y="385"/>
                          </a:lnTo>
                          <a:lnTo>
                            <a:pt x="442" y="378"/>
                          </a:lnTo>
                          <a:lnTo>
                            <a:pt x="432" y="381"/>
                          </a:lnTo>
                          <a:lnTo>
                            <a:pt x="414" y="366"/>
                          </a:lnTo>
                          <a:lnTo>
                            <a:pt x="409" y="350"/>
                          </a:lnTo>
                          <a:lnTo>
                            <a:pt x="392" y="330"/>
                          </a:lnTo>
                          <a:lnTo>
                            <a:pt x="367" y="355"/>
                          </a:lnTo>
                          <a:lnTo>
                            <a:pt x="367" y="384"/>
                          </a:lnTo>
                          <a:lnTo>
                            <a:pt x="362" y="393"/>
                          </a:lnTo>
                          <a:lnTo>
                            <a:pt x="351" y="393"/>
                          </a:lnTo>
                          <a:lnTo>
                            <a:pt x="345" y="399"/>
                          </a:lnTo>
                          <a:lnTo>
                            <a:pt x="343" y="414"/>
                          </a:lnTo>
                          <a:lnTo>
                            <a:pt x="334" y="431"/>
                          </a:lnTo>
                          <a:lnTo>
                            <a:pt x="324" y="414"/>
                          </a:lnTo>
                          <a:lnTo>
                            <a:pt x="332" y="393"/>
                          </a:lnTo>
                          <a:lnTo>
                            <a:pt x="329" y="378"/>
                          </a:lnTo>
                          <a:lnTo>
                            <a:pt x="319" y="373"/>
                          </a:lnTo>
                          <a:lnTo>
                            <a:pt x="298" y="340"/>
                          </a:lnTo>
                          <a:lnTo>
                            <a:pt x="300" y="329"/>
                          </a:lnTo>
                          <a:lnTo>
                            <a:pt x="324" y="297"/>
                          </a:lnTo>
                          <a:lnTo>
                            <a:pt x="342" y="297"/>
                          </a:lnTo>
                          <a:lnTo>
                            <a:pt x="357" y="296"/>
                          </a:lnTo>
                          <a:lnTo>
                            <a:pt x="364" y="282"/>
                          </a:lnTo>
                          <a:lnTo>
                            <a:pt x="383" y="286"/>
                          </a:lnTo>
                          <a:lnTo>
                            <a:pt x="389" y="277"/>
                          </a:lnTo>
                          <a:lnTo>
                            <a:pt x="407" y="278"/>
                          </a:lnTo>
                          <a:lnTo>
                            <a:pt x="397" y="266"/>
                          </a:lnTo>
                          <a:lnTo>
                            <a:pt x="395" y="248"/>
                          </a:lnTo>
                          <a:lnTo>
                            <a:pt x="381" y="267"/>
                          </a:lnTo>
                          <a:lnTo>
                            <a:pt x="370" y="261"/>
                          </a:lnTo>
                          <a:lnTo>
                            <a:pt x="384" y="240"/>
                          </a:lnTo>
                          <a:lnTo>
                            <a:pt x="383" y="219"/>
                          </a:lnTo>
                          <a:lnTo>
                            <a:pt x="369" y="234"/>
                          </a:lnTo>
                          <a:lnTo>
                            <a:pt x="356" y="248"/>
                          </a:lnTo>
                          <a:lnTo>
                            <a:pt x="312" y="213"/>
                          </a:lnTo>
                          <a:lnTo>
                            <a:pt x="315" y="149"/>
                          </a:lnTo>
                          <a:lnTo>
                            <a:pt x="295" y="130"/>
                          </a:lnTo>
                          <a:lnTo>
                            <a:pt x="293" y="105"/>
                          </a:lnTo>
                          <a:lnTo>
                            <a:pt x="305" y="75"/>
                          </a:lnTo>
                          <a:lnTo>
                            <a:pt x="310" y="41"/>
                          </a:lnTo>
                          <a:lnTo>
                            <a:pt x="293" y="23"/>
                          </a:lnTo>
                          <a:lnTo>
                            <a:pt x="275" y="21"/>
                          </a:lnTo>
                          <a:lnTo>
                            <a:pt x="265" y="15"/>
                          </a:lnTo>
                          <a:lnTo>
                            <a:pt x="263" y="0"/>
                          </a:lnTo>
                          <a:lnTo>
                            <a:pt x="247" y="23"/>
                          </a:lnTo>
                          <a:lnTo>
                            <a:pt x="231" y="25"/>
                          </a:lnTo>
                          <a:lnTo>
                            <a:pt x="225" y="6"/>
                          </a:lnTo>
                          <a:lnTo>
                            <a:pt x="213" y="12"/>
                          </a:lnTo>
                          <a:lnTo>
                            <a:pt x="200" y="13"/>
                          </a:lnTo>
                          <a:lnTo>
                            <a:pt x="165" y="50"/>
                          </a:lnTo>
                          <a:lnTo>
                            <a:pt x="153" y="45"/>
                          </a:lnTo>
                          <a:lnTo>
                            <a:pt x="137" y="18"/>
                          </a:lnTo>
                          <a:lnTo>
                            <a:pt x="139" y="41"/>
                          </a:lnTo>
                          <a:lnTo>
                            <a:pt x="150" y="59"/>
                          </a:lnTo>
                          <a:lnTo>
                            <a:pt x="169" y="73"/>
                          </a:lnTo>
                          <a:lnTo>
                            <a:pt x="181" y="75"/>
                          </a:lnTo>
                          <a:lnTo>
                            <a:pt x="182" y="91"/>
                          </a:lnTo>
                          <a:lnTo>
                            <a:pt x="190" y="103"/>
                          </a:lnTo>
                          <a:lnTo>
                            <a:pt x="185" y="114"/>
                          </a:lnTo>
                          <a:lnTo>
                            <a:pt x="186" y="137"/>
                          </a:lnTo>
                          <a:lnTo>
                            <a:pt x="175" y="170"/>
                          </a:lnTo>
                          <a:lnTo>
                            <a:pt x="149" y="216"/>
                          </a:lnTo>
                          <a:lnTo>
                            <a:pt x="138" y="218"/>
                          </a:lnTo>
                          <a:lnTo>
                            <a:pt x="118" y="263"/>
                          </a:lnTo>
                          <a:lnTo>
                            <a:pt x="111" y="288"/>
                          </a:lnTo>
                          <a:lnTo>
                            <a:pt x="98" y="284"/>
                          </a:lnTo>
                          <a:lnTo>
                            <a:pt x="98" y="293"/>
                          </a:lnTo>
                          <a:lnTo>
                            <a:pt x="82" y="309"/>
                          </a:lnTo>
                          <a:lnTo>
                            <a:pt x="65" y="319"/>
                          </a:lnTo>
                          <a:lnTo>
                            <a:pt x="42" y="341"/>
                          </a:lnTo>
                          <a:lnTo>
                            <a:pt x="26" y="362"/>
                          </a:lnTo>
                          <a:lnTo>
                            <a:pt x="26" y="379"/>
                          </a:lnTo>
                          <a:lnTo>
                            <a:pt x="20" y="388"/>
                          </a:lnTo>
                          <a:lnTo>
                            <a:pt x="13" y="398"/>
                          </a:lnTo>
                          <a:lnTo>
                            <a:pt x="9" y="412"/>
                          </a:lnTo>
                          <a:lnTo>
                            <a:pt x="13" y="427"/>
                          </a:lnTo>
                          <a:lnTo>
                            <a:pt x="17" y="452"/>
                          </a:lnTo>
                          <a:lnTo>
                            <a:pt x="10" y="464"/>
                          </a:lnTo>
                          <a:lnTo>
                            <a:pt x="3" y="490"/>
                          </a:lnTo>
                          <a:lnTo>
                            <a:pt x="0" y="523"/>
                          </a:lnTo>
                          <a:lnTo>
                            <a:pt x="4" y="539"/>
                          </a:lnTo>
                          <a:lnTo>
                            <a:pt x="1" y="568"/>
                          </a:lnTo>
                          <a:lnTo>
                            <a:pt x="10" y="579"/>
                          </a:lnTo>
                          <a:lnTo>
                            <a:pt x="14" y="530"/>
                          </a:lnTo>
                          <a:lnTo>
                            <a:pt x="14" y="494"/>
                          </a:lnTo>
                          <a:lnTo>
                            <a:pt x="24" y="481"/>
                          </a:lnTo>
                          <a:lnTo>
                            <a:pt x="26" y="499"/>
                          </a:lnTo>
                          <a:lnTo>
                            <a:pt x="23" y="511"/>
                          </a:lnTo>
                          <a:lnTo>
                            <a:pt x="23" y="524"/>
                          </a:lnTo>
                          <a:lnTo>
                            <a:pt x="22" y="547"/>
                          </a:lnTo>
                          <a:lnTo>
                            <a:pt x="29" y="569"/>
                          </a:lnTo>
                          <a:lnTo>
                            <a:pt x="30" y="591"/>
                          </a:lnTo>
                          <a:lnTo>
                            <a:pt x="33" y="602"/>
                          </a:lnTo>
                          <a:lnTo>
                            <a:pt x="37" y="615"/>
                          </a:lnTo>
                          <a:lnTo>
                            <a:pt x="30" y="630"/>
                          </a:lnTo>
                          <a:lnTo>
                            <a:pt x="33" y="649"/>
                          </a:lnTo>
                          <a:lnTo>
                            <a:pt x="41" y="674"/>
                          </a:lnTo>
                          <a:lnTo>
                            <a:pt x="56" y="686"/>
                          </a:lnTo>
                          <a:lnTo>
                            <a:pt x="73" y="706"/>
                          </a:lnTo>
                          <a:lnTo>
                            <a:pt x="86" y="720"/>
                          </a:lnTo>
                          <a:lnTo>
                            <a:pt x="95" y="718"/>
                          </a:lnTo>
                          <a:lnTo>
                            <a:pt x="106" y="728"/>
                          </a:lnTo>
                          <a:lnTo>
                            <a:pt x="114" y="733"/>
                          </a:lnTo>
                          <a:lnTo>
                            <a:pt x="121" y="745"/>
                          </a:lnTo>
                          <a:lnTo>
                            <a:pt x="145" y="767"/>
                          </a:lnTo>
                          <a:lnTo>
                            <a:pt x="153" y="770"/>
                          </a:lnTo>
                          <a:lnTo>
                            <a:pt x="169" y="784"/>
                          </a:lnTo>
                          <a:lnTo>
                            <a:pt x="170" y="806"/>
                          </a:lnTo>
                          <a:lnTo>
                            <a:pt x="189" y="828"/>
                          </a:lnTo>
                          <a:lnTo>
                            <a:pt x="205" y="847"/>
                          </a:lnTo>
                          <a:lnTo>
                            <a:pt x="214" y="850"/>
                          </a:lnTo>
                          <a:lnTo>
                            <a:pt x="222" y="843"/>
                          </a:lnTo>
                          <a:lnTo>
                            <a:pt x="227" y="841"/>
                          </a:lnTo>
                          <a:lnTo>
                            <a:pt x="240" y="863"/>
                          </a:lnTo>
                          <a:lnTo>
                            <a:pt x="245" y="8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7145280" y="5126040"/>
                      <a:ext cx="131760" cy="8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55">
                          <a:moveTo>
                            <a:pt x="1" y="0"/>
                          </a:moveTo>
                          <a:lnTo>
                            <a:pt x="24" y="4"/>
                          </a:lnTo>
                          <a:lnTo>
                            <a:pt x="38" y="16"/>
                          </a:lnTo>
                          <a:lnTo>
                            <a:pt x="46" y="25"/>
                          </a:lnTo>
                          <a:lnTo>
                            <a:pt x="54" y="27"/>
                          </a:lnTo>
                          <a:lnTo>
                            <a:pt x="65" y="36"/>
                          </a:lnTo>
                          <a:lnTo>
                            <a:pt x="73" y="47"/>
                          </a:lnTo>
                          <a:lnTo>
                            <a:pt x="82" y="54"/>
                          </a:lnTo>
                          <a:lnTo>
                            <a:pt x="63" y="54"/>
                          </a:lnTo>
                          <a:lnTo>
                            <a:pt x="51" y="42"/>
                          </a:lnTo>
                          <a:lnTo>
                            <a:pt x="35" y="37"/>
                          </a:lnTo>
                          <a:lnTo>
                            <a:pt x="27" y="27"/>
                          </a:lnTo>
                          <a:lnTo>
                            <a:pt x="11" y="19"/>
                          </a:lnTo>
                          <a:lnTo>
                            <a:pt x="0" y="13"/>
                          </a:lnTo>
                          <a:lnTo>
                            <a:pt x="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320" bIns="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273800" y="5218200"/>
                      <a:ext cx="7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5">
                          <a:moveTo>
                            <a:pt x="0" y="13"/>
                          </a:moveTo>
                          <a:lnTo>
                            <a:pt x="15" y="0"/>
                          </a:lnTo>
                          <a:lnTo>
                            <a:pt x="31" y="2"/>
                          </a:lnTo>
                          <a:lnTo>
                            <a:pt x="47" y="16"/>
                          </a:lnTo>
                          <a:lnTo>
                            <a:pt x="47" y="22"/>
                          </a:lnTo>
                          <a:lnTo>
                            <a:pt x="36" y="24"/>
                          </a:lnTo>
                          <a:lnTo>
                            <a:pt x="27" y="19"/>
                          </a:lnTo>
                          <a:lnTo>
                            <a:pt x="15" y="19"/>
                          </a:lnTo>
                          <a:lnTo>
                            <a:pt x="0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321680" y="4298760"/>
                      <a:ext cx="74520" cy="8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56">
                          <a:moveTo>
                            <a:pt x="11" y="0"/>
                          </a:moveTo>
                          <a:lnTo>
                            <a:pt x="23" y="9"/>
                          </a:lnTo>
                          <a:lnTo>
                            <a:pt x="27" y="8"/>
                          </a:lnTo>
                          <a:lnTo>
                            <a:pt x="44" y="24"/>
                          </a:lnTo>
                          <a:lnTo>
                            <a:pt x="46" y="31"/>
                          </a:lnTo>
                          <a:lnTo>
                            <a:pt x="39" y="36"/>
                          </a:lnTo>
                          <a:lnTo>
                            <a:pt x="39" y="39"/>
                          </a:lnTo>
                          <a:lnTo>
                            <a:pt x="34" y="41"/>
                          </a:lnTo>
                          <a:lnTo>
                            <a:pt x="34" y="44"/>
                          </a:lnTo>
                          <a:lnTo>
                            <a:pt x="28" y="55"/>
                          </a:lnTo>
                          <a:lnTo>
                            <a:pt x="19" y="49"/>
                          </a:lnTo>
                          <a:lnTo>
                            <a:pt x="14" y="52"/>
                          </a:lnTo>
                          <a:lnTo>
                            <a:pt x="0" y="34"/>
                          </a:lnTo>
                          <a:lnTo>
                            <a:pt x="8" y="20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120" bIns="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7396200" y="4279680"/>
                      <a:ext cx="4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6">
                          <a:moveTo>
                            <a:pt x="0" y="14"/>
                          </a:moveTo>
                          <a:lnTo>
                            <a:pt x="17" y="25"/>
                          </a:lnTo>
                          <a:lnTo>
                            <a:pt x="20" y="20"/>
                          </a:lnTo>
                          <a:lnTo>
                            <a:pt x="29" y="9"/>
                          </a:lnTo>
                          <a:lnTo>
                            <a:pt x="25" y="3"/>
                          </a:lnTo>
                          <a:lnTo>
                            <a:pt x="19" y="5"/>
                          </a:lnTo>
                          <a:lnTo>
                            <a:pt x="17" y="0"/>
                          </a:lnTo>
                          <a:lnTo>
                            <a:pt x="12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334280" y="4262400"/>
                      <a:ext cx="493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19">
                          <a:moveTo>
                            <a:pt x="0" y="1"/>
                          </a:moveTo>
                          <a:lnTo>
                            <a:pt x="16" y="0"/>
                          </a:lnTo>
                          <a:lnTo>
                            <a:pt x="30" y="18"/>
                          </a:lnTo>
                          <a:lnTo>
                            <a:pt x="18" y="18"/>
                          </a:lnTo>
                          <a:lnTo>
                            <a:pt x="17" y="15"/>
                          </a:lnTo>
                          <a:lnTo>
                            <a:pt x="11" y="18"/>
                          </a:lnTo>
                          <a:lnTo>
                            <a:pt x="10" y="18"/>
                          </a:lnTo>
                          <a:lnTo>
                            <a:pt x="5" y="15"/>
                          </a:lnTo>
                          <a:lnTo>
                            <a:pt x="7" y="1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40480" y="4387680"/>
                      <a:ext cx="114480" cy="20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131">
                          <a:moveTo>
                            <a:pt x="31" y="73"/>
                          </a:moveTo>
                          <a:lnTo>
                            <a:pt x="19" y="88"/>
                          </a:lnTo>
                          <a:lnTo>
                            <a:pt x="14" y="88"/>
                          </a:lnTo>
                          <a:lnTo>
                            <a:pt x="9" y="92"/>
                          </a:lnTo>
                          <a:lnTo>
                            <a:pt x="3" y="92"/>
                          </a:lnTo>
                          <a:lnTo>
                            <a:pt x="2" y="96"/>
                          </a:lnTo>
                          <a:lnTo>
                            <a:pt x="12" y="97"/>
                          </a:lnTo>
                          <a:lnTo>
                            <a:pt x="16" y="100"/>
                          </a:lnTo>
                          <a:lnTo>
                            <a:pt x="20" y="106"/>
                          </a:lnTo>
                          <a:lnTo>
                            <a:pt x="20" y="108"/>
                          </a:lnTo>
                          <a:lnTo>
                            <a:pt x="27" y="114"/>
                          </a:lnTo>
                          <a:lnTo>
                            <a:pt x="27" y="119"/>
                          </a:lnTo>
                          <a:lnTo>
                            <a:pt x="31" y="119"/>
                          </a:lnTo>
                          <a:lnTo>
                            <a:pt x="44" y="130"/>
                          </a:lnTo>
                          <a:lnTo>
                            <a:pt x="41" y="122"/>
                          </a:lnTo>
                          <a:lnTo>
                            <a:pt x="41" y="114"/>
                          </a:lnTo>
                          <a:lnTo>
                            <a:pt x="45" y="114"/>
                          </a:lnTo>
                          <a:lnTo>
                            <a:pt x="49" y="118"/>
                          </a:lnTo>
                          <a:lnTo>
                            <a:pt x="52" y="118"/>
                          </a:lnTo>
                          <a:lnTo>
                            <a:pt x="54" y="119"/>
                          </a:lnTo>
                          <a:lnTo>
                            <a:pt x="56" y="118"/>
                          </a:lnTo>
                          <a:lnTo>
                            <a:pt x="56" y="111"/>
                          </a:lnTo>
                          <a:lnTo>
                            <a:pt x="52" y="106"/>
                          </a:lnTo>
                          <a:lnTo>
                            <a:pt x="51" y="97"/>
                          </a:lnTo>
                          <a:lnTo>
                            <a:pt x="53" y="89"/>
                          </a:lnTo>
                          <a:lnTo>
                            <a:pt x="68" y="104"/>
                          </a:lnTo>
                          <a:lnTo>
                            <a:pt x="68" y="95"/>
                          </a:lnTo>
                          <a:lnTo>
                            <a:pt x="71" y="84"/>
                          </a:lnTo>
                          <a:lnTo>
                            <a:pt x="61" y="73"/>
                          </a:lnTo>
                          <a:lnTo>
                            <a:pt x="60" y="65"/>
                          </a:lnTo>
                          <a:lnTo>
                            <a:pt x="61" y="49"/>
                          </a:lnTo>
                          <a:lnTo>
                            <a:pt x="47" y="31"/>
                          </a:lnTo>
                          <a:lnTo>
                            <a:pt x="33" y="20"/>
                          </a:lnTo>
                          <a:lnTo>
                            <a:pt x="36" y="15"/>
                          </a:lnTo>
                          <a:lnTo>
                            <a:pt x="30" y="11"/>
                          </a:lnTo>
                          <a:lnTo>
                            <a:pt x="30" y="4"/>
                          </a:lnTo>
                          <a:lnTo>
                            <a:pt x="19" y="15"/>
                          </a:lnTo>
                          <a:lnTo>
                            <a:pt x="16" y="12"/>
                          </a:lnTo>
                          <a:lnTo>
                            <a:pt x="20" y="6"/>
                          </a:lnTo>
                          <a:lnTo>
                            <a:pt x="20" y="0"/>
                          </a:lnTo>
                          <a:lnTo>
                            <a:pt x="14" y="0"/>
                          </a:lnTo>
                          <a:lnTo>
                            <a:pt x="8" y="3"/>
                          </a:lnTo>
                          <a:lnTo>
                            <a:pt x="0" y="5"/>
                          </a:lnTo>
                          <a:lnTo>
                            <a:pt x="0" y="12"/>
                          </a:lnTo>
                          <a:lnTo>
                            <a:pt x="0" y="19"/>
                          </a:lnTo>
                          <a:lnTo>
                            <a:pt x="2" y="22"/>
                          </a:lnTo>
                          <a:lnTo>
                            <a:pt x="11" y="27"/>
                          </a:lnTo>
                          <a:lnTo>
                            <a:pt x="9" y="34"/>
                          </a:lnTo>
                          <a:lnTo>
                            <a:pt x="13" y="37"/>
                          </a:lnTo>
                          <a:lnTo>
                            <a:pt x="17" y="39"/>
                          </a:lnTo>
                          <a:lnTo>
                            <a:pt x="24" y="39"/>
                          </a:lnTo>
                          <a:lnTo>
                            <a:pt x="30" y="45"/>
                          </a:lnTo>
                          <a:lnTo>
                            <a:pt x="31" y="54"/>
                          </a:lnTo>
                          <a:lnTo>
                            <a:pt x="30" y="64"/>
                          </a:lnTo>
                          <a:lnTo>
                            <a:pt x="31" y="7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7720" y="4275000"/>
                      <a:ext cx="11124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59">
                          <a:moveTo>
                            <a:pt x="0" y="43"/>
                          </a:moveTo>
                          <a:lnTo>
                            <a:pt x="16" y="58"/>
                          </a:lnTo>
                          <a:lnTo>
                            <a:pt x="26" y="49"/>
                          </a:lnTo>
                          <a:lnTo>
                            <a:pt x="32" y="49"/>
                          </a:lnTo>
                          <a:lnTo>
                            <a:pt x="46" y="29"/>
                          </a:lnTo>
                          <a:lnTo>
                            <a:pt x="53" y="31"/>
                          </a:lnTo>
                          <a:lnTo>
                            <a:pt x="65" y="18"/>
                          </a:lnTo>
                          <a:lnTo>
                            <a:pt x="64" y="14"/>
                          </a:lnTo>
                          <a:lnTo>
                            <a:pt x="69" y="10"/>
                          </a:lnTo>
                          <a:lnTo>
                            <a:pt x="65" y="6"/>
                          </a:lnTo>
                          <a:lnTo>
                            <a:pt x="54" y="6"/>
                          </a:lnTo>
                          <a:lnTo>
                            <a:pt x="46" y="5"/>
                          </a:lnTo>
                          <a:lnTo>
                            <a:pt x="41" y="0"/>
                          </a:lnTo>
                          <a:lnTo>
                            <a:pt x="32" y="1"/>
                          </a:lnTo>
                          <a:lnTo>
                            <a:pt x="29" y="6"/>
                          </a:lnTo>
                          <a:lnTo>
                            <a:pt x="29" y="11"/>
                          </a:lnTo>
                          <a:lnTo>
                            <a:pt x="29" y="22"/>
                          </a:lnTo>
                          <a:lnTo>
                            <a:pt x="23" y="24"/>
                          </a:lnTo>
                          <a:lnTo>
                            <a:pt x="20" y="29"/>
                          </a:lnTo>
                          <a:lnTo>
                            <a:pt x="8" y="41"/>
                          </a:lnTo>
                          <a:lnTo>
                            <a:pt x="0" y="4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804080" y="4503600"/>
                      <a:ext cx="586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31">
                          <a:moveTo>
                            <a:pt x="0" y="16"/>
                          </a:moveTo>
                          <a:lnTo>
                            <a:pt x="13" y="7"/>
                          </a:lnTo>
                          <a:lnTo>
                            <a:pt x="17" y="7"/>
                          </a:lnTo>
                          <a:lnTo>
                            <a:pt x="17" y="3"/>
                          </a:lnTo>
                          <a:lnTo>
                            <a:pt x="20" y="0"/>
                          </a:lnTo>
                          <a:lnTo>
                            <a:pt x="24" y="1"/>
                          </a:lnTo>
                          <a:lnTo>
                            <a:pt x="32" y="7"/>
                          </a:lnTo>
                          <a:lnTo>
                            <a:pt x="32" y="11"/>
                          </a:lnTo>
                          <a:lnTo>
                            <a:pt x="36" y="13"/>
                          </a:lnTo>
                          <a:lnTo>
                            <a:pt x="36" y="19"/>
                          </a:lnTo>
                          <a:lnTo>
                            <a:pt x="32" y="20"/>
                          </a:lnTo>
                          <a:lnTo>
                            <a:pt x="32" y="25"/>
                          </a:lnTo>
                          <a:lnTo>
                            <a:pt x="26" y="30"/>
                          </a:lnTo>
                          <a:lnTo>
                            <a:pt x="9" y="30"/>
                          </a:lnTo>
                          <a:lnTo>
                            <a:pt x="7" y="2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7575480" y="4286160"/>
                      <a:ext cx="201600" cy="339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214">
                          <a:moveTo>
                            <a:pt x="0" y="63"/>
                          </a:moveTo>
                          <a:lnTo>
                            <a:pt x="0" y="44"/>
                          </a:lnTo>
                          <a:lnTo>
                            <a:pt x="5" y="42"/>
                          </a:lnTo>
                          <a:lnTo>
                            <a:pt x="4" y="38"/>
                          </a:lnTo>
                          <a:lnTo>
                            <a:pt x="18" y="22"/>
                          </a:lnTo>
                          <a:lnTo>
                            <a:pt x="26" y="16"/>
                          </a:lnTo>
                          <a:lnTo>
                            <a:pt x="30" y="13"/>
                          </a:lnTo>
                          <a:lnTo>
                            <a:pt x="39" y="7"/>
                          </a:lnTo>
                          <a:lnTo>
                            <a:pt x="41" y="7"/>
                          </a:lnTo>
                          <a:lnTo>
                            <a:pt x="45" y="7"/>
                          </a:lnTo>
                          <a:lnTo>
                            <a:pt x="49" y="2"/>
                          </a:lnTo>
                          <a:lnTo>
                            <a:pt x="56" y="1"/>
                          </a:lnTo>
                          <a:lnTo>
                            <a:pt x="69" y="0"/>
                          </a:lnTo>
                          <a:lnTo>
                            <a:pt x="77" y="8"/>
                          </a:lnTo>
                          <a:lnTo>
                            <a:pt x="76" y="13"/>
                          </a:lnTo>
                          <a:lnTo>
                            <a:pt x="81" y="16"/>
                          </a:lnTo>
                          <a:lnTo>
                            <a:pt x="92" y="3"/>
                          </a:lnTo>
                          <a:lnTo>
                            <a:pt x="93" y="16"/>
                          </a:lnTo>
                          <a:lnTo>
                            <a:pt x="99" y="34"/>
                          </a:lnTo>
                          <a:lnTo>
                            <a:pt x="103" y="50"/>
                          </a:lnTo>
                          <a:lnTo>
                            <a:pt x="114" y="66"/>
                          </a:lnTo>
                          <a:lnTo>
                            <a:pt x="115" y="75"/>
                          </a:lnTo>
                          <a:lnTo>
                            <a:pt x="117" y="91"/>
                          </a:lnTo>
                          <a:lnTo>
                            <a:pt x="121" y="99"/>
                          </a:lnTo>
                          <a:lnTo>
                            <a:pt x="126" y="115"/>
                          </a:lnTo>
                          <a:lnTo>
                            <a:pt x="122" y="126"/>
                          </a:lnTo>
                          <a:lnTo>
                            <a:pt x="121" y="131"/>
                          </a:lnTo>
                          <a:lnTo>
                            <a:pt x="113" y="133"/>
                          </a:lnTo>
                          <a:lnTo>
                            <a:pt x="104" y="140"/>
                          </a:lnTo>
                          <a:lnTo>
                            <a:pt x="100" y="144"/>
                          </a:lnTo>
                          <a:lnTo>
                            <a:pt x="101" y="148"/>
                          </a:lnTo>
                          <a:lnTo>
                            <a:pt x="93" y="156"/>
                          </a:lnTo>
                          <a:lnTo>
                            <a:pt x="88" y="160"/>
                          </a:lnTo>
                          <a:lnTo>
                            <a:pt x="84" y="160"/>
                          </a:lnTo>
                          <a:lnTo>
                            <a:pt x="77" y="165"/>
                          </a:lnTo>
                          <a:lnTo>
                            <a:pt x="78" y="171"/>
                          </a:lnTo>
                          <a:lnTo>
                            <a:pt x="69" y="178"/>
                          </a:lnTo>
                          <a:lnTo>
                            <a:pt x="69" y="185"/>
                          </a:lnTo>
                          <a:lnTo>
                            <a:pt x="66" y="194"/>
                          </a:lnTo>
                          <a:lnTo>
                            <a:pt x="66" y="203"/>
                          </a:lnTo>
                          <a:lnTo>
                            <a:pt x="65" y="209"/>
                          </a:lnTo>
                          <a:lnTo>
                            <a:pt x="61" y="213"/>
                          </a:lnTo>
                          <a:lnTo>
                            <a:pt x="52" y="213"/>
                          </a:lnTo>
                          <a:lnTo>
                            <a:pt x="45" y="212"/>
                          </a:lnTo>
                          <a:lnTo>
                            <a:pt x="34" y="205"/>
                          </a:lnTo>
                          <a:lnTo>
                            <a:pt x="28" y="199"/>
                          </a:lnTo>
                          <a:lnTo>
                            <a:pt x="27" y="194"/>
                          </a:lnTo>
                          <a:lnTo>
                            <a:pt x="27" y="187"/>
                          </a:lnTo>
                          <a:lnTo>
                            <a:pt x="23" y="178"/>
                          </a:lnTo>
                          <a:lnTo>
                            <a:pt x="21" y="171"/>
                          </a:lnTo>
                          <a:lnTo>
                            <a:pt x="22" y="165"/>
                          </a:lnTo>
                          <a:lnTo>
                            <a:pt x="21" y="156"/>
                          </a:lnTo>
                          <a:lnTo>
                            <a:pt x="17" y="154"/>
                          </a:lnTo>
                          <a:lnTo>
                            <a:pt x="23" y="148"/>
                          </a:lnTo>
                          <a:lnTo>
                            <a:pt x="27" y="140"/>
                          </a:lnTo>
                          <a:lnTo>
                            <a:pt x="27" y="135"/>
                          </a:lnTo>
                          <a:lnTo>
                            <a:pt x="24" y="128"/>
                          </a:lnTo>
                          <a:lnTo>
                            <a:pt x="19" y="121"/>
                          </a:lnTo>
                          <a:lnTo>
                            <a:pt x="22" y="110"/>
                          </a:lnTo>
                          <a:lnTo>
                            <a:pt x="20" y="98"/>
                          </a:lnTo>
                          <a:lnTo>
                            <a:pt x="18" y="87"/>
                          </a:lnTo>
                          <a:lnTo>
                            <a:pt x="16" y="74"/>
                          </a:lnTo>
                          <a:lnTo>
                            <a:pt x="8" y="69"/>
                          </a:lnTo>
                          <a:lnTo>
                            <a:pt x="0" y="6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7523280" y="4770360"/>
                      <a:ext cx="6660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43">
                          <a:moveTo>
                            <a:pt x="0" y="30"/>
                          </a:moveTo>
                          <a:lnTo>
                            <a:pt x="15" y="36"/>
                          </a:lnTo>
                          <a:lnTo>
                            <a:pt x="26" y="37"/>
                          </a:lnTo>
                          <a:lnTo>
                            <a:pt x="33" y="40"/>
                          </a:lnTo>
                          <a:lnTo>
                            <a:pt x="37" y="42"/>
                          </a:lnTo>
                          <a:lnTo>
                            <a:pt x="41" y="34"/>
                          </a:lnTo>
                          <a:lnTo>
                            <a:pt x="40" y="30"/>
                          </a:lnTo>
                          <a:lnTo>
                            <a:pt x="41" y="25"/>
                          </a:lnTo>
                          <a:lnTo>
                            <a:pt x="39" y="20"/>
                          </a:lnTo>
                          <a:lnTo>
                            <a:pt x="36" y="23"/>
                          </a:lnTo>
                          <a:lnTo>
                            <a:pt x="26" y="12"/>
                          </a:lnTo>
                          <a:lnTo>
                            <a:pt x="26" y="4"/>
                          </a:lnTo>
                          <a:lnTo>
                            <a:pt x="30" y="1"/>
                          </a:lnTo>
                          <a:lnTo>
                            <a:pt x="27" y="0"/>
                          </a:lnTo>
                          <a:lnTo>
                            <a:pt x="16" y="5"/>
                          </a:lnTo>
                          <a:lnTo>
                            <a:pt x="16" y="11"/>
                          </a:lnTo>
                          <a:lnTo>
                            <a:pt x="14" y="19"/>
                          </a:lnTo>
                          <a:lnTo>
                            <a:pt x="8" y="27"/>
                          </a:lnTo>
                          <a:lnTo>
                            <a:pt x="0" y="3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008000"/>
                        </a:gs>
                        <a:gs pos="100000">
                          <a:srgbClr val="0026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201080" y="4724280"/>
                  <a:ext cx="139680" cy="133560"/>
                  <a:chOff x="7201080" y="4724280"/>
                  <a:chExt cx="139680" cy="1335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>
                    <a:off x="7201080" y="4724280"/>
                    <a:ext cx="9504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7">
                        <a:moveTo>
                          <a:pt x="0" y="6"/>
                        </a:moveTo>
                        <a:lnTo>
                          <a:pt x="8" y="2"/>
                        </a:lnTo>
                        <a:lnTo>
                          <a:pt x="11" y="4"/>
                        </a:lnTo>
                        <a:lnTo>
                          <a:pt x="17" y="2"/>
                        </a:lnTo>
                        <a:lnTo>
                          <a:pt x="26" y="0"/>
                        </a:lnTo>
                        <a:lnTo>
                          <a:pt x="32" y="4"/>
                        </a:lnTo>
                        <a:lnTo>
                          <a:pt x="36" y="4"/>
                        </a:lnTo>
                        <a:lnTo>
                          <a:pt x="38" y="11"/>
                        </a:lnTo>
                        <a:lnTo>
                          <a:pt x="42" y="13"/>
                        </a:lnTo>
                        <a:lnTo>
                          <a:pt x="42" y="19"/>
                        </a:lnTo>
                        <a:lnTo>
                          <a:pt x="43" y="25"/>
                        </a:lnTo>
                        <a:lnTo>
                          <a:pt x="44" y="30"/>
                        </a:lnTo>
                        <a:lnTo>
                          <a:pt x="52" y="40"/>
                        </a:lnTo>
                        <a:lnTo>
                          <a:pt x="55" y="42"/>
                        </a:lnTo>
                        <a:lnTo>
                          <a:pt x="58" y="43"/>
                        </a:lnTo>
                        <a:lnTo>
                          <a:pt x="59" y="48"/>
                        </a:lnTo>
                        <a:lnTo>
                          <a:pt x="53" y="54"/>
                        </a:lnTo>
                        <a:lnTo>
                          <a:pt x="44" y="66"/>
                        </a:lnTo>
                        <a:lnTo>
                          <a:pt x="42" y="65"/>
                        </a:lnTo>
                        <a:lnTo>
                          <a:pt x="40" y="59"/>
                        </a:lnTo>
                        <a:lnTo>
                          <a:pt x="41" y="49"/>
                        </a:lnTo>
                        <a:lnTo>
                          <a:pt x="42" y="46"/>
                        </a:lnTo>
                        <a:lnTo>
                          <a:pt x="42" y="41"/>
                        </a:lnTo>
                        <a:lnTo>
                          <a:pt x="28" y="43"/>
                        </a:lnTo>
                        <a:lnTo>
                          <a:pt x="17" y="52"/>
                        </a:lnTo>
                        <a:lnTo>
                          <a:pt x="17" y="56"/>
                        </a:lnTo>
                        <a:lnTo>
                          <a:pt x="15" y="63"/>
                        </a:lnTo>
                        <a:lnTo>
                          <a:pt x="7" y="63"/>
                        </a:lnTo>
                        <a:lnTo>
                          <a:pt x="4" y="60"/>
                        </a:lnTo>
                        <a:lnTo>
                          <a:pt x="7" y="54"/>
                        </a:lnTo>
                        <a:lnTo>
                          <a:pt x="8" y="49"/>
                        </a:lnTo>
                        <a:lnTo>
                          <a:pt x="11" y="48"/>
                        </a:lnTo>
                        <a:lnTo>
                          <a:pt x="9" y="44"/>
                        </a:lnTo>
                        <a:lnTo>
                          <a:pt x="16" y="35"/>
                        </a:lnTo>
                        <a:lnTo>
                          <a:pt x="20" y="35"/>
                        </a:lnTo>
                        <a:lnTo>
                          <a:pt x="26" y="36"/>
                        </a:lnTo>
                        <a:lnTo>
                          <a:pt x="30" y="32"/>
                        </a:lnTo>
                        <a:lnTo>
                          <a:pt x="34" y="31"/>
                        </a:lnTo>
                        <a:lnTo>
                          <a:pt x="34" y="28"/>
                        </a:lnTo>
                        <a:lnTo>
                          <a:pt x="22" y="26"/>
                        </a:lnTo>
                        <a:lnTo>
                          <a:pt x="23" y="16"/>
                        </a:lnTo>
                        <a:lnTo>
                          <a:pt x="19" y="16"/>
                        </a:lnTo>
                        <a:lnTo>
                          <a:pt x="11" y="16"/>
                        </a:lnTo>
                        <a:lnTo>
                          <a:pt x="0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254720" y="4841640"/>
                    <a:ext cx="3816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0">
                        <a:moveTo>
                          <a:pt x="0" y="7"/>
                        </a:moveTo>
                        <a:lnTo>
                          <a:pt x="13" y="9"/>
                        </a:lnTo>
                        <a:lnTo>
                          <a:pt x="23" y="1"/>
                        </a:lnTo>
                        <a:lnTo>
                          <a:pt x="13" y="0"/>
                        </a:lnTo>
                        <a:lnTo>
                          <a:pt x="8" y="3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305840" y="4835520"/>
                    <a:ext cx="3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9">
                        <a:moveTo>
                          <a:pt x="0" y="5"/>
                        </a:moveTo>
                        <a:lnTo>
                          <a:pt x="12" y="8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" name=""/>
                <p:cNvGrpSpPr/>
                <p:nvPr/>
              </p:nvGrpSpPr>
              <p:grpSpPr>
                <a:xfrm>
                  <a:off x="7594560" y="3943440"/>
                  <a:ext cx="31680" cy="52200"/>
                  <a:chOff x="7594560" y="3943440"/>
                  <a:chExt cx="31680" cy="5220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7594560" y="3970440"/>
                    <a:ext cx="3168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6">
                        <a:moveTo>
                          <a:pt x="0" y="10"/>
                        </a:moveTo>
                        <a:lnTo>
                          <a:pt x="19" y="15"/>
                        </a:lnTo>
                        <a:lnTo>
                          <a:pt x="18" y="6"/>
                        </a:lnTo>
                        <a:lnTo>
                          <a:pt x="18" y="0"/>
                        </a:lnTo>
                        <a:lnTo>
                          <a:pt x="9" y="4"/>
                        </a:lnTo>
                        <a:lnTo>
                          <a:pt x="0" y="1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594560" y="3943440"/>
                    <a:ext cx="255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9">
                        <a:moveTo>
                          <a:pt x="0" y="5"/>
                        </a:moveTo>
                        <a:lnTo>
                          <a:pt x="15" y="0"/>
                        </a:lnTo>
                        <a:lnTo>
                          <a:pt x="15" y="8"/>
                        </a:lnTo>
                        <a:lnTo>
                          <a:pt x="0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fdf00"/>
                      </a:gs>
                      <a:gs pos="100000">
                        <a:srgbClr val="1c42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7236000" y="3706920"/>
                <a:ext cx="1796760" cy="2261880"/>
                <a:chOff x="7236000" y="3706920"/>
                <a:chExt cx="1796760" cy="22618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8058240" y="4703760"/>
                  <a:ext cx="974520" cy="1265040"/>
                </a:xfrm>
                <a:custGeom>
                  <a:avLst/>
                  <a:gdLst/>
                  <a:ahLst/>
                  <a:rect l="l" t="t" r="r" b="b"/>
                  <a:pathLst>
                    <a:path w="614" h="797">
                      <a:moveTo>
                        <a:pt x="50" y="120"/>
                      </a:moveTo>
                      <a:lnTo>
                        <a:pt x="86" y="106"/>
                      </a:lnTo>
                      <a:lnTo>
                        <a:pt x="102" y="79"/>
                      </a:lnTo>
                      <a:lnTo>
                        <a:pt x="119" y="73"/>
                      </a:lnTo>
                      <a:lnTo>
                        <a:pt x="143" y="54"/>
                      </a:lnTo>
                      <a:lnTo>
                        <a:pt x="168" y="84"/>
                      </a:lnTo>
                      <a:lnTo>
                        <a:pt x="181" y="73"/>
                      </a:lnTo>
                      <a:lnTo>
                        <a:pt x="190" y="76"/>
                      </a:lnTo>
                      <a:lnTo>
                        <a:pt x="202" y="71"/>
                      </a:lnTo>
                      <a:lnTo>
                        <a:pt x="210" y="71"/>
                      </a:lnTo>
                      <a:lnTo>
                        <a:pt x="227" y="73"/>
                      </a:lnTo>
                      <a:lnTo>
                        <a:pt x="246" y="62"/>
                      </a:lnTo>
                      <a:lnTo>
                        <a:pt x="232" y="46"/>
                      </a:lnTo>
                      <a:lnTo>
                        <a:pt x="251" y="26"/>
                      </a:lnTo>
                      <a:lnTo>
                        <a:pt x="268" y="26"/>
                      </a:lnTo>
                      <a:lnTo>
                        <a:pt x="290" y="4"/>
                      </a:lnTo>
                      <a:lnTo>
                        <a:pt x="307" y="4"/>
                      </a:lnTo>
                      <a:lnTo>
                        <a:pt x="315" y="0"/>
                      </a:lnTo>
                      <a:lnTo>
                        <a:pt x="339" y="4"/>
                      </a:lnTo>
                      <a:lnTo>
                        <a:pt x="350" y="13"/>
                      </a:lnTo>
                      <a:lnTo>
                        <a:pt x="359" y="15"/>
                      </a:lnTo>
                      <a:lnTo>
                        <a:pt x="378" y="24"/>
                      </a:lnTo>
                      <a:lnTo>
                        <a:pt x="397" y="32"/>
                      </a:lnTo>
                      <a:lnTo>
                        <a:pt x="414" y="43"/>
                      </a:lnTo>
                      <a:lnTo>
                        <a:pt x="436" y="65"/>
                      </a:lnTo>
                      <a:lnTo>
                        <a:pt x="444" y="79"/>
                      </a:lnTo>
                      <a:lnTo>
                        <a:pt x="468" y="76"/>
                      </a:lnTo>
                      <a:lnTo>
                        <a:pt x="505" y="82"/>
                      </a:lnTo>
                      <a:lnTo>
                        <a:pt x="524" y="93"/>
                      </a:lnTo>
                      <a:lnTo>
                        <a:pt x="562" y="65"/>
                      </a:lnTo>
                      <a:lnTo>
                        <a:pt x="560" y="49"/>
                      </a:lnTo>
                      <a:lnTo>
                        <a:pt x="573" y="32"/>
                      </a:lnTo>
                      <a:lnTo>
                        <a:pt x="587" y="26"/>
                      </a:lnTo>
                      <a:lnTo>
                        <a:pt x="593" y="49"/>
                      </a:lnTo>
                      <a:lnTo>
                        <a:pt x="595" y="79"/>
                      </a:lnTo>
                      <a:lnTo>
                        <a:pt x="604" y="112"/>
                      </a:lnTo>
                      <a:lnTo>
                        <a:pt x="604" y="137"/>
                      </a:lnTo>
                      <a:lnTo>
                        <a:pt x="590" y="156"/>
                      </a:lnTo>
                      <a:lnTo>
                        <a:pt x="606" y="162"/>
                      </a:lnTo>
                      <a:lnTo>
                        <a:pt x="601" y="186"/>
                      </a:lnTo>
                      <a:lnTo>
                        <a:pt x="595" y="217"/>
                      </a:lnTo>
                      <a:lnTo>
                        <a:pt x="587" y="239"/>
                      </a:lnTo>
                      <a:lnTo>
                        <a:pt x="576" y="258"/>
                      </a:lnTo>
                      <a:lnTo>
                        <a:pt x="571" y="271"/>
                      </a:lnTo>
                      <a:lnTo>
                        <a:pt x="573" y="291"/>
                      </a:lnTo>
                      <a:lnTo>
                        <a:pt x="579" y="316"/>
                      </a:lnTo>
                      <a:lnTo>
                        <a:pt x="573" y="332"/>
                      </a:lnTo>
                      <a:lnTo>
                        <a:pt x="576" y="346"/>
                      </a:lnTo>
                      <a:lnTo>
                        <a:pt x="582" y="357"/>
                      </a:lnTo>
                      <a:lnTo>
                        <a:pt x="590" y="373"/>
                      </a:lnTo>
                      <a:lnTo>
                        <a:pt x="613" y="399"/>
                      </a:lnTo>
                      <a:lnTo>
                        <a:pt x="608" y="420"/>
                      </a:lnTo>
                      <a:lnTo>
                        <a:pt x="598" y="462"/>
                      </a:lnTo>
                      <a:lnTo>
                        <a:pt x="586" y="507"/>
                      </a:lnTo>
                      <a:lnTo>
                        <a:pt x="575" y="541"/>
                      </a:lnTo>
                      <a:lnTo>
                        <a:pt x="560" y="577"/>
                      </a:lnTo>
                      <a:lnTo>
                        <a:pt x="540" y="621"/>
                      </a:lnTo>
                      <a:lnTo>
                        <a:pt x="523" y="655"/>
                      </a:lnTo>
                      <a:lnTo>
                        <a:pt x="502" y="693"/>
                      </a:lnTo>
                      <a:lnTo>
                        <a:pt x="484" y="721"/>
                      </a:lnTo>
                      <a:lnTo>
                        <a:pt x="464" y="751"/>
                      </a:lnTo>
                      <a:lnTo>
                        <a:pt x="437" y="785"/>
                      </a:lnTo>
                      <a:lnTo>
                        <a:pt x="414" y="796"/>
                      </a:lnTo>
                      <a:lnTo>
                        <a:pt x="395" y="790"/>
                      </a:lnTo>
                      <a:lnTo>
                        <a:pt x="384" y="765"/>
                      </a:lnTo>
                      <a:lnTo>
                        <a:pt x="389" y="759"/>
                      </a:lnTo>
                      <a:lnTo>
                        <a:pt x="395" y="740"/>
                      </a:lnTo>
                      <a:lnTo>
                        <a:pt x="384" y="729"/>
                      </a:lnTo>
                      <a:lnTo>
                        <a:pt x="384" y="716"/>
                      </a:lnTo>
                      <a:lnTo>
                        <a:pt x="375" y="705"/>
                      </a:lnTo>
                      <a:lnTo>
                        <a:pt x="375" y="668"/>
                      </a:lnTo>
                      <a:lnTo>
                        <a:pt x="365" y="644"/>
                      </a:lnTo>
                      <a:lnTo>
                        <a:pt x="359" y="629"/>
                      </a:lnTo>
                      <a:lnTo>
                        <a:pt x="348" y="616"/>
                      </a:lnTo>
                      <a:lnTo>
                        <a:pt x="331" y="599"/>
                      </a:lnTo>
                      <a:lnTo>
                        <a:pt x="345" y="575"/>
                      </a:lnTo>
                      <a:lnTo>
                        <a:pt x="348" y="555"/>
                      </a:lnTo>
                      <a:lnTo>
                        <a:pt x="348" y="544"/>
                      </a:lnTo>
                      <a:lnTo>
                        <a:pt x="359" y="536"/>
                      </a:lnTo>
                      <a:lnTo>
                        <a:pt x="353" y="519"/>
                      </a:lnTo>
                      <a:lnTo>
                        <a:pt x="350" y="497"/>
                      </a:lnTo>
                      <a:lnTo>
                        <a:pt x="345" y="476"/>
                      </a:lnTo>
                      <a:lnTo>
                        <a:pt x="290" y="431"/>
                      </a:lnTo>
                      <a:lnTo>
                        <a:pt x="285" y="418"/>
                      </a:lnTo>
                      <a:lnTo>
                        <a:pt x="290" y="387"/>
                      </a:lnTo>
                      <a:lnTo>
                        <a:pt x="276" y="373"/>
                      </a:lnTo>
                      <a:lnTo>
                        <a:pt x="262" y="381"/>
                      </a:lnTo>
                      <a:lnTo>
                        <a:pt x="235" y="385"/>
                      </a:lnTo>
                      <a:lnTo>
                        <a:pt x="224" y="371"/>
                      </a:lnTo>
                      <a:lnTo>
                        <a:pt x="208" y="387"/>
                      </a:lnTo>
                      <a:lnTo>
                        <a:pt x="198" y="404"/>
                      </a:lnTo>
                      <a:lnTo>
                        <a:pt x="179" y="404"/>
                      </a:lnTo>
                      <a:lnTo>
                        <a:pt x="166" y="415"/>
                      </a:lnTo>
                      <a:lnTo>
                        <a:pt x="146" y="415"/>
                      </a:lnTo>
                      <a:lnTo>
                        <a:pt x="124" y="431"/>
                      </a:lnTo>
                      <a:lnTo>
                        <a:pt x="97" y="429"/>
                      </a:lnTo>
                      <a:lnTo>
                        <a:pt x="61" y="401"/>
                      </a:lnTo>
                      <a:lnTo>
                        <a:pt x="31" y="379"/>
                      </a:lnTo>
                      <a:lnTo>
                        <a:pt x="17" y="362"/>
                      </a:lnTo>
                      <a:lnTo>
                        <a:pt x="17" y="313"/>
                      </a:lnTo>
                      <a:lnTo>
                        <a:pt x="0" y="299"/>
                      </a:lnTo>
                      <a:lnTo>
                        <a:pt x="0" y="282"/>
                      </a:lnTo>
                      <a:lnTo>
                        <a:pt x="3" y="269"/>
                      </a:lnTo>
                      <a:lnTo>
                        <a:pt x="14" y="250"/>
                      </a:lnTo>
                      <a:lnTo>
                        <a:pt x="6" y="233"/>
                      </a:lnTo>
                      <a:lnTo>
                        <a:pt x="14" y="214"/>
                      </a:lnTo>
                      <a:lnTo>
                        <a:pt x="28" y="205"/>
                      </a:lnTo>
                      <a:lnTo>
                        <a:pt x="39" y="194"/>
                      </a:lnTo>
                      <a:lnTo>
                        <a:pt x="39" y="183"/>
                      </a:lnTo>
                      <a:lnTo>
                        <a:pt x="28" y="175"/>
                      </a:lnTo>
                      <a:lnTo>
                        <a:pt x="28" y="162"/>
                      </a:lnTo>
                      <a:lnTo>
                        <a:pt x="36" y="153"/>
                      </a:lnTo>
                      <a:lnTo>
                        <a:pt x="50" y="12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8837640" y="5165640"/>
                  <a:ext cx="111240" cy="271440"/>
                  <a:chOff x="8837640" y="5165640"/>
                  <a:chExt cx="111240" cy="2714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8837640" y="5165640"/>
                    <a:ext cx="442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48">
                        <a:moveTo>
                          <a:pt x="19" y="0"/>
                        </a:moveTo>
                        <a:lnTo>
                          <a:pt x="0" y="13"/>
                        </a:lnTo>
                        <a:lnTo>
                          <a:pt x="8" y="33"/>
                        </a:lnTo>
                        <a:lnTo>
                          <a:pt x="14" y="47"/>
                        </a:lnTo>
                        <a:lnTo>
                          <a:pt x="27" y="36"/>
                        </a:lnTo>
                        <a:lnTo>
                          <a:pt x="19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910720" y="5357880"/>
                    <a:ext cx="381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50">
                        <a:moveTo>
                          <a:pt x="15" y="0"/>
                        </a:moveTo>
                        <a:lnTo>
                          <a:pt x="0" y="10"/>
                        </a:lnTo>
                        <a:lnTo>
                          <a:pt x="3" y="26"/>
                        </a:lnTo>
                        <a:lnTo>
                          <a:pt x="6" y="46"/>
                        </a:lnTo>
                        <a:lnTo>
                          <a:pt x="23" y="49"/>
                        </a:lnTo>
                        <a:lnTo>
                          <a:pt x="23" y="33"/>
                        </a:lnTo>
                        <a:lnTo>
                          <a:pt x="15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00ff"/>
                      </a:gs>
                      <a:gs pos="100000">
                        <a:srgbClr val="00004b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>
                  <a:off x="7236000" y="3706920"/>
                  <a:ext cx="1687320" cy="1195200"/>
                </a:xfrm>
                <a:custGeom>
                  <a:avLst/>
                  <a:gdLst/>
                  <a:ahLst/>
                  <a:rect l="l" t="t" r="r" b="b"/>
                  <a:pathLst>
                    <a:path w="1063" h="753">
                      <a:moveTo>
                        <a:pt x="516" y="700"/>
                      </a:moveTo>
                      <a:lnTo>
                        <a:pt x="531" y="721"/>
                      </a:lnTo>
                      <a:lnTo>
                        <a:pt x="526" y="733"/>
                      </a:lnTo>
                      <a:lnTo>
                        <a:pt x="533" y="742"/>
                      </a:lnTo>
                      <a:lnTo>
                        <a:pt x="542" y="752"/>
                      </a:lnTo>
                      <a:lnTo>
                        <a:pt x="556" y="750"/>
                      </a:lnTo>
                      <a:lnTo>
                        <a:pt x="570" y="733"/>
                      </a:lnTo>
                      <a:lnTo>
                        <a:pt x="586" y="722"/>
                      </a:lnTo>
                      <a:lnTo>
                        <a:pt x="594" y="712"/>
                      </a:lnTo>
                      <a:lnTo>
                        <a:pt x="591" y="701"/>
                      </a:lnTo>
                      <a:lnTo>
                        <a:pt x="589" y="690"/>
                      </a:lnTo>
                      <a:lnTo>
                        <a:pt x="589" y="677"/>
                      </a:lnTo>
                      <a:lnTo>
                        <a:pt x="597" y="672"/>
                      </a:lnTo>
                      <a:lnTo>
                        <a:pt x="597" y="660"/>
                      </a:lnTo>
                      <a:lnTo>
                        <a:pt x="594" y="653"/>
                      </a:lnTo>
                      <a:lnTo>
                        <a:pt x="600" y="647"/>
                      </a:lnTo>
                      <a:lnTo>
                        <a:pt x="610" y="647"/>
                      </a:lnTo>
                      <a:lnTo>
                        <a:pt x="613" y="641"/>
                      </a:lnTo>
                      <a:lnTo>
                        <a:pt x="613" y="632"/>
                      </a:lnTo>
                      <a:lnTo>
                        <a:pt x="616" y="625"/>
                      </a:lnTo>
                      <a:lnTo>
                        <a:pt x="640" y="628"/>
                      </a:lnTo>
                      <a:lnTo>
                        <a:pt x="649" y="635"/>
                      </a:lnTo>
                      <a:lnTo>
                        <a:pt x="691" y="631"/>
                      </a:lnTo>
                      <a:lnTo>
                        <a:pt x="692" y="622"/>
                      </a:lnTo>
                      <a:lnTo>
                        <a:pt x="680" y="612"/>
                      </a:lnTo>
                      <a:lnTo>
                        <a:pt x="651" y="613"/>
                      </a:lnTo>
                      <a:lnTo>
                        <a:pt x="638" y="612"/>
                      </a:lnTo>
                      <a:lnTo>
                        <a:pt x="633" y="606"/>
                      </a:lnTo>
                      <a:lnTo>
                        <a:pt x="633" y="597"/>
                      </a:lnTo>
                      <a:lnTo>
                        <a:pt x="638" y="591"/>
                      </a:lnTo>
                      <a:lnTo>
                        <a:pt x="649" y="600"/>
                      </a:lnTo>
                      <a:lnTo>
                        <a:pt x="665" y="600"/>
                      </a:lnTo>
                      <a:lnTo>
                        <a:pt x="676" y="601"/>
                      </a:lnTo>
                      <a:lnTo>
                        <a:pt x="687" y="601"/>
                      </a:lnTo>
                      <a:lnTo>
                        <a:pt x="696" y="608"/>
                      </a:lnTo>
                      <a:lnTo>
                        <a:pt x="710" y="614"/>
                      </a:lnTo>
                      <a:lnTo>
                        <a:pt x="722" y="616"/>
                      </a:lnTo>
                      <a:lnTo>
                        <a:pt x="722" y="605"/>
                      </a:lnTo>
                      <a:lnTo>
                        <a:pt x="730" y="601"/>
                      </a:lnTo>
                      <a:lnTo>
                        <a:pt x="726" y="593"/>
                      </a:lnTo>
                      <a:lnTo>
                        <a:pt x="719" y="586"/>
                      </a:lnTo>
                      <a:lnTo>
                        <a:pt x="721" y="578"/>
                      </a:lnTo>
                      <a:lnTo>
                        <a:pt x="725" y="572"/>
                      </a:lnTo>
                      <a:lnTo>
                        <a:pt x="734" y="559"/>
                      </a:lnTo>
                      <a:lnTo>
                        <a:pt x="740" y="567"/>
                      </a:lnTo>
                      <a:lnTo>
                        <a:pt x="735" y="578"/>
                      </a:lnTo>
                      <a:lnTo>
                        <a:pt x="743" y="583"/>
                      </a:lnTo>
                      <a:lnTo>
                        <a:pt x="752" y="586"/>
                      </a:lnTo>
                      <a:lnTo>
                        <a:pt x="760" y="591"/>
                      </a:lnTo>
                      <a:lnTo>
                        <a:pt x="772" y="591"/>
                      </a:lnTo>
                      <a:lnTo>
                        <a:pt x="782" y="589"/>
                      </a:lnTo>
                      <a:lnTo>
                        <a:pt x="785" y="582"/>
                      </a:lnTo>
                      <a:lnTo>
                        <a:pt x="785" y="573"/>
                      </a:lnTo>
                      <a:lnTo>
                        <a:pt x="791" y="567"/>
                      </a:lnTo>
                      <a:lnTo>
                        <a:pt x="802" y="561"/>
                      </a:lnTo>
                      <a:lnTo>
                        <a:pt x="806" y="555"/>
                      </a:lnTo>
                      <a:lnTo>
                        <a:pt x="804" y="548"/>
                      </a:lnTo>
                      <a:lnTo>
                        <a:pt x="808" y="540"/>
                      </a:lnTo>
                      <a:lnTo>
                        <a:pt x="820" y="555"/>
                      </a:lnTo>
                      <a:lnTo>
                        <a:pt x="826" y="567"/>
                      </a:lnTo>
                      <a:lnTo>
                        <a:pt x="829" y="571"/>
                      </a:lnTo>
                      <a:lnTo>
                        <a:pt x="834" y="582"/>
                      </a:lnTo>
                      <a:lnTo>
                        <a:pt x="839" y="589"/>
                      </a:lnTo>
                      <a:lnTo>
                        <a:pt x="838" y="600"/>
                      </a:lnTo>
                      <a:lnTo>
                        <a:pt x="837" y="609"/>
                      </a:lnTo>
                      <a:lnTo>
                        <a:pt x="843" y="619"/>
                      </a:lnTo>
                      <a:lnTo>
                        <a:pt x="853" y="625"/>
                      </a:lnTo>
                      <a:lnTo>
                        <a:pt x="864" y="625"/>
                      </a:lnTo>
                      <a:lnTo>
                        <a:pt x="875" y="623"/>
                      </a:lnTo>
                      <a:lnTo>
                        <a:pt x="894" y="625"/>
                      </a:lnTo>
                      <a:lnTo>
                        <a:pt x="916" y="638"/>
                      </a:lnTo>
                      <a:lnTo>
                        <a:pt x="927" y="635"/>
                      </a:lnTo>
                      <a:lnTo>
                        <a:pt x="936" y="646"/>
                      </a:lnTo>
                      <a:lnTo>
                        <a:pt x="944" y="653"/>
                      </a:lnTo>
                      <a:lnTo>
                        <a:pt x="961" y="660"/>
                      </a:lnTo>
                      <a:lnTo>
                        <a:pt x="972" y="659"/>
                      </a:lnTo>
                      <a:lnTo>
                        <a:pt x="986" y="663"/>
                      </a:lnTo>
                      <a:lnTo>
                        <a:pt x="1000" y="674"/>
                      </a:lnTo>
                      <a:lnTo>
                        <a:pt x="1019" y="693"/>
                      </a:lnTo>
                      <a:lnTo>
                        <a:pt x="1035" y="706"/>
                      </a:lnTo>
                      <a:lnTo>
                        <a:pt x="1043" y="689"/>
                      </a:lnTo>
                      <a:lnTo>
                        <a:pt x="1047" y="675"/>
                      </a:lnTo>
                      <a:lnTo>
                        <a:pt x="1055" y="657"/>
                      </a:lnTo>
                      <a:lnTo>
                        <a:pt x="1059" y="631"/>
                      </a:lnTo>
                      <a:lnTo>
                        <a:pt x="1062" y="602"/>
                      </a:lnTo>
                      <a:lnTo>
                        <a:pt x="1058" y="597"/>
                      </a:lnTo>
                      <a:lnTo>
                        <a:pt x="1061" y="564"/>
                      </a:lnTo>
                      <a:lnTo>
                        <a:pt x="1060" y="543"/>
                      </a:lnTo>
                      <a:lnTo>
                        <a:pt x="1055" y="529"/>
                      </a:lnTo>
                      <a:lnTo>
                        <a:pt x="1055" y="509"/>
                      </a:lnTo>
                      <a:lnTo>
                        <a:pt x="1047" y="501"/>
                      </a:lnTo>
                      <a:lnTo>
                        <a:pt x="1042" y="492"/>
                      </a:lnTo>
                      <a:lnTo>
                        <a:pt x="1036" y="479"/>
                      </a:lnTo>
                      <a:lnTo>
                        <a:pt x="1036" y="469"/>
                      </a:lnTo>
                      <a:lnTo>
                        <a:pt x="1030" y="460"/>
                      </a:lnTo>
                      <a:lnTo>
                        <a:pt x="1018" y="460"/>
                      </a:lnTo>
                      <a:lnTo>
                        <a:pt x="1009" y="460"/>
                      </a:lnTo>
                      <a:lnTo>
                        <a:pt x="1004" y="470"/>
                      </a:lnTo>
                      <a:lnTo>
                        <a:pt x="996" y="471"/>
                      </a:lnTo>
                      <a:lnTo>
                        <a:pt x="985" y="471"/>
                      </a:lnTo>
                      <a:lnTo>
                        <a:pt x="985" y="487"/>
                      </a:lnTo>
                      <a:lnTo>
                        <a:pt x="989" y="496"/>
                      </a:lnTo>
                      <a:lnTo>
                        <a:pt x="986" y="505"/>
                      </a:lnTo>
                      <a:lnTo>
                        <a:pt x="984" y="515"/>
                      </a:lnTo>
                      <a:lnTo>
                        <a:pt x="974" y="518"/>
                      </a:lnTo>
                      <a:lnTo>
                        <a:pt x="967" y="517"/>
                      </a:lnTo>
                      <a:lnTo>
                        <a:pt x="960" y="514"/>
                      </a:lnTo>
                      <a:lnTo>
                        <a:pt x="955" y="512"/>
                      </a:lnTo>
                      <a:lnTo>
                        <a:pt x="949" y="512"/>
                      </a:lnTo>
                      <a:lnTo>
                        <a:pt x="941" y="510"/>
                      </a:lnTo>
                      <a:lnTo>
                        <a:pt x="932" y="509"/>
                      </a:lnTo>
                      <a:lnTo>
                        <a:pt x="925" y="509"/>
                      </a:lnTo>
                      <a:lnTo>
                        <a:pt x="919" y="498"/>
                      </a:lnTo>
                      <a:lnTo>
                        <a:pt x="929" y="491"/>
                      </a:lnTo>
                      <a:lnTo>
                        <a:pt x="936" y="490"/>
                      </a:lnTo>
                      <a:lnTo>
                        <a:pt x="940" y="493"/>
                      </a:lnTo>
                      <a:lnTo>
                        <a:pt x="947" y="492"/>
                      </a:lnTo>
                      <a:lnTo>
                        <a:pt x="961" y="485"/>
                      </a:lnTo>
                      <a:lnTo>
                        <a:pt x="967" y="473"/>
                      </a:lnTo>
                      <a:lnTo>
                        <a:pt x="977" y="460"/>
                      </a:lnTo>
                      <a:lnTo>
                        <a:pt x="985" y="448"/>
                      </a:lnTo>
                      <a:lnTo>
                        <a:pt x="990" y="440"/>
                      </a:lnTo>
                      <a:lnTo>
                        <a:pt x="999" y="431"/>
                      </a:lnTo>
                      <a:lnTo>
                        <a:pt x="1000" y="420"/>
                      </a:lnTo>
                      <a:lnTo>
                        <a:pt x="1007" y="397"/>
                      </a:lnTo>
                      <a:lnTo>
                        <a:pt x="974" y="352"/>
                      </a:lnTo>
                      <a:lnTo>
                        <a:pt x="944" y="311"/>
                      </a:lnTo>
                      <a:lnTo>
                        <a:pt x="913" y="276"/>
                      </a:lnTo>
                      <a:lnTo>
                        <a:pt x="881" y="245"/>
                      </a:lnTo>
                      <a:lnTo>
                        <a:pt x="857" y="222"/>
                      </a:lnTo>
                      <a:lnTo>
                        <a:pt x="837" y="204"/>
                      </a:lnTo>
                      <a:lnTo>
                        <a:pt x="810" y="182"/>
                      </a:lnTo>
                      <a:lnTo>
                        <a:pt x="783" y="162"/>
                      </a:lnTo>
                      <a:lnTo>
                        <a:pt x="749" y="136"/>
                      </a:lnTo>
                      <a:lnTo>
                        <a:pt x="719" y="117"/>
                      </a:lnTo>
                      <a:lnTo>
                        <a:pt x="691" y="102"/>
                      </a:lnTo>
                      <a:lnTo>
                        <a:pt x="661" y="88"/>
                      </a:lnTo>
                      <a:lnTo>
                        <a:pt x="625" y="71"/>
                      </a:lnTo>
                      <a:lnTo>
                        <a:pt x="574" y="51"/>
                      </a:lnTo>
                      <a:lnTo>
                        <a:pt x="520" y="33"/>
                      </a:lnTo>
                      <a:lnTo>
                        <a:pt x="474" y="21"/>
                      </a:lnTo>
                      <a:lnTo>
                        <a:pt x="440" y="14"/>
                      </a:lnTo>
                      <a:lnTo>
                        <a:pt x="391" y="6"/>
                      </a:lnTo>
                      <a:lnTo>
                        <a:pt x="333" y="1"/>
                      </a:lnTo>
                      <a:lnTo>
                        <a:pt x="256" y="0"/>
                      </a:lnTo>
                      <a:lnTo>
                        <a:pt x="195" y="4"/>
                      </a:lnTo>
                      <a:lnTo>
                        <a:pt x="190" y="14"/>
                      </a:lnTo>
                      <a:lnTo>
                        <a:pt x="178" y="18"/>
                      </a:lnTo>
                      <a:lnTo>
                        <a:pt x="170" y="21"/>
                      </a:lnTo>
                      <a:lnTo>
                        <a:pt x="154" y="21"/>
                      </a:lnTo>
                      <a:lnTo>
                        <a:pt x="138" y="27"/>
                      </a:lnTo>
                      <a:lnTo>
                        <a:pt x="119" y="29"/>
                      </a:lnTo>
                      <a:lnTo>
                        <a:pt x="105" y="44"/>
                      </a:lnTo>
                      <a:lnTo>
                        <a:pt x="103" y="56"/>
                      </a:lnTo>
                      <a:lnTo>
                        <a:pt x="92" y="71"/>
                      </a:lnTo>
                      <a:lnTo>
                        <a:pt x="78" y="71"/>
                      </a:lnTo>
                      <a:lnTo>
                        <a:pt x="65" y="83"/>
                      </a:lnTo>
                      <a:lnTo>
                        <a:pt x="65" y="66"/>
                      </a:lnTo>
                      <a:lnTo>
                        <a:pt x="77" y="38"/>
                      </a:lnTo>
                      <a:lnTo>
                        <a:pt x="78" y="25"/>
                      </a:lnTo>
                      <a:lnTo>
                        <a:pt x="50" y="33"/>
                      </a:lnTo>
                      <a:lnTo>
                        <a:pt x="27" y="40"/>
                      </a:lnTo>
                      <a:lnTo>
                        <a:pt x="29" y="50"/>
                      </a:lnTo>
                      <a:lnTo>
                        <a:pt x="46" y="63"/>
                      </a:lnTo>
                      <a:lnTo>
                        <a:pt x="44" y="71"/>
                      </a:lnTo>
                      <a:lnTo>
                        <a:pt x="41" y="84"/>
                      </a:lnTo>
                      <a:lnTo>
                        <a:pt x="31" y="95"/>
                      </a:lnTo>
                      <a:lnTo>
                        <a:pt x="18" y="107"/>
                      </a:lnTo>
                      <a:lnTo>
                        <a:pt x="16" y="124"/>
                      </a:lnTo>
                      <a:lnTo>
                        <a:pt x="10" y="141"/>
                      </a:lnTo>
                      <a:lnTo>
                        <a:pt x="12" y="154"/>
                      </a:lnTo>
                      <a:lnTo>
                        <a:pt x="29" y="152"/>
                      </a:lnTo>
                      <a:lnTo>
                        <a:pt x="27" y="173"/>
                      </a:lnTo>
                      <a:lnTo>
                        <a:pt x="13" y="181"/>
                      </a:lnTo>
                      <a:lnTo>
                        <a:pt x="0" y="193"/>
                      </a:lnTo>
                      <a:lnTo>
                        <a:pt x="16" y="208"/>
                      </a:lnTo>
                      <a:lnTo>
                        <a:pt x="32" y="192"/>
                      </a:lnTo>
                      <a:lnTo>
                        <a:pt x="41" y="190"/>
                      </a:lnTo>
                      <a:lnTo>
                        <a:pt x="56" y="187"/>
                      </a:lnTo>
                      <a:lnTo>
                        <a:pt x="68" y="182"/>
                      </a:lnTo>
                      <a:lnTo>
                        <a:pt x="78" y="181"/>
                      </a:lnTo>
                      <a:lnTo>
                        <a:pt x="92" y="169"/>
                      </a:lnTo>
                      <a:lnTo>
                        <a:pt x="104" y="151"/>
                      </a:lnTo>
                      <a:lnTo>
                        <a:pt x="115" y="148"/>
                      </a:lnTo>
                      <a:lnTo>
                        <a:pt x="126" y="143"/>
                      </a:lnTo>
                      <a:lnTo>
                        <a:pt x="142" y="140"/>
                      </a:lnTo>
                      <a:lnTo>
                        <a:pt x="148" y="143"/>
                      </a:lnTo>
                      <a:lnTo>
                        <a:pt x="158" y="141"/>
                      </a:lnTo>
                      <a:lnTo>
                        <a:pt x="166" y="138"/>
                      </a:lnTo>
                      <a:lnTo>
                        <a:pt x="185" y="137"/>
                      </a:lnTo>
                      <a:lnTo>
                        <a:pt x="191" y="140"/>
                      </a:lnTo>
                      <a:lnTo>
                        <a:pt x="211" y="142"/>
                      </a:lnTo>
                      <a:lnTo>
                        <a:pt x="225" y="138"/>
                      </a:lnTo>
                      <a:lnTo>
                        <a:pt x="236" y="127"/>
                      </a:lnTo>
                      <a:lnTo>
                        <a:pt x="253" y="129"/>
                      </a:lnTo>
                      <a:lnTo>
                        <a:pt x="268" y="127"/>
                      </a:lnTo>
                      <a:lnTo>
                        <a:pt x="277" y="127"/>
                      </a:lnTo>
                      <a:lnTo>
                        <a:pt x="275" y="141"/>
                      </a:lnTo>
                      <a:lnTo>
                        <a:pt x="281" y="146"/>
                      </a:lnTo>
                      <a:lnTo>
                        <a:pt x="291" y="151"/>
                      </a:lnTo>
                      <a:lnTo>
                        <a:pt x="301" y="144"/>
                      </a:lnTo>
                      <a:lnTo>
                        <a:pt x="313" y="149"/>
                      </a:lnTo>
                      <a:lnTo>
                        <a:pt x="325" y="155"/>
                      </a:lnTo>
                      <a:lnTo>
                        <a:pt x="339" y="159"/>
                      </a:lnTo>
                      <a:lnTo>
                        <a:pt x="362" y="162"/>
                      </a:lnTo>
                      <a:lnTo>
                        <a:pt x="335" y="166"/>
                      </a:lnTo>
                      <a:lnTo>
                        <a:pt x="325" y="169"/>
                      </a:lnTo>
                      <a:lnTo>
                        <a:pt x="320" y="174"/>
                      </a:lnTo>
                      <a:lnTo>
                        <a:pt x="329" y="193"/>
                      </a:lnTo>
                      <a:lnTo>
                        <a:pt x="337" y="202"/>
                      </a:lnTo>
                      <a:lnTo>
                        <a:pt x="355" y="200"/>
                      </a:lnTo>
                      <a:lnTo>
                        <a:pt x="368" y="204"/>
                      </a:lnTo>
                      <a:lnTo>
                        <a:pt x="384" y="211"/>
                      </a:lnTo>
                      <a:lnTo>
                        <a:pt x="401" y="212"/>
                      </a:lnTo>
                      <a:lnTo>
                        <a:pt x="412" y="213"/>
                      </a:lnTo>
                      <a:lnTo>
                        <a:pt x="436" y="198"/>
                      </a:lnTo>
                      <a:lnTo>
                        <a:pt x="442" y="199"/>
                      </a:lnTo>
                      <a:lnTo>
                        <a:pt x="429" y="212"/>
                      </a:lnTo>
                      <a:lnTo>
                        <a:pt x="444" y="228"/>
                      </a:lnTo>
                      <a:lnTo>
                        <a:pt x="470" y="222"/>
                      </a:lnTo>
                      <a:lnTo>
                        <a:pt x="475" y="219"/>
                      </a:lnTo>
                      <a:lnTo>
                        <a:pt x="475" y="207"/>
                      </a:lnTo>
                      <a:lnTo>
                        <a:pt x="486" y="212"/>
                      </a:lnTo>
                      <a:lnTo>
                        <a:pt x="504" y="225"/>
                      </a:lnTo>
                      <a:lnTo>
                        <a:pt x="486" y="223"/>
                      </a:lnTo>
                      <a:lnTo>
                        <a:pt x="481" y="227"/>
                      </a:lnTo>
                      <a:lnTo>
                        <a:pt x="474" y="229"/>
                      </a:lnTo>
                      <a:lnTo>
                        <a:pt x="464" y="232"/>
                      </a:lnTo>
                      <a:lnTo>
                        <a:pt x="454" y="233"/>
                      </a:lnTo>
                      <a:lnTo>
                        <a:pt x="442" y="242"/>
                      </a:lnTo>
                      <a:lnTo>
                        <a:pt x="454" y="247"/>
                      </a:lnTo>
                      <a:lnTo>
                        <a:pt x="488" y="246"/>
                      </a:lnTo>
                      <a:lnTo>
                        <a:pt x="485" y="259"/>
                      </a:lnTo>
                      <a:lnTo>
                        <a:pt x="481" y="275"/>
                      </a:lnTo>
                      <a:lnTo>
                        <a:pt x="491" y="277"/>
                      </a:lnTo>
                      <a:lnTo>
                        <a:pt x="499" y="283"/>
                      </a:lnTo>
                      <a:lnTo>
                        <a:pt x="503" y="300"/>
                      </a:lnTo>
                      <a:lnTo>
                        <a:pt x="509" y="308"/>
                      </a:lnTo>
                      <a:lnTo>
                        <a:pt x="508" y="317"/>
                      </a:lnTo>
                      <a:lnTo>
                        <a:pt x="508" y="329"/>
                      </a:lnTo>
                      <a:lnTo>
                        <a:pt x="541" y="357"/>
                      </a:lnTo>
                      <a:lnTo>
                        <a:pt x="539" y="368"/>
                      </a:lnTo>
                      <a:lnTo>
                        <a:pt x="534" y="373"/>
                      </a:lnTo>
                      <a:lnTo>
                        <a:pt x="528" y="370"/>
                      </a:lnTo>
                      <a:lnTo>
                        <a:pt x="520" y="368"/>
                      </a:lnTo>
                      <a:lnTo>
                        <a:pt x="514" y="368"/>
                      </a:lnTo>
                      <a:lnTo>
                        <a:pt x="511" y="368"/>
                      </a:lnTo>
                      <a:lnTo>
                        <a:pt x="523" y="355"/>
                      </a:lnTo>
                      <a:lnTo>
                        <a:pt x="520" y="346"/>
                      </a:lnTo>
                      <a:lnTo>
                        <a:pt x="509" y="343"/>
                      </a:lnTo>
                      <a:lnTo>
                        <a:pt x="504" y="344"/>
                      </a:lnTo>
                      <a:lnTo>
                        <a:pt x="497" y="346"/>
                      </a:lnTo>
                      <a:lnTo>
                        <a:pt x="486" y="352"/>
                      </a:lnTo>
                      <a:lnTo>
                        <a:pt x="481" y="357"/>
                      </a:lnTo>
                      <a:lnTo>
                        <a:pt x="467" y="359"/>
                      </a:lnTo>
                      <a:lnTo>
                        <a:pt x="457" y="359"/>
                      </a:lnTo>
                      <a:lnTo>
                        <a:pt x="459" y="370"/>
                      </a:lnTo>
                      <a:lnTo>
                        <a:pt x="459" y="384"/>
                      </a:lnTo>
                      <a:lnTo>
                        <a:pt x="457" y="398"/>
                      </a:lnTo>
                      <a:lnTo>
                        <a:pt x="459" y="410"/>
                      </a:lnTo>
                      <a:lnTo>
                        <a:pt x="464" y="420"/>
                      </a:lnTo>
                      <a:lnTo>
                        <a:pt x="463" y="429"/>
                      </a:lnTo>
                      <a:lnTo>
                        <a:pt x="468" y="437"/>
                      </a:lnTo>
                      <a:lnTo>
                        <a:pt x="476" y="444"/>
                      </a:lnTo>
                      <a:lnTo>
                        <a:pt x="475" y="452"/>
                      </a:lnTo>
                      <a:lnTo>
                        <a:pt x="485" y="456"/>
                      </a:lnTo>
                      <a:lnTo>
                        <a:pt x="479" y="470"/>
                      </a:lnTo>
                      <a:lnTo>
                        <a:pt x="481" y="485"/>
                      </a:lnTo>
                      <a:lnTo>
                        <a:pt x="487" y="496"/>
                      </a:lnTo>
                      <a:lnTo>
                        <a:pt x="501" y="514"/>
                      </a:lnTo>
                      <a:lnTo>
                        <a:pt x="506" y="514"/>
                      </a:lnTo>
                      <a:lnTo>
                        <a:pt x="514" y="517"/>
                      </a:lnTo>
                      <a:lnTo>
                        <a:pt x="526" y="504"/>
                      </a:lnTo>
                      <a:lnTo>
                        <a:pt x="534" y="498"/>
                      </a:lnTo>
                      <a:lnTo>
                        <a:pt x="544" y="507"/>
                      </a:lnTo>
                      <a:lnTo>
                        <a:pt x="552" y="509"/>
                      </a:lnTo>
                      <a:lnTo>
                        <a:pt x="563" y="506"/>
                      </a:lnTo>
                      <a:lnTo>
                        <a:pt x="564" y="495"/>
                      </a:lnTo>
                      <a:lnTo>
                        <a:pt x="553" y="483"/>
                      </a:lnTo>
                      <a:lnTo>
                        <a:pt x="544" y="474"/>
                      </a:lnTo>
                      <a:lnTo>
                        <a:pt x="542" y="465"/>
                      </a:lnTo>
                      <a:lnTo>
                        <a:pt x="531" y="456"/>
                      </a:lnTo>
                      <a:lnTo>
                        <a:pt x="523" y="455"/>
                      </a:lnTo>
                      <a:lnTo>
                        <a:pt x="520" y="441"/>
                      </a:lnTo>
                      <a:lnTo>
                        <a:pt x="514" y="432"/>
                      </a:lnTo>
                      <a:lnTo>
                        <a:pt x="508" y="426"/>
                      </a:lnTo>
                      <a:lnTo>
                        <a:pt x="506" y="409"/>
                      </a:lnTo>
                      <a:lnTo>
                        <a:pt x="509" y="407"/>
                      </a:lnTo>
                      <a:lnTo>
                        <a:pt x="520" y="417"/>
                      </a:lnTo>
                      <a:lnTo>
                        <a:pt x="520" y="426"/>
                      </a:lnTo>
                      <a:lnTo>
                        <a:pt x="528" y="435"/>
                      </a:lnTo>
                      <a:lnTo>
                        <a:pt x="535" y="443"/>
                      </a:lnTo>
                      <a:lnTo>
                        <a:pt x="541" y="448"/>
                      </a:lnTo>
                      <a:lnTo>
                        <a:pt x="547" y="441"/>
                      </a:lnTo>
                      <a:lnTo>
                        <a:pt x="552" y="437"/>
                      </a:lnTo>
                      <a:lnTo>
                        <a:pt x="558" y="435"/>
                      </a:lnTo>
                      <a:lnTo>
                        <a:pt x="561" y="428"/>
                      </a:lnTo>
                      <a:lnTo>
                        <a:pt x="569" y="426"/>
                      </a:lnTo>
                      <a:lnTo>
                        <a:pt x="563" y="435"/>
                      </a:lnTo>
                      <a:lnTo>
                        <a:pt x="566" y="444"/>
                      </a:lnTo>
                      <a:lnTo>
                        <a:pt x="575" y="448"/>
                      </a:lnTo>
                      <a:lnTo>
                        <a:pt x="574" y="456"/>
                      </a:lnTo>
                      <a:lnTo>
                        <a:pt x="566" y="465"/>
                      </a:lnTo>
                      <a:lnTo>
                        <a:pt x="570" y="473"/>
                      </a:lnTo>
                      <a:lnTo>
                        <a:pt x="580" y="479"/>
                      </a:lnTo>
                      <a:lnTo>
                        <a:pt x="586" y="487"/>
                      </a:lnTo>
                      <a:lnTo>
                        <a:pt x="580" y="496"/>
                      </a:lnTo>
                      <a:lnTo>
                        <a:pt x="574" y="506"/>
                      </a:lnTo>
                      <a:lnTo>
                        <a:pt x="575" y="513"/>
                      </a:lnTo>
                      <a:lnTo>
                        <a:pt x="571" y="521"/>
                      </a:lnTo>
                      <a:lnTo>
                        <a:pt x="566" y="529"/>
                      </a:lnTo>
                      <a:lnTo>
                        <a:pt x="561" y="535"/>
                      </a:lnTo>
                      <a:lnTo>
                        <a:pt x="555" y="529"/>
                      </a:lnTo>
                      <a:lnTo>
                        <a:pt x="545" y="529"/>
                      </a:lnTo>
                      <a:lnTo>
                        <a:pt x="539" y="522"/>
                      </a:lnTo>
                      <a:lnTo>
                        <a:pt x="537" y="514"/>
                      </a:lnTo>
                      <a:lnTo>
                        <a:pt x="530" y="512"/>
                      </a:lnTo>
                      <a:lnTo>
                        <a:pt x="528" y="517"/>
                      </a:lnTo>
                      <a:lnTo>
                        <a:pt x="531" y="522"/>
                      </a:lnTo>
                      <a:lnTo>
                        <a:pt x="533" y="531"/>
                      </a:lnTo>
                      <a:lnTo>
                        <a:pt x="533" y="537"/>
                      </a:lnTo>
                      <a:lnTo>
                        <a:pt x="539" y="536"/>
                      </a:lnTo>
                      <a:lnTo>
                        <a:pt x="545" y="540"/>
                      </a:lnTo>
                      <a:lnTo>
                        <a:pt x="545" y="548"/>
                      </a:lnTo>
                      <a:lnTo>
                        <a:pt x="539" y="559"/>
                      </a:lnTo>
                      <a:lnTo>
                        <a:pt x="541" y="572"/>
                      </a:lnTo>
                      <a:lnTo>
                        <a:pt x="537" y="589"/>
                      </a:lnTo>
                      <a:lnTo>
                        <a:pt x="539" y="605"/>
                      </a:lnTo>
                      <a:lnTo>
                        <a:pt x="537" y="614"/>
                      </a:lnTo>
                      <a:lnTo>
                        <a:pt x="528" y="623"/>
                      </a:lnTo>
                      <a:lnTo>
                        <a:pt x="528" y="631"/>
                      </a:lnTo>
                      <a:lnTo>
                        <a:pt x="533" y="641"/>
                      </a:lnTo>
                      <a:lnTo>
                        <a:pt x="542" y="643"/>
                      </a:lnTo>
                      <a:lnTo>
                        <a:pt x="553" y="650"/>
                      </a:lnTo>
                      <a:lnTo>
                        <a:pt x="558" y="660"/>
                      </a:lnTo>
                      <a:lnTo>
                        <a:pt x="553" y="664"/>
                      </a:lnTo>
                      <a:lnTo>
                        <a:pt x="541" y="677"/>
                      </a:lnTo>
                      <a:lnTo>
                        <a:pt x="528" y="683"/>
                      </a:lnTo>
                      <a:lnTo>
                        <a:pt x="516" y="700"/>
                      </a:lnTo>
                    </a:path>
                  </a:pathLst>
                </a:custGeom>
                <a:gradFill rotWithShape="0">
                  <a:gsLst>
                    <a:gs pos="0">
                      <a:srgbClr val="008000"/>
                    </a:gs>
                    <a:gs pos="100000">
                      <a:srgbClr val="002600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7862760" y="4124160"/>
                  <a:ext cx="568440" cy="636840"/>
                  <a:chOff x="7862760" y="4124160"/>
                  <a:chExt cx="568440" cy="6368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7975800" y="4630680"/>
                    <a:ext cx="3960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33">
                        <a:moveTo>
                          <a:pt x="2" y="0"/>
                        </a:moveTo>
                        <a:lnTo>
                          <a:pt x="0" y="12"/>
                        </a:lnTo>
                        <a:lnTo>
                          <a:pt x="2" y="27"/>
                        </a:lnTo>
                        <a:lnTo>
                          <a:pt x="9" y="27"/>
                        </a:lnTo>
                        <a:lnTo>
                          <a:pt x="24" y="32"/>
                        </a:lnTo>
                        <a:lnTo>
                          <a:pt x="19" y="19"/>
                        </a:lnTo>
                        <a:lnTo>
                          <a:pt x="21" y="13"/>
                        </a:lnTo>
                        <a:lnTo>
                          <a:pt x="2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7977240" y="4570200"/>
                    <a:ext cx="1033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80">
                        <a:moveTo>
                          <a:pt x="3" y="0"/>
                        </a:moveTo>
                        <a:lnTo>
                          <a:pt x="23" y="11"/>
                        </a:lnTo>
                        <a:lnTo>
                          <a:pt x="30" y="11"/>
                        </a:lnTo>
                        <a:lnTo>
                          <a:pt x="31" y="23"/>
                        </a:lnTo>
                        <a:lnTo>
                          <a:pt x="38" y="30"/>
                        </a:lnTo>
                        <a:lnTo>
                          <a:pt x="45" y="38"/>
                        </a:lnTo>
                        <a:lnTo>
                          <a:pt x="53" y="36"/>
                        </a:lnTo>
                        <a:lnTo>
                          <a:pt x="63" y="45"/>
                        </a:lnTo>
                        <a:lnTo>
                          <a:pt x="61" y="53"/>
                        </a:lnTo>
                        <a:lnTo>
                          <a:pt x="64" y="59"/>
                        </a:lnTo>
                        <a:lnTo>
                          <a:pt x="53" y="69"/>
                        </a:lnTo>
                        <a:lnTo>
                          <a:pt x="45" y="78"/>
                        </a:lnTo>
                        <a:lnTo>
                          <a:pt x="38" y="79"/>
                        </a:lnTo>
                        <a:lnTo>
                          <a:pt x="37" y="72"/>
                        </a:lnTo>
                        <a:lnTo>
                          <a:pt x="39" y="65"/>
                        </a:lnTo>
                        <a:lnTo>
                          <a:pt x="37" y="57"/>
                        </a:lnTo>
                        <a:lnTo>
                          <a:pt x="36" y="42"/>
                        </a:lnTo>
                        <a:lnTo>
                          <a:pt x="26" y="34"/>
                        </a:lnTo>
                        <a:lnTo>
                          <a:pt x="15" y="34"/>
                        </a:lnTo>
                        <a:lnTo>
                          <a:pt x="14" y="28"/>
                        </a:lnTo>
                        <a:lnTo>
                          <a:pt x="9" y="23"/>
                        </a:lnTo>
                        <a:lnTo>
                          <a:pt x="0" y="17"/>
                        </a:lnTo>
                        <a:lnTo>
                          <a:pt x="3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8231040" y="4724280"/>
                    <a:ext cx="32040" cy="3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0" y="0"/>
                        </a:moveTo>
                        <a:lnTo>
                          <a:pt x="4" y="20"/>
                        </a:lnTo>
                        <a:lnTo>
                          <a:pt x="19" y="22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8304120" y="4730760"/>
                    <a:ext cx="3816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9">
                        <a:moveTo>
                          <a:pt x="0" y="15"/>
                        </a:moveTo>
                        <a:lnTo>
                          <a:pt x="12" y="0"/>
                        </a:lnTo>
                        <a:lnTo>
                          <a:pt x="23" y="4"/>
                        </a:lnTo>
                        <a:lnTo>
                          <a:pt x="15" y="18"/>
                        </a:lnTo>
                        <a:lnTo>
                          <a:pt x="0" y="1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8388360" y="4678200"/>
                    <a:ext cx="4284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4">
                        <a:moveTo>
                          <a:pt x="0" y="16"/>
                        </a:moveTo>
                        <a:lnTo>
                          <a:pt x="26" y="23"/>
                        </a:lnTo>
                        <a:lnTo>
                          <a:pt x="12" y="0"/>
                        </a:lnTo>
                        <a:lnTo>
                          <a:pt x="0" y="1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862760" y="4124160"/>
                    <a:ext cx="125640" cy="586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37">
                        <a:moveTo>
                          <a:pt x="0" y="22"/>
                        </a:moveTo>
                        <a:lnTo>
                          <a:pt x="36" y="25"/>
                        </a:lnTo>
                        <a:lnTo>
                          <a:pt x="47" y="33"/>
                        </a:lnTo>
                        <a:lnTo>
                          <a:pt x="58" y="36"/>
                        </a:lnTo>
                        <a:lnTo>
                          <a:pt x="78" y="28"/>
                        </a:lnTo>
                        <a:lnTo>
                          <a:pt x="67" y="17"/>
                        </a:lnTo>
                        <a:lnTo>
                          <a:pt x="50" y="17"/>
                        </a:lnTo>
                        <a:lnTo>
                          <a:pt x="45" y="0"/>
                        </a:lnTo>
                        <a:lnTo>
                          <a:pt x="31" y="3"/>
                        </a:lnTo>
                        <a:lnTo>
                          <a:pt x="0" y="2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008000"/>
                      </a:gs>
                      <a:gs pos="100000">
                        <a:srgbClr val="002600"/>
                      </a:gs>
                    </a:gsLst>
                    <a:path path="rect">
                      <a:fillToRect l="50000" t="50000" r="50000" b="50000"/>
                    </a:path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5" name=""/>
                <p:cNvSpPr/>
                <p:nvPr/>
              </p:nvSpPr>
              <p:spPr>
                <a:xfrm>
                  <a:off x="8410680" y="4270320"/>
                  <a:ext cx="195120" cy="136440"/>
                </a:xfrm>
                <a:custGeom>
                  <a:avLst/>
                  <a:gdLst/>
                  <a:ahLst/>
                  <a:rect l="l" t="t" r="r" b="b"/>
                  <a:pathLst>
                    <a:path w="123" h="86">
                      <a:moveTo>
                        <a:pt x="118" y="52"/>
                      </a:moveTo>
                      <a:lnTo>
                        <a:pt x="122" y="76"/>
                      </a:lnTo>
                      <a:lnTo>
                        <a:pt x="108" y="82"/>
                      </a:lnTo>
                      <a:lnTo>
                        <a:pt x="93" y="85"/>
                      </a:lnTo>
                      <a:lnTo>
                        <a:pt x="81" y="77"/>
                      </a:lnTo>
                      <a:lnTo>
                        <a:pt x="73" y="66"/>
                      </a:lnTo>
                      <a:lnTo>
                        <a:pt x="67" y="59"/>
                      </a:lnTo>
                      <a:lnTo>
                        <a:pt x="50" y="62"/>
                      </a:lnTo>
                      <a:lnTo>
                        <a:pt x="34" y="63"/>
                      </a:lnTo>
                      <a:lnTo>
                        <a:pt x="23" y="59"/>
                      </a:lnTo>
                      <a:lnTo>
                        <a:pt x="17" y="49"/>
                      </a:lnTo>
                      <a:lnTo>
                        <a:pt x="0" y="48"/>
                      </a:lnTo>
                      <a:lnTo>
                        <a:pt x="1" y="38"/>
                      </a:lnTo>
                      <a:lnTo>
                        <a:pt x="4" y="30"/>
                      </a:lnTo>
                      <a:lnTo>
                        <a:pt x="1" y="21"/>
                      </a:lnTo>
                      <a:lnTo>
                        <a:pt x="3" y="13"/>
                      </a:lnTo>
                      <a:lnTo>
                        <a:pt x="5" y="7"/>
                      </a:lnTo>
                      <a:lnTo>
                        <a:pt x="17" y="0"/>
                      </a:lnTo>
                      <a:lnTo>
                        <a:pt x="28" y="2"/>
                      </a:lnTo>
                      <a:lnTo>
                        <a:pt x="28" y="13"/>
                      </a:lnTo>
                      <a:lnTo>
                        <a:pt x="28" y="21"/>
                      </a:lnTo>
                      <a:lnTo>
                        <a:pt x="32" y="25"/>
                      </a:lnTo>
                      <a:lnTo>
                        <a:pt x="40" y="27"/>
                      </a:lnTo>
                      <a:lnTo>
                        <a:pt x="45" y="29"/>
                      </a:lnTo>
                      <a:lnTo>
                        <a:pt x="52" y="26"/>
                      </a:lnTo>
                      <a:lnTo>
                        <a:pt x="58" y="26"/>
                      </a:lnTo>
                      <a:lnTo>
                        <a:pt x="63" y="19"/>
                      </a:lnTo>
                      <a:lnTo>
                        <a:pt x="70" y="21"/>
                      </a:lnTo>
                      <a:lnTo>
                        <a:pt x="75" y="29"/>
                      </a:lnTo>
                      <a:lnTo>
                        <a:pt x="74" y="35"/>
                      </a:lnTo>
                      <a:lnTo>
                        <a:pt x="86" y="35"/>
                      </a:lnTo>
                      <a:lnTo>
                        <a:pt x="99" y="32"/>
                      </a:lnTo>
                      <a:lnTo>
                        <a:pt x="105" y="37"/>
                      </a:lnTo>
                      <a:lnTo>
                        <a:pt x="118" y="52"/>
                      </a:lnTo>
                    </a:path>
                  </a:pathLst>
                </a:custGeom>
                <a:gradFill rotWithShape="0">
                  <a:gsLst>
                    <a:gs pos="0">
                      <a:srgbClr val="0000ff"/>
                    </a:gs>
                    <a:gs pos="100000">
                      <a:srgbClr val="00004b"/>
                    </a:gs>
                  </a:gsLst>
                  <a:path path="rect">
                    <a:fillToRect l="50000" t="50000" r="50000" b="50000"/>
                  </a:path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698400" y="1395360"/>
            <a:ext cx="7796160" cy="4641480"/>
            <a:chOff x="698400" y="1395360"/>
            <a:chExt cx="7796160" cy="4641480"/>
          </a:xfrm>
        </p:grpSpPr>
        <p:sp>
          <p:nvSpPr>
            <p:cNvPr id="477" name=""/>
            <p:cNvSpPr/>
            <p:nvPr/>
          </p:nvSpPr>
          <p:spPr>
            <a:xfrm>
              <a:off x="698400" y="1395360"/>
              <a:ext cx="7796160" cy="4641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15880" y="2280240"/>
              <a:ext cx="4341960" cy="22377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15880" y="4193280"/>
              <a:ext cx="4341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15880" y="388512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15880" y="356184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415880" y="323676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15880" y="291384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15880" y="260532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15880" y="228024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15880" y="2280240"/>
              <a:ext cx="4341960" cy="22377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15880" y="2280240"/>
              <a:ext cx="1800" cy="223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53960" y="451836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53960" y="4193280"/>
              <a:ext cx="61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53960" y="388512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53960" y="356184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53960" y="323676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53960" y="291384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53960" y="260532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53960" y="2280240"/>
              <a:ext cx="61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15880" y="4518360"/>
              <a:ext cx="434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141588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854360" y="451836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227952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271764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156120" y="451836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59244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01940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45608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894200" y="451836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5319720" y="451836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757840" y="451836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1635120" y="4235760"/>
              <a:ext cx="438120" cy="28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73240" y="4235760"/>
              <a:ext cx="425520" cy="28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498760" y="4235760"/>
              <a:ext cx="438120" cy="28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2936880" y="4192920"/>
              <a:ext cx="436680" cy="42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73560" y="4193280"/>
              <a:ext cx="4269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800520" y="4165920"/>
              <a:ext cx="436680" cy="27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4237200" y="4138200"/>
              <a:ext cx="438120" cy="273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4675320" y="4096080"/>
              <a:ext cx="426960" cy="417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02280" y="4096080"/>
              <a:ext cx="43668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1635120" y="3885120"/>
              <a:ext cx="438120" cy="547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2073240" y="3715560"/>
              <a:ext cx="425520" cy="1688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2498760" y="3688560"/>
              <a:ext cx="438120" cy="273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2936880" y="3616920"/>
              <a:ext cx="436680" cy="712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373560" y="3462120"/>
              <a:ext cx="426960" cy="154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800520" y="3308040"/>
              <a:ext cx="436680" cy="1537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237200" y="3209040"/>
              <a:ext cx="438120" cy="990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675320" y="2731680"/>
              <a:ext cx="426960" cy="4773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5102280" y="2632320"/>
              <a:ext cx="436680" cy="990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1635120" y="3181680"/>
              <a:ext cx="438120" cy="27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2073240" y="3139200"/>
              <a:ext cx="425520" cy="421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2498760" y="3110400"/>
              <a:ext cx="438120" cy="28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2936880" y="3082680"/>
              <a:ext cx="436680" cy="27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373560" y="3054600"/>
              <a:ext cx="426960" cy="27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0520" y="3054960"/>
              <a:ext cx="436680" cy="277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37200" y="3082680"/>
              <a:ext cx="438120" cy="565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75320" y="3139560"/>
              <a:ext cx="426960" cy="47736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02280" y="3616920"/>
              <a:ext cx="436680" cy="990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35120" y="3405960"/>
              <a:ext cx="438120" cy="210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73240" y="3616920"/>
              <a:ext cx="425520" cy="99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498760" y="3715920"/>
              <a:ext cx="438120" cy="196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936880" y="3912480"/>
              <a:ext cx="436680" cy="126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373560" y="4039200"/>
              <a:ext cx="426960" cy="15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00520" y="4193280"/>
              <a:ext cx="436680" cy="1688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37200" y="4362120"/>
              <a:ext cx="438120" cy="84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675320" y="4419360"/>
              <a:ext cx="426960" cy="27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102280" y="4419360"/>
              <a:ext cx="436680" cy="27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8760" y="4222800"/>
              <a:ext cx="7272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36880" y="419328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462040" y="422280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900520" y="4193280"/>
              <a:ext cx="7272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336840" y="41511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63800" y="41511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02280" y="4123800"/>
              <a:ext cx="71280" cy="8424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45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38600" y="409608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65560" y="405360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502240" y="405360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85800" y="3885120"/>
              <a:ext cx="60480" cy="69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23920" y="3828240"/>
              <a:ext cx="60480" cy="698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9440" y="3659040"/>
              <a:ext cx="60480" cy="71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87560" y="3631680"/>
              <a:ext cx="60480" cy="698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25680" y="3561840"/>
              <a:ext cx="60480" cy="69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51200" y="3405960"/>
              <a:ext cx="60480" cy="71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89320" y="3251520"/>
              <a:ext cx="60480" cy="698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27440" y="3152160"/>
              <a:ext cx="60480" cy="712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52960" y="2675160"/>
              <a:ext cx="60480" cy="69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491080" y="2576160"/>
              <a:ext cx="60480" cy="70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598760" y="3166920"/>
              <a:ext cx="7272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36880" y="313956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62040" y="30974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900520" y="3067920"/>
              <a:ext cx="7272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336840" y="304020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63800" y="30128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202280" y="3040200"/>
              <a:ext cx="71280" cy="8424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22" y="0"/>
                  </a:moveTo>
                  <a:lnTo>
                    <a:pt x="45" y="46"/>
                  </a:lnTo>
                  <a:lnTo>
                    <a:pt x="0" y="4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38600" y="30974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65560" y="357444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02240" y="367416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573200" y="3335760"/>
              <a:ext cx="10944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 flipV="1">
              <a:off x="1598400" y="336312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35120" y="34059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598400" y="34059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1635120" y="336312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11320" y="3547080"/>
              <a:ext cx="1094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036520" y="357408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73240" y="361692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036520" y="361692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073240" y="3574080"/>
              <a:ext cx="3672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36840" y="3646080"/>
              <a:ext cx="1094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2462040" y="367416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98760" y="371592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462040" y="371592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2498760" y="36741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74960" y="3842640"/>
              <a:ext cx="10944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2900160" y="386964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36880" y="391248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900160" y="391248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936880" y="386964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313080" y="3969360"/>
              <a:ext cx="1094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3336840" y="399708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73560" y="403920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3336840" y="403920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3373560" y="399708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738600" y="4123800"/>
              <a:ext cx="10944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 flipV="1">
              <a:off x="3763800" y="415116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00520" y="419328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3763800" y="4193280"/>
              <a:ext cx="3672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3800520" y="41511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76720" y="4292640"/>
              <a:ext cx="10944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4201920" y="4320360"/>
              <a:ext cx="349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37200" y="436212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4201920" y="4362120"/>
              <a:ext cx="3492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4237200" y="43203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14840" y="4376880"/>
              <a:ext cx="1094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 flipV="1">
              <a:off x="4638600" y="440460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75320" y="444672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4638600" y="444672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4675320" y="440460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040360" y="4349520"/>
              <a:ext cx="1094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5065560" y="4376520"/>
              <a:ext cx="3672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2280" y="44193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065560" y="441936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102280" y="437652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78480" y="4376880"/>
              <a:ext cx="10944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5502240" y="440460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38960" y="444672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502240" y="444672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538960" y="440460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014120" y="43920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916920" y="406656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916920" y="375804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916920" y="34351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6920" y="31104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916920" y="27871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916920" y="247860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16920" y="2153520"/>
              <a:ext cx="357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8900000">
              <a:off x="116352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18900000">
              <a:off x="160164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8900000">
              <a:off x="202716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8900000">
              <a:off x="246528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18900000">
              <a:off x="290340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18900000">
              <a:off x="332892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18900000">
              <a:off x="376704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6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8900000">
              <a:off x="420516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8900000">
              <a:off x="463068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8900000">
              <a:off x="5068800" y="48578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37200" y="5361120"/>
              <a:ext cx="494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56120" y="2548080"/>
              <a:ext cx="2262240" cy="1182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9800" y="2717280"/>
              <a:ext cx="32868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72200" y="2675160"/>
              <a:ext cx="73080" cy="8388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23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27440" y="25905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% 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049800" y="3012840"/>
              <a:ext cx="328680" cy="1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59600" y="2955600"/>
              <a:ext cx="60120" cy="698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26360" y="2886120"/>
              <a:ext cx="131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% ESCRITÓ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049800" y="3294000"/>
              <a:ext cx="328680" cy="14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72200" y="3251520"/>
              <a:ext cx="73080" cy="842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3" y="0"/>
                  </a:moveTo>
                  <a:lnTo>
                    <a:pt x="46" y="46"/>
                  </a:lnTo>
                  <a:lnTo>
                    <a:pt x="0" y="46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27080" y="316692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% OPERÁ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049800" y="3589560"/>
              <a:ext cx="328680" cy="14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48440" y="3519720"/>
              <a:ext cx="108000" cy="1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 flipV="1">
              <a:off x="6171840" y="3546720"/>
              <a:ext cx="3636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08560" y="3589560"/>
              <a:ext cx="3672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171840" y="3589560"/>
              <a:ext cx="36360" cy="4176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6208560" y="3546720"/>
              <a:ext cx="36720" cy="42120"/>
            </a:xfrm>
            <a:prstGeom prst="line">
              <a:avLst/>
            </a:prstGeom>
            <a:ln w="1260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427800" y="3462480"/>
              <a:ext cx="1056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% FAZE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8400" y="1395360"/>
              <a:ext cx="7796160" cy="4641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ÇÃO DA FORÇA DE TRABALHO (EUA) 1900-1997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Questõ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Como essa revolução vem acontecendo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Que conseqüências tem trazido para as pessoas, as organizações e o conjunto da sociedade?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Tahoma"/>
                <a:ea typeface="Tahoma"/>
              </a:rPr>
              <a:t>São perguntas cuja importância mal percebemos e que, na maioria das vezes, não nos preocupamos em responder. 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SISTEMA DE INFORM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TECNICAMENTE É UM CONJUNTO DE COMPONENTES INTER-RELACIONADOS QUE COLETA OU RECUPERA, PROCESSA, ARMAZENA E DISTRIBUI INFORMAÇÃ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APOIO A TOMADA DE DECISÃO, CONTROLE E GERÊNCIA NA ORGANIZAÇÃO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</a:rPr>
              <a:t>ANALISAR PROBLEMAS, CRIAR NOVOS PRODUTOS, PREVISÕES, ...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3334680" y="824040"/>
            <a:ext cx="2464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98400" y="2832120"/>
            <a:ext cx="1803600" cy="1193760"/>
          </a:xfrm>
          <a:prstGeom prst="rect">
            <a:avLst/>
          </a:prstGeom>
          <a:solidFill>
            <a:srgbClr val="7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642000" y="2832120"/>
            <a:ext cx="1803600" cy="1193760"/>
          </a:xfrm>
          <a:prstGeom prst="rect">
            <a:avLst/>
          </a:prstGeom>
          <a:solidFill>
            <a:srgbClr val="7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670200" y="2832120"/>
            <a:ext cx="1803600" cy="1193760"/>
          </a:xfrm>
          <a:prstGeom prst="rect">
            <a:avLst/>
          </a:prstGeom>
          <a:solidFill>
            <a:srgbClr val="7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523880" y="3206880"/>
            <a:ext cx="6019920" cy="1881720"/>
            <a:chOff x="1523880" y="3206880"/>
            <a:chExt cx="6019920" cy="1881720"/>
          </a:xfrm>
        </p:grpSpPr>
        <p:sp>
          <p:nvSpPr>
            <p:cNvPr id="669" name=""/>
            <p:cNvSpPr/>
            <p:nvPr/>
          </p:nvSpPr>
          <p:spPr>
            <a:xfrm>
              <a:off x="2521080" y="3206880"/>
              <a:ext cx="1130040" cy="444240"/>
            </a:xfrm>
            <a:prstGeom prst="rightArrow">
              <a:avLst>
                <a:gd name="adj1" fmla="val 50000"/>
                <a:gd name="adj2" fmla="val 1272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92880" y="3206880"/>
              <a:ext cx="1130040" cy="444240"/>
            </a:xfrm>
            <a:prstGeom prst="rightArrow">
              <a:avLst>
                <a:gd name="adj1" fmla="val 50000"/>
                <a:gd name="adj2" fmla="val 127200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38520" y="4633920"/>
              <a:ext cx="1870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"/>
            <p:cNvGrpSpPr/>
            <p:nvPr/>
          </p:nvGrpSpPr>
          <p:grpSpPr>
            <a:xfrm>
              <a:off x="5511960" y="4013280"/>
              <a:ext cx="2031840" cy="812880"/>
              <a:chOff x="5511960" y="4013280"/>
              <a:chExt cx="2031840" cy="812880"/>
            </a:xfrm>
          </p:grpSpPr>
          <p:sp>
            <p:nvSpPr>
              <p:cNvPr id="673" name=""/>
              <p:cNvSpPr/>
              <p:nvPr/>
            </p:nvSpPr>
            <p:spPr>
              <a:xfrm>
                <a:off x="5511960" y="4800600"/>
                <a:ext cx="20062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7543800" y="4013280"/>
                <a:ext cx="0" cy="81288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1523880" y="4038480"/>
              <a:ext cx="0" cy="76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523880" y="4800600"/>
              <a:ext cx="2006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99960" y="609480"/>
            <a:ext cx="83599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ÇÕES DE UM SISTEMA DE 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09480" y="1284120"/>
            <a:ext cx="7845480" cy="5041800"/>
            <a:chOff x="609480" y="1284120"/>
            <a:chExt cx="7845480" cy="5041800"/>
          </a:xfrm>
        </p:grpSpPr>
        <p:grpSp>
          <p:nvGrpSpPr>
            <p:cNvPr id="679" name=""/>
            <p:cNvGrpSpPr/>
            <p:nvPr/>
          </p:nvGrpSpPr>
          <p:grpSpPr>
            <a:xfrm>
              <a:off x="609480" y="1284120"/>
              <a:ext cx="7845480" cy="5041800"/>
              <a:chOff x="609480" y="1284120"/>
              <a:chExt cx="7845480" cy="50418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1376280" y="2584440"/>
                <a:ext cx="6540480" cy="2806560"/>
                <a:chOff x="1376280" y="2584440"/>
                <a:chExt cx="6540480" cy="280656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1376280" y="2584440"/>
                  <a:ext cx="6540480" cy="2806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618ffd"/>
                    </a:gs>
                    <a:gs pos="100000">
                      <a:srgbClr val="1c2a4b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611000" y="3657600"/>
                  <a:ext cx="1373400" cy="662040"/>
                </a:xfrm>
                <a:prstGeom prst="rect">
                  <a:avLst/>
                </a:prstGeom>
                <a:solidFill>
                  <a:srgbClr val="7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INPU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156000" y="3657600"/>
                  <a:ext cx="1373400" cy="662040"/>
                </a:xfrm>
                <a:prstGeom prst="rect">
                  <a:avLst/>
                </a:prstGeom>
                <a:solidFill>
                  <a:srgbClr val="7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OUTPUT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884400" y="3657600"/>
                  <a:ext cx="1371600" cy="662040"/>
                </a:xfrm>
                <a:prstGeom prst="rect">
                  <a:avLst/>
                </a:prstGeom>
                <a:solidFill>
                  <a:srgbClr val="7fff0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ROCES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003480" y="3865680"/>
                  <a:ext cx="861840" cy="245880"/>
                </a:xfrm>
                <a:prstGeom prst="rightArrow">
                  <a:avLst>
                    <a:gd name="adj1" fmla="val 50000"/>
                    <a:gd name="adj2" fmla="val 175272"/>
                  </a:avLst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275080" y="3865680"/>
                  <a:ext cx="861840" cy="245880"/>
                </a:xfrm>
                <a:prstGeom prst="rightArrow">
                  <a:avLst>
                    <a:gd name="adj1" fmla="val 50000"/>
                    <a:gd name="adj2" fmla="val 175272"/>
                  </a:avLst>
                </a:prstGeom>
                <a:solidFill>
                  <a:srgbClr val="618ff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832560" y="4640040"/>
                  <a:ext cx="14493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FEEDBACK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8" name=""/>
                <p:cNvGrpSpPr/>
                <p:nvPr/>
              </p:nvGrpSpPr>
              <p:grpSpPr>
                <a:xfrm>
                  <a:off x="5281560" y="4319280"/>
                  <a:ext cx="1562040" cy="453960"/>
                  <a:chOff x="5281560" y="4319280"/>
                  <a:chExt cx="1562040" cy="453960"/>
                </a:xfrm>
              </p:grpSpPr>
              <p:sp>
                <p:nvSpPr>
                  <p:cNvPr id="689" name=""/>
                  <p:cNvSpPr/>
                  <p:nvPr/>
                </p:nvSpPr>
                <p:spPr>
                  <a:xfrm>
                    <a:off x="5281560" y="4761000"/>
                    <a:ext cx="15490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V="1">
                    <a:off x="6843600" y="4319280"/>
                    <a:ext cx="0" cy="453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1" name=""/>
                <p:cNvGrpSpPr/>
                <p:nvPr/>
              </p:nvGrpSpPr>
              <p:grpSpPr>
                <a:xfrm>
                  <a:off x="2239920" y="4344840"/>
                  <a:ext cx="1560240" cy="416160"/>
                  <a:chOff x="2239920" y="4344840"/>
                  <a:chExt cx="1560240" cy="4161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>
                    <a:off x="2239920" y="4344840"/>
                    <a:ext cx="0" cy="40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2252520" y="4761000"/>
                    <a:ext cx="15476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>
                  <a:off x="2514240" y="3189240"/>
                  <a:ext cx="3959280" cy="39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NFORMATION SYSTE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>
                <a:off x="3200400" y="1284120"/>
                <a:ext cx="2816280" cy="51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0128"/>
                    </a:solidFill>
                    <a:latin typeface="Arial"/>
                  </a:rPr>
                  <a:t>AMBIENT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600200" y="2046240"/>
                <a:ext cx="632160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Arial"/>
                  </a:rPr>
                  <a:t>Clientes                                                 Fornecedores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                               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9480" y="5627520"/>
                <a:ext cx="78454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Arial"/>
                  </a:rPr>
                  <a:t>Agências                        Acionistas                     Competido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85800" y="5932440"/>
                <a:ext cx="19018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3124080" y="2892240"/>
              <a:ext cx="2816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ORGANIZ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DO &amp; INFORMAÇÃ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8120" y="1981080"/>
            <a:ext cx="802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ADO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FATO CRÚ REPRESENTANDO EVENTOS, </a:t>
            </a:r>
            <a:r>
              <a:rPr b="0" lang="pt-BR" sz="2000" spc="-1" strike="noStrike">
                <a:solidFill>
                  <a:srgbClr val="000000"/>
                </a:solidFill>
                <a:latin typeface="Arial Unicode MS"/>
              </a:rPr>
              <a:t> Informações não estruturadas relacionadas aos ambientes interno e externo da organização, suas transações, etc... (notas fiscais, contratos, notícias, ofícios, memorandos, etc).  </a:t>
            </a:r>
            <a:endParaRPr b="1" lang="en-US" sz="20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NFORMAÇÃO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CLUSTERS DE FATOS SIGNIFICATIVOS E ÚTEIS PARA O HUMANO PROCESSAR –          TOMADA DE  DECISÕES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Informações estruturadas, Planilhas, tabelas de BD, 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 Unicode MS"/>
              </a:rPr>
              <a:t>           relatórios, etc.</a:t>
            </a:r>
            <a:endParaRPr b="1" lang="en-US" sz="18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6872400" y="4586400"/>
          <a:ext cx="2271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2400" y="4586400"/>
                    <a:ext cx="2271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STEMAS DE INFORMAÇÃO BASEADOS EM COMPUTADOR </a:t>
            </a:r>
            <a:r>
              <a:rPr b="0" lang="en-US" sz="3600" spc="-1" strike="noStrike">
                <a:solidFill>
                  <a:srgbClr val="010000"/>
                </a:solidFill>
                <a:latin typeface="Times New Roman"/>
              </a:rPr>
              <a:t>(CBIS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ISTEMAS FORMAI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EFINIÇÕES DE DADOS E PROCEDIMENTO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LETAR, ARMAZENAR, PROCESSAR, DISSEMINAR E USAR DADO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5911920" y="5191200"/>
          <a:ext cx="2286000" cy="85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1920" y="5191200"/>
                    <a:ext cx="2286000" cy="85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762120" y="57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DE INFORMA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2476440" y="1143000"/>
            <a:ext cx="5435640" cy="5435640"/>
            <a:chOff x="2476440" y="1143000"/>
            <a:chExt cx="5435640" cy="5435640"/>
          </a:xfrm>
        </p:grpSpPr>
        <p:sp>
          <p:nvSpPr>
            <p:cNvPr id="710" name=""/>
            <p:cNvSpPr/>
            <p:nvPr/>
          </p:nvSpPr>
          <p:spPr>
            <a:xfrm>
              <a:off x="5219640" y="1143000"/>
              <a:ext cx="0" cy="2743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76440" y="1143000"/>
              <a:ext cx="5435640" cy="543564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19640" y="1143000"/>
              <a:ext cx="0" cy="2692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3048120" y="3886200"/>
              <a:ext cx="2171520" cy="167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19640" y="3886200"/>
              <a:ext cx="2082960" cy="1701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707200" y="2616120"/>
              <a:ext cx="17100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RGANIZ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07680" y="2616120"/>
              <a:ext cx="15303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NOLOG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82000" y="5549760"/>
              <a:ext cx="1982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ERENCIA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143320" y="3809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000320" y="2590920"/>
              <a:ext cx="2425680" cy="2425680"/>
              <a:chOff x="4000320" y="2590920"/>
              <a:chExt cx="2425680" cy="2425680"/>
            </a:xfrm>
          </p:grpSpPr>
          <p:sp>
            <p:nvSpPr>
              <p:cNvPr id="720" name=""/>
              <p:cNvSpPr/>
              <p:nvPr/>
            </p:nvSpPr>
            <p:spPr>
              <a:xfrm>
                <a:off x="4000320" y="2590920"/>
                <a:ext cx="2425680" cy="242568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ae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22520" y="3424320"/>
                <a:ext cx="1793880" cy="78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ISTEMA DE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INFORMAÇÃ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2" name=""/>
          <p:cNvSpPr/>
          <p:nvPr/>
        </p:nvSpPr>
        <p:spPr>
          <a:xfrm>
            <a:off x="7472520" y="108900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rspectiv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egó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60" y="1222200"/>
            <a:ext cx="3141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lução Organizacional e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erenciamento baseada e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ÇÕ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EOPLE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Managers, knowledge workers, data workers, production or service worker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TRUCTURE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Organization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hart, groups of specialists, products, geograph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6862320" y="2751120"/>
            <a:ext cx="2281320" cy="3631680"/>
            <a:chOff x="6862320" y="2751120"/>
            <a:chExt cx="2281320" cy="3631680"/>
          </a:xfrm>
        </p:grpSpPr>
        <p:grpSp>
          <p:nvGrpSpPr>
            <p:cNvPr id="727" name=""/>
            <p:cNvGrpSpPr/>
            <p:nvPr/>
          </p:nvGrpSpPr>
          <p:grpSpPr>
            <a:xfrm>
              <a:off x="7021800" y="2751120"/>
              <a:ext cx="2003400" cy="3190680"/>
              <a:chOff x="7021800" y="2751120"/>
              <a:chExt cx="2003400" cy="3190680"/>
            </a:xfrm>
          </p:grpSpPr>
          <p:grpSp>
            <p:nvGrpSpPr>
              <p:cNvPr id="728" name=""/>
              <p:cNvGrpSpPr/>
              <p:nvPr/>
            </p:nvGrpSpPr>
            <p:grpSpPr>
              <a:xfrm>
                <a:off x="8298000" y="3492000"/>
                <a:ext cx="210960" cy="2449800"/>
                <a:chOff x="8298000" y="3492000"/>
                <a:chExt cx="210960" cy="2449800"/>
              </a:xfrm>
            </p:grpSpPr>
            <p:sp>
              <p:nvSpPr>
                <p:cNvPr id="729" name=""/>
                <p:cNvSpPr/>
                <p:nvPr/>
              </p:nvSpPr>
              <p:spPr>
                <a:xfrm flipH="1">
                  <a:off x="8298000" y="3672360"/>
                  <a:ext cx="177840" cy="2269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8444160" y="3655080"/>
                  <a:ext cx="64800" cy="228168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8447040" y="3496680"/>
                  <a:ext cx="52560" cy="217440"/>
                </a:xfrm>
                <a:custGeom>
                  <a:avLst/>
                  <a:gdLst/>
                  <a:ahLst/>
                  <a:rect l="l" t="t" r="r" b="b"/>
                  <a:pathLst>
                    <a:path w="132" h="208">
                      <a:moveTo>
                        <a:pt x="132" y="208"/>
                      </a:moveTo>
                      <a:lnTo>
                        <a:pt x="132" y="21"/>
                      </a:lnTo>
                      <a:lnTo>
                        <a:pt x="0" y="0"/>
                      </a:lnTo>
                      <a:lnTo>
                        <a:pt x="4" y="208"/>
                      </a:lnTo>
                      <a:lnTo>
                        <a:pt x="132" y="20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8297640" y="3492000"/>
                  <a:ext cx="150840" cy="352080"/>
                </a:xfrm>
                <a:custGeom>
                  <a:avLst/>
                  <a:gdLst/>
                  <a:ahLst/>
                  <a:rect l="l" t="t" r="r" b="b"/>
                  <a:pathLst>
                    <a:path w="382" h="335">
                      <a:moveTo>
                        <a:pt x="0" y="0"/>
                      </a:moveTo>
                      <a:lnTo>
                        <a:pt x="382" y="174"/>
                      </a:lnTo>
                      <a:lnTo>
                        <a:pt x="382" y="335"/>
                      </a:lnTo>
                      <a:lnTo>
                        <a:pt x="0" y="1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8485200" y="2751120"/>
                <a:ext cx="540000" cy="3186000"/>
                <a:chOff x="8485200" y="2751120"/>
                <a:chExt cx="540000" cy="3186000"/>
              </a:xfrm>
            </p:grpSpPr>
            <p:sp>
              <p:nvSpPr>
                <p:cNvPr id="734" name=""/>
                <p:cNvSpPr/>
                <p:nvPr/>
              </p:nvSpPr>
              <p:spPr>
                <a:xfrm flipH="1">
                  <a:off x="8793000" y="2751120"/>
                  <a:ext cx="14040" cy="225720"/>
                </a:xfrm>
                <a:custGeom>
                  <a:avLst/>
                  <a:gdLst/>
                  <a:ahLst/>
                  <a:rect l="l" t="t" r="r" b="b"/>
                  <a:pathLst>
                    <a:path w="36" h="216">
                      <a:moveTo>
                        <a:pt x="0" y="216"/>
                      </a:moveTo>
                      <a:lnTo>
                        <a:pt x="0" y="0"/>
                      </a:lnTo>
                      <a:lnTo>
                        <a:pt x="36" y="8"/>
                      </a:lnTo>
                      <a:lnTo>
                        <a:pt x="36" y="202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H="1">
                  <a:off x="8758440" y="2943720"/>
                  <a:ext cx="856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117">
                      <a:moveTo>
                        <a:pt x="0" y="117"/>
                      </a:moveTo>
                      <a:lnTo>
                        <a:pt x="0" y="29"/>
                      </a:lnTo>
                      <a:lnTo>
                        <a:pt x="215" y="0"/>
                      </a:lnTo>
                      <a:lnTo>
                        <a:pt x="215" y="8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H="1">
                  <a:off x="8724960" y="2943720"/>
                  <a:ext cx="36720" cy="78480"/>
                </a:xfrm>
                <a:custGeom>
                  <a:avLst/>
                  <a:gdLst/>
                  <a:ahLst/>
                  <a:rect l="l" t="t" r="r" b="b"/>
                  <a:pathLst>
                    <a:path w="92" h="77">
                      <a:moveTo>
                        <a:pt x="0" y="67"/>
                      </a:moveTo>
                      <a:lnTo>
                        <a:pt x="0" y="0"/>
                      </a:lnTo>
                      <a:lnTo>
                        <a:pt x="92" y="29"/>
                      </a:lnTo>
                      <a:lnTo>
                        <a:pt x="79" y="7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H="1">
                  <a:off x="8555040" y="3027240"/>
                  <a:ext cx="82800" cy="246600"/>
                </a:xfrm>
                <a:custGeom>
                  <a:avLst/>
                  <a:gdLst/>
                  <a:ahLst/>
                  <a:rect l="l" t="t" r="r" b="b"/>
                  <a:pathLst>
                    <a:path w="210" h="238">
                      <a:moveTo>
                        <a:pt x="178" y="0"/>
                      </a:moveTo>
                      <a:lnTo>
                        <a:pt x="0" y="43"/>
                      </a:lnTo>
                      <a:lnTo>
                        <a:pt x="53" y="238"/>
                      </a:lnTo>
                      <a:lnTo>
                        <a:pt x="210" y="192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>
                  <a:off x="8485200" y="2959920"/>
                  <a:ext cx="198720" cy="2977200"/>
                </a:xfrm>
                <a:custGeom>
                  <a:avLst/>
                  <a:gdLst/>
                  <a:ahLst/>
                  <a:rect l="l" t="t" r="r" b="b"/>
                  <a:pathLst>
                    <a:path w="500" h="2842">
                      <a:moveTo>
                        <a:pt x="0" y="2272"/>
                      </a:moveTo>
                      <a:lnTo>
                        <a:pt x="0" y="1764"/>
                      </a:lnTo>
                      <a:lnTo>
                        <a:pt x="74" y="1580"/>
                      </a:lnTo>
                      <a:lnTo>
                        <a:pt x="74" y="0"/>
                      </a:lnTo>
                      <a:lnTo>
                        <a:pt x="291" y="136"/>
                      </a:lnTo>
                      <a:lnTo>
                        <a:pt x="291" y="58"/>
                      </a:lnTo>
                      <a:lnTo>
                        <a:pt x="473" y="175"/>
                      </a:lnTo>
                      <a:lnTo>
                        <a:pt x="473" y="251"/>
                      </a:lnTo>
                      <a:lnTo>
                        <a:pt x="500" y="290"/>
                      </a:lnTo>
                      <a:lnTo>
                        <a:pt x="500" y="2842"/>
                      </a:lnTo>
                      <a:lnTo>
                        <a:pt x="73" y="2842"/>
                      </a:lnTo>
                      <a:lnTo>
                        <a:pt x="0" y="2840"/>
                      </a:lnTo>
                      <a:lnTo>
                        <a:pt x="0" y="227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 flipH="1">
                  <a:off x="8651880" y="2959920"/>
                  <a:ext cx="371520" cy="2977200"/>
                </a:xfrm>
                <a:custGeom>
                  <a:avLst/>
                  <a:gdLst/>
                  <a:ahLst/>
                  <a:rect l="l" t="t" r="r" b="b"/>
                  <a:pathLst>
                    <a:path w="935" h="2842">
                      <a:moveTo>
                        <a:pt x="0" y="2842"/>
                      </a:moveTo>
                      <a:lnTo>
                        <a:pt x="0" y="1766"/>
                      </a:lnTo>
                      <a:lnTo>
                        <a:pt x="78" y="1587"/>
                      </a:lnTo>
                      <a:lnTo>
                        <a:pt x="78" y="192"/>
                      </a:lnTo>
                      <a:lnTo>
                        <a:pt x="121" y="111"/>
                      </a:lnTo>
                      <a:lnTo>
                        <a:pt x="935" y="0"/>
                      </a:lnTo>
                      <a:lnTo>
                        <a:pt x="935" y="1590"/>
                      </a:lnTo>
                      <a:lnTo>
                        <a:pt x="865" y="1775"/>
                      </a:lnTo>
                      <a:lnTo>
                        <a:pt x="865" y="2842"/>
                      </a:lnTo>
                      <a:lnTo>
                        <a:pt x="0" y="284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0" name=""/>
                <p:cNvGrpSpPr/>
                <p:nvPr/>
              </p:nvGrpSpPr>
              <p:grpSpPr>
                <a:xfrm>
                  <a:off x="8690040" y="5041440"/>
                  <a:ext cx="322200" cy="212760"/>
                  <a:chOff x="8690040" y="5041440"/>
                  <a:chExt cx="322200" cy="212760"/>
                </a:xfrm>
              </p:grpSpPr>
              <p:sp>
                <p:nvSpPr>
                  <p:cNvPr id="741" name=""/>
                  <p:cNvSpPr/>
                  <p:nvPr/>
                </p:nvSpPr>
                <p:spPr>
                  <a:xfrm flipH="1">
                    <a:off x="8690040" y="504144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 flipH="1">
                    <a:off x="8690040" y="511236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 flipH="1">
                    <a:off x="8690040" y="5249520"/>
                    <a:ext cx="322200" cy="46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 flipH="1">
                    <a:off x="8690040" y="518328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45" name=""/>
                <p:cNvSpPr/>
                <p:nvPr/>
              </p:nvSpPr>
              <p:spPr>
                <a:xfrm flipH="1">
                  <a:off x="8501040" y="3257280"/>
                  <a:ext cx="1584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H="1">
                  <a:off x="8588520" y="3131640"/>
                  <a:ext cx="14400" cy="1607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H="1">
                  <a:off x="8532720" y="3206880"/>
                  <a:ext cx="1404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>
                  <a:off x="8558280" y="3165120"/>
                  <a:ext cx="1440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H="1">
                  <a:off x="8616960" y="3085200"/>
                  <a:ext cx="1440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H="1">
                  <a:off x="8651880" y="2959920"/>
                  <a:ext cx="341280" cy="213480"/>
                </a:xfrm>
                <a:custGeom>
                  <a:avLst/>
                  <a:gdLst/>
                  <a:ahLst/>
                  <a:rect l="l" t="t" r="r" b="b"/>
                  <a:pathLst>
                    <a:path w="861" h="202">
                      <a:moveTo>
                        <a:pt x="0" y="202"/>
                      </a:moveTo>
                      <a:lnTo>
                        <a:pt x="47" y="115"/>
                      </a:lnTo>
                      <a:lnTo>
                        <a:pt x="861" y="0"/>
                      </a:lnTo>
                      <a:lnTo>
                        <a:pt x="861" y="111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flipH="1">
                  <a:off x="8651520" y="4626360"/>
                  <a:ext cx="373320" cy="196560"/>
                </a:xfrm>
                <a:custGeom>
                  <a:avLst/>
                  <a:gdLst/>
                  <a:ahLst/>
                  <a:rect l="l" t="t" r="r" b="b"/>
                  <a:pathLst>
                    <a:path w="939" h="187">
                      <a:moveTo>
                        <a:pt x="83" y="0"/>
                      </a:moveTo>
                      <a:lnTo>
                        <a:pt x="939" y="0"/>
                      </a:lnTo>
                      <a:lnTo>
                        <a:pt x="869" y="187"/>
                      </a:lnTo>
                      <a:lnTo>
                        <a:pt x="0" y="18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8707680" y="3085200"/>
                  <a:ext cx="48960" cy="1742400"/>
                </a:xfrm>
                <a:custGeom>
                  <a:avLst/>
                  <a:gdLst/>
                  <a:ahLst/>
                  <a:rect l="l" t="t" r="r" b="b"/>
                  <a:pathLst>
                    <a:path w="123" h="1661">
                      <a:moveTo>
                        <a:pt x="123" y="0"/>
                      </a:moveTo>
                      <a:lnTo>
                        <a:pt x="123" y="1473"/>
                      </a:lnTo>
                      <a:lnTo>
                        <a:pt x="46" y="1661"/>
                      </a:lnTo>
                      <a:lnTo>
                        <a:pt x="0" y="1661"/>
                      </a:lnTo>
                      <a:lnTo>
                        <a:pt x="79" y="1474"/>
                      </a:lnTo>
                      <a:lnTo>
                        <a:pt x="79" y="4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8764560" y="3107160"/>
                  <a:ext cx="44640" cy="1720440"/>
                </a:xfrm>
                <a:custGeom>
                  <a:avLst/>
                  <a:gdLst/>
                  <a:ahLst/>
                  <a:rect l="l" t="t" r="r" b="b"/>
                  <a:pathLst>
                    <a:path w="113" h="1644">
                      <a:moveTo>
                        <a:pt x="0" y="1642"/>
                      </a:moveTo>
                      <a:lnTo>
                        <a:pt x="73" y="1456"/>
                      </a:lnTo>
                      <a:lnTo>
                        <a:pt x="73" y="3"/>
                      </a:lnTo>
                      <a:lnTo>
                        <a:pt x="113" y="0"/>
                      </a:lnTo>
                      <a:lnTo>
                        <a:pt x="113" y="1460"/>
                      </a:lnTo>
                      <a:lnTo>
                        <a:pt x="44" y="1644"/>
                      </a:lnTo>
                      <a:lnTo>
                        <a:pt x="0" y="164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H="1">
                  <a:off x="8821800" y="3119400"/>
                  <a:ext cx="46080" cy="1703520"/>
                </a:xfrm>
                <a:custGeom>
                  <a:avLst/>
                  <a:gdLst/>
                  <a:ahLst/>
                  <a:rect l="l" t="t" r="r" b="b"/>
                  <a:pathLst>
                    <a:path w="117" h="1627">
                      <a:moveTo>
                        <a:pt x="74" y="7"/>
                      </a:moveTo>
                      <a:lnTo>
                        <a:pt x="117" y="0"/>
                      </a:lnTo>
                      <a:lnTo>
                        <a:pt x="117" y="1451"/>
                      </a:lnTo>
                      <a:lnTo>
                        <a:pt x="48" y="1627"/>
                      </a:lnTo>
                      <a:lnTo>
                        <a:pt x="0" y="1627"/>
                      </a:lnTo>
                      <a:lnTo>
                        <a:pt x="74" y="1446"/>
                      </a:lnTo>
                      <a:lnTo>
                        <a:pt x="74" y="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flipH="1">
                  <a:off x="8876880" y="3135600"/>
                  <a:ext cx="49320" cy="1692000"/>
                </a:xfrm>
                <a:custGeom>
                  <a:avLst/>
                  <a:gdLst/>
                  <a:ahLst/>
                  <a:rect l="l" t="t" r="r" b="b"/>
                  <a:pathLst>
                    <a:path w="123" h="1613">
                      <a:moveTo>
                        <a:pt x="79" y="3"/>
                      </a:moveTo>
                      <a:lnTo>
                        <a:pt x="123" y="0"/>
                      </a:lnTo>
                      <a:lnTo>
                        <a:pt x="123" y="1432"/>
                      </a:lnTo>
                      <a:lnTo>
                        <a:pt x="51" y="1613"/>
                      </a:lnTo>
                      <a:lnTo>
                        <a:pt x="0" y="1613"/>
                      </a:lnTo>
                      <a:lnTo>
                        <a:pt x="79" y="1429"/>
                      </a:lnTo>
                      <a:lnTo>
                        <a:pt x="79" y="3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flipH="1">
                  <a:off x="8933040" y="3152520"/>
                  <a:ext cx="47520" cy="1666440"/>
                </a:xfrm>
                <a:custGeom>
                  <a:avLst/>
                  <a:gdLst/>
                  <a:ahLst/>
                  <a:rect l="l" t="t" r="r" b="b"/>
                  <a:pathLst>
                    <a:path w="119" h="1593">
                      <a:moveTo>
                        <a:pt x="74" y="4"/>
                      </a:moveTo>
                      <a:lnTo>
                        <a:pt x="119" y="0"/>
                      </a:lnTo>
                      <a:lnTo>
                        <a:pt x="119" y="1411"/>
                      </a:lnTo>
                      <a:lnTo>
                        <a:pt x="42" y="1593"/>
                      </a:lnTo>
                      <a:lnTo>
                        <a:pt x="0" y="1593"/>
                      </a:lnTo>
                      <a:lnTo>
                        <a:pt x="74" y="1413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8347320" y="4962240"/>
                <a:ext cx="83880" cy="979200"/>
                <a:chOff x="8347320" y="4962240"/>
                <a:chExt cx="83880" cy="979200"/>
              </a:xfrm>
            </p:grpSpPr>
            <p:sp>
              <p:nvSpPr>
                <p:cNvPr id="758" name=""/>
                <p:cNvSpPr/>
                <p:nvPr/>
              </p:nvSpPr>
              <p:spPr>
                <a:xfrm flipH="1">
                  <a:off x="8346960" y="4962240"/>
                  <a:ext cx="83880" cy="979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H="1">
                  <a:off x="8394840" y="5016240"/>
                  <a:ext cx="15840" cy="347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H="1">
                  <a:off x="8369280" y="5016240"/>
                  <a:ext cx="15840" cy="347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H="1">
                  <a:off x="8356680" y="5078880"/>
                  <a:ext cx="65160" cy="468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flipH="1">
                  <a:off x="8353440" y="515484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flipH="1">
                  <a:off x="8356680" y="521748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flipH="1">
                  <a:off x="8353440" y="528840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5" name=""/>
              <p:cNvGrpSpPr/>
              <p:nvPr/>
            </p:nvGrpSpPr>
            <p:grpSpPr>
              <a:xfrm>
                <a:off x="7832880" y="4468320"/>
                <a:ext cx="250920" cy="1468080"/>
                <a:chOff x="7832880" y="4468320"/>
                <a:chExt cx="250920" cy="1468080"/>
              </a:xfrm>
            </p:grpSpPr>
            <p:sp>
              <p:nvSpPr>
                <p:cNvPr id="766" name=""/>
                <p:cNvSpPr/>
                <p:nvPr/>
              </p:nvSpPr>
              <p:spPr>
                <a:xfrm flipH="1">
                  <a:off x="7832520" y="4597200"/>
                  <a:ext cx="96840" cy="133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 flipH="1">
                  <a:off x="7890120" y="4471920"/>
                  <a:ext cx="193680" cy="1464480"/>
                </a:xfrm>
                <a:custGeom>
                  <a:avLst/>
                  <a:gdLst/>
                  <a:ahLst/>
                  <a:rect l="l" t="t" r="r" b="b"/>
                  <a:pathLst>
                    <a:path w="490" h="1401">
                      <a:moveTo>
                        <a:pt x="0" y="34"/>
                      </a:moveTo>
                      <a:lnTo>
                        <a:pt x="0" y="1401"/>
                      </a:lnTo>
                      <a:lnTo>
                        <a:pt x="490" y="1401"/>
                      </a:lnTo>
                      <a:lnTo>
                        <a:pt x="49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 flipH="1">
                  <a:off x="7832880" y="4468320"/>
                  <a:ext cx="61920" cy="250560"/>
                </a:xfrm>
                <a:custGeom>
                  <a:avLst/>
                  <a:gdLst/>
                  <a:ahLst/>
                  <a:rect l="l" t="t" r="r" b="b"/>
                  <a:pathLst>
                    <a:path w="158" h="240">
                      <a:moveTo>
                        <a:pt x="0" y="0"/>
                      </a:moveTo>
                      <a:lnTo>
                        <a:pt x="158" y="123"/>
                      </a:lnTo>
                      <a:lnTo>
                        <a:pt x="158" y="240"/>
                      </a:lnTo>
                      <a:lnTo>
                        <a:pt x="0" y="1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 flipH="1">
                  <a:off x="8045280" y="4647600"/>
                  <a:ext cx="20520" cy="62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 flipH="1">
                  <a:off x="7925040" y="4656240"/>
                  <a:ext cx="17280" cy="62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>
                  <a:off x="7901280" y="4756680"/>
                  <a:ext cx="1760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>
                  <a:off x="7907400" y="4878360"/>
                  <a:ext cx="1666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>
                  <a:off x="7907400" y="5015880"/>
                  <a:ext cx="16848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>
                  <a:off x="7905960" y="5133600"/>
                  <a:ext cx="1648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7021800" y="4267080"/>
                <a:ext cx="204480" cy="1669680"/>
                <a:chOff x="7021800" y="4267080"/>
                <a:chExt cx="204480" cy="1669680"/>
              </a:xfrm>
            </p:grpSpPr>
            <p:sp>
              <p:nvSpPr>
                <p:cNvPr id="776" name=""/>
                <p:cNvSpPr/>
                <p:nvPr/>
              </p:nvSpPr>
              <p:spPr>
                <a:xfrm flipH="1">
                  <a:off x="7065720" y="4267080"/>
                  <a:ext cx="66600" cy="180360"/>
                </a:xfrm>
                <a:custGeom>
                  <a:avLst/>
                  <a:gdLst/>
                  <a:ahLst/>
                  <a:rect l="l" t="t" r="r" b="b"/>
                  <a:pathLst>
                    <a:path w="168" h="174">
                      <a:moveTo>
                        <a:pt x="17" y="0"/>
                      </a:moveTo>
                      <a:lnTo>
                        <a:pt x="168" y="59"/>
                      </a:lnTo>
                      <a:lnTo>
                        <a:pt x="160" y="174"/>
                      </a:lnTo>
                      <a:lnTo>
                        <a:pt x="0" y="12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>
                  <a:off x="7121160" y="4267080"/>
                  <a:ext cx="34920" cy="19260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>
                  <a:off x="7101000" y="4400640"/>
                  <a:ext cx="125280" cy="15361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>
                  <a:off x="7021440" y="4400640"/>
                  <a:ext cx="83880" cy="1536120"/>
                </a:xfrm>
                <a:custGeom>
                  <a:avLst/>
                  <a:gdLst/>
                  <a:ahLst/>
                  <a:rect l="l" t="t" r="r" b="b"/>
                  <a:pathLst>
                    <a:path w="210" h="1468">
                      <a:moveTo>
                        <a:pt x="0" y="0"/>
                      </a:moveTo>
                      <a:lnTo>
                        <a:pt x="210" y="59"/>
                      </a:lnTo>
                      <a:lnTo>
                        <a:pt x="210" y="1468"/>
                      </a:lnTo>
                      <a:lnTo>
                        <a:pt x="0" y="14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7184880" y="4484160"/>
                  <a:ext cx="1908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7157880" y="4484160"/>
                  <a:ext cx="1908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7126560" y="4484160"/>
                  <a:ext cx="1872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7110360" y="4614480"/>
                  <a:ext cx="1130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7107480" y="4756680"/>
                  <a:ext cx="1126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7107480" y="4928760"/>
                  <a:ext cx="11412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7112160" y="5066280"/>
                  <a:ext cx="10332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7204320" y="4798800"/>
                <a:ext cx="195120" cy="1142640"/>
                <a:chOff x="7204320" y="4798800"/>
                <a:chExt cx="195120" cy="1142640"/>
              </a:xfrm>
            </p:grpSpPr>
            <p:sp>
              <p:nvSpPr>
                <p:cNvPr id="788" name=""/>
                <p:cNvSpPr/>
                <p:nvPr/>
              </p:nvSpPr>
              <p:spPr>
                <a:xfrm flipH="1">
                  <a:off x="7283520" y="4798800"/>
                  <a:ext cx="115920" cy="114264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7203960" y="4798800"/>
                  <a:ext cx="83880" cy="1137960"/>
                </a:xfrm>
                <a:custGeom>
                  <a:avLst/>
                  <a:gdLst/>
                  <a:ahLst/>
                  <a:rect l="l" t="t" r="r" b="b"/>
                  <a:pathLst>
                    <a:path w="210" h="1088">
                      <a:moveTo>
                        <a:pt x="0" y="0"/>
                      </a:moveTo>
                      <a:lnTo>
                        <a:pt x="210" y="86"/>
                      </a:lnTo>
                      <a:lnTo>
                        <a:pt x="210" y="1088"/>
                      </a:lnTo>
                      <a:lnTo>
                        <a:pt x="0" y="10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388280" y="3375000"/>
                <a:ext cx="379440" cy="2566440"/>
                <a:chOff x="7388280" y="3375000"/>
                <a:chExt cx="379440" cy="2566440"/>
              </a:xfrm>
            </p:grpSpPr>
            <p:sp>
              <p:nvSpPr>
                <p:cNvPr id="791" name=""/>
                <p:cNvSpPr/>
                <p:nvPr/>
              </p:nvSpPr>
              <p:spPr>
                <a:xfrm flipH="1">
                  <a:off x="7387920" y="3378600"/>
                  <a:ext cx="74520" cy="2562480"/>
                </a:xfrm>
                <a:custGeom>
                  <a:avLst/>
                  <a:gdLst/>
                  <a:ahLst/>
                  <a:rect l="l" t="t" r="r" b="b"/>
                  <a:pathLst>
                    <a:path w="185" h="2448">
                      <a:moveTo>
                        <a:pt x="15" y="0"/>
                      </a:moveTo>
                      <a:lnTo>
                        <a:pt x="185" y="191"/>
                      </a:lnTo>
                      <a:lnTo>
                        <a:pt x="185" y="2446"/>
                      </a:lnTo>
                      <a:lnTo>
                        <a:pt x="0" y="244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7451640" y="3375000"/>
                  <a:ext cx="315720" cy="2566440"/>
                </a:xfrm>
                <a:custGeom>
                  <a:avLst/>
                  <a:gdLst/>
                  <a:ahLst/>
                  <a:rect l="l" t="t" r="r" b="b"/>
                  <a:pathLst>
                    <a:path w="799" h="2450">
                      <a:moveTo>
                        <a:pt x="0" y="74"/>
                      </a:moveTo>
                      <a:lnTo>
                        <a:pt x="799" y="0"/>
                      </a:lnTo>
                      <a:lnTo>
                        <a:pt x="799" y="2450"/>
                      </a:lnTo>
                      <a:lnTo>
                        <a:pt x="0" y="2448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7500960" y="3387240"/>
                  <a:ext cx="22320" cy="2554200"/>
                </a:xfrm>
                <a:custGeom>
                  <a:avLst/>
                  <a:gdLst/>
                  <a:ahLst/>
                  <a:rect l="l" t="t" r="r" b="b"/>
                  <a:pathLst>
                    <a:path w="56" h="2440">
                      <a:moveTo>
                        <a:pt x="56" y="0"/>
                      </a:moveTo>
                      <a:lnTo>
                        <a:pt x="0" y="3"/>
                      </a:lnTo>
                      <a:lnTo>
                        <a:pt x="0" y="2440"/>
                      </a:lnTo>
                      <a:lnTo>
                        <a:pt x="56" y="244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7557840" y="3399480"/>
                  <a:ext cx="20520" cy="2536920"/>
                </a:xfrm>
                <a:custGeom>
                  <a:avLst/>
                  <a:gdLst/>
                  <a:ahLst/>
                  <a:rect l="l" t="t" r="r" b="b"/>
                  <a:pathLst>
                    <a:path w="52" h="2422">
                      <a:moveTo>
                        <a:pt x="52" y="0"/>
                      </a:moveTo>
                      <a:lnTo>
                        <a:pt x="1" y="8"/>
                      </a:lnTo>
                      <a:lnTo>
                        <a:pt x="0" y="2422"/>
                      </a:lnTo>
                      <a:lnTo>
                        <a:pt x="50" y="2422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7613640" y="3416760"/>
                  <a:ext cx="20880" cy="2520000"/>
                </a:xfrm>
                <a:custGeom>
                  <a:avLst/>
                  <a:gdLst/>
                  <a:ahLst/>
                  <a:rect l="l" t="t" r="r" b="b"/>
                  <a:pathLst>
                    <a:path w="52" h="2406">
                      <a:moveTo>
                        <a:pt x="52" y="0"/>
                      </a:moveTo>
                      <a:lnTo>
                        <a:pt x="1" y="2"/>
                      </a:lnTo>
                      <a:lnTo>
                        <a:pt x="0" y="2406"/>
                      </a:lnTo>
                      <a:lnTo>
                        <a:pt x="50" y="240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7669080" y="3429000"/>
                  <a:ext cx="20520" cy="2507400"/>
                </a:xfrm>
                <a:custGeom>
                  <a:avLst/>
                  <a:gdLst/>
                  <a:ahLst/>
                  <a:rect l="l" t="t" r="r" b="b"/>
                  <a:pathLst>
                    <a:path w="53" h="2395">
                      <a:moveTo>
                        <a:pt x="53" y="0"/>
                      </a:moveTo>
                      <a:lnTo>
                        <a:pt x="1" y="3"/>
                      </a:lnTo>
                      <a:lnTo>
                        <a:pt x="0" y="2395"/>
                      </a:lnTo>
                      <a:lnTo>
                        <a:pt x="51" y="239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7723080" y="3441240"/>
                  <a:ext cx="21960" cy="2495160"/>
                </a:xfrm>
                <a:custGeom>
                  <a:avLst/>
                  <a:gdLst/>
                  <a:ahLst/>
                  <a:rect l="l" t="t" r="r" b="b"/>
                  <a:pathLst>
                    <a:path w="53" h="2381">
                      <a:moveTo>
                        <a:pt x="53" y="0"/>
                      </a:moveTo>
                      <a:lnTo>
                        <a:pt x="1" y="2"/>
                      </a:lnTo>
                      <a:lnTo>
                        <a:pt x="0" y="2381"/>
                      </a:lnTo>
                      <a:lnTo>
                        <a:pt x="52" y="238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8082000" y="4878720"/>
                <a:ext cx="255600" cy="1058040"/>
                <a:chOff x="8082000" y="4878720"/>
                <a:chExt cx="255600" cy="1058040"/>
              </a:xfrm>
            </p:grpSpPr>
            <p:sp>
              <p:nvSpPr>
                <p:cNvPr id="799" name=""/>
                <p:cNvSpPr/>
                <p:nvPr/>
              </p:nvSpPr>
              <p:spPr>
                <a:xfrm flipH="1">
                  <a:off x="8183520" y="4878720"/>
                  <a:ext cx="154080" cy="1058040"/>
                </a:xfrm>
                <a:custGeom>
                  <a:avLst/>
                  <a:gdLst/>
                  <a:ahLst/>
                  <a:rect l="l" t="t" r="r" b="b"/>
                  <a:pathLst>
                    <a:path w="384" h="1012">
                      <a:moveTo>
                        <a:pt x="0" y="0"/>
                      </a:moveTo>
                      <a:lnTo>
                        <a:pt x="384" y="12"/>
                      </a:lnTo>
                      <a:lnTo>
                        <a:pt x="384" y="1012"/>
                      </a:lnTo>
                      <a:lnTo>
                        <a:pt x="0" y="10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>
                  <a:off x="8239320" y="5008680"/>
                  <a:ext cx="1728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>
                  <a:off x="820908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8082000" y="4890960"/>
                  <a:ext cx="106560" cy="1045800"/>
                </a:xfrm>
                <a:custGeom>
                  <a:avLst/>
                  <a:gdLst/>
                  <a:ahLst/>
                  <a:rect l="l" t="t" r="r" b="b"/>
                  <a:pathLst>
                    <a:path w="266" h="1001">
                      <a:moveTo>
                        <a:pt x="0" y="0"/>
                      </a:moveTo>
                      <a:lnTo>
                        <a:pt x="0" y="1001"/>
                      </a:lnTo>
                      <a:lnTo>
                        <a:pt x="266" y="999"/>
                      </a:lnTo>
                      <a:lnTo>
                        <a:pt x="266" y="1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>
                  <a:off x="830268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827100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>
                  <a:off x="8194680" y="5071320"/>
                  <a:ext cx="14292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>
                  <a:off x="8207640" y="5142240"/>
                  <a:ext cx="1238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>
                  <a:off x="8190000" y="5208840"/>
                  <a:ext cx="14292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>
                  <a:off x="8199720" y="5276160"/>
                  <a:ext cx="1238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9" name=""/>
            <p:cNvSpPr/>
            <p:nvPr/>
          </p:nvSpPr>
          <p:spPr>
            <a:xfrm flipH="1">
              <a:off x="6861960" y="5437080"/>
              <a:ext cx="2281320" cy="945720"/>
            </a:xfrm>
            <a:custGeom>
              <a:avLst/>
              <a:gdLst/>
              <a:ahLst/>
              <a:rect l="l" t="t" r="r" b="b"/>
              <a:pathLst>
                <a:path w="5750" h="903">
                  <a:moveTo>
                    <a:pt x="0" y="282"/>
                  </a:moveTo>
                  <a:lnTo>
                    <a:pt x="117" y="185"/>
                  </a:lnTo>
                  <a:lnTo>
                    <a:pt x="190" y="230"/>
                  </a:lnTo>
                  <a:lnTo>
                    <a:pt x="245" y="116"/>
                  </a:lnTo>
                  <a:lnTo>
                    <a:pt x="509" y="173"/>
                  </a:lnTo>
                  <a:lnTo>
                    <a:pt x="581" y="78"/>
                  </a:lnTo>
                  <a:lnTo>
                    <a:pt x="677" y="156"/>
                  </a:lnTo>
                  <a:lnTo>
                    <a:pt x="766" y="132"/>
                  </a:lnTo>
                  <a:lnTo>
                    <a:pt x="847" y="124"/>
                  </a:lnTo>
                  <a:lnTo>
                    <a:pt x="927" y="188"/>
                  </a:lnTo>
                  <a:lnTo>
                    <a:pt x="992" y="111"/>
                  </a:lnTo>
                  <a:lnTo>
                    <a:pt x="1131" y="142"/>
                  </a:lnTo>
                  <a:lnTo>
                    <a:pt x="1208" y="134"/>
                  </a:lnTo>
                  <a:lnTo>
                    <a:pt x="1238" y="173"/>
                  </a:lnTo>
                  <a:lnTo>
                    <a:pt x="1297" y="117"/>
                  </a:lnTo>
                  <a:lnTo>
                    <a:pt x="1381" y="204"/>
                  </a:lnTo>
                  <a:lnTo>
                    <a:pt x="1459" y="234"/>
                  </a:lnTo>
                  <a:lnTo>
                    <a:pt x="1525" y="163"/>
                  </a:lnTo>
                  <a:lnTo>
                    <a:pt x="1644" y="190"/>
                  </a:lnTo>
                  <a:lnTo>
                    <a:pt x="1703" y="247"/>
                  </a:lnTo>
                  <a:lnTo>
                    <a:pt x="1747" y="198"/>
                  </a:lnTo>
                  <a:lnTo>
                    <a:pt x="1827" y="200"/>
                  </a:lnTo>
                  <a:lnTo>
                    <a:pt x="2000" y="180"/>
                  </a:lnTo>
                  <a:lnTo>
                    <a:pt x="2081" y="200"/>
                  </a:lnTo>
                  <a:lnTo>
                    <a:pt x="2160" y="220"/>
                  </a:lnTo>
                  <a:lnTo>
                    <a:pt x="2229" y="171"/>
                  </a:lnTo>
                  <a:lnTo>
                    <a:pt x="2425" y="247"/>
                  </a:lnTo>
                  <a:lnTo>
                    <a:pt x="2475" y="185"/>
                  </a:lnTo>
                  <a:lnTo>
                    <a:pt x="2665" y="202"/>
                  </a:lnTo>
                  <a:lnTo>
                    <a:pt x="2982" y="188"/>
                  </a:lnTo>
                  <a:lnTo>
                    <a:pt x="3053" y="86"/>
                  </a:lnTo>
                  <a:lnTo>
                    <a:pt x="3338" y="67"/>
                  </a:lnTo>
                  <a:lnTo>
                    <a:pt x="3604" y="134"/>
                  </a:lnTo>
                  <a:lnTo>
                    <a:pt x="3695" y="117"/>
                  </a:lnTo>
                  <a:lnTo>
                    <a:pt x="3792" y="95"/>
                  </a:lnTo>
                  <a:lnTo>
                    <a:pt x="3966" y="142"/>
                  </a:lnTo>
                  <a:lnTo>
                    <a:pt x="4017" y="110"/>
                  </a:lnTo>
                  <a:lnTo>
                    <a:pt x="4060" y="111"/>
                  </a:lnTo>
                  <a:lnTo>
                    <a:pt x="4346" y="72"/>
                  </a:lnTo>
                  <a:lnTo>
                    <a:pt x="4417" y="156"/>
                  </a:lnTo>
                  <a:lnTo>
                    <a:pt x="4574" y="36"/>
                  </a:lnTo>
                  <a:lnTo>
                    <a:pt x="4653" y="47"/>
                  </a:lnTo>
                  <a:lnTo>
                    <a:pt x="4807" y="95"/>
                  </a:lnTo>
                  <a:lnTo>
                    <a:pt x="4878" y="97"/>
                  </a:lnTo>
                  <a:lnTo>
                    <a:pt x="4956" y="42"/>
                  </a:lnTo>
                  <a:lnTo>
                    <a:pt x="5585" y="33"/>
                  </a:lnTo>
                  <a:lnTo>
                    <a:pt x="5661" y="32"/>
                  </a:lnTo>
                  <a:lnTo>
                    <a:pt x="5750" y="0"/>
                  </a:lnTo>
                  <a:lnTo>
                    <a:pt x="5750" y="903"/>
                  </a:lnTo>
                  <a:lnTo>
                    <a:pt x="0" y="903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PERATING PROCEDURE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Standard Operating Procedures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(SOP),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rules for action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OLITICS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Power to persuade,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get things don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ULTURE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Customs of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ehavior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6862320" y="2751120"/>
            <a:ext cx="2281320" cy="3631680"/>
            <a:chOff x="6862320" y="2751120"/>
            <a:chExt cx="2281320" cy="3631680"/>
          </a:xfrm>
        </p:grpSpPr>
        <p:grpSp>
          <p:nvGrpSpPr>
            <p:cNvPr id="813" name=""/>
            <p:cNvGrpSpPr/>
            <p:nvPr/>
          </p:nvGrpSpPr>
          <p:grpSpPr>
            <a:xfrm>
              <a:off x="7021800" y="2751120"/>
              <a:ext cx="2003400" cy="3190680"/>
              <a:chOff x="7021800" y="2751120"/>
              <a:chExt cx="2003400" cy="3190680"/>
            </a:xfrm>
          </p:grpSpPr>
          <p:grpSp>
            <p:nvGrpSpPr>
              <p:cNvPr id="814" name=""/>
              <p:cNvGrpSpPr/>
              <p:nvPr/>
            </p:nvGrpSpPr>
            <p:grpSpPr>
              <a:xfrm>
                <a:off x="8298000" y="3492000"/>
                <a:ext cx="210960" cy="2449800"/>
                <a:chOff x="8298000" y="3492000"/>
                <a:chExt cx="210960" cy="2449800"/>
              </a:xfrm>
            </p:grpSpPr>
            <p:sp>
              <p:nvSpPr>
                <p:cNvPr id="815" name=""/>
                <p:cNvSpPr/>
                <p:nvPr/>
              </p:nvSpPr>
              <p:spPr>
                <a:xfrm flipH="1">
                  <a:off x="8298000" y="3672360"/>
                  <a:ext cx="177840" cy="2269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>
                  <a:off x="8444160" y="3655080"/>
                  <a:ext cx="64800" cy="228168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8447040" y="3496680"/>
                  <a:ext cx="52560" cy="217440"/>
                </a:xfrm>
                <a:custGeom>
                  <a:avLst/>
                  <a:gdLst/>
                  <a:ahLst/>
                  <a:rect l="l" t="t" r="r" b="b"/>
                  <a:pathLst>
                    <a:path w="132" h="208">
                      <a:moveTo>
                        <a:pt x="132" y="208"/>
                      </a:moveTo>
                      <a:lnTo>
                        <a:pt x="132" y="21"/>
                      </a:lnTo>
                      <a:lnTo>
                        <a:pt x="0" y="0"/>
                      </a:lnTo>
                      <a:lnTo>
                        <a:pt x="4" y="208"/>
                      </a:lnTo>
                      <a:lnTo>
                        <a:pt x="132" y="20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>
                  <a:off x="8297640" y="3492000"/>
                  <a:ext cx="150840" cy="352080"/>
                </a:xfrm>
                <a:custGeom>
                  <a:avLst/>
                  <a:gdLst/>
                  <a:ahLst/>
                  <a:rect l="l" t="t" r="r" b="b"/>
                  <a:pathLst>
                    <a:path w="382" h="335">
                      <a:moveTo>
                        <a:pt x="0" y="0"/>
                      </a:moveTo>
                      <a:lnTo>
                        <a:pt x="382" y="174"/>
                      </a:lnTo>
                      <a:lnTo>
                        <a:pt x="382" y="335"/>
                      </a:lnTo>
                      <a:lnTo>
                        <a:pt x="0" y="1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8485200" y="2751120"/>
                <a:ext cx="540000" cy="3186000"/>
                <a:chOff x="8485200" y="2751120"/>
                <a:chExt cx="540000" cy="3186000"/>
              </a:xfrm>
            </p:grpSpPr>
            <p:sp>
              <p:nvSpPr>
                <p:cNvPr id="820" name=""/>
                <p:cNvSpPr/>
                <p:nvPr/>
              </p:nvSpPr>
              <p:spPr>
                <a:xfrm flipH="1">
                  <a:off x="8793000" y="2751120"/>
                  <a:ext cx="14040" cy="225720"/>
                </a:xfrm>
                <a:custGeom>
                  <a:avLst/>
                  <a:gdLst/>
                  <a:ahLst/>
                  <a:rect l="l" t="t" r="r" b="b"/>
                  <a:pathLst>
                    <a:path w="36" h="216">
                      <a:moveTo>
                        <a:pt x="0" y="216"/>
                      </a:moveTo>
                      <a:lnTo>
                        <a:pt x="0" y="0"/>
                      </a:lnTo>
                      <a:lnTo>
                        <a:pt x="36" y="8"/>
                      </a:lnTo>
                      <a:lnTo>
                        <a:pt x="36" y="202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8758440" y="2943720"/>
                  <a:ext cx="856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117">
                      <a:moveTo>
                        <a:pt x="0" y="117"/>
                      </a:moveTo>
                      <a:lnTo>
                        <a:pt x="0" y="29"/>
                      </a:lnTo>
                      <a:lnTo>
                        <a:pt x="215" y="0"/>
                      </a:lnTo>
                      <a:lnTo>
                        <a:pt x="215" y="8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8724960" y="2943720"/>
                  <a:ext cx="36720" cy="78480"/>
                </a:xfrm>
                <a:custGeom>
                  <a:avLst/>
                  <a:gdLst/>
                  <a:ahLst/>
                  <a:rect l="l" t="t" r="r" b="b"/>
                  <a:pathLst>
                    <a:path w="92" h="77">
                      <a:moveTo>
                        <a:pt x="0" y="67"/>
                      </a:moveTo>
                      <a:lnTo>
                        <a:pt x="0" y="0"/>
                      </a:lnTo>
                      <a:lnTo>
                        <a:pt x="92" y="29"/>
                      </a:lnTo>
                      <a:lnTo>
                        <a:pt x="79" y="7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8555040" y="3027240"/>
                  <a:ext cx="82800" cy="246600"/>
                </a:xfrm>
                <a:custGeom>
                  <a:avLst/>
                  <a:gdLst/>
                  <a:ahLst/>
                  <a:rect l="l" t="t" r="r" b="b"/>
                  <a:pathLst>
                    <a:path w="210" h="238">
                      <a:moveTo>
                        <a:pt x="178" y="0"/>
                      </a:moveTo>
                      <a:lnTo>
                        <a:pt x="0" y="43"/>
                      </a:lnTo>
                      <a:lnTo>
                        <a:pt x="53" y="238"/>
                      </a:lnTo>
                      <a:lnTo>
                        <a:pt x="210" y="192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8485200" y="2959920"/>
                  <a:ext cx="198720" cy="2977200"/>
                </a:xfrm>
                <a:custGeom>
                  <a:avLst/>
                  <a:gdLst/>
                  <a:ahLst/>
                  <a:rect l="l" t="t" r="r" b="b"/>
                  <a:pathLst>
                    <a:path w="500" h="2842">
                      <a:moveTo>
                        <a:pt x="0" y="2272"/>
                      </a:moveTo>
                      <a:lnTo>
                        <a:pt x="0" y="1764"/>
                      </a:lnTo>
                      <a:lnTo>
                        <a:pt x="74" y="1580"/>
                      </a:lnTo>
                      <a:lnTo>
                        <a:pt x="74" y="0"/>
                      </a:lnTo>
                      <a:lnTo>
                        <a:pt x="291" y="136"/>
                      </a:lnTo>
                      <a:lnTo>
                        <a:pt x="291" y="58"/>
                      </a:lnTo>
                      <a:lnTo>
                        <a:pt x="473" y="175"/>
                      </a:lnTo>
                      <a:lnTo>
                        <a:pt x="473" y="251"/>
                      </a:lnTo>
                      <a:lnTo>
                        <a:pt x="500" y="290"/>
                      </a:lnTo>
                      <a:lnTo>
                        <a:pt x="500" y="2842"/>
                      </a:lnTo>
                      <a:lnTo>
                        <a:pt x="73" y="2842"/>
                      </a:lnTo>
                      <a:lnTo>
                        <a:pt x="0" y="2840"/>
                      </a:lnTo>
                      <a:lnTo>
                        <a:pt x="0" y="227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8651880" y="2959920"/>
                  <a:ext cx="371520" cy="2977200"/>
                </a:xfrm>
                <a:custGeom>
                  <a:avLst/>
                  <a:gdLst/>
                  <a:ahLst/>
                  <a:rect l="l" t="t" r="r" b="b"/>
                  <a:pathLst>
                    <a:path w="935" h="2842">
                      <a:moveTo>
                        <a:pt x="0" y="2842"/>
                      </a:moveTo>
                      <a:lnTo>
                        <a:pt x="0" y="1766"/>
                      </a:lnTo>
                      <a:lnTo>
                        <a:pt x="78" y="1587"/>
                      </a:lnTo>
                      <a:lnTo>
                        <a:pt x="78" y="192"/>
                      </a:lnTo>
                      <a:lnTo>
                        <a:pt x="121" y="111"/>
                      </a:lnTo>
                      <a:lnTo>
                        <a:pt x="935" y="0"/>
                      </a:lnTo>
                      <a:lnTo>
                        <a:pt x="935" y="1590"/>
                      </a:lnTo>
                      <a:lnTo>
                        <a:pt x="865" y="1775"/>
                      </a:lnTo>
                      <a:lnTo>
                        <a:pt x="865" y="2842"/>
                      </a:lnTo>
                      <a:lnTo>
                        <a:pt x="0" y="284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6" name=""/>
                <p:cNvGrpSpPr/>
                <p:nvPr/>
              </p:nvGrpSpPr>
              <p:grpSpPr>
                <a:xfrm>
                  <a:off x="8690040" y="5041440"/>
                  <a:ext cx="322200" cy="212760"/>
                  <a:chOff x="8690040" y="5041440"/>
                  <a:chExt cx="322200" cy="21276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flipH="1">
                    <a:off x="8690040" y="504144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8690040" y="511236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8690040" y="5249520"/>
                    <a:ext cx="322200" cy="46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8690040" y="518328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" name=""/>
                <p:cNvSpPr/>
                <p:nvPr/>
              </p:nvSpPr>
              <p:spPr>
                <a:xfrm flipH="1">
                  <a:off x="8501040" y="3257280"/>
                  <a:ext cx="1584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8588520" y="3131640"/>
                  <a:ext cx="14400" cy="1607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8532720" y="3206880"/>
                  <a:ext cx="1404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8558280" y="3165120"/>
                  <a:ext cx="1440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8616960" y="3085200"/>
                  <a:ext cx="1440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8651880" y="2959920"/>
                  <a:ext cx="341280" cy="213480"/>
                </a:xfrm>
                <a:custGeom>
                  <a:avLst/>
                  <a:gdLst/>
                  <a:ahLst/>
                  <a:rect l="l" t="t" r="r" b="b"/>
                  <a:pathLst>
                    <a:path w="861" h="202">
                      <a:moveTo>
                        <a:pt x="0" y="202"/>
                      </a:moveTo>
                      <a:lnTo>
                        <a:pt x="47" y="115"/>
                      </a:lnTo>
                      <a:lnTo>
                        <a:pt x="861" y="0"/>
                      </a:lnTo>
                      <a:lnTo>
                        <a:pt x="861" y="111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8651520" y="4626360"/>
                  <a:ext cx="373320" cy="196560"/>
                </a:xfrm>
                <a:custGeom>
                  <a:avLst/>
                  <a:gdLst/>
                  <a:ahLst/>
                  <a:rect l="l" t="t" r="r" b="b"/>
                  <a:pathLst>
                    <a:path w="939" h="187">
                      <a:moveTo>
                        <a:pt x="83" y="0"/>
                      </a:moveTo>
                      <a:lnTo>
                        <a:pt x="939" y="0"/>
                      </a:lnTo>
                      <a:lnTo>
                        <a:pt x="869" y="187"/>
                      </a:lnTo>
                      <a:lnTo>
                        <a:pt x="0" y="18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8707680" y="3085200"/>
                  <a:ext cx="48960" cy="1742400"/>
                </a:xfrm>
                <a:custGeom>
                  <a:avLst/>
                  <a:gdLst/>
                  <a:ahLst/>
                  <a:rect l="l" t="t" r="r" b="b"/>
                  <a:pathLst>
                    <a:path w="123" h="1661">
                      <a:moveTo>
                        <a:pt x="123" y="0"/>
                      </a:moveTo>
                      <a:lnTo>
                        <a:pt x="123" y="1473"/>
                      </a:lnTo>
                      <a:lnTo>
                        <a:pt x="46" y="1661"/>
                      </a:lnTo>
                      <a:lnTo>
                        <a:pt x="0" y="1661"/>
                      </a:lnTo>
                      <a:lnTo>
                        <a:pt x="79" y="1474"/>
                      </a:lnTo>
                      <a:lnTo>
                        <a:pt x="79" y="4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>
                  <a:off x="8764560" y="3107160"/>
                  <a:ext cx="44640" cy="1720440"/>
                </a:xfrm>
                <a:custGeom>
                  <a:avLst/>
                  <a:gdLst/>
                  <a:ahLst/>
                  <a:rect l="l" t="t" r="r" b="b"/>
                  <a:pathLst>
                    <a:path w="113" h="1644">
                      <a:moveTo>
                        <a:pt x="0" y="1642"/>
                      </a:moveTo>
                      <a:lnTo>
                        <a:pt x="73" y="1456"/>
                      </a:lnTo>
                      <a:lnTo>
                        <a:pt x="73" y="3"/>
                      </a:lnTo>
                      <a:lnTo>
                        <a:pt x="113" y="0"/>
                      </a:lnTo>
                      <a:lnTo>
                        <a:pt x="113" y="1460"/>
                      </a:lnTo>
                      <a:lnTo>
                        <a:pt x="44" y="1644"/>
                      </a:lnTo>
                      <a:lnTo>
                        <a:pt x="0" y="164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>
                  <a:off x="8821800" y="3119400"/>
                  <a:ext cx="46080" cy="1703520"/>
                </a:xfrm>
                <a:custGeom>
                  <a:avLst/>
                  <a:gdLst/>
                  <a:ahLst/>
                  <a:rect l="l" t="t" r="r" b="b"/>
                  <a:pathLst>
                    <a:path w="117" h="1627">
                      <a:moveTo>
                        <a:pt x="74" y="7"/>
                      </a:moveTo>
                      <a:lnTo>
                        <a:pt x="117" y="0"/>
                      </a:lnTo>
                      <a:lnTo>
                        <a:pt x="117" y="1451"/>
                      </a:lnTo>
                      <a:lnTo>
                        <a:pt x="48" y="1627"/>
                      </a:lnTo>
                      <a:lnTo>
                        <a:pt x="0" y="1627"/>
                      </a:lnTo>
                      <a:lnTo>
                        <a:pt x="74" y="1446"/>
                      </a:lnTo>
                      <a:lnTo>
                        <a:pt x="74" y="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>
                  <a:off x="8876880" y="3135600"/>
                  <a:ext cx="49320" cy="1692000"/>
                </a:xfrm>
                <a:custGeom>
                  <a:avLst/>
                  <a:gdLst/>
                  <a:ahLst/>
                  <a:rect l="l" t="t" r="r" b="b"/>
                  <a:pathLst>
                    <a:path w="123" h="1613">
                      <a:moveTo>
                        <a:pt x="79" y="3"/>
                      </a:moveTo>
                      <a:lnTo>
                        <a:pt x="123" y="0"/>
                      </a:lnTo>
                      <a:lnTo>
                        <a:pt x="123" y="1432"/>
                      </a:lnTo>
                      <a:lnTo>
                        <a:pt x="51" y="1613"/>
                      </a:lnTo>
                      <a:lnTo>
                        <a:pt x="0" y="1613"/>
                      </a:lnTo>
                      <a:lnTo>
                        <a:pt x="79" y="1429"/>
                      </a:lnTo>
                      <a:lnTo>
                        <a:pt x="79" y="3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>
                  <a:off x="8933040" y="3152520"/>
                  <a:ext cx="47520" cy="1666440"/>
                </a:xfrm>
                <a:custGeom>
                  <a:avLst/>
                  <a:gdLst/>
                  <a:ahLst/>
                  <a:rect l="l" t="t" r="r" b="b"/>
                  <a:pathLst>
                    <a:path w="119" h="1593">
                      <a:moveTo>
                        <a:pt x="74" y="4"/>
                      </a:moveTo>
                      <a:lnTo>
                        <a:pt x="119" y="0"/>
                      </a:lnTo>
                      <a:lnTo>
                        <a:pt x="119" y="1411"/>
                      </a:lnTo>
                      <a:lnTo>
                        <a:pt x="42" y="1593"/>
                      </a:lnTo>
                      <a:lnTo>
                        <a:pt x="0" y="1593"/>
                      </a:lnTo>
                      <a:lnTo>
                        <a:pt x="74" y="1413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8347320" y="4962240"/>
                <a:ext cx="83880" cy="979200"/>
                <a:chOff x="8347320" y="4962240"/>
                <a:chExt cx="83880" cy="979200"/>
              </a:xfrm>
            </p:grpSpPr>
            <p:sp>
              <p:nvSpPr>
                <p:cNvPr id="844" name=""/>
                <p:cNvSpPr/>
                <p:nvPr/>
              </p:nvSpPr>
              <p:spPr>
                <a:xfrm flipH="1">
                  <a:off x="8346960" y="4962240"/>
                  <a:ext cx="83880" cy="979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>
                  <a:off x="8394840" y="5016240"/>
                  <a:ext cx="15840" cy="347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>
                  <a:off x="8369280" y="5016240"/>
                  <a:ext cx="15840" cy="347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>
                  <a:off x="8356680" y="5078880"/>
                  <a:ext cx="65160" cy="468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8353440" y="515484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8356680" y="521748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8353440" y="528840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7832880" y="4468320"/>
                <a:ext cx="250920" cy="1468080"/>
                <a:chOff x="7832880" y="4468320"/>
                <a:chExt cx="250920" cy="1468080"/>
              </a:xfrm>
            </p:grpSpPr>
            <p:sp>
              <p:nvSpPr>
                <p:cNvPr id="852" name=""/>
                <p:cNvSpPr/>
                <p:nvPr/>
              </p:nvSpPr>
              <p:spPr>
                <a:xfrm flipH="1">
                  <a:off x="7832520" y="4597200"/>
                  <a:ext cx="96840" cy="133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7890120" y="4471920"/>
                  <a:ext cx="193680" cy="1464480"/>
                </a:xfrm>
                <a:custGeom>
                  <a:avLst/>
                  <a:gdLst/>
                  <a:ahLst/>
                  <a:rect l="l" t="t" r="r" b="b"/>
                  <a:pathLst>
                    <a:path w="490" h="1401">
                      <a:moveTo>
                        <a:pt x="0" y="34"/>
                      </a:moveTo>
                      <a:lnTo>
                        <a:pt x="0" y="1401"/>
                      </a:lnTo>
                      <a:lnTo>
                        <a:pt x="490" y="1401"/>
                      </a:lnTo>
                      <a:lnTo>
                        <a:pt x="49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7832880" y="4468320"/>
                  <a:ext cx="61920" cy="250560"/>
                </a:xfrm>
                <a:custGeom>
                  <a:avLst/>
                  <a:gdLst/>
                  <a:ahLst/>
                  <a:rect l="l" t="t" r="r" b="b"/>
                  <a:pathLst>
                    <a:path w="158" h="240">
                      <a:moveTo>
                        <a:pt x="0" y="0"/>
                      </a:moveTo>
                      <a:lnTo>
                        <a:pt x="158" y="123"/>
                      </a:lnTo>
                      <a:lnTo>
                        <a:pt x="158" y="240"/>
                      </a:lnTo>
                      <a:lnTo>
                        <a:pt x="0" y="1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8045280" y="4647600"/>
                  <a:ext cx="20520" cy="62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7925040" y="4656240"/>
                  <a:ext cx="17280" cy="62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>
                  <a:off x="7901280" y="4756680"/>
                  <a:ext cx="1760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>
                  <a:off x="7907400" y="4878360"/>
                  <a:ext cx="1666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>
                  <a:off x="7907400" y="5015880"/>
                  <a:ext cx="16848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>
                  <a:off x="7905960" y="5133600"/>
                  <a:ext cx="1648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1" name=""/>
              <p:cNvGrpSpPr/>
              <p:nvPr/>
            </p:nvGrpSpPr>
            <p:grpSpPr>
              <a:xfrm>
                <a:off x="7021800" y="4267080"/>
                <a:ext cx="204480" cy="1669680"/>
                <a:chOff x="7021800" y="4267080"/>
                <a:chExt cx="204480" cy="1669680"/>
              </a:xfrm>
            </p:grpSpPr>
            <p:sp>
              <p:nvSpPr>
                <p:cNvPr id="862" name=""/>
                <p:cNvSpPr/>
                <p:nvPr/>
              </p:nvSpPr>
              <p:spPr>
                <a:xfrm flipH="1">
                  <a:off x="7065720" y="4267080"/>
                  <a:ext cx="66600" cy="180360"/>
                </a:xfrm>
                <a:custGeom>
                  <a:avLst/>
                  <a:gdLst/>
                  <a:ahLst/>
                  <a:rect l="l" t="t" r="r" b="b"/>
                  <a:pathLst>
                    <a:path w="168" h="174">
                      <a:moveTo>
                        <a:pt x="17" y="0"/>
                      </a:moveTo>
                      <a:lnTo>
                        <a:pt x="168" y="59"/>
                      </a:lnTo>
                      <a:lnTo>
                        <a:pt x="160" y="174"/>
                      </a:lnTo>
                      <a:lnTo>
                        <a:pt x="0" y="12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>
                  <a:off x="7121160" y="4267080"/>
                  <a:ext cx="34920" cy="19260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>
                  <a:off x="7101000" y="4400640"/>
                  <a:ext cx="125280" cy="15361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7021440" y="4400640"/>
                  <a:ext cx="83880" cy="1536120"/>
                </a:xfrm>
                <a:custGeom>
                  <a:avLst/>
                  <a:gdLst/>
                  <a:ahLst/>
                  <a:rect l="l" t="t" r="r" b="b"/>
                  <a:pathLst>
                    <a:path w="210" h="1468">
                      <a:moveTo>
                        <a:pt x="0" y="0"/>
                      </a:moveTo>
                      <a:lnTo>
                        <a:pt x="210" y="59"/>
                      </a:lnTo>
                      <a:lnTo>
                        <a:pt x="210" y="1468"/>
                      </a:lnTo>
                      <a:lnTo>
                        <a:pt x="0" y="14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7184880" y="4484160"/>
                  <a:ext cx="1908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>
                  <a:off x="7157880" y="4484160"/>
                  <a:ext cx="1908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>
                  <a:off x="7126560" y="4484160"/>
                  <a:ext cx="1872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7110360" y="4614480"/>
                  <a:ext cx="1130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>
                  <a:off x="7107480" y="4756680"/>
                  <a:ext cx="1126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7107480" y="4928760"/>
                  <a:ext cx="11412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>
                  <a:off x="7112160" y="5066280"/>
                  <a:ext cx="10332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7204320" y="4798800"/>
                <a:ext cx="195120" cy="1142640"/>
                <a:chOff x="7204320" y="4798800"/>
                <a:chExt cx="195120" cy="1142640"/>
              </a:xfrm>
            </p:grpSpPr>
            <p:sp>
              <p:nvSpPr>
                <p:cNvPr id="874" name=""/>
                <p:cNvSpPr/>
                <p:nvPr/>
              </p:nvSpPr>
              <p:spPr>
                <a:xfrm flipH="1">
                  <a:off x="7283520" y="4798800"/>
                  <a:ext cx="115920" cy="114264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>
                  <a:off x="7203960" y="4798800"/>
                  <a:ext cx="83880" cy="1137960"/>
                </a:xfrm>
                <a:custGeom>
                  <a:avLst/>
                  <a:gdLst/>
                  <a:ahLst/>
                  <a:rect l="l" t="t" r="r" b="b"/>
                  <a:pathLst>
                    <a:path w="210" h="1088">
                      <a:moveTo>
                        <a:pt x="0" y="0"/>
                      </a:moveTo>
                      <a:lnTo>
                        <a:pt x="210" y="86"/>
                      </a:lnTo>
                      <a:lnTo>
                        <a:pt x="210" y="1088"/>
                      </a:lnTo>
                      <a:lnTo>
                        <a:pt x="0" y="10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" name=""/>
              <p:cNvGrpSpPr/>
              <p:nvPr/>
            </p:nvGrpSpPr>
            <p:grpSpPr>
              <a:xfrm>
                <a:off x="7388280" y="3375000"/>
                <a:ext cx="379440" cy="2566440"/>
                <a:chOff x="7388280" y="3375000"/>
                <a:chExt cx="379440" cy="2566440"/>
              </a:xfrm>
            </p:grpSpPr>
            <p:sp>
              <p:nvSpPr>
                <p:cNvPr id="877" name=""/>
                <p:cNvSpPr/>
                <p:nvPr/>
              </p:nvSpPr>
              <p:spPr>
                <a:xfrm flipH="1">
                  <a:off x="7387920" y="3378600"/>
                  <a:ext cx="74520" cy="2562480"/>
                </a:xfrm>
                <a:custGeom>
                  <a:avLst/>
                  <a:gdLst/>
                  <a:ahLst/>
                  <a:rect l="l" t="t" r="r" b="b"/>
                  <a:pathLst>
                    <a:path w="185" h="2448">
                      <a:moveTo>
                        <a:pt x="15" y="0"/>
                      </a:moveTo>
                      <a:lnTo>
                        <a:pt x="185" y="191"/>
                      </a:lnTo>
                      <a:lnTo>
                        <a:pt x="185" y="2446"/>
                      </a:lnTo>
                      <a:lnTo>
                        <a:pt x="0" y="244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>
                  <a:off x="7451640" y="3375000"/>
                  <a:ext cx="315720" cy="2566440"/>
                </a:xfrm>
                <a:custGeom>
                  <a:avLst/>
                  <a:gdLst/>
                  <a:ahLst/>
                  <a:rect l="l" t="t" r="r" b="b"/>
                  <a:pathLst>
                    <a:path w="799" h="2450">
                      <a:moveTo>
                        <a:pt x="0" y="74"/>
                      </a:moveTo>
                      <a:lnTo>
                        <a:pt x="799" y="0"/>
                      </a:lnTo>
                      <a:lnTo>
                        <a:pt x="799" y="2450"/>
                      </a:lnTo>
                      <a:lnTo>
                        <a:pt x="0" y="2448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>
                  <a:off x="7500960" y="3387240"/>
                  <a:ext cx="22320" cy="2554200"/>
                </a:xfrm>
                <a:custGeom>
                  <a:avLst/>
                  <a:gdLst/>
                  <a:ahLst/>
                  <a:rect l="l" t="t" r="r" b="b"/>
                  <a:pathLst>
                    <a:path w="56" h="2440">
                      <a:moveTo>
                        <a:pt x="56" y="0"/>
                      </a:moveTo>
                      <a:lnTo>
                        <a:pt x="0" y="3"/>
                      </a:lnTo>
                      <a:lnTo>
                        <a:pt x="0" y="2440"/>
                      </a:lnTo>
                      <a:lnTo>
                        <a:pt x="56" y="244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>
                  <a:off x="7557840" y="3399480"/>
                  <a:ext cx="20520" cy="2536920"/>
                </a:xfrm>
                <a:custGeom>
                  <a:avLst/>
                  <a:gdLst/>
                  <a:ahLst/>
                  <a:rect l="l" t="t" r="r" b="b"/>
                  <a:pathLst>
                    <a:path w="52" h="2422">
                      <a:moveTo>
                        <a:pt x="52" y="0"/>
                      </a:moveTo>
                      <a:lnTo>
                        <a:pt x="1" y="8"/>
                      </a:lnTo>
                      <a:lnTo>
                        <a:pt x="0" y="2422"/>
                      </a:lnTo>
                      <a:lnTo>
                        <a:pt x="50" y="2422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>
                  <a:off x="7613640" y="3416760"/>
                  <a:ext cx="20880" cy="2520000"/>
                </a:xfrm>
                <a:custGeom>
                  <a:avLst/>
                  <a:gdLst/>
                  <a:ahLst/>
                  <a:rect l="l" t="t" r="r" b="b"/>
                  <a:pathLst>
                    <a:path w="52" h="2406">
                      <a:moveTo>
                        <a:pt x="52" y="0"/>
                      </a:moveTo>
                      <a:lnTo>
                        <a:pt x="1" y="2"/>
                      </a:lnTo>
                      <a:lnTo>
                        <a:pt x="0" y="2406"/>
                      </a:lnTo>
                      <a:lnTo>
                        <a:pt x="50" y="240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>
                  <a:off x="7669080" y="3429000"/>
                  <a:ext cx="20520" cy="2507400"/>
                </a:xfrm>
                <a:custGeom>
                  <a:avLst/>
                  <a:gdLst/>
                  <a:ahLst/>
                  <a:rect l="l" t="t" r="r" b="b"/>
                  <a:pathLst>
                    <a:path w="53" h="2395">
                      <a:moveTo>
                        <a:pt x="53" y="0"/>
                      </a:moveTo>
                      <a:lnTo>
                        <a:pt x="1" y="3"/>
                      </a:lnTo>
                      <a:lnTo>
                        <a:pt x="0" y="2395"/>
                      </a:lnTo>
                      <a:lnTo>
                        <a:pt x="51" y="239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>
                  <a:off x="7723080" y="3441240"/>
                  <a:ext cx="21960" cy="2495160"/>
                </a:xfrm>
                <a:custGeom>
                  <a:avLst/>
                  <a:gdLst/>
                  <a:ahLst/>
                  <a:rect l="l" t="t" r="r" b="b"/>
                  <a:pathLst>
                    <a:path w="53" h="2381">
                      <a:moveTo>
                        <a:pt x="53" y="0"/>
                      </a:moveTo>
                      <a:lnTo>
                        <a:pt x="1" y="2"/>
                      </a:lnTo>
                      <a:lnTo>
                        <a:pt x="0" y="2381"/>
                      </a:lnTo>
                      <a:lnTo>
                        <a:pt x="52" y="238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"/>
              <p:cNvGrpSpPr/>
              <p:nvPr/>
            </p:nvGrpSpPr>
            <p:grpSpPr>
              <a:xfrm>
                <a:off x="8082000" y="4878720"/>
                <a:ext cx="255600" cy="1058040"/>
                <a:chOff x="8082000" y="4878720"/>
                <a:chExt cx="255600" cy="1058040"/>
              </a:xfrm>
            </p:grpSpPr>
            <p:sp>
              <p:nvSpPr>
                <p:cNvPr id="885" name=""/>
                <p:cNvSpPr/>
                <p:nvPr/>
              </p:nvSpPr>
              <p:spPr>
                <a:xfrm flipH="1">
                  <a:off x="8183520" y="4878720"/>
                  <a:ext cx="154080" cy="1058040"/>
                </a:xfrm>
                <a:custGeom>
                  <a:avLst/>
                  <a:gdLst/>
                  <a:ahLst/>
                  <a:rect l="l" t="t" r="r" b="b"/>
                  <a:pathLst>
                    <a:path w="384" h="1012">
                      <a:moveTo>
                        <a:pt x="0" y="0"/>
                      </a:moveTo>
                      <a:lnTo>
                        <a:pt x="384" y="12"/>
                      </a:lnTo>
                      <a:lnTo>
                        <a:pt x="384" y="1012"/>
                      </a:lnTo>
                      <a:lnTo>
                        <a:pt x="0" y="10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>
                  <a:off x="8239320" y="5008680"/>
                  <a:ext cx="1728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>
                  <a:off x="820908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>
                  <a:off x="8082000" y="4890960"/>
                  <a:ext cx="106560" cy="1045800"/>
                </a:xfrm>
                <a:custGeom>
                  <a:avLst/>
                  <a:gdLst/>
                  <a:ahLst/>
                  <a:rect l="l" t="t" r="r" b="b"/>
                  <a:pathLst>
                    <a:path w="266" h="1001">
                      <a:moveTo>
                        <a:pt x="0" y="0"/>
                      </a:moveTo>
                      <a:lnTo>
                        <a:pt x="0" y="1001"/>
                      </a:lnTo>
                      <a:lnTo>
                        <a:pt x="266" y="999"/>
                      </a:lnTo>
                      <a:lnTo>
                        <a:pt x="266" y="1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>
                  <a:off x="830268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>
                  <a:off x="827100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>
                  <a:off x="8194680" y="5071320"/>
                  <a:ext cx="14292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>
                  <a:off x="8207640" y="5142240"/>
                  <a:ext cx="1238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8190000" y="5208840"/>
                  <a:ext cx="14292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8199720" y="5276160"/>
                  <a:ext cx="1238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5" name=""/>
            <p:cNvSpPr/>
            <p:nvPr/>
          </p:nvSpPr>
          <p:spPr>
            <a:xfrm flipH="1">
              <a:off x="6861960" y="5437080"/>
              <a:ext cx="2281320" cy="945720"/>
            </a:xfrm>
            <a:custGeom>
              <a:avLst/>
              <a:gdLst/>
              <a:ahLst/>
              <a:rect l="l" t="t" r="r" b="b"/>
              <a:pathLst>
                <a:path w="5750" h="903">
                  <a:moveTo>
                    <a:pt x="0" y="282"/>
                  </a:moveTo>
                  <a:lnTo>
                    <a:pt x="117" y="185"/>
                  </a:lnTo>
                  <a:lnTo>
                    <a:pt x="190" y="230"/>
                  </a:lnTo>
                  <a:lnTo>
                    <a:pt x="245" y="116"/>
                  </a:lnTo>
                  <a:lnTo>
                    <a:pt x="509" y="173"/>
                  </a:lnTo>
                  <a:lnTo>
                    <a:pt x="581" y="78"/>
                  </a:lnTo>
                  <a:lnTo>
                    <a:pt x="677" y="156"/>
                  </a:lnTo>
                  <a:lnTo>
                    <a:pt x="766" y="132"/>
                  </a:lnTo>
                  <a:lnTo>
                    <a:pt x="847" y="124"/>
                  </a:lnTo>
                  <a:lnTo>
                    <a:pt x="927" y="188"/>
                  </a:lnTo>
                  <a:lnTo>
                    <a:pt x="992" y="111"/>
                  </a:lnTo>
                  <a:lnTo>
                    <a:pt x="1131" y="142"/>
                  </a:lnTo>
                  <a:lnTo>
                    <a:pt x="1208" y="134"/>
                  </a:lnTo>
                  <a:lnTo>
                    <a:pt x="1238" y="173"/>
                  </a:lnTo>
                  <a:lnTo>
                    <a:pt x="1297" y="117"/>
                  </a:lnTo>
                  <a:lnTo>
                    <a:pt x="1381" y="204"/>
                  </a:lnTo>
                  <a:lnTo>
                    <a:pt x="1459" y="234"/>
                  </a:lnTo>
                  <a:lnTo>
                    <a:pt x="1525" y="163"/>
                  </a:lnTo>
                  <a:lnTo>
                    <a:pt x="1644" y="190"/>
                  </a:lnTo>
                  <a:lnTo>
                    <a:pt x="1703" y="247"/>
                  </a:lnTo>
                  <a:lnTo>
                    <a:pt x="1747" y="198"/>
                  </a:lnTo>
                  <a:lnTo>
                    <a:pt x="1827" y="200"/>
                  </a:lnTo>
                  <a:lnTo>
                    <a:pt x="2000" y="180"/>
                  </a:lnTo>
                  <a:lnTo>
                    <a:pt x="2081" y="200"/>
                  </a:lnTo>
                  <a:lnTo>
                    <a:pt x="2160" y="220"/>
                  </a:lnTo>
                  <a:lnTo>
                    <a:pt x="2229" y="171"/>
                  </a:lnTo>
                  <a:lnTo>
                    <a:pt x="2425" y="247"/>
                  </a:lnTo>
                  <a:lnTo>
                    <a:pt x="2475" y="185"/>
                  </a:lnTo>
                  <a:lnTo>
                    <a:pt x="2665" y="202"/>
                  </a:lnTo>
                  <a:lnTo>
                    <a:pt x="2982" y="188"/>
                  </a:lnTo>
                  <a:lnTo>
                    <a:pt x="3053" y="86"/>
                  </a:lnTo>
                  <a:lnTo>
                    <a:pt x="3338" y="67"/>
                  </a:lnTo>
                  <a:lnTo>
                    <a:pt x="3604" y="134"/>
                  </a:lnTo>
                  <a:lnTo>
                    <a:pt x="3695" y="117"/>
                  </a:lnTo>
                  <a:lnTo>
                    <a:pt x="3792" y="95"/>
                  </a:lnTo>
                  <a:lnTo>
                    <a:pt x="3966" y="142"/>
                  </a:lnTo>
                  <a:lnTo>
                    <a:pt x="4017" y="110"/>
                  </a:lnTo>
                  <a:lnTo>
                    <a:pt x="4060" y="111"/>
                  </a:lnTo>
                  <a:lnTo>
                    <a:pt x="4346" y="72"/>
                  </a:lnTo>
                  <a:lnTo>
                    <a:pt x="4417" y="156"/>
                  </a:lnTo>
                  <a:lnTo>
                    <a:pt x="4574" y="36"/>
                  </a:lnTo>
                  <a:lnTo>
                    <a:pt x="4653" y="47"/>
                  </a:lnTo>
                  <a:lnTo>
                    <a:pt x="4807" y="95"/>
                  </a:lnTo>
                  <a:lnTo>
                    <a:pt x="4878" y="97"/>
                  </a:lnTo>
                  <a:lnTo>
                    <a:pt x="4956" y="42"/>
                  </a:lnTo>
                  <a:lnTo>
                    <a:pt x="5585" y="33"/>
                  </a:lnTo>
                  <a:lnTo>
                    <a:pt x="5661" y="32"/>
                  </a:lnTo>
                  <a:lnTo>
                    <a:pt x="5750" y="0"/>
                  </a:lnTo>
                  <a:lnTo>
                    <a:pt x="5750" y="903"/>
                  </a:lnTo>
                  <a:lnTo>
                    <a:pt x="0" y="903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CIPAIS FUNÇÕES DE NEGÓCI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VENDAS &amp; MARKETING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ANUFATURA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NCEIRA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TABILIDAD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CURSOS HUMANO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6862320" y="2751120"/>
            <a:ext cx="2281320" cy="3631680"/>
            <a:chOff x="6862320" y="2751120"/>
            <a:chExt cx="2281320" cy="3631680"/>
          </a:xfrm>
        </p:grpSpPr>
        <p:grpSp>
          <p:nvGrpSpPr>
            <p:cNvPr id="899" name=""/>
            <p:cNvGrpSpPr/>
            <p:nvPr/>
          </p:nvGrpSpPr>
          <p:grpSpPr>
            <a:xfrm>
              <a:off x="7021800" y="2751120"/>
              <a:ext cx="2003400" cy="3190680"/>
              <a:chOff x="7021800" y="2751120"/>
              <a:chExt cx="2003400" cy="3190680"/>
            </a:xfrm>
          </p:grpSpPr>
          <p:grpSp>
            <p:nvGrpSpPr>
              <p:cNvPr id="900" name=""/>
              <p:cNvGrpSpPr/>
              <p:nvPr/>
            </p:nvGrpSpPr>
            <p:grpSpPr>
              <a:xfrm>
                <a:off x="8298000" y="3492000"/>
                <a:ext cx="210960" cy="2449800"/>
                <a:chOff x="8298000" y="3492000"/>
                <a:chExt cx="210960" cy="2449800"/>
              </a:xfrm>
            </p:grpSpPr>
            <p:sp>
              <p:nvSpPr>
                <p:cNvPr id="901" name=""/>
                <p:cNvSpPr/>
                <p:nvPr/>
              </p:nvSpPr>
              <p:spPr>
                <a:xfrm flipH="1">
                  <a:off x="8298000" y="3672360"/>
                  <a:ext cx="177840" cy="22694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>
                  <a:off x="8444160" y="3655080"/>
                  <a:ext cx="64800" cy="228168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>
                  <a:off x="8447040" y="3496680"/>
                  <a:ext cx="52560" cy="217440"/>
                </a:xfrm>
                <a:custGeom>
                  <a:avLst/>
                  <a:gdLst/>
                  <a:ahLst/>
                  <a:rect l="l" t="t" r="r" b="b"/>
                  <a:pathLst>
                    <a:path w="132" h="208">
                      <a:moveTo>
                        <a:pt x="132" y="208"/>
                      </a:moveTo>
                      <a:lnTo>
                        <a:pt x="132" y="21"/>
                      </a:lnTo>
                      <a:lnTo>
                        <a:pt x="0" y="0"/>
                      </a:lnTo>
                      <a:lnTo>
                        <a:pt x="4" y="208"/>
                      </a:lnTo>
                      <a:lnTo>
                        <a:pt x="132" y="208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297640" y="3492000"/>
                  <a:ext cx="150840" cy="352080"/>
                </a:xfrm>
                <a:custGeom>
                  <a:avLst/>
                  <a:gdLst/>
                  <a:ahLst/>
                  <a:rect l="l" t="t" r="r" b="b"/>
                  <a:pathLst>
                    <a:path w="382" h="335">
                      <a:moveTo>
                        <a:pt x="0" y="0"/>
                      </a:moveTo>
                      <a:lnTo>
                        <a:pt x="382" y="174"/>
                      </a:lnTo>
                      <a:lnTo>
                        <a:pt x="382" y="335"/>
                      </a:lnTo>
                      <a:lnTo>
                        <a:pt x="0" y="17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5" name=""/>
              <p:cNvGrpSpPr/>
              <p:nvPr/>
            </p:nvGrpSpPr>
            <p:grpSpPr>
              <a:xfrm>
                <a:off x="8485200" y="2751120"/>
                <a:ext cx="540000" cy="3186000"/>
                <a:chOff x="8485200" y="2751120"/>
                <a:chExt cx="540000" cy="3186000"/>
              </a:xfrm>
            </p:grpSpPr>
            <p:sp>
              <p:nvSpPr>
                <p:cNvPr id="906" name=""/>
                <p:cNvSpPr/>
                <p:nvPr/>
              </p:nvSpPr>
              <p:spPr>
                <a:xfrm flipH="1">
                  <a:off x="8793000" y="2751120"/>
                  <a:ext cx="14040" cy="225720"/>
                </a:xfrm>
                <a:custGeom>
                  <a:avLst/>
                  <a:gdLst/>
                  <a:ahLst/>
                  <a:rect l="l" t="t" r="r" b="b"/>
                  <a:pathLst>
                    <a:path w="36" h="216">
                      <a:moveTo>
                        <a:pt x="0" y="216"/>
                      </a:moveTo>
                      <a:lnTo>
                        <a:pt x="0" y="0"/>
                      </a:lnTo>
                      <a:lnTo>
                        <a:pt x="36" y="8"/>
                      </a:lnTo>
                      <a:lnTo>
                        <a:pt x="36" y="202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>
                  <a:off x="8758440" y="2943720"/>
                  <a:ext cx="85680" cy="120600"/>
                </a:xfrm>
                <a:custGeom>
                  <a:avLst/>
                  <a:gdLst/>
                  <a:ahLst/>
                  <a:rect l="l" t="t" r="r" b="b"/>
                  <a:pathLst>
                    <a:path w="215" h="117">
                      <a:moveTo>
                        <a:pt x="0" y="117"/>
                      </a:moveTo>
                      <a:lnTo>
                        <a:pt x="0" y="29"/>
                      </a:lnTo>
                      <a:lnTo>
                        <a:pt x="215" y="0"/>
                      </a:lnTo>
                      <a:lnTo>
                        <a:pt x="215" y="87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>
                  <a:off x="8724960" y="2943720"/>
                  <a:ext cx="36720" cy="78480"/>
                </a:xfrm>
                <a:custGeom>
                  <a:avLst/>
                  <a:gdLst/>
                  <a:ahLst/>
                  <a:rect l="l" t="t" r="r" b="b"/>
                  <a:pathLst>
                    <a:path w="92" h="77">
                      <a:moveTo>
                        <a:pt x="0" y="67"/>
                      </a:moveTo>
                      <a:lnTo>
                        <a:pt x="0" y="0"/>
                      </a:lnTo>
                      <a:lnTo>
                        <a:pt x="92" y="29"/>
                      </a:lnTo>
                      <a:lnTo>
                        <a:pt x="79" y="77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>
                  <a:off x="8555040" y="3027240"/>
                  <a:ext cx="82800" cy="246600"/>
                </a:xfrm>
                <a:custGeom>
                  <a:avLst/>
                  <a:gdLst/>
                  <a:ahLst/>
                  <a:rect l="l" t="t" r="r" b="b"/>
                  <a:pathLst>
                    <a:path w="210" h="238">
                      <a:moveTo>
                        <a:pt x="178" y="0"/>
                      </a:moveTo>
                      <a:lnTo>
                        <a:pt x="0" y="43"/>
                      </a:lnTo>
                      <a:lnTo>
                        <a:pt x="53" y="238"/>
                      </a:lnTo>
                      <a:lnTo>
                        <a:pt x="210" y="192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>
                  <a:off x="8485200" y="2959920"/>
                  <a:ext cx="198720" cy="2977200"/>
                </a:xfrm>
                <a:custGeom>
                  <a:avLst/>
                  <a:gdLst/>
                  <a:ahLst/>
                  <a:rect l="l" t="t" r="r" b="b"/>
                  <a:pathLst>
                    <a:path w="500" h="2842">
                      <a:moveTo>
                        <a:pt x="0" y="2272"/>
                      </a:moveTo>
                      <a:lnTo>
                        <a:pt x="0" y="1764"/>
                      </a:lnTo>
                      <a:lnTo>
                        <a:pt x="74" y="1580"/>
                      </a:lnTo>
                      <a:lnTo>
                        <a:pt x="74" y="0"/>
                      </a:lnTo>
                      <a:lnTo>
                        <a:pt x="291" y="136"/>
                      </a:lnTo>
                      <a:lnTo>
                        <a:pt x="291" y="58"/>
                      </a:lnTo>
                      <a:lnTo>
                        <a:pt x="473" y="175"/>
                      </a:lnTo>
                      <a:lnTo>
                        <a:pt x="473" y="251"/>
                      </a:lnTo>
                      <a:lnTo>
                        <a:pt x="500" y="290"/>
                      </a:lnTo>
                      <a:lnTo>
                        <a:pt x="500" y="2842"/>
                      </a:lnTo>
                      <a:lnTo>
                        <a:pt x="73" y="2842"/>
                      </a:lnTo>
                      <a:lnTo>
                        <a:pt x="0" y="2840"/>
                      </a:lnTo>
                      <a:lnTo>
                        <a:pt x="0" y="227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>
                  <a:off x="8651880" y="2959920"/>
                  <a:ext cx="371520" cy="2977200"/>
                </a:xfrm>
                <a:custGeom>
                  <a:avLst/>
                  <a:gdLst/>
                  <a:ahLst/>
                  <a:rect l="l" t="t" r="r" b="b"/>
                  <a:pathLst>
                    <a:path w="935" h="2842">
                      <a:moveTo>
                        <a:pt x="0" y="2842"/>
                      </a:moveTo>
                      <a:lnTo>
                        <a:pt x="0" y="1766"/>
                      </a:lnTo>
                      <a:lnTo>
                        <a:pt x="78" y="1587"/>
                      </a:lnTo>
                      <a:lnTo>
                        <a:pt x="78" y="192"/>
                      </a:lnTo>
                      <a:lnTo>
                        <a:pt x="121" y="111"/>
                      </a:lnTo>
                      <a:lnTo>
                        <a:pt x="935" y="0"/>
                      </a:lnTo>
                      <a:lnTo>
                        <a:pt x="935" y="1590"/>
                      </a:lnTo>
                      <a:lnTo>
                        <a:pt x="865" y="1775"/>
                      </a:lnTo>
                      <a:lnTo>
                        <a:pt x="865" y="2842"/>
                      </a:lnTo>
                      <a:lnTo>
                        <a:pt x="0" y="284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2" name=""/>
                <p:cNvGrpSpPr/>
                <p:nvPr/>
              </p:nvGrpSpPr>
              <p:grpSpPr>
                <a:xfrm>
                  <a:off x="8690040" y="5041440"/>
                  <a:ext cx="322200" cy="212760"/>
                  <a:chOff x="8690040" y="5041440"/>
                  <a:chExt cx="322200" cy="212760"/>
                </a:xfrm>
              </p:grpSpPr>
              <p:sp>
                <p:nvSpPr>
                  <p:cNvPr id="913" name=""/>
                  <p:cNvSpPr/>
                  <p:nvPr/>
                </p:nvSpPr>
                <p:spPr>
                  <a:xfrm flipH="1">
                    <a:off x="8690040" y="504144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8690040" y="511236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>
                    <a:off x="8690040" y="5249520"/>
                    <a:ext cx="322200" cy="468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H="1">
                    <a:off x="8690040" y="5183280"/>
                    <a:ext cx="322200" cy="3600"/>
                  </a:xfrm>
                  <a:prstGeom prst="line">
                    <a:avLst/>
                  </a:prstGeom>
                  <a:ln w="4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7" name=""/>
                <p:cNvSpPr/>
                <p:nvPr/>
              </p:nvSpPr>
              <p:spPr>
                <a:xfrm flipH="1">
                  <a:off x="8501040" y="3257280"/>
                  <a:ext cx="1584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8588520" y="3131640"/>
                  <a:ext cx="14400" cy="16077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>
                  <a:off x="8532720" y="3206880"/>
                  <a:ext cx="1404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>
                  <a:off x="8558280" y="3165120"/>
                  <a:ext cx="1440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>
                  <a:off x="8616960" y="3085200"/>
                  <a:ext cx="14400" cy="16038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>
                  <a:off x="8651880" y="2959920"/>
                  <a:ext cx="341280" cy="213480"/>
                </a:xfrm>
                <a:custGeom>
                  <a:avLst/>
                  <a:gdLst/>
                  <a:ahLst/>
                  <a:rect l="l" t="t" r="r" b="b"/>
                  <a:pathLst>
                    <a:path w="861" h="202">
                      <a:moveTo>
                        <a:pt x="0" y="202"/>
                      </a:moveTo>
                      <a:lnTo>
                        <a:pt x="47" y="115"/>
                      </a:lnTo>
                      <a:lnTo>
                        <a:pt x="861" y="0"/>
                      </a:lnTo>
                      <a:lnTo>
                        <a:pt x="861" y="111"/>
                      </a:lnTo>
                      <a:lnTo>
                        <a:pt x="0" y="202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>
                  <a:off x="8651520" y="4626360"/>
                  <a:ext cx="373320" cy="196560"/>
                </a:xfrm>
                <a:custGeom>
                  <a:avLst/>
                  <a:gdLst/>
                  <a:ahLst/>
                  <a:rect l="l" t="t" r="r" b="b"/>
                  <a:pathLst>
                    <a:path w="939" h="187">
                      <a:moveTo>
                        <a:pt x="83" y="0"/>
                      </a:moveTo>
                      <a:lnTo>
                        <a:pt x="939" y="0"/>
                      </a:lnTo>
                      <a:lnTo>
                        <a:pt x="869" y="187"/>
                      </a:lnTo>
                      <a:lnTo>
                        <a:pt x="0" y="187"/>
                      </a:lnTo>
                      <a:lnTo>
                        <a:pt x="83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>
                  <a:off x="8707680" y="3085200"/>
                  <a:ext cx="48960" cy="1742400"/>
                </a:xfrm>
                <a:custGeom>
                  <a:avLst/>
                  <a:gdLst/>
                  <a:ahLst/>
                  <a:rect l="l" t="t" r="r" b="b"/>
                  <a:pathLst>
                    <a:path w="123" h="1661">
                      <a:moveTo>
                        <a:pt x="123" y="0"/>
                      </a:moveTo>
                      <a:lnTo>
                        <a:pt x="123" y="1473"/>
                      </a:lnTo>
                      <a:lnTo>
                        <a:pt x="46" y="1661"/>
                      </a:lnTo>
                      <a:lnTo>
                        <a:pt x="0" y="1661"/>
                      </a:lnTo>
                      <a:lnTo>
                        <a:pt x="79" y="1474"/>
                      </a:lnTo>
                      <a:lnTo>
                        <a:pt x="79" y="4"/>
                      </a:lnTo>
                      <a:lnTo>
                        <a:pt x="123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>
                  <a:off x="8764560" y="3107160"/>
                  <a:ext cx="44640" cy="1720440"/>
                </a:xfrm>
                <a:custGeom>
                  <a:avLst/>
                  <a:gdLst/>
                  <a:ahLst/>
                  <a:rect l="l" t="t" r="r" b="b"/>
                  <a:pathLst>
                    <a:path w="113" h="1644">
                      <a:moveTo>
                        <a:pt x="0" y="1642"/>
                      </a:moveTo>
                      <a:lnTo>
                        <a:pt x="73" y="1456"/>
                      </a:lnTo>
                      <a:lnTo>
                        <a:pt x="73" y="3"/>
                      </a:lnTo>
                      <a:lnTo>
                        <a:pt x="113" y="0"/>
                      </a:lnTo>
                      <a:lnTo>
                        <a:pt x="113" y="1460"/>
                      </a:lnTo>
                      <a:lnTo>
                        <a:pt x="44" y="1644"/>
                      </a:lnTo>
                      <a:lnTo>
                        <a:pt x="0" y="1642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8821800" y="3119400"/>
                  <a:ext cx="46080" cy="1703520"/>
                </a:xfrm>
                <a:custGeom>
                  <a:avLst/>
                  <a:gdLst/>
                  <a:ahLst/>
                  <a:rect l="l" t="t" r="r" b="b"/>
                  <a:pathLst>
                    <a:path w="117" h="1627">
                      <a:moveTo>
                        <a:pt x="74" y="7"/>
                      </a:moveTo>
                      <a:lnTo>
                        <a:pt x="117" y="0"/>
                      </a:lnTo>
                      <a:lnTo>
                        <a:pt x="117" y="1451"/>
                      </a:lnTo>
                      <a:lnTo>
                        <a:pt x="48" y="1627"/>
                      </a:lnTo>
                      <a:lnTo>
                        <a:pt x="0" y="1627"/>
                      </a:lnTo>
                      <a:lnTo>
                        <a:pt x="74" y="1446"/>
                      </a:lnTo>
                      <a:lnTo>
                        <a:pt x="74" y="7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>
                  <a:off x="8876880" y="3135600"/>
                  <a:ext cx="49320" cy="1692000"/>
                </a:xfrm>
                <a:custGeom>
                  <a:avLst/>
                  <a:gdLst/>
                  <a:ahLst/>
                  <a:rect l="l" t="t" r="r" b="b"/>
                  <a:pathLst>
                    <a:path w="123" h="1613">
                      <a:moveTo>
                        <a:pt x="79" y="3"/>
                      </a:moveTo>
                      <a:lnTo>
                        <a:pt x="123" y="0"/>
                      </a:lnTo>
                      <a:lnTo>
                        <a:pt x="123" y="1432"/>
                      </a:lnTo>
                      <a:lnTo>
                        <a:pt x="51" y="1613"/>
                      </a:lnTo>
                      <a:lnTo>
                        <a:pt x="0" y="1613"/>
                      </a:lnTo>
                      <a:lnTo>
                        <a:pt x="79" y="1429"/>
                      </a:lnTo>
                      <a:lnTo>
                        <a:pt x="79" y="3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>
                  <a:off x="8933040" y="3152520"/>
                  <a:ext cx="47520" cy="1666440"/>
                </a:xfrm>
                <a:custGeom>
                  <a:avLst/>
                  <a:gdLst/>
                  <a:ahLst/>
                  <a:rect l="l" t="t" r="r" b="b"/>
                  <a:pathLst>
                    <a:path w="119" h="1593">
                      <a:moveTo>
                        <a:pt x="74" y="4"/>
                      </a:moveTo>
                      <a:lnTo>
                        <a:pt x="119" y="0"/>
                      </a:lnTo>
                      <a:lnTo>
                        <a:pt x="119" y="1411"/>
                      </a:lnTo>
                      <a:lnTo>
                        <a:pt x="42" y="1593"/>
                      </a:lnTo>
                      <a:lnTo>
                        <a:pt x="0" y="1593"/>
                      </a:lnTo>
                      <a:lnTo>
                        <a:pt x="74" y="1413"/>
                      </a:lnTo>
                      <a:lnTo>
                        <a:pt x="74" y="4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8347320" y="4962240"/>
                <a:ext cx="83880" cy="979200"/>
                <a:chOff x="8347320" y="4962240"/>
                <a:chExt cx="83880" cy="979200"/>
              </a:xfrm>
            </p:grpSpPr>
            <p:sp>
              <p:nvSpPr>
                <p:cNvPr id="930" name=""/>
                <p:cNvSpPr/>
                <p:nvPr/>
              </p:nvSpPr>
              <p:spPr>
                <a:xfrm flipH="1">
                  <a:off x="8346960" y="4962240"/>
                  <a:ext cx="83880" cy="979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>
                  <a:off x="8394840" y="5016240"/>
                  <a:ext cx="15840" cy="347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>
                  <a:off x="8369280" y="5016240"/>
                  <a:ext cx="15840" cy="347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>
                  <a:off x="8356680" y="5078880"/>
                  <a:ext cx="65160" cy="468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>
                  <a:off x="8353440" y="515484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>
                  <a:off x="8356680" y="521748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>
                  <a:off x="8353440" y="5288400"/>
                  <a:ext cx="65160" cy="3600"/>
                </a:xfrm>
                <a:prstGeom prst="line">
                  <a:avLst/>
                </a:prstGeom>
                <a:ln w="468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7832880" y="4468320"/>
                <a:ext cx="250920" cy="1468080"/>
                <a:chOff x="7832880" y="4468320"/>
                <a:chExt cx="250920" cy="1468080"/>
              </a:xfrm>
            </p:grpSpPr>
            <p:sp>
              <p:nvSpPr>
                <p:cNvPr id="938" name=""/>
                <p:cNvSpPr/>
                <p:nvPr/>
              </p:nvSpPr>
              <p:spPr>
                <a:xfrm flipH="1">
                  <a:off x="7832520" y="4597200"/>
                  <a:ext cx="96840" cy="1339200"/>
                </a:xfrm>
                <a:prstGeom prst="rect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>
                  <a:off x="7890120" y="4471920"/>
                  <a:ext cx="193680" cy="1464480"/>
                </a:xfrm>
                <a:custGeom>
                  <a:avLst/>
                  <a:gdLst/>
                  <a:ahLst/>
                  <a:rect l="l" t="t" r="r" b="b"/>
                  <a:pathLst>
                    <a:path w="490" h="1401">
                      <a:moveTo>
                        <a:pt x="0" y="34"/>
                      </a:moveTo>
                      <a:lnTo>
                        <a:pt x="0" y="1401"/>
                      </a:lnTo>
                      <a:lnTo>
                        <a:pt x="490" y="1401"/>
                      </a:lnTo>
                      <a:lnTo>
                        <a:pt x="49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>
                  <a:off x="7832880" y="4468320"/>
                  <a:ext cx="61920" cy="250560"/>
                </a:xfrm>
                <a:custGeom>
                  <a:avLst/>
                  <a:gdLst/>
                  <a:ahLst/>
                  <a:rect l="l" t="t" r="r" b="b"/>
                  <a:pathLst>
                    <a:path w="158" h="240">
                      <a:moveTo>
                        <a:pt x="0" y="0"/>
                      </a:moveTo>
                      <a:lnTo>
                        <a:pt x="158" y="123"/>
                      </a:lnTo>
                      <a:lnTo>
                        <a:pt x="158" y="240"/>
                      </a:lnTo>
                      <a:lnTo>
                        <a:pt x="0" y="1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>
                  <a:off x="8045280" y="4647600"/>
                  <a:ext cx="20520" cy="62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7925040" y="4656240"/>
                  <a:ext cx="17280" cy="623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>
                  <a:off x="7901280" y="4756680"/>
                  <a:ext cx="1760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>
                  <a:off x="7907400" y="4878360"/>
                  <a:ext cx="1666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>
                  <a:off x="7907400" y="5015880"/>
                  <a:ext cx="16848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>
                  <a:off x="7905960" y="5133600"/>
                  <a:ext cx="1648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7021800" y="4267080"/>
                <a:ext cx="204480" cy="1669680"/>
                <a:chOff x="7021800" y="4267080"/>
                <a:chExt cx="204480" cy="1669680"/>
              </a:xfrm>
            </p:grpSpPr>
            <p:sp>
              <p:nvSpPr>
                <p:cNvPr id="948" name=""/>
                <p:cNvSpPr/>
                <p:nvPr/>
              </p:nvSpPr>
              <p:spPr>
                <a:xfrm flipH="1">
                  <a:off x="7065720" y="4267080"/>
                  <a:ext cx="66600" cy="180360"/>
                </a:xfrm>
                <a:custGeom>
                  <a:avLst/>
                  <a:gdLst/>
                  <a:ahLst/>
                  <a:rect l="l" t="t" r="r" b="b"/>
                  <a:pathLst>
                    <a:path w="168" h="174">
                      <a:moveTo>
                        <a:pt x="17" y="0"/>
                      </a:moveTo>
                      <a:lnTo>
                        <a:pt x="168" y="59"/>
                      </a:lnTo>
                      <a:lnTo>
                        <a:pt x="160" y="174"/>
                      </a:lnTo>
                      <a:lnTo>
                        <a:pt x="0" y="126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>
                  <a:off x="7121160" y="4267080"/>
                  <a:ext cx="34920" cy="19260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>
                  <a:off x="7101000" y="4400640"/>
                  <a:ext cx="125280" cy="153612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>
                  <a:off x="7021440" y="4400640"/>
                  <a:ext cx="83880" cy="1536120"/>
                </a:xfrm>
                <a:custGeom>
                  <a:avLst/>
                  <a:gdLst/>
                  <a:ahLst/>
                  <a:rect l="l" t="t" r="r" b="b"/>
                  <a:pathLst>
                    <a:path w="210" h="1468">
                      <a:moveTo>
                        <a:pt x="0" y="0"/>
                      </a:moveTo>
                      <a:lnTo>
                        <a:pt x="210" y="59"/>
                      </a:lnTo>
                      <a:lnTo>
                        <a:pt x="210" y="1468"/>
                      </a:lnTo>
                      <a:lnTo>
                        <a:pt x="0" y="146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>
                  <a:off x="7184880" y="4484160"/>
                  <a:ext cx="1908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>
                  <a:off x="7157880" y="4484160"/>
                  <a:ext cx="1908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>
                  <a:off x="7126560" y="4484160"/>
                  <a:ext cx="18720" cy="753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>
                  <a:off x="7110360" y="4614480"/>
                  <a:ext cx="1130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7107480" y="4756680"/>
                  <a:ext cx="11268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>
                  <a:off x="7107480" y="4928760"/>
                  <a:ext cx="11412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>
                  <a:off x="7112160" y="5066280"/>
                  <a:ext cx="10332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7204320" y="4798800"/>
                <a:ext cx="195120" cy="1142640"/>
                <a:chOff x="7204320" y="4798800"/>
                <a:chExt cx="195120" cy="1142640"/>
              </a:xfrm>
            </p:grpSpPr>
            <p:sp>
              <p:nvSpPr>
                <p:cNvPr id="960" name=""/>
                <p:cNvSpPr/>
                <p:nvPr/>
              </p:nvSpPr>
              <p:spPr>
                <a:xfrm flipH="1">
                  <a:off x="7283520" y="4798800"/>
                  <a:ext cx="115920" cy="1142640"/>
                </a:xfrm>
                <a:prstGeom prst="rect">
                  <a:avLst/>
                </a:pr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>
                  <a:off x="7203960" y="4798800"/>
                  <a:ext cx="83880" cy="1137960"/>
                </a:xfrm>
                <a:custGeom>
                  <a:avLst/>
                  <a:gdLst/>
                  <a:ahLst/>
                  <a:rect l="l" t="t" r="r" b="b"/>
                  <a:pathLst>
                    <a:path w="210" h="1088">
                      <a:moveTo>
                        <a:pt x="0" y="0"/>
                      </a:moveTo>
                      <a:lnTo>
                        <a:pt x="210" y="86"/>
                      </a:lnTo>
                      <a:lnTo>
                        <a:pt x="210" y="1088"/>
                      </a:lnTo>
                      <a:lnTo>
                        <a:pt x="0" y="108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2" name=""/>
              <p:cNvGrpSpPr/>
              <p:nvPr/>
            </p:nvGrpSpPr>
            <p:grpSpPr>
              <a:xfrm>
                <a:off x="7388280" y="3375000"/>
                <a:ext cx="379440" cy="2566440"/>
                <a:chOff x="7388280" y="3375000"/>
                <a:chExt cx="379440" cy="2566440"/>
              </a:xfrm>
            </p:grpSpPr>
            <p:sp>
              <p:nvSpPr>
                <p:cNvPr id="963" name=""/>
                <p:cNvSpPr/>
                <p:nvPr/>
              </p:nvSpPr>
              <p:spPr>
                <a:xfrm flipH="1">
                  <a:off x="7387920" y="3378600"/>
                  <a:ext cx="74520" cy="2562480"/>
                </a:xfrm>
                <a:custGeom>
                  <a:avLst/>
                  <a:gdLst/>
                  <a:ahLst/>
                  <a:rect l="l" t="t" r="r" b="b"/>
                  <a:pathLst>
                    <a:path w="185" h="2448">
                      <a:moveTo>
                        <a:pt x="15" y="0"/>
                      </a:moveTo>
                      <a:lnTo>
                        <a:pt x="185" y="191"/>
                      </a:lnTo>
                      <a:lnTo>
                        <a:pt x="185" y="2446"/>
                      </a:lnTo>
                      <a:lnTo>
                        <a:pt x="0" y="2448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>
                  <a:off x="7451640" y="3375000"/>
                  <a:ext cx="315720" cy="2566440"/>
                </a:xfrm>
                <a:custGeom>
                  <a:avLst/>
                  <a:gdLst/>
                  <a:ahLst/>
                  <a:rect l="l" t="t" r="r" b="b"/>
                  <a:pathLst>
                    <a:path w="799" h="2450">
                      <a:moveTo>
                        <a:pt x="0" y="74"/>
                      </a:moveTo>
                      <a:lnTo>
                        <a:pt x="799" y="0"/>
                      </a:lnTo>
                      <a:lnTo>
                        <a:pt x="799" y="2450"/>
                      </a:lnTo>
                      <a:lnTo>
                        <a:pt x="0" y="2448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>
                  <a:off x="7500960" y="3387240"/>
                  <a:ext cx="22320" cy="2554200"/>
                </a:xfrm>
                <a:custGeom>
                  <a:avLst/>
                  <a:gdLst/>
                  <a:ahLst/>
                  <a:rect l="l" t="t" r="r" b="b"/>
                  <a:pathLst>
                    <a:path w="56" h="2440">
                      <a:moveTo>
                        <a:pt x="56" y="0"/>
                      </a:moveTo>
                      <a:lnTo>
                        <a:pt x="0" y="3"/>
                      </a:lnTo>
                      <a:lnTo>
                        <a:pt x="0" y="2440"/>
                      </a:lnTo>
                      <a:lnTo>
                        <a:pt x="56" y="2440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>
                  <a:off x="7557840" y="3399480"/>
                  <a:ext cx="20520" cy="2536920"/>
                </a:xfrm>
                <a:custGeom>
                  <a:avLst/>
                  <a:gdLst/>
                  <a:ahLst/>
                  <a:rect l="l" t="t" r="r" b="b"/>
                  <a:pathLst>
                    <a:path w="52" h="2422">
                      <a:moveTo>
                        <a:pt x="52" y="0"/>
                      </a:moveTo>
                      <a:lnTo>
                        <a:pt x="1" y="8"/>
                      </a:lnTo>
                      <a:lnTo>
                        <a:pt x="0" y="2422"/>
                      </a:lnTo>
                      <a:lnTo>
                        <a:pt x="50" y="2422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>
                  <a:off x="7613640" y="3416760"/>
                  <a:ext cx="20880" cy="2520000"/>
                </a:xfrm>
                <a:custGeom>
                  <a:avLst/>
                  <a:gdLst/>
                  <a:ahLst/>
                  <a:rect l="l" t="t" r="r" b="b"/>
                  <a:pathLst>
                    <a:path w="52" h="2406">
                      <a:moveTo>
                        <a:pt x="52" y="0"/>
                      </a:moveTo>
                      <a:lnTo>
                        <a:pt x="1" y="2"/>
                      </a:lnTo>
                      <a:lnTo>
                        <a:pt x="0" y="2406"/>
                      </a:lnTo>
                      <a:lnTo>
                        <a:pt x="50" y="2406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7669080" y="3429000"/>
                  <a:ext cx="20520" cy="2507400"/>
                </a:xfrm>
                <a:custGeom>
                  <a:avLst/>
                  <a:gdLst/>
                  <a:ahLst/>
                  <a:rect l="l" t="t" r="r" b="b"/>
                  <a:pathLst>
                    <a:path w="53" h="2395">
                      <a:moveTo>
                        <a:pt x="53" y="0"/>
                      </a:moveTo>
                      <a:lnTo>
                        <a:pt x="1" y="3"/>
                      </a:lnTo>
                      <a:lnTo>
                        <a:pt x="0" y="2395"/>
                      </a:lnTo>
                      <a:lnTo>
                        <a:pt x="51" y="2395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7723080" y="3441240"/>
                  <a:ext cx="21960" cy="2495160"/>
                </a:xfrm>
                <a:custGeom>
                  <a:avLst/>
                  <a:gdLst/>
                  <a:ahLst/>
                  <a:rect l="l" t="t" r="r" b="b"/>
                  <a:pathLst>
                    <a:path w="53" h="2381">
                      <a:moveTo>
                        <a:pt x="53" y="0"/>
                      </a:moveTo>
                      <a:lnTo>
                        <a:pt x="1" y="2"/>
                      </a:lnTo>
                      <a:lnTo>
                        <a:pt x="0" y="2381"/>
                      </a:lnTo>
                      <a:lnTo>
                        <a:pt x="52" y="2381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8082000" y="4878720"/>
                <a:ext cx="255600" cy="1058040"/>
                <a:chOff x="8082000" y="4878720"/>
                <a:chExt cx="255600" cy="1058040"/>
              </a:xfrm>
            </p:grpSpPr>
            <p:sp>
              <p:nvSpPr>
                <p:cNvPr id="971" name=""/>
                <p:cNvSpPr/>
                <p:nvPr/>
              </p:nvSpPr>
              <p:spPr>
                <a:xfrm flipH="1">
                  <a:off x="8183520" y="4878720"/>
                  <a:ext cx="154080" cy="1058040"/>
                </a:xfrm>
                <a:custGeom>
                  <a:avLst/>
                  <a:gdLst/>
                  <a:ahLst/>
                  <a:rect l="l" t="t" r="r" b="b"/>
                  <a:pathLst>
                    <a:path w="384" h="1012">
                      <a:moveTo>
                        <a:pt x="0" y="0"/>
                      </a:moveTo>
                      <a:lnTo>
                        <a:pt x="384" y="12"/>
                      </a:lnTo>
                      <a:lnTo>
                        <a:pt x="384" y="1012"/>
                      </a:lnTo>
                      <a:lnTo>
                        <a:pt x="0" y="10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>
                  <a:off x="8239320" y="5008680"/>
                  <a:ext cx="1728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>
                  <a:off x="820908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>
                  <a:off x="8082000" y="4890960"/>
                  <a:ext cx="106560" cy="1045800"/>
                </a:xfrm>
                <a:custGeom>
                  <a:avLst/>
                  <a:gdLst/>
                  <a:ahLst/>
                  <a:rect l="l" t="t" r="r" b="b"/>
                  <a:pathLst>
                    <a:path w="266" h="1001">
                      <a:moveTo>
                        <a:pt x="0" y="0"/>
                      </a:moveTo>
                      <a:lnTo>
                        <a:pt x="0" y="1001"/>
                      </a:lnTo>
                      <a:lnTo>
                        <a:pt x="266" y="999"/>
                      </a:lnTo>
                      <a:lnTo>
                        <a:pt x="266" y="10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>
                  <a:off x="830268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>
                  <a:off x="8271000" y="5008680"/>
                  <a:ext cx="15840" cy="34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>
                  <a:off x="8194680" y="5071320"/>
                  <a:ext cx="14292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>
                  <a:off x="8207640" y="5142240"/>
                  <a:ext cx="1238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>
                  <a:off x="8190000" y="5208840"/>
                  <a:ext cx="142920" cy="468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>
                  <a:off x="8199720" y="5276160"/>
                  <a:ext cx="123840" cy="3600"/>
                </a:xfrm>
                <a:prstGeom prst="line">
                  <a:avLst/>
                </a:prstGeom>
                <a:ln w="468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1" name=""/>
            <p:cNvSpPr/>
            <p:nvPr/>
          </p:nvSpPr>
          <p:spPr>
            <a:xfrm flipH="1">
              <a:off x="6861960" y="5437080"/>
              <a:ext cx="2281320" cy="945720"/>
            </a:xfrm>
            <a:custGeom>
              <a:avLst/>
              <a:gdLst/>
              <a:ahLst/>
              <a:rect l="l" t="t" r="r" b="b"/>
              <a:pathLst>
                <a:path w="5750" h="903">
                  <a:moveTo>
                    <a:pt x="0" y="282"/>
                  </a:moveTo>
                  <a:lnTo>
                    <a:pt x="117" y="185"/>
                  </a:lnTo>
                  <a:lnTo>
                    <a:pt x="190" y="230"/>
                  </a:lnTo>
                  <a:lnTo>
                    <a:pt x="245" y="116"/>
                  </a:lnTo>
                  <a:lnTo>
                    <a:pt x="509" y="173"/>
                  </a:lnTo>
                  <a:lnTo>
                    <a:pt x="581" y="78"/>
                  </a:lnTo>
                  <a:lnTo>
                    <a:pt x="677" y="156"/>
                  </a:lnTo>
                  <a:lnTo>
                    <a:pt x="766" y="132"/>
                  </a:lnTo>
                  <a:lnTo>
                    <a:pt x="847" y="124"/>
                  </a:lnTo>
                  <a:lnTo>
                    <a:pt x="927" y="188"/>
                  </a:lnTo>
                  <a:lnTo>
                    <a:pt x="992" y="111"/>
                  </a:lnTo>
                  <a:lnTo>
                    <a:pt x="1131" y="142"/>
                  </a:lnTo>
                  <a:lnTo>
                    <a:pt x="1208" y="134"/>
                  </a:lnTo>
                  <a:lnTo>
                    <a:pt x="1238" y="173"/>
                  </a:lnTo>
                  <a:lnTo>
                    <a:pt x="1297" y="117"/>
                  </a:lnTo>
                  <a:lnTo>
                    <a:pt x="1381" y="204"/>
                  </a:lnTo>
                  <a:lnTo>
                    <a:pt x="1459" y="234"/>
                  </a:lnTo>
                  <a:lnTo>
                    <a:pt x="1525" y="163"/>
                  </a:lnTo>
                  <a:lnTo>
                    <a:pt x="1644" y="190"/>
                  </a:lnTo>
                  <a:lnTo>
                    <a:pt x="1703" y="247"/>
                  </a:lnTo>
                  <a:lnTo>
                    <a:pt x="1747" y="198"/>
                  </a:lnTo>
                  <a:lnTo>
                    <a:pt x="1827" y="200"/>
                  </a:lnTo>
                  <a:lnTo>
                    <a:pt x="2000" y="180"/>
                  </a:lnTo>
                  <a:lnTo>
                    <a:pt x="2081" y="200"/>
                  </a:lnTo>
                  <a:lnTo>
                    <a:pt x="2160" y="220"/>
                  </a:lnTo>
                  <a:lnTo>
                    <a:pt x="2229" y="171"/>
                  </a:lnTo>
                  <a:lnTo>
                    <a:pt x="2425" y="247"/>
                  </a:lnTo>
                  <a:lnTo>
                    <a:pt x="2475" y="185"/>
                  </a:lnTo>
                  <a:lnTo>
                    <a:pt x="2665" y="202"/>
                  </a:lnTo>
                  <a:lnTo>
                    <a:pt x="2982" y="188"/>
                  </a:lnTo>
                  <a:lnTo>
                    <a:pt x="3053" y="86"/>
                  </a:lnTo>
                  <a:lnTo>
                    <a:pt x="3338" y="67"/>
                  </a:lnTo>
                  <a:lnTo>
                    <a:pt x="3604" y="134"/>
                  </a:lnTo>
                  <a:lnTo>
                    <a:pt x="3695" y="117"/>
                  </a:lnTo>
                  <a:lnTo>
                    <a:pt x="3792" y="95"/>
                  </a:lnTo>
                  <a:lnTo>
                    <a:pt x="3966" y="142"/>
                  </a:lnTo>
                  <a:lnTo>
                    <a:pt x="4017" y="110"/>
                  </a:lnTo>
                  <a:lnTo>
                    <a:pt x="4060" y="111"/>
                  </a:lnTo>
                  <a:lnTo>
                    <a:pt x="4346" y="72"/>
                  </a:lnTo>
                  <a:lnTo>
                    <a:pt x="4417" y="156"/>
                  </a:lnTo>
                  <a:lnTo>
                    <a:pt x="4574" y="36"/>
                  </a:lnTo>
                  <a:lnTo>
                    <a:pt x="4653" y="47"/>
                  </a:lnTo>
                  <a:lnTo>
                    <a:pt x="4807" y="95"/>
                  </a:lnTo>
                  <a:lnTo>
                    <a:pt x="4878" y="97"/>
                  </a:lnTo>
                  <a:lnTo>
                    <a:pt x="4956" y="42"/>
                  </a:lnTo>
                  <a:lnTo>
                    <a:pt x="5585" y="33"/>
                  </a:lnTo>
                  <a:lnTo>
                    <a:pt x="5661" y="32"/>
                  </a:lnTo>
                  <a:lnTo>
                    <a:pt x="5750" y="0"/>
                  </a:lnTo>
                  <a:lnTo>
                    <a:pt x="5750" y="903"/>
                  </a:lnTo>
                  <a:lnTo>
                    <a:pt x="0" y="903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CNOLOGIA DE INFORMAÇÃ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HARDWAR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OFTWAR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RMAZENAMENTO (SGBD)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MUNIC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RED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984" name=""/>
          <p:cNvGraphicFramePr/>
          <p:nvPr/>
        </p:nvGraphicFramePr>
        <p:xfrm>
          <a:off x="5433840" y="3389400"/>
          <a:ext cx="412920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3840" y="3389400"/>
                    <a:ext cx="412920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Por trás de todas aquelas atividades corriqueiras está uma imensa malha de meios de comunicação que cobre países inteiros, interliga continentes e chega às casas e empresas: são fios de telefone, canais de microondas, linhas de fibra ótica, cabos submarinos transoceânicos, transmissões via satélite.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1109520" y="2995560"/>
            <a:ext cx="7302600" cy="3340080"/>
            <a:chOff x="1109520" y="2995560"/>
            <a:chExt cx="7302600" cy="3340080"/>
          </a:xfrm>
        </p:grpSpPr>
        <p:sp>
          <p:nvSpPr>
            <p:cNvPr id="987" name=""/>
            <p:cNvSpPr/>
            <p:nvPr/>
          </p:nvSpPr>
          <p:spPr>
            <a:xfrm>
              <a:off x="1109520" y="2995560"/>
              <a:ext cx="7302600" cy="3340080"/>
            </a:xfrm>
            <a:prstGeom prst="ellipse">
              <a:avLst/>
            </a:prstGeom>
            <a:gradFill rotWithShape="0">
              <a:gsLst>
                <a:gs pos="0">
                  <a:srgbClr val="51dc00"/>
                </a:gs>
                <a:gs pos="100000">
                  <a:srgbClr val="184100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86320" y="4514760"/>
              <a:ext cx="1749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OCI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533840" y="5200560"/>
              <a:ext cx="2587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POLITICAL SC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324160" y="5276880"/>
              <a:ext cx="2587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PSYCH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539640" y="1606680"/>
            <a:ext cx="8450280" cy="3340080"/>
            <a:chOff x="539640" y="1606680"/>
            <a:chExt cx="8450280" cy="3340080"/>
          </a:xfrm>
        </p:grpSpPr>
        <p:sp>
          <p:nvSpPr>
            <p:cNvPr id="992" name=""/>
            <p:cNvSpPr/>
            <p:nvPr/>
          </p:nvSpPr>
          <p:spPr>
            <a:xfrm>
              <a:off x="539640" y="1606680"/>
              <a:ext cx="7302600" cy="3340080"/>
            </a:xfrm>
            <a:prstGeom prst="ellipse">
              <a:avLst/>
            </a:prstGeom>
            <a:gradFill rotWithShape="0">
              <a:gsLst>
                <a:gs pos="0">
                  <a:srgbClr val="1c2a4b"/>
                </a:gs>
                <a:gs pos="100000">
                  <a:srgbClr val="618ffd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906560" y="1982880"/>
              <a:ext cx="29685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COMPUT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C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106960" y="2287440"/>
              <a:ext cx="235908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OPERATION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RESEAR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87240" y="3201840"/>
              <a:ext cx="24354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CI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802040" y="1754280"/>
              <a:ext cx="418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TECHNICAL APPROACH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ORDAGENS ATUAIS PARA SI - SOCIOTÉCNICO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219320" y="2298600"/>
            <a:ext cx="6438960" cy="3416400"/>
          </a:xfrm>
          <a:custGeom>
            <a:avLst/>
            <a:gdLst/>
            <a:ahLst/>
            <a:rect l="l" t="t" r="r" b="b"/>
            <a:pathLst>
              <a:path w="4056" h="2152">
                <a:moveTo>
                  <a:pt x="0" y="0"/>
                </a:moveTo>
                <a:lnTo>
                  <a:pt x="4056" y="215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229280" y="1625760"/>
            <a:ext cx="1028520" cy="4711680"/>
          </a:xfrm>
          <a:custGeom>
            <a:avLst/>
            <a:gdLst/>
            <a:ahLst/>
            <a:rect l="l" t="t" r="r" b="b"/>
            <a:pathLst>
              <a:path w="648" h="2968">
                <a:moveTo>
                  <a:pt x="0" y="0"/>
                </a:moveTo>
                <a:lnTo>
                  <a:pt x="648" y="296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2940120" y="3054240"/>
            <a:ext cx="3416400" cy="2121120"/>
            <a:chOff x="2940120" y="3054240"/>
            <a:chExt cx="3416400" cy="2121120"/>
          </a:xfrm>
        </p:grpSpPr>
        <p:sp>
          <p:nvSpPr>
            <p:cNvPr id="1001" name=""/>
            <p:cNvSpPr/>
            <p:nvPr/>
          </p:nvSpPr>
          <p:spPr>
            <a:xfrm>
              <a:off x="2940120" y="3054240"/>
              <a:ext cx="3416400" cy="2121120"/>
            </a:xfrm>
            <a:prstGeom prst="ellipse">
              <a:avLst/>
            </a:prstGeom>
            <a:gradFill rotWithShape="0">
              <a:gsLst>
                <a:gs pos="0">
                  <a:srgbClr val="30471c"/>
                </a:gs>
                <a:gs pos="100000">
                  <a:srgbClr val="a3f25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078440" y="3811680"/>
              <a:ext cx="1139760" cy="10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MI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458640" y="5907240"/>
            <a:ext cx="4645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BEHAVIORAL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42240" y="1127160"/>
            <a:ext cx="21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Multidisciplinar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PECTIVA SOCIOTÉCNIC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4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TIMIZAR O DESEMPENHO DO SISTEMA: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ECNOLOGIA &amp; ORGANIZAÇÃO MUTUAMENTE SE AJUSTAM UMA A OUTRA ATÉ ALCANÇAR UM PROJETO SATISFATÓRI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5257800" y="62485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Liker, et al, 19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3773520" y="4950000"/>
          <a:ext cx="2181240" cy="102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73520" y="4950000"/>
                    <a:ext cx="218124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48840"/>
            <a:ext cx="777240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DEPENDÊNCIA DO SISTEM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66840" y="1465200"/>
            <a:ext cx="2819160" cy="4800600"/>
            <a:chOff x="366840" y="1465200"/>
            <a:chExt cx="2819160" cy="4800600"/>
          </a:xfrm>
        </p:grpSpPr>
        <p:sp>
          <p:nvSpPr>
            <p:cNvPr id="1012" name=""/>
            <p:cNvSpPr/>
            <p:nvPr/>
          </p:nvSpPr>
          <p:spPr>
            <a:xfrm>
              <a:off x="366840" y="1465200"/>
              <a:ext cx="2819160" cy="480060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1c2a4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25480" y="3524400"/>
              <a:ext cx="1901520" cy="17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Strate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Ru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afd00"/>
                  </a:solidFill>
                  <a:latin typeface="Arial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96880" y="5657760"/>
              <a:ext cx="2434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3170160" y="1465200"/>
            <a:ext cx="5713560" cy="4800600"/>
            <a:chOff x="3170160" y="1465200"/>
            <a:chExt cx="5713560" cy="4800600"/>
          </a:xfrm>
        </p:grpSpPr>
        <p:sp>
          <p:nvSpPr>
            <p:cNvPr id="1016" name=""/>
            <p:cNvSpPr/>
            <p:nvPr/>
          </p:nvSpPr>
          <p:spPr>
            <a:xfrm>
              <a:off x="3170160" y="1465200"/>
              <a:ext cx="5638680" cy="4800600"/>
            </a:xfrm>
            <a:prstGeom prst="rect">
              <a:avLst/>
            </a:prstGeom>
            <a:gradFill rotWithShape="0">
              <a:gsLst>
                <a:gs pos="0">
                  <a:srgbClr val="491a36"/>
                </a:gs>
                <a:gs pos="100000">
                  <a:srgbClr val="f95a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00400" y="5657760"/>
              <a:ext cx="388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FORMATION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5227560" y="2684520"/>
              <a:ext cx="990720" cy="2209680"/>
              <a:chOff x="5227560" y="2684520"/>
              <a:chExt cx="990720" cy="2209680"/>
            </a:xfrm>
          </p:grpSpPr>
          <p:sp>
            <p:nvSpPr>
              <p:cNvPr id="1019" name=""/>
              <p:cNvSpPr/>
              <p:nvPr/>
            </p:nvSpPr>
            <p:spPr>
              <a:xfrm>
                <a:off x="5227560" y="2684520"/>
                <a:ext cx="99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227560" y="3675240"/>
                <a:ext cx="99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227560" y="4894200"/>
                <a:ext cx="990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227560" y="2684520"/>
                <a:ext cx="0" cy="2209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3" name=""/>
            <p:cNvGrpSpPr/>
            <p:nvPr/>
          </p:nvGrpSpPr>
          <p:grpSpPr>
            <a:xfrm>
              <a:off x="6072120" y="2157480"/>
              <a:ext cx="2011320" cy="977760"/>
              <a:chOff x="6072120" y="2157480"/>
              <a:chExt cx="2011320" cy="977760"/>
            </a:xfrm>
          </p:grpSpPr>
          <p:sp>
            <p:nvSpPr>
              <p:cNvPr id="1024" name=""/>
              <p:cNvSpPr/>
              <p:nvPr/>
            </p:nvSpPr>
            <p:spPr>
              <a:xfrm>
                <a:off x="6072120" y="2157480"/>
                <a:ext cx="196848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257880" y="2457360"/>
                <a:ext cx="18255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3252600" y="3224160"/>
              <a:ext cx="1968480" cy="978120"/>
              <a:chOff x="3252600" y="3224160"/>
              <a:chExt cx="1968480" cy="978120"/>
            </a:xfrm>
          </p:grpSpPr>
          <p:sp>
            <p:nvSpPr>
              <p:cNvPr id="1027" name=""/>
              <p:cNvSpPr/>
              <p:nvPr/>
            </p:nvSpPr>
            <p:spPr>
              <a:xfrm>
                <a:off x="3252600" y="3224160"/>
                <a:ext cx="196848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400200" y="3524400"/>
                <a:ext cx="167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072120" y="3224160"/>
              <a:ext cx="1968480" cy="978120"/>
              <a:chOff x="6072120" y="3224160"/>
              <a:chExt cx="1968480" cy="978120"/>
            </a:xfrm>
          </p:grpSpPr>
          <p:sp>
            <p:nvSpPr>
              <p:cNvPr id="1030" name=""/>
              <p:cNvSpPr/>
              <p:nvPr/>
            </p:nvSpPr>
            <p:spPr>
              <a:xfrm>
                <a:off x="6072120" y="3224160"/>
                <a:ext cx="196848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72000" y="3524400"/>
                <a:ext cx="15973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5538600" y="4443480"/>
              <a:ext cx="3111480" cy="977760"/>
              <a:chOff x="5538600" y="4443480"/>
              <a:chExt cx="3111480" cy="977760"/>
            </a:xfrm>
          </p:grpSpPr>
          <p:sp>
            <p:nvSpPr>
              <p:cNvPr id="1033" name=""/>
              <p:cNvSpPr/>
              <p:nvPr/>
            </p:nvSpPr>
            <p:spPr>
              <a:xfrm>
                <a:off x="5538600" y="4443480"/>
                <a:ext cx="311148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838840" y="4514760"/>
                <a:ext cx="266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LE-COMMUN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5" name=""/>
          <p:cNvGrpSpPr/>
          <p:nvPr/>
        </p:nvGrpSpPr>
        <p:grpSpPr>
          <a:xfrm>
            <a:off x="1668600" y="1990800"/>
            <a:ext cx="3501720" cy="531720"/>
            <a:chOff x="1668600" y="1990800"/>
            <a:chExt cx="3501720" cy="531720"/>
          </a:xfrm>
        </p:grpSpPr>
        <p:sp>
          <p:nvSpPr>
            <p:cNvPr id="1036" name=""/>
            <p:cNvSpPr/>
            <p:nvPr/>
          </p:nvSpPr>
          <p:spPr>
            <a:xfrm>
              <a:off x="1668600" y="1990800"/>
              <a:ext cx="350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INTERDEPEND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27040" y="2522520"/>
              <a:ext cx="1574280" cy="0"/>
            </a:xfrm>
            <a:prstGeom prst="line">
              <a:avLst/>
            </a:prstGeom>
            <a:ln w="10152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"/>
          <p:cNvGrpSpPr/>
          <p:nvPr/>
        </p:nvGrpSpPr>
        <p:grpSpPr>
          <a:xfrm>
            <a:off x="6216480" y="933480"/>
            <a:ext cx="2927160" cy="4546080"/>
            <a:chOff x="6216480" y="933480"/>
            <a:chExt cx="2927160" cy="4546080"/>
          </a:xfrm>
        </p:grpSpPr>
        <p:sp>
          <p:nvSpPr>
            <p:cNvPr id="1039" name=""/>
            <p:cNvSpPr/>
            <p:nvPr/>
          </p:nvSpPr>
          <p:spPr>
            <a:xfrm>
              <a:off x="6216480" y="2825640"/>
              <a:ext cx="2927160" cy="2653920"/>
            </a:xfrm>
            <a:custGeom>
              <a:avLst/>
              <a:gdLst/>
              <a:ahLst/>
              <a:rect l="l" t="t" r="r" b="b"/>
              <a:pathLst>
                <a:path w="1844" h="1672">
                  <a:moveTo>
                    <a:pt x="1495" y="0"/>
                  </a:moveTo>
                  <a:lnTo>
                    <a:pt x="1495" y="731"/>
                  </a:lnTo>
                  <a:lnTo>
                    <a:pt x="1704" y="974"/>
                  </a:lnTo>
                  <a:lnTo>
                    <a:pt x="1843" y="836"/>
                  </a:lnTo>
                  <a:lnTo>
                    <a:pt x="1843" y="1323"/>
                  </a:lnTo>
                  <a:lnTo>
                    <a:pt x="1357" y="1323"/>
                  </a:lnTo>
                  <a:lnTo>
                    <a:pt x="1495" y="1184"/>
                  </a:lnTo>
                  <a:lnTo>
                    <a:pt x="1322" y="974"/>
                  </a:lnTo>
                  <a:lnTo>
                    <a:pt x="1043" y="974"/>
                  </a:lnTo>
                  <a:lnTo>
                    <a:pt x="1043" y="1323"/>
                  </a:lnTo>
                  <a:lnTo>
                    <a:pt x="1253" y="1323"/>
                  </a:lnTo>
                  <a:lnTo>
                    <a:pt x="904" y="1671"/>
                  </a:lnTo>
                  <a:lnTo>
                    <a:pt x="556" y="1323"/>
                  </a:lnTo>
                  <a:lnTo>
                    <a:pt x="766" y="1323"/>
                  </a:lnTo>
                  <a:lnTo>
                    <a:pt x="766" y="974"/>
                  </a:lnTo>
                  <a:lnTo>
                    <a:pt x="521" y="974"/>
                  </a:lnTo>
                  <a:lnTo>
                    <a:pt x="314" y="1184"/>
                  </a:lnTo>
                  <a:lnTo>
                    <a:pt x="453" y="1323"/>
                  </a:lnTo>
                  <a:lnTo>
                    <a:pt x="0" y="1323"/>
                  </a:lnTo>
                  <a:lnTo>
                    <a:pt x="0" y="800"/>
                  </a:lnTo>
                  <a:lnTo>
                    <a:pt x="139" y="974"/>
                  </a:lnTo>
                  <a:lnTo>
                    <a:pt x="383" y="731"/>
                  </a:lnTo>
                  <a:lnTo>
                    <a:pt x="383" y="0"/>
                  </a:lnTo>
                  <a:lnTo>
                    <a:pt x="1495" y="0"/>
                  </a:lnTo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660066"/>
                </a:gs>
                <a:gs pos="100000">
                  <a:srgbClr val="8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271920" y="933480"/>
              <a:ext cx="2816280" cy="2877840"/>
            </a:xfrm>
            <a:custGeom>
              <a:avLst/>
              <a:gdLst/>
              <a:ahLst/>
              <a:rect l="l" t="t" r="r" b="b"/>
              <a:pathLst>
                <a:path w="1774" h="1813">
                  <a:moveTo>
                    <a:pt x="1355" y="1151"/>
                  </a:moveTo>
                  <a:lnTo>
                    <a:pt x="1355" y="0"/>
                  </a:lnTo>
                  <a:lnTo>
                    <a:pt x="418" y="0"/>
                  </a:lnTo>
                  <a:lnTo>
                    <a:pt x="418" y="1186"/>
                  </a:lnTo>
                  <a:lnTo>
                    <a:pt x="0" y="1186"/>
                  </a:lnTo>
                  <a:lnTo>
                    <a:pt x="869" y="1812"/>
                  </a:lnTo>
                  <a:lnTo>
                    <a:pt x="1773" y="1151"/>
                  </a:lnTo>
                  <a:lnTo>
                    <a:pt x="1355" y="1151"/>
                  </a:lnTo>
                </a:path>
              </a:pathLst>
            </a:custGeom>
            <a:gradFill rotWithShape="0">
              <a:gsLst>
                <a:gs pos="0">
                  <a:srgbClr val="00ff00"/>
                </a:gs>
                <a:gs pos="50000">
                  <a:srgbClr val="004b00"/>
                </a:gs>
                <a:gs pos="100000">
                  <a:srgbClr val="00f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/>
          </p:nvPr>
        </p:nvSpPr>
        <p:spPr>
          <a:xfrm>
            <a:off x="324000" y="196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1950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MUDANÇAS TÉCNICA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60s-70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CONTROLE GERENCIAL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80s-90s: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 ATIVIDADES INSTITUCIONAIS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CRESCENTE IMPORTÂNCIA</a:t>
            </a: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704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COPO DE S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492360" y="5850000"/>
            <a:ext cx="1701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QUE PODE SER FEITO NA INT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MUNICAÇÃO &amp; COLABOR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CESSO A INFORM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DISCUSSÕ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OBTER INFORM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ENTRETENIMENT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TRANSAÇÕES DE NEGÓCI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5787720" y="2976480"/>
            <a:ext cx="2743560" cy="2970360"/>
            <a:chOff x="5787720" y="2976480"/>
            <a:chExt cx="2743560" cy="2970360"/>
          </a:xfrm>
        </p:grpSpPr>
        <p:sp>
          <p:nvSpPr>
            <p:cNvPr id="1047" name=""/>
            <p:cNvSpPr/>
            <p:nvPr/>
          </p:nvSpPr>
          <p:spPr>
            <a:xfrm>
              <a:off x="6470640" y="3587760"/>
              <a:ext cx="1436760" cy="1800360"/>
            </a:xfrm>
            <a:custGeom>
              <a:avLst/>
              <a:gdLst/>
              <a:ahLst/>
              <a:rect l="l" t="t" r="r" b="b"/>
              <a:pathLst>
                <a:path w="905" h="1134">
                  <a:moveTo>
                    <a:pt x="139" y="745"/>
                  </a:moveTo>
                  <a:lnTo>
                    <a:pt x="99" y="682"/>
                  </a:lnTo>
                  <a:lnTo>
                    <a:pt x="49" y="605"/>
                  </a:lnTo>
                  <a:lnTo>
                    <a:pt x="16" y="541"/>
                  </a:lnTo>
                  <a:lnTo>
                    <a:pt x="0" y="461"/>
                  </a:lnTo>
                  <a:lnTo>
                    <a:pt x="0" y="392"/>
                  </a:lnTo>
                  <a:lnTo>
                    <a:pt x="16" y="293"/>
                  </a:lnTo>
                  <a:lnTo>
                    <a:pt x="53" y="215"/>
                  </a:lnTo>
                  <a:lnTo>
                    <a:pt x="116" y="135"/>
                  </a:lnTo>
                  <a:lnTo>
                    <a:pt x="199" y="76"/>
                  </a:lnTo>
                  <a:lnTo>
                    <a:pt x="271" y="39"/>
                  </a:lnTo>
                  <a:lnTo>
                    <a:pt x="352" y="12"/>
                  </a:lnTo>
                  <a:lnTo>
                    <a:pt x="465" y="0"/>
                  </a:lnTo>
                  <a:lnTo>
                    <a:pt x="570" y="12"/>
                  </a:lnTo>
                  <a:lnTo>
                    <a:pt x="637" y="35"/>
                  </a:lnTo>
                  <a:lnTo>
                    <a:pt x="710" y="72"/>
                  </a:lnTo>
                  <a:lnTo>
                    <a:pt x="765" y="112"/>
                  </a:lnTo>
                  <a:lnTo>
                    <a:pt x="815" y="165"/>
                  </a:lnTo>
                  <a:lnTo>
                    <a:pt x="847" y="211"/>
                  </a:lnTo>
                  <a:lnTo>
                    <a:pt x="873" y="265"/>
                  </a:lnTo>
                  <a:lnTo>
                    <a:pt x="892" y="324"/>
                  </a:lnTo>
                  <a:lnTo>
                    <a:pt x="904" y="393"/>
                  </a:lnTo>
                  <a:lnTo>
                    <a:pt x="900" y="466"/>
                  </a:lnTo>
                  <a:lnTo>
                    <a:pt x="877" y="532"/>
                  </a:lnTo>
                  <a:lnTo>
                    <a:pt x="847" y="609"/>
                  </a:lnTo>
                  <a:lnTo>
                    <a:pt x="796" y="691"/>
                  </a:lnTo>
                  <a:lnTo>
                    <a:pt x="769" y="745"/>
                  </a:lnTo>
                  <a:lnTo>
                    <a:pt x="742" y="813"/>
                  </a:lnTo>
                  <a:lnTo>
                    <a:pt x="714" y="893"/>
                  </a:lnTo>
                  <a:lnTo>
                    <a:pt x="696" y="962"/>
                  </a:lnTo>
                  <a:lnTo>
                    <a:pt x="683" y="1039"/>
                  </a:lnTo>
                  <a:lnTo>
                    <a:pt x="683" y="1133"/>
                  </a:lnTo>
                  <a:lnTo>
                    <a:pt x="258" y="1133"/>
                  </a:lnTo>
                  <a:lnTo>
                    <a:pt x="258" y="1057"/>
                  </a:lnTo>
                  <a:lnTo>
                    <a:pt x="235" y="957"/>
                  </a:lnTo>
                  <a:lnTo>
                    <a:pt x="208" y="884"/>
                  </a:lnTo>
                  <a:lnTo>
                    <a:pt x="175" y="809"/>
                  </a:lnTo>
                  <a:lnTo>
                    <a:pt x="139" y="745"/>
                  </a:lnTo>
                </a:path>
              </a:pathLst>
            </a:custGeom>
            <a:gradFill rotWithShape="0">
              <a:gsLst>
                <a:gs pos="0">
                  <a:srgbClr val="4a4b00"/>
                </a:gs>
                <a:gs pos="100000">
                  <a:srgbClr val="fafd00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6878520" y="5353200"/>
              <a:ext cx="676440" cy="593640"/>
              <a:chOff x="6878520" y="5353200"/>
              <a:chExt cx="676440" cy="593640"/>
            </a:xfrm>
          </p:grpSpPr>
          <p:sp>
            <p:nvSpPr>
              <p:cNvPr id="1049" name=""/>
              <p:cNvSpPr/>
              <p:nvPr/>
            </p:nvSpPr>
            <p:spPr>
              <a:xfrm>
                <a:off x="6989760" y="5875200"/>
                <a:ext cx="43488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878520" y="5353200"/>
                <a:ext cx="676440" cy="168120"/>
              </a:xfrm>
              <a:custGeom>
                <a:avLst/>
                <a:gdLst/>
                <a:ahLst/>
                <a:rect l="l" t="t" r="r" b="b"/>
                <a:pathLst>
                  <a:path w="426" h="106">
                    <a:moveTo>
                      <a:pt x="0" y="0"/>
                    </a:moveTo>
                    <a:lnTo>
                      <a:pt x="0" y="105"/>
                    </a:lnTo>
                    <a:lnTo>
                      <a:pt x="93" y="105"/>
                    </a:lnTo>
                    <a:lnTo>
                      <a:pt x="425" y="35"/>
                    </a:lnTo>
                    <a:lnTo>
                      <a:pt x="42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878520" y="5408640"/>
                <a:ext cx="676440" cy="222120"/>
              </a:xfrm>
              <a:custGeom>
                <a:avLst/>
                <a:gdLst/>
                <a:ahLst/>
                <a:rect l="l" t="t" r="r" b="b"/>
                <a:pathLst>
                  <a:path w="426" h="140">
                    <a:moveTo>
                      <a:pt x="93" y="70"/>
                    </a:moveTo>
                    <a:lnTo>
                      <a:pt x="0" y="70"/>
                    </a:lnTo>
                    <a:lnTo>
                      <a:pt x="0" y="139"/>
                    </a:lnTo>
                    <a:lnTo>
                      <a:pt x="93" y="139"/>
                    </a:lnTo>
                    <a:lnTo>
                      <a:pt x="425" y="70"/>
                    </a:lnTo>
                    <a:lnTo>
                      <a:pt x="425" y="0"/>
                    </a:lnTo>
                    <a:lnTo>
                      <a:pt x="93" y="7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8520" y="5519880"/>
                <a:ext cx="676440" cy="222120"/>
              </a:xfrm>
              <a:custGeom>
                <a:avLst/>
                <a:gdLst/>
                <a:ahLst/>
                <a:rect l="l" t="t" r="r" b="b"/>
                <a:pathLst>
                  <a:path w="426" h="140">
                    <a:moveTo>
                      <a:pt x="93" y="69"/>
                    </a:moveTo>
                    <a:lnTo>
                      <a:pt x="0" y="69"/>
                    </a:lnTo>
                    <a:lnTo>
                      <a:pt x="0" y="139"/>
                    </a:lnTo>
                    <a:lnTo>
                      <a:pt x="93" y="139"/>
                    </a:lnTo>
                    <a:lnTo>
                      <a:pt x="425" y="69"/>
                    </a:lnTo>
                    <a:lnTo>
                      <a:pt x="425" y="0"/>
                    </a:lnTo>
                    <a:lnTo>
                      <a:pt x="93" y="69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878520" y="5629320"/>
                <a:ext cx="676440" cy="223920"/>
              </a:xfrm>
              <a:custGeom>
                <a:avLst/>
                <a:gdLst/>
                <a:ahLst/>
                <a:rect l="l" t="t" r="r" b="b"/>
                <a:pathLst>
                  <a:path w="426" h="141">
                    <a:moveTo>
                      <a:pt x="93" y="70"/>
                    </a:moveTo>
                    <a:lnTo>
                      <a:pt x="82" y="71"/>
                    </a:lnTo>
                    <a:lnTo>
                      <a:pt x="0" y="70"/>
                    </a:lnTo>
                    <a:lnTo>
                      <a:pt x="0" y="140"/>
                    </a:lnTo>
                    <a:lnTo>
                      <a:pt x="93" y="140"/>
                    </a:lnTo>
                    <a:lnTo>
                      <a:pt x="425" y="70"/>
                    </a:lnTo>
                    <a:lnTo>
                      <a:pt x="425" y="0"/>
                    </a:lnTo>
                    <a:lnTo>
                      <a:pt x="93" y="7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878520" y="5740560"/>
                <a:ext cx="676440" cy="168120"/>
              </a:xfrm>
              <a:custGeom>
                <a:avLst/>
                <a:gdLst/>
                <a:ahLst/>
                <a:rect l="l" t="t" r="r" b="b"/>
                <a:pathLst>
                  <a:path w="426" h="106">
                    <a:moveTo>
                      <a:pt x="93" y="70"/>
                    </a:moveTo>
                    <a:lnTo>
                      <a:pt x="0" y="70"/>
                    </a:lnTo>
                    <a:lnTo>
                      <a:pt x="46" y="105"/>
                    </a:lnTo>
                    <a:lnTo>
                      <a:pt x="377" y="105"/>
                    </a:lnTo>
                    <a:lnTo>
                      <a:pt x="425" y="70"/>
                    </a:lnTo>
                    <a:lnTo>
                      <a:pt x="425" y="0"/>
                    </a:lnTo>
                    <a:lnTo>
                      <a:pt x="93" y="7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5787720" y="2976480"/>
              <a:ext cx="2743560" cy="1922400"/>
              <a:chOff x="5787720" y="2976480"/>
              <a:chExt cx="2743560" cy="1922400"/>
            </a:xfrm>
          </p:grpSpPr>
          <p:sp>
            <p:nvSpPr>
              <p:cNvPr id="1056" name=""/>
              <p:cNvSpPr/>
              <p:nvPr/>
            </p:nvSpPr>
            <p:spPr>
              <a:xfrm flipH="1">
                <a:off x="7611840" y="3211560"/>
                <a:ext cx="26172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7494120" y="3287880"/>
                <a:ext cx="10476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>
                <a:off x="7331040" y="3011400"/>
                <a:ext cx="6840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78760" y="3236760"/>
                <a:ext cx="6120" cy="235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972480" y="2976480"/>
                <a:ext cx="648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H="1" flipV="1">
                <a:off x="6807240" y="3284640"/>
                <a:ext cx="61920" cy="20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 flipV="1">
                <a:off x="6510240" y="3137040"/>
                <a:ext cx="223920" cy="46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 flipV="1">
                <a:off x="6468840" y="3514680"/>
                <a:ext cx="112680" cy="17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 flipV="1">
                <a:off x="6093000" y="3534840"/>
                <a:ext cx="395280" cy="282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 flipV="1">
                <a:off x="6170760" y="3811680"/>
                <a:ext cx="20952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5864040" y="3917880"/>
                <a:ext cx="485640" cy="15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6078600" y="4163760"/>
                <a:ext cx="239760" cy="6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5787720" y="4317840"/>
                <a:ext cx="53028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H="1">
                <a:off x="6108840" y="4524480"/>
                <a:ext cx="209520" cy="3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>
                <a:off x="5817960" y="4659480"/>
                <a:ext cx="608040" cy="206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338520" y="4818240"/>
                <a:ext cx="1652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7861320" y="3462480"/>
                <a:ext cx="35712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7969320" y="3738240"/>
                <a:ext cx="17136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7999560" y="3841560"/>
                <a:ext cx="460080" cy="15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1240" y="4089240"/>
                <a:ext cx="21420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8031240" y="4244760"/>
                <a:ext cx="500040" cy="5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8031240" y="4456080"/>
                <a:ext cx="183960" cy="3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923240" y="4592520"/>
                <a:ext cx="582480" cy="20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832880" y="4746600"/>
                <a:ext cx="152280" cy="8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>
                <a:off x="7754400" y="3492360"/>
                <a:ext cx="140040" cy="162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EMPRESA DIGITA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LECTRONIC COMMERCE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LECTRONIC BUSINES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LECTRONIC MARKET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É UM SI que relaciona compradores &amp; vendedores para trocar informações, produtos, serviços e pagamento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7042320" y="4768920"/>
          <a:ext cx="210168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2320" y="4768920"/>
                    <a:ext cx="21016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ÉRCIO ELECTRÔNIC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685800" y="163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TERNET RELACIONA COMPRADORES E VENDEDORE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AIXO CUSTO DE TRANSAÇÃ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BUSINESS-TO-BUSINESS TRANSAÇÕES ESTÃO AUMENTANDO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087" name=""/>
          <p:cNvGraphicFramePr/>
          <p:nvPr/>
        </p:nvGraphicFramePr>
        <p:xfrm>
          <a:off x="7004160" y="4078440"/>
          <a:ext cx="210168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4160" y="4078440"/>
                    <a:ext cx="21016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GÓCIO ELETRÔNIC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INTRANET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Business builds private, secure network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-MAIL, WEB DOCUMENTS, GROUP SOFTWARE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Extends effective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mmunication &amp; control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EXTRANET: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Extension of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Intranet to authorized external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users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graphicFrame>
        <p:nvGraphicFramePr>
          <p:cNvPr id="1091" name=""/>
          <p:cNvGraphicFramePr/>
          <p:nvPr/>
        </p:nvGraphicFramePr>
        <p:xfrm>
          <a:off x="7042320" y="4768920"/>
          <a:ext cx="2101680" cy="20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2320" y="4768920"/>
                    <a:ext cx="2101680" cy="20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strips dir="ld"/>
      </p:transition>
    </mc:Choice>
    <mc:Fallback>
      <p:transition spd="slow">
        <p:strips dir="ld"/>
      </p:transition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3" name=""/>
          <p:cNvGrpSpPr/>
          <p:nvPr/>
        </p:nvGrpSpPr>
        <p:grpSpPr>
          <a:xfrm>
            <a:off x="0" y="0"/>
            <a:ext cx="9144000" cy="2619360"/>
            <a:chOff x="0" y="0"/>
            <a:chExt cx="9144000" cy="2619360"/>
          </a:xfrm>
        </p:grpSpPr>
        <p:graphicFrame>
          <p:nvGraphicFramePr>
            <p:cNvPr id="1094" name=""/>
            <p:cNvGraphicFramePr/>
            <p:nvPr/>
          </p:nvGraphicFramePr>
          <p:xfrm>
            <a:off x="0" y="0"/>
            <a:ext cx="9144000" cy="2619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9144000" cy="26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6" name=""/>
            <p:cNvSpPr/>
            <p:nvPr/>
          </p:nvSpPr>
          <p:spPr>
            <a:xfrm>
              <a:off x="476280" y="723960"/>
              <a:ext cx="7543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   u   l   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165240" y="1117440"/>
            <a:ext cx="182880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00"/>
                </a:solidFill>
                <a:latin typeface="AvantGarde Bk B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898640" y="2838600"/>
            <a:ext cx="579132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MINISTRANDO A EMPRESA DIG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São computadores, que processam informações, controlam, coordenam e tornam compatíveis os diversos meios.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Aglutinando e dando sentido à estrutura física, estão as </a:t>
            </a:r>
            <a:r>
              <a:rPr b="1" lang="pt-BR" sz="3200" spc="-1" strike="noStrike">
                <a:solidFill>
                  <a:srgbClr val="00ae00"/>
                </a:solidFill>
                <a:latin typeface="Arial"/>
                <a:ea typeface="Times New Roman"/>
              </a:rPr>
              <a:t>Pessoas </a:t>
            </a: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que a operam ou dela se utilizam.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c0128"/>
                </a:solidFill>
                <a:latin typeface="Arial"/>
                <a:ea typeface="Times New Roman"/>
              </a:rPr>
              <a:t>Tal é a capacidade de transmissão e a qualidade dos serviços oferecidos, que o usuário nem se dá conta de todo o complexo aparato que apóia esses serviços, e a maioria das pessoas não tem a menor idéia de como a comunicação se faz – se pela transmissão sem fio de um telefone celular, pelo canal de um satélite em órbita ou por um cabo no fundo do oceano. </a:t>
            </a:r>
            <a:endParaRPr b="1" lang="en-US" sz="28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1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Times New Roman"/>
              </a:rPr>
              <a:t>Infovia - Supervi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6640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O conjunto desses recursos forma uma verdadeira “superestrada” de informações e serviços, de abrangência global, freqüentemente chamada </a:t>
            </a:r>
            <a:r>
              <a:rPr b="1" lang="pt-BR" sz="3600" spc="-1" strike="noStrike">
                <a:solidFill>
                  <a:srgbClr val="00ae00"/>
                </a:solidFill>
                <a:latin typeface="Arial"/>
                <a:ea typeface="Times New Roman"/>
              </a:rPr>
              <a:t>“INFOVIA”</a:t>
            </a:r>
            <a:r>
              <a:rPr b="1" lang="pt-BR" sz="3200" spc="-1" strike="noStrike">
                <a:solidFill>
                  <a:srgbClr val="fc0128"/>
                </a:solidFill>
                <a:latin typeface="Arial"/>
                <a:ea typeface="Times New Roman"/>
              </a:rPr>
              <a:t> ou </a:t>
            </a:r>
            <a:r>
              <a:rPr b="1" lang="pt-BR" sz="3600" spc="-1" strike="noStrike">
                <a:solidFill>
                  <a:srgbClr val="00ae00"/>
                </a:solidFill>
                <a:latin typeface="Arial"/>
                <a:ea typeface="Times New Roman"/>
              </a:rPr>
              <a:t>“SUPERVIA”</a:t>
            </a:r>
            <a:endParaRPr b="1" lang="en-US" sz="3600" spc="-1" strike="noStrike">
              <a:solidFill>
                <a:srgbClr val="fc01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7T19:11:14Z</dcterms:created>
  <dc:creator/>
  <dc:description/>
  <dc:language>en-US</dc:language>
  <cp:lastModifiedBy>TESTE</cp:lastModifiedBy>
  <cp:lastPrinted>2001-03-15T22:20:19Z</cp:lastPrinted>
  <dcterms:modified xsi:type="dcterms:W3CDTF">2002-02-26T21:47:46Z</dcterms:modified>
  <cp:revision>192</cp:revision>
  <dc:subject/>
  <dc:title>11. Building Information Systems</dc:title>
</cp:coreProperties>
</file>