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692900" cy="95694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92400" cy="956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792600" y="-360"/>
            <a:ext cx="29001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54000" y="717120"/>
            <a:ext cx="4786560" cy="35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1720" y="4544640"/>
            <a:ext cx="4908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089640"/>
            <a:ext cx="29005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792600" y="9089640"/>
            <a:ext cx="290016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2C5-6835-4683-B0A1-D54199A297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955800" y="717480"/>
            <a:ext cx="4782960" cy="358776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891720" y="4544640"/>
            <a:ext cx="4908600" cy="43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s sistemas de informação são usados em todas as </a:t>
            </a: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áreas funcionais,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ou divisões de operação, dos negócio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m finanças, os sistemas de informação são usados para prever receitas e atividades empresarial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eterminar as melhores fontes e usos de fund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dministrar o dinheiro e outros recursos financeiro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nalisar investimentos e executar auditorias para assegurar a saúde financeira  da empres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 precisão  de todos os relatórios e documentos financeir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Texto pag. 210 O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Livro Rosa-pag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3C0D-9AD2-4C85-B747-A6FA65A2C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76668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7F9F-F3DA-42FD-A874-F864DCBE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888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9EB-79E7-45B6-AC2D-80158896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140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54200" y="121932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140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54200" y="3766680"/>
            <a:ext cx="2821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5CBB-7165-4B86-9ECC-8F138286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BF10-300D-481B-900D-A76A7908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7A0-7975-4532-BFBE-9DDDB7AB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3A8-0464-4962-98B8-9CB98A4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653F-1FD4-43D7-8336-046875E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763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50BD-5363-4F4C-B0DA-E2411699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3F7B-6376-4E67-8B43-F3E321E0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8880" y="376668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B07D-7860-452F-8CE4-6125A159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8880" y="1219320"/>
            <a:ext cx="4276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766680"/>
            <a:ext cx="8763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9F5-7047-4416-8C80-A50EE221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2520">
              <a:spcBef>
                <a:spcPts val="601"/>
              </a:spcBef>
              <a:buClr>
                <a:srgbClr val="cc3300"/>
              </a:buClr>
              <a:buSzPct val="4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25520" indent="-182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9360" indent="-187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9360" indent="-18756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880" y="6477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43C-7A5C-48D8-BE97-6FB2BDA36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324480"/>
            <a:ext cx="891540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400800"/>
            <a:ext cx="853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cc0000"/>
                </a:solidFill>
                <a:latin typeface="Times New Roman"/>
              </a:rPr>
              <a:t>Tópicos em Sistemas de Informação</a:t>
            </a:r>
            <a:endParaRPr b="0" i="1" lang="en-US" sz="5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37720" y="44956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ópicos em Sistemas de Informaçã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Dr. Marcelo Augusto Santos Tu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: Conceitos e Component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é um conjunto de elementos ou componentes que se interagem para atingir obje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próprios elementos e as relações entre os elementos determinam como o sistemas trabal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anismos de 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í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A0E-F957-4E09-84E5-52925F8312B1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Exemplos de Sistema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4720" y="1776240"/>
            <a:ext cx="1003320" cy="838080"/>
            <a:chOff x="504720" y="1776240"/>
            <a:chExt cx="1003320" cy="838080"/>
          </a:xfrm>
        </p:grpSpPr>
        <p:sp>
          <p:nvSpPr>
            <p:cNvPr id="147" name=""/>
            <p:cNvSpPr/>
            <p:nvPr/>
          </p:nvSpPr>
          <p:spPr>
            <a:xfrm>
              <a:off x="504720" y="1776240"/>
              <a:ext cx="1003320" cy="838080"/>
            </a:xfrm>
            <a:custGeom>
              <a:avLst/>
              <a:gdLst/>
              <a:ahLst/>
              <a:rect l="l" t="t" r="r" b="b"/>
              <a:pathLst>
                <a:path w="2526" h="1666">
                  <a:moveTo>
                    <a:pt x="1791" y="538"/>
                  </a:moveTo>
                  <a:lnTo>
                    <a:pt x="1793" y="552"/>
                  </a:lnTo>
                  <a:lnTo>
                    <a:pt x="1788" y="563"/>
                  </a:lnTo>
                  <a:lnTo>
                    <a:pt x="1779" y="572"/>
                  </a:lnTo>
                  <a:lnTo>
                    <a:pt x="1769" y="580"/>
                  </a:lnTo>
                  <a:lnTo>
                    <a:pt x="1761" y="571"/>
                  </a:lnTo>
                  <a:lnTo>
                    <a:pt x="1757" y="559"/>
                  </a:lnTo>
                  <a:lnTo>
                    <a:pt x="1753" y="547"/>
                  </a:lnTo>
                  <a:lnTo>
                    <a:pt x="1750" y="535"/>
                  </a:lnTo>
                  <a:lnTo>
                    <a:pt x="1791" y="538"/>
                  </a:lnTo>
                  <a:lnTo>
                    <a:pt x="1804" y="538"/>
                  </a:lnTo>
                  <a:lnTo>
                    <a:pt x="1826" y="537"/>
                  </a:lnTo>
                  <a:lnTo>
                    <a:pt x="1847" y="535"/>
                  </a:lnTo>
                  <a:lnTo>
                    <a:pt x="1870" y="533"/>
                  </a:lnTo>
                  <a:lnTo>
                    <a:pt x="1892" y="529"/>
                  </a:lnTo>
                  <a:lnTo>
                    <a:pt x="1915" y="526"/>
                  </a:lnTo>
                  <a:lnTo>
                    <a:pt x="1938" y="525"/>
                  </a:lnTo>
                  <a:lnTo>
                    <a:pt x="1962" y="525"/>
                  </a:lnTo>
                  <a:lnTo>
                    <a:pt x="1986" y="526"/>
                  </a:lnTo>
                  <a:lnTo>
                    <a:pt x="2000" y="519"/>
                  </a:lnTo>
                  <a:lnTo>
                    <a:pt x="2014" y="514"/>
                  </a:lnTo>
                  <a:lnTo>
                    <a:pt x="2029" y="510"/>
                  </a:lnTo>
                  <a:lnTo>
                    <a:pt x="2044" y="506"/>
                  </a:lnTo>
                  <a:lnTo>
                    <a:pt x="2060" y="502"/>
                  </a:lnTo>
                  <a:lnTo>
                    <a:pt x="2075" y="496"/>
                  </a:lnTo>
                  <a:lnTo>
                    <a:pt x="2088" y="488"/>
                  </a:lnTo>
                  <a:lnTo>
                    <a:pt x="2099" y="478"/>
                  </a:lnTo>
                  <a:lnTo>
                    <a:pt x="2103" y="188"/>
                  </a:lnTo>
                  <a:lnTo>
                    <a:pt x="2103" y="170"/>
                  </a:lnTo>
                  <a:lnTo>
                    <a:pt x="2103" y="154"/>
                  </a:lnTo>
                  <a:lnTo>
                    <a:pt x="2103" y="136"/>
                  </a:lnTo>
                  <a:lnTo>
                    <a:pt x="2102" y="120"/>
                  </a:lnTo>
                  <a:lnTo>
                    <a:pt x="2098" y="104"/>
                  </a:lnTo>
                  <a:lnTo>
                    <a:pt x="2091" y="90"/>
                  </a:lnTo>
                  <a:lnTo>
                    <a:pt x="2080" y="79"/>
                  </a:lnTo>
                  <a:lnTo>
                    <a:pt x="2063" y="69"/>
                  </a:lnTo>
                  <a:lnTo>
                    <a:pt x="2051" y="74"/>
                  </a:lnTo>
                  <a:lnTo>
                    <a:pt x="2038" y="76"/>
                  </a:lnTo>
                  <a:lnTo>
                    <a:pt x="2024" y="78"/>
                  </a:lnTo>
                  <a:lnTo>
                    <a:pt x="2010" y="76"/>
                  </a:lnTo>
                  <a:lnTo>
                    <a:pt x="1996" y="76"/>
                  </a:lnTo>
                  <a:lnTo>
                    <a:pt x="1982" y="75"/>
                  </a:lnTo>
                  <a:lnTo>
                    <a:pt x="1969" y="76"/>
                  </a:lnTo>
                  <a:lnTo>
                    <a:pt x="1957" y="79"/>
                  </a:lnTo>
                  <a:lnTo>
                    <a:pt x="1941" y="80"/>
                  </a:lnTo>
                  <a:lnTo>
                    <a:pt x="1925" y="80"/>
                  </a:lnTo>
                  <a:lnTo>
                    <a:pt x="1910" y="80"/>
                  </a:lnTo>
                  <a:lnTo>
                    <a:pt x="1894" y="82"/>
                  </a:lnTo>
                  <a:lnTo>
                    <a:pt x="1878" y="82"/>
                  </a:lnTo>
                  <a:lnTo>
                    <a:pt x="1863" y="83"/>
                  </a:lnTo>
                  <a:lnTo>
                    <a:pt x="1847" y="83"/>
                  </a:lnTo>
                  <a:lnTo>
                    <a:pt x="1831" y="83"/>
                  </a:lnTo>
                  <a:lnTo>
                    <a:pt x="1816" y="84"/>
                  </a:lnTo>
                  <a:lnTo>
                    <a:pt x="1800" y="84"/>
                  </a:lnTo>
                  <a:lnTo>
                    <a:pt x="1785" y="85"/>
                  </a:lnTo>
                  <a:lnTo>
                    <a:pt x="1770" y="85"/>
                  </a:lnTo>
                  <a:lnTo>
                    <a:pt x="1755" y="87"/>
                  </a:lnTo>
                  <a:lnTo>
                    <a:pt x="1739" y="88"/>
                  </a:lnTo>
                  <a:lnTo>
                    <a:pt x="1724" y="89"/>
                  </a:lnTo>
                  <a:lnTo>
                    <a:pt x="1709" y="90"/>
                  </a:lnTo>
                  <a:lnTo>
                    <a:pt x="1706" y="93"/>
                  </a:lnTo>
                  <a:lnTo>
                    <a:pt x="1704" y="96"/>
                  </a:lnTo>
                  <a:lnTo>
                    <a:pt x="1701" y="97"/>
                  </a:lnTo>
                  <a:lnTo>
                    <a:pt x="1699" y="97"/>
                  </a:lnTo>
                  <a:lnTo>
                    <a:pt x="1645" y="132"/>
                  </a:lnTo>
                  <a:lnTo>
                    <a:pt x="1657" y="147"/>
                  </a:lnTo>
                  <a:lnTo>
                    <a:pt x="1663" y="179"/>
                  </a:lnTo>
                  <a:lnTo>
                    <a:pt x="1668" y="211"/>
                  </a:lnTo>
                  <a:lnTo>
                    <a:pt x="1673" y="243"/>
                  </a:lnTo>
                  <a:lnTo>
                    <a:pt x="1678" y="274"/>
                  </a:lnTo>
                  <a:lnTo>
                    <a:pt x="1683" y="306"/>
                  </a:lnTo>
                  <a:lnTo>
                    <a:pt x="1688" y="336"/>
                  </a:lnTo>
                  <a:lnTo>
                    <a:pt x="1694" y="369"/>
                  </a:lnTo>
                  <a:lnTo>
                    <a:pt x="1700" y="401"/>
                  </a:lnTo>
                  <a:lnTo>
                    <a:pt x="1690" y="382"/>
                  </a:lnTo>
                  <a:lnTo>
                    <a:pt x="1687" y="360"/>
                  </a:lnTo>
                  <a:lnTo>
                    <a:pt x="1681" y="343"/>
                  </a:lnTo>
                  <a:lnTo>
                    <a:pt x="1663" y="332"/>
                  </a:lnTo>
                  <a:lnTo>
                    <a:pt x="1655" y="310"/>
                  </a:lnTo>
                  <a:lnTo>
                    <a:pt x="1648" y="288"/>
                  </a:lnTo>
                  <a:lnTo>
                    <a:pt x="1640" y="265"/>
                  </a:lnTo>
                  <a:lnTo>
                    <a:pt x="1633" y="244"/>
                  </a:lnTo>
                  <a:lnTo>
                    <a:pt x="1625" y="221"/>
                  </a:lnTo>
                  <a:lnTo>
                    <a:pt x="1617" y="199"/>
                  </a:lnTo>
                  <a:lnTo>
                    <a:pt x="1610" y="177"/>
                  </a:lnTo>
                  <a:lnTo>
                    <a:pt x="1603" y="154"/>
                  </a:lnTo>
                  <a:lnTo>
                    <a:pt x="1645" y="132"/>
                  </a:lnTo>
                  <a:lnTo>
                    <a:pt x="1699" y="97"/>
                  </a:lnTo>
                  <a:lnTo>
                    <a:pt x="1690" y="94"/>
                  </a:lnTo>
                  <a:lnTo>
                    <a:pt x="1683" y="87"/>
                  </a:lnTo>
                  <a:lnTo>
                    <a:pt x="1677" y="76"/>
                  </a:lnTo>
                  <a:lnTo>
                    <a:pt x="1669" y="69"/>
                  </a:lnTo>
                  <a:lnTo>
                    <a:pt x="1663" y="66"/>
                  </a:lnTo>
                  <a:lnTo>
                    <a:pt x="1657" y="65"/>
                  </a:lnTo>
                  <a:lnTo>
                    <a:pt x="1650" y="64"/>
                  </a:lnTo>
                  <a:lnTo>
                    <a:pt x="1645" y="63"/>
                  </a:lnTo>
                  <a:lnTo>
                    <a:pt x="1639" y="64"/>
                  </a:lnTo>
                  <a:lnTo>
                    <a:pt x="1633" y="65"/>
                  </a:lnTo>
                  <a:lnTo>
                    <a:pt x="1627" y="69"/>
                  </a:lnTo>
                  <a:lnTo>
                    <a:pt x="1621" y="73"/>
                  </a:lnTo>
                  <a:lnTo>
                    <a:pt x="1607" y="75"/>
                  </a:lnTo>
                  <a:lnTo>
                    <a:pt x="1592" y="78"/>
                  </a:lnTo>
                  <a:lnTo>
                    <a:pt x="1577" y="79"/>
                  </a:lnTo>
                  <a:lnTo>
                    <a:pt x="1561" y="79"/>
                  </a:lnTo>
                  <a:lnTo>
                    <a:pt x="1546" y="76"/>
                  </a:lnTo>
                  <a:lnTo>
                    <a:pt x="1532" y="73"/>
                  </a:lnTo>
                  <a:lnTo>
                    <a:pt x="1521" y="65"/>
                  </a:lnTo>
                  <a:lnTo>
                    <a:pt x="1511" y="55"/>
                  </a:lnTo>
                  <a:lnTo>
                    <a:pt x="1516" y="49"/>
                  </a:lnTo>
                  <a:lnTo>
                    <a:pt x="1517" y="41"/>
                  </a:lnTo>
                  <a:lnTo>
                    <a:pt x="1514" y="32"/>
                  </a:lnTo>
                  <a:lnTo>
                    <a:pt x="1514" y="25"/>
                  </a:lnTo>
                  <a:lnTo>
                    <a:pt x="1511" y="16"/>
                  </a:lnTo>
                  <a:lnTo>
                    <a:pt x="1505" y="11"/>
                  </a:lnTo>
                  <a:lnTo>
                    <a:pt x="1498" y="6"/>
                  </a:lnTo>
                  <a:lnTo>
                    <a:pt x="1490" y="3"/>
                  </a:lnTo>
                  <a:lnTo>
                    <a:pt x="1481" y="2"/>
                  </a:lnTo>
                  <a:lnTo>
                    <a:pt x="1472" y="0"/>
                  </a:lnTo>
                  <a:lnTo>
                    <a:pt x="1463" y="0"/>
                  </a:lnTo>
                  <a:lnTo>
                    <a:pt x="1455" y="0"/>
                  </a:lnTo>
                  <a:lnTo>
                    <a:pt x="1443" y="8"/>
                  </a:lnTo>
                  <a:lnTo>
                    <a:pt x="1437" y="19"/>
                  </a:lnTo>
                  <a:lnTo>
                    <a:pt x="1432" y="31"/>
                  </a:lnTo>
                  <a:lnTo>
                    <a:pt x="1427" y="44"/>
                  </a:lnTo>
                  <a:lnTo>
                    <a:pt x="1406" y="49"/>
                  </a:lnTo>
                  <a:lnTo>
                    <a:pt x="1385" y="55"/>
                  </a:lnTo>
                  <a:lnTo>
                    <a:pt x="1364" y="64"/>
                  </a:lnTo>
                  <a:lnTo>
                    <a:pt x="1344" y="73"/>
                  </a:lnTo>
                  <a:lnTo>
                    <a:pt x="1324" y="84"/>
                  </a:lnTo>
                  <a:lnTo>
                    <a:pt x="1305" y="97"/>
                  </a:lnTo>
                  <a:lnTo>
                    <a:pt x="1286" y="109"/>
                  </a:lnTo>
                  <a:lnTo>
                    <a:pt x="1266" y="125"/>
                  </a:lnTo>
                  <a:lnTo>
                    <a:pt x="1266" y="131"/>
                  </a:lnTo>
                  <a:lnTo>
                    <a:pt x="1266" y="137"/>
                  </a:lnTo>
                  <a:lnTo>
                    <a:pt x="1266" y="144"/>
                  </a:lnTo>
                  <a:lnTo>
                    <a:pt x="1269" y="150"/>
                  </a:lnTo>
                  <a:lnTo>
                    <a:pt x="1273" y="160"/>
                  </a:lnTo>
                  <a:lnTo>
                    <a:pt x="1280" y="168"/>
                  </a:lnTo>
                  <a:lnTo>
                    <a:pt x="1291" y="173"/>
                  </a:lnTo>
                  <a:lnTo>
                    <a:pt x="1301" y="174"/>
                  </a:lnTo>
                  <a:lnTo>
                    <a:pt x="1400" y="132"/>
                  </a:lnTo>
                  <a:lnTo>
                    <a:pt x="1408" y="128"/>
                  </a:lnTo>
                  <a:lnTo>
                    <a:pt x="1414" y="123"/>
                  </a:lnTo>
                  <a:lnTo>
                    <a:pt x="1420" y="118"/>
                  </a:lnTo>
                  <a:lnTo>
                    <a:pt x="1427" y="112"/>
                  </a:lnTo>
                  <a:lnTo>
                    <a:pt x="1434" y="107"/>
                  </a:lnTo>
                  <a:lnTo>
                    <a:pt x="1441" y="103"/>
                  </a:lnTo>
                  <a:lnTo>
                    <a:pt x="1448" y="103"/>
                  </a:lnTo>
                  <a:lnTo>
                    <a:pt x="1457" y="106"/>
                  </a:lnTo>
                  <a:lnTo>
                    <a:pt x="1448" y="123"/>
                  </a:lnTo>
                  <a:lnTo>
                    <a:pt x="1436" y="137"/>
                  </a:lnTo>
                  <a:lnTo>
                    <a:pt x="1420" y="149"/>
                  </a:lnTo>
                  <a:lnTo>
                    <a:pt x="1404" y="159"/>
                  </a:lnTo>
                  <a:lnTo>
                    <a:pt x="1386" y="169"/>
                  </a:lnTo>
                  <a:lnTo>
                    <a:pt x="1368" y="177"/>
                  </a:lnTo>
                  <a:lnTo>
                    <a:pt x="1352" y="185"/>
                  </a:lnTo>
                  <a:lnTo>
                    <a:pt x="1335" y="194"/>
                  </a:lnTo>
                  <a:lnTo>
                    <a:pt x="1335" y="198"/>
                  </a:lnTo>
                  <a:lnTo>
                    <a:pt x="1334" y="202"/>
                  </a:lnTo>
                  <a:lnTo>
                    <a:pt x="1335" y="206"/>
                  </a:lnTo>
                  <a:lnTo>
                    <a:pt x="1336" y="207"/>
                  </a:lnTo>
                  <a:lnTo>
                    <a:pt x="1359" y="201"/>
                  </a:lnTo>
                  <a:lnTo>
                    <a:pt x="1383" y="196"/>
                  </a:lnTo>
                  <a:lnTo>
                    <a:pt x="1408" y="189"/>
                  </a:lnTo>
                  <a:lnTo>
                    <a:pt x="1430" y="182"/>
                  </a:lnTo>
                  <a:lnTo>
                    <a:pt x="1453" y="172"/>
                  </a:lnTo>
                  <a:lnTo>
                    <a:pt x="1474" y="159"/>
                  </a:lnTo>
                  <a:lnTo>
                    <a:pt x="1491" y="142"/>
                  </a:lnTo>
                  <a:lnTo>
                    <a:pt x="1505" y="121"/>
                  </a:lnTo>
                  <a:lnTo>
                    <a:pt x="1537" y="141"/>
                  </a:lnTo>
                  <a:lnTo>
                    <a:pt x="1610" y="344"/>
                  </a:lnTo>
                  <a:lnTo>
                    <a:pt x="1602" y="357"/>
                  </a:lnTo>
                  <a:lnTo>
                    <a:pt x="1601" y="369"/>
                  </a:lnTo>
                  <a:lnTo>
                    <a:pt x="1603" y="383"/>
                  </a:lnTo>
                  <a:lnTo>
                    <a:pt x="1606" y="397"/>
                  </a:lnTo>
                  <a:lnTo>
                    <a:pt x="1134" y="904"/>
                  </a:lnTo>
                  <a:lnTo>
                    <a:pt x="1123" y="905"/>
                  </a:lnTo>
                  <a:lnTo>
                    <a:pt x="1110" y="905"/>
                  </a:lnTo>
                  <a:lnTo>
                    <a:pt x="1099" y="905"/>
                  </a:lnTo>
                  <a:lnTo>
                    <a:pt x="1087" y="904"/>
                  </a:lnTo>
                  <a:lnTo>
                    <a:pt x="1075" y="903"/>
                  </a:lnTo>
                  <a:lnTo>
                    <a:pt x="1064" y="899"/>
                  </a:lnTo>
                  <a:lnTo>
                    <a:pt x="1054" y="894"/>
                  </a:lnTo>
                  <a:lnTo>
                    <a:pt x="1044" y="886"/>
                  </a:lnTo>
                  <a:lnTo>
                    <a:pt x="1044" y="886"/>
                  </a:lnTo>
                  <a:lnTo>
                    <a:pt x="1044" y="885"/>
                  </a:lnTo>
                  <a:lnTo>
                    <a:pt x="1044" y="885"/>
                  </a:lnTo>
                  <a:lnTo>
                    <a:pt x="1044" y="885"/>
                  </a:lnTo>
                  <a:lnTo>
                    <a:pt x="935" y="994"/>
                  </a:lnTo>
                  <a:lnTo>
                    <a:pt x="937" y="1000"/>
                  </a:lnTo>
                  <a:lnTo>
                    <a:pt x="939" y="1008"/>
                  </a:lnTo>
                  <a:lnTo>
                    <a:pt x="940" y="1016"/>
                  </a:lnTo>
                  <a:lnTo>
                    <a:pt x="942" y="1023"/>
                  </a:lnTo>
                  <a:lnTo>
                    <a:pt x="783" y="1027"/>
                  </a:lnTo>
                  <a:lnTo>
                    <a:pt x="903" y="998"/>
                  </a:lnTo>
                  <a:lnTo>
                    <a:pt x="880" y="976"/>
                  </a:lnTo>
                  <a:lnTo>
                    <a:pt x="829" y="990"/>
                  </a:lnTo>
                  <a:lnTo>
                    <a:pt x="830" y="993"/>
                  </a:lnTo>
                  <a:lnTo>
                    <a:pt x="833" y="993"/>
                  </a:lnTo>
                  <a:lnTo>
                    <a:pt x="836" y="993"/>
                  </a:lnTo>
                  <a:lnTo>
                    <a:pt x="838" y="993"/>
                  </a:lnTo>
                  <a:lnTo>
                    <a:pt x="833" y="998"/>
                  </a:lnTo>
                  <a:lnTo>
                    <a:pt x="825" y="999"/>
                  </a:lnTo>
                  <a:lnTo>
                    <a:pt x="818" y="999"/>
                  </a:lnTo>
                  <a:lnTo>
                    <a:pt x="809" y="998"/>
                  </a:lnTo>
                  <a:lnTo>
                    <a:pt x="801" y="997"/>
                  </a:lnTo>
                  <a:lnTo>
                    <a:pt x="795" y="997"/>
                  </a:lnTo>
                  <a:lnTo>
                    <a:pt x="791" y="1000"/>
                  </a:lnTo>
                  <a:lnTo>
                    <a:pt x="790" y="1008"/>
                  </a:lnTo>
                  <a:lnTo>
                    <a:pt x="790" y="1012"/>
                  </a:lnTo>
                  <a:lnTo>
                    <a:pt x="783" y="1012"/>
                  </a:lnTo>
                  <a:lnTo>
                    <a:pt x="783" y="1008"/>
                  </a:lnTo>
                  <a:lnTo>
                    <a:pt x="786" y="1008"/>
                  </a:lnTo>
                  <a:lnTo>
                    <a:pt x="787" y="1008"/>
                  </a:lnTo>
                  <a:lnTo>
                    <a:pt x="789" y="1007"/>
                  </a:lnTo>
                  <a:lnTo>
                    <a:pt x="790" y="1005"/>
                  </a:lnTo>
                  <a:lnTo>
                    <a:pt x="783" y="999"/>
                  </a:lnTo>
                  <a:lnTo>
                    <a:pt x="766" y="1003"/>
                  </a:lnTo>
                  <a:lnTo>
                    <a:pt x="748" y="1008"/>
                  </a:lnTo>
                  <a:lnTo>
                    <a:pt x="731" y="1014"/>
                  </a:lnTo>
                  <a:lnTo>
                    <a:pt x="714" y="1021"/>
                  </a:lnTo>
                  <a:lnTo>
                    <a:pt x="696" y="1026"/>
                  </a:lnTo>
                  <a:lnTo>
                    <a:pt x="679" y="1029"/>
                  </a:lnTo>
                  <a:lnTo>
                    <a:pt x="661" y="1029"/>
                  </a:lnTo>
                  <a:lnTo>
                    <a:pt x="644" y="1027"/>
                  </a:lnTo>
                  <a:lnTo>
                    <a:pt x="665" y="1013"/>
                  </a:lnTo>
                  <a:lnTo>
                    <a:pt x="688" y="998"/>
                  </a:lnTo>
                  <a:lnTo>
                    <a:pt x="710" y="985"/>
                  </a:lnTo>
                  <a:lnTo>
                    <a:pt x="733" y="971"/>
                  </a:lnTo>
                  <a:lnTo>
                    <a:pt x="755" y="959"/>
                  </a:lnTo>
                  <a:lnTo>
                    <a:pt x="778" y="945"/>
                  </a:lnTo>
                  <a:lnTo>
                    <a:pt x="801" y="932"/>
                  </a:lnTo>
                  <a:lnTo>
                    <a:pt x="824" y="919"/>
                  </a:lnTo>
                  <a:lnTo>
                    <a:pt x="811" y="907"/>
                  </a:lnTo>
                  <a:lnTo>
                    <a:pt x="623" y="1014"/>
                  </a:lnTo>
                  <a:lnTo>
                    <a:pt x="619" y="1029"/>
                  </a:lnTo>
                  <a:lnTo>
                    <a:pt x="575" y="1027"/>
                  </a:lnTo>
                  <a:lnTo>
                    <a:pt x="595" y="990"/>
                  </a:lnTo>
                  <a:lnTo>
                    <a:pt x="618" y="974"/>
                  </a:lnTo>
                  <a:lnTo>
                    <a:pt x="642" y="957"/>
                  </a:lnTo>
                  <a:lnTo>
                    <a:pt x="666" y="941"/>
                  </a:lnTo>
                  <a:lnTo>
                    <a:pt x="689" y="924"/>
                  </a:lnTo>
                  <a:lnTo>
                    <a:pt x="714" y="908"/>
                  </a:lnTo>
                  <a:lnTo>
                    <a:pt x="738" y="891"/>
                  </a:lnTo>
                  <a:lnTo>
                    <a:pt x="762" y="875"/>
                  </a:lnTo>
                  <a:lnTo>
                    <a:pt x="786" y="858"/>
                  </a:lnTo>
                  <a:lnTo>
                    <a:pt x="786" y="838"/>
                  </a:lnTo>
                  <a:lnTo>
                    <a:pt x="766" y="853"/>
                  </a:lnTo>
                  <a:lnTo>
                    <a:pt x="744" y="869"/>
                  </a:lnTo>
                  <a:lnTo>
                    <a:pt x="724" y="884"/>
                  </a:lnTo>
                  <a:lnTo>
                    <a:pt x="702" y="899"/>
                  </a:lnTo>
                  <a:lnTo>
                    <a:pt x="682" y="914"/>
                  </a:lnTo>
                  <a:lnTo>
                    <a:pt x="660" y="928"/>
                  </a:lnTo>
                  <a:lnTo>
                    <a:pt x="639" y="942"/>
                  </a:lnTo>
                  <a:lnTo>
                    <a:pt x="617" y="955"/>
                  </a:lnTo>
                  <a:lnTo>
                    <a:pt x="639" y="927"/>
                  </a:lnTo>
                  <a:lnTo>
                    <a:pt x="661" y="900"/>
                  </a:lnTo>
                  <a:lnTo>
                    <a:pt x="686" y="875"/>
                  </a:lnTo>
                  <a:lnTo>
                    <a:pt x="711" y="850"/>
                  </a:lnTo>
                  <a:lnTo>
                    <a:pt x="736" y="825"/>
                  </a:lnTo>
                  <a:lnTo>
                    <a:pt x="763" y="800"/>
                  </a:lnTo>
                  <a:lnTo>
                    <a:pt x="789" y="776"/>
                  </a:lnTo>
                  <a:lnTo>
                    <a:pt x="814" y="752"/>
                  </a:lnTo>
                  <a:lnTo>
                    <a:pt x="824" y="758"/>
                  </a:lnTo>
                  <a:lnTo>
                    <a:pt x="832" y="768"/>
                  </a:lnTo>
                  <a:lnTo>
                    <a:pt x="837" y="780"/>
                  </a:lnTo>
                  <a:lnTo>
                    <a:pt x="843" y="791"/>
                  </a:lnTo>
                  <a:lnTo>
                    <a:pt x="837" y="798"/>
                  </a:lnTo>
                  <a:lnTo>
                    <a:pt x="829" y="803"/>
                  </a:lnTo>
                  <a:lnTo>
                    <a:pt x="823" y="809"/>
                  </a:lnTo>
                  <a:lnTo>
                    <a:pt x="815" y="814"/>
                  </a:lnTo>
                  <a:lnTo>
                    <a:pt x="808" y="820"/>
                  </a:lnTo>
                  <a:lnTo>
                    <a:pt x="800" y="827"/>
                  </a:lnTo>
                  <a:lnTo>
                    <a:pt x="794" y="832"/>
                  </a:lnTo>
                  <a:lnTo>
                    <a:pt x="786" y="838"/>
                  </a:lnTo>
                  <a:lnTo>
                    <a:pt x="786" y="858"/>
                  </a:lnTo>
                  <a:lnTo>
                    <a:pt x="795" y="852"/>
                  </a:lnTo>
                  <a:lnTo>
                    <a:pt x="804" y="847"/>
                  </a:lnTo>
                  <a:lnTo>
                    <a:pt x="813" y="841"/>
                  </a:lnTo>
                  <a:lnTo>
                    <a:pt x="822" y="834"/>
                  </a:lnTo>
                  <a:lnTo>
                    <a:pt x="829" y="829"/>
                  </a:lnTo>
                  <a:lnTo>
                    <a:pt x="838" y="823"/>
                  </a:lnTo>
                  <a:lnTo>
                    <a:pt x="847" y="818"/>
                  </a:lnTo>
                  <a:lnTo>
                    <a:pt x="856" y="812"/>
                  </a:lnTo>
                  <a:lnTo>
                    <a:pt x="864" y="827"/>
                  </a:lnTo>
                  <a:lnTo>
                    <a:pt x="870" y="841"/>
                  </a:lnTo>
                  <a:lnTo>
                    <a:pt x="876" y="856"/>
                  </a:lnTo>
                  <a:lnTo>
                    <a:pt x="883" y="871"/>
                  </a:lnTo>
                  <a:lnTo>
                    <a:pt x="871" y="871"/>
                  </a:lnTo>
                  <a:lnTo>
                    <a:pt x="811" y="907"/>
                  </a:lnTo>
                  <a:lnTo>
                    <a:pt x="824" y="919"/>
                  </a:lnTo>
                  <a:lnTo>
                    <a:pt x="832" y="914"/>
                  </a:lnTo>
                  <a:lnTo>
                    <a:pt x="841" y="909"/>
                  </a:lnTo>
                  <a:lnTo>
                    <a:pt x="848" y="905"/>
                  </a:lnTo>
                  <a:lnTo>
                    <a:pt x="857" y="900"/>
                  </a:lnTo>
                  <a:lnTo>
                    <a:pt x="865" y="895"/>
                  </a:lnTo>
                  <a:lnTo>
                    <a:pt x="872" y="890"/>
                  </a:lnTo>
                  <a:lnTo>
                    <a:pt x="881" y="885"/>
                  </a:lnTo>
                  <a:lnTo>
                    <a:pt x="889" y="880"/>
                  </a:lnTo>
                  <a:lnTo>
                    <a:pt x="900" y="900"/>
                  </a:lnTo>
                  <a:lnTo>
                    <a:pt x="909" y="920"/>
                  </a:lnTo>
                  <a:lnTo>
                    <a:pt x="916" y="942"/>
                  </a:lnTo>
                  <a:lnTo>
                    <a:pt x="922" y="964"/>
                  </a:lnTo>
                  <a:lnTo>
                    <a:pt x="880" y="976"/>
                  </a:lnTo>
                  <a:lnTo>
                    <a:pt x="903" y="998"/>
                  </a:lnTo>
                  <a:lnTo>
                    <a:pt x="931" y="990"/>
                  </a:lnTo>
                  <a:lnTo>
                    <a:pt x="932" y="991"/>
                  </a:lnTo>
                  <a:lnTo>
                    <a:pt x="933" y="991"/>
                  </a:lnTo>
                  <a:lnTo>
                    <a:pt x="933" y="993"/>
                  </a:lnTo>
                  <a:lnTo>
                    <a:pt x="935" y="994"/>
                  </a:lnTo>
                  <a:lnTo>
                    <a:pt x="1044" y="885"/>
                  </a:lnTo>
                  <a:lnTo>
                    <a:pt x="1030" y="841"/>
                  </a:lnTo>
                  <a:lnTo>
                    <a:pt x="1015" y="796"/>
                  </a:lnTo>
                  <a:lnTo>
                    <a:pt x="1000" y="752"/>
                  </a:lnTo>
                  <a:lnTo>
                    <a:pt x="986" y="708"/>
                  </a:lnTo>
                  <a:lnTo>
                    <a:pt x="972" y="663"/>
                  </a:lnTo>
                  <a:lnTo>
                    <a:pt x="959" y="619"/>
                  </a:lnTo>
                  <a:lnTo>
                    <a:pt x="947" y="573"/>
                  </a:lnTo>
                  <a:lnTo>
                    <a:pt x="937" y="529"/>
                  </a:lnTo>
                  <a:lnTo>
                    <a:pt x="932" y="519"/>
                  </a:lnTo>
                  <a:lnTo>
                    <a:pt x="925" y="510"/>
                  </a:lnTo>
                  <a:lnTo>
                    <a:pt x="914" y="502"/>
                  </a:lnTo>
                  <a:lnTo>
                    <a:pt x="903" y="498"/>
                  </a:lnTo>
                  <a:lnTo>
                    <a:pt x="856" y="353"/>
                  </a:lnTo>
                  <a:lnTo>
                    <a:pt x="862" y="345"/>
                  </a:lnTo>
                  <a:lnTo>
                    <a:pt x="871" y="340"/>
                  </a:lnTo>
                  <a:lnTo>
                    <a:pt x="880" y="336"/>
                  </a:lnTo>
                  <a:lnTo>
                    <a:pt x="889" y="332"/>
                  </a:lnTo>
                  <a:lnTo>
                    <a:pt x="895" y="332"/>
                  </a:lnTo>
                  <a:lnTo>
                    <a:pt x="903" y="331"/>
                  </a:lnTo>
                  <a:lnTo>
                    <a:pt x="909" y="327"/>
                  </a:lnTo>
                  <a:lnTo>
                    <a:pt x="917" y="325"/>
                  </a:lnTo>
                  <a:lnTo>
                    <a:pt x="925" y="321"/>
                  </a:lnTo>
                  <a:lnTo>
                    <a:pt x="932" y="317"/>
                  </a:lnTo>
                  <a:lnTo>
                    <a:pt x="939" y="315"/>
                  </a:lnTo>
                  <a:lnTo>
                    <a:pt x="946" y="313"/>
                  </a:lnTo>
                  <a:lnTo>
                    <a:pt x="954" y="310"/>
                  </a:lnTo>
                  <a:lnTo>
                    <a:pt x="961" y="305"/>
                  </a:lnTo>
                  <a:lnTo>
                    <a:pt x="969" y="301"/>
                  </a:lnTo>
                  <a:lnTo>
                    <a:pt x="975" y="297"/>
                  </a:lnTo>
                  <a:lnTo>
                    <a:pt x="982" y="292"/>
                  </a:lnTo>
                  <a:lnTo>
                    <a:pt x="986" y="284"/>
                  </a:lnTo>
                  <a:lnTo>
                    <a:pt x="988" y="277"/>
                  </a:lnTo>
                  <a:lnTo>
                    <a:pt x="987" y="267"/>
                  </a:lnTo>
                  <a:lnTo>
                    <a:pt x="984" y="253"/>
                  </a:lnTo>
                  <a:lnTo>
                    <a:pt x="975" y="241"/>
                  </a:lnTo>
                  <a:lnTo>
                    <a:pt x="964" y="231"/>
                  </a:lnTo>
                  <a:lnTo>
                    <a:pt x="952" y="225"/>
                  </a:lnTo>
                  <a:lnTo>
                    <a:pt x="930" y="225"/>
                  </a:lnTo>
                  <a:lnTo>
                    <a:pt x="908" y="225"/>
                  </a:lnTo>
                  <a:lnTo>
                    <a:pt x="886" y="223"/>
                  </a:lnTo>
                  <a:lnTo>
                    <a:pt x="865" y="223"/>
                  </a:lnTo>
                  <a:lnTo>
                    <a:pt x="843" y="222"/>
                  </a:lnTo>
                  <a:lnTo>
                    <a:pt x="823" y="221"/>
                  </a:lnTo>
                  <a:lnTo>
                    <a:pt x="801" y="221"/>
                  </a:lnTo>
                  <a:lnTo>
                    <a:pt x="781" y="221"/>
                  </a:lnTo>
                  <a:lnTo>
                    <a:pt x="761" y="221"/>
                  </a:lnTo>
                  <a:lnTo>
                    <a:pt x="740" y="221"/>
                  </a:lnTo>
                  <a:lnTo>
                    <a:pt x="721" y="222"/>
                  </a:lnTo>
                  <a:lnTo>
                    <a:pt x="701" y="223"/>
                  </a:lnTo>
                  <a:lnTo>
                    <a:pt x="682" y="226"/>
                  </a:lnTo>
                  <a:lnTo>
                    <a:pt x="661" y="230"/>
                  </a:lnTo>
                  <a:lnTo>
                    <a:pt x="642" y="235"/>
                  </a:lnTo>
                  <a:lnTo>
                    <a:pt x="623" y="240"/>
                  </a:lnTo>
                  <a:lnTo>
                    <a:pt x="614" y="258"/>
                  </a:lnTo>
                  <a:lnTo>
                    <a:pt x="613" y="277"/>
                  </a:lnTo>
                  <a:lnTo>
                    <a:pt x="614" y="296"/>
                  </a:lnTo>
                  <a:lnTo>
                    <a:pt x="613" y="317"/>
                  </a:lnTo>
                  <a:lnTo>
                    <a:pt x="627" y="325"/>
                  </a:lnTo>
                  <a:lnTo>
                    <a:pt x="639" y="335"/>
                  </a:lnTo>
                  <a:lnTo>
                    <a:pt x="649" y="345"/>
                  </a:lnTo>
                  <a:lnTo>
                    <a:pt x="656" y="355"/>
                  </a:lnTo>
                  <a:lnTo>
                    <a:pt x="665" y="367"/>
                  </a:lnTo>
                  <a:lnTo>
                    <a:pt x="673" y="378"/>
                  </a:lnTo>
                  <a:lnTo>
                    <a:pt x="680" y="390"/>
                  </a:lnTo>
                  <a:lnTo>
                    <a:pt x="688" y="401"/>
                  </a:lnTo>
                  <a:lnTo>
                    <a:pt x="698" y="401"/>
                  </a:lnTo>
                  <a:lnTo>
                    <a:pt x="707" y="401"/>
                  </a:lnTo>
                  <a:lnTo>
                    <a:pt x="714" y="400"/>
                  </a:lnTo>
                  <a:lnTo>
                    <a:pt x="721" y="395"/>
                  </a:lnTo>
                  <a:lnTo>
                    <a:pt x="725" y="388"/>
                  </a:lnTo>
                  <a:lnTo>
                    <a:pt x="730" y="382"/>
                  </a:lnTo>
                  <a:lnTo>
                    <a:pt x="734" y="376"/>
                  </a:lnTo>
                  <a:lnTo>
                    <a:pt x="739" y="369"/>
                  </a:lnTo>
                  <a:lnTo>
                    <a:pt x="743" y="364"/>
                  </a:lnTo>
                  <a:lnTo>
                    <a:pt x="749" y="359"/>
                  </a:lnTo>
                  <a:lnTo>
                    <a:pt x="755" y="357"/>
                  </a:lnTo>
                  <a:lnTo>
                    <a:pt x="763" y="357"/>
                  </a:lnTo>
                  <a:lnTo>
                    <a:pt x="762" y="363"/>
                  </a:lnTo>
                  <a:lnTo>
                    <a:pt x="758" y="369"/>
                  </a:lnTo>
                  <a:lnTo>
                    <a:pt x="757" y="376"/>
                  </a:lnTo>
                  <a:lnTo>
                    <a:pt x="761" y="382"/>
                  </a:lnTo>
                  <a:lnTo>
                    <a:pt x="786" y="381"/>
                  </a:lnTo>
                  <a:lnTo>
                    <a:pt x="804" y="388"/>
                  </a:lnTo>
                  <a:lnTo>
                    <a:pt x="815" y="403"/>
                  </a:lnTo>
                  <a:lnTo>
                    <a:pt x="823" y="424"/>
                  </a:lnTo>
                  <a:lnTo>
                    <a:pt x="828" y="447"/>
                  </a:lnTo>
                  <a:lnTo>
                    <a:pt x="832" y="469"/>
                  </a:lnTo>
                  <a:lnTo>
                    <a:pt x="837" y="492"/>
                  </a:lnTo>
                  <a:lnTo>
                    <a:pt x="843" y="511"/>
                  </a:lnTo>
                  <a:lnTo>
                    <a:pt x="834" y="520"/>
                  </a:lnTo>
                  <a:lnTo>
                    <a:pt x="832" y="529"/>
                  </a:lnTo>
                  <a:lnTo>
                    <a:pt x="833" y="538"/>
                  </a:lnTo>
                  <a:lnTo>
                    <a:pt x="836" y="547"/>
                  </a:lnTo>
                  <a:lnTo>
                    <a:pt x="839" y="556"/>
                  </a:lnTo>
                  <a:lnTo>
                    <a:pt x="842" y="564"/>
                  </a:lnTo>
                  <a:lnTo>
                    <a:pt x="842" y="573"/>
                  </a:lnTo>
                  <a:lnTo>
                    <a:pt x="836" y="582"/>
                  </a:lnTo>
                  <a:lnTo>
                    <a:pt x="811" y="583"/>
                  </a:lnTo>
                  <a:lnTo>
                    <a:pt x="787" y="581"/>
                  </a:lnTo>
                  <a:lnTo>
                    <a:pt x="764" y="578"/>
                  </a:lnTo>
                  <a:lnTo>
                    <a:pt x="743" y="572"/>
                  </a:lnTo>
                  <a:lnTo>
                    <a:pt x="721" y="564"/>
                  </a:lnTo>
                  <a:lnTo>
                    <a:pt x="701" y="554"/>
                  </a:lnTo>
                  <a:lnTo>
                    <a:pt x="682" y="543"/>
                  </a:lnTo>
                  <a:lnTo>
                    <a:pt x="664" y="529"/>
                  </a:lnTo>
                  <a:lnTo>
                    <a:pt x="646" y="529"/>
                  </a:lnTo>
                  <a:lnTo>
                    <a:pt x="628" y="529"/>
                  </a:lnTo>
                  <a:lnTo>
                    <a:pt x="609" y="529"/>
                  </a:lnTo>
                  <a:lnTo>
                    <a:pt x="590" y="529"/>
                  </a:lnTo>
                  <a:lnTo>
                    <a:pt x="570" y="529"/>
                  </a:lnTo>
                  <a:lnTo>
                    <a:pt x="551" y="529"/>
                  </a:lnTo>
                  <a:lnTo>
                    <a:pt x="530" y="529"/>
                  </a:lnTo>
                  <a:lnTo>
                    <a:pt x="510" y="529"/>
                  </a:lnTo>
                  <a:lnTo>
                    <a:pt x="490" y="529"/>
                  </a:lnTo>
                  <a:lnTo>
                    <a:pt x="469" y="529"/>
                  </a:lnTo>
                  <a:lnTo>
                    <a:pt x="449" y="529"/>
                  </a:lnTo>
                  <a:lnTo>
                    <a:pt x="429" y="530"/>
                  </a:lnTo>
                  <a:lnTo>
                    <a:pt x="408" y="530"/>
                  </a:lnTo>
                  <a:lnTo>
                    <a:pt x="389" y="531"/>
                  </a:lnTo>
                  <a:lnTo>
                    <a:pt x="369" y="533"/>
                  </a:lnTo>
                  <a:lnTo>
                    <a:pt x="350" y="535"/>
                  </a:lnTo>
                  <a:lnTo>
                    <a:pt x="330" y="537"/>
                  </a:lnTo>
                  <a:lnTo>
                    <a:pt x="311" y="537"/>
                  </a:lnTo>
                  <a:lnTo>
                    <a:pt x="290" y="535"/>
                  </a:lnTo>
                  <a:lnTo>
                    <a:pt x="271" y="534"/>
                  </a:lnTo>
                  <a:lnTo>
                    <a:pt x="252" y="534"/>
                  </a:lnTo>
                  <a:lnTo>
                    <a:pt x="234" y="538"/>
                  </a:lnTo>
                  <a:lnTo>
                    <a:pt x="218" y="543"/>
                  </a:lnTo>
                  <a:lnTo>
                    <a:pt x="201" y="553"/>
                  </a:lnTo>
                  <a:lnTo>
                    <a:pt x="201" y="562"/>
                  </a:lnTo>
                  <a:lnTo>
                    <a:pt x="204" y="568"/>
                  </a:lnTo>
                  <a:lnTo>
                    <a:pt x="209" y="575"/>
                  </a:lnTo>
                  <a:lnTo>
                    <a:pt x="214" y="580"/>
                  </a:lnTo>
                  <a:lnTo>
                    <a:pt x="233" y="583"/>
                  </a:lnTo>
                  <a:lnTo>
                    <a:pt x="252" y="585"/>
                  </a:lnTo>
                  <a:lnTo>
                    <a:pt x="274" y="586"/>
                  </a:lnTo>
                  <a:lnTo>
                    <a:pt x="295" y="586"/>
                  </a:lnTo>
                  <a:lnTo>
                    <a:pt x="317" y="586"/>
                  </a:lnTo>
                  <a:lnTo>
                    <a:pt x="339" y="585"/>
                  </a:lnTo>
                  <a:lnTo>
                    <a:pt x="359" y="583"/>
                  </a:lnTo>
                  <a:lnTo>
                    <a:pt x="378" y="582"/>
                  </a:lnTo>
                  <a:lnTo>
                    <a:pt x="378" y="586"/>
                  </a:lnTo>
                  <a:lnTo>
                    <a:pt x="345" y="594"/>
                  </a:lnTo>
                  <a:lnTo>
                    <a:pt x="312" y="605"/>
                  </a:lnTo>
                  <a:lnTo>
                    <a:pt x="280" y="619"/>
                  </a:lnTo>
                  <a:lnTo>
                    <a:pt x="248" y="635"/>
                  </a:lnTo>
                  <a:lnTo>
                    <a:pt x="219" y="654"/>
                  </a:lnTo>
                  <a:lnTo>
                    <a:pt x="190" y="676"/>
                  </a:lnTo>
                  <a:lnTo>
                    <a:pt x="162" y="700"/>
                  </a:lnTo>
                  <a:lnTo>
                    <a:pt x="136" y="725"/>
                  </a:lnTo>
                  <a:lnTo>
                    <a:pt x="111" y="753"/>
                  </a:lnTo>
                  <a:lnTo>
                    <a:pt x="88" y="781"/>
                  </a:lnTo>
                  <a:lnTo>
                    <a:pt x="68" y="812"/>
                  </a:lnTo>
                  <a:lnTo>
                    <a:pt x="50" y="842"/>
                  </a:lnTo>
                  <a:lnTo>
                    <a:pt x="33" y="874"/>
                  </a:lnTo>
                  <a:lnTo>
                    <a:pt x="19" y="905"/>
                  </a:lnTo>
                  <a:lnTo>
                    <a:pt x="8" y="937"/>
                  </a:lnTo>
                  <a:lnTo>
                    <a:pt x="0" y="970"/>
                  </a:lnTo>
                  <a:lnTo>
                    <a:pt x="19" y="976"/>
                  </a:lnTo>
                  <a:lnTo>
                    <a:pt x="30" y="969"/>
                  </a:lnTo>
                  <a:lnTo>
                    <a:pt x="40" y="960"/>
                  </a:lnTo>
                  <a:lnTo>
                    <a:pt x="49" y="950"/>
                  </a:lnTo>
                  <a:lnTo>
                    <a:pt x="56" y="938"/>
                  </a:lnTo>
                  <a:lnTo>
                    <a:pt x="64" y="926"/>
                  </a:lnTo>
                  <a:lnTo>
                    <a:pt x="72" y="913"/>
                  </a:lnTo>
                  <a:lnTo>
                    <a:pt x="79" y="901"/>
                  </a:lnTo>
                  <a:lnTo>
                    <a:pt x="86" y="889"/>
                  </a:lnTo>
                  <a:lnTo>
                    <a:pt x="88" y="893"/>
                  </a:lnTo>
                  <a:lnTo>
                    <a:pt x="80" y="933"/>
                  </a:lnTo>
                  <a:lnTo>
                    <a:pt x="75" y="974"/>
                  </a:lnTo>
                  <a:lnTo>
                    <a:pt x="73" y="1016"/>
                  </a:lnTo>
                  <a:lnTo>
                    <a:pt x="73" y="1056"/>
                  </a:lnTo>
                  <a:lnTo>
                    <a:pt x="74" y="1095"/>
                  </a:lnTo>
                  <a:lnTo>
                    <a:pt x="79" y="1136"/>
                  </a:lnTo>
                  <a:lnTo>
                    <a:pt x="87" y="1175"/>
                  </a:lnTo>
                  <a:lnTo>
                    <a:pt x="97" y="1213"/>
                  </a:lnTo>
                  <a:lnTo>
                    <a:pt x="108" y="1250"/>
                  </a:lnTo>
                  <a:lnTo>
                    <a:pt x="124" y="1287"/>
                  </a:lnTo>
                  <a:lnTo>
                    <a:pt x="143" y="1322"/>
                  </a:lnTo>
                  <a:lnTo>
                    <a:pt x="163" y="1356"/>
                  </a:lnTo>
                  <a:lnTo>
                    <a:pt x="187" y="1388"/>
                  </a:lnTo>
                  <a:lnTo>
                    <a:pt x="214" y="1420"/>
                  </a:lnTo>
                  <a:lnTo>
                    <a:pt x="243" y="1449"/>
                  </a:lnTo>
                  <a:lnTo>
                    <a:pt x="276" y="1476"/>
                  </a:lnTo>
                  <a:lnTo>
                    <a:pt x="300" y="1492"/>
                  </a:lnTo>
                  <a:lnTo>
                    <a:pt x="326" y="1509"/>
                  </a:lnTo>
                  <a:lnTo>
                    <a:pt x="352" y="1522"/>
                  </a:lnTo>
                  <a:lnTo>
                    <a:pt x="379" y="1535"/>
                  </a:lnTo>
                  <a:lnTo>
                    <a:pt x="407" y="1547"/>
                  </a:lnTo>
                  <a:lnTo>
                    <a:pt x="435" y="1555"/>
                  </a:lnTo>
                  <a:lnTo>
                    <a:pt x="464" y="1563"/>
                  </a:lnTo>
                  <a:lnTo>
                    <a:pt x="494" y="1569"/>
                  </a:lnTo>
                  <a:lnTo>
                    <a:pt x="523" y="1573"/>
                  </a:lnTo>
                  <a:lnTo>
                    <a:pt x="552" y="1576"/>
                  </a:lnTo>
                  <a:lnTo>
                    <a:pt x="581" y="1576"/>
                  </a:lnTo>
                  <a:lnTo>
                    <a:pt x="612" y="1573"/>
                  </a:lnTo>
                  <a:lnTo>
                    <a:pt x="641" y="1569"/>
                  </a:lnTo>
                  <a:lnTo>
                    <a:pt x="670" y="1562"/>
                  </a:lnTo>
                  <a:lnTo>
                    <a:pt x="700" y="1553"/>
                  </a:lnTo>
                  <a:lnTo>
                    <a:pt x="727" y="1541"/>
                  </a:lnTo>
                  <a:lnTo>
                    <a:pt x="745" y="1536"/>
                  </a:lnTo>
                  <a:lnTo>
                    <a:pt x="762" y="1529"/>
                  </a:lnTo>
                  <a:lnTo>
                    <a:pt x="777" y="1521"/>
                  </a:lnTo>
                  <a:lnTo>
                    <a:pt x="792" y="1512"/>
                  </a:lnTo>
                  <a:lnTo>
                    <a:pt x="808" y="1502"/>
                  </a:lnTo>
                  <a:lnTo>
                    <a:pt x="822" y="1491"/>
                  </a:lnTo>
                  <a:lnTo>
                    <a:pt x="834" y="1479"/>
                  </a:lnTo>
                  <a:lnTo>
                    <a:pt x="848" y="1468"/>
                  </a:lnTo>
                  <a:lnTo>
                    <a:pt x="861" y="1455"/>
                  </a:lnTo>
                  <a:lnTo>
                    <a:pt x="872" y="1441"/>
                  </a:lnTo>
                  <a:lnTo>
                    <a:pt x="885" y="1427"/>
                  </a:lnTo>
                  <a:lnTo>
                    <a:pt x="897" y="1413"/>
                  </a:lnTo>
                  <a:lnTo>
                    <a:pt x="908" y="1400"/>
                  </a:lnTo>
                  <a:lnTo>
                    <a:pt x="919" y="1386"/>
                  </a:lnTo>
                  <a:lnTo>
                    <a:pt x="931" y="1370"/>
                  </a:lnTo>
                  <a:lnTo>
                    <a:pt x="942" y="1356"/>
                  </a:lnTo>
                  <a:lnTo>
                    <a:pt x="951" y="1348"/>
                  </a:lnTo>
                  <a:lnTo>
                    <a:pt x="959" y="1337"/>
                  </a:lnTo>
                  <a:lnTo>
                    <a:pt x="963" y="1326"/>
                  </a:lnTo>
                  <a:lnTo>
                    <a:pt x="966" y="1313"/>
                  </a:lnTo>
                  <a:lnTo>
                    <a:pt x="912" y="1294"/>
                  </a:lnTo>
                  <a:lnTo>
                    <a:pt x="907" y="1301"/>
                  </a:lnTo>
                  <a:lnTo>
                    <a:pt x="899" y="1302"/>
                  </a:lnTo>
                  <a:lnTo>
                    <a:pt x="891" y="1301"/>
                  </a:lnTo>
                  <a:lnTo>
                    <a:pt x="883" y="1296"/>
                  </a:lnTo>
                  <a:lnTo>
                    <a:pt x="869" y="1304"/>
                  </a:lnTo>
                  <a:lnTo>
                    <a:pt x="875" y="1308"/>
                  </a:lnTo>
                  <a:lnTo>
                    <a:pt x="883" y="1312"/>
                  </a:lnTo>
                  <a:lnTo>
                    <a:pt x="889" y="1315"/>
                  </a:lnTo>
                  <a:lnTo>
                    <a:pt x="895" y="1317"/>
                  </a:lnTo>
                  <a:lnTo>
                    <a:pt x="889" y="1326"/>
                  </a:lnTo>
                  <a:lnTo>
                    <a:pt x="884" y="1335"/>
                  </a:lnTo>
                  <a:lnTo>
                    <a:pt x="879" y="1342"/>
                  </a:lnTo>
                  <a:lnTo>
                    <a:pt x="872" y="1351"/>
                  </a:lnTo>
                  <a:lnTo>
                    <a:pt x="866" y="1360"/>
                  </a:lnTo>
                  <a:lnTo>
                    <a:pt x="860" y="1368"/>
                  </a:lnTo>
                  <a:lnTo>
                    <a:pt x="852" y="1375"/>
                  </a:lnTo>
                  <a:lnTo>
                    <a:pt x="843" y="1383"/>
                  </a:lnTo>
                  <a:lnTo>
                    <a:pt x="838" y="1379"/>
                  </a:lnTo>
                  <a:lnTo>
                    <a:pt x="833" y="1375"/>
                  </a:lnTo>
                  <a:lnTo>
                    <a:pt x="828" y="1370"/>
                  </a:lnTo>
                  <a:lnTo>
                    <a:pt x="823" y="1367"/>
                  </a:lnTo>
                  <a:lnTo>
                    <a:pt x="818" y="1362"/>
                  </a:lnTo>
                  <a:lnTo>
                    <a:pt x="814" y="1356"/>
                  </a:lnTo>
                  <a:lnTo>
                    <a:pt x="809" y="1351"/>
                  </a:lnTo>
                  <a:lnTo>
                    <a:pt x="804" y="1346"/>
                  </a:lnTo>
                  <a:lnTo>
                    <a:pt x="799" y="1350"/>
                  </a:lnTo>
                  <a:lnTo>
                    <a:pt x="808" y="1360"/>
                  </a:lnTo>
                  <a:lnTo>
                    <a:pt x="815" y="1372"/>
                  </a:lnTo>
                  <a:lnTo>
                    <a:pt x="823" y="1383"/>
                  </a:lnTo>
                  <a:lnTo>
                    <a:pt x="829" y="1394"/>
                  </a:lnTo>
                  <a:lnTo>
                    <a:pt x="811" y="1412"/>
                  </a:lnTo>
                  <a:lnTo>
                    <a:pt x="791" y="1427"/>
                  </a:lnTo>
                  <a:lnTo>
                    <a:pt x="771" y="1441"/>
                  </a:lnTo>
                  <a:lnTo>
                    <a:pt x="748" y="1453"/>
                  </a:lnTo>
                  <a:lnTo>
                    <a:pt x="725" y="1463"/>
                  </a:lnTo>
                  <a:lnTo>
                    <a:pt x="702" y="1473"/>
                  </a:lnTo>
                  <a:lnTo>
                    <a:pt x="678" y="1482"/>
                  </a:lnTo>
                  <a:lnTo>
                    <a:pt x="655" y="1489"/>
                  </a:lnTo>
                  <a:lnTo>
                    <a:pt x="652" y="1473"/>
                  </a:lnTo>
                  <a:lnTo>
                    <a:pt x="649" y="1457"/>
                  </a:lnTo>
                  <a:lnTo>
                    <a:pt x="645" y="1439"/>
                  </a:lnTo>
                  <a:lnTo>
                    <a:pt x="641" y="1422"/>
                  </a:lnTo>
                  <a:lnTo>
                    <a:pt x="625" y="1422"/>
                  </a:lnTo>
                  <a:lnTo>
                    <a:pt x="644" y="1493"/>
                  </a:lnTo>
                  <a:lnTo>
                    <a:pt x="636" y="1496"/>
                  </a:lnTo>
                  <a:lnTo>
                    <a:pt x="627" y="1498"/>
                  </a:lnTo>
                  <a:lnTo>
                    <a:pt x="618" y="1501"/>
                  </a:lnTo>
                  <a:lnTo>
                    <a:pt x="608" y="1502"/>
                  </a:lnTo>
                  <a:lnTo>
                    <a:pt x="598" y="1505"/>
                  </a:lnTo>
                  <a:lnTo>
                    <a:pt x="588" y="1506"/>
                  </a:lnTo>
                  <a:lnTo>
                    <a:pt x="579" y="1507"/>
                  </a:lnTo>
                  <a:lnTo>
                    <a:pt x="569" y="1509"/>
                  </a:lnTo>
                  <a:lnTo>
                    <a:pt x="566" y="1488"/>
                  </a:lnTo>
                  <a:lnTo>
                    <a:pt x="562" y="1467"/>
                  </a:lnTo>
                  <a:lnTo>
                    <a:pt x="558" y="1445"/>
                  </a:lnTo>
                  <a:lnTo>
                    <a:pt x="556" y="1424"/>
                  </a:lnTo>
                  <a:lnTo>
                    <a:pt x="542" y="1424"/>
                  </a:lnTo>
                  <a:lnTo>
                    <a:pt x="543" y="1445"/>
                  </a:lnTo>
                  <a:lnTo>
                    <a:pt x="546" y="1465"/>
                  </a:lnTo>
                  <a:lnTo>
                    <a:pt x="547" y="1487"/>
                  </a:lnTo>
                  <a:lnTo>
                    <a:pt x="548" y="1509"/>
                  </a:lnTo>
                  <a:lnTo>
                    <a:pt x="536" y="1507"/>
                  </a:lnTo>
                  <a:lnTo>
                    <a:pt x="522" y="1506"/>
                  </a:lnTo>
                  <a:lnTo>
                    <a:pt x="508" y="1505"/>
                  </a:lnTo>
                  <a:lnTo>
                    <a:pt x="494" y="1502"/>
                  </a:lnTo>
                  <a:lnTo>
                    <a:pt x="480" y="1500"/>
                  </a:lnTo>
                  <a:lnTo>
                    <a:pt x="466" y="1496"/>
                  </a:lnTo>
                  <a:lnTo>
                    <a:pt x="453" y="1492"/>
                  </a:lnTo>
                  <a:lnTo>
                    <a:pt x="440" y="1487"/>
                  </a:lnTo>
                  <a:lnTo>
                    <a:pt x="444" y="1465"/>
                  </a:lnTo>
                  <a:lnTo>
                    <a:pt x="448" y="1443"/>
                  </a:lnTo>
                  <a:lnTo>
                    <a:pt x="450" y="1420"/>
                  </a:lnTo>
                  <a:lnTo>
                    <a:pt x="453" y="1397"/>
                  </a:lnTo>
                  <a:lnTo>
                    <a:pt x="441" y="1386"/>
                  </a:lnTo>
                  <a:lnTo>
                    <a:pt x="425" y="1479"/>
                  </a:lnTo>
                  <a:lnTo>
                    <a:pt x="380" y="1458"/>
                  </a:lnTo>
                  <a:lnTo>
                    <a:pt x="430" y="1374"/>
                  </a:lnTo>
                  <a:lnTo>
                    <a:pt x="419" y="1363"/>
                  </a:lnTo>
                  <a:lnTo>
                    <a:pt x="412" y="1373"/>
                  </a:lnTo>
                  <a:lnTo>
                    <a:pt x="406" y="1383"/>
                  </a:lnTo>
                  <a:lnTo>
                    <a:pt x="398" y="1393"/>
                  </a:lnTo>
                  <a:lnTo>
                    <a:pt x="392" y="1403"/>
                  </a:lnTo>
                  <a:lnTo>
                    <a:pt x="386" y="1415"/>
                  </a:lnTo>
                  <a:lnTo>
                    <a:pt x="378" y="1425"/>
                  </a:lnTo>
                  <a:lnTo>
                    <a:pt x="370" y="1435"/>
                  </a:lnTo>
                  <a:lnTo>
                    <a:pt x="363" y="1445"/>
                  </a:lnTo>
                  <a:lnTo>
                    <a:pt x="314" y="1416"/>
                  </a:lnTo>
                  <a:lnTo>
                    <a:pt x="321" y="1403"/>
                  </a:lnTo>
                  <a:lnTo>
                    <a:pt x="327" y="1391"/>
                  </a:lnTo>
                  <a:lnTo>
                    <a:pt x="335" y="1378"/>
                  </a:lnTo>
                  <a:lnTo>
                    <a:pt x="342" y="1367"/>
                  </a:lnTo>
                  <a:lnTo>
                    <a:pt x="350" y="1354"/>
                  </a:lnTo>
                  <a:lnTo>
                    <a:pt x="358" y="1342"/>
                  </a:lnTo>
                  <a:lnTo>
                    <a:pt x="366" y="1331"/>
                  </a:lnTo>
                  <a:lnTo>
                    <a:pt x="374" y="1320"/>
                  </a:lnTo>
                  <a:lnTo>
                    <a:pt x="364" y="1308"/>
                  </a:lnTo>
                  <a:lnTo>
                    <a:pt x="356" y="1320"/>
                  </a:lnTo>
                  <a:lnTo>
                    <a:pt x="347" y="1332"/>
                  </a:lnTo>
                  <a:lnTo>
                    <a:pt x="340" y="1344"/>
                  </a:lnTo>
                  <a:lnTo>
                    <a:pt x="332" y="1356"/>
                  </a:lnTo>
                  <a:lnTo>
                    <a:pt x="325" y="1369"/>
                  </a:lnTo>
                  <a:lnTo>
                    <a:pt x="316" y="1381"/>
                  </a:lnTo>
                  <a:lnTo>
                    <a:pt x="308" y="1393"/>
                  </a:lnTo>
                  <a:lnTo>
                    <a:pt x="299" y="1405"/>
                  </a:lnTo>
                  <a:lnTo>
                    <a:pt x="291" y="1393"/>
                  </a:lnTo>
                  <a:lnTo>
                    <a:pt x="281" y="1383"/>
                  </a:lnTo>
                  <a:lnTo>
                    <a:pt x="271" y="1373"/>
                  </a:lnTo>
                  <a:lnTo>
                    <a:pt x="260" y="1363"/>
                  </a:lnTo>
                  <a:lnTo>
                    <a:pt x="252" y="1353"/>
                  </a:lnTo>
                  <a:lnTo>
                    <a:pt x="248" y="1341"/>
                  </a:lnTo>
                  <a:lnTo>
                    <a:pt x="250" y="1330"/>
                  </a:lnTo>
                  <a:lnTo>
                    <a:pt x="258" y="1317"/>
                  </a:lnTo>
                  <a:lnTo>
                    <a:pt x="266" y="1310"/>
                  </a:lnTo>
                  <a:lnTo>
                    <a:pt x="272" y="1302"/>
                  </a:lnTo>
                  <a:lnTo>
                    <a:pt x="280" y="1294"/>
                  </a:lnTo>
                  <a:lnTo>
                    <a:pt x="288" y="1287"/>
                  </a:lnTo>
                  <a:lnTo>
                    <a:pt x="294" y="1279"/>
                  </a:lnTo>
                  <a:lnTo>
                    <a:pt x="302" y="1273"/>
                  </a:lnTo>
                  <a:lnTo>
                    <a:pt x="308" y="1265"/>
                  </a:lnTo>
                  <a:lnTo>
                    <a:pt x="316" y="1259"/>
                  </a:lnTo>
                  <a:lnTo>
                    <a:pt x="307" y="1249"/>
                  </a:lnTo>
                  <a:lnTo>
                    <a:pt x="298" y="1258"/>
                  </a:lnTo>
                  <a:lnTo>
                    <a:pt x="290" y="1268"/>
                  </a:lnTo>
                  <a:lnTo>
                    <a:pt x="281" y="1277"/>
                  </a:lnTo>
                  <a:lnTo>
                    <a:pt x="272" y="1285"/>
                  </a:lnTo>
                  <a:lnTo>
                    <a:pt x="262" y="1296"/>
                  </a:lnTo>
                  <a:lnTo>
                    <a:pt x="252" y="1303"/>
                  </a:lnTo>
                  <a:lnTo>
                    <a:pt x="242" y="1312"/>
                  </a:lnTo>
                  <a:lnTo>
                    <a:pt x="230" y="1320"/>
                  </a:lnTo>
                  <a:lnTo>
                    <a:pt x="225" y="1315"/>
                  </a:lnTo>
                  <a:lnTo>
                    <a:pt x="218" y="1306"/>
                  </a:lnTo>
                  <a:lnTo>
                    <a:pt x="211" y="1296"/>
                  </a:lnTo>
                  <a:lnTo>
                    <a:pt x="208" y="1285"/>
                  </a:lnTo>
                  <a:lnTo>
                    <a:pt x="293" y="1235"/>
                  </a:lnTo>
                  <a:lnTo>
                    <a:pt x="283" y="1223"/>
                  </a:lnTo>
                  <a:lnTo>
                    <a:pt x="272" y="1230"/>
                  </a:lnTo>
                  <a:lnTo>
                    <a:pt x="262" y="1237"/>
                  </a:lnTo>
                  <a:lnTo>
                    <a:pt x="252" y="1244"/>
                  </a:lnTo>
                  <a:lnTo>
                    <a:pt x="242" y="1250"/>
                  </a:lnTo>
                  <a:lnTo>
                    <a:pt x="230" y="1256"/>
                  </a:lnTo>
                  <a:lnTo>
                    <a:pt x="220" y="1263"/>
                  </a:lnTo>
                  <a:lnTo>
                    <a:pt x="210" y="1268"/>
                  </a:lnTo>
                  <a:lnTo>
                    <a:pt x="199" y="1273"/>
                  </a:lnTo>
                  <a:lnTo>
                    <a:pt x="177" y="1244"/>
                  </a:lnTo>
                  <a:lnTo>
                    <a:pt x="187" y="1236"/>
                  </a:lnTo>
                  <a:lnTo>
                    <a:pt x="197" y="1230"/>
                  </a:lnTo>
                  <a:lnTo>
                    <a:pt x="208" y="1223"/>
                  </a:lnTo>
                  <a:lnTo>
                    <a:pt x="219" y="1217"/>
                  </a:lnTo>
                  <a:lnTo>
                    <a:pt x="229" y="1209"/>
                  </a:lnTo>
                  <a:lnTo>
                    <a:pt x="241" y="1203"/>
                  </a:lnTo>
                  <a:lnTo>
                    <a:pt x="252" y="1197"/>
                  </a:lnTo>
                  <a:lnTo>
                    <a:pt x="264" y="1190"/>
                  </a:lnTo>
                  <a:lnTo>
                    <a:pt x="257" y="1178"/>
                  </a:lnTo>
                  <a:lnTo>
                    <a:pt x="246" y="1184"/>
                  </a:lnTo>
                  <a:lnTo>
                    <a:pt x="236" y="1190"/>
                  </a:lnTo>
                  <a:lnTo>
                    <a:pt x="224" y="1197"/>
                  </a:lnTo>
                  <a:lnTo>
                    <a:pt x="213" y="1202"/>
                  </a:lnTo>
                  <a:lnTo>
                    <a:pt x="202" y="1208"/>
                  </a:lnTo>
                  <a:lnTo>
                    <a:pt x="191" y="1213"/>
                  </a:lnTo>
                  <a:lnTo>
                    <a:pt x="180" y="1218"/>
                  </a:lnTo>
                  <a:lnTo>
                    <a:pt x="168" y="1223"/>
                  </a:lnTo>
                  <a:lnTo>
                    <a:pt x="150" y="1175"/>
                  </a:lnTo>
                  <a:lnTo>
                    <a:pt x="162" y="1173"/>
                  </a:lnTo>
                  <a:lnTo>
                    <a:pt x="173" y="1170"/>
                  </a:lnTo>
                  <a:lnTo>
                    <a:pt x="186" y="1169"/>
                  </a:lnTo>
                  <a:lnTo>
                    <a:pt x="197" y="1166"/>
                  </a:lnTo>
                  <a:lnTo>
                    <a:pt x="210" y="1165"/>
                  </a:lnTo>
                  <a:lnTo>
                    <a:pt x="223" y="1163"/>
                  </a:lnTo>
                  <a:lnTo>
                    <a:pt x="236" y="1161"/>
                  </a:lnTo>
                  <a:lnTo>
                    <a:pt x="248" y="1160"/>
                  </a:lnTo>
                  <a:lnTo>
                    <a:pt x="241" y="1147"/>
                  </a:lnTo>
                  <a:lnTo>
                    <a:pt x="148" y="1157"/>
                  </a:lnTo>
                  <a:lnTo>
                    <a:pt x="141" y="1138"/>
                  </a:lnTo>
                  <a:lnTo>
                    <a:pt x="135" y="1118"/>
                  </a:lnTo>
                  <a:lnTo>
                    <a:pt x="131" y="1098"/>
                  </a:lnTo>
                  <a:lnTo>
                    <a:pt x="130" y="1078"/>
                  </a:lnTo>
                  <a:lnTo>
                    <a:pt x="141" y="1078"/>
                  </a:lnTo>
                  <a:lnTo>
                    <a:pt x="153" y="1076"/>
                  </a:lnTo>
                  <a:lnTo>
                    <a:pt x="164" y="1076"/>
                  </a:lnTo>
                  <a:lnTo>
                    <a:pt x="177" y="1076"/>
                  </a:lnTo>
                  <a:lnTo>
                    <a:pt x="189" y="1076"/>
                  </a:lnTo>
                  <a:lnTo>
                    <a:pt x="200" y="1076"/>
                  </a:lnTo>
                  <a:lnTo>
                    <a:pt x="213" y="1078"/>
                  </a:lnTo>
                  <a:lnTo>
                    <a:pt x="224" y="1078"/>
                  </a:lnTo>
                  <a:lnTo>
                    <a:pt x="230" y="1062"/>
                  </a:lnTo>
                  <a:lnTo>
                    <a:pt x="126" y="1056"/>
                  </a:lnTo>
                  <a:lnTo>
                    <a:pt x="135" y="974"/>
                  </a:lnTo>
                  <a:lnTo>
                    <a:pt x="148" y="978"/>
                  </a:lnTo>
                  <a:lnTo>
                    <a:pt x="161" y="981"/>
                  </a:lnTo>
                  <a:lnTo>
                    <a:pt x="173" y="985"/>
                  </a:lnTo>
                  <a:lnTo>
                    <a:pt x="187" y="989"/>
                  </a:lnTo>
                  <a:lnTo>
                    <a:pt x="200" y="993"/>
                  </a:lnTo>
                  <a:lnTo>
                    <a:pt x="213" y="998"/>
                  </a:lnTo>
                  <a:lnTo>
                    <a:pt x="225" y="1002"/>
                  </a:lnTo>
                  <a:lnTo>
                    <a:pt x="238" y="1007"/>
                  </a:lnTo>
                  <a:lnTo>
                    <a:pt x="238" y="995"/>
                  </a:lnTo>
                  <a:lnTo>
                    <a:pt x="228" y="991"/>
                  </a:lnTo>
                  <a:lnTo>
                    <a:pt x="218" y="988"/>
                  </a:lnTo>
                  <a:lnTo>
                    <a:pt x="209" y="984"/>
                  </a:lnTo>
                  <a:lnTo>
                    <a:pt x="199" y="980"/>
                  </a:lnTo>
                  <a:lnTo>
                    <a:pt x="189" y="976"/>
                  </a:lnTo>
                  <a:lnTo>
                    <a:pt x="180" y="972"/>
                  </a:lnTo>
                  <a:lnTo>
                    <a:pt x="169" y="967"/>
                  </a:lnTo>
                  <a:lnTo>
                    <a:pt x="159" y="964"/>
                  </a:lnTo>
                  <a:lnTo>
                    <a:pt x="159" y="946"/>
                  </a:lnTo>
                  <a:lnTo>
                    <a:pt x="139" y="955"/>
                  </a:lnTo>
                  <a:lnTo>
                    <a:pt x="168" y="851"/>
                  </a:lnTo>
                  <a:lnTo>
                    <a:pt x="180" y="858"/>
                  </a:lnTo>
                  <a:lnTo>
                    <a:pt x="190" y="865"/>
                  </a:lnTo>
                  <a:lnTo>
                    <a:pt x="201" y="872"/>
                  </a:lnTo>
                  <a:lnTo>
                    <a:pt x="211" y="880"/>
                  </a:lnTo>
                  <a:lnTo>
                    <a:pt x="222" y="888"/>
                  </a:lnTo>
                  <a:lnTo>
                    <a:pt x="233" y="895"/>
                  </a:lnTo>
                  <a:lnTo>
                    <a:pt x="243" y="903"/>
                  </a:lnTo>
                  <a:lnTo>
                    <a:pt x="255" y="910"/>
                  </a:lnTo>
                  <a:lnTo>
                    <a:pt x="258" y="898"/>
                  </a:lnTo>
                  <a:lnTo>
                    <a:pt x="248" y="890"/>
                  </a:lnTo>
                  <a:lnTo>
                    <a:pt x="238" y="881"/>
                  </a:lnTo>
                  <a:lnTo>
                    <a:pt x="228" y="874"/>
                  </a:lnTo>
                  <a:lnTo>
                    <a:pt x="218" y="865"/>
                  </a:lnTo>
                  <a:lnTo>
                    <a:pt x="208" y="857"/>
                  </a:lnTo>
                  <a:lnTo>
                    <a:pt x="197" y="850"/>
                  </a:lnTo>
                  <a:lnTo>
                    <a:pt x="187" y="841"/>
                  </a:lnTo>
                  <a:lnTo>
                    <a:pt x="177" y="833"/>
                  </a:lnTo>
                  <a:lnTo>
                    <a:pt x="183" y="823"/>
                  </a:lnTo>
                  <a:lnTo>
                    <a:pt x="189" y="812"/>
                  </a:lnTo>
                  <a:lnTo>
                    <a:pt x="195" y="801"/>
                  </a:lnTo>
                  <a:lnTo>
                    <a:pt x="205" y="791"/>
                  </a:lnTo>
                  <a:lnTo>
                    <a:pt x="213" y="801"/>
                  </a:lnTo>
                  <a:lnTo>
                    <a:pt x="222" y="810"/>
                  </a:lnTo>
                  <a:lnTo>
                    <a:pt x="229" y="820"/>
                  </a:lnTo>
                  <a:lnTo>
                    <a:pt x="238" y="829"/>
                  </a:lnTo>
                  <a:lnTo>
                    <a:pt x="247" y="838"/>
                  </a:lnTo>
                  <a:lnTo>
                    <a:pt x="256" y="847"/>
                  </a:lnTo>
                  <a:lnTo>
                    <a:pt x="264" y="856"/>
                  </a:lnTo>
                  <a:lnTo>
                    <a:pt x="272" y="865"/>
                  </a:lnTo>
                  <a:lnTo>
                    <a:pt x="279" y="847"/>
                  </a:lnTo>
                  <a:lnTo>
                    <a:pt x="214" y="785"/>
                  </a:lnTo>
                  <a:lnTo>
                    <a:pt x="218" y="773"/>
                  </a:lnTo>
                  <a:lnTo>
                    <a:pt x="224" y="763"/>
                  </a:lnTo>
                  <a:lnTo>
                    <a:pt x="232" y="754"/>
                  </a:lnTo>
                  <a:lnTo>
                    <a:pt x="243" y="746"/>
                  </a:lnTo>
                  <a:lnTo>
                    <a:pt x="305" y="828"/>
                  </a:lnTo>
                  <a:lnTo>
                    <a:pt x="319" y="824"/>
                  </a:lnTo>
                  <a:lnTo>
                    <a:pt x="255" y="741"/>
                  </a:lnTo>
                  <a:lnTo>
                    <a:pt x="257" y="732"/>
                  </a:lnTo>
                  <a:lnTo>
                    <a:pt x="261" y="725"/>
                  </a:lnTo>
                  <a:lnTo>
                    <a:pt x="267" y="720"/>
                  </a:lnTo>
                  <a:lnTo>
                    <a:pt x="274" y="715"/>
                  </a:lnTo>
                  <a:lnTo>
                    <a:pt x="280" y="711"/>
                  </a:lnTo>
                  <a:lnTo>
                    <a:pt x="288" y="706"/>
                  </a:lnTo>
                  <a:lnTo>
                    <a:pt x="294" y="701"/>
                  </a:lnTo>
                  <a:lnTo>
                    <a:pt x="299" y="695"/>
                  </a:lnTo>
                  <a:lnTo>
                    <a:pt x="354" y="792"/>
                  </a:lnTo>
                  <a:lnTo>
                    <a:pt x="364" y="780"/>
                  </a:lnTo>
                  <a:lnTo>
                    <a:pt x="312" y="690"/>
                  </a:lnTo>
                  <a:lnTo>
                    <a:pt x="317" y="684"/>
                  </a:lnTo>
                  <a:lnTo>
                    <a:pt x="323" y="678"/>
                  </a:lnTo>
                  <a:lnTo>
                    <a:pt x="331" y="673"/>
                  </a:lnTo>
                  <a:lnTo>
                    <a:pt x="339" y="670"/>
                  </a:lnTo>
                  <a:lnTo>
                    <a:pt x="346" y="666"/>
                  </a:lnTo>
                  <a:lnTo>
                    <a:pt x="354" y="663"/>
                  </a:lnTo>
                  <a:lnTo>
                    <a:pt x="363" y="662"/>
                  </a:lnTo>
                  <a:lnTo>
                    <a:pt x="372" y="661"/>
                  </a:lnTo>
                  <a:lnTo>
                    <a:pt x="377" y="667"/>
                  </a:lnTo>
                  <a:lnTo>
                    <a:pt x="377" y="673"/>
                  </a:lnTo>
                  <a:lnTo>
                    <a:pt x="374" y="680"/>
                  </a:lnTo>
                  <a:lnTo>
                    <a:pt x="378" y="686"/>
                  </a:lnTo>
                  <a:lnTo>
                    <a:pt x="401" y="751"/>
                  </a:lnTo>
                  <a:lnTo>
                    <a:pt x="414" y="744"/>
                  </a:lnTo>
                  <a:lnTo>
                    <a:pt x="380" y="657"/>
                  </a:lnTo>
                  <a:lnTo>
                    <a:pt x="386" y="654"/>
                  </a:lnTo>
                  <a:lnTo>
                    <a:pt x="391" y="651"/>
                  </a:lnTo>
                  <a:lnTo>
                    <a:pt x="396" y="648"/>
                  </a:lnTo>
                  <a:lnTo>
                    <a:pt x="402" y="645"/>
                  </a:lnTo>
                  <a:lnTo>
                    <a:pt x="408" y="643"/>
                  </a:lnTo>
                  <a:lnTo>
                    <a:pt x="415" y="640"/>
                  </a:lnTo>
                  <a:lnTo>
                    <a:pt x="421" y="639"/>
                  </a:lnTo>
                  <a:lnTo>
                    <a:pt x="429" y="639"/>
                  </a:lnTo>
                  <a:lnTo>
                    <a:pt x="445" y="733"/>
                  </a:lnTo>
                  <a:lnTo>
                    <a:pt x="461" y="729"/>
                  </a:lnTo>
                  <a:lnTo>
                    <a:pt x="458" y="706"/>
                  </a:lnTo>
                  <a:lnTo>
                    <a:pt x="454" y="682"/>
                  </a:lnTo>
                  <a:lnTo>
                    <a:pt x="450" y="659"/>
                  </a:lnTo>
                  <a:lnTo>
                    <a:pt x="447" y="635"/>
                  </a:lnTo>
                  <a:lnTo>
                    <a:pt x="452" y="632"/>
                  </a:lnTo>
                  <a:lnTo>
                    <a:pt x="457" y="630"/>
                  </a:lnTo>
                  <a:lnTo>
                    <a:pt x="463" y="629"/>
                  </a:lnTo>
                  <a:lnTo>
                    <a:pt x="469" y="629"/>
                  </a:lnTo>
                  <a:lnTo>
                    <a:pt x="476" y="629"/>
                  </a:lnTo>
                  <a:lnTo>
                    <a:pt x="482" y="629"/>
                  </a:lnTo>
                  <a:lnTo>
                    <a:pt x="489" y="629"/>
                  </a:lnTo>
                  <a:lnTo>
                    <a:pt x="494" y="626"/>
                  </a:lnTo>
                  <a:lnTo>
                    <a:pt x="496" y="723"/>
                  </a:lnTo>
                  <a:lnTo>
                    <a:pt x="514" y="722"/>
                  </a:lnTo>
                  <a:lnTo>
                    <a:pt x="514" y="697"/>
                  </a:lnTo>
                  <a:lnTo>
                    <a:pt x="514" y="675"/>
                  </a:lnTo>
                  <a:lnTo>
                    <a:pt x="514" y="651"/>
                  </a:lnTo>
                  <a:lnTo>
                    <a:pt x="515" y="626"/>
                  </a:lnTo>
                  <a:lnTo>
                    <a:pt x="595" y="626"/>
                  </a:lnTo>
                  <a:lnTo>
                    <a:pt x="593" y="649"/>
                  </a:lnTo>
                  <a:lnTo>
                    <a:pt x="589" y="672"/>
                  </a:lnTo>
                  <a:lnTo>
                    <a:pt x="585" y="695"/>
                  </a:lnTo>
                  <a:lnTo>
                    <a:pt x="580" y="718"/>
                  </a:lnTo>
                  <a:lnTo>
                    <a:pt x="598" y="718"/>
                  </a:lnTo>
                  <a:lnTo>
                    <a:pt x="603" y="695"/>
                  </a:lnTo>
                  <a:lnTo>
                    <a:pt x="608" y="672"/>
                  </a:lnTo>
                  <a:lnTo>
                    <a:pt x="612" y="649"/>
                  </a:lnTo>
                  <a:lnTo>
                    <a:pt x="617" y="626"/>
                  </a:lnTo>
                  <a:lnTo>
                    <a:pt x="628" y="625"/>
                  </a:lnTo>
                  <a:lnTo>
                    <a:pt x="637" y="625"/>
                  </a:lnTo>
                  <a:lnTo>
                    <a:pt x="647" y="628"/>
                  </a:lnTo>
                  <a:lnTo>
                    <a:pt x="656" y="630"/>
                  </a:lnTo>
                  <a:lnTo>
                    <a:pt x="664" y="634"/>
                  </a:lnTo>
                  <a:lnTo>
                    <a:pt x="673" y="638"/>
                  </a:lnTo>
                  <a:lnTo>
                    <a:pt x="682" y="640"/>
                  </a:lnTo>
                  <a:lnTo>
                    <a:pt x="692" y="642"/>
                  </a:lnTo>
                  <a:lnTo>
                    <a:pt x="686" y="662"/>
                  </a:lnTo>
                  <a:lnTo>
                    <a:pt x="678" y="684"/>
                  </a:lnTo>
                  <a:lnTo>
                    <a:pt x="670" y="704"/>
                  </a:lnTo>
                  <a:lnTo>
                    <a:pt x="663" y="724"/>
                  </a:lnTo>
                  <a:lnTo>
                    <a:pt x="678" y="727"/>
                  </a:lnTo>
                  <a:lnTo>
                    <a:pt x="710" y="651"/>
                  </a:lnTo>
                  <a:lnTo>
                    <a:pt x="716" y="654"/>
                  </a:lnTo>
                  <a:lnTo>
                    <a:pt x="721" y="659"/>
                  </a:lnTo>
                  <a:lnTo>
                    <a:pt x="727" y="663"/>
                  </a:lnTo>
                  <a:lnTo>
                    <a:pt x="734" y="667"/>
                  </a:lnTo>
                  <a:lnTo>
                    <a:pt x="740" y="671"/>
                  </a:lnTo>
                  <a:lnTo>
                    <a:pt x="747" y="675"/>
                  </a:lnTo>
                  <a:lnTo>
                    <a:pt x="752" y="680"/>
                  </a:lnTo>
                  <a:lnTo>
                    <a:pt x="758" y="684"/>
                  </a:lnTo>
                  <a:lnTo>
                    <a:pt x="752" y="696"/>
                  </a:lnTo>
                  <a:lnTo>
                    <a:pt x="744" y="708"/>
                  </a:lnTo>
                  <a:lnTo>
                    <a:pt x="736" y="720"/>
                  </a:lnTo>
                  <a:lnTo>
                    <a:pt x="729" y="733"/>
                  </a:lnTo>
                  <a:lnTo>
                    <a:pt x="745" y="735"/>
                  </a:lnTo>
                  <a:lnTo>
                    <a:pt x="750" y="725"/>
                  </a:lnTo>
                  <a:lnTo>
                    <a:pt x="757" y="715"/>
                  </a:lnTo>
                  <a:lnTo>
                    <a:pt x="762" y="705"/>
                  </a:lnTo>
                  <a:lnTo>
                    <a:pt x="767" y="695"/>
                  </a:lnTo>
                  <a:lnTo>
                    <a:pt x="775" y="699"/>
                  </a:lnTo>
                  <a:lnTo>
                    <a:pt x="782" y="705"/>
                  </a:lnTo>
                  <a:lnTo>
                    <a:pt x="787" y="713"/>
                  </a:lnTo>
                  <a:lnTo>
                    <a:pt x="792" y="720"/>
                  </a:lnTo>
                  <a:lnTo>
                    <a:pt x="781" y="733"/>
                  </a:lnTo>
                  <a:lnTo>
                    <a:pt x="769" y="747"/>
                  </a:lnTo>
                  <a:lnTo>
                    <a:pt x="758" y="761"/>
                  </a:lnTo>
                  <a:lnTo>
                    <a:pt x="745" y="775"/>
                  </a:lnTo>
                  <a:lnTo>
                    <a:pt x="733" y="789"/>
                  </a:lnTo>
                  <a:lnTo>
                    <a:pt x="719" y="803"/>
                  </a:lnTo>
                  <a:lnTo>
                    <a:pt x="706" y="815"/>
                  </a:lnTo>
                  <a:lnTo>
                    <a:pt x="692" y="827"/>
                  </a:lnTo>
                  <a:lnTo>
                    <a:pt x="698" y="815"/>
                  </a:lnTo>
                  <a:lnTo>
                    <a:pt x="705" y="804"/>
                  </a:lnTo>
                  <a:lnTo>
                    <a:pt x="711" y="792"/>
                  </a:lnTo>
                  <a:lnTo>
                    <a:pt x="717" y="781"/>
                  </a:lnTo>
                  <a:lnTo>
                    <a:pt x="725" y="770"/>
                  </a:lnTo>
                  <a:lnTo>
                    <a:pt x="731" y="758"/>
                  </a:lnTo>
                  <a:lnTo>
                    <a:pt x="739" y="747"/>
                  </a:lnTo>
                  <a:lnTo>
                    <a:pt x="745" y="735"/>
                  </a:lnTo>
                  <a:lnTo>
                    <a:pt x="729" y="733"/>
                  </a:lnTo>
                  <a:lnTo>
                    <a:pt x="721" y="746"/>
                  </a:lnTo>
                  <a:lnTo>
                    <a:pt x="712" y="758"/>
                  </a:lnTo>
                  <a:lnTo>
                    <a:pt x="705" y="771"/>
                  </a:lnTo>
                  <a:lnTo>
                    <a:pt x="697" y="784"/>
                  </a:lnTo>
                  <a:lnTo>
                    <a:pt x="691" y="798"/>
                  </a:lnTo>
                  <a:lnTo>
                    <a:pt x="684" y="810"/>
                  </a:lnTo>
                  <a:lnTo>
                    <a:pt x="678" y="823"/>
                  </a:lnTo>
                  <a:lnTo>
                    <a:pt x="673" y="836"/>
                  </a:lnTo>
                  <a:lnTo>
                    <a:pt x="679" y="836"/>
                  </a:lnTo>
                  <a:lnTo>
                    <a:pt x="604" y="908"/>
                  </a:lnTo>
                  <a:lnTo>
                    <a:pt x="678" y="727"/>
                  </a:lnTo>
                  <a:lnTo>
                    <a:pt x="663" y="724"/>
                  </a:lnTo>
                  <a:lnTo>
                    <a:pt x="654" y="747"/>
                  </a:lnTo>
                  <a:lnTo>
                    <a:pt x="644" y="770"/>
                  </a:lnTo>
                  <a:lnTo>
                    <a:pt x="635" y="792"/>
                  </a:lnTo>
                  <a:lnTo>
                    <a:pt x="625" y="814"/>
                  </a:lnTo>
                  <a:lnTo>
                    <a:pt x="616" y="837"/>
                  </a:lnTo>
                  <a:lnTo>
                    <a:pt x="605" y="860"/>
                  </a:lnTo>
                  <a:lnTo>
                    <a:pt x="597" y="881"/>
                  </a:lnTo>
                  <a:lnTo>
                    <a:pt x="588" y="904"/>
                  </a:lnTo>
                  <a:lnTo>
                    <a:pt x="589" y="913"/>
                  </a:lnTo>
                  <a:lnTo>
                    <a:pt x="586" y="920"/>
                  </a:lnTo>
                  <a:lnTo>
                    <a:pt x="581" y="928"/>
                  </a:lnTo>
                  <a:lnTo>
                    <a:pt x="576" y="934"/>
                  </a:lnTo>
                  <a:lnTo>
                    <a:pt x="569" y="941"/>
                  </a:lnTo>
                  <a:lnTo>
                    <a:pt x="561" y="947"/>
                  </a:lnTo>
                  <a:lnTo>
                    <a:pt x="553" y="955"/>
                  </a:lnTo>
                  <a:lnTo>
                    <a:pt x="548" y="961"/>
                  </a:lnTo>
                  <a:lnTo>
                    <a:pt x="553" y="931"/>
                  </a:lnTo>
                  <a:lnTo>
                    <a:pt x="560" y="900"/>
                  </a:lnTo>
                  <a:lnTo>
                    <a:pt x="565" y="870"/>
                  </a:lnTo>
                  <a:lnTo>
                    <a:pt x="571" y="839"/>
                  </a:lnTo>
                  <a:lnTo>
                    <a:pt x="577" y="809"/>
                  </a:lnTo>
                  <a:lnTo>
                    <a:pt x="585" y="779"/>
                  </a:lnTo>
                  <a:lnTo>
                    <a:pt x="591" y="748"/>
                  </a:lnTo>
                  <a:lnTo>
                    <a:pt x="598" y="718"/>
                  </a:lnTo>
                  <a:lnTo>
                    <a:pt x="580" y="718"/>
                  </a:lnTo>
                  <a:lnTo>
                    <a:pt x="574" y="749"/>
                  </a:lnTo>
                  <a:lnTo>
                    <a:pt x="566" y="782"/>
                  </a:lnTo>
                  <a:lnTo>
                    <a:pt x="560" y="814"/>
                  </a:lnTo>
                  <a:lnTo>
                    <a:pt x="553" y="846"/>
                  </a:lnTo>
                  <a:lnTo>
                    <a:pt x="547" y="879"/>
                  </a:lnTo>
                  <a:lnTo>
                    <a:pt x="542" y="910"/>
                  </a:lnTo>
                  <a:lnTo>
                    <a:pt x="538" y="942"/>
                  </a:lnTo>
                  <a:lnTo>
                    <a:pt x="536" y="974"/>
                  </a:lnTo>
                  <a:lnTo>
                    <a:pt x="532" y="976"/>
                  </a:lnTo>
                  <a:lnTo>
                    <a:pt x="529" y="980"/>
                  </a:lnTo>
                  <a:lnTo>
                    <a:pt x="527" y="983"/>
                  </a:lnTo>
                  <a:lnTo>
                    <a:pt x="522" y="983"/>
                  </a:lnTo>
                  <a:lnTo>
                    <a:pt x="519" y="914"/>
                  </a:lnTo>
                  <a:lnTo>
                    <a:pt x="518" y="848"/>
                  </a:lnTo>
                  <a:lnTo>
                    <a:pt x="515" y="785"/>
                  </a:lnTo>
                  <a:lnTo>
                    <a:pt x="514" y="722"/>
                  </a:lnTo>
                  <a:lnTo>
                    <a:pt x="496" y="723"/>
                  </a:lnTo>
                  <a:lnTo>
                    <a:pt x="504" y="979"/>
                  </a:lnTo>
                  <a:lnTo>
                    <a:pt x="497" y="948"/>
                  </a:lnTo>
                  <a:lnTo>
                    <a:pt x="491" y="917"/>
                  </a:lnTo>
                  <a:lnTo>
                    <a:pt x="486" y="886"/>
                  </a:lnTo>
                  <a:lnTo>
                    <a:pt x="481" y="855"/>
                  </a:lnTo>
                  <a:lnTo>
                    <a:pt x="476" y="823"/>
                  </a:lnTo>
                  <a:lnTo>
                    <a:pt x="471" y="792"/>
                  </a:lnTo>
                  <a:lnTo>
                    <a:pt x="466" y="761"/>
                  </a:lnTo>
                  <a:lnTo>
                    <a:pt x="461" y="729"/>
                  </a:lnTo>
                  <a:lnTo>
                    <a:pt x="445" y="733"/>
                  </a:lnTo>
                  <a:lnTo>
                    <a:pt x="476" y="910"/>
                  </a:lnTo>
                  <a:lnTo>
                    <a:pt x="414" y="744"/>
                  </a:lnTo>
                  <a:lnTo>
                    <a:pt x="401" y="751"/>
                  </a:lnTo>
                  <a:lnTo>
                    <a:pt x="485" y="990"/>
                  </a:lnTo>
                  <a:lnTo>
                    <a:pt x="364" y="780"/>
                  </a:lnTo>
                  <a:lnTo>
                    <a:pt x="354" y="792"/>
                  </a:lnTo>
                  <a:lnTo>
                    <a:pt x="482" y="1021"/>
                  </a:lnTo>
                  <a:lnTo>
                    <a:pt x="476" y="1027"/>
                  </a:lnTo>
                  <a:lnTo>
                    <a:pt x="319" y="824"/>
                  </a:lnTo>
                  <a:lnTo>
                    <a:pt x="305" y="828"/>
                  </a:lnTo>
                  <a:lnTo>
                    <a:pt x="438" y="999"/>
                  </a:lnTo>
                  <a:lnTo>
                    <a:pt x="279" y="847"/>
                  </a:lnTo>
                  <a:lnTo>
                    <a:pt x="272" y="865"/>
                  </a:lnTo>
                  <a:lnTo>
                    <a:pt x="293" y="885"/>
                  </a:lnTo>
                  <a:lnTo>
                    <a:pt x="313" y="905"/>
                  </a:lnTo>
                  <a:lnTo>
                    <a:pt x="333" y="924"/>
                  </a:lnTo>
                  <a:lnTo>
                    <a:pt x="354" y="945"/>
                  </a:lnTo>
                  <a:lnTo>
                    <a:pt x="375" y="965"/>
                  </a:lnTo>
                  <a:lnTo>
                    <a:pt x="396" y="985"/>
                  </a:lnTo>
                  <a:lnTo>
                    <a:pt x="417" y="1005"/>
                  </a:lnTo>
                  <a:lnTo>
                    <a:pt x="438" y="1027"/>
                  </a:lnTo>
                  <a:lnTo>
                    <a:pt x="415" y="1012"/>
                  </a:lnTo>
                  <a:lnTo>
                    <a:pt x="393" y="997"/>
                  </a:lnTo>
                  <a:lnTo>
                    <a:pt x="370" y="981"/>
                  </a:lnTo>
                  <a:lnTo>
                    <a:pt x="349" y="965"/>
                  </a:lnTo>
                  <a:lnTo>
                    <a:pt x="326" y="948"/>
                  </a:lnTo>
                  <a:lnTo>
                    <a:pt x="303" y="932"/>
                  </a:lnTo>
                  <a:lnTo>
                    <a:pt x="281" y="914"/>
                  </a:lnTo>
                  <a:lnTo>
                    <a:pt x="258" y="898"/>
                  </a:lnTo>
                  <a:lnTo>
                    <a:pt x="255" y="910"/>
                  </a:lnTo>
                  <a:lnTo>
                    <a:pt x="277" y="928"/>
                  </a:lnTo>
                  <a:lnTo>
                    <a:pt x="302" y="945"/>
                  </a:lnTo>
                  <a:lnTo>
                    <a:pt x="325" y="962"/>
                  </a:lnTo>
                  <a:lnTo>
                    <a:pt x="347" y="979"/>
                  </a:lnTo>
                  <a:lnTo>
                    <a:pt x="370" y="997"/>
                  </a:lnTo>
                  <a:lnTo>
                    <a:pt x="393" y="1014"/>
                  </a:lnTo>
                  <a:lnTo>
                    <a:pt x="417" y="1031"/>
                  </a:lnTo>
                  <a:lnTo>
                    <a:pt x="440" y="1048"/>
                  </a:lnTo>
                  <a:lnTo>
                    <a:pt x="443" y="1046"/>
                  </a:lnTo>
                  <a:lnTo>
                    <a:pt x="444" y="1042"/>
                  </a:lnTo>
                  <a:lnTo>
                    <a:pt x="444" y="1040"/>
                  </a:lnTo>
                  <a:lnTo>
                    <a:pt x="444" y="1036"/>
                  </a:lnTo>
                  <a:lnTo>
                    <a:pt x="453" y="1045"/>
                  </a:lnTo>
                  <a:lnTo>
                    <a:pt x="449" y="1050"/>
                  </a:lnTo>
                  <a:lnTo>
                    <a:pt x="440" y="1050"/>
                  </a:lnTo>
                  <a:lnTo>
                    <a:pt x="433" y="1051"/>
                  </a:lnTo>
                  <a:lnTo>
                    <a:pt x="429" y="1059"/>
                  </a:lnTo>
                  <a:lnTo>
                    <a:pt x="405" y="1059"/>
                  </a:lnTo>
                  <a:lnTo>
                    <a:pt x="384" y="1050"/>
                  </a:lnTo>
                  <a:lnTo>
                    <a:pt x="364" y="1041"/>
                  </a:lnTo>
                  <a:lnTo>
                    <a:pt x="344" y="1033"/>
                  </a:lnTo>
                  <a:lnTo>
                    <a:pt x="322" y="1024"/>
                  </a:lnTo>
                  <a:lnTo>
                    <a:pt x="302" y="1018"/>
                  </a:lnTo>
                  <a:lnTo>
                    <a:pt x="280" y="1010"/>
                  </a:lnTo>
                  <a:lnTo>
                    <a:pt x="260" y="1003"/>
                  </a:lnTo>
                  <a:lnTo>
                    <a:pt x="238" y="995"/>
                  </a:lnTo>
                  <a:lnTo>
                    <a:pt x="238" y="1007"/>
                  </a:lnTo>
                  <a:lnTo>
                    <a:pt x="260" y="1014"/>
                  </a:lnTo>
                  <a:lnTo>
                    <a:pt x="281" y="1023"/>
                  </a:lnTo>
                  <a:lnTo>
                    <a:pt x="303" y="1032"/>
                  </a:lnTo>
                  <a:lnTo>
                    <a:pt x="325" y="1040"/>
                  </a:lnTo>
                  <a:lnTo>
                    <a:pt x="346" y="1048"/>
                  </a:lnTo>
                  <a:lnTo>
                    <a:pt x="366" y="1057"/>
                  </a:lnTo>
                  <a:lnTo>
                    <a:pt x="388" y="1066"/>
                  </a:lnTo>
                  <a:lnTo>
                    <a:pt x="410" y="1074"/>
                  </a:lnTo>
                  <a:lnTo>
                    <a:pt x="407" y="1090"/>
                  </a:lnTo>
                  <a:lnTo>
                    <a:pt x="401" y="1102"/>
                  </a:lnTo>
                  <a:lnTo>
                    <a:pt x="392" y="1111"/>
                  </a:lnTo>
                  <a:lnTo>
                    <a:pt x="380" y="1116"/>
                  </a:lnTo>
                  <a:lnTo>
                    <a:pt x="368" y="1119"/>
                  </a:lnTo>
                  <a:lnTo>
                    <a:pt x="355" y="1125"/>
                  </a:lnTo>
                  <a:lnTo>
                    <a:pt x="342" y="1130"/>
                  </a:lnTo>
                  <a:lnTo>
                    <a:pt x="330" y="1137"/>
                  </a:lnTo>
                  <a:lnTo>
                    <a:pt x="241" y="1147"/>
                  </a:lnTo>
                  <a:lnTo>
                    <a:pt x="248" y="1160"/>
                  </a:lnTo>
                  <a:lnTo>
                    <a:pt x="255" y="1160"/>
                  </a:lnTo>
                  <a:lnTo>
                    <a:pt x="261" y="1159"/>
                  </a:lnTo>
                  <a:lnTo>
                    <a:pt x="267" y="1159"/>
                  </a:lnTo>
                  <a:lnTo>
                    <a:pt x="274" y="1157"/>
                  </a:lnTo>
                  <a:lnTo>
                    <a:pt x="280" y="1156"/>
                  </a:lnTo>
                  <a:lnTo>
                    <a:pt x="286" y="1156"/>
                  </a:lnTo>
                  <a:lnTo>
                    <a:pt x="293" y="1155"/>
                  </a:lnTo>
                  <a:lnTo>
                    <a:pt x="299" y="1155"/>
                  </a:lnTo>
                  <a:lnTo>
                    <a:pt x="294" y="1157"/>
                  </a:lnTo>
                  <a:lnTo>
                    <a:pt x="289" y="1160"/>
                  </a:lnTo>
                  <a:lnTo>
                    <a:pt x="284" y="1164"/>
                  </a:lnTo>
                  <a:lnTo>
                    <a:pt x="279" y="1166"/>
                  </a:lnTo>
                  <a:lnTo>
                    <a:pt x="272" y="1169"/>
                  </a:lnTo>
                  <a:lnTo>
                    <a:pt x="267" y="1171"/>
                  </a:lnTo>
                  <a:lnTo>
                    <a:pt x="262" y="1175"/>
                  </a:lnTo>
                  <a:lnTo>
                    <a:pt x="257" y="1178"/>
                  </a:lnTo>
                  <a:lnTo>
                    <a:pt x="264" y="1190"/>
                  </a:lnTo>
                  <a:lnTo>
                    <a:pt x="274" y="1185"/>
                  </a:lnTo>
                  <a:lnTo>
                    <a:pt x="283" y="1180"/>
                  </a:lnTo>
                  <a:lnTo>
                    <a:pt x="293" y="1175"/>
                  </a:lnTo>
                  <a:lnTo>
                    <a:pt x="303" y="1169"/>
                  </a:lnTo>
                  <a:lnTo>
                    <a:pt x="312" y="1164"/>
                  </a:lnTo>
                  <a:lnTo>
                    <a:pt x="322" y="1159"/>
                  </a:lnTo>
                  <a:lnTo>
                    <a:pt x="332" y="1154"/>
                  </a:lnTo>
                  <a:lnTo>
                    <a:pt x="342" y="1149"/>
                  </a:lnTo>
                  <a:lnTo>
                    <a:pt x="347" y="1149"/>
                  </a:lnTo>
                  <a:lnTo>
                    <a:pt x="354" y="1149"/>
                  </a:lnTo>
                  <a:lnTo>
                    <a:pt x="359" y="1149"/>
                  </a:lnTo>
                  <a:lnTo>
                    <a:pt x="365" y="1147"/>
                  </a:lnTo>
                  <a:lnTo>
                    <a:pt x="370" y="1146"/>
                  </a:lnTo>
                  <a:lnTo>
                    <a:pt x="375" y="1145"/>
                  </a:lnTo>
                  <a:lnTo>
                    <a:pt x="382" y="1144"/>
                  </a:lnTo>
                  <a:lnTo>
                    <a:pt x="387" y="1142"/>
                  </a:lnTo>
                  <a:lnTo>
                    <a:pt x="389" y="1146"/>
                  </a:lnTo>
                  <a:lnTo>
                    <a:pt x="391" y="1151"/>
                  </a:lnTo>
                  <a:lnTo>
                    <a:pt x="389" y="1156"/>
                  </a:lnTo>
                  <a:lnTo>
                    <a:pt x="389" y="1161"/>
                  </a:lnTo>
                  <a:lnTo>
                    <a:pt x="375" y="1168"/>
                  </a:lnTo>
                  <a:lnTo>
                    <a:pt x="363" y="1175"/>
                  </a:lnTo>
                  <a:lnTo>
                    <a:pt x="349" y="1182"/>
                  </a:lnTo>
                  <a:lnTo>
                    <a:pt x="336" y="1190"/>
                  </a:lnTo>
                  <a:lnTo>
                    <a:pt x="322" y="1198"/>
                  </a:lnTo>
                  <a:lnTo>
                    <a:pt x="309" y="1207"/>
                  </a:lnTo>
                  <a:lnTo>
                    <a:pt x="295" y="1214"/>
                  </a:lnTo>
                  <a:lnTo>
                    <a:pt x="283" y="1223"/>
                  </a:lnTo>
                  <a:lnTo>
                    <a:pt x="293" y="1235"/>
                  </a:lnTo>
                  <a:lnTo>
                    <a:pt x="354" y="1197"/>
                  </a:lnTo>
                  <a:lnTo>
                    <a:pt x="347" y="1203"/>
                  </a:lnTo>
                  <a:lnTo>
                    <a:pt x="341" y="1209"/>
                  </a:lnTo>
                  <a:lnTo>
                    <a:pt x="335" y="1216"/>
                  </a:lnTo>
                  <a:lnTo>
                    <a:pt x="328" y="1222"/>
                  </a:lnTo>
                  <a:lnTo>
                    <a:pt x="323" y="1228"/>
                  </a:lnTo>
                  <a:lnTo>
                    <a:pt x="317" y="1236"/>
                  </a:lnTo>
                  <a:lnTo>
                    <a:pt x="312" y="1242"/>
                  </a:lnTo>
                  <a:lnTo>
                    <a:pt x="307" y="1249"/>
                  </a:lnTo>
                  <a:lnTo>
                    <a:pt x="316" y="1259"/>
                  </a:lnTo>
                  <a:lnTo>
                    <a:pt x="326" y="1249"/>
                  </a:lnTo>
                  <a:lnTo>
                    <a:pt x="335" y="1237"/>
                  </a:lnTo>
                  <a:lnTo>
                    <a:pt x="345" y="1227"/>
                  </a:lnTo>
                  <a:lnTo>
                    <a:pt x="354" y="1217"/>
                  </a:lnTo>
                  <a:lnTo>
                    <a:pt x="364" y="1206"/>
                  </a:lnTo>
                  <a:lnTo>
                    <a:pt x="373" y="1195"/>
                  </a:lnTo>
                  <a:lnTo>
                    <a:pt x="383" y="1184"/>
                  </a:lnTo>
                  <a:lnTo>
                    <a:pt x="393" y="1173"/>
                  </a:lnTo>
                  <a:lnTo>
                    <a:pt x="425" y="1217"/>
                  </a:lnTo>
                  <a:lnTo>
                    <a:pt x="417" y="1228"/>
                  </a:lnTo>
                  <a:lnTo>
                    <a:pt x="410" y="1239"/>
                  </a:lnTo>
                  <a:lnTo>
                    <a:pt x="402" y="1250"/>
                  </a:lnTo>
                  <a:lnTo>
                    <a:pt x="394" y="1261"/>
                  </a:lnTo>
                  <a:lnTo>
                    <a:pt x="387" y="1273"/>
                  </a:lnTo>
                  <a:lnTo>
                    <a:pt x="379" y="1284"/>
                  </a:lnTo>
                  <a:lnTo>
                    <a:pt x="372" y="1297"/>
                  </a:lnTo>
                  <a:lnTo>
                    <a:pt x="364" y="1308"/>
                  </a:lnTo>
                  <a:lnTo>
                    <a:pt x="374" y="1320"/>
                  </a:lnTo>
                  <a:lnTo>
                    <a:pt x="383" y="1307"/>
                  </a:lnTo>
                  <a:lnTo>
                    <a:pt x="391" y="1296"/>
                  </a:lnTo>
                  <a:lnTo>
                    <a:pt x="400" y="1283"/>
                  </a:lnTo>
                  <a:lnTo>
                    <a:pt x="408" y="1270"/>
                  </a:lnTo>
                  <a:lnTo>
                    <a:pt x="416" y="1259"/>
                  </a:lnTo>
                  <a:lnTo>
                    <a:pt x="424" y="1246"/>
                  </a:lnTo>
                  <a:lnTo>
                    <a:pt x="431" y="1234"/>
                  </a:lnTo>
                  <a:lnTo>
                    <a:pt x="438" y="1221"/>
                  </a:lnTo>
                  <a:lnTo>
                    <a:pt x="452" y="1227"/>
                  </a:lnTo>
                  <a:lnTo>
                    <a:pt x="458" y="1237"/>
                  </a:lnTo>
                  <a:lnTo>
                    <a:pt x="461" y="1249"/>
                  </a:lnTo>
                  <a:lnTo>
                    <a:pt x="461" y="1264"/>
                  </a:lnTo>
                  <a:lnTo>
                    <a:pt x="457" y="1279"/>
                  </a:lnTo>
                  <a:lnTo>
                    <a:pt x="453" y="1294"/>
                  </a:lnTo>
                  <a:lnTo>
                    <a:pt x="450" y="1310"/>
                  </a:lnTo>
                  <a:lnTo>
                    <a:pt x="449" y="1323"/>
                  </a:lnTo>
                  <a:lnTo>
                    <a:pt x="440" y="1334"/>
                  </a:lnTo>
                  <a:lnTo>
                    <a:pt x="433" y="1342"/>
                  </a:lnTo>
                  <a:lnTo>
                    <a:pt x="425" y="1353"/>
                  </a:lnTo>
                  <a:lnTo>
                    <a:pt x="419" y="1363"/>
                  </a:lnTo>
                  <a:lnTo>
                    <a:pt x="430" y="1374"/>
                  </a:lnTo>
                  <a:lnTo>
                    <a:pt x="449" y="1341"/>
                  </a:lnTo>
                  <a:lnTo>
                    <a:pt x="441" y="1386"/>
                  </a:lnTo>
                  <a:lnTo>
                    <a:pt x="453" y="1397"/>
                  </a:lnTo>
                  <a:lnTo>
                    <a:pt x="455" y="1375"/>
                  </a:lnTo>
                  <a:lnTo>
                    <a:pt x="459" y="1354"/>
                  </a:lnTo>
                  <a:lnTo>
                    <a:pt x="463" y="1332"/>
                  </a:lnTo>
                  <a:lnTo>
                    <a:pt x="469" y="1312"/>
                  </a:lnTo>
                  <a:lnTo>
                    <a:pt x="477" y="1293"/>
                  </a:lnTo>
                  <a:lnTo>
                    <a:pt x="486" y="1274"/>
                  </a:lnTo>
                  <a:lnTo>
                    <a:pt x="499" y="1258"/>
                  </a:lnTo>
                  <a:lnTo>
                    <a:pt x="515" y="1241"/>
                  </a:lnTo>
                  <a:lnTo>
                    <a:pt x="494" y="1241"/>
                  </a:lnTo>
                  <a:lnTo>
                    <a:pt x="469" y="1279"/>
                  </a:lnTo>
                  <a:lnTo>
                    <a:pt x="476" y="1237"/>
                  </a:lnTo>
                  <a:lnTo>
                    <a:pt x="494" y="1241"/>
                  </a:lnTo>
                  <a:lnTo>
                    <a:pt x="515" y="1241"/>
                  </a:lnTo>
                  <a:lnTo>
                    <a:pt x="530" y="1246"/>
                  </a:lnTo>
                  <a:lnTo>
                    <a:pt x="530" y="1292"/>
                  </a:lnTo>
                  <a:lnTo>
                    <a:pt x="533" y="1336"/>
                  </a:lnTo>
                  <a:lnTo>
                    <a:pt x="537" y="1379"/>
                  </a:lnTo>
                  <a:lnTo>
                    <a:pt x="542" y="1424"/>
                  </a:lnTo>
                  <a:lnTo>
                    <a:pt x="556" y="1424"/>
                  </a:lnTo>
                  <a:lnTo>
                    <a:pt x="551" y="1381"/>
                  </a:lnTo>
                  <a:lnTo>
                    <a:pt x="548" y="1337"/>
                  </a:lnTo>
                  <a:lnTo>
                    <a:pt x="546" y="1294"/>
                  </a:lnTo>
                  <a:lnTo>
                    <a:pt x="544" y="1250"/>
                  </a:lnTo>
                  <a:lnTo>
                    <a:pt x="567" y="1246"/>
                  </a:lnTo>
                  <a:lnTo>
                    <a:pt x="581" y="1250"/>
                  </a:lnTo>
                  <a:lnTo>
                    <a:pt x="589" y="1261"/>
                  </a:lnTo>
                  <a:lnTo>
                    <a:pt x="591" y="1278"/>
                  </a:lnTo>
                  <a:lnTo>
                    <a:pt x="593" y="1296"/>
                  </a:lnTo>
                  <a:lnTo>
                    <a:pt x="594" y="1315"/>
                  </a:lnTo>
                  <a:lnTo>
                    <a:pt x="597" y="1331"/>
                  </a:lnTo>
                  <a:lnTo>
                    <a:pt x="604" y="1345"/>
                  </a:lnTo>
                  <a:lnTo>
                    <a:pt x="625" y="1422"/>
                  </a:lnTo>
                  <a:lnTo>
                    <a:pt x="641" y="1422"/>
                  </a:lnTo>
                  <a:lnTo>
                    <a:pt x="632" y="1387"/>
                  </a:lnTo>
                  <a:lnTo>
                    <a:pt x="623" y="1351"/>
                  </a:lnTo>
                  <a:lnTo>
                    <a:pt x="613" y="1316"/>
                  </a:lnTo>
                  <a:lnTo>
                    <a:pt x="604" y="1282"/>
                  </a:lnTo>
                  <a:lnTo>
                    <a:pt x="613" y="1298"/>
                  </a:lnTo>
                  <a:lnTo>
                    <a:pt x="621" y="1315"/>
                  </a:lnTo>
                  <a:lnTo>
                    <a:pt x="628" y="1331"/>
                  </a:lnTo>
                  <a:lnTo>
                    <a:pt x="637" y="1348"/>
                  </a:lnTo>
                  <a:lnTo>
                    <a:pt x="645" y="1365"/>
                  </a:lnTo>
                  <a:lnTo>
                    <a:pt x="652" y="1382"/>
                  </a:lnTo>
                  <a:lnTo>
                    <a:pt x="660" y="1398"/>
                  </a:lnTo>
                  <a:lnTo>
                    <a:pt x="669" y="1415"/>
                  </a:lnTo>
                  <a:lnTo>
                    <a:pt x="682" y="1410"/>
                  </a:lnTo>
                  <a:lnTo>
                    <a:pt x="608" y="1256"/>
                  </a:lnTo>
                  <a:lnTo>
                    <a:pt x="614" y="1255"/>
                  </a:lnTo>
                  <a:lnTo>
                    <a:pt x="623" y="1254"/>
                  </a:lnTo>
                  <a:lnTo>
                    <a:pt x="633" y="1253"/>
                  </a:lnTo>
                  <a:lnTo>
                    <a:pt x="644" y="1253"/>
                  </a:lnTo>
                  <a:lnTo>
                    <a:pt x="654" y="1255"/>
                  </a:lnTo>
                  <a:lnTo>
                    <a:pt x="661" y="1259"/>
                  </a:lnTo>
                  <a:lnTo>
                    <a:pt x="668" y="1265"/>
                  </a:lnTo>
                  <a:lnTo>
                    <a:pt x="670" y="1275"/>
                  </a:lnTo>
                  <a:lnTo>
                    <a:pt x="679" y="1288"/>
                  </a:lnTo>
                  <a:lnTo>
                    <a:pt x="688" y="1302"/>
                  </a:lnTo>
                  <a:lnTo>
                    <a:pt x="697" y="1316"/>
                  </a:lnTo>
                  <a:lnTo>
                    <a:pt x="706" y="1329"/>
                  </a:lnTo>
                  <a:lnTo>
                    <a:pt x="715" y="1342"/>
                  </a:lnTo>
                  <a:lnTo>
                    <a:pt x="722" y="1356"/>
                  </a:lnTo>
                  <a:lnTo>
                    <a:pt x="731" y="1370"/>
                  </a:lnTo>
                  <a:lnTo>
                    <a:pt x="740" y="1383"/>
                  </a:lnTo>
                  <a:lnTo>
                    <a:pt x="754" y="1377"/>
                  </a:lnTo>
                  <a:lnTo>
                    <a:pt x="677" y="1261"/>
                  </a:lnTo>
                  <a:lnTo>
                    <a:pt x="716" y="1261"/>
                  </a:lnTo>
                  <a:lnTo>
                    <a:pt x="726" y="1273"/>
                  </a:lnTo>
                  <a:lnTo>
                    <a:pt x="736" y="1284"/>
                  </a:lnTo>
                  <a:lnTo>
                    <a:pt x="748" y="1296"/>
                  </a:lnTo>
                  <a:lnTo>
                    <a:pt x="758" y="1306"/>
                  </a:lnTo>
                  <a:lnTo>
                    <a:pt x="768" y="1317"/>
                  </a:lnTo>
                  <a:lnTo>
                    <a:pt x="778" y="1327"/>
                  </a:lnTo>
                  <a:lnTo>
                    <a:pt x="789" y="1339"/>
                  </a:lnTo>
                  <a:lnTo>
                    <a:pt x="799" y="1350"/>
                  </a:lnTo>
                  <a:lnTo>
                    <a:pt x="804" y="1346"/>
                  </a:lnTo>
                  <a:lnTo>
                    <a:pt x="795" y="1336"/>
                  </a:lnTo>
                  <a:lnTo>
                    <a:pt x="787" y="1327"/>
                  </a:lnTo>
                  <a:lnTo>
                    <a:pt x="778" y="1317"/>
                  </a:lnTo>
                  <a:lnTo>
                    <a:pt x="771" y="1307"/>
                  </a:lnTo>
                  <a:lnTo>
                    <a:pt x="762" y="1297"/>
                  </a:lnTo>
                  <a:lnTo>
                    <a:pt x="754" y="1287"/>
                  </a:lnTo>
                  <a:lnTo>
                    <a:pt x="747" y="1277"/>
                  </a:lnTo>
                  <a:lnTo>
                    <a:pt x="739" y="1266"/>
                  </a:lnTo>
                  <a:lnTo>
                    <a:pt x="755" y="1263"/>
                  </a:lnTo>
                  <a:lnTo>
                    <a:pt x="772" y="1263"/>
                  </a:lnTo>
                  <a:lnTo>
                    <a:pt x="789" y="1265"/>
                  </a:lnTo>
                  <a:lnTo>
                    <a:pt x="805" y="1270"/>
                  </a:lnTo>
                  <a:lnTo>
                    <a:pt x="820" y="1278"/>
                  </a:lnTo>
                  <a:lnTo>
                    <a:pt x="837" y="1287"/>
                  </a:lnTo>
                  <a:lnTo>
                    <a:pt x="853" y="1296"/>
                  </a:lnTo>
                  <a:lnTo>
                    <a:pt x="869" y="1304"/>
                  </a:lnTo>
                  <a:lnTo>
                    <a:pt x="883" y="1296"/>
                  </a:lnTo>
                  <a:lnTo>
                    <a:pt x="877" y="1293"/>
                  </a:lnTo>
                  <a:lnTo>
                    <a:pt x="872" y="1289"/>
                  </a:lnTo>
                  <a:lnTo>
                    <a:pt x="866" y="1285"/>
                  </a:lnTo>
                  <a:lnTo>
                    <a:pt x="861" y="1282"/>
                  </a:lnTo>
                  <a:lnTo>
                    <a:pt x="856" y="1279"/>
                  </a:lnTo>
                  <a:lnTo>
                    <a:pt x="852" y="1277"/>
                  </a:lnTo>
                  <a:lnTo>
                    <a:pt x="847" y="1274"/>
                  </a:lnTo>
                  <a:lnTo>
                    <a:pt x="843" y="1273"/>
                  </a:lnTo>
                  <a:lnTo>
                    <a:pt x="916" y="1275"/>
                  </a:lnTo>
                  <a:lnTo>
                    <a:pt x="916" y="1282"/>
                  </a:lnTo>
                  <a:lnTo>
                    <a:pt x="914" y="1287"/>
                  </a:lnTo>
                  <a:lnTo>
                    <a:pt x="913" y="1291"/>
                  </a:lnTo>
                  <a:lnTo>
                    <a:pt x="912" y="1294"/>
                  </a:lnTo>
                  <a:lnTo>
                    <a:pt x="966" y="1313"/>
                  </a:lnTo>
                  <a:lnTo>
                    <a:pt x="970" y="1302"/>
                  </a:lnTo>
                  <a:lnTo>
                    <a:pt x="973" y="1292"/>
                  </a:lnTo>
                  <a:lnTo>
                    <a:pt x="978" y="1282"/>
                  </a:lnTo>
                  <a:lnTo>
                    <a:pt x="983" y="1274"/>
                  </a:lnTo>
                  <a:lnTo>
                    <a:pt x="991" y="1269"/>
                  </a:lnTo>
                  <a:lnTo>
                    <a:pt x="1000" y="1266"/>
                  </a:lnTo>
                  <a:lnTo>
                    <a:pt x="1012" y="1268"/>
                  </a:lnTo>
                  <a:lnTo>
                    <a:pt x="1029" y="1273"/>
                  </a:lnTo>
                  <a:lnTo>
                    <a:pt x="1050" y="1268"/>
                  </a:lnTo>
                  <a:lnTo>
                    <a:pt x="1066" y="1272"/>
                  </a:lnTo>
                  <a:lnTo>
                    <a:pt x="1076" y="1283"/>
                  </a:lnTo>
                  <a:lnTo>
                    <a:pt x="1083" y="1299"/>
                  </a:lnTo>
                  <a:lnTo>
                    <a:pt x="1088" y="1318"/>
                  </a:lnTo>
                  <a:lnTo>
                    <a:pt x="1092" y="1337"/>
                  </a:lnTo>
                  <a:lnTo>
                    <a:pt x="1099" y="1356"/>
                  </a:lnTo>
                  <a:lnTo>
                    <a:pt x="1106" y="1370"/>
                  </a:lnTo>
                  <a:lnTo>
                    <a:pt x="1099" y="1374"/>
                  </a:lnTo>
                  <a:lnTo>
                    <a:pt x="1090" y="1378"/>
                  </a:lnTo>
                  <a:lnTo>
                    <a:pt x="1081" y="1381"/>
                  </a:lnTo>
                  <a:lnTo>
                    <a:pt x="1072" y="1383"/>
                  </a:lnTo>
                  <a:lnTo>
                    <a:pt x="1063" y="1384"/>
                  </a:lnTo>
                  <a:lnTo>
                    <a:pt x="1054" y="1387"/>
                  </a:lnTo>
                  <a:lnTo>
                    <a:pt x="1044" y="1389"/>
                  </a:lnTo>
                  <a:lnTo>
                    <a:pt x="1035" y="1392"/>
                  </a:lnTo>
                  <a:lnTo>
                    <a:pt x="1036" y="1405"/>
                  </a:lnTo>
                  <a:lnTo>
                    <a:pt x="1034" y="1417"/>
                  </a:lnTo>
                  <a:lnTo>
                    <a:pt x="1033" y="1430"/>
                  </a:lnTo>
                  <a:lnTo>
                    <a:pt x="1038" y="1443"/>
                  </a:lnTo>
                  <a:lnTo>
                    <a:pt x="1179" y="1445"/>
                  </a:lnTo>
                  <a:lnTo>
                    <a:pt x="1189" y="1436"/>
                  </a:lnTo>
                  <a:lnTo>
                    <a:pt x="1198" y="1425"/>
                  </a:lnTo>
                  <a:lnTo>
                    <a:pt x="1204" y="1412"/>
                  </a:lnTo>
                  <a:lnTo>
                    <a:pt x="1207" y="1398"/>
                  </a:lnTo>
                  <a:lnTo>
                    <a:pt x="1189" y="1388"/>
                  </a:lnTo>
                  <a:lnTo>
                    <a:pt x="1175" y="1373"/>
                  </a:lnTo>
                  <a:lnTo>
                    <a:pt x="1163" y="1356"/>
                  </a:lnTo>
                  <a:lnTo>
                    <a:pt x="1156" y="1337"/>
                  </a:lnTo>
                  <a:lnTo>
                    <a:pt x="1148" y="1317"/>
                  </a:lnTo>
                  <a:lnTo>
                    <a:pt x="1142" y="1297"/>
                  </a:lnTo>
                  <a:lnTo>
                    <a:pt x="1136" y="1278"/>
                  </a:lnTo>
                  <a:lnTo>
                    <a:pt x="1128" y="1259"/>
                  </a:lnTo>
                  <a:lnTo>
                    <a:pt x="1136" y="1254"/>
                  </a:lnTo>
                  <a:lnTo>
                    <a:pt x="1143" y="1247"/>
                  </a:lnTo>
                  <a:lnTo>
                    <a:pt x="1150" y="1240"/>
                  </a:lnTo>
                  <a:lnTo>
                    <a:pt x="1156" y="1232"/>
                  </a:lnTo>
                  <a:lnTo>
                    <a:pt x="1161" y="1225"/>
                  </a:lnTo>
                  <a:lnTo>
                    <a:pt x="1165" y="1216"/>
                  </a:lnTo>
                  <a:lnTo>
                    <a:pt x="1169" y="1208"/>
                  </a:lnTo>
                  <a:lnTo>
                    <a:pt x="1172" y="1199"/>
                  </a:lnTo>
                  <a:lnTo>
                    <a:pt x="1170" y="1182"/>
                  </a:lnTo>
                  <a:lnTo>
                    <a:pt x="1170" y="1165"/>
                  </a:lnTo>
                  <a:lnTo>
                    <a:pt x="1172" y="1149"/>
                  </a:lnTo>
                  <a:lnTo>
                    <a:pt x="1177" y="1135"/>
                  </a:lnTo>
                  <a:lnTo>
                    <a:pt x="1147" y="1056"/>
                  </a:lnTo>
                  <a:lnTo>
                    <a:pt x="1141" y="1056"/>
                  </a:lnTo>
                  <a:lnTo>
                    <a:pt x="1132" y="1055"/>
                  </a:lnTo>
                  <a:lnTo>
                    <a:pt x="1124" y="1051"/>
                  </a:lnTo>
                  <a:lnTo>
                    <a:pt x="1122" y="1045"/>
                  </a:lnTo>
                  <a:lnTo>
                    <a:pt x="1125" y="1012"/>
                  </a:lnTo>
                  <a:lnTo>
                    <a:pt x="1615" y="482"/>
                  </a:lnTo>
                  <a:lnTo>
                    <a:pt x="1627" y="469"/>
                  </a:lnTo>
                  <a:lnTo>
                    <a:pt x="1645" y="505"/>
                  </a:lnTo>
                  <a:lnTo>
                    <a:pt x="1615" y="540"/>
                  </a:lnTo>
                  <a:lnTo>
                    <a:pt x="1584" y="576"/>
                  </a:lnTo>
                  <a:lnTo>
                    <a:pt x="1554" y="611"/>
                  </a:lnTo>
                  <a:lnTo>
                    <a:pt x="1523" y="645"/>
                  </a:lnTo>
                  <a:lnTo>
                    <a:pt x="1491" y="680"/>
                  </a:lnTo>
                  <a:lnTo>
                    <a:pt x="1461" y="714"/>
                  </a:lnTo>
                  <a:lnTo>
                    <a:pt x="1429" y="748"/>
                  </a:lnTo>
                  <a:lnTo>
                    <a:pt x="1399" y="782"/>
                  </a:lnTo>
                  <a:lnTo>
                    <a:pt x="1367" y="817"/>
                  </a:lnTo>
                  <a:lnTo>
                    <a:pt x="1336" y="851"/>
                  </a:lnTo>
                  <a:lnTo>
                    <a:pt x="1305" y="884"/>
                  </a:lnTo>
                  <a:lnTo>
                    <a:pt x="1273" y="918"/>
                  </a:lnTo>
                  <a:lnTo>
                    <a:pt x="1241" y="952"/>
                  </a:lnTo>
                  <a:lnTo>
                    <a:pt x="1211" y="986"/>
                  </a:lnTo>
                  <a:lnTo>
                    <a:pt x="1179" y="1022"/>
                  </a:lnTo>
                  <a:lnTo>
                    <a:pt x="1147" y="1056"/>
                  </a:lnTo>
                  <a:lnTo>
                    <a:pt x="1177" y="1135"/>
                  </a:lnTo>
                  <a:lnTo>
                    <a:pt x="1185" y="1119"/>
                  </a:lnTo>
                  <a:lnTo>
                    <a:pt x="1195" y="1106"/>
                  </a:lnTo>
                  <a:lnTo>
                    <a:pt x="1207" y="1093"/>
                  </a:lnTo>
                  <a:lnTo>
                    <a:pt x="1218" y="1080"/>
                  </a:lnTo>
                  <a:lnTo>
                    <a:pt x="1230" y="1067"/>
                  </a:lnTo>
                  <a:lnTo>
                    <a:pt x="1242" y="1055"/>
                  </a:lnTo>
                  <a:lnTo>
                    <a:pt x="1252" y="1042"/>
                  </a:lnTo>
                  <a:lnTo>
                    <a:pt x="1263" y="1029"/>
                  </a:lnTo>
                  <a:lnTo>
                    <a:pt x="1675" y="588"/>
                  </a:lnTo>
                  <a:lnTo>
                    <a:pt x="1681" y="604"/>
                  </a:lnTo>
                  <a:lnTo>
                    <a:pt x="1687" y="619"/>
                  </a:lnTo>
                  <a:lnTo>
                    <a:pt x="1692" y="634"/>
                  </a:lnTo>
                  <a:lnTo>
                    <a:pt x="1694" y="651"/>
                  </a:lnTo>
                  <a:lnTo>
                    <a:pt x="1694" y="661"/>
                  </a:lnTo>
                  <a:lnTo>
                    <a:pt x="1691" y="668"/>
                  </a:lnTo>
                  <a:lnTo>
                    <a:pt x="1686" y="675"/>
                  </a:lnTo>
                  <a:lnTo>
                    <a:pt x="1680" y="680"/>
                  </a:lnTo>
                  <a:lnTo>
                    <a:pt x="1672" y="685"/>
                  </a:lnTo>
                  <a:lnTo>
                    <a:pt x="1664" y="690"/>
                  </a:lnTo>
                  <a:lnTo>
                    <a:pt x="1657" y="695"/>
                  </a:lnTo>
                  <a:lnTo>
                    <a:pt x="1650" y="701"/>
                  </a:lnTo>
                  <a:lnTo>
                    <a:pt x="1630" y="729"/>
                  </a:lnTo>
                  <a:lnTo>
                    <a:pt x="1610" y="757"/>
                  </a:lnTo>
                  <a:lnTo>
                    <a:pt x="1591" y="785"/>
                  </a:lnTo>
                  <a:lnTo>
                    <a:pt x="1573" y="813"/>
                  </a:lnTo>
                  <a:lnTo>
                    <a:pt x="1556" y="842"/>
                  </a:lnTo>
                  <a:lnTo>
                    <a:pt x="1541" y="871"/>
                  </a:lnTo>
                  <a:lnTo>
                    <a:pt x="1527" y="901"/>
                  </a:lnTo>
                  <a:lnTo>
                    <a:pt x="1517" y="933"/>
                  </a:lnTo>
                  <a:lnTo>
                    <a:pt x="1507" y="975"/>
                  </a:lnTo>
                  <a:lnTo>
                    <a:pt x="1497" y="1021"/>
                  </a:lnTo>
                  <a:lnTo>
                    <a:pt x="1489" y="1067"/>
                  </a:lnTo>
                  <a:lnTo>
                    <a:pt x="1484" y="1116"/>
                  </a:lnTo>
                  <a:lnTo>
                    <a:pt x="1485" y="1163"/>
                  </a:lnTo>
                  <a:lnTo>
                    <a:pt x="1493" y="1208"/>
                  </a:lnTo>
                  <a:lnTo>
                    <a:pt x="1509" y="1247"/>
                  </a:lnTo>
                  <a:lnTo>
                    <a:pt x="1537" y="1282"/>
                  </a:lnTo>
                  <a:lnTo>
                    <a:pt x="1550" y="1310"/>
                  </a:lnTo>
                  <a:lnTo>
                    <a:pt x="1563" y="1337"/>
                  </a:lnTo>
                  <a:lnTo>
                    <a:pt x="1577" y="1364"/>
                  </a:lnTo>
                  <a:lnTo>
                    <a:pt x="1592" y="1391"/>
                  </a:lnTo>
                  <a:lnTo>
                    <a:pt x="1606" y="1417"/>
                  </a:lnTo>
                  <a:lnTo>
                    <a:pt x="1622" y="1444"/>
                  </a:lnTo>
                  <a:lnTo>
                    <a:pt x="1638" y="1470"/>
                  </a:lnTo>
                  <a:lnTo>
                    <a:pt x="1654" y="1496"/>
                  </a:lnTo>
                  <a:lnTo>
                    <a:pt x="1672" y="1512"/>
                  </a:lnTo>
                  <a:lnTo>
                    <a:pt x="1690" y="1529"/>
                  </a:lnTo>
                  <a:lnTo>
                    <a:pt x="1709" y="1545"/>
                  </a:lnTo>
                  <a:lnTo>
                    <a:pt x="1728" y="1560"/>
                  </a:lnTo>
                  <a:lnTo>
                    <a:pt x="1747" y="1576"/>
                  </a:lnTo>
                  <a:lnTo>
                    <a:pt x="1766" y="1590"/>
                  </a:lnTo>
                  <a:lnTo>
                    <a:pt x="1785" y="1602"/>
                  </a:lnTo>
                  <a:lnTo>
                    <a:pt x="1805" y="1614"/>
                  </a:lnTo>
                  <a:lnTo>
                    <a:pt x="1826" y="1625"/>
                  </a:lnTo>
                  <a:lnTo>
                    <a:pt x="1847" y="1634"/>
                  </a:lnTo>
                  <a:lnTo>
                    <a:pt x="1868" y="1643"/>
                  </a:lnTo>
                  <a:lnTo>
                    <a:pt x="1891" y="1649"/>
                  </a:lnTo>
                  <a:lnTo>
                    <a:pt x="1912" y="1654"/>
                  </a:lnTo>
                  <a:lnTo>
                    <a:pt x="1935" y="1658"/>
                  </a:lnTo>
                  <a:lnTo>
                    <a:pt x="1959" y="1661"/>
                  </a:lnTo>
                  <a:lnTo>
                    <a:pt x="1983" y="1661"/>
                  </a:lnTo>
                  <a:lnTo>
                    <a:pt x="2014" y="1664"/>
                  </a:lnTo>
                  <a:lnTo>
                    <a:pt x="2043" y="1666"/>
                  </a:lnTo>
                  <a:lnTo>
                    <a:pt x="2072" y="1664"/>
                  </a:lnTo>
                  <a:lnTo>
                    <a:pt x="2100" y="1661"/>
                  </a:lnTo>
                  <a:lnTo>
                    <a:pt x="2128" y="1656"/>
                  </a:lnTo>
                  <a:lnTo>
                    <a:pt x="2155" y="1648"/>
                  </a:lnTo>
                  <a:lnTo>
                    <a:pt x="2182" y="1638"/>
                  </a:lnTo>
                  <a:lnTo>
                    <a:pt x="2207" y="1628"/>
                  </a:lnTo>
                  <a:lnTo>
                    <a:pt x="2233" y="1615"/>
                  </a:lnTo>
                  <a:lnTo>
                    <a:pt x="2258" y="1601"/>
                  </a:lnTo>
                  <a:lnTo>
                    <a:pt x="2282" y="1586"/>
                  </a:lnTo>
                  <a:lnTo>
                    <a:pt x="2305" y="1569"/>
                  </a:lnTo>
                  <a:lnTo>
                    <a:pt x="2329" y="1552"/>
                  </a:lnTo>
                  <a:lnTo>
                    <a:pt x="2351" y="1534"/>
                  </a:lnTo>
                  <a:lnTo>
                    <a:pt x="2374" y="1515"/>
                  </a:lnTo>
                  <a:lnTo>
                    <a:pt x="2395" y="1496"/>
                  </a:lnTo>
                  <a:lnTo>
                    <a:pt x="2421" y="1454"/>
                  </a:lnTo>
                  <a:lnTo>
                    <a:pt x="2445" y="1412"/>
                  </a:lnTo>
                  <a:lnTo>
                    <a:pt x="2469" y="1369"/>
                  </a:lnTo>
                  <a:lnTo>
                    <a:pt x="2489" y="1325"/>
                  </a:lnTo>
                  <a:lnTo>
                    <a:pt x="2507" y="1279"/>
                  </a:lnTo>
                  <a:lnTo>
                    <a:pt x="2520" y="1232"/>
                  </a:lnTo>
                  <a:lnTo>
                    <a:pt x="2526" y="1184"/>
                  </a:lnTo>
                  <a:lnTo>
                    <a:pt x="2526" y="1133"/>
                  </a:lnTo>
                  <a:lnTo>
                    <a:pt x="2524" y="1102"/>
                  </a:lnTo>
                  <a:lnTo>
                    <a:pt x="2519" y="1071"/>
                  </a:lnTo>
                  <a:lnTo>
                    <a:pt x="2513" y="1040"/>
                  </a:lnTo>
                  <a:lnTo>
                    <a:pt x="2507" y="1008"/>
                  </a:lnTo>
                  <a:lnTo>
                    <a:pt x="2498" y="978"/>
                  </a:lnTo>
                  <a:lnTo>
                    <a:pt x="2488" y="947"/>
                  </a:lnTo>
                  <a:lnTo>
                    <a:pt x="2478" y="918"/>
                  </a:lnTo>
                  <a:lnTo>
                    <a:pt x="2465" y="889"/>
                  </a:lnTo>
                  <a:lnTo>
                    <a:pt x="2451" y="861"/>
                  </a:lnTo>
                  <a:lnTo>
                    <a:pt x="2436" y="833"/>
                  </a:lnTo>
                  <a:lnTo>
                    <a:pt x="2419" y="806"/>
                  </a:lnTo>
                  <a:lnTo>
                    <a:pt x="2402" y="781"/>
                  </a:lnTo>
                  <a:lnTo>
                    <a:pt x="2383" y="756"/>
                  </a:lnTo>
                  <a:lnTo>
                    <a:pt x="2362" y="733"/>
                  </a:lnTo>
                  <a:lnTo>
                    <a:pt x="2341" y="710"/>
                  </a:lnTo>
                  <a:lnTo>
                    <a:pt x="2318" y="690"/>
                  </a:lnTo>
                  <a:lnTo>
                    <a:pt x="2315" y="692"/>
                  </a:lnTo>
                  <a:lnTo>
                    <a:pt x="2297" y="680"/>
                  </a:lnTo>
                  <a:lnTo>
                    <a:pt x="2280" y="667"/>
                  </a:lnTo>
                  <a:lnTo>
                    <a:pt x="2261" y="657"/>
                  </a:lnTo>
                  <a:lnTo>
                    <a:pt x="2241" y="647"/>
                  </a:lnTo>
                  <a:lnTo>
                    <a:pt x="2222" y="637"/>
                  </a:lnTo>
                  <a:lnTo>
                    <a:pt x="2203" y="628"/>
                  </a:lnTo>
                  <a:lnTo>
                    <a:pt x="2184" y="619"/>
                  </a:lnTo>
                  <a:lnTo>
                    <a:pt x="2165" y="610"/>
                  </a:lnTo>
                  <a:lnTo>
                    <a:pt x="2160" y="607"/>
                  </a:lnTo>
                  <a:lnTo>
                    <a:pt x="2155" y="605"/>
                  </a:lnTo>
                  <a:lnTo>
                    <a:pt x="2149" y="604"/>
                  </a:lnTo>
                  <a:lnTo>
                    <a:pt x="2144" y="601"/>
                  </a:lnTo>
                  <a:lnTo>
                    <a:pt x="2137" y="600"/>
                  </a:lnTo>
                  <a:lnTo>
                    <a:pt x="2132" y="600"/>
                  </a:lnTo>
                  <a:lnTo>
                    <a:pt x="2126" y="599"/>
                  </a:lnTo>
                  <a:lnTo>
                    <a:pt x="2119" y="597"/>
                  </a:lnTo>
                  <a:lnTo>
                    <a:pt x="2097" y="671"/>
                  </a:lnTo>
                  <a:lnTo>
                    <a:pt x="2138" y="681"/>
                  </a:lnTo>
                  <a:lnTo>
                    <a:pt x="2122" y="729"/>
                  </a:lnTo>
                  <a:lnTo>
                    <a:pt x="2133" y="743"/>
                  </a:lnTo>
                  <a:lnTo>
                    <a:pt x="2137" y="729"/>
                  </a:lnTo>
                  <a:lnTo>
                    <a:pt x="2142" y="716"/>
                  </a:lnTo>
                  <a:lnTo>
                    <a:pt x="2146" y="703"/>
                  </a:lnTo>
                  <a:lnTo>
                    <a:pt x="2150" y="690"/>
                  </a:lnTo>
                  <a:lnTo>
                    <a:pt x="2168" y="691"/>
                  </a:lnTo>
                  <a:lnTo>
                    <a:pt x="2184" y="695"/>
                  </a:lnTo>
                  <a:lnTo>
                    <a:pt x="2200" y="701"/>
                  </a:lnTo>
                  <a:lnTo>
                    <a:pt x="2215" y="710"/>
                  </a:lnTo>
                  <a:lnTo>
                    <a:pt x="2230" y="720"/>
                  </a:lnTo>
                  <a:lnTo>
                    <a:pt x="2244" y="730"/>
                  </a:lnTo>
                  <a:lnTo>
                    <a:pt x="2258" y="742"/>
                  </a:lnTo>
                  <a:lnTo>
                    <a:pt x="2272" y="752"/>
                  </a:lnTo>
                  <a:lnTo>
                    <a:pt x="2212" y="846"/>
                  </a:lnTo>
                  <a:lnTo>
                    <a:pt x="2222" y="858"/>
                  </a:lnTo>
                  <a:lnTo>
                    <a:pt x="2282" y="761"/>
                  </a:lnTo>
                  <a:lnTo>
                    <a:pt x="2299" y="772"/>
                  </a:lnTo>
                  <a:lnTo>
                    <a:pt x="2314" y="785"/>
                  </a:lnTo>
                  <a:lnTo>
                    <a:pt x="2328" y="798"/>
                  </a:lnTo>
                  <a:lnTo>
                    <a:pt x="2341" y="813"/>
                  </a:lnTo>
                  <a:lnTo>
                    <a:pt x="2353" y="828"/>
                  </a:lnTo>
                  <a:lnTo>
                    <a:pt x="2365" y="843"/>
                  </a:lnTo>
                  <a:lnTo>
                    <a:pt x="2377" y="858"/>
                  </a:lnTo>
                  <a:lnTo>
                    <a:pt x="2390" y="874"/>
                  </a:lnTo>
                  <a:lnTo>
                    <a:pt x="2285" y="941"/>
                  </a:lnTo>
                  <a:lnTo>
                    <a:pt x="2295" y="955"/>
                  </a:lnTo>
                  <a:lnTo>
                    <a:pt x="2395" y="889"/>
                  </a:lnTo>
                  <a:lnTo>
                    <a:pt x="2395" y="884"/>
                  </a:lnTo>
                  <a:lnTo>
                    <a:pt x="2405" y="900"/>
                  </a:lnTo>
                  <a:lnTo>
                    <a:pt x="2416" y="918"/>
                  </a:lnTo>
                  <a:lnTo>
                    <a:pt x="2423" y="936"/>
                  </a:lnTo>
                  <a:lnTo>
                    <a:pt x="2428" y="955"/>
                  </a:lnTo>
                  <a:lnTo>
                    <a:pt x="2413" y="961"/>
                  </a:lnTo>
                  <a:lnTo>
                    <a:pt x="2399" y="967"/>
                  </a:lnTo>
                  <a:lnTo>
                    <a:pt x="2384" y="974"/>
                  </a:lnTo>
                  <a:lnTo>
                    <a:pt x="2369" y="980"/>
                  </a:lnTo>
                  <a:lnTo>
                    <a:pt x="2353" y="985"/>
                  </a:lnTo>
                  <a:lnTo>
                    <a:pt x="2338" y="991"/>
                  </a:lnTo>
                  <a:lnTo>
                    <a:pt x="2323" y="997"/>
                  </a:lnTo>
                  <a:lnTo>
                    <a:pt x="2308" y="1003"/>
                  </a:lnTo>
                  <a:lnTo>
                    <a:pt x="2305" y="1018"/>
                  </a:lnTo>
                  <a:lnTo>
                    <a:pt x="2435" y="974"/>
                  </a:lnTo>
                  <a:lnTo>
                    <a:pt x="2441" y="986"/>
                  </a:lnTo>
                  <a:lnTo>
                    <a:pt x="2447" y="999"/>
                  </a:lnTo>
                  <a:lnTo>
                    <a:pt x="2451" y="1014"/>
                  </a:lnTo>
                  <a:lnTo>
                    <a:pt x="2455" y="1029"/>
                  </a:lnTo>
                  <a:lnTo>
                    <a:pt x="2436" y="1033"/>
                  </a:lnTo>
                  <a:lnTo>
                    <a:pt x="2416" y="1037"/>
                  </a:lnTo>
                  <a:lnTo>
                    <a:pt x="2397" y="1041"/>
                  </a:lnTo>
                  <a:lnTo>
                    <a:pt x="2377" y="1046"/>
                  </a:lnTo>
                  <a:lnTo>
                    <a:pt x="2357" y="1050"/>
                  </a:lnTo>
                  <a:lnTo>
                    <a:pt x="2338" y="1054"/>
                  </a:lnTo>
                  <a:lnTo>
                    <a:pt x="2318" y="1059"/>
                  </a:lnTo>
                  <a:lnTo>
                    <a:pt x="2299" y="1062"/>
                  </a:lnTo>
                  <a:lnTo>
                    <a:pt x="2296" y="1078"/>
                  </a:lnTo>
                  <a:lnTo>
                    <a:pt x="2316" y="1073"/>
                  </a:lnTo>
                  <a:lnTo>
                    <a:pt x="2337" y="1069"/>
                  </a:lnTo>
                  <a:lnTo>
                    <a:pt x="2356" y="1064"/>
                  </a:lnTo>
                  <a:lnTo>
                    <a:pt x="2376" y="1060"/>
                  </a:lnTo>
                  <a:lnTo>
                    <a:pt x="2397" y="1056"/>
                  </a:lnTo>
                  <a:lnTo>
                    <a:pt x="2417" y="1052"/>
                  </a:lnTo>
                  <a:lnTo>
                    <a:pt x="2437" y="1048"/>
                  </a:lnTo>
                  <a:lnTo>
                    <a:pt x="2458" y="1045"/>
                  </a:lnTo>
                  <a:lnTo>
                    <a:pt x="2459" y="1055"/>
                  </a:lnTo>
                  <a:lnTo>
                    <a:pt x="2460" y="1065"/>
                  </a:lnTo>
                  <a:lnTo>
                    <a:pt x="2461" y="1075"/>
                  </a:lnTo>
                  <a:lnTo>
                    <a:pt x="2461" y="1087"/>
                  </a:lnTo>
                  <a:lnTo>
                    <a:pt x="2292" y="1097"/>
                  </a:lnTo>
                  <a:lnTo>
                    <a:pt x="2290" y="1112"/>
                  </a:lnTo>
                  <a:lnTo>
                    <a:pt x="2461" y="1102"/>
                  </a:lnTo>
                  <a:lnTo>
                    <a:pt x="2464" y="1123"/>
                  </a:lnTo>
                  <a:lnTo>
                    <a:pt x="2464" y="1142"/>
                  </a:lnTo>
                  <a:lnTo>
                    <a:pt x="2464" y="1163"/>
                  </a:lnTo>
                  <a:lnTo>
                    <a:pt x="2461" y="1184"/>
                  </a:lnTo>
                  <a:lnTo>
                    <a:pt x="2440" y="1180"/>
                  </a:lnTo>
                  <a:lnTo>
                    <a:pt x="2418" y="1176"/>
                  </a:lnTo>
                  <a:lnTo>
                    <a:pt x="2397" y="1174"/>
                  </a:lnTo>
                  <a:lnTo>
                    <a:pt x="2374" y="1170"/>
                  </a:lnTo>
                  <a:lnTo>
                    <a:pt x="2352" y="1169"/>
                  </a:lnTo>
                  <a:lnTo>
                    <a:pt x="2329" y="1166"/>
                  </a:lnTo>
                  <a:lnTo>
                    <a:pt x="2305" y="1164"/>
                  </a:lnTo>
                  <a:lnTo>
                    <a:pt x="2282" y="1161"/>
                  </a:lnTo>
                  <a:lnTo>
                    <a:pt x="2281" y="1175"/>
                  </a:lnTo>
                  <a:lnTo>
                    <a:pt x="2461" y="1193"/>
                  </a:lnTo>
                  <a:lnTo>
                    <a:pt x="2454" y="1242"/>
                  </a:lnTo>
                  <a:lnTo>
                    <a:pt x="2441" y="1291"/>
                  </a:lnTo>
                  <a:lnTo>
                    <a:pt x="2423" y="1337"/>
                  </a:lnTo>
                  <a:lnTo>
                    <a:pt x="2402" y="1382"/>
                  </a:lnTo>
                  <a:lnTo>
                    <a:pt x="2374" y="1424"/>
                  </a:lnTo>
                  <a:lnTo>
                    <a:pt x="2341" y="1462"/>
                  </a:lnTo>
                  <a:lnTo>
                    <a:pt x="2304" y="1496"/>
                  </a:lnTo>
                  <a:lnTo>
                    <a:pt x="2262" y="1524"/>
                  </a:lnTo>
                  <a:lnTo>
                    <a:pt x="2249" y="1502"/>
                  </a:lnTo>
                  <a:lnTo>
                    <a:pt x="2235" y="1481"/>
                  </a:lnTo>
                  <a:lnTo>
                    <a:pt x="2222" y="1459"/>
                  </a:lnTo>
                  <a:lnTo>
                    <a:pt x="2208" y="1438"/>
                  </a:lnTo>
                  <a:lnTo>
                    <a:pt x="2196" y="1415"/>
                  </a:lnTo>
                  <a:lnTo>
                    <a:pt x="2183" y="1393"/>
                  </a:lnTo>
                  <a:lnTo>
                    <a:pt x="2170" y="1372"/>
                  </a:lnTo>
                  <a:lnTo>
                    <a:pt x="2158" y="1349"/>
                  </a:lnTo>
                  <a:lnTo>
                    <a:pt x="2144" y="1351"/>
                  </a:lnTo>
                  <a:lnTo>
                    <a:pt x="2151" y="1363"/>
                  </a:lnTo>
                  <a:lnTo>
                    <a:pt x="2159" y="1374"/>
                  </a:lnTo>
                  <a:lnTo>
                    <a:pt x="2166" y="1387"/>
                  </a:lnTo>
                  <a:lnTo>
                    <a:pt x="2174" y="1398"/>
                  </a:lnTo>
                  <a:lnTo>
                    <a:pt x="2180" y="1416"/>
                  </a:lnTo>
                  <a:lnTo>
                    <a:pt x="2188" y="1434"/>
                  </a:lnTo>
                  <a:lnTo>
                    <a:pt x="2197" y="1450"/>
                  </a:lnTo>
                  <a:lnTo>
                    <a:pt x="2207" y="1467"/>
                  </a:lnTo>
                  <a:lnTo>
                    <a:pt x="2217" y="1483"/>
                  </a:lnTo>
                  <a:lnTo>
                    <a:pt x="2227" y="1500"/>
                  </a:lnTo>
                  <a:lnTo>
                    <a:pt x="2235" y="1517"/>
                  </a:lnTo>
                  <a:lnTo>
                    <a:pt x="2243" y="1535"/>
                  </a:lnTo>
                  <a:lnTo>
                    <a:pt x="2187" y="1564"/>
                  </a:lnTo>
                  <a:lnTo>
                    <a:pt x="2177" y="1539"/>
                  </a:lnTo>
                  <a:lnTo>
                    <a:pt x="2165" y="1514"/>
                  </a:lnTo>
                  <a:lnTo>
                    <a:pt x="2155" y="1488"/>
                  </a:lnTo>
                  <a:lnTo>
                    <a:pt x="2146" y="1463"/>
                  </a:lnTo>
                  <a:lnTo>
                    <a:pt x="2136" y="1436"/>
                  </a:lnTo>
                  <a:lnTo>
                    <a:pt x="2127" y="1411"/>
                  </a:lnTo>
                  <a:lnTo>
                    <a:pt x="2118" y="1384"/>
                  </a:lnTo>
                  <a:lnTo>
                    <a:pt x="2109" y="1358"/>
                  </a:lnTo>
                  <a:lnTo>
                    <a:pt x="2095" y="1360"/>
                  </a:lnTo>
                  <a:lnTo>
                    <a:pt x="2104" y="1387"/>
                  </a:lnTo>
                  <a:lnTo>
                    <a:pt x="2113" y="1412"/>
                  </a:lnTo>
                  <a:lnTo>
                    <a:pt x="2122" y="1439"/>
                  </a:lnTo>
                  <a:lnTo>
                    <a:pt x="2131" y="1465"/>
                  </a:lnTo>
                  <a:lnTo>
                    <a:pt x="2140" y="1491"/>
                  </a:lnTo>
                  <a:lnTo>
                    <a:pt x="2147" y="1517"/>
                  </a:lnTo>
                  <a:lnTo>
                    <a:pt x="2155" y="1544"/>
                  </a:lnTo>
                  <a:lnTo>
                    <a:pt x="2163" y="1571"/>
                  </a:lnTo>
                  <a:lnTo>
                    <a:pt x="2140" y="1578"/>
                  </a:lnTo>
                  <a:lnTo>
                    <a:pt x="2117" y="1585"/>
                  </a:lnTo>
                  <a:lnTo>
                    <a:pt x="2093" y="1590"/>
                  </a:lnTo>
                  <a:lnTo>
                    <a:pt x="2070" y="1592"/>
                  </a:lnTo>
                  <a:lnTo>
                    <a:pt x="2046" y="1595"/>
                  </a:lnTo>
                  <a:lnTo>
                    <a:pt x="2022" y="1595"/>
                  </a:lnTo>
                  <a:lnTo>
                    <a:pt x="1999" y="1593"/>
                  </a:lnTo>
                  <a:lnTo>
                    <a:pt x="1975" y="1590"/>
                  </a:lnTo>
                  <a:lnTo>
                    <a:pt x="1952" y="1586"/>
                  </a:lnTo>
                  <a:lnTo>
                    <a:pt x="1929" y="1581"/>
                  </a:lnTo>
                  <a:lnTo>
                    <a:pt x="1906" y="1574"/>
                  </a:lnTo>
                  <a:lnTo>
                    <a:pt x="1883" y="1567"/>
                  </a:lnTo>
                  <a:lnTo>
                    <a:pt x="1861" y="1558"/>
                  </a:lnTo>
                  <a:lnTo>
                    <a:pt x="1840" y="1549"/>
                  </a:lnTo>
                  <a:lnTo>
                    <a:pt x="1818" y="1538"/>
                  </a:lnTo>
                  <a:lnTo>
                    <a:pt x="1798" y="1526"/>
                  </a:lnTo>
                  <a:lnTo>
                    <a:pt x="1805" y="1511"/>
                  </a:lnTo>
                  <a:lnTo>
                    <a:pt x="1814" y="1495"/>
                  </a:lnTo>
                  <a:lnTo>
                    <a:pt x="1822" y="1479"/>
                  </a:lnTo>
                  <a:lnTo>
                    <a:pt x="1831" y="1463"/>
                  </a:lnTo>
                  <a:lnTo>
                    <a:pt x="1838" y="1448"/>
                  </a:lnTo>
                  <a:lnTo>
                    <a:pt x="1847" y="1432"/>
                  </a:lnTo>
                  <a:lnTo>
                    <a:pt x="1855" y="1416"/>
                  </a:lnTo>
                  <a:lnTo>
                    <a:pt x="1864" y="1401"/>
                  </a:lnTo>
                  <a:lnTo>
                    <a:pt x="1846" y="1405"/>
                  </a:lnTo>
                  <a:lnTo>
                    <a:pt x="1779" y="1517"/>
                  </a:lnTo>
                  <a:lnTo>
                    <a:pt x="1770" y="1510"/>
                  </a:lnTo>
                  <a:lnTo>
                    <a:pt x="1760" y="1502"/>
                  </a:lnTo>
                  <a:lnTo>
                    <a:pt x="1751" y="1496"/>
                  </a:lnTo>
                  <a:lnTo>
                    <a:pt x="1742" y="1488"/>
                  </a:lnTo>
                  <a:lnTo>
                    <a:pt x="1733" y="1481"/>
                  </a:lnTo>
                  <a:lnTo>
                    <a:pt x="1725" y="1472"/>
                  </a:lnTo>
                  <a:lnTo>
                    <a:pt x="1718" y="1464"/>
                  </a:lnTo>
                  <a:lnTo>
                    <a:pt x="1710" y="1454"/>
                  </a:lnTo>
                  <a:lnTo>
                    <a:pt x="1722" y="1440"/>
                  </a:lnTo>
                  <a:lnTo>
                    <a:pt x="1734" y="1426"/>
                  </a:lnTo>
                  <a:lnTo>
                    <a:pt x="1746" y="1412"/>
                  </a:lnTo>
                  <a:lnTo>
                    <a:pt x="1758" y="1397"/>
                  </a:lnTo>
                  <a:lnTo>
                    <a:pt x="1771" y="1383"/>
                  </a:lnTo>
                  <a:lnTo>
                    <a:pt x="1784" y="1369"/>
                  </a:lnTo>
                  <a:lnTo>
                    <a:pt x="1798" y="1355"/>
                  </a:lnTo>
                  <a:lnTo>
                    <a:pt x="1811" y="1341"/>
                  </a:lnTo>
                  <a:lnTo>
                    <a:pt x="1808" y="1323"/>
                  </a:lnTo>
                  <a:lnTo>
                    <a:pt x="1795" y="1339"/>
                  </a:lnTo>
                  <a:lnTo>
                    <a:pt x="1781" y="1353"/>
                  </a:lnTo>
                  <a:lnTo>
                    <a:pt x="1769" y="1368"/>
                  </a:lnTo>
                  <a:lnTo>
                    <a:pt x="1756" y="1383"/>
                  </a:lnTo>
                  <a:lnTo>
                    <a:pt x="1742" y="1397"/>
                  </a:lnTo>
                  <a:lnTo>
                    <a:pt x="1729" y="1412"/>
                  </a:lnTo>
                  <a:lnTo>
                    <a:pt x="1715" y="1427"/>
                  </a:lnTo>
                  <a:lnTo>
                    <a:pt x="1702" y="1443"/>
                  </a:lnTo>
                  <a:lnTo>
                    <a:pt x="1681" y="1411"/>
                  </a:lnTo>
                  <a:lnTo>
                    <a:pt x="1659" y="1378"/>
                  </a:lnTo>
                  <a:lnTo>
                    <a:pt x="1639" y="1344"/>
                  </a:lnTo>
                  <a:lnTo>
                    <a:pt x="1621" y="1310"/>
                  </a:lnTo>
                  <a:lnTo>
                    <a:pt x="1606" y="1274"/>
                  </a:lnTo>
                  <a:lnTo>
                    <a:pt x="1594" y="1239"/>
                  </a:lnTo>
                  <a:lnTo>
                    <a:pt x="1587" y="1202"/>
                  </a:lnTo>
                  <a:lnTo>
                    <a:pt x="1584" y="1164"/>
                  </a:lnTo>
                  <a:lnTo>
                    <a:pt x="1784" y="1150"/>
                  </a:lnTo>
                  <a:lnTo>
                    <a:pt x="1781" y="1135"/>
                  </a:lnTo>
                  <a:lnTo>
                    <a:pt x="1757" y="1136"/>
                  </a:lnTo>
                  <a:lnTo>
                    <a:pt x="1732" y="1138"/>
                  </a:lnTo>
                  <a:lnTo>
                    <a:pt x="1708" y="1140"/>
                  </a:lnTo>
                  <a:lnTo>
                    <a:pt x="1682" y="1141"/>
                  </a:lnTo>
                  <a:lnTo>
                    <a:pt x="1658" y="1144"/>
                  </a:lnTo>
                  <a:lnTo>
                    <a:pt x="1633" y="1145"/>
                  </a:lnTo>
                  <a:lnTo>
                    <a:pt x="1608" y="1147"/>
                  </a:lnTo>
                  <a:lnTo>
                    <a:pt x="1583" y="1149"/>
                  </a:lnTo>
                  <a:lnTo>
                    <a:pt x="1583" y="1133"/>
                  </a:lnTo>
                  <a:lnTo>
                    <a:pt x="1583" y="1117"/>
                  </a:lnTo>
                  <a:lnTo>
                    <a:pt x="1583" y="1099"/>
                  </a:lnTo>
                  <a:lnTo>
                    <a:pt x="1584" y="1083"/>
                  </a:lnTo>
                  <a:lnTo>
                    <a:pt x="1608" y="1084"/>
                  </a:lnTo>
                  <a:lnTo>
                    <a:pt x="1633" y="1085"/>
                  </a:lnTo>
                  <a:lnTo>
                    <a:pt x="1657" y="1087"/>
                  </a:lnTo>
                  <a:lnTo>
                    <a:pt x="1681" y="1089"/>
                  </a:lnTo>
                  <a:lnTo>
                    <a:pt x="1705" y="1092"/>
                  </a:lnTo>
                  <a:lnTo>
                    <a:pt x="1728" y="1094"/>
                  </a:lnTo>
                  <a:lnTo>
                    <a:pt x="1752" y="1097"/>
                  </a:lnTo>
                  <a:lnTo>
                    <a:pt x="1776" y="1100"/>
                  </a:lnTo>
                  <a:lnTo>
                    <a:pt x="1775" y="1085"/>
                  </a:lnTo>
                  <a:lnTo>
                    <a:pt x="1752" y="1083"/>
                  </a:lnTo>
                  <a:lnTo>
                    <a:pt x="1728" y="1081"/>
                  </a:lnTo>
                  <a:lnTo>
                    <a:pt x="1705" y="1079"/>
                  </a:lnTo>
                  <a:lnTo>
                    <a:pt x="1681" y="1076"/>
                  </a:lnTo>
                  <a:lnTo>
                    <a:pt x="1658" y="1074"/>
                  </a:lnTo>
                  <a:lnTo>
                    <a:pt x="1634" y="1071"/>
                  </a:lnTo>
                  <a:lnTo>
                    <a:pt x="1611" y="1070"/>
                  </a:lnTo>
                  <a:lnTo>
                    <a:pt x="1588" y="1067"/>
                  </a:lnTo>
                  <a:lnTo>
                    <a:pt x="1589" y="1041"/>
                  </a:lnTo>
                  <a:lnTo>
                    <a:pt x="1593" y="1016"/>
                  </a:lnTo>
                  <a:lnTo>
                    <a:pt x="1598" y="991"/>
                  </a:lnTo>
                  <a:lnTo>
                    <a:pt x="1606" y="967"/>
                  </a:lnTo>
                  <a:lnTo>
                    <a:pt x="1615" y="945"/>
                  </a:lnTo>
                  <a:lnTo>
                    <a:pt x="1625" y="922"/>
                  </a:lnTo>
                  <a:lnTo>
                    <a:pt x="1636" y="899"/>
                  </a:lnTo>
                  <a:lnTo>
                    <a:pt x="1648" y="877"/>
                  </a:lnTo>
                  <a:lnTo>
                    <a:pt x="1659" y="877"/>
                  </a:lnTo>
                  <a:lnTo>
                    <a:pt x="1669" y="886"/>
                  </a:lnTo>
                  <a:lnTo>
                    <a:pt x="1681" y="895"/>
                  </a:lnTo>
                  <a:lnTo>
                    <a:pt x="1692" y="903"/>
                  </a:lnTo>
                  <a:lnTo>
                    <a:pt x="1705" y="910"/>
                  </a:lnTo>
                  <a:lnTo>
                    <a:pt x="1716" y="917"/>
                  </a:lnTo>
                  <a:lnTo>
                    <a:pt x="1729" y="924"/>
                  </a:lnTo>
                  <a:lnTo>
                    <a:pt x="1742" y="931"/>
                  </a:lnTo>
                  <a:lnTo>
                    <a:pt x="1753" y="937"/>
                  </a:lnTo>
                  <a:lnTo>
                    <a:pt x="1751" y="919"/>
                  </a:lnTo>
                  <a:lnTo>
                    <a:pt x="1663" y="863"/>
                  </a:lnTo>
                  <a:lnTo>
                    <a:pt x="1668" y="851"/>
                  </a:lnTo>
                  <a:lnTo>
                    <a:pt x="1676" y="838"/>
                  </a:lnTo>
                  <a:lnTo>
                    <a:pt x="1683" y="827"/>
                  </a:lnTo>
                  <a:lnTo>
                    <a:pt x="1692" y="815"/>
                  </a:lnTo>
                  <a:lnTo>
                    <a:pt x="1701" y="805"/>
                  </a:lnTo>
                  <a:lnTo>
                    <a:pt x="1710" y="795"/>
                  </a:lnTo>
                  <a:lnTo>
                    <a:pt x="1720" y="785"/>
                  </a:lnTo>
                  <a:lnTo>
                    <a:pt x="1729" y="776"/>
                  </a:lnTo>
                  <a:lnTo>
                    <a:pt x="1798" y="948"/>
                  </a:lnTo>
                  <a:lnTo>
                    <a:pt x="1751" y="919"/>
                  </a:lnTo>
                  <a:lnTo>
                    <a:pt x="1753" y="937"/>
                  </a:lnTo>
                  <a:lnTo>
                    <a:pt x="1770" y="946"/>
                  </a:lnTo>
                  <a:lnTo>
                    <a:pt x="1786" y="955"/>
                  </a:lnTo>
                  <a:lnTo>
                    <a:pt x="1800" y="965"/>
                  </a:lnTo>
                  <a:lnTo>
                    <a:pt x="1816" y="976"/>
                  </a:lnTo>
                  <a:lnTo>
                    <a:pt x="1828" y="989"/>
                  </a:lnTo>
                  <a:lnTo>
                    <a:pt x="1841" y="1004"/>
                  </a:lnTo>
                  <a:lnTo>
                    <a:pt x="1851" y="1021"/>
                  </a:lnTo>
                  <a:lnTo>
                    <a:pt x="1860" y="1038"/>
                  </a:lnTo>
                  <a:lnTo>
                    <a:pt x="1926" y="1093"/>
                  </a:lnTo>
                  <a:lnTo>
                    <a:pt x="1907" y="1087"/>
                  </a:lnTo>
                  <a:lnTo>
                    <a:pt x="1887" y="1080"/>
                  </a:lnTo>
                  <a:lnTo>
                    <a:pt x="1868" y="1073"/>
                  </a:lnTo>
                  <a:lnTo>
                    <a:pt x="1847" y="1066"/>
                  </a:lnTo>
                  <a:lnTo>
                    <a:pt x="1827" y="1059"/>
                  </a:lnTo>
                  <a:lnTo>
                    <a:pt x="1807" y="1051"/>
                  </a:lnTo>
                  <a:lnTo>
                    <a:pt x="1788" y="1043"/>
                  </a:lnTo>
                  <a:lnTo>
                    <a:pt x="1767" y="1036"/>
                  </a:lnTo>
                  <a:lnTo>
                    <a:pt x="1770" y="1048"/>
                  </a:lnTo>
                  <a:lnTo>
                    <a:pt x="1784" y="1055"/>
                  </a:lnTo>
                  <a:lnTo>
                    <a:pt x="1798" y="1060"/>
                  </a:lnTo>
                  <a:lnTo>
                    <a:pt x="1812" y="1066"/>
                  </a:lnTo>
                  <a:lnTo>
                    <a:pt x="1827" y="1071"/>
                  </a:lnTo>
                  <a:lnTo>
                    <a:pt x="1841" y="1076"/>
                  </a:lnTo>
                  <a:lnTo>
                    <a:pt x="1855" y="1081"/>
                  </a:lnTo>
                  <a:lnTo>
                    <a:pt x="1870" y="1088"/>
                  </a:lnTo>
                  <a:lnTo>
                    <a:pt x="1884" y="1093"/>
                  </a:lnTo>
                  <a:lnTo>
                    <a:pt x="1872" y="1093"/>
                  </a:lnTo>
                  <a:lnTo>
                    <a:pt x="1858" y="1092"/>
                  </a:lnTo>
                  <a:lnTo>
                    <a:pt x="1845" y="1090"/>
                  </a:lnTo>
                  <a:lnTo>
                    <a:pt x="1831" y="1090"/>
                  </a:lnTo>
                  <a:lnTo>
                    <a:pt x="1817" y="1089"/>
                  </a:lnTo>
                  <a:lnTo>
                    <a:pt x="1803" y="1088"/>
                  </a:lnTo>
                  <a:lnTo>
                    <a:pt x="1789" y="1087"/>
                  </a:lnTo>
                  <a:lnTo>
                    <a:pt x="1775" y="1085"/>
                  </a:lnTo>
                  <a:lnTo>
                    <a:pt x="1776" y="1100"/>
                  </a:lnTo>
                  <a:lnTo>
                    <a:pt x="1799" y="1103"/>
                  </a:lnTo>
                  <a:lnTo>
                    <a:pt x="1821" y="1106"/>
                  </a:lnTo>
                  <a:lnTo>
                    <a:pt x="1844" y="1108"/>
                  </a:lnTo>
                  <a:lnTo>
                    <a:pt x="1865" y="1111"/>
                  </a:lnTo>
                  <a:lnTo>
                    <a:pt x="1888" y="1113"/>
                  </a:lnTo>
                  <a:lnTo>
                    <a:pt x="1910" y="1114"/>
                  </a:lnTo>
                  <a:lnTo>
                    <a:pt x="1933" y="1116"/>
                  </a:lnTo>
                  <a:lnTo>
                    <a:pt x="1954" y="1116"/>
                  </a:lnTo>
                  <a:lnTo>
                    <a:pt x="1958" y="1122"/>
                  </a:lnTo>
                  <a:lnTo>
                    <a:pt x="1936" y="1123"/>
                  </a:lnTo>
                  <a:lnTo>
                    <a:pt x="1915" y="1126"/>
                  </a:lnTo>
                  <a:lnTo>
                    <a:pt x="1893" y="1127"/>
                  </a:lnTo>
                  <a:lnTo>
                    <a:pt x="1872" y="1128"/>
                  </a:lnTo>
                  <a:lnTo>
                    <a:pt x="1849" y="1131"/>
                  </a:lnTo>
                  <a:lnTo>
                    <a:pt x="1827" y="1132"/>
                  </a:lnTo>
                  <a:lnTo>
                    <a:pt x="1804" y="1133"/>
                  </a:lnTo>
                  <a:lnTo>
                    <a:pt x="1781" y="1135"/>
                  </a:lnTo>
                  <a:lnTo>
                    <a:pt x="1784" y="1150"/>
                  </a:lnTo>
                  <a:lnTo>
                    <a:pt x="1902" y="1142"/>
                  </a:lnTo>
                  <a:lnTo>
                    <a:pt x="1887" y="1145"/>
                  </a:lnTo>
                  <a:lnTo>
                    <a:pt x="1873" y="1149"/>
                  </a:lnTo>
                  <a:lnTo>
                    <a:pt x="1858" y="1152"/>
                  </a:lnTo>
                  <a:lnTo>
                    <a:pt x="1844" y="1156"/>
                  </a:lnTo>
                  <a:lnTo>
                    <a:pt x="1830" y="1160"/>
                  </a:lnTo>
                  <a:lnTo>
                    <a:pt x="1816" y="1164"/>
                  </a:lnTo>
                  <a:lnTo>
                    <a:pt x="1800" y="1168"/>
                  </a:lnTo>
                  <a:lnTo>
                    <a:pt x="1786" y="1171"/>
                  </a:lnTo>
                  <a:lnTo>
                    <a:pt x="1788" y="1183"/>
                  </a:lnTo>
                  <a:lnTo>
                    <a:pt x="1803" y="1179"/>
                  </a:lnTo>
                  <a:lnTo>
                    <a:pt x="1818" y="1175"/>
                  </a:lnTo>
                  <a:lnTo>
                    <a:pt x="1833" y="1171"/>
                  </a:lnTo>
                  <a:lnTo>
                    <a:pt x="1850" y="1168"/>
                  </a:lnTo>
                  <a:lnTo>
                    <a:pt x="1865" y="1165"/>
                  </a:lnTo>
                  <a:lnTo>
                    <a:pt x="1880" y="1163"/>
                  </a:lnTo>
                  <a:lnTo>
                    <a:pt x="1896" y="1160"/>
                  </a:lnTo>
                  <a:lnTo>
                    <a:pt x="1911" y="1157"/>
                  </a:lnTo>
                  <a:lnTo>
                    <a:pt x="1897" y="1169"/>
                  </a:lnTo>
                  <a:lnTo>
                    <a:pt x="1883" y="1179"/>
                  </a:lnTo>
                  <a:lnTo>
                    <a:pt x="1869" y="1189"/>
                  </a:lnTo>
                  <a:lnTo>
                    <a:pt x="1855" y="1198"/>
                  </a:lnTo>
                  <a:lnTo>
                    <a:pt x="1840" y="1206"/>
                  </a:lnTo>
                  <a:lnTo>
                    <a:pt x="1825" y="1213"/>
                  </a:lnTo>
                  <a:lnTo>
                    <a:pt x="1809" y="1221"/>
                  </a:lnTo>
                  <a:lnTo>
                    <a:pt x="1794" y="1227"/>
                  </a:lnTo>
                  <a:lnTo>
                    <a:pt x="1797" y="1244"/>
                  </a:lnTo>
                  <a:lnTo>
                    <a:pt x="1799" y="1242"/>
                  </a:lnTo>
                  <a:lnTo>
                    <a:pt x="1800" y="1242"/>
                  </a:lnTo>
                  <a:lnTo>
                    <a:pt x="1803" y="1242"/>
                  </a:lnTo>
                  <a:lnTo>
                    <a:pt x="1804" y="1241"/>
                  </a:lnTo>
                  <a:lnTo>
                    <a:pt x="1803" y="1242"/>
                  </a:lnTo>
                  <a:lnTo>
                    <a:pt x="1800" y="1244"/>
                  </a:lnTo>
                  <a:lnTo>
                    <a:pt x="1799" y="1246"/>
                  </a:lnTo>
                  <a:lnTo>
                    <a:pt x="1797" y="1247"/>
                  </a:lnTo>
                  <a:lnTo>
                    <a:pt x="1799" y="1261"/>
                  </a:lnTo>
                  <a:lnTo>
                    <a:pt x="1812" y="1251"/>
                  </a:lnTo>
                  <a:lnTo>
                    <a:pt x="1825" y="1242"/>
                  </a:lnTo>
                  <a:lnTo>
                    <a:pt x="1837" y="1234"/>
                  </a:lnTo>
                  <a:lnTo>
                    <a:pt x="1850" y="1225"/>
                  </a:lnTo>
                  <a:lnTo>
                    <a:pt x="1863" y="1217"/>
                  </a:lnTo>
                  <a:lnTo>
                    <a:pt x="1877" y="1211"/>
                  </a:lnTo>
                  <a:lnTo>
                    <a:pt x="1891" y="1204"/>
                  </a:lnTo>
                  <a:lnTo>
                    <a:pt x="1905" y="1199"/>
                  </a:lnTo>
                  <a:lnTo>
                    <a:pt x="1893" y="1216"/>
                  </a:lnTo>
                  <a:lnTo>
                    <a:pt x="1882" y="1231"/>
                  </a:lnTo>
                  <a:lnTo>
                    <a:pt x="1870" y="1247"/>
                  </a:lnTo>
                  <a:lnTo>
                    <a:pt x="1859" y="1263"/>
                  </a:lnTo>
                  <a:lnTo>
                    <a:pt x="1846" y="1278"/>
                  </a:lnTo>
                  <a:lnTo>
                    <a:pt x="1833" y="1293"/>
                  </a:lnTo>
                  <a:lnTo>
                    <a:pt x="1821" y="1308"/>
                  </a:lnTo>
                  <a:lnTo>
                    <a:pt x="1808" y="1323"/>
                  </a:lnTo>
                  <a:lnTo>
                    <a:pt x="1811" y="1341"/>
                  </a:lnTo>
                  <a:lnTo>
                    <a:pt x="1827" y="1323"/>
                  </a:lnTo>
                  <a:lnTo>
                    <a:pt x="1842" y="1306"/>
                  </a:lnTo>
                  <a:lnTo>
                    <a:pt x="1859" y="1287"/>
                  </a:lnTo>
                  <a:lnTo>
                    <a:pt x="1874" y="1269"/>
                  </a:lnTo>
                  <a:lnTo>
                    <a:pt x="1889" y="1250"/>
                  </a:lnTo>
                  <a:lnTo>
                    <a:pt x="1903" y="1232"/>
                  </a:lnTo>
                  <a:lnTo>
                    <a:pt x="1916" y="1213"/>
                  </a:lnTo>
                  <a:lnTo>
                    <a:pt x="1929" y="1193"/>
                  </a:lnTo>
                  <a:lnTo>
                    <a:pt x="1936" y="1188"/>
                  </a:lnTo>
                  <a:lnTo>
                    <a:pt x="1945" y="1183"/>
                  </a:lnTo>
                  <a:lnTo>
                    <a:pt x="1953" y="1179"/>
                  </a:lnTo>
                  <a:lnTo>
                    <a:pt x="1962" y="1178"/>
                  </a:lnTo>
                  <a:lnTo>
                    <a:pt x="1941" y="1244"/>
                  </a:lnTo>
                  <a:lnTo>
                    <a:pt x="1846" y="1405"/>
                  </a:lnTo>
                  <a:lnTo>
                    <a:pt x="1864" y="1401"/>
                  </a:lnTo>
                  <a:lnTo>
                    <a:pt x="1872" y="1386"/>
                  </a:lnTo>
                  <a:lnTo>
                    <a:pt x="1880" y="1372"/>
                  </a:lnTo>
                  <a:lnTo>
                    <a:pt x="1889" y="1356"/>
                  </a:lnTo>
                  <a:lnTo>
                    <a:pt x="1897" y="1342"/>
                  </a:lnTo>
                  <a:lnTo>
                    <a:pt x="1906" y="1329"/>
                  </a:lnTo>
                  <a:lnTo>
                    <a:pt x="1915" y="1315"/>
                  </a:lnTo>
                  <a:lnTo>
                    <a:pt x="1924" y="1299"/>
                  </a:lnTo>
                  <a:lnTo>
                    <a:pt x="1933" y="1285"/>
                  </a:lnTo>
                  <a:lnTo>
                    <a:pt x="1927" y="1299"/>
                  </a:lnTo>
                  <a:lnTo>
                    <a:pt x="1922" y="1313"/>
                  </a:lnTo>
                  <a:lnTo>
                    <a:pt x="1917" y="1327"/>
                  </a:lnTo>
                  <a:lnTo>
                    <a:pt x="1913" y="1340"/>
                  </a:lnTo>
                  <a:lnTo>
                    <a:pt x="1908" y="1354"/>
                  </a:lnTo>
                  <a:lnTo>
                    <a:pt x="1903" y="1368"/>
                  </a:lnTo>
                  <a:lnTo>
                    <a:pt x="1898" y="1382"/>
                  </a:lnTo>
                  <a:lnTo>
                    <a:pt x="1893" y="1396"/>
                  </a:lnTo>
                  <a:lnTo>
                    <a:pt x="1908" y="1393"/>
                  </a:lnTo>
                  <a:lnTo>
                    <a:pt x="1915" y="1373"/>
                  </a:lnTo>
                  <a:lnTo>
                    <a:pt x="1921" y="1354"/>
                  </a:lnTo>
                  <a:lnTo>
                    <a:pt x="1929" y="1334"/>
                  </a:lnTo>
                  <a:lnTo>
                    <a:pt x="1935" y="1315"/>
                  </a:lnTo>
                  <a:lnTo>
                    <a:pt x="1941" y="1294"/>
                  </a:lnTo>
                  <a:lnTo>
                    <a:pt x="1947" y="1275"/>
                  </a:lnTo>
                  <a:lnTo>
                    <a:pt x="1953" y="1255"/>
                  </a:lnTo>
                  <a:lnTo>
                    <a:pt x="1958" y="1236"/>
                  </a:lnTo>
                  <a:lnTo>
                    <a:pt x="1986" y="1193"/>
                  </a:lnTo>
                  <a:lnTo>
                    <a:pt x="1978" y="1381"/>
                  </a:lnTo>
                  <a:lnTo>
                    <a:pt x="1995" y="1378"/>
                  </a:lnTo>
                  <a:lnTo>
                    <a:pt x="2008" y="1164"/>
                  </a:lnTo>
                  <a:lnTo>
                    <a:pt x="2013" y="1375"/>
                  </a:lnTo>
                  <a:lnTo>
                    <a:pt x="2029" y="1372"/>
                  </a:lnTo>
                  <a:lnTo>
                    <a:pt x="2024" y="1161"/>
                  </a:lnTo>
                  <a:lnTo>
                    <a:pt x="2046" y="1202"/>
                  </a:lnTo>
                  <a:lnTo>
                    <a:pt x="2051" y="1222"/>
                  </a:lnTo>
                  <a:lnTo>
                    <a:pt x="2057" y="1242"/>
                  </a:lnTo>
                  <a:lnTo>
                    <a:pt x="2062" y="1263"/>
                  </a:lnTo>
                  <a:lnTo>
                    <a:pt x="2069" y="1282"/>
                  </a:lnTo>
                  <a:lnTo>
                    <a:pt x="2075" y="1302"/>
                  </a:lnTo>
                  <a:lnTo>
                    <a:pt x="2083" y="1321"/>
                  </a:lnTo>
                  <a:lnTo>
                    <a:pt x="2089" y="1341"/>
                  </a:lnTo>
                  <a:lnTo>
                    <a:pt x="2095" y="1360"/>
                  </a:lnTo>
                  <a:lnTo>
                    <a:pt x="2109" y="1358"/>
                  </a:lnTo>
                  <a:lnTo>
                    <a:pt x="2104" y="1340"/>
                  </a:lnTo>
                  <a:lnTo>
                    <a:pt x="2098" y="1323"/>
                  </a:lnTo>
                  <a:lnTo>
                    <a:pt x="2093" y="1306"/>
                  </a:lnTo>
                  <a:lnTo>
                    <a:pt x="2088" y="1289"/>
                  </a:lnTo>
                  <a:lnTo>
                    <a:pt x="2083" y="1272"/>
                  </a:lnTo>
                  <a:lnTo>
                    <a:pt x="2077" y="1255"/>
                  </a:lnTo>
                  <a:lnTo>
                    <a:pt x="2072" y="1237"/>
                  </a:lnTo>
                  <a:lnTo>
                    <a:pt x="2067" y="1221"/>
                  </a:lnTo>
                  <a:lnTo>
                    <a:pt x="2130" y="1317"/>
                  </a:lnTo>
                  <a:lnTo>
                    <a:pt x="2131" y="1326"/>
                  </a:lnTo>
                  <a:lnTo>
                    <a:pt x="2135" y="1335"/>
                  </a:lnTo>
                  <a:lnTo>
                    <a:pt x="2138" y="1344"/>
                  </a:lnTo>
                  <a:lnTo>
                    <a:pt x="2144" y="1351"/>
                  </a:lnTo>
                  <a:lnTo>
                    <a:pt x="2158" y="1349"/>
                  </a:lnTo>
                  <a:lnTo>
                    <a:pt x="2144" y="1323"/>
                  </a:lnTo>
                  <a:lnTo>
                    <a:pt x="2130" y="1299"/>
                  </a:lnTo>
                  <a:lnTo>
                    <a:pt x="2116" y="1274"/>
                  </a:lnTo>
                  <a:lnTo>
                    <a:pt x="2103" y="1250"/>
                  </a:lnTo>
                  <a:lnTo>
                    <a:pt x="2089" y="1225"/>
                  </a:lnTo>
                  <a:lnTo>
                    <a:pt x="2076" y="1201"/>
                  </a:lnTo>
                  <a:lnTo>
                    <a:pt x="2065" y="1176"/>
                  </a:lnTo>
                  <a:lnTo>
                    <a:pt x="2052" y="1152"/>
                  </a:lnTo>
                  <a:lnTo>
                    <a:pt x="2061" y="1152"/>
                  </a:lnTo>
                  <a:lnTo>
                    <a:pt x="2210" y="1340"/>
                  </a:lnTo>
                  <a:lnTo>
                    <a:pt x="2225" y="1337"/>
                  </a:lnTo>
                  <a:lnTo>
                    <a:pt x="2210" y="1318"/>
                  </a:lnTo>
                  <a:lnTo>
                    <a:pt x="2194" y="1298"/>
                  </a:lnTo>
                  <a:lnTo>
                    <a:pt x="2179" y="1279"/>
                  </a:lnTo>
                  <a:lnTo>
                    <a:pt x="2164" y="1259"/>
                  </a:lnTo>
                  <a:lnTo>
                    <a:pt x="2149" y="1240"/>
                  </a:lnTo>
                  <a:lnTo>
                    <a:pt x="2133" y="1221"/>
                  </a:lnTo>
                  <a:lnTo>
                    <a:pt x="2118" y="1201"/>
                  </a:lnTo>
                  <a:lnTo>
                    <a:pt x="2103" y="1182"/>
                  </a:lnTo>
                  <a:lnTo>
                    <a:pt x="2122" y="1194"/>
                  </a:lnTo>
                  <a:lnTo>
                    <a:pt x="2142" y="1206"/>
                  </a:lnTo>
                  <a:lnTo>
                    <a:pt x="2161" y="1218"/>
                  </a:lnTo>
                  <a:lnTo>
                    <a:pt x="2182" y="1232"/>
                  </a:lnTo>
                  <a:lnTo>
                    <a:pt x="2202" y="1245"/>
                  </a:lnTo>
                  <a:lnTo>
                    <a:pt x="2222" y="1258"/>
                  </a:lnTo>
                  <a:lnTo>
                    <a:pt x="2243" y="1272"/>
                  </a:lnTo>
                  <a:lnTo>
                    <a:pt x="2263" y="1284"/>
                  </a:lnTo>
                  <a:lnTo>
                    <a:pt x="2266" y="1269"/>
                  </a:lnTo>
                  <a:lnTo>
                    <a:pt x="2103" y="1164"/>
                  </a:lnTo>
                  <a:lnTo>
                    <a:pt x="2123" y="1171"/>
                  </a:lnTo>
                  <a:lnTo>
                    <a:pt x="2142" y="1180"/>
                  </a:lnTo>
                  <a:lnTo>
                    <a:pt x="2164" y="1189"/>
                  </a:lnTo>
                  <a:lnTo>
                    <a:pt x="2184" y="1198"/>
                  </a:lnTo>
                  <a:lnTo>
                    <a:pt x="2206" y="1208"/>
                  </a:lnTo>
                  <a:lnTo>
                    <a:pt x="2227" y="1218"/>
                  </a:lnTo>
                  <a:lnTo>
                    <a:pt x="2249" y="1228"/>
                  </a:lnTo>
                  <a:lnTo>
                    <a:pt x="2271" y="1239"/>
                  </a:lnTo>
                  <a:lnTo>
                    <a:pt x="2273" y="1221"/>
                  </a:lnTo>
                  <a:lnTo>
                    <a:pt x="2138" y="1161"/>
                  </a:lnTo>
                  <a:lnTo>
                    <a:pt x="2281" y="1175"/>
                  </a:lnTo>
                  <a:lnTo>
                    <a:pt x="2282" y="1161"/>
                  </a:lnTo>
                  <a:lnTo>
                    <a:pt x="2257" y="1159"/>
                  </a:lnTo>
                  <a:lnTo>
                    <a:pt x="2231" y="1156"/>
                  </a:lnTo>
                  <a:lnTo>
                    <a:pt x="2205" y="1154"/>
                  </a:lnTo>
                  <a:lnTo>
                    <a:pt x="2180" y="1150"/>
                  </a:lnTo>
                  <a:lnTo>
                    <a:pt x="2155" y="1146"/>
                  </a:lnTo>
                  <a:lnTo>
                    <a:pt x="2130" y="1142"/>
                  </a:lnTo>
                  <a:lnTo>
                    <a:pt x="2105" y="1137"/>
                  </a:lnTo>
                  <a:lnTo>
                    <a:pt x="2081" y="1131"/>
                  </a:lnTo>
                  <a:lnTo>
                    <a:pt x="2063" y="1133"/>
                  </a:lnTo>
                  <a:lnTo>
                    <a:pt x="2079" y="1125"/>
                  </a:lnTo>
                  <a:lnTo>
                    <a:pt x="2290" y="1112"/>
                  </a:lnTo>
                  <a:lnTo>
                    <a:pt x="2292" y="1097"/>
                  </a:lnTo>
                  <a:lnTo>
                    <a:pt x="2183" y="1104"/>
                  </a:lnTo>
                  <a:lnTo>
                    <a:pt x="2197" y="1100"/>
                  </a:lnTo>
                  <a:lnTo>
                    <a:pt x="2211" y="1098"/>
                  </a:lnTo>
                  <a:lnTo>
                    <a:pt x="2225" y="1094"/>
                  </a:lnTo>
                  <a:lnTo>
                    <a:pt x="2239" y="1090"/>
                  </a:lnTo>
                  <a:lnTo>
                    <a:pt x="2253" y="1088"/>
                  </a:lnTo>
                  <a:lnTo>
                    <a:pt x="2268" y="1084"/>
                  </a:lnTo>
                  <a:lnTo>
                    <a:pt x="2282" y="1081"/>
                  </a:lnTo>
                  <a:lnTo>
                    <a:pt x="2296" y="1078"/>
                  </a:lnTo>
                  <a:lnTo>
                    <a:pt x="2299" y="1062"/>
                  </a:lnTo>
                  <a:lnTo>
                    <a:pt x="2285" y="1065"/>
                  </a:lnTo>
                  <a:lnTo>
                    <a:pt x="2271" y="1069"/>
                  </a:lnTo>
                  <a:lnTo>
                    <a:pt x="2257" y="1071"/>
                  </a:lnTo>
                  <a:lnTo>
                    <a:pt x="2243" y="1075"/>
                  </a:lnTo>
                  <a:lnTo>
                    <a:pt x="2230" y="1078"/>
                  </a:lnTo>
                  <a:lnTo>
                    <a:pt x="2216" y="1080"/>
                  </a:lnTo>
                  <a:lnTo>
                    <a:pt x="2202" y="1084"/>
                  </a:lnTo>
                  <a:lnTo>
                    <a:pt x="2188" y="1087"/>
                  </a:lnTo>
                  <a:lnTo>
                    <a:pt x="2174" y="1089"/>
                  </a:lnTo>
                  <a:lnTo>
                    <a:pt x="2160" y="1092"/>
                  </a:lnTo>
                  <a:lnTo>
                    <a:pt x="2146" y="1094"/>
                  </a:lnTo>
                  <a:lnTo>
                    <a:pt x="2132" y="1097"/>
                  </a:lnTo>
                  <a:lnTo>
                    <a:pt x="2118" y="1098"/>
                  </a:lnTo>
                  <a:lnTo>
                    <a:pt x="2104" y="1100"/>
                  </a:lnTo>
                  <a:lnTo>
                    <a:pt x="2090" y="1103"/>
                  </a:lnTo>
                  <a:lnTo>
                    <a:pt x="2076" y="1104"/>
                  </a:lnTo>
                  <a:lnTo>
                    <a:pt x="2071" y="1107"/>
                  </a:lnTo>
                  <a:lnTo>
                    <a:pt x="2066" y="1108"/>
                  </a:lnTo>
                  <a:lnTo>
                    <a:pt x="2061" y="1109"/>
                  </a:lnTo>
                  <a:lnTo>
                    <a:pt x="2055" y="1108"/>
                  </a:lnTo>
                  <a:lnTo>
                    <a:pt x="2060" y="1107"/>
                  </a:lnTo>
                  <a:lnTo>
                    <a:pt x="2066" y="1106"/>
                  </a:lnTo>
                  <a:lnTo>
                    <a:pt x="2071" y="1106"/>
                  </a:lnTo>
                  <a:lnTo>
                    <a:pt x="2076" y="1104"/>
                  </a:lnTo>
                  <a:lnTo>
                    <a:pt x="2081" y="1100"/>
                  </a:lnTo>
                  <a:lnTo>
                    <a:pt x="2088" y="1095"/>
                  </a:lnTo>
                  <a:lnTo>
                    <a:pt x="2094" y="1092"/>
                  </a:lnTo>
                  <a:lnTo>
                    <a:pt x="2103" y="1089"/>
                  </a:lnTo>
                  <a:lnTo>
                    <a:pt x="2305" y="1018"/>
                  </a:lnTo>
                  <a:lnTo>
                    <a:pt x="2308" y="1003"/>
                  </a:lnTo>
                  <a:lnTo>
                    <a:pt x="2285" y="1010"/>
                  </a:lnTo>
                  <a:lnTo>
                    <a:pt x="2263" y="1018"/>
                  </a:lnTo>
                  <a:lnTo>
                    <a:pt x="2240" y="1026"/>
                  </a:lnTo>
                  <a:lnTo>
                    <a:pt x="2217" y="1033"/>
                  </a:lnTo>
                  <a:lnTo>
                    <a:pt x="2194" y="1041"/>
                  </a:lnTo>
                  <a:lnTo>
                    <a:pt x="2172" y="1048"/>
                  </a:lnTo>
                  <a:lnTo>
                    <a:pt x="2150" y="1055"/>
                  </a:lnTo>
                  <a:lnTo>
                    <a:pt x="2127" y="1062"/>
                  </a:lnTo>
                  <a:lnTo>
                    <a:pt x="2295" y="955"/>
                  </a:lnTo>
                  <a:lnTo>
                    <a:pt x="2285" y="941"/>
                  </a:lnTo>
                  <a:lnTo>
                    <a:pt x="2093" y="1065"/>
                  </a:lnTo>
                  <a:lnTo>
                    <a:pt x="2118" y="1021"/>
                  </a:lnTo>
                  <a:lnTo>
                    <a:pt x="2135" y="1007"/>
                  </a:lnTo>
                  <a:lnTo>
                    <a:pt x="2152" y="993"/>
                  </a:lnTo>
                  <a:lnTo>
                    <a:pt x="2170" y="979"/>
                  </a:lnTo>
                  <a:lnTo>
                    <a:pt x="2188" y="966"/>
                  </a:lnTo>
                  <a:lnTo>
                    <a:pt x="2207" y="952"/>
                  </a:lnTo>
                  <a:lnTo>
                    <a:pt x="2225" y="938"/>
                  </a:lnTo>
                  <a:lnTo>
                    <a:pt x="2244" y="926"/>
                  </a:lnTo>
                  <a:lnTo>
                    <a:pt x="2262" y="912"/>
                  </a:lnTo>
                  <a:lnTo>
                    <a:pt x="2250" y="896"/>
                  </a:lnTo>
                  <a:lnTo>
                    <a:pt x="2150" y="974"/>
                  </a:lnTo>
                  <a:lnTo>
                    <a:pt x="2222" y="858"/>
                  </a:lnTo>
                  <a:lnTo>
                    <a:pt x="2212" y="846"/>
                  </a:lnTo>
                  <a:lnTo>
                    <a:pt x="2127" y="979"/>
                  </a:lnTo>
                  <a:lnTo>
                    <a:pt x="2133" y="957"/>
                  </a:lnTo>
                  <a:lnTo>
                    <a:pt x="2141" y="936"/>
                  </a:lnTo>
                  <a:lnTo>
                    <a:pt x="2147" y="915"/>
                  </a:lnTo>
                  <a:lnTo>
                    <a:pt x="2155" y="894"/>
                  </a:lnTo>
                  <a:lnTo>
                    <a:pt x="2163" y="872"/>
                  </a:lnTo>
                  <a:lnTo>
                    <a:pt x="2170" y="852"/>
                  </a:lnTo>
                  <a:lnTo>
                    <a:pt x="2177" y="831"/>
                  </a:lnTo>
                  <a:lnTo>
                    <a:pt x="2184" y="809"/>
                  </a:lnTo>
                  <a:lnTo>
                    <a:pt x="2175" y="798"/>
                  </a:lnTo>
                  <a:lnTo>
                    <a:pt x="2166" y="820"/>
                  </a:lnTo>
                  <a:lnTo>
                    <a:pt x="2159" y="844"/>
                  </a:lnTo>
                  <a:lnTo>
                    <a:pt x="2150" y="869"/>
                  </a:lnTo>
                  <a:lnTo>
                    <a:pt x="2142" y="891"/>
                  </a:lnTo>
                  <a:lnTo>
                    <a:pt x="2133" y="915"/>
                  </a:lnTo>
                  <a:lnTo>
                    <a:pt x="2125" y="940"/>
                  </a:lnTo>
                  <a:lnTo>
                    <a:pt x="2116" y="962"/>
                  </a:lnTo>
                  <a:lnTo>
                    <a:pt x="2105" y="985"/>
                  </a:lnTo>
                  <a:lnTo>
                    <a:pt x="2104" y="997"/>
                  </a:lnTo>
                  <a:lnTo>
                    <a:pt x="2100" y="1007"/>
                  </a:lnTo>
                  <a:lnTo>
                    <a:pt x="2094" y="1016"/>
                  </a:lnTo>
                  <a:lnTo>
                    <a:pt x="2086" y="1023"/>
                  </a:lnTo>
                  <a:lnTo>
                    <a:pt x="2076" y="1029"/>
                  </a:lnTo>
                  <a:lnTo>
                    <a:pt x="2067" y="1037"/>
                  </a:lnTo>
                  <a:lnTo>
                    <a:pt x="2057" y="1042"/>
                  </a:lnTo>
                  <a:lnTo>
                    <a:pt x="2048" y="1048"/>
                  </a:lnTo>
                  <a:lnTo>
                    <a:pt x="2052" y="993"/>
                  </a:lnTo>
                  <a:lnTo>
                    <a:pt x="2062" y="962"/>
                  </a:lnTo>
                  <a:lnTo>
                    <a:pt x="2072" y="931"/>
                  </a:lnTo>
                  <a:lnTo>
                    <a:pt x="2083" y="900"/>
                  </a:lnTo>
                  <a:lnTo>
                    <a:pt x="2093" y="869"/>
                  </a:lnTo>
                  <a:lnTo>
                    <a:pt x="2103" y="837"/>
                  </a:lnTo>
                  <a:lnTo>
                    <a:pt x="2113" y="805"/>
                  </a:lnTo>
                  <a:lnTo>
                    <a:pt x="2123" y="775"/>
                  </a:lnTo>
                  <a:lnTo>
                    <a:pt x="2133" y="743"/>
                  </a:lnTo>
                  <a:lnTo>
                    <a:pt x="2122" y="729"/>
                  </a:lnTo>
                  <a:lnTo>
                    <a:pt x="2048" y="964"/>
                  </a:lnTo>
                  <a:lnTo>
                    <a:pt x="2044" y="889"/>
                  </a:lnTo>
                  <a:lnTo>
                    <a:pt x="2043" y="814"/>
                  </a:lnTo>
                  <a:lnTo>
                    <a:pt x="2043" y="738"/>
                  </a:lnTo>
                  <a:lnTo>
                    <a:pt x="2043" y="663"/>
                  </a:lnTo>
                  <a:lnTo>
                    <a:pt x="2019" y="661"/>
                  </a:lnTo>
                  <a:lnTo>
                    <a:pt x="2029" y="747"/>
                  </a:lnTo>
                  <a:lnTo>
                    <a:pt x="2033" y="833"/>
                  </a:lnTo>
                  <a:lnTo>
                    <a:pt x="2033" y="919"/>
                  </a:lnTo>
                  <a:lnTo>
                    <a:pt x="2033" y="1005"/>
                  </a:lnTo>
                  <a:lnTo>
                    <a:pt x="2019" y="1052"/>
                  </a:lnTo>
                  <a:lnTo>
                    <a:pt x="2001" y="991"/>
                  </a:lnTo>
                  <a:lnTo>
                    <a:pt x="1994" y="926"/>
                  </a:lnTo>
                  <a:lnTo>
                    <a:pt x="1991" y="858"/>
                  </a:lnTo>
                  <a:lnTo>
                    <a:pt x="1988" y="789"/>
                  </a:lnTo>
                  <a:lnTo>
                    <a:pt x="1976" y="803"/>
                  </a:lnTo>
                  <a:lnTo>
                    <a:pt x="1972" y="824"/>
                  </a:lnTo>
                  <a:lnTo>
                    <a:pt x="1975" y="847"/>
                  </a:lnTo>
                  <a:lnTo>
                    <a:pt x="1977" y="869"/>
                  </a:lnTo>
                  <a:lnTo>
                    <a:pt x="1972" y="848"/>
                  </a:lnTo>
                  <a:lnTo>
                    <a:pt x="1968" y="829"/>
                  </a:lnTo>
                  <a:lnTo>
                    <a:pt x="1964" y="809"/>
                  </a:lnTo>
                  <a:lnTo>
                    <a:pt x="1962" y="789"/>
                  </a:lnTo>
                  <a:lnTo>
                    <a:pt x="1941" y="789"/>
                  </a:lnTo>
                  <a:lnTo>
                    <a:pt x="1949" y="820"/>
                  </a:lnTo>
                  <a:lnTo>
                    <a:pt x="1959" y="855"/>
                  </a:lnTo>
                  <a:lnTo>
                    <a:pt x="1967" y="889"/>
                  </a:lnTo>
                  <a:lnTo>
                    <a:pt x="1976" y="923"/>
                  </a:lnTo>
                  <a:lnTo>
                    <a:pt x="1981" y="959"/>
                  </a:lnTo>
                  <a:lnTo>
                    <a:pt x="1985" y="994"/>
                  </a:lnTo>
                  <a:lnTo>
                    <a:pt x="1985" y="1028"/>
                  </a:lnTo>
                  <a:lnTo>
                    <a:pt x="1980" y="1062"/>
                  </a:lnTo>
                  <a:lnTo>
                    <a:pt x="1875" y="829"/>
                  </a:lnTo>
                  <a:lnTo>
                    <a:pt x="1869" y="829"/>
                  </a:lnTo>
                  <a:lnTo>
                    <a:pt x="1877" y="857"/>
                  </a:lnTo>
                  <a:lnTo>
                    <a:pt x="1886" y="884"/>
                  </a:lnTo>
                  <a:lnTo>
                    <a:pt x="1897" y="910"/>
                  </a:lnTo>
                  <a:lnTo>
                    <a:pt x="1910" y="937"/>
                  </a:lnTo>
                  <a:lnTo>
                    <a:pt x="1922" y="964"/>
                  </a:lnTo>
                  <a:lnTo>
                    <a:pt x="1935" y="990"/>
                  </a:lnTo>
                  <a:lnTo>
                    <a:pt x="1947" y="1017"/>
                  </a:lnTo>
                  <a:lnTo>
                    <a:pt x="1957" y="1045"/>
                  </a:lnTo>
                  <a:lnTo>
                    <a:pt x="1931" y="1026"/>
                  </a:lnTo>
                  <a:lnTo>
                    <a:pt x="1911" y="1004"/>
                  </a:lnTo>
                  <a:lnTo>
                    <a:pt x="1894" y="980"/>
                  </a:lnTo>
                  <a:lnTo>
                    <a:pt x="1882" y="953"/>
                  </a:lnTo>
                  <a:lnTo>
                    <a:pt x="1870" y="927"/>
                  </a:lnTo>
                  <a:lnTo>
                    <a:pt x="1859" y="899"/>
                  </a:lnTo>
                  <a:lnTo>
                    <a:pt x="1849" y="871"/>
                  </a:lnTo>
                  <a:lnTo>
                    <a:pt x="1836" y="844"/>
                  </a:lnTo>
                  <a:lnTo>
                    <a:pt x="1841" y="842"/>
                  </a:lnTo>
                  <a:lnTo>
                    <a:pt x="1846" y="838"/>
                  </a:lnTo>
                  <a:lnTo>
                    <a:pt x="1852" y="834"/>
                  </a:lnTo>
                  <a:lnTo>
                    <a:pt x="1858" y="829"/>
                  </a:lnTo>
                  <a:lnTo>
                    <a:pt x="1863" y="824"/>
                  </a:lnTo>
                  <a:lnTo>
                    <a:pt x="1865" y="818"/>
                  </a:lnTo>
                  <a:lnTo>
                    <a:pt x="1866" y="812"/>
                  </a:lnTo>
                  <a:lnTo>
                    <a:pt x="1864" y="805"/>
                  </a:lnTo>
                  <a:lnTo>
                    <a:pt x="1860" y="801"/>
                  </a:lnTo>
                  <a:lnTo>
                    <a:pt x="1861" y="798"/>
                  </a:lnTo>
                  <a:lnTo>
                    <a:pt x="1864" y="794"/>
                  </a:lnTo>
                  <a:lnTo>
                    <a:pt x="1866" y="789"/>
                  </a:lnTo>
                  <a:lnTo>
                    <a:pt x="1875" y="787"/>
                  </a:lnTo>
                  <a:lnTo>
                    <a:pt x="1886" y="786"/>
                  </a:lnTo>
                  <a:lnTo>
                    <a:pt x="1896" y="785"/>
                  </a:lnTo>
                  <a:lnTo>
                    <a:pt x="1906" y="785"/>
                  </a:lnTo>
                  <a:lnTo>
                    <a:pt x="1915" y="785"/>
                  </a:lnTo>
                  <a:lnTo>
                    <a:pt x="1925" y="785"/>
                  </a:lnTo>
                  <a:lnTo>
                    <a:pt x="1934" y="786"/>
                  </a:lnTo>
                  <a:lnTo>
                    <a:pt x="1941" y="789"/>
                  </a:lnTo>
                  <a:lnTo>
                    <a:pt x="1962" y="789"/>
                  </a:lnTo>
                  <a:lnTo>
                    <a:pt x="1973" y="785"/>
                  </a:lnTo>
                  <a:lnTo>
                    <a:pt x="1983" y="779"/>
                  </a:lnTo>
                  <a:lnTo>
                    <a:pt x="1992" y="771"/>
                  </a:lnTo>
                  <a:lnTo>
                    <a:pt x="1999" y="761"/>
                  </a:lnTo>
                  <a:lnTo>
                    <a:pt x="2004" y="735"/>
                  </a:lnTo>
                  <a:lnTo>
                    <a:pt x="2005" y="708"/>
                  </a:lnTo>
                  <a:lnTo>
                    <a:pt x="2002" y="681"/>
                  </a:lnTo>
                  <a:lnTo>
                    <a:pt x="1995" y="661"/>
                  </a:lnTo>
                  <a:lnTo>
                    <a:pt x="1957" y="661"/>
                  </a:lnTo>
                  <a:lnTo>
                    <a:pt x="1947" y="686"/>
                  </a:lnTo>
                  <a:lnTo>
                    <a:pt x="1926" y="699"/>
                  </a:lnTo>
                  <a:lnTo>
                    <a:pt x="1901" y="703"/>
                  </a:lnTo>
                  <a:lnTo>
                    <a:pt x="1873" y="703"/>
                  </a:lnTo>
                  <a:lnTo>
                    <a:pt x="1847" y="704"/>
                  </a:lnTo>
                  <a:lnTo>
                    <a:pt x="1826" y="711"/>
                  </a:lnTo>
                  <a:lnTo>
                    <a:pt x="1813" y="730"/>
                  </a:lnTo>
                  <a:lnTo>
                    <a:pt x="1813" y="765"/>
                  </a:lnTo>
                  <a:lnTo>
                    <a:pt x="1816" y="770"/>
                  </a:lnTo>
                  <a:lnTo>
                    <a:pt x="1821" y="775"/>
                  </a:lnTo>
                  <a:lnTo>
                    <a:pt x="1826" y="780"/>
                  </a:lnTo>
                  <a:lnTo>
                    <a:pt x="1831" y="785"/>
                  </a:lnTo>
                  <a:lnTo>
                    <a:pt x="1819" y="798"/>
                  </a:lnTo>
                  <a:lnTo>
                    <a:pt x="1816" y="787"/>
                  </a:lnTo>
                  <a:lnTo>
                    <a:pt x="1809" y="776"/>
                  </a:lnTo>
                  <a:lnTo>
                    <a:pt x="1803" y="765"/>
                  </a:lnTo>
                  <a:lnTo>
                    <a:pt x="1798" y="753"/>
                  </a:lnTo>
                  <a:lnTo>
                    <a:pt x="1794" y="743"/>
                  </a:lnTo>
                  <a:lnTo>
                    <a:pt x="1793" y="732"/>
                  </a:lnTo>
                  <a:lnTo>
                    <a:pt x="1798" y="723"/>
                  </a:lnTo>
                  <a:lnTo>
                    <a:pt x="1809" y="714"/>
                  </a:lnTo>
                  <a:lnTo>
                    <a:pt x="1825" y="703"/>
                  </a:lnTo>
                  <a:lnTo>
                    <a:pt x="1842" y="692"/>
                  </a:lnTo>
                  <a:lnTo>
                    <a:pt x="1860" y="685"/>
                  </a:lnTo>
                  <a:lnTo>
                    <a:pt x="1879" y="678"/>
                  </a:lnTo>
                  <a:lnTo>
                    <a:pt x="1898" y="673"/>
                  </a:lnTo>
                  <a:lnTo>
                    <a:pt x="1917" y="670"/>
                  </a:lnTo>
                  <a:lnTo>
                    <a:pt x="1938" y="666"/>
                  </a:lnTo>
                  <a:lnTo>
                    <a:pt x="1957" y="661"/>
                  </a:lnTo>
                  <a:lnTo>
                    <a:pt x="1995" y="661"/>
                  </a:lnTo>
                  <a:lnTo>
                    <a:pt x="2019" y="661"/>
                  </a:lnTo>
                  <a:lnTo>
                    <a:pt x="2043" y="663"/>
                  </a:lnTo>
                  <a:lnTo>
                    <a:pt x="2058" y="663"/>
                  </a:lnTo>
                  <a:lnTo>
                    <a:pt x="2058" y="713"/>
                  </a:lnTo>
                  <a:lnTo>
                    <a:pt x="2055" y="761"/>
                  </a:lnTo>
                  <a:lnTo>
                    <a:pt x="2050" y="810"/>
                  </a:lnTo>
                  <a:lnTo>
                    <a:pt x="2048" y="857"/>
                  </a:lnTo>
                  <a:lnTo>
                    <a:pt x="2052" y="856"/>
                  </a:lnTo>
                  <a:lnTo>
                    <a:pt x="2056" y="855"/>
                  </a:lnTo>
                  <a:lnTo>
                    <a:pt x="2057" y="851"/>
                  </a:lnTo>
                  <a:lnTo>
                    <a:pt x="2058" y="848"/>
                  </a:lnTo>
                  <a:lnTo>
                    <a:pt x="2076" y="666"/>
                  </a:lnTo>
                  <a:lnTo>
                    <a:pt x="2097" y="671"/>
                  </a:lnTo>
                  <a:lnTo>
                    <a:pt x="2119" y="597"/>
                  </a:lnTo>
                  <a:lnTo>
                    <a:pt x="2113" y="596"/>
                  </a:lnTo>
                  <a:lnTo>
                    <a:pt x="2107" y="595"/>
                  </a:lnTo>
                  <a:lnTo>
                    <a:pt x="2102" y="594"/>
                  </a:lnTo>
                  <a:lnTo>
                    <a:pt x="2095" y="592"/>
                  </a:lnTo>
                  <a:lnTo>
                    <a:pt x="2090" y="590"/>
                  </a:lnTo>
                  <a:lnTo>
                    <a:pt x="2084" y="588"/>
                  </a:lnTo>
                  <a:lnTo>
                    <a:pt x="2079" y="585"/>
                  </a:lnTo>
                  <a:lnTo>
                    <a:pt x="2074" y="582"/>
                  </a:lnTo>
                  <a:lnTo>
                    <a:pt x="2076" y="576"/>
                  </a:lnTo>
                  <a:lnTo>
                    <a:pt x="2081" y="571"/>
                  </a:lnTo>
                  <a:lnTo>
                    <a:pt x="2086" y="564"/>
                  </a:lnTo>
                  <a:lnTo>
                    <a:pt x="2088" y="558"/>
                  </a:lnTo>
                  <a:lnTo>
                    <a:pt x="2072" y="553"/>
                  </a:lnTo>
                  <a:lnTo>
                    <a:pt x="2057" y="549"/>
                  </a:lnTo>
                  <a:lnTo>
                    <a:pt x="2042" y="547"/>
                  </a:lnTo>
                  <a:lnTo>
                    <a:pt x="2027" y="544"/>
                  </a:lnTo>
                  <a:lnTo>
                    <a:pt x="2010" y="544"/>
                  </a:lnTo>
                  <a:lnTo>
                    <a:pt x="1995" y="544"/>
                  </a:lnTo>
                  <a:lnTo>
                    <a:pt x="1978" y="545"/>
                  </a:lnTo>
                  <a:lnTo>
                    <a:pt x="1963" y="547"/>
                  </a:lnTo>
                  <a:lnTo>
                    <a:pt x="1948" y="550"/>
                  </a:lnTo>
                  <a:lnTo>
                    <a:pt x="1931" y="553"/>
                  </a:lnTo>
                  <a:lnTo>
                    <a:pt x="1916" y="558"/>
                  </a:lnTo>
                  <a:lnTo>
                    <a:pt x="1901" y="562"/>
                  </a:lnTo>
                  <a:lnTo>
                    <a:pt x="1887" y="568"/>
                  </a:lnTo>
                  <a:lnTo>
                    <a:pt x="1872" y="573"/>
                  </a:lnTo>
                  <a:lnTo>
                    <a:pt x="1859" y="580"/>
                  </a:lnTo>
                  <a:lnTo>
                    <a:pt x="1845" y="586"/>
                  </a:lnTo>
                  <a:lnTo>
                    <a:pt x="1841" y="576"/>
                  </a:lnTo>
                  <a:lnTo>
                    <a:pt x="1835" y="571"/>
                  </a:lnTo>
                  <a:lnTo>
                    <a:pt x="1827" y="567"/>
                  </a:lnTo>
                  <a:lnTo>
                    <a:pt x="1819" y="564"/>
                  </a:lnTo>
                  <a:lnTo>
                    <a:pt x="1811" y="562"/>
                  </a:lnTo>
                  <a:lnTo>
                    <a:pt x="1805" y="557"/>
                  </a:lnTo>
                  <a:lnTo>
                    <a:pt x="1803" y="549"/>
                  </a:lnTo>
                  <a:lnTo>
                    <a:pt x="1804" y="538"/>
                  </a:lnTo>
                  <a:lnTo>
                    <a:pt x="1791" y="5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06520" y="2390760"/>
              <a:ext cx="55440" cy="38160"/>
            </a:xfrm>
            <a:custGeom>
              <a:avLst/>
              <a:gdLst/>
              <a:ahLst/>
              <a:rect l="l" t="t" r="r" b="b"/>
              <a:pathLst>
                <a:path w="142" h="76">
                  <a:moveTo>
                    <a:pt x="140" y="61"/>
                  </a:moveTo>
                  <a:lnTo>
                    <a:pt x="2" y="0"/>
                  </a:lnTo>
                  <a:lnTo>
                    <a:pt x="0" y="18"/>
                  </a:lnTo>
                  <a:lnTo>
                    <a:pt x="16" y="25"/>
                  </a:lnTo>
                  <a:lnTo>
                    <a:pt x="34" y="33"/>
                  </a:lnTo>
                  <a:lnTo>
                    <a:pt x="51" y="40"/>
                  </a:lnTo>
                  <a:lnTo>
                    <a:pt x="68" y="48"/>
                  </a:lnTo>
                  <a:lnTo>
                    <a:pt x="85" y="56"/>
                  </a:lnTo>
                  <a:lnTo>
                    <a:pt x="103" y="62"/>
                  </a:lnTo>
                  <a:lnTo>
                    <a:pt x="119" y="70"/>
                  </a:lnTo>
                  <a:lnTo>
                    <a:pt x="136" y="76"/>
                  </a:lnTo>
                  <a:lnTo>
                    <a:pt x="140" y="73"/>
                  </a:lnTo>
                  <a:lnTo>
                    <a:pt x="142" y="68"/>
                  </a:lnTo>
                  <a:lnTo>
                    <a:pt x="142" y="64"/>
                  </a:lnTo>
                  <a:lnTo>
                    <a:pt x="14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98600" y="2193480"/>
              <a:ext cx="39600" cy="41760"/>
            </a:xfrm>
            <a:custGeom>
              <a:avLst/>
              <a:gdLst/>
              <a:ahLst/>
              <a:rect l="l" t="t" r="r" b="b"/>
              <a:pathLst>
                <a:path w="103" h="83">
                  <a:moveTo>
                    <a:pt x="88" y="0"/>
                  </a:moveTo>
                  <a:lnTo>
                    <a:pt x="0" y="67"/>
                  </a:lnTo>
                  <a:lnTo>
                    <a:pt x="12" y="83"/>
                  </a:lnTo>
                  <a:lnTo>
                    <a:pt x="23" y="74"/>
                  </a:lnTo>
                  <a:lnTo>
                    <a:pt x="36" y="65"/>
                  </a:lnTo>
                  <a:lnTo>
                    <a:pt x="47" y="55"/>
                  </a:lnTo>
                  <a:lnTo>
                    <a:pt x="59" y="46"/>
                  </a:lnTo>
                  <a:lnTo>
                    <a:pt x="70" y="36"/>
                  </a:lnTo>
                  <a:lnTo>
                    <a:pt x="82" y="27"/>
                  </a:lnTo>
                  <a:lnTo>
                    <a:pt x="93" y="17"/>
                  </a:lnTo>
                  <a:lnTo>
                    <a:pt x="103" y="7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3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39840" y="2477880"/>
              <a:ext cx="22320" cy="66240"/>
            </a:xfrm>
            <a:custGeom>
              <a:avLst/>
              <a:gdLst/>
              <a:ahLst/>
              <a:rect l="l" t="t" r="r" b="b"/>
              <a:pathLst>
                <a:path w="54" h="131">
                  <a:moveTo>
                    <a:pt x="10" y="131"/>
                  </a:moveTo>
                  <a:lnTo>
                    <a:pt x="15" y="114"/>
                  </a:lnTo>
                  <a:lnTo>
                    <a:pt x="20" y="98"/>
                  </a:lnTo>
                  <a:lnTo>
                    <a:pt x="26" y="81"/>
                  </a:lnTo>
                  <a:lnTo>
                    <a:pt x="32" y="65"/>
                  </a:lnTo>
                  <a:lnTo>
                    <a:pt x="38" y="50"/>
                  </a:lnTo>
                  <a:lnTo>
                    <a:pt x="43" y="33"/>
                  </a:lnTo>
                  <a:lnTo>
                    <a:pt x="49" y="17"/>
                  </a:lnTo>
                  <a:lnTo>
                    <a:pt x="54" y="0"/>
                  </a:lnTo>
                  <a:lnTo>
                    <a:pt x="39" y="3"/>
                  </a:lnTo>
                  <a:lnTo>
                    <a:pt x="34" y="18"/>
                  </a:lnTo>
                  <a:lnTo>
                    <a:pt x="29" y="34"/>
                  </a:lnTo>
                  <a:lnTo>
                    <a:pt x="24" y="50"/>
                  </a:lnTo>
                  <a:lnTo>
                    <a:pt x="19" y="65"/>
                  </a:lnTo>
                  <a:lnTo>
                    <a:pt x="14" y="80"/>
                  </a:lnTo>
                  <a:lnTo>
                    <a:pt x="9" y="95"/>
                  </a:lnTo>
                  <a:lnTo>
                    <a:pt x="4" y="112"/>
                  </a:lnTo>
                  <a:lnTo>
                    <a:pt x="0" y="127"/>
                  </a:lnTo>
                  <a:lnTo>
                    <a:pt x="2" y="129"/>
                  </a:lnTo>
                  <a:lnTo>
                    <a:pt x="5" y="131"/>
                  </a:lnTo>
                  <a:lnTo>
                    <a:pt x="7" y="131"/>
                  </a:lnTo>
                  <a:lnTo>
                    <a:pt x="1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0960" y="2449440"/>
              <a:ext cx="46080" cy="662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114" y="127"/>
                  </a:moveTo>
                  <a:lnTo>
                    <a:pt x="114" y="117"/>
                  </a:lnTo>
                  <a:lnTo>
                    <a:pt x="101" y="103"/>
                  </a:lnTo>
                  <a:lnTo>
                    <a:pt x="87" y="89"/>
                  </a:lnTo>
                  <a:lnTo>
                    <a:pt x="75" y="74"/>
                  </a:lnTo>
                  <a:lnTo>
                    <a:pt x="63" y="60"/>
                  </a:lnTo>
                  <a:lnTo>
                    <a:pt x="51" y="45"/>
                  </a:lnTo>
                  <a:lnTo>
                    <a:pt x="38" y="30"/>
                  </a:lnTo>
                  <a:lnTo>
                    <a:pt x="26" y="16"/>
                  </a:lnTo>
                  <a:lnTo>
                    <a:pt x="15" y="0"/>
                  </a:lnTo>
                  <a:lnTo>
                    <a:pt x="0" y="3"/>
                  </a:lnTo>
                  <a:lnTo>
                    <a:pt x="103" y="132"/>
                  </a:lnTo>
                  <a:lnTo>
                    <a:pt x="106" y="132"/>
                  </a:lnTo>
                  <a:lnTo>
                    <a:pt x="110" y="132"/>
                  </a:lnTo>
                  <a:lnTo>
                    <a:pt x="113" y="131"/>
                  </a:lnTo>
                  <a:lnTo>
                    <a:pt x="114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03280" y="2415240"/>
              <a:ext cx="52560" cy="48240"/>
            </a:xfrm>
            <a:custGeom>
              <a:avLst/>
              <a:gdLst/>
              <a:ahLst/>
              <a:rect l="l" t="t" r="r" b="b"/>
              <a:pathLst>
                <a:path w="135" h="95">
                  <a:moveTo>
                    <a:pt x="135" y="87"/>
                  </a:moveTo>
                  <a:lnTo>
                    <a:pt x="3" y="0"/>
                  </a:lnTo>
                  <a:lnTo>
                    <a:pt x="0" y="15"/>
                  </a:lnTo>
                  <a:lnTo>
                    <a:pt x="15" y="25"/>
                  </a:lnTo>
                  <a:lnTo>
                    <a:pt x="32" y="35"/>
                  </a:lnTo>
                  <a:lnTo>
                    <a:pt x="47" y="47"/>
                  </a:lnTo>
                  <a:lnTo>
                    <a:pt x="64" y="57"/>
                  </a:lnTo>
                  <a:lnTo>
                    <a:pt x="79" y="67"/>
                  </a:lnTo>
                  <a:lnTo>
                    <a:pt x="95" y="76"/>
                  </a:lnTo>
                  <a:lnTo>
                    <a:pt x="111" y="86"/>
                  </a:lnTo>
                  <a:lnTo>
                    <a:pt x="127" y="95"/>
                  </a:lnTo>
                  <a:lnTo>
                    <a:pt x="13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41560" y="2266200"/>
              <a:ext cx="64800" cy="37800"/>
            </a:xfrm>
            <a:custGeom>
              <a:avLst/>
              <a:gdLst/>
              <a:ahLst/>
              <a:rect l="l" t="t" r="r" b="b"/>
              <a:pathLst>
                <a:path w="164" h="74">
                  <a:moveTo>
                    <a:pt x="0" y="5"/>
                  </a:moveTo>
                  <a:lnTo>
                    <a:pt x="14" y="14"/>
                  </a:lnTo>
                  <a:lnTo>
                    <a:pt x="28" y="23"/>
                  </a:lnTo>
                  <a:lnTo>
                    <a:pt x="43" y="29"/>
                  </a:lnTo>
                  <a:lnTo>
                    <a:pt x="58" y="35"/>
                  </a:lnTo>
                  <a:lnTo>
                    <a:pt x="75" y="42"/>
                  </a:lnTo>
                  <a:lnTo>
                    <a:pt x="90" y="47"/>
                  </a:lnTo>
                  <a:lnTo>
                    <a:pt x="107" y="52"/>
                  </a:lnTo>
                  <a:lnTo>
                    <a:pt x="123" y="55"/>
                  </a:lnTo>
                  <a:lnTo>
                    <a:pt x="128" y="58"/>
                  </a:lnTo>
                  <a:lnTo>
                    <a:pt x="133" y="61"/>
                  </a:lnTo>
                  <a:lnTo>
                    <a:pt x="138" y="63"/>
                  </a:lnTo>
                  <a:lnTo>
                    <a:pt x="144" y="66"/>
                  </a:lnTo>
                  <a:lnTo>
                    <a:pt x="149" y="68"/>
                  </a:lnTo>
                  <a:lnTo>
                    <a:pt x="154" y="71"/>
                  </a:lnTo>
                  <a:lnTo>
                    <a:pt x="159" y="72"/>
                  </a:lnTo>
                  <a:lnTo>
                    <a:pt x="164" y="74"/>
                  </a:lnTo>
                  <a:lnTo>
                    <a:pt x="161" y="62"/>
                  </a:lnTo>
                  <a:lnTo>
                    <a:pt x="142" y="54"/>
                  </a:lnTo>
                  <a:lnTo>
                    <a:pt x="122" y="47"/>
                  </a:lnTo>
                  <a:lnTo>
                    <a:pt x="103" y="39"/>
                  </a:lnTo>
                  <a:lnTo>
                    <a:pt x="84" y="30"/>
                  </a:lnTo>
                  <a:lnTo>
                    <a:pt x="63" y="23"/>
                  </a:lnTo>
                  <a:lnTo>
                    <a:pt x="44" y="15"/>
                  </a:lnTo>
                  <a:lnTo>
                    <a:pt x="25" y="7"/>
                  </a:lnTo>
                  <a:lnTo>
                    <a:pt x="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62080" y="2405160"/>
              <a:ext cx="57240" cy="6012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0" y="115"/>
                  </a:moveTo>
                  <a:lnTo>
                    <a:pt x="5" y="121"/>
                  </a:lnTo>
                  <a:lnTo>
                    <a:pt x="23" y="109"/>
                  </a:lnTo>
                  <a:lnTo>
                    <a:pt x="42" y="97"/>
                  </a:lnTo>
                  <a:lnTo>
                    <a:pt x="59" y="84"/>
                  </a:lnTo>
                  <a:lnTo>
                    <a:pt x="76" y="70"/>
                  </a:lnTo>
                  <a:lnTo>
                    <a:pt x="94" y="56"/>
                  </a:lnTo>
                  <a:lnTo>
                    <a:pt x="111" y="42"/>
                  </a:lnTo>
                  <a:lnTo>
                    <a:pt x="129" y="28"/>
                  </a:lnTo>
                  <a:lnTo>
                    <a:pt x="145" y="14"/>
                  </a:lnTo>
                  <a:lnTo>
                    <a:pt x="143" y="0"/>
                  </a:lnTo>
                  <a:lnTo>
                    <a:pt x="125" y="14"/>
                  </a:lnTo>
                  <a:lnTo>
                    <a:pt x="106" y="28"/>
                  </a:lnTo>
                  <a:lnTo>
                    <a:pt x="87" y="41"/>
                  </a:lnTo>
                  <a:lnTo>
                    <a:pt x="68" y="55"/>
                  </a:lnTo>
                  <a:lnTo>
                    <a:pt x="50" y="69"/>
                  </a:lnTo>
                  <a:lnTo>
                    <a:pt x="32" y="84"/>
                  </a:lnTo>
                  <a:lnTo>
                    <a:pt x="15" y="99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7680" y="2395080"/>
              <a:ext cx="69840" cy="36000"/>
            </a:xfrm>
            <a:custGeom>
              <a:avLst/>
              <a:gdLst/>
              <a:ahLst/>
              <a:rect l="l" t="t" r="r" b="b"/>
              <a:pathLst>
                <a:path w="176" h="75">
                  <a:moveTo>
                    <a:pt x="0" y="75"/>
                  </a:moveTo>
                  <a:lnTo>
                    <a:pt x="23" y="75"/>
                  </a:lnTo>
                  <a:lnTo>
                    <a:pt x="45" y="70"/>
                  </a:lnTo>
                  <a:lnTo>
                    <a:pt x="66" y="64"/>
                  </a:lnTo>
                  <a:lnTo>
                    <a:pt x="88" y="53"/>
                  </a:lnTo>
                  <a:lnTo>
                    <a:pt x="109" y="43"/>
                  </a:lnTo>
                  <a:lnTo>
                    <a:pt x="131" y="33"/>
                  </a:lnTo>
                  <a:lnTo>
                    <a:pt x="153" y="23"/>
                  </a:lnTo>
                  <a:lnTo>
                    <a:pt x="176" y="17"/>
                  </a:lnTo>
                  <a:lnTo>
                    <a:pt x="173" y="0"/>
                  </a:lnTo>
                  <a:lnTo>
                    <a:pt x="151" y="9"/>
                  </a:lnTo>
                  <a:lnTo>
                    <a:pt x="130" y="17"/>
                  </a:lnTo>
                  <a:lnTo>
                    <a:pt x="108" y="26"/>
                  </a:lnTo>
                  <a:lnTo>
                    <a:pt x="87" y="33"/>
                  </a:lnTo>
                  <a:lnTo>
                    <a:pt x="65" y="41"/>
                  </a:lnTo>
                  <a:lnTo>
                    <a:pt x="42" y="50"/>
                  </a:lnTo>
                  <a:lnTo>
                    <a:pt x="22" y="60"/>
                  </a:lnTo>
                  <a:lnTo>
                    <a:pt x="0" y="7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87360" y="2469600"/>
              <a:ext cx="9720" cy="102600"/>
            </a:xfrm>
            <a:custGeom>
              <a:avLst/>
              <a:gdLst/>
              <a:ahLst/>
              <a:rect l="l" t="t" r="r" b="b"/>
              <a:pathLst>
                <a:path w="24" h="201">
                  <a:moveTo>
                    <a:pt x="12" y="201"/>
                  </a:moveTo>
                  <a:lnTo>
                    <a:pt x="24" y="0"/>
                  </a:lnTo>
                  <a:lnTo>
                    <a:pt x="7" y="3"/>
                  </a:lnTo>
                  <a:lnTo>
                    <a:pt x="0" y="195"/>
                  </a:lnTo>
                  <a:lnTo>
                    <a:pt x="2" y="198"/>
                  </a:lnTo>
                  <a:lnTo>
                    <a:pt x="5" y="200"/>
                  </a:lnTo>
                  <a:lnTo>
                    <a:pt x="9" y="201"/>
                  </a:lnTo>
                  <a:lnTo>
                    <a:pt x="12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8360" y="2134800"/>
              <a:ext cx="14400" cy="48240"/>
            </a:xfrm>
            <a:custGeom>
              <a:avLst/>
              <a:gdLst/>
              <a:ahLst/>
              <a:rect l="l" t="t" r="r" b="b"/>
              <a:pathLst>
                <a:path w="37" h="99">
                  <a:moveTo>
                    <a:pt x="35" y="0"/>
                  </a:moveTo>
                  <a:lnTo>
                    <a:pt x="26" y="22"/>
                  </a:lnTo>
                  <a:lnTo>
                    <a:pt x="17" y="43"/>
                  </a:lnTo>
                  <a:lnTo>
                    <a:pt x="8" y="66"/>
                  </a:lnTo>
                  <a:lnTo>
                    <a:pt x="0" y="88"/>
                  </a:lnTo>
                  <a:lnTo>
                    <a:pt x="9" y="99"/>
                  </a:lnTo>
                  <a:lnTo>
                    <a:pt x="17" y="75"/>
                  </a:lnTo>
                  <a:lnTo>
                    <a:pt x="25" y="51"/>
                  </a:lnTo>
                  <a:lnTo>
                    <a:pt x="31" y="28"/>
                  </a:lnTo>
                  <a:lnTo>
                    <a:pt x="37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03200" y="2467800"/>
              <a:ext cx="7920" cy="100440"/>
            </a:xfrm>
            <a:custGeom>
              <a:avLst/>
              <a:gdLst/>
              <a:ahLst/>
              <a:rect l="l" t="t" r="r" b="b"/>
              <a:pathLst>
                <a:path w="20" h="199">
                  <a:moveTo>
                    <a:pt x="11" y="199"/>
                  </a:moveTo>
                  <a:lnTo>
                    <a:pt x="20" y="190"/>
                  </a:lnTo>
                  <a:lnTo>
                    <a:pt x="16" y="0"/>
                  </a:lnTo>
                  <a:lnTo>
                    <a:pt x="0" y="3"/>
                  </a:lnTo>
                  <a:lnTo>
                    <a:pt x="6" y="192"/>
                  </a:lnTo>
                  <a:lnTo>
                    <a:pt x="11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36520" y="2366640"/>
              <a:ext cx="77760" cy="259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54" y="26"/>
                  </a:moveTo>
                  <a:lnTo>
                    <a:pt x="47" y="27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25" y="35"/>
                  </a:lnTo>
                  <a:lnTo>
                    <a:pt x="19" y="40"/>
                  </a:lnTo>
                  <a:lnTo>
                    <a:pt x="12" y="43"/>
                  </a:lnTo>
                  <a:lnTo>
                    <a:pt x="6" y="49"/>
                  </a:lnTo>
                  <a:lnTo>
                    <a:pt x="0" y="52"/>
                  </a:lnTo>
                  <a:lnTo>
                    <a:pt x="24" y="50"/>
                  </a:lnTo>
                  <a:lnTo>
                    <a:pt x="48" y="46"/>
                  </a:lnTo>
                  <a:lnTo>
                    <a:pt x="73" y="41"/>
                  </a:lnTo>
                  <a:lnTo>
                    <a:pt x="97" y="36"/>
                  </a:lnTo>
                  <a:lnTo>
                    <a:pt x="123" y="31"/>
                  </a:lnTo>
                  <a:lnTo>
                    <a:pt x="147" y="24"/>
                  </a:lnTo>
                  <a:lnTo>
                    <a:pt x="172" y="18"/>
                  </a:lnTo>
                  <a:lnTo>
                    <a:pt x="197" y="12"/>
                  </a:lnTo>
                  <a:lnTo>
                    <a:pt x="195" y="0"/>
                  </a:lnTo>
                  <a:lnTo>
                    <a:pt x="183" y="3"/>
                  </a:lnTo>
                  <a:lnTo>
                    <a:pt x="170" y="5"/>
                  </a:lnTo>
                  <a:lnTo>
                    <a:pt x="156" y="8"/>
                  </a:lnTo>
                  <a:lnTo>
                    <a:pt x="143" y="11"/>
                  </a:lnTo>
                  <a:lnTo>
                    <a:pt x="129" y="13"/>
                  </a:lnTo>
                  <a:lnTo>
                    <a:pt x="117" y="14"/>
                  </a:lnTo>
                  <a:lnTo>
                    <a:pt x="103" y="16"/>
                  </a:lnTo>
                  <a:lnTo>
                    <a:pt x="90" y="16"/>
                  </a:lnTo>
                  <a:lnTo>
                    <a:pt x="84" y="24"/>
                  </a:lnTo>
                  <a:lnTo>
                    <a:pt x="75" y="24"/>
                  </a:lnTo>
                  <a:lnTo>
                    <a:pt x="63" y="22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8480" y="2469600"/>
              <a:ext cx="17640" cy="2592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44"/>
                  </a:moveTo>
                  <a:lnTo>
                    <a:pt x="14" y="0"/>
                  </a:lnTo>
                  <a:lnTo>
                    <a:pt x="0" y="6"/>
                  </a:lnTo>
                  <a:lnTo>
                    <a:pt x="4" y="12"/>
                  </a:lnTo>
                  <a:lnTo>
                    <a:pt x="9" y="19"/>
                  </a:lnTo>
                  <a:lnTo>
                    <a:pt x="14" y="24"/>
                  </a:lnTo>
                  <a:lnTo>
                    <a:pt x="18" y="30"/>
                  </a:lnTo>
                  <a:lnTo>
                    <a:pt x="23" y="35"/>
                  </a:lnTo>
                  <a:lnTo>
                    <a:pt x="28" y="40"/>
                  </a:lnTo>
                  <a:lnTo>
                    <a:pt x="33" y="45"/>
                  </a:lnTo>
                  <a:lnTo>
                    <a:pt x="38" y="50"/>
                  </a:lnTo>
                  <a:lnTo>
                    <a:pt x="4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70040" y="2485440"/>
              <a:ext cx="15840" cy="298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38" y="50"/>
                  </a:moveTo>
                  <a:lnTo>
                    <a:pt x="13" y="0"/>
                  </a:lnTo>
                  <a:lnTo>
                    <a:pt x="0" y="5"/>
                  </a:lnTo>
                  <a:lnTo>
                    <a:pt x="8" y="17"/>
                  </a:lnTo>
                  <a:lnTo>
                    <a:pt x="15" y="31"/>
                  </a:lnTo>
                  <a:lnTo>
                    <a:pt x="23" y="44"/>
                  </a:lnTo>
                  <a:lnTo>
                    <a:pt x="32" y="57"/>
                  </a:lnTo>
                  <a:lnTo>
                    <a:pt x="38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640" y="2312280"/>
              <a:ext cx="68400" cy="7920"/>
            </a:xfrm>
            <a:custGeom>
              <a:avLst/>
              <a:gdLst/>
              <a:ahLst/>
              <a:rect l="l" t="t" r="r" b="b"/>
              <a:pathLst>
                <a:path w="172" h="18">
                  <a:moveTo>
                    <a:pt x="172" y="16"/>
                  </a:moveTo>
                  <a:lnTo>
                    <a:pt x="172" y="9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2" y="17"/>
                  </a:lnTo>
                  <a:lnTo>
                    <a:pt x="43" y="17"/>
                  </a:lnTo>
                  <a:lnTo>
                    <a:pt x="65" y="18"/>
                  </a:lnTo>
                  <a:lnTo>
                    <a:pt x="87" y="18"/>
                  </a:lnTo>
                  <a:lnTo>
                    <a:pt x="107" y="18"/>
                  </a:lnTo>
                  <a:lnTo>
                    <a:pt x="128" y="18"/>
                  </a:lnTo>
                  <a:lnTo>
                    <a:pt x="150" y="17"/>
                  </a:lnTo>
                  <a:lnTo>
                    <a:pt x="17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2640" y="2070360"/>
              <a:ext cx="324000" cy="189000"/>
            </a:xfrm>
            <a:custGeom>
              <a:avLst/>
              <a:gdLst/>
              <a:ahLst/>
              <a:rect l="l" t="t" r="r" b="b"/>
              <a:pathLst>
                <a:path w="817" h="379">
                  <a:moveTo>
                    <a:pt x="39" y="275"/>
                  </a:moveTo>
                  <a:lnTo>
                    <a:pt x="53" y="250"/>
                  </a:lnTo>
                  <a:lnTo>
                    <a:pt x="68" y="226"/>
                  </a:lnTo>
                  <a:lnTo>
                    <a:pt x="84" y="202"/>
                  </a:lnTo>
                  <a:lnTo>
                    <a:pt x="103" y="180"/>
                  </a:lnTo>
                  <a:lnTo>
                    <a:pt x="122" y="159"/>
                  </a:lnTo>
                  <a:lnTo>
                    <a:pt x="144" y="138"/>
                  </a:lnTo>
                  <a:lnTo>
                    <a:pt x="166" y="119"/>
                  </a:lnTo>
                  <a:lnTo>
                    <a:pt x="189" y="102"/>
                  </a:lnTo>
                  <a:lnTo>
                    <a:pt x="211" y="85"/>
                  </a:lnTo>
                  <a:lnTo>
                    <a:pt x="237" y="70"/>
                  </a:lnTo>
                  <a:lnTo>
                    <a:pt x="262" y="56"/>
                  </a:lnTo>
                  <a:lnTo>
                    <a:pt x="288" y="44"/>
                  </a:lnTo>
                  <a:lnTo>
                    <a:pt x="314" y="34"/>
                  </a:lnTo>
                  <a:lnTo>
                    <a:pt x="342" y="25"/>
                  </a:lnTo>
                  <a:lnTo>
                    <a:pt x="369" y="18"/>
                  </a:lnTo>
                  <a:lnTo>
                    <a:pt x="397" y="13"/>
                  </a:lnTo>
                  <a:lnTo>
                    <a:pt x="405" y="13"/>
                  </a:lnTo>
                  <a:lnTo>
                    <a:pt x="412" y="13"/>
                  </a:lnTo>
                  <a:lnTo>
                    <a:pt x="421" y="12"/>
                  </a:lnTo>
                  <a:lnTo>
                    <a:pt x="430" y="12"/>
                  </a:lnTo>
                  <a:lnTo>
                    <a:pt x="438" y="10"/>
                  </a:lnTo>
                  <a:lnTo>
                    <a:pt x="447" y="8"/>
                  </a:lnTo>
                  <a:lnTo>
                    <a:pt x="456" y="4"/>
                  </a:lnTo>
                  <a:lnTo>
                    <a:pt x="463" y="0"/>
                  </a:lnTo>
                  <a:lnTo>
                    <a:pt x="487" y="0"/>
                  </a:lnTo>
                  <a:lnTo>
                    <a:pt x="513" y="0"/>
                  </a:lnTo>
                  <a:lnTo>
                    <a:pt x="537" y="0"/>
                  </a:lnTo>
                  <a:lnTo>
                    <a:pt x="561" y="1"/>
                  </a:lnTo>
                  <a:lnTo>
                    <a:pt x="584" y="3"/>
                  </a:lnTo>
                  <a:lnTo>
                    <a:pt x="608" y="5"/>
                  </a:lnTo>
                  <a:lnTo>
                    <a:pt x="631" y="8"/>
                  </a:lnTo>
                  <a:lnTo>
                    <a:pt x="654" y="12"/>
                  </a:lnTo>
                  <a:lnTo>
                    <a:pt x="677" y="17"/>
                  </a:lnTo>
                  <a:lnTo>
                    <a:pt x="698" y="23"/>
                  </a:lnTo>
                  <a:lnTo>
                    <a:pt x="720" y="31"/>
                  </a:lnTo>
                  <a:lnTo>
                    <a:pt x="740" y="39"/>
                  </a:lnTo>
                  <a:lnTo>
                    <a:pt x="761" y="51"/>
                  </a:lnTo>
                  <a:lnTo>
                    <a:pt x="780" y="63"/>
                  </a:lnTo>
                  <a:lnTo>
                    <a:pt x="799" y="77"/>
                  </a:lnTo>
                  <a:lnTo>
                    <a:pt x="817" y="94"/>
                  </a:lnTo>
                  <a:lnTo>
                    <a:pt x="817" y="102"/>
                  </a:lnTo>
                  <a:lnTo>
                    <a:pt x="810" y="108"/>
                  </a:lnTo>
                  <a:lnTo>
                    <a:pt x="803" y="115"/>
                  </a:lnTo>
                  <a:lnTo>
                    <a:pt x="795" y="123"/>
                  </a:lnTo>
                  <a:lnTo>
                    <a:pt x="775" y="102"/>
                  </a:lnTo>
                  <a:lnTo>
                    <a:pt x="752" y="83"/>
                  </a:lnTo>
                  <a:lnTo>
                    <a:pt x="728" y="66"/>
                  </a:lnTo>
                  <a:lnTo>
                    <a:pt x="703" y="52"/>
                  </a:lnTo>
                  <a:lnTo>
                    <a:pt x="677" y="41"/>
                  </a:lnTo>
                  <a:lnTo>
                    <a:pt x="650" y="32"/>
                  </a:lnTo>
                  <a:lnTo>
                    <a:pt x="622" y="24"/>
                  </a:lnTo>
                  <a:lnTo>
                    <a:pt x="594" y="19"/>
                  </a:lnTo>
                  <a:lnTo>
                    <a:pt x="565" y="17"/>
                  </a:lnTo>
                  <a:lnTo>
                    <a:pt x="536" y="15"/>
                  </a:lnTo>
                  <a:lnTo>
                    <a:pt x="508" y="15"/>
                  </a:lnTo>
                  <a:lnTo>
                    <a:pt x="478" y="18"/>
                  </a:lnTo>
                  <a:lnTo>
                    <a:pt x="449" y="20"/>
                  </a:lnTo>
                  <a:lnTo>
                    <a:pt x="421" y="25"/>
                  </a:lnTo>
                  <a:lnTo>
                    <a:pt x="392" y="31"/>
                  </a:lnTo>
                  <a:lnTo>
                    <a:pt x="365" y="37"/>
                  </a:lnTo>
                  <a:lnTo>
                    <a:pt x="344" y="47"/>
                  </a:lnTo>
                  <a:lnTo>
                    <a:pt x="322" y="58"/>
                  </a:lnTo>
                  <a:lnTo>
                    <a:pt x="300" y="70"/>
                  </a:lnTo>
                  <a:lnTo>
                    <a:pt x="280" y="81"/>
                  </a:lnTo>
                  <a:lnTo>
                    <a:pt x="258" y="94"/>
                  </a:lnTo>
                  <a:lnTo>
                    <a:pt x="238" y="107"/>
                  </a:lnTo>
                  <a:lnTo>
                    <a:pt x="219" y="121"/>
                  </a:lnTo>
                  <a:lnTo>
                    <a:pt x="199" y="134"/>
                  </a:lnTo>
                  <a:lnTo>
                    <a:pt x="180" y="150"/>
                  </a:lnTo>
                  <a:lnTo>
                    <a:pt x="162" y="165"/>
                  </a:lnTo>
                  <a:lnTo>
                    <a:pt x="144" y="181"/>
                  </a:lnTo>
                  <a:lnTo>
                    <a:pt x="128" y="199"/>
                  </a:lnTo>
                  <a:lnTo>
                    <a:pt x="111" y="217"/>
                  </a:lnTo>
                  <a:lnTo>
                    <a:pt x="95" y="236"/>
                  </a:lnTo>
                  <a:lnTo>
                    <a:pt x="81" y="256"/>
                  </a:lnTo>
                  <a:lnTo>
                    <a:pt x="67" y="278"/>
                  </a:lnTo>
                  <a:lnTo>
                    <a:pt x="0" y="379"/>
                  </a:lnTo>
                  <a:lnTo>
                    <a:pt x="8" y="368"/>
                  </a:lnTo>
                  <a:lnTo>
                    <a:pt x="14" y="355"/>
                  </a:lnTo>
                  <a:lnTo>
                    <a:pt x="20" y="342"/>
                  </a:lnTo>
                  <a:lnTo>
                    <a:pt x="22" y="328"/>
                  </a:lnTo>
                  <a:lnTo>
                    <a:pt x="26" y="314"/>
                  </a:lnTo>
                  <a:lnTo>
                    <a:pt x="28" y="300"/>
                  </a:lnTo>
                  <a:lnTo>
                    <a:pt x="33" y="288"/>
                  </a:lnTo>
                  <a:lnTo>
                    <a:pt x="39" y="275"/>
                  </a:lnTo>
                  <a:close/>
                </a:path>
              </a:pathLst>
            </a:custGeom>
            <a:solidFill>
              <a:srgbClr val="0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0400" y="2050200"/>
              <a:ext cx="284400" cy="34200"/>
            </a:xfrm>
            <a:custGeom>
              <a:avLst/>
              <a:gdLst/>
              <a:ahLst/>
              <a:rect l="l" t="t" r="r" b="b"/>
              <a:pathLst>
                <a:path w="717" h="69">
                  <a:moveTo>
                    <a:pt x="14" y="6"/>
                  </a:moveTo>
                  <a:lnTo>
                    <a:pt x="41" y="6"/>
                  </a:lnTo>
                  <a:lnTo>
                    <a:pt x="68" y="5"/>
                  </a:lnTo>
                  <a:lnTo>
                    <a:pt x="95" y="5"/>
                  </a:lnTo>
                  <a:lnTo>
                    <a:pt x="123" y="4"/>
                  </a:lnTo>
                  <a:lnTo>
                    <a:pt x="149" y="4"/>
                  </a:lnTo>
                  <a:lnTo>
                    <a:pt x="177" y="3"/>
                  </a:lnTo>
                  <a:lnTo>
                    <a:pt x="205" y="1"/>
                  </a:lnTo>
                  <a:lnTo>
                    <a:pt x="233" y="1"/>
                  </a:lnTo>
                  <a:lnTo>
                    <a:pt x="261" y="0"/>
                  </a:lnTo>
                  <a:lnTo>
                    <a:pt x="289" y="0"/>
                  </a:lnTo>
                  <a:lnTo>
                    <a:pt x="317" y="0"/>
                  </a:lnTo>
                  <a:lnTo>
                    <a:pt x="345" y="0"/>
                  </a:lnTo>
                  <a:lnTo>
                    <a:pt x="372" y="0"/>
                  </a:lnTo>
                  <a:lnTo>
                    <a:pt x="400" y="0"/>
                  </a:lnTo>
                  <a:lnTo>
                    <a:pt x="426" y="1"/>
                  </a:lnTo>
                  <a:lnTo>
                    <a:pt x="452" y="3"/>
                  </a:lnTo>
                  <a:lnTo>
                    <a:pt x="471" y="17"/>
                  </a:lnTo>
                  <a:lnTo>
                    <a:pt x="491" y="28"/>
                  </a:lnTo>
                  <a:lnTo>
                    <a:pt x="513" y="38"/>
                  </a:lnTo>
                  <a:lnTo>
                    <a:pt x="536" y="47"/>
                  </a:lnTo>
                  <a:lnTo>
                    <a:pt x="560" y="52"/>
                  </a:lnTo>
                  <a:lnTo>
                    <a:pt x="584" y="55"/>
                  </a:lnTo>
                  <a:lnTo>
                    <a:pt x="609" y="55"/>
                  </a:lnTo>
                  <a:lnTo>
                    <a:pt x="636" y="51"/>
                  </a:lnTo>
                  <a:lnTo>
                    <a:pt x="645" y="47"/>
                  </a:lnTo>
                  <a:lnTo>
                    <a:pt x="655" y="43"/>
                  </a:lnTo>
                  <a:lnTo>
                    <a:pt x="664" y="41"/>
                  </a:lnTo>
                  <a:lnTo>
                    <a:pt x="674" y="37"/>
                  </a:lnTo>
                  <a:lnTo>
                    <a:pt x="683" y="33"/>
                  </a:lnTo>
                  <a:lnTo>
                    <a:pt x="692" y="31"/>
                  </a:lnTo>
                  <a:lnTo>
                    <a:pt x="702" y="28"/>
                  </a:lnTo>
                  <a:lnTo>
                    <a:pt x="711" y="27"/>
                  </a:lnTo>
                  <a:lnTo>
                    <a:pt x="716" y="32"/>
                  </a:lnTo>
                  <a:lnTo>
                    <a:pt x="717" y="38"/>
                  </a:lnTo>
                  <a:lnTo>
                    <a:pt x="717" y="46"/>
                  </a:lnTo>
                  <a:lnTo>
                    <a:pt x="717" y="53"/>
                  </a:lnTo>
                  <a:lnTo>
                    <a:pt x="701" y="58"/>
                  </a:lnTo>
                  <a:lnTo>
                    <a:pt x="683" y="63"/>
                  </a:lnTo>
                  <a:lnTo>
                    <a:pt x="665" y="66"/>
                  </a:lnTo>
                  <a:lnTo>
                    <a:pt x="646" y="69"/>
                  </a:lnTo>
                  <a:lnTo>
                    <a:pt x="627" y="69"/>
                  </a:lnTo>
                  <a:lnTo>
                    <a:pt x="607" y="69"/>
                  </a:lnTo>
                  <a:lnTo>
                    <a:pt x="588" y="66"/>
                  </a:lnTo>
                  <a:lnTo>
                    <a:pt x="567" y="62"/>
                  </a:lnTo>
                  <a:lnTo>
                    <a:pt x="553" y="58"/>
                  </a:lnTo>
                  <a:lnTo>
                    <a:pt x="539" y="53"/>
                  </a:lnTo>
                  <a:lnTo>
                    <a:pt x="524" y="50"/>
                  </a:lnTo>
                  <a:lnTo>
                    <a:pt x="510" y="43"/>
                  </a:lnTo>
                  <a:lnTo>
                    <a:pt x="495" y="38"/>
                  </a:lnTo>
                  <a:lnTo>
                    <a:pt x="482" y="32"/>
                  </a:lnTo>
                  <a:lnTo>
                    <a:pt x="468" y="23"/>
                  </a:lnTo>
                  <a:lnTo>
                    <a:pt x="457" y="14"/>
                  </a:lnTo>
                  <a:lnTo>
                    <a:pt x="429" y="12"/>
                  </a:lnTo>
                  <a:lnTo>
                    <a:pt x="402" y="10"/>
                  </a:lnTo>
                  <a:lnTo>
                    <a:pt x="373" y="10"/>
                  </a:lnTo>
                  <a:lnTo>
                    <a:pt x="345" y="10"/>
                  </a:lnTo>
                  <a:lnTo>
                    <a:pt x="316" y="12"/>
                  </a:lnTo>
                  <a:lnTo>
                    <a:pt x="288" y="13"/>
                  </a:lnTo>
                  <a:lnTo>
                    <a:pt x="259" y="14"/>
                  </a:lnTo>
                  <a:lnTo>
                    <a:pt x="229" y="15"/>
                  </a:lnTo>
                  <a:lnTo>
                    <a:pt x="200" y="18"/>
                  </a:lnTo>
                  <a:lnTo>
                    <a:pt x="172" y="19"/>
                  </a:lnTo>
                  <a:lnTo>
                    <a:pt x="143" y="20"/>
                  </a:lnTo>
                  <a:lnTo>
                    <a:pt x="115" y="22"/>
                  </a:lnTo>
                  <a:lnTo>
                    <a:pt x="87" y="23"/>
                  </a:lnTo>
                  <a:lnTo>
                    <a:pt x="59" y="24"/>
                  </a:lnTo>
                  <a:lnTo>
                    <a:pt x="32" y="24"/>
                  </a:lnTo>
                  <a:lnTo>
                    <a:pt x="6" y="23"/>
                  </a:lnTo>
                  <a:lnTo>
                    <a:pt x="0" y="17"/>
                  </a:lnTo>
                  <a:lnTo>
                    <a:pt x="14" y="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2302200"/>
              <a:ext cx="295560" cy="104400"/>
            </a:xfrm>
            <a:custGeom>
              <a:avLst/>
              <a:gdLst/>
              <a:ahLst/>
              <a:rect l="l" t="t" r="r" b="b"/>
              <a:pathLst>
                <a:path w="743" h="207">
                  <a:moveTo>
                    <a:pt x="26" y="37"/>
                  </a:moveTo>
                  <a:lnTo>
                    <a:pt x="40" y="28"/>
                  </a:lnTo>
                  <a:lnTo>
                    <a:pt x="55" y="21"/>
                  </a:lnTo>
                  <a:lnTo>
                    <a:pt x="72" y="18"/>
                  </a:lnTo>
                  <a:lnTo>
                    <a:pt x="88" y="15"/>
                  </a:lnTo>
                  <a:lnTo>
                    <a:pt x="106" y="14"/>
                  </a:lnTo>
                  <a:lnTo>
                    <a:pt x="123" y="13"/>
                  </a:lnTo>
                  <a:lnTo>
                    <a:pt x="139" y="10"/>
                  </a:lnTo>
                  <a:lnTo>
                    <a:pt x="155" y="5"/>
                  </a:lnTo>
                  <a:lnTo>
                    <a:pt x="188" y="5"/>
                  </a:lnTo>
                  <a:lnTo>
                    <a:pt x="222" y="4"/>
                  </a:lnTo>
                  <a:lnTo>
                    <a:pt x="255" y="4"/>
                  </a:lnTo>
                  <a:lnTo>
                    <a:pt x="289" y="2"/>
                  </a:lnTo>
                  <a:lnTo>
                    <a:pt x="324" y="2"/>
                  </a:lnTo>
                  <a:lnTo>
                    <a:pt x="357" y="1"/>
                  </a:lnTo>
                  <a:lnTo>
                    <a:pt x="391" y="0"/>
                  </a:lnTo>
                  <a:lnTo>
                    <a:pt x="424" y="0"/>
                  </a:lnTo>
                  <a:lnTo>
                    <a:pt x="457" y="0"/>
                  </a:lnTo>
                  <a:lnTo>
                    <a:pt x="491" y="1"/>
                  </a:lnTo>
                  <a:lnTo>
                    <a:pt x="525" y="1"/>
                  </a:lnTo>
                  <a:lnTo>
                    <a:pt x="556" y="4"/>
                  </a:lnTo>
                  <a:lnTo>
                    <a:pt x="589" y="6"/>
                  </a:lnTo>
                  <a:lnTo>
                    <a:pt x="621" y="9"/>
                  </a:lnTo>
                  <a:lnTo>
                    <a:pt x="653" y="14"/>
                  </a:lnTo>
                  <a:lnTo>
                    <a:pt x="683" y="19"/>
                  </a:lnTo>
                  <a:lnTo>
                    <a:pt x="692" y="28"/>
                  </a:lnTo>
                  <a:lnTo>
                    <a:pt x="701" y="35"/>
                  </a:lnTo>
                  <a:lnTo>
                    <a:pt x="711" y="42"/>
                  </a:lnTo>
                  <a:lnTo>
                    <a:pt x="720" y="49"/>
                  </a:lnTo>
                  <a:lnTo>
                    <a:pt x="729" y="56"/>
                  </a:lnTo>
                  <a:lnTo>
                    <a:pt x="736" y="65"/>
                  </a:lnTo>
                  <a:lnTo>
                    <a:pt x="741" y="75"/>
                  </a:lnTo>
                  <a:lnTo>
                    <a:pt x="743" y="87"/>
                  </a:lnTo>
                  <a:lnTo>
                    <a:pt x="742" y="117"/>
                  </a:lnTo>
                  <a:lnTo>
                    <a:pt x="737" y="144"/>
                  </a:lnTo>
                  <a:lnTo>
                    <a:pt x="727" y="168"/>
                  </a:lnTo>
                  <a:lnTo>
                    <a:pt x="708" y="186"/>
                  </a:lnTo>
                  <a:lnTo>
                    <a:pt x="700" y="172"/>
                  </a:lnTo>
                  <a:lnTo>
                    <a:pt x="692" y="155"/>
                  </a:lnTo>
                  <a:lnTo>
                    <a:pt x="686" y="137"/>
                  </a:lnTo>
                  <a:lnTo>
                    <a:pt x="678" y="118"/>
                  </a:lnTo>
                  <a:lnTo>
                    <a:pt x="668" y="103"/>
                  </a:lnTo>
                  <a:lnTo>
                    <a:pt x="655" y="91"/>
                  </a:lnTo>
                  <a:lnTo>
                    <a:pt x="639" y="85"/>
                  </a:lnTo>
                  <a:lnTo>
                    <a:pt x="617" y="87"/>
                  </a:lnTo>
                  <a:lnTo>
                    <a:pt x="608" y="98"/>
                  </a:lnTo>
                  <a:lnTo>
                    <a:pt x="605" y="110"/>
                  </a:lnTo>
                  <a:lnTo>
                    <a:pt x="605" y="123"/>
                  </a:lnTo>
                  <a:lnTo>
                    <a:pt x="607" y="136"/>
                  </a:lnTo>
                  <a:lnTo>
                    <a:pt x="615" y="142"/>
                  </a:lnTo>
                  <a:lnTo>
                    <a:pt x="622" y="149"/>
                  </a:lnTo>
                  <a:lnTo>
                    <a:pt x="627" y="158"/>
                  </a:lnTo>
                  <a:lnTo>
                    <a:pt x="631" y="167"/>
                  </a:lnTo>
                  <a:lnTo>
                    <a:pt x="635" y="176"/>
                  </a:lnTo>
                  <a:lnTo>
                    <a:pt x="639" y="186"/>
                  </a:lnTo>
                  <a:lnTo>
                    <a:pt x="641" y="195"/>
                  </a:lnTo>
                  <a:lnTo>
                    <a:pt x="645" y="204"/>
                  </a:lnTo>
                  <a:lnTo>
                    <a:pt x="612" y="205"/>
                  </a:lnTo>
                  <a:lnTo>
                    <a:pt x="580" y="207"/>
                  </a:lnTo>
                  <a:lnTo>
                    <a:pt x="547" y="207"/>
                  </a:lnTo>
                  <a:lnTo>
                    <a:pt x="516" y="205"/>
                  </a:lnTo>
                  <a:lnTo>
                    <a:pt x="483" y="205"/>
                  </a:lnTo>
                  <a:lnTo>
                    <a:pt x="450" y="203"/>
                  </a:lnTo>
                  <a:lnTo>
                    <a:pt x="416" y="201"/>
                  </a:lnTo>
                  <a:lnTo>
                    <a:pt x="385" y="199"/>
                  </a:lnTo>
                  <a:lnTo>
                    <a:pt x="352" y="196"/>
                  </a:lnTo>
                  <a:lnTo>
                    <a:pt x="319" y="194"/>
                  </a:lnTo>
                  <a:lnTo>
                    <a:pt x="287" y="191"/>
                  </a:lnTo>
                  <a:lnTo>
                    <a:pt x="254" y="189"/>
                  </a:lnTo>
                  <a:lnTo>
                    <a:pt x="221" y="188"/>
                  </a:lnTo>
                  <a:lnTo>
                    <a:pt x="189" y="185"/>
                  </a:lnTo>
                  <a:lnTo>
                    <a:pt x="156" y="182"/>
                  </a:lnTo>
                  <a:lnTo>
                    <a:pt x="124" y="181"/>
                  </a:lnTo>
                  <a:lnTo>
                    <a:pt x="108" y="176"/>
                  </a:lnTo>
                  <a:lnTo>
                    <a:pt x="90" y="172"/>
                  </a:lnTo>
                  <a:lnTo>
                    <a:pt x="72" y="170"/>
                  </a:lnTo>
                  <a:lnTo>
                    <a:pt x="55" y="165"/>
                  </a:lnTo>
                  <a:lnTo>
                    <a:pt x="39" y="158"/>
                  </a:lnTo>
                  <a:lnTo>
                    <a:pt x="25" y="149"/>
                  </a:lnTo>
                  <a:lnTo>
                    <a:pt x="13" y="138"/>
                  </a:lnTo>
                  <a:lnTo>
                    <a:pt x="5" y="122"/>
                  </a:lnTo>
                  <a:lnTo>
                    <a:pt x="0" y="99"/>
                  </a:lnTo>
                  <a:lnTo>
                    <a:pt x="3" y="77"/>
                  </a:lnTo>
                  <a:lnTo>
                    <a:pt x="13" y="56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4360" y="2336400"/>
              <a:ext cx="21960" cy="298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28" y="0"/>
                  </a:moveTo>
                  <a:lnTo>
                    <a:pt x="37" y="5"/>
                  </a:lnTo>
                  <a:lnTo>
                    <a:pt x="47" y="6"/>
                  </a:lnTo>
                  <a:lnTo>
                    <a:pt x="55" y="10"/>
                  </a:lnTo>
                  <a:lnTo>
                    <a:pt x="59" y="20"/>
                  </a:lnTo>
                  <a:lnTo>
                    <a:pt x="58" y="33"/>
                  </a:lnTo>
                  <a:lnTo>
                    <a:pt x="52" y="44"/>
                  </a:lnTo>
                  <a:lnTo>
                    <a:pt x="44" y="53"/>
                  </a:lnTo>
                  <a:lnTo>
                    <a:pt x="32" y="57"/>
                  </a:lnTo>
                  <a:lnTo>
                    <a:pt x="22" y="56"/>
                  </a:lnTo>
                  <a:lnTo>
                    <a:pt x="13" y="51"/>
                  </a:lnTo>
                  <a:lnTo>
                    <a:pt x="7" y="42"/>
                  </a:lnTo>
                  <a:lnTo>
                    <a:pt x="3" y="33"/>
                  </a:lnTo>
                  <a:lnTo>
                    <a:pt x="0" y="19"/>
                  </a:lnTo>
                  <a:lnTo>
                    <a:pt x="8" y="10"/>
                  </a:lnTo>
                  <a:lnTo>
                    <a:pt x="18" y="4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0480" y="2344680"/>
              <a:ext cx="11160" cy="1188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7" y="0"/>
                  </a:moveTo>
                  <a:lnTo>
                    <a:pt x="13" y="3"/>
                  </a:lnTo>
                  <a:lnTo>
                    <a:pt x="22" y="6"/>
                  </a:lnTo>
                  <a:lnTo>
                    <a:pt x="26" y="11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9" y="25"/>
                  </a:lnTo>
                  <a:lnTo>
                    <a:pt x="4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640" y="2110680"/>
              <a:ext cx="150840" cy="185400"/>
            </a:xfrm>
            <a:custGeom>
              <a:avLst/>
              <a:gdLst/>
              <a:ahLst/>
              <a:rect l="l" t="t" r="r" b="b"/>
              <a:pathLst>
                <a:path w="380" h="367">
                  <a:moveTo>
                    <a:pt x="380" y="0"/>
                  </a:moveTo>
                  <a:lnTo>
                    <a:pt x="358" y="23"/>
                  </a:lnTo>
                  <a:lnTo>
                    <a:pt x="336" y="45"/>
                  </a:lnTo>
                  <a:lnTo>
                    <a:pt x="313" y="69"/>
                  </a:lnTo>
                  <a:lnTo>
                    <a:pt x="290" y="92"/>
                  </a:lnTo>
                  <a:lnTo>
                    <a:pt x="267" y="116"/>
                  </a:lnTo>
                  <a:lnTo>
                    <a:pt x="244" y="140"/>
                  </a:lnTo>
                  <a:lnTo>
                    <a:pt x="220" y="163"/>
                  </a:lnTo>
                  <a:lnTo>
                    <a:pt x="197" y="187"/>
                  </a:lnTo>
                  <a:lnTo>
                    <a:pt x="173" y="211"/>
                  </a:lnTo>
                  <a:lnTo>
                    <a:pt x="149" y="234"/>
                  </a:lnTo>
                  <a:lnTo>
                    <a:pt x="125" y="257"/>
                  </a:lnTo>
                  <a:lnTo>
                    <a:pt x="101" y="280"/>
                  </a:lnTo>
                  <a:lnTo>
                    <a:pt x="77" y="303"/>
                  </a:lnTo>
                  <a:lnTo>
                    <a:pt x="51" y="324"/>
                  </a:lnTo>
                  <a:lnTo>
                    <a:pt x="26" y="346"/>
                  </a:lnTo>
                  <a:lnTo>
                    <a:pt x="0" y="367"/>
                  </a:lnTo>
                  <a:lnTo>
                    <a:pt x="25" y="343"/>
                  </a:lnTo>
                  <a:lnTo>
                    <a:pt x="47" y="320"/>
                  </a:lnTo>
                  <a:lnTo>
                    <a:pt x="70" y="296"/>
                  </a:lnTo>
                  <a:lnTo>
                    <a:pt x="94" y="274"/>
                  </a:lnTo>
                  <a:lnTo>
                    <a:pt x="117" y="251"/>
                  </a:lnTo>
                  <a:lnTo>
                    <a:pt x="140" y="228"/>
                  </a:lnTo>
                  <a:lnTo>
                    <a:pt x="163" y="205"/>
                  </a:lnTo>
                  <a:lnTo>
                    <a:pt x="186" y="182"/>
                  </a:lnTo>
                  <a:lnTo>
                    <a:pt x="209" y="159"/>
                  </a:lnTo>
                  <a:lnTo>
                    <a:pt x="233" y="138"/>
                  </a:lnTo>
                  <a:lnTo>
                    <a:pt x="256" y="115"/>
                  </a:lnTo>
                  <a:lnTo>
                    <a:pt x="280" y="92"/>
                  </a:lnTo>
                  <a:lnTo>
                    <a:pt x="305" y="69"/>
                  </a:lnTo>
                  <a:lnTo>
                    <a:pt x="330" y="47"/>
                  </a:lnTo>
                  <a:lnTo>
                    <a:pt x="355" y="23"/>
                  </a:lnTo>
                  <a:lnTo>
                    <a:pt x="380" y="0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7080" y="1899000"/>
              <a:ext cx="130320" cy="48240"/>
            </a:xfrm>
            <a:custGeom>
              <a:avLst/>
              <a:gdLst/>
              <a:ahLst/>
              <a:rect l="l" t="t" r="r" b="b"/>
              <a:pathLst>
                <a:path w="328" h="97">
                  <a:moveTo>
                    <a:pt x="6" y="17"/>
                  </a:moveTo>
                  <a:lnTo>
                    <a:pt x="24" y="11"/>
                  </a:lnTo>
                  <a:lnTo>
                    <a:pt x="43" y="7"/>
                  </a:lnTo>
                  <a:lnTo>
                    <a:pt x="62" y="3"/>
                  </a:lnTo>
                  <a:lnTo>
                    <a:pt x="80" y="1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38" y="0"/>
                  </a:lnTo>
                  <a:lnTo>
                    <a:pt x="157" y="0"/>
                  </a:lnTo>
                  <a:lnTo>
                    <a:pt x="176" y="1"/>
                  </a:lnTo>
                  <a:lnTo>
                    <a:pt x="197" y="1"/>
                  </a:lnTo>
                  <a:lnTo>
                    <a:pt x="216" y="2"/>
                  </a:lnTo>
                  <a:lnTo>
                    <a:pt x="236" y="3"/>
                  </a:lnTo>
                  <a:lnTo>
                    <a:pt x="255" y="5"/>
                  </a:lnTo>
                  <a:lnTo>
                    <a:pt x="274" y="5"/>
                  </a:lnTo>
                  <a:lnTo>
                    <a:pt x="295" y="5"/>
                  </a:lnTo>
                  <a:lnTo>
                    <a:pt x="314" y="5"/>
                  </a:lnTo>
                  <a:lnTo>
                    <a:pt x="320" y="11"/>
                  </a:lnTo>
                  <a:lnTo>
                    <a:pt x="325" y="17"/>
                  </a:lnTo>
                  <a:lnTo>
                    <a:pt x="328" y="25"/>
                  </a:lnTo>
                  <a:lnTo>
                    <a:pt x="326" y="32"/>
                  </a:lnTo>
                  <a:lnTo>
                    <a:pt x="309" y="38"/>
                  </a:lnTo>
                  <a:lnTo>
                    <a:pt x="292" y="44"/>
                  </a:lnTo>
                  <a:lnTo>
                    <a:pt x="276" y="50"/>
                  </a:lnTo>
                  <a:lnTo>
                    <a:pt x="259" y="58"/>
                  </a:lnTo>
                  <a:lnTo>
                    <a:pt x="242" y="65"/>
                  </a:lnTo>
                  <a:lnTo>
                    <a:pt x="227" y="72"/>
                  </a:lnTo>
                  <a:lnTo>
                    <a:pt x="211" y="78"/>
                  </a:lnTo>
                  <a:lnTo>
                    <a:pt x="194" y="84"/>
                  </a:lnTo>
                  <a:lnTo>
                    <a:pt x="178" y="89"/>
                  </a:lnTo>
                  <a:lnTo>
                    <a:pt x="161" y="93"/>
                  </a:lnTo>
                  <a:lnTo>
                    <a:pt x="145" y="96"/>
                  </a:lnTo>
                  <a:lnTo>
                    <a:pt x="128" y="97"/>
                  </a:lnTo>
                  <a:lnTo>
                    <a:pt x="110" y="97"/>
                  </a:lnTo>
                  <a:lnTo>
                    <a:pt x="91" y="95"/>
                  </a:lnTo>
                  <a:lnTo>
                    <a:pt x="72" y="91"/>
                  </a:lnTo>
                  <a:lnTo>
                    <a:pt x="53" y="83"/>
                  </a:lnTo>
                  <a:lnTo>
                    <a:pt x="47" y="79"/>
                  </a:lnTo>
                  <a:lnTo>
                    <a:pt x="39" y="78"/>
                  </a:lnTo>
                  <a:lnTo>
                    <a:pt x="31" y="77"/>
                  </a:lnTo>
                  <a:lnTo>
                    <a:pt x="24" y="76"/>
                  </a:lnTo>
                  <a:lnTo>
                    <a:pt x="16" y="74"/>
                  </a:lnTo>
                  <a:lnTo>
                    <a:pt x="10" y="73"/>
                  </a:lnTo>
                  <a:lnTo>
                    <a:pt x="5" y="69"/>
                  </a:lnTo>
                  <a:lnTo>
                    <a:pt x="0" y="63"/>
                  </a:lnTo>
                  <a:lnTo>
                    <a:pt x="1" y="53"/>
                  </a:lnTo>
                  <a:lnTo>
                    <a:pt x="2" y="41"/>
                  </a:lnTo>
                  <a:lnTo>
                    <a:pt x="4" y="29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7f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5000" y="1909080"/>
              <a:ext cx="5040" cy="1980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6" y="0"/>
                  </a:moveTo>
                  <a:lnTo>
                    <a:pt x="13" y="0"/>
                  </a:lnTo>
                  <a:lnTo>
                    <a:pt x="13" y="40"/>
                  </a:lnTo>
                  <a:lnTo>
                    <a:pt x="3" y="35"/>
                  </a:lnTo>
                  <a:lnTo>
                    <a:pt x="0" y="24"/>
                  </a:lnTo>
                  <a:lnTo>
                    <a:pt x="1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2920" y="1915200"/>
              <a:ext cx="6480" cy="1404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13" y="19"/>
                  </a:lnTo>
                  <a:lnTo>
                    <a:pt x="14" y="27"/>
                  </a:lnTo>
                  <a:lnTo>
                    <a:pt x="5" y="31"/>
                  </a:lnTo>
                  <a:lnTo>
                    <a:pt x="2" y="23"/>
                  </a:lnTo>
                  <a:lnTo>
                    <a:pt x="0" y="16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4720" y="1955160"/>
              <a:ext cx="15840" cy="122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28" y="25"/>
                  </a:moveTo>
                  <a:lnTo>
                    <a:pt x="18" y="22"/>
                  </a:lnTo>
                  <a:lnTo>
                    <a:pt x="13" y="15"/>
                  </a:lnTo>
                  <a:lnTo>
                    <a:pt x="8" y="7"/>
                  </a:lnTo>
                  <a:lnTo>
                    <a:pt x="0" y="0"/>
                  </a:lnTo>
                  <a:lnTo>
                    <a:pt x="42" y="2"/>
                  </a:lnTo>
                  <a:lnTo>
                    <a:pt x="28" y="2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5880" y="1915200"/>
              <a:ext cx="4680" cy="1404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3" y="0"/>
                  </a:moveTo>
                  <a:lnTo>
                    <a:pt x="8" y="4"/>
                  </a:lnTo>
                  <a:lnTo>
                    <a:pt x="10" y="10"/>
                  </a:lnTo>
                  <a:lnTo>
                    <a:pt x="12" y="18"/>
                  </a:lnTo>
                  <a:lnTo>
                    <a:pt x="10" y="25"/>
                  </a:lnTo>
                  <a:lnTo>
                    <a:pt x="4" y="22"/>
                  </a:lnTo>
                  <a:lnTo>
                    <a:pt x="1" y="15"/>
                  </a:lnTo>
                  <a:lnTo>
                    <a:pt x="0" y="8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7040" y="1921320"/>
              <a:ext cx="2880" cy="75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9" y="5"/>
                  </a:lnTo>
                  <a:lnTo>
                    <a:pt x="9" y="15"/>
                  </a:lnTo>
                  <a:lnTo>
                    <a:pt x="4" y="15"/>
                  </a:lnTo>
                  <a:lnTo>
                    <a:pt x="2" y="12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1080" y="1955160"/>
              <a:ext cx="9720" cy="10440"/>
            </a:xfrm>
            <a:custGeom>
              <a:avLst/>
              <a:gdLst/>
              <a:ahLst/>
              <a:rect l="l" t="t" r="r" b="b"/>
              <a:pathLst>
                <a:path w="23" h="20">
                  <a:moveTo>
                    <a:pt x="23" y="0"/>
                  </a:moveTo>
                  <a:lnTo>
                    <a:pt x="23" y="20"/>
                  </a:lnTo>
                  <a:lnTo>
                    <a:pt x="0" y="11"/>
                  </a:lnTo>
                  <a:lnTo>
                    <a:pt x="4" y="5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6920" y="2276280"/>
              <a:ext cx="32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6920" y="2092320"/>
              <a:ext cx="24120" cy="18000"/>
            </a:xfrm>
            <a:custGeom>
              <a:avLst/>
              <a:gdLst/>
              <a:ahLst/>
              <a:rect l="l" t="t" r="r" b="b"/>
              <a:pathLst>
                <a:path w="60" h="40">
                  <a:moveTo>
                    <a:pt x="60" y="0"/>
                  </a:moveTo>
                  <a:lnTo>
                    <a:pt x="58" y="12"/>
                  </a:lnTo>
                  <a:lnTo>
                    <a:pt x="54" y="22"/>
                  </a:lnTo>
                  <a:lnTo>
                    <a:pt x="47" y="32"/>
                  </a:lnTo>
                  <a:lnTo>
                    <a:pt x="39" y="40"/>
                  </a:lnTo>
                  <a:lnTo>
                    <a:pt x="0" y="4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1960" y="1957680"/>
              <a:ext cx="25200" cy="76320"/>
            </a:xfrm>
            <a:custGeom>
              <a:avLst/>
              <a:gdLst/>
              <a:ahLst/>
              <a:rect l="l" t="t" r="r" b="b"/>
              <a:pathLst>
                <a:path w="66" h="155">
                  <a:moveTo>
                    <a:pt x="20" y="4"/>
                  </a:moveTo>
                  <a:lnTo>
                    <a:pt x="27" y="22"/>
                  </a:lnTo>
                  <a:lnTo>
                    <a:pt x="32" y="39"/>
                  </a:lnTo>
                  <a:lnTo>
                    <a:pt x="38" y="57"/>
                  </a:lnTo>
                  <a:lnTo>
                    <a:pt x="44" y="76"/>
                  </a:lnTo>
                  <a:lnTo>
                    <a:pt x="51" y="94"/>
                  </a:lnTo>
                  <a:lnTo>
                    <a:pt x="56" y="112"/>
                  </a:lnTo>
                  <a:lnTo>
                    <a:pt x="61" y="129"/>
                  </a:lnTo>
                  <a:lnTo>
                    <a:pt x="66" y="148"/>
                  </a:lnTo>
                  <a:lnTo>
                    <a:pt x="61" y="152"/>
                  </a:lnTo>
                  <a:lnTo>
                    <a:pt x="54" y="153"/>
                  </a:lnTo>
                  <a:lnTo>
                    <a:pt x="48" y="155"/>
                  </a:lnTo>
                  <a:lnTo>
                    <a:pt x="42" y="155"/>
                  </a:lnTo>
                  <a:lnTo>
                    <a:pt x="35" y="136"/>
                  </a:lnTo>
                  <a:lnTo>
                    <a:pt x="28" y="118"/>
                  </a:lnTo>
                  <a:lnTo>
                    <a:pt x="21" y="99"/>
                  </a:lnTo>
                  <a:lnTo>
                    <a:pt x="14" y="80"/>
                  </a:lnTo>
                  <a:lnTo>
                    <a:pt x="9" y="61"/>
                  </a:lnTo>
                  <a:lnTo>
                    <a:pt x="4" y="42"/>
                  </a:lnTo>
                  <a:lnTo>
                    <a:pt x="1" y="22"/>
                  </a:lnTo>
                  <a:lnTo>
                    <a:pt x="0" y="0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4840" y="2134800"/>
              <a:ext cx="54000" cy="156960"/>
            </a:xfrm>
            <a:custGeom>
              <a:avLst/>
              <a:gdLst/>
              <a:ahLst/>
              <a:rect l="l" t="t" r="r" b="b"/>
              <a:pathLst>
                <a:path w="136" h="313">
                  <a:moveTo>
                    <a:pt x="25" y="0"/>
                  </a:moveTo>
                  <a:lnTo>
                    <a:pt x="50" y="32"/>
                  </a:lnTo>
                  <a:lnTo>
                    <a:pt x="70" y="65"/>
                  </a:lnTo>
                  <a:lnTo>
                    <a:pt x="88" y="100"/>
                  </a:lnTo>
                  <a:lnTo>
                    <a:pt x="102" y="136"/>
                  </a:lnTo>
                  <a:lnTo>
                    <a:pt x="114" y="172"/>
                  </a:lnTo>
                  <a:lnTo>
                    <a:pt x="123" y="210"/>
                  </a:lnTo>
                  <a:lnTo>
                    <a:pt x="131" y="249"/>
                  </a:lnTo>
                  <a:lnTo>
                    <a:pt x="136" y="287"/>
                  </a:lnTo>
                  <a:lnTo>
                    <a:pt x="136" y="294"/>
                  </a:lnTo>
                  <a:lnTo>
                    <a:pt x="133" y="300"/>
                  </a:lnTo>
                  <a:lnTo>
                    <a:pt x="131" y="307"/>
                  </a:lnTo>
                  <a:lnTo>
                    <a:pt x="136" y="313"/>
                  </a:lnTo>
                  <a:lnTo>
                    <a:pt x="127" y="304"/>
                  </a:lnTo>
                  <a:lnTo>
                    <a:pt x="123" y="292"/>
                  </a:lnTo>
                  <a:lnTo>
                    <a:pt x="121" y="278"/>
                  </a:lnTo>
                  <a:lnTo>
                    <a:pt x="116" y="264"/>
                  </a:lnTo>
                  <a:lnTo>
                    <a:pt x="103" y="233"/>
                  </a:lnTo>
                  <a:lnTo>
                    <a:pt x="90" y="203"/>
                  </a:lnTo>
                  <a:lnTo>
                    <a:pt x="76" y="174"/>
                  </a:lnTo>
                  <a:lnTo>
                    <a:pt x="62" y="145"/>
                  </a:lnTo>
                  <a:lnTo>
                    <a:pt x="47" y="115"/>
                  </a:lnTo>
                  <a:lnTo>
                    <a:pt x="32" y="86"/>
                  </a:lnTo>
                  <a:lnTo>
                    <a:pt x="17" y="58"/>
                  </a:lnTo>
                  <a:lnTo>
                    <a:pt x="0" y="31"/>
                  </a:lnTo>
                  <a:lnTo>
                    <a:pt x="5" y="23"/>
                  </a:lnTo>
                  <a:lnTo>
                    <a:pt x="11" y="15"/>
                  </a:lnTo>
                  <a:lnTo>
                    <a:pt x="19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6000" y="2040120"/>
              <a:ext cx="23760" cy="241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45" y="0"/>
                  </a:moveTo>
                  <a:lnTo>
                    <a:pt x="53" y="2"/>
                  </a:lnTo>
                  <a:lnTo>
                    <a:pt x="56" y="10"/>
                  </a:lnTo>
                  <a:lnTo>
                    <a:pt x="58" y="20"/>
                  </a:lnTo>
                  <a:lnTo>
                    <a:pt x="60" y="27"/>
                  </a:lnTo>
                  <a:lnTo>
                    <a:pt x="55" y="31"/>
                  </a:lnTo>
                  <a:lnTo>
                    <a:pt x="50" y="35"/>
                  </a:lnTo>
                  <a:lnTo>
                    <a:pt x="45" y="39"/>
                  </a:lnTo>
                  <a:lnTo>
                    <a:pt x="39" y="41"/>
                  </a:lnTo>
                  <a:lnTo>
                    <a:pt x="31" y="44"/>
                  </a:lnTo>
                  <a:lnTo>
                    <a:pt x="25" y="45"/>
                  </a:lnTo>
                  <a:lnTo>
                    <a:pt x="17" y="46"/>
                  </a:lnTo>
                  <a:lnTo>
                    <a:pt x="9" y="48"/>
                  </a:lnTo>
                  <a:lnTo>
                    <a:pt x="6" y="39"/>
                  </a:lnTo>
                  <a:lnTo>
                    <a:pt x="3" y="31"/>
                  </a:lnTo>
                  <a:lnTo>
                    <a:pt x="2" y="22"/>
                  </a:lnTo>
                  <a:lnTo>
                    <a:pt x="0" y="12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9" y="11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3"/>
                  </a:lnTo>
                  <a:lnTo>
                    <a:pt x="40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920" y="2122560"/>
              <a:ext cx="7920" cy="22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4" y="0"/>
                  </a:moveTo>
                  <a:lnTo>
                    <a:pt x="23" y="42"/>
                  </a:lnTo>
                  <a:lnTo>
                    <a:pt x="18" y="34"/>
                  </a:lnTo>
                  <a:lnTo>
                    <a:pt x="7" y="24"/>
                  </a:lnTo>
                  <a:lnTo>
                    <a:pt x="0" y="1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58960" y="1953360"/>
              <a:ext cx="417240" cy="374760"/>
            </a:xfrm>
            <a:custGeom>
              <a:avLst/>
              <a:gdLst/>
              <a:ahLst/>
              <a:rect l="l" t="t" r="r" b="b"/>
              <a:pathLst>
                <a:path w="1051" h="745">
                  <a:moveTo>
                    <a:pt x="47" y="266"/>
                  </a:moveTo>
                  <a:lnTo>
                    <a:pt x="131" y="548"/>
                  </a:lnTo>
                  <a:lnTo>
                    <a:pt x="143" y="557"/>
                  </a:lnTo>
                  <a:lnTo>
                    <a:pt x="156" y="565"/>
                  </a:lnTo>
                  <a:lnTo>
                    <a:pt x="170" y="570"/>
                  </a:lnTo>
                  <a:lnTo>
                    <a:pt x="184" y="574"/>
                  </a:lnTo>
                  <a:lnTo>
                    <a:pt x="199" y="578"/>
                  </a:lnTo>
                  <a:lnTo>
                    <a:pt x="215" y="579"/>
                  </a:lnTo>
                  <a:lnTo>
                    <a:pt x="231" y="579"/>
                  </a:lnTo>
                  <a:lnTo>
                    <a:pt x="248" y="578"/>
                  </a:lnTo>
                  <a:lnTo>
                    <a:pt x="737" y="48"/>
                  </a:lnTo>
                  <a:lnTo>
                    <a:pt x="734" y="38"/>
                  </a:lnTo>
                  <a:lnTo>
                    <a:pt x="731" y="26"/>
                  </a:lnTo>
                  <a:lnTo>
                    <a:pt x="729" y="16"/>
                  </a:lnTo>
                  <a:lnTo>
                    <a:pt x="734" y="6"/>
                  </a:lnTo>
                  <a:lnTo>
                    <a:pt x="741" y="5"/>
                  </a:lnTo>
                  <a:lnTo>
                    <a:pt x="747" y="1"/>
                  </a:lnTo>
                  <a:lnTo>
                    <a:pt x="752" y="0"/>
                  </a:lnTo>
                  <a:lnTo>
                    <a:pt x="757" y="4"/>
                  </a:lnTo>
                  <a:lnTo>
                    <a:pt x="771" y="28"/>
                  </a:lnTo>
                  <a:lnTo>
                    <a:pt x="783" y="53"/>
                  </a:lnTo>
                  <a:lnTo>
                    <a:pt x="794" y="78"/>
                  </a:lnTo>
                  <a:lnTo>
                    <a:pt x="804" y="105"/>
                  </a:lnTo>
                  <a:lnTo>
                    <a:pt x="815" y="132"/>
                  </a:lnTo>
                  <a:lnTo>
                    <a:pt x="823" y="158"/>
                  </a:lnTo>
                  <a:lnTo>
                    <a:pt x="832" y="185"/>
                  </a:lnTo>
                  <a:lnTo>
                    <a:pt x="841" y="211"/>
                  </a:lnTo>
                  <a:lnTo>
                    <a:pt x="844" y="222"/>
                  </a:lnTo>
                  <a:lnTo>
                    <a:pt x="846" y="233"/>
                  </a:lnTo>
                  <a:lnTo>
                    <a:pt x="851" y="243"/>
                  </a:lnTo>
                  <a:lnTo>
                    <a:pt x="860" y="248"/>
                  </a:lnTo>
                  <a:lnTo>
                    <a:pt x="849" y="265"/>
                  </a:lnTo>
                  <a:lnTo>
                    <a:pt x="843" y="284"/>
                  </a:lnTo>
                  <a:lnTo>
                    <a:pt x="843" y="305"/>
                  </a:lnTo>
                  <a:lnTo>
                    <a:pt x="848" y="325"/>
                  </a:lnTo>
                  <a:lnTo>
                    <a:pt x="860" y="350"/>
                  </a:lnTo>
                  <a:lnTo>
                    <a:pt x="873" y="375"/>
                  </a:lnTo>
                  <a:lnTo>
                    <a:pt x="884" y="400"/>
                  </a:lnTo>
                  <a:lnTo>
                    <a:pt x="895" y="426"/>
                  </a:lnTo>
                  <a:lnTo>
                    <a:pt x="904" y="452"/>
                  </a:lnTo>
                  <a:lnTo>
                    <a:pt x="914" y="478"/>
                  </a:lnTo>
                  <a:lnTo>
                    <a:pt x="923" y="504"/>
                  </a:lnTo>
                  <a:lnTo>
                    <a:pt x="933" y="531"/>
                  </a:lnTo>
                  <a:lnTo>
                    <a:pt x="943" y="556"/>
                  </a:lnTo>
                  <a:lnTo>
                    <a:pt x="953" y="581"/>
                  </a:lnTo>
                  <a:lnTo>
                    <a:pt x="966" y="607"/>
                  </a:lnTo>
                  <a:lnTo>
                    <a:pt x="979" y="631"/>
                  </a:lnTo>
                  <a:lnTo>
                    <a:pt x="994" y="655"/>
                  </a:lnTo>
                  <a:lnTo>
                    <a:pt x="1010" y="676"/>
                  </a:lnTo>
                  <a:lnTo>
                    <a:pt x="1029" y="698"/>
                  </a:lnTo>
                  <a:lnTo>
                    <a:pt x="1051" y="718"/>
                  </a:lnTo>
                  <a:lnTo>
                    <a:pt x="1023" y="703"/>
                  </a:lnTo>
                  <a:lnTo>
                    <a:pt x="999" y="685"/>
                  </a:lnTo>
                  <a:lnTo>
                    <a:pt x="977" y="665"/>
                  </a:lnTo>
                  <a:lnTo>
                    <a:pt x="958" y="642"/>
                  </a:lnTo>
                  <a:lnTo>
                    <a:pt x="942" y="619"/>
                  </a:lnTo>
                  <a:lnTo>
                    <a:pt x="928" y="594"/>
                  </a:lnTo>
                  <a:lnTo>
                    <a:pt x="915" y="567"/>
                  </a:lnTo>
                  <a:lnTo>
                    <a:pt x="904" y="541"/>
                  </a:lnTo>
                  <a:lnTo>
                    <a:pt x="893" y="513"/>
                  </a:lnTo>
                  <a:lnTo>
                    <a:pt x="883" y="484"/>
                  </a:lnTo>
                  <a:lnTo>
                    <a:pt x="874" y="456"/>
                  </a:lnTo>
                  <a:lnTo>
                    <a:pt x="864" y="427"/>
                  </a:lnTo>
                  <a:lnTo>
                    <a:pt x="855" y="399"/>
                  </a:lnTo>
                  <a:lnTo>
                    <a:pt x="845" y="372"/>
                  </a:lnTo>
                  <a:lnTo>
                    <a:pt x="834" y="344"/>
                  </a:lnTo>
                  <a:lnTo>
                    <a:pt x="821" y="319"/>
                  </a:lnTo>
                  <a:lnTo>
                    <a:pt x="823" y="303"/>
                  </a:lnTo>
                  <a:lnTo>
                    <a:pt x="822" y="286"/>
                  </a:lnTo>
                  <a:lnTo>
                    <a:pt x="820" y="271"/>
                  </a:lnTo>
                  <a:lnTo>
                    <a:pt x="815" y="256"/>
                  </a:lnTo>
                  <a:lnTo>
                    <a:pt x="808" y="242"/>
                  </a:lnTo>
                  <a:lnTo>
                    <a:pt x="799" y="228"/>
                  </a:lnTo>
                  <a:lnTo>
                    <a:pt x="789" y="218"/>
                  </a:lnTo>
                  <a:lnTo>
                    <a:pt x="776" y="208"/>
                  </a:lnTo>
                  <a:lnTo>
                    <a:pt x="279" y="745"/>
                  </a:lnTo>
                  <a:lnTo>
                    <a:pt x="268" y="727"/>
                  </a:lnTo>
                  <a:lnTo>
                    <a:pt x="298" y="692"/>
                  </a:lnTo>
                  <a:lnTo>
                    <a:pt x="330" y="656"/>
                  </a:lnTo>
                  <a:lnTo>
                    <a:pt x="362" y="621"/>
                  </a:lnTo>
                  <a:lnTo>
                    <a:pt x="394" y="584"/>
                  </a:lnTo>
                  <a:lnTo>
                    <a:pt x="426" y="548"/>
                  </a:lnTo>
                  <a:lnTo>
                    <a:pt x="457" y="512"/>
                  </a:lnTo>
                  <a:lnTo>
                    <a:pt x="490" y="475"/>
                  </a:lnTo>
                  <a:lnTo>
                    <a:pt x="522" y="438"/>
                  </a:lnTo>
                  <a:lnTo>
                    <a:pt x="555" y="403"/>
                  </a:lnTo>
                  <a:lnTo>
                    <a:pt x="587" y="366"/>
                  </a:lnTo>
                  <a:lnTo>
                    <a:pt x="620" y="331"/>
                  </a:lnTo>
                  <a:lnTo>
                    <a:pt x="652" y="296"/>
                  </a:lnTo>
                  <a:lnTo>
                    <a:pt x="684" y="261"/>
                  </a:lnTo>
                  <a:lnTo>
                    <a:pt x="715" y="227"/>
                  </a:lnTo>
                  <a:lnTo>
                    <a:pt x="747" y="194"/>
                  </a:lnTo>
                  <a:lnTo>
                    <a:pt x="779" y="161"/>
                  </a:lnTo>
                  <a:lnTo>
                    <a:pt x="774" y="151"/>
                  </a:lnTo>
                  <a:lnTo>
                    <a:pt x="769" y="139"/>
                  </a:lnTo>
                  <a:lnTo>
                    <a:pt x="765" y="129"/>
                  </a:lnTo>
                  <a:lnTo>
                    <a:pt x="761" y="118"/>
                  </a:lnTo>
                  <a:lnTo>
                    <a:pt x="757" y="106"/>
                  </a:lnTo>
                  <a:lnTo>
                    <a:pt x="751" y="97"/>
                  </a:lnTo>
                  <a:lnTo>
                    <a:pt x="745" y="90"/>
                  </a:lnTo>
                  <a:lnTo>
                    <a:pt x="737" y="83"/>
                  </a:lnTo>
                  <a:lnTo>
                    <a:pt x="710" y="107"/>
                  </a:lnTo>
                  <a:lnTo>
                    <a:pt x="241" y="617"/>
                  </a:lnTo>
                  <a:lnTo>
                    <a:pt x="232" y="623"/>
                  </a:lnTo>
                  <a:lnTo>
                    <a:pt x="225" y="630"/>
                  </a:lnTo>
                  <a:lnTo>
                    <a:pt x="218" y="637"/>
                  </a:lnTo>
                  <a:lnTo>
                    <a:pt x="213" y="645"/>
                  </a:lnTo>
                  <a:lnTo>
                    <a:pt x="208" y="654"/>
                  </a:lnTo>
                  <a:lnTo>
                    <a:pt x="206" y="663"/>
                  </a:lnTo>
                  <a:lnTo>
                    <a:pt x="204" y="673"/>
                  </a:lnTo>
                  <a:lnTo>
                    <a:pt x="204" y="683"/>
                  </a:lnTo>
                  <a:lnTo>
                    <a:pt x="113" y="674"/>
                  </a:lnTo>
                  <a:lnTo>
                    <a:pt x="117" y="642"/>
                  </a:lnTo>
                  <a:lnTo>
                    <a:pt x="112" y="611"/>
                  </a:lnTo>
                  <a:lnTo>
                    <a:pt x="104" y="580"/>
                  </a:lnTo>
                  <a:lnTo>
                    <a:pt x="98" y="548"/>
                  </a:lnTo>
                  <a:lnTo>
                    <a:pt x="81" y="517"/>
                  </a:lnTo>
                  <a:lnTo>
                    <a:pt x="67" y="484"/>
                  </a:lnTo>
                  <a:lnTo>
                    <a:pt x="54" y="450"/>
                  </a:lnTo>
                  <a:lnTo>
                    <a:pt x="43" y="415"/>
                  </a:lnTo>
                  <a:lnTo>
                    <a:pt x="33" y="382"/>
                  </a:lnTo>
                  <a:lnTo>
                    <a:pt x="23" y="348"/>
                  </a:lnTo>
                  <a:lnTo>
                    <a:pt x="11" y="314"/>
                  </a:lnTo>
                  <a:lnTo>
                    <a:pt x="0" y="280"/>
                  </a:lnTo>
                  <a:lnTo>
                    <a:pt x="5" y="277"/>
                  </a:lnTo>
                  <a:lnTo>
                    <a:pt x="11" y="276"/>
                  </a:lnTo>
                  <a:lnTo>
                    <a:pt x="16" y="273"/>
                  </a:lnTo>
                  <a:lnTo>
                    <a:pt x="23" y="272"/>
                  </a:lnTo>
                  <a:lnTo>
                    <a:pt x="28" y="270"/>
                  </a:lnTo>
                  <a:lnTo>
                    <a:pt x="34" y="268"/>
                  </a:lnTo>
                  <a:lnTo>
                    <a:pt x="40" y="267"/>
                  </a:lnTo>
                  <a:lnTo>
                    <a:pt x="47" y="266"/>
                  </a:lnTo>
                  <a:close/>
                </a:path>
              </a:pathLst>
            </a:custGeom>
            <a:solidFill>
              <a:srgbClr val="3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5320" y="2263680"/>
              <a:ext cx="3240" cy="19800"/>
            </a:xfrm>
            <a:custGeom>
              <a:avLst/>
              <a:gdLst/>
              <a:ahLst/>
              <a:rect l="l" t="t" r="r" b="b"/>
              <a:pathLst>
                <a:path w="8" h="41">
                  <a:moveTo>
                    <a:pt x="1" y="0"/>
                  </a:moveTo>
                  <a:lnTo>
                    <a:pt x="4" y="11"/>
                  </a:lnTo>
                  <a:lnTo>
                    <a:pt x="6" y="21"/>
                  </a:lnTo>
                  <a:lnTo>
                    <a:pt x="8" y="31"/>
                  </a:lnTo>
                  <a:lnTo>
                    <a:pt x="4" y="41"/>
                  </a:lnTo>
                  <a:lnTo>
                    <a:pt x="5" y="31"/>
                  </a:lnTo>
                  <a:lnTo>
                    <a:pt x="3" y="21"/>
                  </a:lnTo>
                  <a:lnTo>
                    <a:pt x="0" y="1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14400" y="2354760"/>
              <a:ext cx="47520" cy="114480"/>
            </a:xfrm>
            <a:custGeom>
              <a:avLst/>
              <a:gdLst/>
              <a:ahLst/>
              <a:rect l="l" t="t" r="r" b="b"/>
              <a:pathLst>
                <a:path w="117" h="225">
                  <a:moveTo>
                    <a:pt x="13" y="0"/>
                  </a:moveTo>
                  <a:lnTo>
                    <a:pt x="20" y="3"/>
                  </a:lnTo>
                  <a:lnTo>
                    <a:pt x="28" y="7"/>
                  </a:lnTo>
                  <a:lnTo>
                    <a:pt x="33" y="14"/>
                  </a:lnTo>
                  <a:lnTo>
                    <a:pt x="38" y="21"/>
                  </a:lnTo>
                  <a:lnTo>
                    <a:pt x="43" y="29"/>
                  </a:lnTo>
                  <a:lnTo>
                    <a:pt x="47" y="36"/>
                  </a:lnTo>
                  <a:lnTo>
                    <a:pt x="51" y="43"/>
                  </a:lnTo>
                  <a:lnTo>
                    <a:pt x="54" y="50"/>
                  </a:lnTo>
                  <a:lnTo>
                    <a:pt x="117" y="225"/>
                  </a:lnTo>
                  <a:lnTo>
                    <a:pt x="100" y="223"/>
                  </a:lnTo>
                  <a:lnTo>
                    <a:pt x="88" y="215"/>
                  </a:lnTo>
                  <a:lnTo>
                    <a:pt x="79" y="202"/>
                  </a:lnTo>
                  <a:lnTo>
                    <a:pt x="74" y="186"/>
                  </a:lnTo>
                  <a:lnTo>
                    <a:pt x="68" y="168"/>
                  </a:lnTo>
                  <a:lnTo>
                    <a:pt x="63" y="152"/>
                  </a:lnTo>
                  <a:lnTo>
                    <a:pt x="58" y="135"/>
                  </a:lnTo>
                  <a:lnTo>
                    <a:pt x="49" y="121"/>
                  </a:lnTo>
                  <a:lnTo>
                    <a:pt x="44" y="109"/>
                  </a:lnTo>
                  <a:lnTo>
                    <a:pt x="41" y="95"/>
                  </a:lnTo>
                  <a:lnTo>
                    <a:pt x="37" y="81"/>
                  </a:lnTo>
                  <a:lnTo>
                    <a:pt x="33" y="67"/>
                  </a:lnTo>
                  <a:lnTo>
                    <a:pt x="28" y="54"/>
                  </a:lnTo>
                  <a:lnTo>
                    <a:pt x="21" y="41"/>
                  </a:lnTo>
                  <a:lnTo>
                    <a:pt x="13" y="30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2" y="7"/>
                  </a:lnTo>
                  <a:lnTo>
                    <a:pt x="7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20880" y="2475360"/>
              <a:ext cx="55440" cy="22320"/>
            </a:xfrm>
            <a:custGeom>
              <a:avLst/>
              <a:gdLst/>
              <a:ahLst/>
              <a:rect l="l" t="t" r="r" b="b"/>
              <a:pathLst>
                <a:path w="140" h="45">
                  <a:moveTo>
                    <a:pt x="84" y="0"/>
                  </a:moveTo>
                  <a:lnTo>
                    <a:pt x="91" y="2"/>
                  </a:lnTo>
                  <a:lnTo>
                    <a:pt x="99" y="3"/>
                  </a:lnTo>
                  <a:lnTo>
                    <a:pt x="105" y="3"/>
                  </a:lnTo>
                  <a:lnTo>
                    <a:pt x="113" y="4"/>
                  </a:lnTo>
                  <a:lnTo>
                    <a:pt x="121" y="5"/>
                  </a:lnTo>
                  <a:lnTo>
                    <a:pt x="127" y="8"/>
                  </a:lnTo>
                  <a:lnTo>
                    <a:pt x="133" y="11"/>
                  </a:lnTo>
                  <a:lnTo>
                    <a:pt x="140" y="16"/>
                  </a:lnTo>
                  <a:lnTo>
                    <a:pt x="138" y="24"/>
                  </a:lnTo>
                  <a:lnTo>
                    <a:pt x="135" y="31"/>
                  </a:lnTo>
                  <a:lnTo>
                    <a:pt x="128" y="37"/>
                  </a:lnTo>
                  <a:lnTo>
                    <a:pt x="122" y="45"/>
                  </a:lnTo>
                  <a:lnTo>
                    <a:pt x="5" y="41"/>
                  </a:lnTo>
                  <a:lnTo>
                    <a:pt x="0" y="26"/>
                  </a:lnTo>
                  <a:lnTo>
                    <a:pt x="2" y="16"/>
                  </a:lnTo>
                  <a:lnTo>
                    <a:pt x="11" y="11"/>
                  </a:lnTo>
                  <a:lnTo>
                    <a:pt x="25" y="7"/>
                  </a:lnTo>
                  <a:lnTo>
                    <a:pt x="40" y="7"/>
                  </a:lnTo>
                  <a:lnTo>
                    <a:pt x="57" y="5"/>
                  </a:lnTo>
                  <a:lnTo>
                    <a:pt x="71" y="4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12680" y="1808640"/>
              <a:ext cx="52560" cy="46080"/>
            </a:xfrm>
            <a:custGeom>
              <a:avLst/>
              <a:gdLst/>
              <a:ahLst/>
              <a:rect l="l" t="t" r="r" b="b"/>
              <a:pathLst>
                <a:path w="131" h="92">
                  <a:moveTo>
                    <a:pt x="115" y="0"/>
                  </a:moveTo>
                  <a:lnTo>
                    <a:pt x="114" y="11"/>
                  </a:lnTo>
                  <a:lnTo>
                    <a:pt x="116" y="23"/>
                  </a:lnTo>
                  <a:lnTo>
                    <a:pt x="122" y="33"/>
                  </a:lnTo>
                  <a:lnTo>
                    <a:pt x="131" y="42"/>
                  </a:lnTo>
                  <a:lnTo>
                    <a:pt x="119" y="49"/>
                  </a:lnTo>
                  <a:lnTo>
                    <a:pt x="106" y="57"/>
                  </a:lnTo>
                  <a:lnTo>
                    <a:pt x="93" y="64"/>
                  </a:lnTo>
                  <a:lnTo>
                    <a:pt x="79" y="71"/>
                  </a:lnTo>
                  <a:lnTo>
                    <a:pt x="65" y="77"/>
                  </a:lnTo>
                  <a:lnTo>
                    <a:pt x="51" y="83"/>
                  </a:lnTo>
                  <a:lnTo>
                    <a:pt x="36" y="89"/>
                  </a:lnTo>
                  <a:lnTo>
                    <a:pt x="21" y="92"/>
                  </a:lnTo>
                  <a:lnTo>
                    <a:pt x="13" y="90"/>
                  </a:lnTo>
                  <a:lnTo>
                    <a:pt x="8" y="86"/>
                  </a:lnTo>
                  <a:lnTo>
                    <a:pt x="4" y="81"/>
                  </a:lnTo>
                  <a:lnTo>
                    <a:pt x="0" y="75"/>
                  </a:lnTo>
                  <a:lnTo>
                    <a:pt x="12" y="63"/>
                  </a:lnTo>
                  <a:lnTo>
                    <a:pt x="25" y="52"/>
                  </a:lnTo>
                  <a:lnTo>
                    <a:pt x="39" y="42"/>
                  </a:lnTo>
                  <a:lnTo>
                    <a:pt x="53" y="32"/>
                  </a:lnTo>
                  <a:lnTo>
                    <a:pt x="68" y="23"/>
                  </a:lnTo>
                  <a:lnTo>
                    <a:pt x="83" y="15"/>
                  </a:lnTo>
                  <a:lnTo>
                    <a:pt x="100" y="7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5240" y="1804320"/>
              <a:ext cx="100080" cy="140760"/>
            </a:xfrm>
            <a:custGeom>
              <a:avLst/>
              <a:gdLst/>
              <a:ahLst/>
              <a:rect l="l" t="t" r="r" b="b"/>
              <a:pathLst>
                <a:path w="255" h="279">
                  <a:moveTo>
                    <a:pt x="4" y="5"/>
                  </a:moveTo>
                  <a:lnTo>
                    <a:pt x="18" y="1"/>
                  </a:lnTo>
                  <a:lnTo>
                    <a:pt x="32" y="0"/>
                  </a:lnTo>
                  <a:lnTo>
                    <a:pt x="46" y="1"/>
                  </a:lnTo>
                  <a:lnTo>
                    <a:pt x="60" y="4"/>
                  </a:lnTo>
                  <a:lnTo>
                    <a:pt x="73" y="8"/>
                  </a:lnTo>
                  <a:lnTo>
                    <a:pt x="87" y="13"/>
                  </a:lnTo>
                  <a:lnTo>
                    <a:pt x="100" y="19"/>
                  </a:lnTo>
                  <a:lnTo>
                    <a:pt x="114" y="24"/>
                  </a:lnTo>
                  <a:lnTo>
                    <a:pt x="126" y="31"/>
                  </a:lnTo>
                  <a:lnTo>
                    <a:pt x="140" y="36"/>
                  </a:lnTo>
                  <a:lnTo>
                    <a:pt x="154" y="38"/>
                  </a:lnTo>
                  <a:lnTo>
                    <a:pt x="168" y="41"/>
                  </a:lnTo>
                  <a:lnTo>
                    <a:pt x="182" y="41"/>
                  </a:lnTo>
                  <a:lnTo>
                    <a:pt x="196" y="38"/>
                  </a:lnTo>
                  <a:lnTo>
                    <a:pt x="210" y="33"/>
                  </a:lnTo>
                  <a:lnTo>
                    <a:pt x="225" y="26"/>
                  </a:lnTo>
                  <a:lnTo>
                    <a:pt x="233" y="22"/>
                  </a:lnTo>
                  <a:lnTo>
                    <a:pt x="241" y="24"/>
                  </a:lnTo>
                  <a:lnTo>
                    <a:pt x="247" y="31"/>
                  </a:lnTo>
                  <a:lnTo>
                    <a:pt x="255" y="34"/>
                  </a:lnTo>
                  <a:lnTo>
                    <a:pt x="251" y="45"/>
                  </a:lnTo>
                  <a:lnTo>
                    <a:pt x="243" y="52"/>
                  </a:lnTo>
                  <a:lnTo>
                    <a:pt x="236" y="57"/>
                  </a:lnTo>
                  <a:lnTo>
                    <a:pt x="225" y="61"/>
                  </a:lnTo>
                  <a:lnTo>
                    <a:pt x="215" y="64"/>
                  </a:lnTo>
                  <a:lnTo>
                    <a:pt x="205" y="67"/>
                  </a:lnTo>
                  <a:lnTo>
                    <a:pt x="195" y="71"/>
                  </a:lnTo>
                  <a:lnTo>
                    <a:pt x="186" y="76"/>
                  </a:lnTo>
                  <a:lnTo>
                    <a:pt x="172" y="94"/>
                  </a:lnTo>
                  <a:lnTo>
                    <a:pt x="229" y="270"/>
                  </a:lnTo>
                  <a:lnTo>
                    <a:pt x="214" y="279"/>
                  </a:lnTo>
                  <a:lnTo>
                    <a:pt x="205" y="259"/>
                  </a:lnTo>
                  <a:lnTo>
                    <a:pt x="197" y="238"/>
                  </a:lnTo>
                  <a:lnTo>
                    <a:pt x="189" y="217"/>
                  </a:lnTo>
                  <a:lnTo>
                    <a:pt x="180" y="195"/>
                  </a:lnTo>
                  <a:lnTo>
                    <a:pt x="172" y="175"/>
                  </a:lnTo>
                  <a:lnTo>
                    <a:pt x="166" y="152"/>
                  </a:lnTo>
                  <a:lnTo>
                    <a:pt x="161" y="131"/>
                  </a:lnTo>
                  <a:lnTo>
                    <a:pt x="157" y="109"/>
                  </a:lnTo>
                  <a:lnTo>
                    <a:pt x="148" y="91"/>
                  </a:lnTo>
                  <a:lnTo>
                    <a:pt x="138" y="76"/>
                  </a:lnTo>
                  <a:lnTo>
                    <a:pt x="124" y="64"/>
                  </a:lnTo>
                  <a:lnTo>
                    <a:pt x="108" y="52"/>
                  </a:lnTo>
                  <a:lnTo>
                    <a:pt x="91" y="43"/>
                  </a:lnTo>
                  <a:lnTo>
                    <a:pt x="73" y="37"/>
                  </a:lnTo>
                  <a:lnTo>
                    <a:pt x="55" y="32"/>
                  </a:lnTo>
                  <a:lnTo>
                    <a:pt x="37" y="28"/>
                  </a:lnTo>
                  <a:lnTo>
                    <a:pt x="27" y="29"/>
                  </a:lnTo>
                  <a:lnTo>
                    <a:pt x="16" y="31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4" y="9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73160" y="1832400"/>
              <a:ext cx="20520" cy="26280"/>
            </a:xfrm>
            <a:custGeom>
              <a:avLst/>
              <a:gdLst/>
              <a:ahLst/>
              <a:rect l="l" t="t" r="r" b="b"/>
              <a:pathLst>
                <a:path w="54" h="51">
                  <a:moveTo>
                    <a:pt x="41" y="0"/>
                  </a:moveTo>
                  <a:lnTo>
                    <a:pt x="54" y="0"/>
                  </a:lnTo>
                  <a:lnTo>
                    <a:pt x="53" y="10"/>
                  </a:lnTo>
                  <a:lnTo>
                    <a:pt x="49" y="19"/>
                  </a:lnTo>
                  <a:lnTo>
                    <a:pt x="42" y="27"/>
                  </a:lnTo>
                  <a:lnTo>
                    <a:pt x="35" y="33"/>
                  </a:lnTo>
                  <a:lnTo>
                    <a:pt x="27" y="38"/>
                  </a:lnTo>
                  <a:lnTo>
                    <a:pt x="18" y="42"/>
                  </a:lnTo>
                  <a:lnTo>
                    <a:pt x="9" y="46"/>
                  </a:lnTo>
                  <a:lnTo>
                    <a:pt x="0" y="51"/>
                  </a:lnTo>
                  <a:lnTo>
                    <a:pt x="8" y="47"/>
                  </a:lnTo>
                  <a:lnTo>
                    <a:pt x="16" y="42"/>
                  </a:lnTo>
                  <a:lnTo>
                    <a:pt x="23" y="37"/>
                  </a:lnTo>
                  <a:lnTo>
                    <a:pt x="30" y="30"/>
                  </a:lnTo>
                  <a:lnTo>
                    <a:pt x="35" y="25"/>
                  </a:lnTo>
                  <a:lnTo>
                    <a:pt x="39" y="18"/>
                  </a:lnTo>
                  <a:lnTo>
                    <a:pt x="41" y="9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79640" y="1785960"/>
              <a:ext cx="20520" cy="14040"/>
            </a:xfrm>
            <a:custGeom>
              <a:avLst/>
              <a:gdLst/>
              <a:ahLst/>
              <a:rect l="l" t="t" r="r" b="b"/>
              <a:pathLst>
                <a:path w="51" h="27">
                  <a:moveTo>
                    <a:pt x="38" y="0"/>
                  </a:moveTo>
                  <a:lnTo>
                    <a:pt x="42" y="7"/>
                  </a:lnTo>
                  <a:lnTo>
                    <a:pt x="49" y="13"/>
                  </a:lnTo>
                  <a:lnTo>
                    <a:pt x="51" y="21"/>
                  </a:lnTo>
                  <a:lnTo>
                    <a:pt x="45" y="27"/>
                  </a:lnTo>
                  <a:lnTo>
                    <a:pt x="0" y="12"/>
                  </a:lnTo>
                  <a:lnTo>
                    <a:pt x="3" y="7"/>
                  </a:lnTo>
                  <a:lnTo>
                    <a:pt x="7" y="4"/>
                  </a:lnTo>
                  <a:lnTo>
                    <a:pt x="12" y="2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00160" y="2122560"/>
              <a:ext cx="81000" cy="288360"/>
            </a:xfrm>
            <a:custGeom>
              <a:avLst/>
              <a:gdLst/>
              <a:ahLst/>
              <a:rect l="l" t="t" r="r" b="b"/>
              <a:pathLst>
                <a:path w="202" h="575">
                  <a:moveTo>
                    <a:pt x="163" y="22"/>
                  </a:moveTo>
                  <a:lnTo>
                    <a:pt x="171" y="17"/>
                  </a:lnTo>
                  <a:lnTo>
                    <a:pt x="177" y="10"/>
                  </a:lnTo>
                  <a:lnTo>
                    <a:pt x="182" y="4"/>
                  </a:lnTo>
                  <a:lnTo>
                    <a:pt x="190" y="0"/>
                  </a:lnTo>
                  <a:lnTo>
                    <a:pt x="202" y="24"/>
                  </a:lnTo>
                  <a:lnTo>
                    <a:pt x="161" y="70"/>
                  </a:lnTo>
                  <a:lnTo>
                    <a:pt x="126" y="119"/>
                  </a:lnTo>
                  <a:lnTo>
                    <a:pt x="97" y="171"/>
                  </a:lnTo>
                  <a:lnTo>
                    <a:pt x="75" y="224"/>
                  </a:lnTo>
                  <a:lnTo>
                    <a:pt x="58" y="281"/>
                  </a:lnTo>
                  <a:lnTo>
                    <a:pt x="44" y="338"/>
                  </a:lnTo>
                  <a:lnTo>
                    <a:pt x="32" y="397"/>
                  </a:lnTo>
                  <a:lnTo>
                    <a:pt x="25" y="456"/>
                  </a:lnTo>
                  <a:lnTo>
                    <a:pt x="27" y="485"/>
                  </a:lnTo>
                  <a:lnTo>
                    <a:pt x="32" y="516"/>
                  </a:lnTo>
                  <a:lnTo>
                    <a:pt x="35" y="546"/>
                  </a:lnTo>
                  <a:lnTo>
                    <a:pt x="31" y="575"/>
                  </a:lnTo>
                  <a:lnTo>
                    <a:pt x="14" y="541"/>
                  </a:lnTo>
                  <a:lnTo>
                    <a:pt x="5" y="503"/>
                  </a:lnTo>
                  <a:lnTo>
                    <a:pt x="0" y="464"/>
                  </a:lnTo>
                  <a:lnTo>
                    <a:pt x="0" y="422"/>
                  </a:lnTo>
                  <a:lnTo>
                    <a:pt x="3" y="381"/>
                  </a:lnTo>
                  <a:lnTo>
                    <a:pt x="8" y="340"/>
                  </a:lnTo>
                  <a:lnTo>
                    <a:pt x="16" y="300"/>
                  </a:lnTo>
                  <a:lnTo>
                    <a:pt x="23" y="262"/>
                  </a:lnTo>
                  <a:lnTo>
                    <a:pt x="35" y="231"/>
                  </a:lnTo>
                  <a:lnTo>
                    <a:pt x="49" y="199"/>
                  </a:lnTo>
                  <a:lnTo>
                    <a:pt x="65" y="169"/>
                  </a:lnTo>
                  <a:lnTo>
                    <a:pt x="83" y="138"/>
                  </a:lnTo>
                  <a:lnTo>
                    <a:pt x="102" y="109"/>
                  </a:lnTo>
                  <a:lnTo>
                    <a:pt x="122" y="80"/>
                  </a:lnTo>
                  <a:lnTo>
                    <a:pt x="143" y="51"/>
                  </a:lnTo>
                  <a:lnTo>
                    <a:pt x="163" y="22"/>
                  </a:lnTo>
                  <a:close/>
                </a:path>
              </a:pathLst>
            </a:custGeom>
            <a:solidFill>
              <a:srgbClr val="0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70000" y="1836360"/>
              <a:ext cx="4680" cy="39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0"/>
                  </a:move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4680" y="1860480"/>
              <a:ext cx="3240" cy="57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7" y="0"/>
                  </a:moveTo>
                  <a:lnTo>
                    <a:pt x="9" y="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4680" y="1838520"/>
              <a:ext cx="7920" cy="97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22" y="0"/>
                  </a:moveTo>
                  <a:lnTo>
                    <a:pt x="19" y="8"/>
                  </a:lnTo>
                  <a:lnTo>
                    <a:pt x="15" y="14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4" y="11"/>
                  </a:lnTo>
                  <a:lnTo>
                    <a:pt x="9" y="8"/>
                  </a:lnTo>
                  <a:lnTo>
                    <a:pt x="15" y="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77920" y="1888920"/>
              <a:ext cx="3240" cy="396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0" y="0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0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77920" y="1868760"/>
              <a:ext cx="4680" cy="75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9" y="0"/>
                  </a:moveTo>
                  <a:lnTo>
                    <a:pt x="12" y="1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8"/>
                  </a:lnTo>
                  <a:lnTo>
                    <a:pt x="6" y="14"/>
                  </a:lnTo>
                  <a:lnTo>
                    <a:pt x="0" y="4"/>
                  </a:lnTo>
                  <a:lnTo>
                    <a:pt x="4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79360" y="1907280"/>
              <a:ext cx="1800" cy="36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0"/>
                  </a:moveTo>
                  <a:lnTo>
                    <a:pt x="5" y="7"/>
                  </a:lnTo>
                  <a:lnTo>
                    <a:pt x="2" y="9"/>
                  </a:lnTo>
                  <a:lnTo>
                    <a:pt x="1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1160" y="1848600"/>
              <a:ext cx="6120" cy="972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2" y="0"/>
                  </a:moveTo>
                  <a:lnTo>
                    <a:pt x="17" y="0"/>
                  </a:lnTo>
                  <a:lnTo>
                    <a:pt x="18" y="6"/>
                  </a:lnTo>
                  <a:lnTo>
                    <a:pt x="16" y="12"/>
                  </a:lnTo>
                  <a:lnTo>
                    <a:pt x="11" y="16"/>
                  </a:lnTo>
                  <a:lnTo>
                    <a:pt x="7" y="19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84400" y="1826280"/>
              <a:ext cx="145800" cy="205560"/>
            </a:xfrm>
            <a:custGeom>
              <a:avLst/>
              <a:gdLst/>
              <a:ahLst/>
              <a:rect l="l" t="t" r="r" b="b"/>
              <a:pathLst>
                <a:path w="371" h="407">
                  <a:moveTo>
                    <a:pt x="43" y="242"/>
                  </a:moveTo>
                  <a:lnTo>
                    <a:pt x="45" y="236"/>
                  </a:lnTo>
                  <a:lnTo>
                    <a:pt x="43" y="231"/>
                  </a:lnTo>
                  <a:lnTo>
                    <a:pt x="38" y="226"/>
                  </a:lnTo>
                  <a:lnTo>
                    <a:pt x="33" y="222"/>
                  </a:lnTo>
                  <a:lnTo>
                    <a:pt x="28" y="218"/>
                  </a:lnTo>
                  <a:lnTo>
                    <a:pt x="24" y="214"/>
                  </a:lnTo>
                  <a:lnTo>
                    <a:pt x="24" y="209"/>
                  </a:lnTo>
                  <a:lnTo>
                    <a:pt x="28" y="204"/>
                  </a:lnTo>
                  <a:lnTo>
                    <a:pt x="52" y="223"/>
                  </a:lnTo>
                  <a:lnTo>
                    <a:pt x="55" y="222"/>
                  </a:lnTo>
                  <a:lnTo>
                    <a:pt x="56" y="218"/>
                  </a:lnTo>
                  <a:lnTo>
                    <a:pt x="55" y="216"/>
                  </a:lnTo>
                  <a:lnTo>
                    <a:pt x="55" y="212"/>
                  </a:lnTo>
                  <a:lnTo>
                    <a:pt x="50" y="208"/>
                  </a:lnTo>
                  <a:lnTo>
                    <a:pt x="45" y="203"/>
                  </a:lnTo>
                  <a:lnTo>
                    <a:pt x="41" y="198"/>
                  </a:lnTo>
                  <a:lnTo>
                    <a:pt x="40" y="192"/>
                  </a:lnTo>
                  <a:lnTo>
                    <a:pt x="46" y="185"/>
                  </a:lnTo>
                  <a:lnTo>
                    <a:pt x="48" y="188"/>
                  </a:lnTo>
                  <a:lnTo>
                    <a:pt x="52" y="192"/>
                  </a:lnTo>
                  <a:lnTo>
                    <a:pt x="55" y="193"/>
                  </a:lnTo>
                  <a:lnTo>
                    <a:pt x="59" y="194"/>
                  </a:lnTo>
                  <a:lnTo>
                    <a:pt x="64" y="190"/>
                  </a:lnTo>
                  <a:lnTo>
                    <a:pt x="62" y="185"/>
                  </a:lnTo>
                  <a:lnTo>
                    <a:pt x="59" y="180"/>
                  </a:lnTo>
                  <a:lnTo>
                    <a:pt x="55" y="176"/>
                  </a:lnTo>
                  <a:lnTo>
                    <a:pt x="57" y="174"/>
                  </a:lnTo>
                  <a:lnTo>
                    <a:pt x="60" y="173"/>
                  </a:lnTo>
                  <a:lnTo>
                    <a:pt x="62" y="171"/>
                  </a:lnTo>
                  <a:lnTo>
                    <a:pt x="66" y="170"/>
                  </a:lnTo>
                  <a:lnTo>
                    <a:pt x="73" y="176"/>
                  </a:lnTo>
                  <a:lnTo>
                    <a:pt x="79" y="170"/>
                  </a:lnTo>
                  <a:lnTo>
                    <a:pt x="76" y="163"/>
                  </a:lnTo>
                  <a:lnTo>
                    <a:pt x="71" y="156"/>
                  </a:lnTo>
                  <a:lnTo>
                    <a:pt x="73" y="149"/>
                  </a:lnTo>
                  <a:lnTo>
                    <a:pt x="67" y="150"/>
                  </a:lnTo>
                  <a:lnTo>
                    <a:pt x="64" y="149"/>
                  </a:lnTo>
                  <a:lnTo>
                    <a:pt x="60" y="145"/>
                  </a:lnTo>
                  <a:lnTo>
                    <a:pt x="59" y="141"/>
                  </a:lnTo>
                  <a:lnTo>
                    <a:pt x="55" y="136"/>
                  </a:lnTo>
                  <a:lnTo>
                    <a:pt x="56" y="131"/>
                  </a:lnTo>
                  <a:lnTo>
                    <a:pt x="60" y="124"/>
                  </a:lnTo>
                  <a:lnTo>
                    <a:pt x="61" y="119"/>
                  </a:lnTo>
                  <a:lnTo>
                    <a:pt x="70" y="123"/>
                  </a:lnTo>
                  <a:lnTo>
                    <a:pt x="79" y="132"/>
                  </a:lnTo>
                  <a:lnTo>
                    <a:pt x="88" y="138"/>
                  </a:lnTo>
                  <a:lnTo>
                    <a:pt x="97" y="135"/>
                  </a:lnTo>
                  <a:lnTo>
                    <a:pt x="92" y="127"/>
                  </a:lnTo>
                  <a:lnTo>
                    <a:pt x="85" y="121"/>
                  </a:lnTo>
                  <a:lnTo>
                    <a:pt x="79" y="114"/>
                  </a:lnTo>
                  <a:lnTo>
                    <a:pt x="73" y="107"/>
                  </a:lnTo>
                  <a:lnTo>
                    <a:pt x="67" y="100"/>
                  </a:lnTo>
                  <a:lnTo>
                    <a:pt x="64" y="94"/>
                  </a:lnTo>
                  <a:lnTo>
                    <a:pt x="64" y="86"/>
                  </a:lnTo>
                  <a:lnTo>
                    <a:pt x="66" y="79"/>
                  </a:lnTo>
                  <a:lnTo>
                    <a:pt x="75" y="85"/>
                  </a:lnTo>
                  <a:lnTo>
                    <a:pt x="83" y="93"/>
                  </a:lnTo>
                  <a:lnTo>
                    <a:pt x="89" y="102"/>
                  </a:lnTo>
                  <a:lnTo>
                    <a:pt x="95" y="111"/>
                  </a:lnTo>
                  <a:lnTo>
                    <a:pt x="102" y="118"/>
                  </a:lnTo>
                  <a:lnTo>
                    <a:pt x="108" y="126"/>
                  </a:lnTo>
                  <a:lnTo>
                    <a:pt x="116" y="131"/>
                  </a:lnTo>
                  <a:lnTo>
                    <a:pt x="126" y="132"/>
                  </a:lnTo>
                  <a:lnTo>
                    <a:pt x="118" y="122"/>
                  </a:lnTo>
                  <a:lnTo>
                    <a:pt x="109" y="112"/>
                  </a:lnTo>
                  <a:lnTo>
                    <a:pt x="101" y="100"/>
                  </a:lnTo>
                  <a:lnTo>
                    <a:pt x="92" y="89"/>
                  </a:lnTo>
                  <a:lnTo>
                    <a:pt x="84" y="76"/>
                  </a:lnTo>
                  <a:lnTo>
                    <a:pt x="76" y="65"/>
                  </a:lnTo>
                  <a:lnTo>
                    <a:pt x="71" y="52"/>
                  </a:lnTo>
                  <a:lnTo>
                    <a:pt x="69" y="40"/>
                  </a:lnTo>
                  <a:lnTo>
                    <a:pt x="75" y="40"/>
                  </a:lnTo>
                  <a:lnTo>
                    <a:pt x="81" y="47"/>
                  </a:lnTo>
                  <a:lnTo>
                    <a:pt x="88" y="56"/>
                  </a:lnTo>
                  <a:lnTo>
                    <a:pt x="94" y="65"/>
                  </a:lnTo>
                  <a:lnTo>
                    <a:pt x="101" y="74"/>
                  </a:lnTo>
                  <a:lnTo>
                    <a:pt x="107" y="81"/>
                  </a:lnTo>
                  <a:lnTo>
                    <a:pt x="113" y="90"/>
                  </a:lnTo>
                  <a:lnTo>
                    <a:pt x="121" y="97"/>
                  </a:lnTo>
                  <a:lnTo>
                    <a:pt x="128" y="104"/>
                  </a:lnTo>
                  <a:lnTo>
                    <a:pt x="135" y="99"/>
                  </a:lnTo>
                  <a:lnTo>
                    <a:pt x="125" y="90"/>
                  </a:lnTo>
                  <a:lnTo>
                    <a:pt x="116" y="78"/>
                  </a:lnTo>
                  <a:lnTo>
                    <a:pt x="108" y="64"/>
                  </a:lnTo>
                  <a:lnTo>
                    <a:pt x="101" y="50"/>
                  </a:lnTo>
                  <a:lnTo>
                    <a:pt x="93" y="40"/>
                  </a:lnTo>
                  <a:lnTo>
                    <a:pt x="84" y="32"/>
                  </a:lnTo>
                  <a:lnTo>
                    <a:pt x="73" y="32"/>
                  </a:lnTo>
                  <a:lnTo>
                    <a:pt x="59" y="40"/>
                  </a:lnTo>
                  <a:lnTo>
                    <a:pt x="59" y="27"/>
                  </a:lnTo>
                  <a:lnTo>
                    <a:pt x="70" y="27"/>
                  </a:lnTo>
                  <a:lnTo>
                    <a:pt x="80" y="26"/>
                  </a:lnTo>
                  <a:lnTo>
                    <a:pt x="90" y="23"/>
                  </a:lnTo>
                  <a:lnTo>
                    <a:pt x="101" y="22"/>
                  </a:lnTo>
                  <a:lnTo>
                    <a:pt x="111" y="22"/>
                  </a:lnTo>
                  <a:lnTo>
                    <a:pt x="121" y="22"/>
                  </a:lnTo>
                  <a:lnTo>
                    <a:pt x="131" y="23"/>
                  </a:lnTo>
                  <a:lnTo>
                    <a:pt x="141" y="27"/>
                  </a:lnTo>
                  <a:lnTo>
                    <a:pt x="168" y="27"/>
                  </a:lnTo>
                  <a:lnTo>
                    <a:pt x="195" y="26"/>
                  </a:lnTo>
                  <a:lnTo>
                    <a:pt x="219" y="23"/>
                  </a:lnTo>
                  <a:lnTo>
                    <a:pt x="243" y="19"/>
                  </a:lnTo>
                  <a:lnTo>
                    <a:pt x="267" y="16"/>
                  </a:lnTo>
                  <a:lnTo>
                    <a:pt x="291" y="10"/>
                  </a:lnTo>
                  <a:lnTo>
                    <a:pt x="315" y="5"/>
                  </a:lnTo>
                  <a:lnTo>
                    <a:pt x="342" y="0"/>
                  </a:lnTo>
                  <a:lnTo>
                    <a:pt x="357" y="4"/>
                  </a:lnTo>
                  <a:lnTo>
                    <a:pt x="366" y="16"/>
                  </a:lnTo>
                  <a:lnTo>
                    <a:pt x="370" y="28"/>
                  </a:lnTo>
                  <a:lnTo>
                    <a:pt x="371" y="42"/>
                  </a:lnTo>
                  <a:lnTo>
                    <a:pt x="366" y="364"/>
                  </a:lnTo>
                  <a:lnTo>
                    <a:pt x="362" y="368"/>
                  </a:lnTo>
                  <a:lnTo>
                    <a:pt x="359" y="370"/>
                  </a:lnTo>
                  <a:lnTo>
                    <a:pt x="353" y="373"/>
                  </a:lnTo>
                  <a:lnTo>
                    <a:pt x="348" y="373"/>
                  </a:lnTo>
                  <a:lnTo>
                    <a:pt x="342" y="365"/>
                  </a:lnTo>
                  <a:lnTo>
                    <a:pt x="345" y="356"/>
                  </a:lnTo>
                  <a:lnTo>
                    <a:pt x="348" y="349"/>
                  </a:lnTo>
                  <a:lnTo>
                    <a:pt x="345" y="340"/>
                  </a:lnTo>
                  <a:lnTo>
                    <a:pt x="337" y="340"/>
                  </a:lnTo>
                  <a:lnTo>
                    <a:pt x="333" y="342"/>
                  </a:lnTo>
                  <a:lnTo>
                    <a:pt x="329" y="344"/>
                  </a:lnTo>
                  <a:lnTo>
                    <a:pt x="323" y="337"/>
                  </a:lnTo>
                  <a:lnTo>
                    <a:pt x="327" y="329"/>
                  </a:lnTo>
                  <a:lnTo>
                    <a:pt x="334" y="321"/>
                  </a:lnTo>
                  <a:lnTo>
                    <a:pt x="338" y="313"/>
                  </a:lnTo>
                  <a:lnTo>
                    <a:pt x="333" y="304"/>
                  </a:lnTo>
                  <a:lnTo>
                    <a:pt x="314" y="317"/>
                  </a:lnTo>
                  <a:lnTo>
                    <a:pt x="315" y="303"/>
                  </a:lnTo>
                  <a:lnTo>
                    <a:pt x="323" y="291"/>
                  </a:lnTo>
                  <a:lnTo>
                    <a:pt x="329" y="279"/>
                  </a:lnTo>
                  <a:lnTo>
                    <a:pt x="327" y="266"/>
                  </a:lnTo>
                  <a:lnTo>
                    <a:pt x="300" y="293"/>
                  </a:lnTo>
                  <a:lnTo>
                    <a:pt x="298" y="284"/>
                  </a:lnTo>
                  <a:lnTo>
                    <a:pt x="299" y="277"/>
                  </a:lnTo>
                  <a:lnTo>
                    <a:pt x="303" y="269"/>
                  </a:lnTo>
                  <a:lnTo>
                    <a:pt x="308" y="261"/>
                  </a:lnTo>
                  <a:lnTo>
                    <a:pt x="314" y="254"/>
                  </a:lnTo>
                  <a:lnTo>
                    <a:pt x="318" y="245"/>
                  </a:lnTo>
                  <a:lnTo>
                    <a:pt x="320" y="237"/>
                  </a:lnTo>
                  <a:lnTo>
                    <a:pt x="318" y="230"/>
                  </a:lnTo>
                  <a:lnTo>
                    <a:pt x="285" y="264"/>
                  </a:lnTo>
                  <a:lnTo>
                    <a:pt x="291" y="247"/>
                  </a:lnTo>
                  <a:lnTo>
                    <a:pt x="301" y="233"/>
                  </a:lnTo>
                  <a:lnTo>
                    <a:pt x="310" y="221"/>
                  </a:lnTo>
                  <a:lnTo>
                    <a:pt x="314" y="207"/>
                  </a:lnTo>
                  <a:lnTo>
                    <a:pt x="300" y="212"/>
                  </a:lnTo>
                  <a:lnTo>
                    <a:pt x="300" y="209"/>
                  </a:lnTo>
                  <a:lnTo>
                    <a:pt x="299" y="208"/>
                  </a:lnTo>
                  <a:lnTo>
                    <a:pt x="296" y="206"/>
                  </a:lnTo>
                  <a:lnTo>
                    <a:pt x="294" y="204"/>
                  </a:lnTo>
                  <a:lnTo>
                    <a:pt x="286" y="209"/>
                  </a:lnTo>
                  <a:lnTo>
                    <a:pt x="277" y="217"/>
                  </a:lnTo>
                  <a:lnTo>
                    <a:pt x="270" y="223"/>
                  </a:lnTo>
                  <a:lnTo>
                    <a:pt x="261" y="230"/>
                  </a:lnTo>
                  <a:lnTo>
                    <a:pt x="256" y="202"/>
                  </a:lnTo>
                  <a:lnTo>
                    <a:pt x="254" y="173"/>
                  </a:lnTo>
                  <a:lnTo>
                    <a:pt x="252" y="144"/>
                  </a:lnTo>
                  <a:lnTo>
                    <a:pt x="244" y="117"/>
                  </a:lnTo>
                  <a:lnTo>
                    <a:pt x="234" y="130"/>
                  </a:lnTo>
                  <a:lnTo>
                    <a:pt x="233" y="151"/>
                  </a:lnTo>
                  <a:lnTo>
                    <a:pt x="235" y="175"/>
                  </a:lnTo>
                  <a:lnTo>
                    <a:pt x="238" y="198"/>
                  </a:lnTo>
                  <a:lnTo>
                    <a:pt x="225" y="198"/>
                  </a:lnTo>
                  <a:lnTo>
                    <a:pt x="230" y="211"/>
                  </a:lnTo>
                  <a:lnTo>
                    <a:pt x="235" y="222"/>
                  </a:lnTo>
                  <a:lnTo>
                    <a:pt x="239" y="235"/>
                  </a:lnTo>
                  <a:lnTo>
                    <a:pt x="240" y="249"/>
                  </a:lnTo>
                  <a:lnTo>
                    <a:pt x="234" y="237"/>
                  </a:lnTo>
                  <a:lnTo>
                    <a:pt x="225" y="226"/>
                  </a:lnTo>
                  <a:lnTo>
                    <a:pt x="214" y="216"/>
                  </a:lnTo>
                  <a:lnTo>
                    <a:pt x="203" y="209"/>
                  </a:lnTo>
                  <a:lnTo>
                    <a:pt x="207" y="221"/>
                  </a:lnTo>
                  <a:lnTo>
                    <a:pt x="212" y="232"/>
                  </a:lnTo>
                  <a:lnTo>
                    <a:pt x="219" y="244"/>
                  </a:lnTo>
                  <a:lnTo>
                    <a:pt x="226" y="255"/>
                  </a:lnTo>
                  <a:lnTo>
                    <a:pt x="233" y="266"/>
                  </a:lnTo>
                  <a:lnTo>
                    <a:pt x="239" y="278"/>
                  </a:lnTo>
                  <a:lnTo>
                    <a:pt x="243" y="291"/>
                  </a:lnTo>
                  <a:lnTo>
                    <a:pt x="244" y="302"/>
                  </a:lnTo>
                  <a:lnTo>
                    <a:pt x="237" y="296"/>
                  </a:lnTo>
                  <a:lnTo>
                    <a:pt x="230" y="284"/>
                  </a:lnTo>
                  <a:lnTo>
                    <a:pt x="224" y="271"/>
                  </a:lnTo>
                  <a:lnTo>
                    <a:pt x="214" y="260"/>
                  </a:lnTo>
                  <a:lnTo>
                    <a:pt x="207" y="268"/>
                  </a:lnTo>
                  <a:lnTo>
                    <a:pt x="209" y="277"/>
                  </a:lnTo>
                  <a:lnTo>
                    <a:pt x="212" y="284"/>
                  </a:lnTo>
                  <a:lnTo>
                    <a:pt x="214" y="293"/>
                  </a:lnTo>
                  <a:lnTo>
                    <a:pt x="207" y="293"/>
                  </a:lnTo>
                  <a:lnTo>
                    <a:pt x="202" y="291"/>
                  </a:lnTo>
                  <a:lnTo>
                    <a:pt x="198" y="287"/>
                  </a:lnTo>
                  <a:lnTo>
                    <a:pt x="195" y="283"/>
                  </a:lnTo>
                  <a:lnTo>
                    <a:pt x="197" y="277"/>
                  </a:lnTo>
                  <a:lnTo>
                    <a:pt x="201" y="269"/>
                  </a:lnTo>
                  <a:lnTo>
                    <a:pt x="205" y="263"/>
                  </a:lnTo>
                  <a:lnTo>
                    <a:pt x="210" y="258"/>
                  </a:lnTo>
                  <a:lnTo>
                    <a:pt x="201" y="249"/>
                  </a:lnTo>
                  <a:lnTo>
                    <a:pt x="193" y="260"/>
                  </a:lnTo>
                  <a:lnTo>
                    <a:pt x="183" y="270"/>
                  </a:lnTo>
                  <a:lnTo>
                    <a:pt x="172" y="280"/>
                  </a:lnTo>
                  <a:lnTo>
                    <a:pt x="159" y="288"/>
                  </a:lnTo>
                  <a:lnTo>
                    <a:pt x="146" y="297"/>
                  </a:lnTo>
                  <a:lnTo>
                    <a:pt x="135" y="307"/>
                  </a:lnTo>
                  <a:lnTo>
                    <a:pt x="123" y="317"/>
                  </a:lnTo>
                  <a:lnTo>
                    <a:pt x="115" y="329"/>
                  </a:lnTo>
                  <a:lnTo>
                    <a:pt x="123" y="326"/>
                  </a:lnTo>
                  <a:lnTo>
                    <a:pt x="132" y="323"/>
                  </a:lnTo>
                  <a:lnTo>
                    <a:pt x="141" y="318"/>
                  </a:lnTo>
                  <a:lnTo>
                    <a:pt x="150" y="313"/>
                  </a:lnTo>
                  <a:lnTo>
                    <a:pt x="158" y="307"/>
                  </a:lnTo>
                  <a:lnTo>
                    <a:pt x="167" y="301"/>
                  </a:lnTo>
                  <a:lnTo>
                    <a:pt x="176" y="293"/>
                  </a:lnTo>
                  <a:lnTo>
                    <a:pt x="184" y="287"/>
                  </a:lnTo>
                  <a:lnTo>
                    <a:pt x="188" y="291"/>
                  </a:lnTo>
                  <a:lnTo>
                    <a:pt x="191" y="297"/>
                  </a:lnTo>
                  <a:lnTo>
                    <a:pt x="192" y="304"/>
                  </a:lnTo>
                  <a:lnTo>
                    <a:pt x="192" y="308"/>
                  </a:lnTo>
                  <a:lnTo>
                    <a:pt x="174" y="302"/>
                  </a:lnTo>
                  <a:lnTo>
                    <a:pt x="176" y="312"/>
                  </a:lnTo>
                  <a:lnTo>
                    <a:pt x="172" y="321"/>
                  </a:lnTo>
                  <a:lnTo>
                    <a:pt x="164" y="327"/>
                  </a:lnTo>
                  <a:lnTo>
                    <a:pt x="154" y="334"/>
                  </a:lnTo>
                  <a:lnTo>
                    <a:pt x="144" y="340"/>
                  </a:lnTo>
                  <a:lnTo>
                    <a:pt x="134" y="346"/>
                  </a:lnTo>
                  <a:lnTo>
                    <a:pt x="126" y="354"/>
                  </a:lnTo>
                  <a:lnTo>
                    <a:pt x="121" y="364"/>
                  </a:lnTo>
                  <a:lnTo>
                    <a:pt x="125" y="367"/>
                  </a:lnTo>
                  <a:lnTo>
                    <a:pt x="128" y="368"/>
                  </a:lnTo>
                  <a:lnTo>
                    <a:pt x="132" y="370"/>
                  </a:lnTo>
                  <a:lnTo>
                    <a:pt x="132" y="377"/>
                  </a:lnTo>
                  <a:lnTo>
                    <a:pt x="126" y="382"/>
                  </a:lnTo>
                  <a:lnTo>
                    <a:pt x="118" y="386"/>
                  </a:lnTo>
                  <a:lnTo>
                    <a:pt x="112" y="392"/>
                  </a:lnTo>
                  <a:lnTo>
                    <a:pt x="112" y="399"/>
                  </a:lnTo>
                  <a:lnTo>
                    <a:pt x="115" y="402"/>
                  </a:lnTo>
                  <a:lnTo>
                    <a:pt x="107" y="403"/>
                  </a:lnTo>
                  <a:lnTo>
                    <a:pt x="99" y="405"/>
                  </a:lnTo>
                  <a:lnTo>
                    <a:pt x="90" y="406"/>
                  </a:lnTo>
                  <a:lnTo>
                    <a:pt x="80" y="406"/>
                  </a:lnTo>
                  <a:lnTo>
                    <a:pt x="71" y="407"/>
                  </a:lnTo>
                  <a:lnTo>
                    <a:pt x="62" y="407"/>
                  </a:lnTo>
                  <a:lnTo>
                    <a:pt x="53" y="407"/>
                  </a:lnTo>
                  <a:lnTo>
                    <a:pt x="46" y="406"/>
                  </a:lnTo>
                  <a:lnTo>
                    <a:pt x="33" y="391"/>
                  </a:lnTo>
                  <a:lnTo>
                    <a:pt x="26" y="373"/>
                  </a:lnTo>
                  <a:lnTo>
                    <a:pt x="20" y="354"/>
                  </a:lnTo>
                  <a:lnTo>
                    <a:pt x="18" y="334"/>
                  </a:lnTo>
                  <a:lnTo>
                    <a:pt x="17" y="313"/>
                  </a:lnTo>
                  <a:lnTo>
                    <a:pt x="14" y="293"/>
                  </a:lnTo>
                  <a:lnTo>
                    <a:pt x="12" y="273"/>
                  </a:lnTo>
                  <a:lnTo>
                    <a:pt x="6" y="254"/>
                  </a:lnTo>
                  <a:lnTo>
                    <a:pt x="13" y="256"/>
                  </a:lnTo>
                  <a:lnTo>
                    <a:pt x="18" y="263"/>
                  </a:lnTo>
                  <a:lnTo>
                    <a:pt x="24" y="266"/>
                  </a:lnTo>
                  <a:lnTo>
                    <a:pt x="31" y="264"/>
                  </a:lnTo>
                  <a:lnTo>
                    <a:pt x="0" y="227"/>
                  </a:lnTo>
                  <a:lnTo>
                    <a:pt x="5" y="223"/>
                  </a:lnTo>
                  <a:lnTo>
                    <a:pt x="10" y="222"/>
                  </a:lnTo>
                  <a:lnTo>
                    <a:pt x="15" y="225"/>
                  </a:lnTo>
                  <a:lnTo>
                    <a:pt x="20" y="228"/>
                  </a:lnTo>
                  <a:lnTo>
                    <a:pt x="26" y="233"/>
                  </a:lnTo>
                  <a:lnTo>
                    <a:pt x="31" y="237"/>
                  </a:lnTo>
                  <a:lnTo>
                    <a:pt x="37" y="241"/>
                  </a:lnTo>
                  <a:lnTo>
                    <a:pt x="43" y="242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84400" y="1915200"/>
              <a:ext cx="6120" cy="9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0"/>
                  </a:moveTo>
                  <a:lnTo>
                    <a:pt x="10" y="1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19" y="10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5" y="16"/>
                  </a:lnTo>
                  <a:lnTo>
                    <a:pt x="13" y="19"/>
                  </a:lnTo>
                  <a:lnTo>
                    <a:pt x="8" y="14"/>
                  </a:lnTo>
                  <a:lnTo>
                    <a:pt x="3" y="9"/>
                  </a:lnTo>
                  <a:lnTo>
                    <a:pt x="0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84400" y="1897200"/>
              <a:ext cx="4680" cy="57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3" y="0"/>
                  </a:moveTo>
                  <a:lnTo>
                    <a:pt x="12" y="8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84400" y="1876680"/>
              <a:ext cx="4680" cy="61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lnTo>
                    <a:pt x="8" y="1"/>
                  </a:lnTo>
                  <a:lnTo>
                    <a:pt x="9" y="3"/>
                  </a:lnTo>
                  <a:lnTo>
                    <a:pt x="9" y="6"/>
                  </a:lnTo>
                  <a:lnTo>
                    <a:pt x="9" y="9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1858680"/>
              <a:ext cx="7920" cy="5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3" y="0"/>
                  </a:moveTo>
                  <a:lnTo>
                    <a:pt x="18" y="6"/>
                  </a:lnTo>
                  <a:lnTo>
                    <a:pt x="0" y="15"/>
                  </a:lnTo>
                  <a:lnTo>
                    <a:pt x="3" y="11"/>
                  </a:lnTo>
                  <a:lnTo>
                    <a:pt x="6" y="7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89080" y="1887120"/>
              <a:ext cx="6120" cy="5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7"/>
                  </a:moveTo>
                  <a:lnTo>
                    <a:pt x="4" y="7"/>
                  </a:lnTo>
                  <a:lnTo>
                    <a:pt x="5" y="5"/>
                  </a:lnTo>
                  <a:lnTo>
                    <a:pt x="8" y="3"/>
                  </a:lnTo>
                  <a:lnTo>
                    <a:pt x="9" y="0"/>
                  </a:lnTo>
                  <a:lnTo>
                    <a:pt x="12" y="4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6" y="16"/>
                  </a:lnTo>
                  <a:lnTo>
                    <a:pt x="0" y="1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0520" y="1907280"/>
              <a:ext cx="7920" cy="97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9" y="15"/>
                  </a:moveTo>
                  <a:lnTo>
                    <a:pt x="13" y="22"/>
                  </a:lnTo>
                  <a:lnTo>
                    <a:pt x="9" y="18"/>
                  </a:lnTo>
                  <a:lnTo>
                    <a:pt x="4" y="1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0520" y="1866600"/>
              <a:ext cx="7920" cy="792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18" y="0"/>
                  </a:moveTo>
                  <a:lnTo>
                    <a:pt x="18" y="3"/>
                  </a:lnTo>
                  <a:lnTo>
                    <a:pt x="21" y="5"/>
                  </a:lnTo>
                  <a:lnTo>
                    <a:pt x="21" y="7"/>
                  </a:lnTo>
                  <a:lnTo>
                    <a:pt x="18" y="8"/>
                  </a:lnTo>
                  <a:lnTo>
                    <a:pt x="14" y="13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0" y="14"/>
                  </a:lnTo>
                  <a:lnTo>
                    <a:pt x="3" y="11"/>
                  </a:lnTo>
                  <a:lnTo>
                    <a:pt x="8" y="5"/>
                  </a:lnTo>
                  <a:lnTo>
                    <a:pt x="13" y="3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90520" y="1838520"/>
              <a:ext cx="6480" cy="75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5" y="0"/>
                  </a:moveTo>
                  <a:lnTo>
                    <a:pt x="15" y="5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5" y="13"/>
                  </a:lnTo>
                  <a:lnTo>
                    <a:pt x="0" y="9"/>
                  </a:lnTo>
                  <a:lnTo>
                    <a:pt x="1" y="4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5200" y="1876680"/>
              <a:ext cx="11160" cy="1044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1" y="3"/>
                  </a:moveTo>
                  <a:lnTo>
                    <a:pt x="24" y="5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28" y="15"/>
                  </a:lnTo>
                  <a:lnTo>
                    <a:pt x="21" y="20"/>
                  </a:lnTo>
                  <a:lnTo>
                    <a:pt x="14" y="22"/>
                  </a:lnTo>
                  <a:lnTo>
                    <a:pt x="6" y="20"/>
                  </a:lnTo>
                  <a:lnTo>
                    <a:pt x="0" y="15"/>
                  </a:lnTo>
                  <a:lnTo>
                    <a:pt x="5" y="10"/>
                  </a:lnTo>
                  <a:lnTo>
                    <a:pt x="10" y="4"/>
                  </a:lnTo>
                  <a:lnTo>
                    <a:pt x="15" y="0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95200" y="1846440"/>
              <a:ext cx="8280" cy="79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5" y="0"/>
                  </a:moveTo>
                  <a:lnTo>
                    <a:pt x="17" y="1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5" y="9"/>
                  </a:lnTo>
                  <a:lnTo>
                    <a:pt x="12" y="13"/>
                  </a:lnTo>
                  <a:lnTo>
                    <a:pt x="7" y="14"/>
                  </a:lnTo>
                  <a:lnTo>
                    <a:pt x="3" y="15"/>
                  </a:lnTo>
                  <a:lnTo>
                    <a:pt x="0" y="13"/>
                  </a:lnTo>
                  <a:lnTo>
                    <a:pt x="3" y="9"/>
                  </a:lnTo>
                  <a:lnTo>
                    <a:pt x="7" y="5"/>
                  </a:lnTo>
                  <a:lnTo>
                    <a:pt x="11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97000" y="1899000"/>
              <a:ext cx="7920" cy="118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7" y="0"/>
                  </a:moveTo>
                  <a:lnTo>
                    <a:pt x="13" y="2"/>
                  </a:lnTo>
                  <a:lnTo>
                    <a:pt x="17" y="6"/>
                  </a:lnTo>
                  <a:lnTo>
                    <a:pt x="20" y="11"/>
                  </a:lnTo>
                  <a:lnTo>
                    <a:pt x="22" y="16"/>
                  </a:lnTo>
                  <a:lnTo>
                    <a:pt x="17" y="23"/>
                  </a:lnTo>
                  <a:lnTo>
                    <a:pt x="12" y="16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01680" y="1856520"/>
              <a:ext cx="6480" cy="792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9" y="0"/>
                  </a:move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11"/>
                  </a:lnTo>
                  <a:lnTo>
                    <a:pt x="11" y="16"/>
                  </a:lnTo>
                  <a:lnTo>
                    <a:pt x="5" y="18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2" y="7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06360" y="2066400"/>
              <a:ext cx="23760" cy="56160"/>
            </a:xfrm>
            <a:custGeom>
              <a:avLst/>
              <a:gdLst/>
              <a:ahLst/>
              <a:rect l="l" t="t" r="r" b="b"/>
              <a:pathLst>
                <a:path w="61" h="110">
                  <a:moveTo>
                    <a:pt x="37" y="0"/>
                  </a:moveTo>
                  <a:lnTo>
                    <a:pt x="44" y="2"/>
                  </a:lnTo>
                  <a:lnTo>
                    <a:pt x="50" y="4"/>
                  </a:lnTo>
                  <a:lnTo>
                    <a:pt x="56" y="6"/>
                  </a:lnTo>
                  <a:lnTo>
                    <a:pt x="61" y="12"/>
                  </a:lnTo>
                  <a:lnTo>
                    <a:pt x="56" y="19"/>
                  </a:lnTo>
                  <a:lnTo>
                    <a:pt x="49" y="25"/>
                  </a:lnTo>
                  <a:lnTo>
                    <a:pt x="41" y="29"/>
                  </a:lnTo>
                  <a:lnTo>
                    <a:pt x="33" y="34"/>
                  </a:lnTo>
                  <a:lnTo>
                    <a:pt x="26" y="38"/>
                  </a:lnTo>
                  <a:lnTo>
                    <a:pt x="19" y="43"/>
                  </a:lnTo>
                  <a:lnTo>
                    <a:pt x="13" y="49"/>
                  </a:lnTo>
                  <a:lnTo>
                    <a:pt x="9" y="57"/>
                  </a:lnTo>
                  <a:lnTo>
                    <a:pt x="24" y="110"/>
                  </a:lnTo>
                  <a:lnTo>
                    <a:pt x="16" y="99"/>
                  </a:lnTo>
                  <a:lnTo>
                    <a:pt x="8" y="85"/>
                  </a:lnTo>
                  <a:lnTo>
                    <a:pt x="3" y="68"/>
                  </a:lnTo>
                  <a:lnTo>
                    <a:pt x="0" y="50"/>
                  </a:lnTo>
                  <a:lnTo>
                    <a:pt x="3" y="34"/>
                  </a:lnTo>
                  <a:lnTo>
                    <a:pt x="9" y="19"/>
                  </a:lnTo>
                  <a:lnTo>
                    <a:pt x="21" y="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7520" y="2058120"/>
              <a:ext cx="106560" cy="56520"/>
            </a:xfrm>
            <a:custGeom>
              <a:avLst/>
              <a:gdLst/>
              <a:ahLst/>
              <a:rect l="l" t="t" r="r" b="b"/>
              <a:pathLst>
                <a:path w="265" h="111">
                  <a:moveTo>
                    <a:pt x="44" y="45"/>
                  </a:moveTo>
                  <a:lnTo>
                    <a:pt x="57" y="38"/>
                  </a:lnTo>
                  <a:lnTo>
                    <a:pt x="70" y="30"/>
                  </a:lnTo>
                  <a:lnTo>
                    <a:pt x="84" y="24"/>
                  </a:lnTo>
                  <a:lnTo>
                    <a:pt x="98" y="19"/>
                  </a:lnTo>
                  <a:lnTo>
                    <a:pt x="112" y="14"/>
                  </a:lnTo>
                  <a:lnTo>
                    <a:pt x="126" y="10"/>
                  </a:lnTo>
                  <a:lnTo>
                    <a:pt x="140" y="6"/>
                  </a:lnTo>
                  <a:lnTo>
                    <a:pt x="155" y="3"/>
                  </a:lnTo>
                  <a:lnTo>
                    <a:pt x="169" y="1"/>
                  </a:lnTo>
                  <a:lnTo>
                    <a:pt x="183" y="0"/>
                  </a:lnTo>
                  <a:lnTo>
                    <a:pt x="197" y="0"/>
                  </a:lnTo>
                  <a:lnTo>
                    <a:pt x="211" y="0"/>
                  </a:lnTo>
                  <a:lnTo>
                    <a:pt x="225" y="0"/>
                  </a:lnTo>
                  <a:lnTo>
                    <a:pt x="239" y="1"/>
                  </a:lnTo>
                  <a:lnTo>
                    <a:pt x="253" y="3"/>
                  </a:lnTo>
                  <a:lnTo>
                    <a:pt x="265" y="6"/>
                  </a:lnTo>
                  <a:lnTo>
                    <a:pt x="252" y="19"/>
                  </a:lnTo>
                  <a:lnTo>
                    <a:pt x="238" y="29"/>
                  </a:lnTo>
                  <a:lnTo>
                    <a:pt x="222" y="36"/>
                  </a:lnTo>
                  <a:lnTo>
                    <a:pt x="206" y="44"/>
                  </a:lnTo>
                  <a:lnTo>
                    <a:pt x="190" y="49"/>
                  </a:lnTo>
                  <a:lnTo>
                    <a:pt x="174" y="54"/>
                  </a:lnTo>
                  <a:lnTo>
                    <a:pt x="157" y="58"/>
                  </a:lnTo>
                  <a:lnTo>
                    <a:pt x="141" y="62"/>
                  </a:lnTo>
                  <a:lnTo>
                    <a:pt x="123" y="65"/>
                  </a:lnTo>
                  <a:lnTo>
                    <a:pt x="107" y="69"/>
                  </a:lnTo>
                  <a:lnTo>
                    <a:pt x="90" y="73"/>
                  </a:lnTo>
                  <a:lnTo>
                    <a:pt x="74" y="78"/>
                  </a:lnTo>
                  <a:lnTo>
                    <a:pt x="57" y="84"/>
                  </a:lnTo>
                  <a:lnTo>
                    <a:pt x="42" y="92"/>
                  </a:lnTo>
                  <a:lnTo>
                    <a:pt x="27" y="101"/>
                  </a:lnTo>
                  <a:lnTo>
                    <a:pt x="11" y="111"/>
                  </a:lnTo>
                  <a:lnTo>
                    <a:pt x="4" y="102"/>
                  </a:lnTo>
                  <a:lnTo>
                    <a:pt x="0" y="91"/>
                  </a:lnTo>
                  <a:lnTo>
                    <a:pt x="0" y="78"/>
                  </a:lnTo>
                  <a:lnTo>
                    <a:pt x="2" y="65"/>
                  </a:lnTo>
                  <a:lnTo>
                    <a:pt x="44" y="45"/>
                  </a:lnTo>
                  <a:close/>
                </a:path>
              </a:pathLst>
            </a:custGeom>
            <a:solidFill>
              <a:srgbClr val="0a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27240" y="1846440"/>
              <a:ext cx="14040" cy="18000"/>
            </a:xfrm>
            <a:custGeom>
              <a:avLst/>
              <a:gdLst/>
              <a:ahLst/>
              <a:rect l="l" t="t" r="r" b="b"/>
              <a:pathLst>
                <a:path w="36" h="35">
                  <a:moveTo>
                    <a:pt x="36" y="35"/>
                  </a:moveTo>
                  <a:lnTo>
                    <a:pt x="25" y="31"/>
                  </a:lnTo>
                  <a:lnTo>
                    <a:pt x="16" y="21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5"/>
                  </a:lnTo>
                  <a:lnTo>
                    <a:pt x="18" y="14"/>
                  </a:lnTo>
                  <a:lnTo>
                    <a:pt x="27" y="25"/>
                  </a:lnTo>
                  <a:lnTo>
                    <a:pt x="3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0120" y="2181240"/>
              <a:ext cx="6480" cy="79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0" y="3"/>
                  </a:lnTo>
                  <a:lnTo>
                    <a:pt x="12" y="5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17" y="10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0" y="15"/>
                  </a:lnTo>
                  <a:lnTo>
                    <a:pt x="0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0120" y="2122560"/>
              <a:ext cx="51120" cy="40680"/>
            </a:xfrm>
            <a:custGeom>
              <a:avLst/>
              <a:gdLst/>
              <a:ahLst/>
              <a:rect l="l" t="t" r="r" b="b"/>
              <a:pathLst>
                <a:path w="129" h="77">
                  <a:moveTo>
                    <a:pt x="129" y="0"/>
                  </a:moveTo>
                  <a:lnTo>
                    <a:pt x="126" y="16"/>
                  </a:lnTo>
                  <a:lnTo>
                    <a:pt x="124" y="35"/>
                  </a:lnTo>
                  <a:lnTo>
                    <a:pt x="122" y="57"/>
                  </a:lnTo>
                  <a:lnTo>
                    <a:pt x="122" y="77"/>
                  </a:lnTo>
                  <a:lnTo>
                    <a:pt x="107" y="73"/>
                  </a:lnTo>
                  <a:lnTo>
                    <a:pt x="92" y="73"/>
                  </a:lnTo>
                  <a:lnTo>
                    <a:pt x="75" y="75"/>
                  </a:lnTo>
                  <a:lnTo>
                    <a:pt x="58" y="77"/>
                  </a:lnTo>
                  <a:lnTo>
                    <a:pt x="42" y="77"/>
                  </a:lnTo>
                  <a:lnTo>
                    <a:pt x="26" y="76"/>
                  </a:lnTo>
                  <a:lnTo>
                    <a:pt x="12" y="72"/>
                  </a:lnTo>
                  <a:lnTo>
                    <a:pt x="0" y="62"/>
                  </a:lnTo>
                  <a:lnTo>
                    <a:pt x="9" y="45"/>
                  </a:lnTo>
                  <a:lnTo>
                    <a:pt x="23" y="35"/>
                  </a:lnTo>
                  <a:lnTo>
                    <a:pt x="41" y="32"/>
                  </a:lnTo>
                  <a:lnTo>
                    <a:pt x="60" y="29"/>
                  </a:lnTo>
                  <a:lnTo>
                    <a:pt x="80" y="28"/>
                  </a:lnTo>
                  <a:lnTo>
                    <a:pt x="99" y="24"/>
                  </a:lnTo>
                  <a:lnTo>
                    <a:pt x="116" y="15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31920" y="2022120"/>
              <a:ext cx="9360" cy="79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1"/>
                  </a:moveTo>
                  <a:lnTo>
                    <a:pt x="19" y="18"/>
                  </a:lnTo>
                  <a:lnTo>
                    <a:pt x="13" y="17"/>
                  </a:lnTo>
                  <a:lnTo>
                    <a:pt x="7" y="14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36600" y="1824480"/>
              <a:ext cx="7920" cy="360"/>
            </a:xfrm>
            <a:prstGeom prst="rect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36600" y="2005920"/>
              <a:ext cx="6480" cy="396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3" y="0"/>
                  </a:moveTo>
                  <a:lnTo>
                    <a:pt x="15" y="9"/>
                  </a:lnTo>
                  <a:lnTo>
                    <a:pt x="11" y="12"/>
                  </a:lnTo>
                  <a:lnTo>
                    <a:pt x="7" y="12"/>
                  </a:lnTo>
                  <a:lnTo>
                    <a:pt x="4" y="10"/>
                  </a:lnTo>
                  <a:lnTo>
                    <a:pt x="0" y="6"/>
                  </a:lnTo>
                  <a:lnTo>
                    <a:pt x="2" y="4"/>
                  </a:lnTo>
                  <a:lnTo>
                    <a:pt x="6" y="1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39840" y="1846440"/>
              <a:ext cx="9360" cy="12240"/>
            </a:xfrm>
            <a:custGeom>
              <a:avLst/>
              <a:gdLst/>
              <a:ahLst/>
              <a:rect l="l" t="t" r="r" b="b"/>
              <a:pathLst>
                <a:path w="21" h="24">
                  <a:moveTo>
                    <a:pt x="21" y="24"/>
                  </a:moveTo>
                  <a:lnTo>
                    <a:pt x="14" y="22"/>
                  </a:lnTo>
                  <a:lnTo>
                    <a:pt x="9" y="15"/>
                  </a:lnTo>
                  <a:lnTo>
                    <a:pt x="5" y="7"/>
                  </a:lnTo>
                  <a:lnTo>
                    <a:pt x="0" y="0"/>
                  </a:lnTo>
                  <a:lnTo>
                    <a:pt x="2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44520" y="1997640"/>
              <a:ext cx="6480" cy="79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8" y="0"/>
                  </a:moveTo>
                  <a:lnTo>
                    <a:pt x="18" y="5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1" y="15"/>
                  </a:lnTo>
                  <a:lnTo>
                    <a:pt x="0" y="13"/>
                  </a:lnTo>
                  <a:lnTo>
                    <a:pt x="2" y="8"/>
                  </a:lnTo>
                  <a:lnTo>
                    <a:pt x="6" y="4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46320" y="2016000"/>
              <a:ext cx="2880" cy="3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1000" y="2010240"/>
              <a:ext cx="6120" cy="57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2" y="0"/>
                  </a:moveTo>
                  <a:lnTo>
                    <a:pt x="7" y="0"/>
                  </a:lnTo>
                  <a:lnTo>
                    <a:pt x="10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52440" y="1991880"/>
              <a:ext cx="4680" cy="3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7" y="0"/>
                  </a:moveTo>
                  <a:lnTo>
                    <a:pt x="9" y="1"/>
                  </a:lnTo>
                  <a:lnTo>
                    <a:pt x="10" y="3"/>
                  </a:lnTo>
                  <a:lnTo>
                    <a:pt x="10" y="6"/>
                  </a:lnTo>
                  <a:lnTo>
                    <a:pt x="12" y="8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60360" y="2001960"/>
              <a:ext cx="3240" cy="792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0"/>
                  </a:moveTo>
                  <a:lnTo>
                    <a:pt x="4" y="1"/>
                  </a:lnTo>
                  <a:lnTo>
                    <a:pt x="6" y="4"/>
                  </a:lnTo>
                  <a:lnTo>
                    <a:pt x="9" y="6"/>
                  </a:lnTo>
                  <a:lnTo>
                    <a:pt x="11" y="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1" y="9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0360" y="1983600"/>
              <a:ext cx="3240" cy="7920"/>
            </a:xfrm>
            <a:custGeom>
              <a:avLst/>
              <a:gdLst/>
              <a:ahLst/>
              <a:rect l="l" t="t" r="r" b="b"/>
              <a:pathLst>
                <a:path w="8" h="16">
                  <a:moveTo>
                    <a:pt x="0" y="0"/>
                  </a:moveTo>
                  <a:lnTo>
                    <a:pt x="5" y="0"/>
                  </a:lnTo>
                  <a:lnTo>
                    <a:pt x="6" y="3"/>
                  </a:lnTo>
                  <a:lnTo>
                    <a:pt x="7" y="7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3" y="14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65400" y="1995840"/>
              <a:ext cx="4680" cy="756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3" y="0"/>
                  </a:moveTo>
                  <a:lnTo>
                    <a:pt x="8" y="2"/>
                  </a:lnTo>
                  <a:lnTo>
                    <a:pt x="10" y="5"/>
                  </a:lnTo>
                  <a:lnTo>
                    <a:pt x="12" y="11"/>
                  </a:lnTo>
                  <a:lnTo>
                    <a:pt x="12" y="16"/>
                  </a:lnTo>
                  <a:lnTo>
                    <a:pt x="5" y="16"/>
                  </a:lnTo>
                  <a:lnTo>
                    <a:pt x="2" y="11"/>
                  </a:lnTo>
                  <a:lnTo>
                    <a:pt x="0" y="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68280" y="1977480"/>
              <a:ext cx="5040" cy="39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5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0" y="9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68280" y="1824480"/>
              <a:ext cx="5040" cy="360"/>
            </a:xfrm>
            <a:prstGeom prst="rect">
              <a:avLst/>
            </a:pr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3320" y="1989360"/>
              <a:ext cx="4680" cy="61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9" y="0"/>
                  </a:moveTo>
                  <a:lnTo>
                    <a:pt x="14" y="3"/>
                  </a:lnTo>
                  <a:lnTo>
                    <a:pt x="14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78000" y="2016000"/>
              <a:ext cx="4680" cy="11880"/>
            </a:xfrm>
            <a:custGeom>
              <a:avLst/>
              <a:gdLst/>
              <a:ahLst/>
              <a:rect l="l" t="t" r="r" b="b"/>
              <a:pathLst>
                <a:path w="12" h="22">
                  <a:moveTo>
                    <a:pt x="1" y="0"/>
                  </a:moveTo>
                  <a:lnTo>
                    <a:pt x="7" y="3"/>
                  </a:lnTo>
                  <a:lnTo>
                    <a:pt x="11" y="9"/>
                  </a:lnTo>
                  <a:lnTo>
                    <a:pt x="12" y="15"/>
                  </a:lnTo>
                  <a:lnTo>
                    <a:pt x="11" y="22"/>
                  </a:lnTo>
                  <a:lnTo>
                    <a:pt x="6" y="17"/>
                  </a:lnTo>
                  <a:lnTo>
                    <a:pt x="2" y="12"/>
                  </a:lnTo>
                  <a:lnTo>
                    <a:pt x="0" y="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5920" y="2120760"/>
              <a:ext cx="7920" cy="38160"/>
            </a:xfrm>
            <a:custGeom>
              <a:avLst/>
              <a:gdLst/>
              <a:ahLst/>
              <a:rect l="l" t="t" r="r" b="b"/>
              <a:pathLst>
                <a:path w="19" h="77">
                  <a:moveTo>
                    <a:pt x="12" y="0"/>
                  </a:moveTo>
                  <a:lnTo>
                    <a:pt x="17" y="17"/>
                  </a:lnTo>
                  <a:lnTo>
                    <a:pt x="19" y="36"/>
                  </a:lnTo>
                  <a:lnTo>
                    <a:pt x="17" y="57"/>
                  </a:lnTo>
                  <a:lnTo>
                    <a:pt x="9" y="74"/>
                  </a:lnTo>
                  <a:lnTo>
                    <a:pt x="0" y="77"/>
                  </a:lnTo>
                  <a:lnTo>
                    <a:pt x="0" y="57"/>
                  </a:lnTo>
                  <a:lnTo>
                    <a:pt x="0" y="36"/>
                  </a:lnTo>
                  <a:lnTo>
                    <a:pt x="4" y="1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87360" y="1923120"/>
              <a:ext cx="7920" cy="79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7"/>
                  </a:moveTo>
                  <a:lnTo>
                    <a:pt x="1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89160" y="2326320"/>
              <a:ext cx="17280" cy="25920"/>
            </a:xfrm>
            <a:custGeom>
              <a:avLst/>
              <a:gdLst/>
              <a:ahLst/>
              <a:rect l="l" t="t" r="r" b="b"/>
              <a:pathLst>
                <a:path w="43" h="52">
                  <a:moveTo>
                    <a:pt x="15" y="3"/>
                  </a:moveTo>
                  <a:lnTo>
                    <a:pt x="23" y="0"/>
                  </a:lnTo>
                  <a:lnTo>
                    <a:pt x="31" y="4"/>
                  </a:lnTo>
                  <a:lnTo>
                    <a:pt x="38" y="10"/>
                  </a:lnTo>
                  <a:lnTo>
                    <a:pt x="42" y="18"/>
                  </a:lnTo>
                  <a:lnTo>
                    <a:pt x="43" y="28"/>
                  </a:lnTo>
                  <a:lnTo>
                    <a:pt x="38" y="37"/>
                  </a:lnTo>
                  <a:lnTo>
                    <a:pt x="31" y="46"/>
                  </a:lnTo>
                  <a:lnTo>
                    <a:pt x="24" y="52"/>
                  </a:lnTo>
                  <a:lnTo>
                    <a:pt x="17" y="51"/>
                  </a:lnTo>
                  <a:lnTo>
                    <a:pt x="9" y="47"/>
                  </a:lnTo>
                  <a:lnTo>
                    <a:pt x="3" y="43"/>
                  </a:lnTo>
                  <a:lnTo>
                    <a:pt x="0" y="35"/>
                  </a:lnTo>
                  <a:lnTo>
                    <a:pt x="8" y="29"/>
                  </a:lnTo>
                  <a:lnTo>
                    <a:pt x="13" y="22"/>
                  </a:lnTo>
                  <a:lnTo>
                    <a:pt x="17" y="1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89160" y="1983600"/>
              <a:ext cx="2880" cy="79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9" y="7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1" y="5"/>
                  </a:lnTo>
                  <a:lnTo>
                    <a:pt x="4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89160" y="1963440"/>
              <a:ext cx="2880" cy="576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0"/>
                  </a:moveTo>
                  <a:lnTo>
                    <a:pt x="9" y="5"/>
                  </a:lnTo>
                  <a:lnTo>
                    <a:pt x="6" y="9"/>
                  </a:lnTo>
                  <a:lnTo>
                    <a:pt x="4" y="11"/>
                  </a:lnTo>
                  <a:lnTo>
                    <a:pt x="0" y="10"/>
                  </a:lnTo>
                  <a:lnTo>
                    <a:pt x="3" y="7"/>
                  </a:lnTo>
                  <a:lnTo>
                    <a:pt x="4" y="4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93840" y="1995840"/>
              <a:ext cx="4680" cy="118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8" y="0"/>
                  </a:moveTo>
                  <a:lnTo>
                    <a:pt x="13" y="5"/>
                  </a:lnTo>
                  <a:lnTo>
                    <a:pt x="14" y="12"/>
                  </a:lnTo>
                  <a:lnTo>
                    <a:pt x="12" y="18"/>
                  </a:lnTo>
                  <a:lnTo>
                    <a:pt x="8" y="24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95280" y="1973520"/>
              <a:ext cx="5040" cy="792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7" y="0"/>
                  </a:moveTo>
                  <a:lnTo>
                    <a:pt x="12" y="9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98520" y="2010240"/>
              <a:ext cx="6480" cy="972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9" y="0"/>
                  </a:moveTo>
                  <a:lnTo>
                    <a:pt x="12" y="3"/>
                  </a:lnTo>
                  <a:lnTo>
                    <a:pt x="14" y="6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9" y="20"/>
                  </a:lnTo>
                  <a:lnTo>
                    <a:pt x="5" y="19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3" y="8"/>
                  </a:lnTo>
                  <a:lnTo>
                    <a:pt x="5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01760" y="1987560"/>
              <a:ext cx="3240" cy="97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4" y="0"/>
                  </a:moveTo>
                  <a:lnTo>
                    <a:pt x="8" y="2"/>
                  </a:lnTo>
                  <a:lnTo>
                    <a:pt x="10" y="7"/>
                  </a:lnTo>
                  <a:lnTo>
                    <a:pt x="10" y="12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3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06440" y="1999440"/>
              <a:ext cx="4680" cy="7920"/>
            </a:xfrm>
            <a:custGeom>
              <a:avLst/>
              <a:gdLst/>
              <a:ahLst/>
              <a:rect l="l" t="t" r="r" b="b"/>
              <a:pathLst>
                <a:path w="8" h="15">
                  <a:moveTo>
                    <a:pt x="2" y="0"/>
                  </a:moveTo>
                  <a:lnTo>
                    <a:pt x="5" y="4"/>
                  </a:lnTo>
                  <a:lnTo>
                    <a:pt x="7" y="7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9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973240"/>
            <a:ext cx="1454040" cy="1160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57200" y="4540320"/>
            <a:ext cx="1403280" cy="1403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98880" y="258912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ric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240" y="411480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vers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6800" y="590544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ço Saú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9144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8160" y="121932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320" y="16765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914400"/>
            <a:ext cx="89154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161800" y="1268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93840" y="1751040"/>
            <a:ext cx="130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cicletas com maior 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93840" y="289548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quisição de Conheci-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4600440"/>
            <a:ext cx="11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ço de Saúde com alta qua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914400"/>
            <a:ext cx="0" cy="533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9920" y="1268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81480" y="1219320"/>
            <a:ext cx="56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3400" y="83808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7920" y="127944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c. de Process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17120" y="126828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í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952880" y="1249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81480" y="1752480"/>
            <a:ext cx="14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ação, componentes,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381480" y="2895480"/>
            <a:ext cx="1724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udantes, professores, administradores livros, 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81480" y="1752480"/>
            <a:ext cx="140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ção, componentessupri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81480" y="4602240"/>
            <a:ext cx="149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édicos, enfermeiras, pacientes, 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da, pintura, montag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43600" y="2895480"/>
            <a:ext cx="22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ino, pesquisa, serviç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29200" y="461628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gnóstico, cirurgia, medicamentos, tes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89880" y="1752480"/>
            <a:ext cx="11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cicletas acab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467480" y="121932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589880" y="2895480"/>
            <a:ext cx="140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udantes cultos, pesquisa significativa, serviços à com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89880" y="4648320"/>
            <a:ext cx="140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ientes saudáveis, serviços a comun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DF4-E500-4DD2-80A4-9CAED29BAB63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Terminologia dos S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s de Informaçã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uma série de elementos ou componentes inter-relacionados que coletam (entrada), manipulam e armazenam (processo), disseminam (saída) os dados e informações e fornecem um mecanism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feedback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ação de capturar/coletar dados dentro da organização ou em seu ambiente ex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ação de converter dados em forma significativa (inform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aíd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transferência da informação processada para pessoas ou atividades onde será u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- saída que retorna aos membros apropriados da organização para ajudá-los a avaliar ou corrigir o estágio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72D2-E9F6-4050-ADA8-03A510D675D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- Entrada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é a atividade de captar e agrupar os dados primários. Pode ser tanto manual quanto automatiz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ependente da forma que a entrada é feita, ela deve ser precisa para se atingir a saída que se desej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28600" y="4343400"/>
          <a:ext cx="869004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343400"/>
                    <a:ext cx="869004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15A-008D-47FF-9307-DFFDCED8BA1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- Processament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27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olve a conversão ou transformação dos dados em saídas úte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 envolver cálculos, comparações e tomadas de ações alternativas, e a armazenagem dos dados para uso futu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4343400"/>
          <a:ext cx="86868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343400"/>
                    <a:ext cx="8686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3FD2-28CA-492E-A53C-17FB58F0E6B0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- Saída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envolve a produção de informações úteis geralmente na forma de documentos, relatórios e dados de trans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í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dem incluir cheques de pagamento, relatórios para gerentes, informações para acionista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de ser produzida de várias formas (manual ou para um computador, as impressoras e as configurações de tela são dispositivos de saíd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247680" y="4343400"/>
          <a:ext cx="86868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4343400"/>
                    <a:ext cx="8686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DC77-A7E8-4EE9-9357-2234618012B4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- Feedback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763120" cy="28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é uma saída utilizada para se fazer ajustes ou modificações nas atividades de entrada ou processam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s ou problemas podem fazer com que os dados de entrada sejam corrigidos ou que um processo seja modifi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feedback tem grande importância dentro de sistemas, pois garante que decisões possam ser tomadas em tempo hábi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8600" y="4343400"/>
          <a:ext cx="8686800" cy="17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343400"/>
                    <a:ext cx="868680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83E-E5C1-4C1D-BC6E-8E64DF1D1093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52480" y="1143000"/>
            <a:ext cx="5486400" cy="3962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1981080"/>
            <a:ext cx="29718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48320" y="-79200"/>
            <a:ext cx="8767080" cy="6327720"/>
            <a:chOff x="148320" y="-79200"/>
            <a:chExt cx="8767080" cy="6327720"/>
          </a:xfrm>
        </p:grpSpPr>
        <p:sp>
          <p:nvSpPr>
            <p:cNvPr id="293" name=""/>
            <p:cNvSpPr/>
            <p:nvPr/>
          </p:nvSpPr>
          <p:spPr>
            <a:xfrm>
              <a:off x="228600" y="76320"/>
              <a:ext cx="8686800" cy="6172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9163400">
              <a:off x="11880" y="591840"/>
              <a:ext cx="220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io Amb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95280" y="2133720"/>
            <a:ext cx="2286000" cy="1904760"/>
            <a:chOff x="1295280" y="2133720"/>
            <a:chExt cx="2286000" cy="1904760"/>
          </a:xfrm>
        </p:grpSpPr>
        <p:sp>
          <p:nvSpPr>
            <p:cNvPr id="296" name=""/>
            <p:cNvSpPr/>
            <p:nvPr/>
          </p:nvSpPr>
          <p:spPr>
            <a:xfrm>
              <a:off x="1295280" y="2133720"/>
              <a:ext cx="2286000" cy="1904760"/>
            </a:xfrm>
            <a:prstGeom prst="rightArrow">
              <a:avLst>
                <a:gd name="adj1" fmla="val 69667"/>
                <a:gd name="adj2" fmla="val 4600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5280" y="2361960"/>
              <a:ext cx="0" cy="1371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257800" y="2133720"/>
            <a:ext cx="2742480" cy="1904760"/>
            <a:chOff x="5257800" y="2133720"/>
            <a:chExt cx="2742480" cy="1904760"/>
          </a:xfrm>
        </p:grpSpPr>
        <p:grpSp>
          <p:nvGrpSpPr>
            <p:cNvPr id="299" name=""/>
            <p:cNvGrpSpPr/>
            <p:nvPr/>
          </p:nvGrpSpPr>
          <p:grpSpPr>
            <a:xfrm>
              <a:off x="5580360" y="2133720"/>
              <a:ext cx="2419920" cy="1904760"/>
              <a:chOff x="5580360" y="2133720"/>
              <a:chExt cx="2419920" cy="1904760"/>
            </a:xfrm>
          </p:grpSpPr>
          <p:sp>
            <p:nvSpPr>
              <p:cNvPr id="300" name=""/>
              <p:cNvSpPr/>
              <p:nvPr/>
            </p:nvSpPr>
            <p:spPr>
              <a:xfrm>
                <a:off x="5580360" y="2133720"/>
                <a:ext cx="2419920" cy="1904760"/>
              </a:xfrm>
              <a:prstGeom prst="rightArrow">
                <a:avLst>
                  <a:gd name="adj1" fmla="val 69667"/>
                  <a:gd name="adj2" fmla="val 4870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580360" y="2361960"/>
                <a:ext cx="0" cy="1371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5257800" y="3733560"/>
              <a:ext cx="645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57800" y="2438280"/>
              <a:ext cx="6451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3583440" y="28670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2362320"/>
            <a:ext cx="198108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eri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a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75360" y="2438280"/>
            <a:ext cx="1176480" cy="11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í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1033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152388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685800" y="4114800"/>
            <a:ext cx="3157920" cy="2028240"/>
            <a:chOff x="685800" y="4114800"/>
            <a:chExt cx="3157920" cy="2028240"/>
          </a:xfrm>
        </p:grpSpPr>
        <p:sp>
          <p:nvSpPr>
            <p:cNvPr id="309" name=""/>
            <p:cNvSpPr/>
            <p:nvPr/>
          </p:nvSpPr>
          <p:spPr>
            <a:xfrm>
              <a:off x="685800" y="4114800"/>
              <a:ext cx="175248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Econômico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9160" y="4724280"/>
              <a:ext cx="14151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- Infla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- Ren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imes New Roman"/>
                </a:rPr>
                <a:t>-Cres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9291800">
              <a:off x="2682360" y="5379840"/>
              <a:ext cx="1143000" cy="4572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505320" y="4942080"/>
            <a:ext cx="3353760" cy="1186200"/>
            <a:chOff x="3505320" y="4942080"/>
            <a:chExt cx="3353760" cy="1186200"/>
          </a:xfrm>
        </p:grpSpPr>
        <p:sp>
          <p:nvSpPr>
            <p:cNvPr id="313" name=""/>
            <p:cNvSpPr/>
            <p:nvPr/>
          </p:nvSpPr>
          <p:spPr>
            <a:xfrm>
              <a:off x="3505320" y="5334120"/>
              <a:ext cx="289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Mudanças das Condições Sócio-Polít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8157200">
              <a:off x="5813640" y="5268240"/>
              <a:ext cx="1066680" cy="533520"/>
            </a:xfrm>
            <a:custGeom>
              <a:avLst/>
              <a:gdLst>
                <a:gd name="textAreaLeft" fmla="*/ 186480 w 1066680"/>
                <a:gd name="textAreaRight" fmla="*/ 773280 w 1066680"/>
                <a:gd name="textAreaTop" fmla="*/ 71280 h 533520"/>
                <a:gd name="textAreaBottom" fmla="*/ 462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556680" y="3538800"/>
            <a:ext cx="2052000" cy="1793520"/>
            <a:chOff x="6556680" y="3538800"/>
            <a:chExt cx="2052000" cy="1793520"/>
          </a:xfrm>
        </p:grpSpPr>
        <p:sp>
          <p:nvSpPr>
            <p:cNvPr id="316" name=""/>
            <p:cNvSpPr/>
            <p:nvPr/>
          </p:nvSpPr>
          <p:spPr>
            <a:xfrm rot="19405200">
              <a:off x="6553800" y="4114080"/>
              <a:ext cx="2057400" cy="6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Inovaçõ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Tecnológ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4640600">
              <a:off x="7429320" y="3923640"/>
              <a:ext cx="1143000" cy="45720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61200 h 457200"/>
                <a:gd name="textAreaBottom" fmla="*/ 39600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426480" y="285840"/>
            <a:ext cx="2687760" cy="1104480"/>
            <a:chOff x="3426480" y="285840"/>
            <a:chExt cx="2687760" cy="1104480"/>
          </a:xfrm>
        </p:grpSpPr>
        <p:sp>
          <p:nvSpPr>
            <p:cNvPr id="319" name=""/>
            <p:cNvSpPr/>
            <p:nvPr/>
          </p:nvSpPr>
          <p:spPr>
            <a:xfrm rot="12600">
              <a:off x="3427560" y="457200"/>
              <a:ext cx="240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imes New Roman"/>
                </a:rPr>
                <a:t>Modificações nas Leis 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imes New Roman"/>
                </a:rPr>
                <a:t>Regulame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20929200">
              <a:off x="5715000" y="304560"/>
              <a:ext cx="298440" cy="1066680"/>
            </a:xfrm>
            <a:custGeom>
              <a:avLst/>
              <a:gdLst>
                <a:gd name="textAreaLeft" fmla="*/ 39960 w 298440"/>
                <a:gd name="textAreaRight" fmla="*/ 258480 w 298440"/>
                <a:gd name="textAreaTop" fmla="*/ 186480 h 1066680"/>
                <a:gd name="textAreaBottom" fmla="*/ 773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119280" y="706680"/>
            <a:ext cx="1791360" cy="1611000"/>
            <a:chOff x="6119280" y="706680"/>
            <a:chExt cx="1791360" cy="1611000"/>
          </a:xfrm>
        </p:grpSpPr>
        <p:sp>
          <p:nvSpPr>
            <p:cNvPr id="322" name=""/>
            <p:cNvSpPr/>
            <p:nvPr/>
          </p:nvSpPr>
          <p:spPr>
            <a:xfrm rot="1819200">
              <a:off x="6171840" y="106632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3300"/>
                  </a:solidFill>
                  <a:latin typeface="Times New Roman"/>
                </a:rPr>
                <a:t>Condições de Competi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950400">
              <a:off x="7391160" y="1219320"/>
              <a:ext cx="380880" cy="1066680"/>
            </a:xfrm>
            <a:custGeom>
              <a:avLst/>
              <a:gdLst>
                <a:gd name="textAreaLeft" fmla="*/ 50760 w 380880"/>
                <a:gd name="textAreaRight" fmla="*/ 330120 w 380880"/>
                <a:gd name="textAreaTop" fmla="*/ 186480 h 1066680"/>
                <a:gd name="textAreaBottom" fmla="*/ 77328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97440" y="343080"/>
            <a:ext cx="3371760" cy="2719800"/>
            <a:chOff x="397440" y="343080"/>
            <a:chExt cx="3371760" cy="2719800"/>
          </a:xfrm>
        </p:grpSpPr>
        <p:sp>
          <p:nvSpPr>
            <p:cNvPr id="325" name=""/>
            <p:cNvSpPr/>
            <p:nvPr/>
          </p:nvSpPr>
          <p:spPr>
            <a:xfrm rot="1969800">
              <a:off x="2531880" y="653760"/>
              <a:ext cx="1245960" cy="334800"/>
            </a:xfrm>
            <a:custGeom>
              <a:avLst/>
              <a:gdLst>
                <a:gd name="textAreaLeft" fmla="*/ 217800 w 1245960"/>
                <a:gd name="textAreaRight" fmla="*/ 903240 w 1245960"/>
                <a:gd name="textAreaTop" fmla="*/ 44640 h 334800"/>
                <a:gd name="textAreaBottom" fmla="*/ 290160 h 3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9144200">
              <a:off x="229320" y="1371240"/>
              <a:ext cx="3268800" cy="7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Alterações nas reserv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Times New Roman"/>
                </a:rPr>
                <a:t>de Recursos Natura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 flipV="1">
            <a:off x="2173320" y="2112120"/>
            <a:ext cx="5214600" cy="288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6" y="9698"/>
                </a:moveTo>
                <a:arcTo wR="10800" hR="10800" stAng="-10448751" swAng="9892484"/>
                <a:lnTo>
                  <a:pt x="10800" y="10800"/>
                </a:lnTo>
                <a:close/>
              </a:path>
              <a:path fill="none" w="21600" h="21600">
                <a:moveTo>
                  <a:pt x="56" y="9698"/>
                </a:moveTo>
                <a:arcTo wR="10800" hR="10800" stAng="-10448751" swAng="989248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856680" y="4495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38600" y="11430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2170800" y="3741120"/>
            <a:ext cx="73440" cy="168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D53B-354F-40A8-B3B0-D3BFF8C63025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Tipos de Sistemas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Inform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m com entendimentos implícitos e regras de comportamento não especific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ão existe um entendimento do que é informação ou como ela é armazenada e proces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 For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iam-se em definições de dados e procedimentos para coleta, armazenamento, processamento, disseminação e uso desses dados, fixos e ace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ão estruturados: operam em conformidade com regras predefinidas que são relativamente fixas e não facilmente alte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idos 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u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ados e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BA4-090D-4EF6-AE1E-AEC9052370E5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CBIS: Componentes e Objetiv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 de Informação Baseado em Computador - CB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 composto pel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4067280"/>
            <a:ext cx="85345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spcBef>
                <a:spcPts val="29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oiar o controle, a coordenação e a tomada de decisão em uma organ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85840"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xiliar gerentes e funcionários a analisar problemas, visualizar soluções e a criar novos prod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22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3240" y="20574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439520" y="2057400"/>
            <a:ext cx="319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munica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048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5040" y="3244680"/>
            <a:ext cx="786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estão configurados para coletar, manipular, armazenar e processar dados em info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457-41B8-4BBE-9518-11948D17CBD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u Skin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: Das colheres de Chá aos Satélite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 Ski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produtos para cuidar da pele livres de ad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980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moção dir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ndas em supermercados e aeroportos (pelos próprios fundad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6360-000E-48C4-820F-3C9534CFFA69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Por que estudar SI?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envolvimento de administradores e tomadores de decisões nos sistemas de informação é fundamental para a empresa ter su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nda mais em tempos que a sobrevivência e prosperidade empresariais passam a ser cada vez mais difíceis (graças aos esforços para que se reduzam as barreiras comerciai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compreensão dos sistemas de informação nos ajuda a enfrentar, a se adaptar e a prosperar neste ambiente de desaf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emos destacar vários benefícios obtidos através dos sistemas de informação, tais quais: valor agregado aos produtos, maior segurança, vantagens competitivas, menos erros, maior produtividade e qualidade, custos reduzidos, administração mai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A7F-FA7B-40A4-B3D6-18A1F466B8A0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tuação dos Sistemas de Informação nos anos anterior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6197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administradores não precisavam saber muito como a informação era coletada, processada e distribuída em suas organiz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ecnologia envolvida era míni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nformação não era considerada um recurso importante para 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processo administrativo era considerado uma arte pessoal, face a face e não um processo de coordenação glob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96F-7521-437F-8CDD-25BF57FA9F4F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Competitivo Ambiente de Negócios da Atualidade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ê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tes alteraram o ambiente de negó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gimento de um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a globali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ção de economias/sociedades industriais para economias de serviç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ada na 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ção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biente de negóci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A78-E4AC-4E89-A5E8-9B3929DA9751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Papel Crítico dos CB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762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hecer como os computadores e programas de computador trabalham  é importante no projeto de soluções para os problemas organizacionais, mas os computadores são apenas parte de um Sistema de Info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dores e programas são as ferramentas de um Sistema de Informação baseado em Computador, mas sozinhos não podem produzir a informação para as necessidades particulares de um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ntender sistemas de informação deve-se entender 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os quais eles for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t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u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quitetur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 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os organizacion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levaram a ess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çõ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BA99-09E0-4ADD-94C3-239C3855ED22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04920" y="1981080"/>
            <a:ext cx="8686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87878"/>
              </a:gs>
              <a:gs pos="50000">
                <a:srgbClr val="ffa7a7"/>
              </a:gs>
              <a:gs pos="100000">
                <a:srgbClr val="b8787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Fundamentos Organizacionais de Sistemas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de 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rspectiva técnica e comportamen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s Sistemas de Informação, com especial atenção às dimensões administrativas, organizacionais e tecnológicas nos Sistemas de Inform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dança do Processo de Gerenciamento,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Sistemas de Informação têm nas organizações, su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ecessidade de planeja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Sistemas de Informação para os administradores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Informação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6894-D217-4F25-9A68-F33733D84767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s Sistemas de Informação vistos por uma Perspectiva de Negóci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a perspectiva gerencial e de negócios, um sistema de informação é mais do que apenas uma operação de entrada-processamento-saída no vác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a perspectiva gerencial e de negócios, um sistema de informação é uma solução organizacional e administrativa,  baseada na tecnologia da informação, para desafios e problemas criados num  ambiente de negó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entender Sistemas de Informação, deve-se entender a as  três dimensões mais gerais do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nciam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a info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7DA-A48A-477E-9D8A-7A1FFE17FD52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s Sistemas de Informação vistos por uma Perspectiva de Negóci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86400" y="192096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257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nologia   da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629400" y="5486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505320" y="3581280"/>
            <a:ext cx="2209320" cy="1797120"/>
            <a:chOff x="3505320" y="3581280"/>
            <a:chExt cx="2209320" cy="1797120"/>
          </a:xfrm>
        </p:grpSpPr>
        <p:sp>
          <p:nvSpPr>
            <p:cNvPr id="358" name=""/>
            <p:cNvSpPr/>
            <p:nvPr/>
          </p:nvSpPr>
          <p:spPr>
            <a:xfrm>
              <a:off x="3657600" y="3733560"/>
              <a:ext cx="2057040" cy="16448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505320" y="3581280"/>
              <a:ext cx="2057040" cy="16444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3200" y="3809880"/>
              <a:ext cx="176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mas  de 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2742840" y="2949480"/>
            <a:ext cx="609480" cy="63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30560" y="5715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439640" cy="1524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936960" y="1523880"/>
            <a:ext cx="1473120" cy="18176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324480" y="3327480"/>
            <a:ext cx="2568600" cy="200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5A5-0950-442D-B019-5F2E44C4BBE1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s Sistemas de Informação vistos por uma Perspectiva de Negóci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6400" y="1965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505320" y="3668760"/>
            <a:ext cx="2209320" cy="1797120"/>
            <a:chOff x="3505320" y="3668760"/>
            <a:chExt cx="2209320" cy="1797120"/>
          </a:xfrm>
        </p:grpSpPr>
        <p:sp>
          <p:nvSpPr>
            <p:cNvPr id="370" name=""/>
            <p:cNvSpPr/>
            <p:nvPr/>
          </p:nvSpPr>
          <p:spPr>
            <a:xfrm>
              <a:off x="3657600" y="3821040"/>
              <a:ext cx="2057040" cy="16448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05320" y="3668760"/>
              <a:ext cx="2057040" cy="16444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43200" y="3897360"/>
              <a:ext cx="176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mas  de 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2590920" y="3036960"/>
            <a:ext cx="76176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791320" y="3119400"/>
            <a:ext cx="609480" cy="77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936960" y="1611360"/>
            <a:ext cx="1473120" cy="181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840-2904-4F2B-A8FE-415D662B10D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rganização - Introdu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de Informação são parte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Organizações formal é composta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tes níve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pecialida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a estrutura revela uma clara divisão do trabalh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2520">
              <a:spcBef>
                <a:spcPts val="601"/>
              </a:spcBef>
              <a:buClr>
                <a:srgbClr val="cc33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íveis mais al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olvem trabalhos gerenciais, profissionais e téc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82520">
              <a:spcBef>
                <a:spcPts val="601"/>
              </a:spcBef>
              <a:buClr>
                <a:srgbClr val="cc3300"/>
              </a:buClr>
              <a:buSzPct val="4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íveis mais baix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volvem trabalhos operac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istas são contratados e treinados para diferentes funçõ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os-chave de uma organização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tura, procedimentos, pessoas, cultura e pol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18240" y="76320"/>
            <a:ext cx="147348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B37-50BB-4B4A-B265-3CC96DFEE83C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1600200" y="2666880"/>
            <a:ext cx="5943600" cy="3429000"/>
            <a:chOff x="1600200" y="2666880"/>
            <a:chExt cx="5943600" cy="3429000"/>
          </a:xfrm>
        </p:grpSpPr>
        <p:sp>
          <p:nvSpPr>
            <p:cNvPr id="380" name=""/>
            <p:cNvSpPr/>
            <p:nvPr/>
          </p:nvSpPr>
          <p:spPr>
            <a:xfrm>
              <a:off x="1600200" y="2666880"/>
              <a:ext cx="5943600" cy="342900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358128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24080" y="442116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86000" y="5257800"/>
              <a:ext cx="4572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Diferentes Níveis em uma Organiz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375920"/>
            <a:ext cx="876312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diferentes níveis em um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diferentes tipos de sistemas servindo cada nível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90920" y="5548320"/>
            <a:ext cx="388620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95480" y="4710240"/>
            <a:ext cx="327672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00400" y="3871800"/>
            <a:ext cx="266688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3033720"/>
            <a:ext cx="236232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7937640" y="76320"/>
            <a:ext cx="1054080" cy="12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FA0-9B45-4ED9-9251-65D7A99E9D97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u Skin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: Das colheres de Chá aos Satélite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partir 1990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3328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ndas cresceram m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3328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ucros acima de $500 milh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3328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e de Distribuição Conectada por Satélite: Canadá, México, Hong Kong, Taiwan, Japão, Austrália e Nova Zelân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6800" indent="-23328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 de Compensação : pagamento de comissão uma vez por mês para cada distribu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lhora do Sistema de Informação: garantir transações de vendas e cheques de comissão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upgrad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hardware e softw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428-3603-4FD4-9C9B-51ECA8622A4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0" y="15228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eis Principais Tipos de SIs do Ponto de Vista Organiza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lnSpc>
                <a:spcPct val="14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estratégic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ES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Suporte Ex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Executive Support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DS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Suporte a Deci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Decision Suppo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MI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Informações Gerenc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de conheciment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KW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Conhecimento do Trabal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Knowledge Work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O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Automação de Escritó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Office Auto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operacion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TPS</a:t>
            </a:r>
            <a:r>
              <a:rPr b="0" lang="pt-BR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Sistemas de Processamento de Trans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360" indent="-1875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Transaction Process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792320" y="2948040"/>
            <a:ext cx="5583240" cy="3790440"/>
            <a:chOff x="4792320" y="2948040"/>
            <a:chExt cx="5583240" cy="3790440"/>
          </a:xfrm>
        </p:grpSpPr>
        <p:grpSp>
          <p:nvGrpSpPr>
            <p:cNvPr id="394" name=""/>
            <p:cNvGrpSpPr/>
            <p:nvPr/>
          </p:nvGrpSpPr>
          <p:grpSpPr>
            <a:xfrm>
              <a:off x="9977040" y="2948040"/>
              <a:ext cx="398520" cy="233280"/>
              <a:chOff x="9977040" y="2948040"/>
              <a:chExt cx="398520" cy="23328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9977040" y="2948040"/>
                <a:ext cx="398520" cy="233280"/>
                <a:chOff x="9977040" y="2948040"/>
                <a:chExt cx="398520" cy="233280"/>
              </a:xfrm>
            </p:grpSpPr>
            <p:sp>
              <p:nvSpPr>
                <p:cNvPr id="396" name=""/>
                <p:cNvSpPr/>
                <p:nvPr/>
              </p:nvSpPr>
              <p:spPr>
                <a:xfrm flipH="1">
                  <a:off x="9976680" y="2948040"/>
                  <a:ext cx="398520" cy="233280"/>
                </a:xfrm>
                <a:custGeom>
                  <a:avLst/>
                  <a:gdLst/>
                  <a:ahLst/>
                  <a:rect l="l" t="t" r="r" b="b"/>
                  <a:pathLst>
                    <a:path w="503" h="293">
                      <a:moveTo>
                        <a:pt x="78" y="293"/>
                      </a:moveTo>
                      <a:lnTo>
                        <a:pt x="0" y="0"/>
                      </a:lnTo>
                      <a:lnTo>
                        <a:pt x="385" y="0"/>
                      </a:lnTo>
                      <a:lnTo>
                        <a:pt x="503" y="293"/>
                      </a:lnTo>
                      <a:lnTo>
                        <a:pt x="78" y="293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9986760" y="2976480"/>
                  <a:ext cx="380880" cy="173880"/>
                  <a:chOff x="9986760" y="2976480"/>
                  <a:chExt cx="380880" cy="17388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 flipH="1">
                    <a:off x="10043640" y="2976480"/>
                    <a:ext cx="3236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">
                        <a:moveTo>
                          <a:pt x="0" y="0"/>
                        </a:moveTo>
                        <a:lnTo>
                          <a:pt x="389" y="0"/>
                        </a:lnTo>
                        <a:lnTo>
                          <a:pt x="407" y="44"/>
                        </a:lnTo>
                        <a:lnTo>
                          <a:pt x="1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>
                    <a:off x="10014840" y="3045960"/>
                    <a:ext cx="335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43">
                        <a:moveTo>
                          <a:pt x="0" y="0"/>
                        </a:moveTo>
                        <a:lnTo>
                          <a:pt x="403" y="0"/>
                        </a:lnTo>
                        <a:lnTo>
                          <a:pt x="421" y="43"/>
                        </a:lnTo>
                        <a:lnTo>
                          <a:pt x="12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>
                    <a:off x="9986400" y="3115800"/>
                    <a:ext cx="34452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4">
                        <a:moveTo>
                          <a:pt x="0" y="0"/>
                        </a:moveTo>
                        <a:lnTo>
                          <a:pt x="415" y="0"/>
                        </a:lnTo>
                        <a:lnTo>
                          <a:pt x="433" y="44"/>
                        </a:lnTo>
                        <a:lnTo>
                          <a:pt x="1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10001160" y="2955600"/>
                <a:ext cx="361800" cy="211680"/>
                <a:chOff x="10001160" y="2955600"/>
                <a:chExt cx="361800" cy="211680"/>
              </a:xfrm>
            </p:grpSpPr>
            <p:grpSp>
              <p:nvGrpSpPr>
                <p:cNvPr id="402" name=""/>
                <p:cNvGrpSpPr/>
                <p:nvPr/>
              </p:nvGrpSpPr>
              <p:grpSpPr>
                <a:xfrm>
                  <a:off x="10302480" y="2957040"/>
                  <a:ext cx="60480" cy="210240"/>
                  <a:chOff x="10302480" y="2957040"/>
                  <a:chExt cx="60480" cy="21024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>
                    <a:off x="10356480" y="295704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10348560" y="298692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>
                    <a:off x="10339200" y="30153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>
                    <a:off x="10332720" y="304560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10324800" y="307404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10318320" y="310248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10310400" y="313128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10302480" y="316152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1" name=""/>
                <p:cNvGrpSpPr/>
                <p:nvPr/>
              </p:nvGrpSpPr>
              <p:grpSpPr>
                <a:xfrm>
                  <a:off x="10001160" y="2955600"/>
                  <a:ext cx="79200" cy="205920"/>
                  <a:chOff x="10001160" y="2955600"/>
                  <a:chExt cx="79200" cy="20592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H="1">
                    <a:off x="10072440" y="29556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10062720" y="298404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10051920" y="3011040"/>
                    <a:ext cx="792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>
                    <a:off x="10040400" y="303948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>
                    <a:off x="10029600" y="307296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>
                    <a:off x="10011960" y="3126960"/>
                    <a:ext cx="648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>
                    <a:off x="10000800" y="3155400"/>
                    <a:ext cx="61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10018440" y="309816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0" name=""/>
            <p:cNvGrpSpPr/>
            <p:nvPr/>
          </p:nvGrpSpPr>
          <p:grpSpPr>
            <a:xfrm>
              <a:off x="9594720" y="3095280"/>
              <a:ext cx="544320" cy="326880"/>
              <a:chOff x="9594720" y="3095280"/>
              <a:chExt cx="544320" cy="326880"/>
            </a:xfrm>
          </p:grpSpPr>
          <p:grpSp>
            <p:nvGrpSpPr>
              <p:cNvPr id="421" name=""/>
              <p:cNvGrpSpPr/>
              <p:nvPr/>
            </p:nvGrpSpPr>
            <p:grpSpPr>
              <a:xfrm>
                <a:off x="9594720" y="3095280"/>
                <a:ext cx="544320" cy="326880"/>
                <a:chOff x="9594720" y="3095280"/>
                <a:chExt cx="544320" cy="326880"/>
              </a:xfrm>
            </p:grpSpPr>
            <p:sp>
              <p:nvSpPr>
                <p:cNvPr id="422" name=""/>
                <p:cNvSpPr/>
                <p:nvPr/>
              </p:nvSpPr>
              <p:spPr>
                <a:xfrm flipH="1">
                  <a:off x="9594720" y="3095280"/>
                  <a:ext cx="544320" cy="326880"/>
                </a:xfrm>
                <a:custGeom>
                  <a:avLst/>
                  <a:gdLst/>
                  <a:ahLst/>
                  <a:rect l="l" t="t" r="r" b="b"/>
                  <a:pathLst>
                    <a:path w="687" h="413">
                      <a:moveTo>
                        <a:pt x="108" y="413"/>
                      </a:moveTo>
                      <a:lnTo>
                        <a:pt x="0" y="0"/>
                      </a:lnTo>
                      <a:lnTo>
                        <a:pt x="525" y="0"/>
                      </a:lnTo>
                      <a:lnTo>
                        <a:pt x="687" y="413"/>
                      </a:lnTo>
                      <a:lnTo>
                        <a:pt x="108" y="413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9612000" y="3137760"/>
                  <a:ext cx="514440" cy="240840"/>
                  <a:chOff x="9612000" y="3137760"/>
                  <a:chExt cx="514440" cy="24084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H="1">
                    <a:off x="9689400" y="3137760"/>
                    <a:ext cx="43668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60">
                        <a:moveTo>
                          <a:pt x="0" y="0"/>
                        </a:moveTo>
                        <a:lnTo>
                          <a:pt x="529" y="0"/>
                        </a:lnTo>
                        <a:lnTo>
                          <a:pt x="551" y="60"/>
                        </a:lnTo>
                        <a:lnTo>
                          <a:pt x="14" y="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>
                    <a:off x="9649800" y="3232800"/>
                    <a:ext cx="4525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62">
                        <a:moveTo>
                          <a:pt x="0" y="0"/>
                        </a:moveTo>
                        <a:lnTo>
                          <a:pt x="547" y="0"/>
                        </a:lnTo>
                        <a:lnTo>
                          <a:pt x="571" y="62"/>
                        </a:lnTo>
                        <a:lnTo>
                          <a:pt x="16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>
                    <a:off x="9612000" y="3331080"/>
                    <a:ext cx="46512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59">
                        <a:moveTo>
                          <a:pt x="0" y="0"/>
                        </a:moveTo>
                        <a:lnTo>
                          <a:pt x="563" y="0"/>
                        </a:lnTo>
                        <a:lnTo>
                          <a:pt x="587" y="59"/>
                        </a:lnTo>
                        <a:lnTo>
                          <a:pt x="16" y="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9629640" y="3106080"/>
                <a:ext cx="490320" cy="297360"/>
                <a:chOff x="9629640" y="3106080"/>
                <a:chExt cx="490320" cy="297360"/>
              </a:xfrm>
            </p:grpSpPr>
            <p:grpSp>
              <p:nvGrpSpPr>
                <p:cNvPr id="428" name=""/>
                <p:cNvGrpSpPr/>
                <p:nvPr/>
              </p:nvGrpSpPr>
              <p:grpSpPr>
                <a:xfrm>
                  <a:off x="10037520" y="3108960"/>
                  <a:ext cx="82440" cy="294480"/>
                  <a:chOff x="10037520" y="3108960"/>
                  <a:chExt cx="82440" cy="2944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>
                    <a:off x="10110600" y="310896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>
                    <a:off x="10100520" y="3150000"/>
                    <a:ext cx="97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>
                    <a:off x="10087920" y="319104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>
                    <a:off x="10080360" y="323244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>
                    <a:off x="10068840" y="3273840"/>
                    <a:ext cx="97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>
                    <a:off x="10059840" y="331344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>
                    <a:off x="10048680" y="335484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>
                    <a:off x="10037520" y="339588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9629640" y="3106080"/>
                  <a:ext cx="107640" cy="289800"/>
                  <a:chOff x="9629640" y="3106080"/>
                  <a:chExt cx="107640" cy="28980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>
                    <a:off x="9727920" y="310608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>
                    <a:off x="9713160" y="314532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>
                    <a:off x="9699480" y="3185280"/>
                    <a:ext cx="93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9685080" y="3223440"/>
                    <a:ext cx="79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9669240" y="326916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>
                    <a:off x="9645480" y="334548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>
                    <a:off x="9629640" y="3388320"/>
                    <a:ext cx="9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>
                    <a:off x="9654480" y="330732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46" name=""/>
            <p:cNvGrpSpPr/>
            <p:nvPr/>
          </p:nvGrpSpPr>
          <p:grpSpPr>
            <a:xfrm>
              <a:off x="9050040" y="3308040"/>
              <a:ext cx="760320" cy="472680"/>
              <a:chOff x="9050040" y="3308040"/>
              <a:chExt cx="760320" cy="47268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9050040" y="3308040"/>
                <a:ext cx="760320" cy="472680"/>
                <a:chOff x="9050040" y="3308040"/>
                <a:chExt cx="760320" cy="472680"/>
              </a:xfrm>
            </p:grpSpPr>
            <p:sp>
              <p:nvSpPr>
                <p:cNvPr id="448" name=""/>
                <p:cNvSpPr/>
                <p:nvPr/>
              </p:nvSpPr>
              <p:spPr>
                <a:xfrm flipH="1">
                  <a:off x="9050040" y="3308040"/>
                  <a:ext cx="760320" cy="472680"/>
                </a:xfrm>
                <a:custGeom>
                  <a:avLst/>
                  <a:gdLst/>
                  <a:ahLst/>
                  <a:rect l="l" t="t" r="r" b="b"/>
                  <a:pathLst>
                    <a:path w="958" h="596">
                      <a:moveTo>
                        <a:pt x="145" y="596"/>
                      </a:moveTo>
                      <a:lnTo>
                        <a:pt x="0" y="0"/>
                      </a:lnTo>
                      <a:lnTo>
                        <a:pt x="722" y="0"/>
                      </a:lnTo>
                      <a:lnTo>
                        <a:pt x="958" y="596"/>
                      </a:lnTo>
                      <a:lnTo>
                        <a:pt x="145" y="596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9081720" y="3376080"/>
                  <a:ext cx="711360" cy="324720"/>
                  <a:chOff x="9081720" y="3376080"/>
                  <a:chExt cx="711360" cy="3247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>
                    <a:off x="9081720" y="3634560"/>
                    <a:ext cx="64944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84">
                        <a:moveTo>
                          <a:pt x="0" y="0"/>
                        </a:moveTo>
                        <a:lnTo>
                          <a:pt x="785" y="0"/>
                        </a:lnTo>
                        <a:lnTo>
                          <a:pt x="819" y="84"/>
                        </a:lnTo>
                        <a:lnTo>
                          <a:pt x="20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>
                    <a:off x="9183240" y="3376080"/>
                    <a:ext cx="60948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84">
                        <a:moveTo>
                          <a:pt x="0" y="0"/>
                        </a:moveTo>
                        <a:lnTo>
                          <a:pt x="734" y="0"/>
                        </a:lnTo>
                        <a:lnTo>
                          <a:pt x="768" y="84"/>
                        </a:lnTo>
                        <a:lnTo>
                          <a:pt x="19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H="1">
                    <a:off x="9134280" y="3504240"/>
                    <a:ext cx="628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84">
                        <a:moveTo>
                          <a:pt x="0" y="0"/>
                        </a:moveTo>
                        <a:lnTo>
                          <a:pt x="761" y="0"/>
                        </a:lnTo>
                        <a:lnTo>
                          <a:pt x="793" y="84"/>
                        </a:lnTo>
                        <a:lnTo>
                          <a:pt x="22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9094680" y="3336480"/>
                <a:ext cx="685800" cy="413640"/>
                <a:chOff x="9094680" y="3336480"/>
                <a:chExt cx="685800" cy="41364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9659520" y="3336480"/>
                  <a:ext cx="120960" cy="413640"/>
                  <a:chOff x="9659520" y="3336480"/>
                  <a:chExt cx="120960" cy="41364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 flipH="1">
                    <a:off x="9767520" y="3336480"/>
                    <a:ext cx="129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6" y="15"/>
                        </a:lnTo>
                        <a:lnTo>
                          <a:pt x="10" y="15"/>
                        </a:lnTo>
                        <a:lnTo>
                          <a:pt x="12" y="15"/>
                        </a:lnTo>
                        <a:lnTo>
                          <a:pt x="14" y="15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H="1">
                    <a:off x="9751680" y="339480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>
                    <a:off x="9734040" y="3452040"/>
                    <a:ext cx="126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 flipH="1">
                    <a:off x="9721440" y="35107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 flipH="1">
                    <a:off x="9705600" y="356760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>
                    <a:off x="9691200" y="3623400"/>
                    <a:ext cx="126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>
                    <a:off x="9675360" y="3680640"/>
                    <a:ext cx="12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 flipH="1">
                    <a:off x="9659520" y="37375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4" y="16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" name=""/>
                <p:cNvGrpSpPr/>
                <p:nvPr/>
              </p:nvGrpSpPr>
              <p:grpSpPr>
                <a:xfrm>
                  <a:off x="9094680" y="3339000"/>
                  <a:ext cx="155520" cy="405720"/>
                  <a:chOff x="9094680" y="3339000"/>
                  <a:chExt cx="155520" cy="405720"/>
                </a:xfrm>
              </p:grpSpPr>
              <p:sp>
                <p:nvSpPr>
                  <p:cNvPr id="464" name=""/>
                  <p:cNvSpPr/>
                  <p:nvPr/>
                </p:nvSpPr>
                <p:spPr>
                  <a:xfrm flipH="1">
                    <a:off x="9235800" y="333900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6" y="15"/>
                        </a:lnTo>
                        <a:lnTo>
                          <a:pt x="8" y="15"/>
                        </a:lnTo>
                        <a:lnTo>
                          <a:pt x="10" y="15"/>
                        </a:lnTo>
                        <a:lnTo>
                          <a:pt x="12" y="13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8" y="7"/>
                        </a:lnTo>
                        <a:lnTo>
                          <a:pt x="18" y="5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 flipH="1">
                    <a:off x="9216360" y="3395880"/>
                    <a:ext cx="126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>
                    <a:off x="9194400" y="3449880"/>
                    <a:ext cx="144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>
                    <a:off x="9173520" y="3505680"/>
                    <a:ext cx="12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 flipH="1">
                    <a:off x="9151560" y="3569040"/>
                    <a:ext cx="1296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 flipH="1">
                    <a:off x="9116640" y="3673800"/>
                    <a:ext cx="1440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8"/>
                        </a:lnTo>
                        <a:lnTo>
                          <a:pt x="10" y="18"/>
                        </a:lnTo>
                        <a:lnTo>
                          <a:pt x="12" y="18"/>
                        </a:lnTo>
                        <a:lnTo>
                          <a:pt x="14" y="16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 flipH="1">
                    <a:off x="9094320" y="3732480"/>
                    <a:ext cx="12600" cy="1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flipH="1">
                    <a:off x="9131040" y="362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0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6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72" name=""/>
            <p:cNvGrpSpPr/>
            <p:nvPr/>
          </p:nvGrpSpPr>
          <p:grpSpPr>
            <a:xfrm>
              <a:off x="9321480" y="3609720"/>
              <a:ext cx="372960" cy="171000"/>
              <a:chOff x="9321480" y="3609720"/>
              <a:chExt cx="372960" cy="171000"/>
            </a:xfrm>
          </p:grpSpPr>
          <p:sp>
            <p:nvSpPr>
              <p:cNvPr id="473" name=""/>
              <p:cNvSpPr/>
              <p:nvPr/>
            </p:nvSpPr>
            <p:spPr>
              <a:xfrm flipH="1">
                <a:off x="9321480" y="3609720"/>
                <a:ext cx="372960" cy="171000"/>
              </a:xfrm>
              <a:custGeom>
                <a:avLst/>
                <a:gdLst/>
                <a:ahLst/>
                <a:rect l="l" t="t" r="r" b="b"/>
                <a:pathLst>
                  <a:path w="469" h="217">
                    <a:moveTo>
                      <a:pt x="415" y="0"/>
                    </a:moveTo>
                    <a:lnTo>
                      <a:pt x="0" y="217"/>
                    </a:lnTo>
                    <a:lnTo>
                      <a:pt x="469" y="217"/>
                    </a:lnTo>
                    <a:lnTo>
                      <a:pt x="41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9385200" y="3638160"/>
                <a:ext cx="245880" cy="127800"/>
                <a:chOff x="9385200" y="3638160"/>
                <a:chExt cx="245880" cy="127800"/>
              </a:xfrm>
            </p:grpSpPr>
            <p:sp>
              <p:nvSpPr>
                <p:cNvPr id="475" name=""/>
                <p:cNvSpPr/>
                <p:nvPr/>
              </p:nvSpPr>
              <p:spPr>
                <a:xfrm flipH="1">
                  <a:off x="9385200" y="363816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9418320" y="365652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9452880" y="3674160"/>
                  <a:ext cx="9720" cy="900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9486720" y="3691440"/>
                  <a:ext cx="936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9518400" y="370764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H="1">
                  <a:off x="9551880" y="3723480"/>
                  <a:ext cx="7920" cy="900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9584640" y="3742560"/>
                  <a:ext cx="9720" cy="756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>
                  <a:off x="9623160" y="3758400"/>
                  <a:ext cx="7920" cy="756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3" name=""/>
            <p:cNvGrpSpPr/>
            <p:nvPr/>
          </p:nvGrpSpPr>
          <p:grpSpPr>
            <a:xfrm>
              <a:off x="9780480" y="3308040"/>
              <a:ext cx="272880" cy="114120"/>
              <a:chOff x="9780480" y="3308040"/>
              <a:chExt cx="272880" cy="11412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9780480" y="3308040"/>
                <a:ext cx="272880" cy="114120"/>
              </a:xfrm>
              <a:custGeom>
                <a:avLst/>
                <a:gdLst/>
                <a:ahLst/>
                <a:rect l="l" t="t" r="r" b="b"/>
                <a:pathLst>
                  <a:path w="345" h="143">
                    <a:moveTo>
                      <a:pt x="308" y="0"/>
                    </a:moveTo>
                    <a:lnTo>
                      <a:pt x="0" y="143"/>
                    </a:lnTo>
                    <a:lnTo>
                      <a:pt x="345" y="143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9815400" y="3323520"/>
                <a:ext cx="201600" cy="94680"/>
                <a:chOff x="9815400" y="3323520"/>
                <a:chExt cx="201600" cy="94680"/>
              </a:xfrm>
            </p:grpSpPr>
            <p:sp>
              <p:nvSpPr>
                <p:cNvPr id="486" name=""/>
                <p:cNvSpPr/>
                <p:nvPr/>
              </p:nvSpPr>
              <p:spPr>
                <a:xfrm flipH="1">
                  <a:off x="9815400" y="33235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>
                  <a:off x="9843840" y="3336120"/>
                  <a:ext cx="6480" cy="75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H="1">
                  <a:off x="9872280" y="3350160"/>
                  <a:ext cx="6480" cy="61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 flipH="1">
                  <a:off x="9899280" y="336312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>
                  <a:off x="9924840" y="337392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9953280" y="3386880"/>
                  <a:ext cx="6480" cy="43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9979920" y="33994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10009080" y="341208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8330760" y="3609720"/>
              <a:ext cx="1035360" cy="626760"/>
              <a:chOff x="8330760" y="3609720"/>
              <a:chExt cx="1035360" cy="6267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8330760" y="3609720"/>
                <a:ext cx="1035360" cy="626760"/>
                <a:chOff x="8330760" y="3609720"/>
                <a:chExt cx="1035360" cy="626760"/>
              </a:xfrm>
            </p:grpSpPr>
            <p:sp>
              <p:nvSpPr>
                <p:cNvPr id="496" name=""/>
                <p:cNvSpPr/>
                <p:nvPr/>
              </p:nvSpPr>
              <p:spPr>
                <a:xfrm flipH="1">
                  <a:off x="8330760" y="3609720"/>
                  <a:ext cx="1035360" cy="626760"/>
                </a:xfrm>
                <a:custGeom>
                  <a:avLst/>
                  <a:gdLst/>
                  <a:ahLst/>
                  <a:rect l="l" t="t" r="r" b="b"/>
                  <a:pathLst>
                    <a:path w="1306" h="789">
                      <a:moveTo>
                        <a:pt x="206" y="789"/>
                      </a:moveTo>
                      <a:lnTo>
                        <a:pt x="0" y="0"/>
                      </a:lnTo>
                      <a:lnTo>
                        <a:pt x="996" y="0"/>
                      </a:lnTo>
                      <a:lnTo>
                        <a:pt x="1306" y="789"/>
                      </a:lnTo>
                      <a:lnTo>
                        <a:pt x="206" y="78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" name=""/>
                <p:cNvGrpSpPr/>
                <p:nvPr/>
              </p:nvGrpSpPr>
              <p:grpSpPr>
                <a:xfrm>
                  <a:off x="8365680" y="3691800"/>
                  <a:ext cx="978120" cy="461520"/>
                  <a:chOff x="8365680" y="3691800"/>
                  <a:chExt cx="978120" cy="461520"/>
                </a:xfrm>
              </p:grpSpPr>
              <p:sp>
                <p:nvSpPr>
                  <p:cNvPr id="498" name=""/>
                  <p:cNvSpPr/>
                  <p:nvPr/>
                </p:nvSpPr>
                <p:spPr>
                  <a:xfrm flipH="1">
                    <a:off x="8508600" y="3691800"/>
                    <a:ext cx="8352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2" h="114">
                        <a:moveTo>
                          <a:pt x="0" y="0"/>
                        </a:moveTo>
                        <a:lnTo>
                          <a:pt x="1008" y="0"/>
                        </a:lnTo>
                        <a:lnTo>
                          <a:pt x="1052" y="114"/>
                        </a:lnTo>
                        <a:lnTo>
                          <a:pt x="30" y="1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 flipH="1">
                    <a:off x="8435880" y="3875760"/>
                    <a:ext cx="86040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4" h="117">
                        <a:moveTo>
                          <a:pt x="0" y="0"/>
                        </a:moveTo>
                        <a:lnTo>
                          <a:pt x="1040" y="0"/>
                        </a:lnTo>
                        <a:lnTo>
                          <a:pt x="1084" y="117"/>
                        </a:lnTo>
                        <a:lnTo>
                          <a:pt x="30" y="1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>
                    <a:off x="8365680" y="4062960"/>
                    <a:ext cx="88272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114">
                        <a:moveTo>
                          <a:pt x="0" y="0"/>
                        </a:moveTo>
                        <a:lnTo>
                          <a:pt x="1072" y="0"/>
                        </a:lnTo>
                        <a:lnTo>
                          <a:pt x="1114" y="114"/>
                        </a:lnTo>
                        <a:lnTo>
                          <a:pt x="30" y="1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1" name=""/>
              <p:cNvGrpSpPr/>
              <p:nvPr/>
            </p:nvGrpSpPr>
            <p:grpSpPr>
              <a:xfrm>
                <a:off x="8397720" y="3631680"/>
                <a:ext cx="931680" cy="570240"/>
                <a:chOff x="8397720" y="3631680"/>
                <a:chExt cx="931680" cy="57024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9175320" y="3637800"/>
                  <a:ext cx="154080" cy="564120"/>
                  <a:chOff x="9175320" y="3637800"/>
                  <a:chExt cx="154080" cy="56412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H="1">
                    <a:off x="9312120" y="3637800"/>
                    <a:ext cx="17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>
                    <a:off x="9294120" y="371808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>
                    <a:off x="9268920" y="3792960"/>
                    <a:ext cx="190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8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8"/>
                        </a:lnTo>
                        <a:lnTo>
                          <a:pt x="22" y="16"/>
                        </a:lnTo>
                        <a:lnTo>
                          <a:pt x="24" y="14"/>
                        </a:lnTo>
                        <a:lnTo>
                          <a:pt x="24" y="12"/>
                        </a:lnTo>
                        <a:lnTo>
                          <a:pt x="24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>
                    <a:off x="9253440" y="3872160"/>
                    <a:ext cx="172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4" y="21"/>
                        </a:lnTo>
                        <a:lnTo>
                          <a:pt x="6" y="23"/>
                        </a:lnTo>
                        <a:lnTo>
                          <a:pt x="8" y="23"/>
                        </a:lnTo>
                        <a:lnTo>
                          <a:pt x="12" y="23"/>
                        </a:lnTo>
                        <a:lnTo>
                          <a:pt x="14" y="23"/>
                        </a:lnTo>
                        <a:lnTo>
                          <a:pt x="16" y="23"/>
                        </a:lnTo>
                        <a:lnTo>
                          <a:pt x="16" y="21"/>
                        </a:lnTo>
                        <a:lnTo>
                          <a:pt x="18" y="21"/>
                        </a:lnTo>
                        <a:lnTo>
                          <a:pt x="20" y="20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>
                    <a:off x="9232200" y="395316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6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 flipH="1">
                    <a:off x="9213120" y="4029480"/>
                    <a:ext cx="176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20"/>
                        </a:lnTo>
                        <a:lnTo>
                          <a:pt x="18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 flipH="1">
                    <a:off x="9192960" y="41054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2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8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>
                    <a:off x="9174960" y="4186440"/>
                    <a:ext cx="16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20" y="2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8397720" y="3631680"/>
                  <a:ext cx="203040" cy="554760"/>
                  <a:chOff x="8397720" y="3631680"/>
                  <a:chExt cx="203040" cy="55476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>
                    <a:off x="8583480" y="3631680"/>
                    <a:ext cx="17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2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1" y="14"/>
                        </a:lnTo>
                        <a:lnTo>
                          <a:pt x="21" y="12"/>
                        </a:lnTo>
                        <a:lnTo>
                          <a:pt x="21" y="10"/>
                        </a:lnTo>
                        <a:lnTo>
                          <a:pt x="21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>
                    <a:off x="8556480" y="3709080"/>
                    <a:ext cx="17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0" y="8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H="1">
                    <a:off x="8529480" y="3782160"/>
                    <a:ext cx="17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H="1">
                    <a:off x="8500320" y="385812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2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>
                    <a:off x="8470800" y="394560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8425800" y="4089960"/>
                    <a:ext cx="176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2"/>
                        </a:lnTo>
                        <a:lnTo>
                          <a:pt x="20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>
                    <a:off x="8397720" y="4170960"/>
                    <a:ext cx="158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6"/>
                        </a:lnTo>
                        <a:lnTo>
                          <a:pt x="20" y="14"/>
                        </a:lnTo>
                        <a:lnTo>
                          <a:pt x="20" y="12"/>
                        </a:lnTo>
                        <a:lnTo>
                          <a:pt x="20" y="10"/>
                        </a:lnTo>
                        <a:lnTo>
                          <a:pt x="20" y="8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8445240" y="401688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6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0" name=""/>
            <p:cNvGrpSpPr/>
            <p:nvPr/>
          </p:nvGrpSpPr>
          <p:grpSpPr>
            <a:xfrm>
              <a:off x="7295760" y="4019400"/>
              <a:ext cx="1443240" cy="896400"/>
              <a:chOff x="7295760" y="4019400"/>
              <a:chExt cx="1443240" cy="896400"/>
            </a:xfrm>
          </p:grpSpPr>
          <p:grpSp>
            <p:nvGrpSpPr>
              <p:cNvPr id="521" name=""/>
              <p:cNvGrpSpPr/>
              <p:nvPr/>
            </p:nvGrpSpPr>
            <p:grpSpPr>
              <a:xfrm>
                <a:off x="7295760" y="4019400"/>
                <a:ext cx="1443240" cy="896400"/>
                <a:chOff x="7295760" y="4019400"/>
                <a:chExt cx="1443240" cy="896400"/>
              </a:xfrm>
            </p:grpSpPr>
            <p:sp>
              <p:nvSpPr>
                <p:cNvPr id="522" name=""/>
                <p:cNvSpPr/>
                <p:nvPr/>
              </p:nvSpPr>
              <p:spPr>
                <a:xfrm flipH="1">
                  <a:off x="7295400" y="4019400"/>
                  <a:ext cx="1443240" cy="896400"/>
                </a:xfrm>
                <a:custGeom>
                  <a:avLst/>
                  <a:gdLst/>
                  <a:ahLst/>
                  <a:rect l="l" t="t" r="r" b="b"/>
                  <a:pathLst>
                    <a:path w="1818" h="1131">
                      <a:moveTo>
                        <a:pt x="275" y="1131"/>
                      </a:move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818" y="1131"/>
                      </a:lnTo>
                      <a:lnTo>
                        <a:pt x="275" y="113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3" name=""/>
                <p:cNvGrpSpPr/>
                <p:nvPr/>
              </p:nvGrpSpPr>
              <p:grpSpPr>
                <a:xfrm>
                  <a:off x="7357680" y="4147560"/>
                  <a:ext cx="1349640" cy="615240"/>
                  <a:chOff x="7357680" y="4147560"/>
                  <a:chExt cx="1349640" cy="61524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>
                    <a:off x="7357680" y="4636080"/>
                    <a:ext cx="123048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50" h="159">
                        <a:moveTo>
                          <a:pt x="0" y="0"/>
                        </a:moveTo>
                        <a:lnTo>
                          <a:pt x="1489" y="0"/>
                        </a:lnTo>
                        <a:lnTo>
                          <a:pt x="1550" y="159"/>
                        </a:lnTo>
                        <a:lnTo>
                          <a:pt x="37" y="1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7549560" y="4147560"/>
                    <a:ext cx="115740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59" h="157">
                        <a:moveTo>
                          <a:pt x="0" y="0"/>
                        </a:moveTo>
                        <a:lnTo>
                          <a:pt x="1395" y="0"/>
                        </a:lnTo>
                        <a:lnTo>
                          <a:pt x="1459" y="157"/>
                        </a:lnTo>
                        <a:lnTo>
                          <a:pt x="38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flipH="1">
                    <a:off x="7454520" y="4391640"/>
                    <a:ext cx="1193760" cy="124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05" h="157">
                        <a:moveTo>
                          <a:pt x="0" y="0"/>
                        </a:moveTo>
                        <a:lnTo>
                          <a:pt x="1443" y="0"/>
                        </a:lnTo>
                        <a:lnTo>
                          <a:pt x="1505" y="157"/>
                        </a:lnTo>
                        <a:lnTo>
                          <a:pt x="42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7380000" y="4074480"/>
                <a:ext cx="1301760" cy="780480"/>
                <a:chOff x="7380000" y="4074480"/>
                <a:chExt cx="1301760" cy="78048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8453160" y="4074480"/>
                  <a:ext cx="228600" cy="780480"/>
                  <a:chOff x="8453160" y="4074480"/>
                  <a:chExt cx="228600" cy="78048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>
                    <a:off x="8655840" y="4074480"/>
                    <a:ext cx="255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6"/>
                        </a:lnTo>
                        <a:lnTo>
                          <a:pt x="30" y="22"/>
                        </a:lnTo>
                        <a:lnTo>
                          <a:pt x="32" y="20"/>
                        </a:lnTo>
                        <a:lnTo>
                          <a:pt x="32" y="18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>
                    <a:off x="8629560" y="4183560"/>
                    <a:ext cx="252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8"/>
                        </a:lnTo>
                        <a:lnTo>
                          <a:pt x="8" y="30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30" y="28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>
                    <a:off x="8592480" y="4291560"/>
                    <a:ext cx="270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 flipH="1">
                    <a:off x="8568720" y="4401360"/>
                    <a:ext cx="27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0">
                        <a:moveTo>
                          <a:pt x="15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4" y="30"/>
                        </a:lnTo>
                        <a:lnTo>
                          <a:pt x="17" y="30"/>
                        </a:lnTo>
                        <a:lnTo>
                          <a:pt x="19" y="30"/>
                        </a:lnTo>
                        <a:lnTo>
                          <a:pt x="23" y="28"/>
                        </a:lnTo>
                        <a:lnTo>
                          <a:pt x="25" y="28"/>
                        </a:lnTo>
                        <a:lnTo>
                          <a:pt x="27" y="26"/>
                        </a:lnTo>
                        <a:lnTo>
                          <a:pt x="29" y="24"/>
                        </a:lnTo>
                        <a:lnTo>
                          <a:pt x="31" y="20"/>
                        </a:lnTo>
                        <a:lnTo>
                          <a:pt x="33" y="18"/>
                        </a:lnTo>
                        <a:lnTo>
                          <a:pt x="33" y="16"/>
                        </a:lnTo>
                        <a:lnTo>
                          <a:pt x="33" y="12"/>
                        </a:lnTo>
                        <a:lnTo>
                          <a:pt x="31" y="10"/>
                        </a:lnTo>
                        <a:lnTo>
                          <a:pt x="31" y="8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5" y="2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8538480" y="4512240"/>
                    <a:ext cx="27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4"/>
                        </a:lnTo>
                        <a:lnTo>
                          <a:pt x="8" y="26"/>
                        </a:lnTo>
                        <a:lnTo>
                          <a:pt x="10" y="28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>
                    <a:off x="8511480" y="4615560"/>
                    <a:ext cx="255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0" y="22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8481240" y="4723560"/>
                    <a:ext cx="255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2"/>
                        </a:lnTo>
                        <a:lnTo>
                          <a:pt x="30" y="20"/>
                        </a:lnTo>
                        <a:lnTo>
                          <a:pt x="32" y="18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>
                    <a:off x="8452800" y="4834440"/>
                    <a:ext cx="2700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2" y="28"/>
                        </a:lnTo>
                        <a:lnTo>
                          <a:pt x="14" y="28"/>
                        </a:lnTo>
                        <a:lnTo>
                          <a:pt x="18" y="28"/>
                        </a:lnTo>
                        <a:lnTo>
                          <a:pt x="22" y="28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6"/>
                        </a:lnTo>
                        <a:lnTo>
                          <a:pt x="32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" name=""/>
                <p:cNvGrpSpPr/>
                <p:nvPr/>
              </p:nvGrpSpPr>
              <p:grpSpPr>
                <a:xfrm>
                  <a:off x="7380000" y="4077360"/>
                  <a:ext cx="298440" cy="769320"/>
                  <a:chOff x="7380000" y="4077360"/>
                  <a:chExt cx="298440" cy="769320"/>
                </a:xfrm>
              </p:grpSpPr>
              <p:sp>
                <p:nvSpPr>
                  <p:cNvPr id="538" name=""/>
                  <p:cNvSpPr/>
                  <p:nvPr/>
                </p:nvSpPr>
                <p:spPr>
                  <a:xfrm flipH="1">
                    <a:off x="7651080" y="4077360"/>
                    <a:ext cx="27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2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8" y="28"/>
                        </a:lnTo>
                        <a:lnTo>
                          <a:pt x="30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H="1">
                    <a:off x="7611480" y="4185000"/>
                    <a:ext cx="27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>
                    <a:off x="7573320" y="4287960"/>
                    <a:ext cx="25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2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 flipH="1">
                    <a:off x="7531920" y="4391280"/>
                    <a:ext cx="255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H="1">
                    <a:off x="7487640" y="4511880"/>
                    <a:ext cx="270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2" y="24"/>
                        </a:lnTo>
                        <a:lnTo>
                          <a:pt x="32" y="22"/>
                        </a:lnTo>
                        <a:lnTo>
                          <a:pt x="34" y="20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7422480" y="4713480"/>
                    <a:ext cx="255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0" y="20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H="1">
                    <a:off x="7379640" y="4824720"/>
                    <a:ext cx="255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7" y="26"/>
                        </a:lnTo>
                        <a:lnTo>
                          <a:pt x="29" y="22"/>
                        </a:lnTo>
                        <a:lnTo>
                          <a:pt x="31" y="20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1" y="10"/>
                        </a:lnTo>
                        <a:lnTo>
                          <a:pt x="31" y="8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H="1">
                    <a:off x="7450920" y="4610520"/>
                    <a:ext cx="255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2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2"/>
                        </a:lnTo>
                        <a:lnTo>
                          <a:pt x="16" y="32"/>
                        </a:lnTo>
                        <a:lnTo>
                          <a:pt x="20" y="32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6" name=""/>
            <p:cNvGrpSpPr/>
            <p:nvPr/>
          </p:nvGrpSpPr>
          <p:grpSpPr>
            <a:xfrm>
              <a:off x="7813440" y="4590720"/>
              <a:ext cx="706320" cy="325080"/>
              <a:chOff x="7813440" y="4590720"/>
              <a:chExt cx="706320" cy="32508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7813440" y="4590720"/>
                <a:ext cx="706320" cy="325080"/>
              </a:xfrm>
              <a:custGeom>
                <a:avLst/>
                <a:gdLst/>
                <a:ahLst/>
                <a:rect l="l" t="t" r="r" b="b"/>
                <a:pathLst>
                  <a:path w="891" h="411">
                    <a:moveTo>
                      <a:pt x="789" y="0"/>
                    </a:moveTo>
                    <a:lnTo>
                      <a:pt x="0" y="411"/>
                    </a:lnTo>
                    <a:lnTo>
                      <a:pt x="891" y="411"/>
                    </a:lnTo>
                    <a:lnTo>
                      <a:pt x="789" y="0"/>
                    </a:lnTo>
                    <a:close/>
                  </a:path>
                </a:pathLst>
              </a:custGeom>
              <a:solidFill>
                <a:srgbClr val="9f9f9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8" name=""/>
              <p:cNvGrpSpPr/>
              <p:nvPr/>
            </p:nvGrpSpPr>
            <p:grpSpPr>
              <a:xfrm>
                <a:off x="7932600" y="4644360"/>
                <a:ext cx="468360" cy="245520"/>
                <a:chOff x="7932600" y="4644360"/>
                <a:chExt cx="468360" cy="245520"/>
              </a:xfrm>
            </p:grpSpPr>
            <p:sp>
              <p:nvSpPr>
                <p:cNvPr id="549" name=""/>
                <p:cNvSpPr/>
                <p:nvPr/>
              </p:nvSpPr>
              <p:spPr>
                <a:xfrm flipH="1">
                  <a:off x="7932600" y="4644360"/>
                  <a:ext cx="15840" cy="17280"/>
                </a:xfrm>
                <a:custGeom>
                  <a:avLst/>
                  <a:gdLst/>
                  <a:ahLst/>
                  <a:rect l="l" t="t" r="r" b="b"/>
                  <a:pathLst>
                    <a:path w="20" h="22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6" y="20"/>
                      </a:lnTo>
                      <a:lnTo>
                        <a:pt x="18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7997400" y="4677480"/>
                  <a:ext cx="14400" cy="1692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6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18" y="14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8064360" y="4713840"/>
                  <a:ext cx="15840" cy="154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8127720" y="4744080"/>
                  <a:ext cx="15840" cy="154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 flipH="1">
                  <a:off x="8186400" y="47757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6" y="16"/>
                      </a:lnTo>
                      <a:lnTo>
                        <a:pt x="18" y="16"/>
                      </a:lnTo>
                      <a:lnTo>
                        <a:pt x="18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H="1">
                  <a:off x="8250120" y="48074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 flipH="1">
                  <a:off x="8314920" y="484092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4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 flipH="1">
                  <a:off x="8384400" y="4874400"/>
                  <a:ext cx="16200" cy="1548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7" name=""/>
            <p:cNvGrpSpPr/>
            <p:nvPr/>
          </p:nvGrpSpPr>
          <p:grpSpPr>
            <a:xfrm>
              <a:off x="8683200" y="4019400"/>
              <a:ext cx="519120" cy="217080"/>
              <a:chOff x="8683200" y="4019400"/>
              <a:chExt cx="519120" cy="217080"/>
            </a:xfrm>
          </p:grpSpPr>
          <p:sp>
            <p:nvSpPr>
              <p:cNvPr id="558" name=""/>
              <p:cNvSpPr/>
              <p:nvPr/>
            </p:nvSpPr>
            <p:spPr>
              <a:xfrm flipH="1">
                <a:off x="8683200" y="4019400"/>
                <a:ext cx="519120" cy="217080"/>
              </a:xfrm>
              <a:custGeom>
                <a:avLst/>
                <a:gdLst/>
                <a:ahLst/>
                <a:rect l="l" t="t" r="r" b="b"/>
                <a:pathLst>
                  <a:path w="655" h="273">
                    <a:moveTo>
                      <a:pt x="585" y="0"/>
                    </a:moveTo>
                    <a:lnTo>
                      <a:pt x="0" y="273"/>
                    </a:lnTo>
                    <a:lnTo>
                      <a:pt x="655" y="273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9f9f9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8748360" y="4049280"/>
                <a:ext cx="385920" cy="178560"/>
                <a:chOff x="8748360" y="4049280"/>
                <a:chExt cx="385920" cy="178560"/>
              </a:xfrm>
            </p:grpSpPr>
            <p:sp>
              <p:nvSpPr>
                <p:cNvPr id="560" name=""/>
                <p:cNvSpPr/>
                <p:nvPr/>
              </p:nvSpPr>
              <p:spPr>
                <a:xfrm flipH="1">
                  <a:off x="8748360" y="4049280"/>
                  <a:ext cx="14400" cy="1224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6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4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 flipH="1">
                  <a:off x="8802000" y="407412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8856000" y="409968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H="1">
                  <a:off x="8908560" y="412164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 flipH="1">
                  <a:off x="8956440" y="41439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9010080" y="416772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9062640" y="4191840"/>
                  <a:ext cx="12960" cy="1044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 flipH="1">
                  <a:off x="9121320" y="4217040"/>
                  <a:ext cx="1260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8" name=""/>
            <p:cNvGrpSpPr/>
            <p:nvPr/>
          </p:nvGrpSpPr>
          <p:grpSpPr>
            <a:xfrm>
              <a:off x="5825880" y="4590720"/>
              <a:ext cx="2068560" cy="1252440"/>
              <a:chOff x="5825880" y="4590720"/>
              <a:chExt cx="2068560" cy="12524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825880" y="4590720"/>
                <a:ext cx="2068560" cy="1252440"/>
                <a:chOff x="5825880" y="4590720"/>
                <a:chExt cx="2068560" cy="1252440"/>
              </a:xfrm>
            </p:grpSpPr>
            <p:sp>
              <p:nvSpPr>
                <p:cNvPr id="570" name=""/>
                <p:cNvSpPr/>
                <p:nvPr/>
              </p:nvSpPr>
              <p:spPr>
                <a:xfrm flipH="1">
                  <a:off x="5825880" y="4590720"/>
                  <a:ext cx="2068560" cy="1252440"/>
                </a:xfrm>
                <a:custGeom>
                  <a:avLst/>
                  <a:gdLst/>
                  <a:ahLst/>
                  <a:rect l="l" t="t" r="r" b="b"/>
                  <a:pathLst>
                    <a:path w="2607" h="1577">
                      <a:moveTo>
                        <a:pt x="411" y="1577"/>
                      </a:moveTo>
                      <a:lnTo>
                        <a:pt x="2607" y="1577"/>
                      </a:lnTo>
                      <a:lnTo>
                        <a:pt x="1954" y="0"/>
                      </a:lnTo>
                      <a:lnTo>
                        <a:pt x="0" y="0"/>
                      </a:lnTo>
                      <a:lnTo>
                        <a:pt x="411" y="1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"/>
                <p:cNvGrpSpPr/>
                <p:nvPr/>
              </p:nvGrpSpPr>
              <p:grpSpPr>
                <a:xfrm>
                  <a:off x="5905080" y="4754160"/>
                  <a:ext cx="1944720" cy="894600"/>
                  <a:chOff x="5905080" y="4754160"/>
                  <a:chExt cx="1944720" cy="89460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 flipH="1">
                    <a:off x="6197400" y="4754160"/>
                    <a:ext cx="16524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82" h="240">
                        <a:moveTo>
                          <a:pt x="0" y="0"/>
                        </a:moveTo>
                        <a:lnTo>
                          <a:pt x="1982" y="0"/>
                        </a:lnTo>
                        <a:lnTo>
                          <a:pt x="2082" y="240"/>
                        </a:lnTo>
                        <a:lnTo>
                          <a:pt x="60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6049440" y="5109120"/>
                    <a:ext cx="17082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52" h="235">
                        <a:moveTo>
                          <a:pt x="0" y="0"/>
                        </a:moveTo>
                        <a:lnTo>
                          <a:pt x="2054" y="0"/>
                        </a:lnTo>
                        <a:lnTo>
                          <a:pt x="2152" y="235"/>
                        </a:lnTo>
                        <a:lnTo>
                          <a:pt x="60" y="2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5904720" y="5458320"/>
                    <a:ext cx="176076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20" h="239">
                        <a:moveTo>
                          <a:pt x="0" y="0"/>
                        </a:moveTo>
                        <a:lnTo>
                          <a:pt x="2122" y="0"/>
                        </a:lnTo>
                        <a:lnTo>
                          <a:pt x="2220" y="239"/>
                        </a:lnTo>
                        <a:lnTo>
                          <a:pt x="60" y="2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5" name=""/>
              <p:cNvGrpSpPr/>
              <p:nvPr/>
            </p:nvGrpSpPr>
            <p:grpSpPr>
              <a:xfrm>
                <a:off x="5922720" y="4692240"/>
                <a:ext cx="1881000" cy="1040040"/>
                <a:chOff x="5922720" y="4692240"/>
                <a:chExt cx="1881000" cy="1040040"/>
              </a:xfrm>
            </p:grpSpPr>
            <p:grpSp>
              <p:nvGrpSpPr>
                <p:cNvPr id="576" name=""/>
                <p:cNvGrpSpPr/>
                <p:nvPr/>
              </p:nvGrpSpPr>
              <p:grpSpPr>
                <a:xfrm>
                  <a:off x="5922720" y="4692240"/>
                  <a:ext cx="452520" cy="1031040"/>
                  <a:chOff x="5922720" y="4692240"/>
                  <a:chExt cx="452520" cy="103104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flipH="1">
                    <a:off x="6345000" y="469224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20" y="37"/>
                        </a:ln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30" y="35"/>
                        </a:lnTo>
                        <a:lnTo>
                          <a:pt x="32" y="33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8" y="23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6286320" y="4837680"/>
                    <a:ext cx="302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6227280" y="497268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3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6" y="31"/>
                        </a:lnTo>
                        <a:lnTo>
                          <a:pt x="10" y="35"/>
                        </a:lnTo>
                        <a:lnTo>
                          <a:pt x="12" y="35"/>
                        </a:lnTo>
                        <a:lnTo>
                          <a:pt x="14" y="37"/>
                        </a:lnTo>
                        <a:lnTo>
                          <a:pt x="20" y="37"/>
                        </a:lnTo>
                        <a:lnTo>
                          <a:pt x="24" y="37"/>
                        </a:lnTo>
                        <a:lnTo>
                          <a:pt x="28" y="35"/>
                        </a:lnTo>
                        <a:lnTo>
                          <a:pt x="30" y="33"/>
                        </a:lnTo>
                        <a:lnTo>
                          <a:pt x="34" y="31"/>
                        </a:lnTo>
                        <a:lnTo>
                          <a:pt x="36" y="29"/>
                        </a:lnTo>
                        <a:lnTo>
                          <a:pt x="38" y="25"/>
                        </a:lnTo>
                        <a:lnTo>
                          <a:pt x="38" y="23"/>
                        </a:lnTo>
                        <a:lnTo>
                          <a:pt x="38" y="19"/>
                        </a:lnTo>
                        <a:lnTo>
                          <a:pt x="38" y="15"/>
                        </a:lnTo>
                        <a:lnTo>
                          <a:pt x="38" y="13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6167160" y="511704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21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1" y="38"/>
                        </a:lnTo>
                        <a:lnTo>
                          <a:pt x="25" y="38"/>
                        </a:lnTo>
                        <a:lnTo>
                          <a:pt x="29" y="38"/>
                        </a:lnTo>
                        <a:lnTo>
                          <a:pt x="33" y="36"/>
                        </a:lnTo>
                        <a:lnTo>
                          <a:pt x="35" y="34"/>
                        </a:lnTo>
                        <a:lnTo>
                          <a:pt x="37" y="30"/>
                        </a:lnTo>
                        <a:lnTo>
                          <a:pt x="39" y="28"/>
                        </a:lnTo>
                        <a:lnTo>
                          <a:pt x="39" y="24"/>
                        </a:lnTo>
                        <a:lnTo>
                          <a:pt x="39" y="20"/>
                        </a:lnTo>
                        <a:lnTo>
                          <a:pt x="39" y="18"/>
                        </a:lnTo>
                        <a:lnTo>
                          <a:pt x="39" y="14"/>
                        </a:lnTo>
                        <a:lnTo>
                          <a:pt x="39" y="12"/>
                        </a:lnTo>
                        <a:lnTo>
                          <a:pt x="37" y="8"/>
                        </a:lnTo>
                        <a:lnTo>
                          <a:pt x="35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7" y="2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6102000" y="526320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6043320" y="540288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5981400" y="554724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4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8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5922720" y="56934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" name=""/>
                <p:cNvGrpSpPr/>
                <p:nvPr/>
              </p:nvGrpSpPr>
              <p:grpSpPr>
                <a:xfrm>
                  <a:off x="7497360" y="4710600"/>
                  <a:ext cx="306360" cy="1021680"/>
                  <a:chOff x="7497360" y="4710600"/>
                  <a:chExt cx="306360" cy="1021680"/>
                </a:xfrm>
              </p:grpSpPr>
              <p:sp>
                <p:nvSpPr>
                  <p:cNvPr id="586" name=""/>
                  <p:cNvSpPr/>
                  <p:nvPr/>
                </p:nvSpPr>
                <p:spPr>
                  <a:xfrm flipH="1">
                    <a:off x="7773480" y="471060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3" y="32"/>
                        </a:lnTo>
                        <a:lnTo>
                          <a:pt x="35" y="30"/>
                        </a:lnTo>
                        <a:lnTo>
                          <a:pt x="37" y="26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6"/>
                        </a:lnTo>
                        <a:lnTo>
                          <a:pt x="37" y="14"/>
                        </a:lnTo>
                        <a:lnTo>
                          <a:pt x="37" y="10"/>
                        </a:lnTo>
                        <a:lnTo>
                          <a:pt x="35" y="8"/>
                        </a:lnTo>
                        <a:lnTo>
                          <a:pt x="33" y="6"/>
                        </a:lnTo>
                        <a:lnTo>
                          <a:pt x="31" y="4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7732440" y="484848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2"/>
                        </a:lnTo>
                        <a:lnTo>
                          <a:pt x="36" y="28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7686360" y="4989960"/>
                    <a:ext cx="3168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7650000" y="512640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7614720" y="526752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7575120" y="5415120"/>
                    <a:ext cx="2880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6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7543440" y="555192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7497360" y="570276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4" y="32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6" y="36"/>
                        </a:lnTo>
                        <a:lnTo>
                          <a:pt x="30" y="34"/>
                        </a:lnTo>
                        <a:lnTo>
                          <a:pt x="32" y="32"/>
                        </a:lnTo>
                        <a:lnTo>
                          <a:pt x="34" y="30"/>
                        </a:lnTo>
                        <a:lnTo>
                          <a:pt x="36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6" y="12"/>
                        </a:lnTo>
                        <a:lnTo>
                          <a:pt x="36" y="10"/>
                        </a:lnTo>
                        <a:lnTo>
                          <a:pt x="34" y="8"/>
                        </a:lnTo>
                        <a:lnTo>
                          <a:pt x="32" y="6"/>
                        </a:lnTo>
                        <a:lnTo>
                          <a:pt x="30" y="2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4" name=""/>
            <p:cNvGrpSpPr/>
            <p:nvPr/>
          </p:nvGrpSpPr>
          <p:grpSpPr>
            <a:xfrm>
              <a:off x="10116720" y="3095280"/>
              <a:ext cx="193680" cy="85680"/>
              <a:chOff x="10116720" y="3095280"/>
              <a:chExt cx="193680" cy="8568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10116720" y="3095280"/>
                <a:ext cx="193680" cy="85680"/>
              </a:xfrm>
              <a:custGeom>
                <a:avLst/>
                <a:gdLst/>
                <a:ahLst/>
                <a:rect l="l" t="t" r="r" b="b"/>
                <a:pathLst>
                  <a:path w="243" h="108">
                    <a:moveTo>
                      <a:pt x="215" y="0"/>
                    </a:moveTo>
                    <a:lnTo>
                      <a:pt x="0" y="108"/>
                    </a:lnTo>
                    <a:lnTo>
                      <a:pt x="243" y="10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10146960" y="3109320"/>
                <a:ext cx="127080" cy="62640"/>
                <a:chOff x="10146960" y="3109320"/>
                <a:chExt cx="127080" cy="62640"/>
              </a:xfrm>
            </p:grpSpPr>
            <p:sp>
              <p:nvSpPr>
                <p:cNvPr id="597" name=""/>
                <p:cNvSpPr/>
                <p:nvPr/>
              </p:nvSpPr>
              <p:spPr>
                <a:xfrm flipH="1">
                  <a:off x="10146600" y="310932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H="1">
                  <a:off x="10164240" y="3116880"/>
                  <a:ext cx="4680" cy="43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10183680" y="312660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>
                  <a:off x="10200600" y="3134520"/>
                  <a:ext cx="3240" cy="432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>
                  <a:off x="10216440" y="3142440"/>
                  <a:ext cx="3240" cy="252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>
                  <a:off x="10232640" y="3151800"/>
                  <a:ext cx="5040" cy="432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>
                  <a:off x="10249920" y="3159720"/>
                  <a:ext cx="6120" cy="432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>
                  <a:off x="10270440" y="3170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5" name=""/>
            <p:cNvGrpSpPr/>
            <p:nvPr/>
          </p:nvGrpSpPr>
          <p:grpSpPr>
            <a:xfrm>
              <a:off x="4792320" y="5843520"/>
              <a:ext cx="2776680" cy="894960"/>
              <a:chOff x="4792320" y="5843520"/>
              <a:chExt cx="2776680" cy="8949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4792320" y="5843520"/>
                <a:ext cx="2776680" cy="894960"/>
                <a:chOff x="4792320" y="5843520"/>
                <a:chExt cx="2776680" cy="894960"/>
              </a:xfrm>
            </p:grpSpPr>
            <p:sp>
              <p:nvSpPr>
                <p:cNvPr id="607" name=""/>
                <p:cNvSpPr/>
                <p:nvPr/>
              </p:nvSpPr>
              <p:spPr>
                <a:xfrm flipH="1">
                  <a:off x="4791960" y="5843520"/>
                  <a:ext cx="2776680" cy="894960"/>
                </a:xfrm>
                <a:custGeom>
                  <a:avLst/>
                  <a:gdLst/>
                  <a:ahLst/>
                  <a:rect l="l" t="t" r="r" b="b"/>
                  <a:pathLst>
                    <a:path w="3497" h="1129">
                      <a:moveTo>
                        <a:pt x="0" y="0"/>
                      </a:moveTo>
                      <a:lnTo>
                        <a:pt x="2196" y="0"/>
                      </a:lnTo>
                      <a:lnTo>
                        <a:pt x="3497" y="1129"/>
                      </a:lnTo>
                      <a:lnTo>
                        <a:pt x="719" y="1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8" name=""/>
                <p:cNvGrpSpPr/>
                <p:nvPr/>
              </p:nvGrpSpPr>
              <p:grpSpPr>
                <a:xfrm>
                  <a:off x="4951080" y="5949360"/>
                  <a:ext cx="2549520" cy="653400"/>
                  <a:chOff x="4951080" y="5949360"/>
                  <a:chExt cx="2549520" cy="653400"/>
                </a:xfrm>
              </p:grpSpPr>
              <p:sp>
                <p:nvSpPr>
                  <p:cNvPr id="609" name=""/>
                  <p:cNvSpPr/>
                  <p:nvPr/>
                </p:nvSpPr>
                <p:spPr>
                  <a:xfrm flipH="1">
                    <a:off x="5576760" y="5949360"/>
                    <a:ext cx="192384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423" h="138">
                        <a:moveTo>
                          <a:pt x="0" y="0"/>
                        </a:moveTo>
                        <a:lnTo>
                          <a:pt x="2263" y="0"/>
                        </a:lnTo>
                        <a:lnTo>
                          <a:pt x="2423" y="138"/>
                        </a:lnTo>
                        <a:lnTo>
                          <a:pt x="92" y="1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4950720" y="6468120"/>
                    <a:ext cx="221796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94" h="172">
                        <a:moveTo>
                          <a:pt x="0" y="0"/>
                        </a:moveTo>
                        <a:lnTo>
                          <a:pt x="2607" y="0"/>
                        </a:lnTo>
                        <a:lnTo>
                          <a:pt x="2794" y="172"/>
                        </a:lnTo>
                        <a:lnTo>
                          <a:pt x="108" y="1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5262120" y="6195240"/>
                    <a:ext cx="208152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21" h="172">
                        <a:moveTo>
                          <a:pt x="0" y="0"/>
                        </a:moveTo>
                        <a:lnTo>
                          <a:pt x="2426" y="0"/>
                        </a:lnTo>
                        <a:lnTo>
                          <a:pt x="2621" y="172"/>
                        </a:lnTo>
                        <a:lnTo>
                          <a:pt x="110" y="1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4924080" y="5884200"/>
                <a:ext cx="2549520" cy="799560"/>
                <a:chOff x="4924080" y="5884200"/>
                <a:chExt cx="2549520" cy="79956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6962400" y="5893560"/>
                  <a:ext cx="511200" cy="789840"/>
                  <a:chOff x="6962400" y="5893560"/>
                  <a:chExt cx="511200" cy="78984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H="1">
                    <a:off x="7443360" y="589356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7370280" y="601848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1" y="38"/>
                        </a:lnTo>
                        <a:lnTo>
                          <a:pt x="27" y="38"/>
                        </a:lnTo>
                        <a:lnTo>
                          <a:pt x="29" y="36"/>
                        </a:lnTo>
                        <a:lnTo>
                          <a:pt x="31" y="34"/>
                        </a:lnTo>
                        <a:lnTo>
                          <a:pt x="35" y="30"/>
                        </a:lnTo>
                        <a:lnTo>
                          <a:pt x="35" y="28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8"/>
                        </a:lnTo>
                        <a:lnTo>
                          <a:pt x="37" y="14"/>
                        </a:lnTo>
                        <a:lnTo>
                          <a:pt x="35" y="12"/>
                        </a:lnTo>
                        <a:lnTo>
                          <a:pt x="35" y="8"/>
                        </a:lnTo>
                        <a:lnTo>
                          <a:pt x="31" y="6"/>
                        </a:lnTo>
                        <a:lnTo>
                          <a:pt x="29" y="4"/>
                        </a:lnTo>
                        <a:lnTo>
                          <a:pt x="27" y="2"/>
                        </a:lnTo>
                        <a:lnTo>
                          <a:pt x="23" y="2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7286400" y="614376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2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7205400" y="627408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2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2"/>
                        </a:lnTo>
                        <a:lnTo>
                          <a:pt x="28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7122600" y="639936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2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7048080" y="65250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4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2"/>
                        </a:lnTo>
                        <a:lnTo>
                          <a:pt x="36" y="10"/>
                        </a:lnTo>
                        <a:lnTo>
                          <a:pt x="36" y="6"/>
                        </a:lnTo>
                        <a:lnTo>
                          <a:pt x="34" y="4"/>
                        </a:lnTo>
                        <a:lnTo>
                          <a:pt x="32" y="2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6962400" y="665352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17" y="0"/>
                        </a:moveTo>
                        <a:lnTo>
                          <a:pt x="13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3" y="38"/>
                        </a:lnTo>
                        <a:lnTo>
                          <a:pt x="19" y="38"/>
                        </a:lnTo>
                        <a:lnTo>
                          <a:pt x="21" y="38"/>
                        </a:lnTo>
                        <a:lnTo>
                          <a:pt x="27" y="36"/>
                        </a:lnTo>
                        <a:lnTo>
                          <a:pt x="29" y="36"/>
                        </a:lnTo>
                        <a:lnTo>
                          <a:pt x="31" y="34"/>
                        </a:lnTo>
                        <a:lnTo>
                          <a:pt x="33" y="30"/>
                        </a:lnTo>
                        <a:lnTo>
                          <a:pt x="35" y="26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6"/>
                        </a:lnTo>
                        <a:lnTo>
                          <a:pt x="37" y="14"/>
                        </a:lnTo>
                        <a:lnTo>
                          <a:pt x="35" y="12"/>
                        </a:lnTo>
                        <a:lnTo>
                          <a:pt x="33" y="8"/>
                        </a:lnTo>
                        <a:lnTo>
                          <a:pt x="31" y="6"/>
                        </a:lnTo>
                        <a:lnTo>
                          <a:pt x="29" y="4"/>
                        </a:lnTo>
                        <a:lnTo>
                          <a:pt x="27" y="2"/>
                        </a:lnTo>
                        <a:lnTo>
                          <a:pt x="23" y="2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4924080" y="5884200"/>
                  <a:ext cx="916200" cy="799560"/>
                  <a:chOff x="4924080" y="5884200"/>
                  <a:chExt cx="916200" cy="79956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 flipH="1">
                    <a:off x="5807880" y="5884200"/>
                    <a:ext cx="320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5668560" y="599832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2"/>
                        </a:lnTo>
                        <a:lnTo>
                          <a:pt x="38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5533560" y="612360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5362200" y="626004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19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8"/>
                        </a:lnTo>
                        <a:lnTo>
                          <a:pt x="4" y="30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4" y="38"/>
                        </a:lnTo>
                        <a:lnTo>
                          <a:pt x="16" y="38"/>
                        </a:lnTo>
                        <a:lnTo>
                          <a:pt x="19" y="38"/>
                        </a:lnTo>
                        <a:lnTo>
                          <a:pt x="23" y="38"/>
                        </a:lnTo>
                        <a:lnTo>
                          <a:pt x="27" y="36"/>
                        </a:lnTo>
                        <a:lnTo>
                          <a:pt x="31" y="36"/>
                        </a:lnTo>
                        <a:lnTo>
                          <a:pt x="33" y="34"/>
                        </a:lnTo>
                        <a:lnTo>
                          <a:pt x="35" y="30"/>
                        </a:lnTo>
                        <a:lnTo>
                          <a:pt x="37" y="26"/>
                        </a:lnTo>
                        <a:lnTo>
                          <a:pt x="39" y="24"/>
                        </a:lnTo>
                        <a:lnTo>
                          <a:pt x="39" y="20"/>
                        </a:lnTo>
                        <a:lnTo>
                          <a:pt x="39" y="16"/>
                        </a:lnTo>
                        <a:lnTo>
                          <a:pt x="37" y="14"/>
                        </a:lnTo>
                        <a:lnTo>
                          <a:pt x="37" y="10"/>
                        </a:lnTo>
                        <a:lnTo>
                          <a:pt x="35" y="8"/>
                        </a:lnTo>
                        <a:lnTo>
                          <a:pt x="33" y="6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5216040" y="6393600"/>
                    <a:ext cx="298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5071680" y="6520680"/>
                    <a:ext cx="302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4924080" y="665388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E7A-6A96-4D5B-AFC0-2ACA3600CEA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16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Diferentes Tipos de Sistemas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01240" y="1371600"/>
            <a:ext cx="825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organização típica tem sistemas em níveis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estratég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geren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d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peracio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ra ca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rea fun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00200" y="2706840"/>
            <a:ext cx="5522760" cy="3038400"/>
          </a:xfrm>
          <a:prstGeom prst="triangle">
            <a:avLst>
              <a:gd name="adj" fmla="val 49995"/>
            </a:avLst>
          </a:prstGeom>
          <a:solidFill>
            <a:srgbClr val="ff8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62480" y="2701800"/>
            <a:ext cx="173520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362480" y="2701800"/>
            <a:ext cx="54144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H="1">
            <a:off x="3819600" y="2701800"/>
            <a:ext cx="54288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2735280" y="2701800"/>
            <a:ext cx="162720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382840" y="5521320"/>
            <a:ext cx="13003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92720" y="5719680"/>
            <a:ext cx="160020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bilid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678120" y="5140440"/>
            <a:ext cx="1300320" cy="36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ç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30560" y="50641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840040" y="43783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49520" y="3692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011240" y="4835520"/>
            <a:ext cx="14637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das e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876920" y="5597640"/>
            <a:ext cx="1218960" cy="64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192720" y="5105520"/>
            <a:ext cx="279900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888160" y="4495680"/>
            <a:ext cx="310356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de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10080" y="3809880"/>
            <a:ext cx="256392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745160" y="3083040"/>
            <a:ext cx="249696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vel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7756560" y="76320"/>
            <a:ext cx="12351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99AC-0C5C-4F58-B63D-83C24D54CB4B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048120" y="2936880"/>
            <a:ext cx="2666880" cy="16351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44840" y="396252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212040" y="1300320"/>
            <a:ext cx="3140640" cy="2283480"/>
            <a:chOff x="212040" y="1300320"/>
            <a:chExt cx="3140640" cy="2283480"/>
          </a:xfrm>
        </p:grpSpPr>
        <p:sp>
          <p:nvSpPr>
            <p:cNvPr id="652" name=""/>
            <p:cNvSpPr/>
            <p:nvPr/>
          </p:nvSpPr>
          <p:spPr>
            <a:xfrm>
              <a:off x="2362320" y="2556000"/>
              <a:ext cx="990360" cy="53316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2040" y="312408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ndas e 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533520" y="1300320"/>
              <a:ext cx="1722240" cy="182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3199320" y="873000"/>
            <a:ext cx="2908800" cy="1946520"/>
            <a:chOff x="3199320" y="873000"/>
            <a:chExt cx="2908800" cy="1946520"/>
          </a:xfrm>
        </p:grpSpPr>
        <p:grpSp>
          <p:nvGrpSpPr>
            <p:cNvPr id="656" name=""/>
            <p:cNvGrpSpPr/>
            <p:nvPr/>
          </p:nvGrpSpPr>
          <p:grpSpPr>
            <a:xfrm>
              <a:off x="3199320" y="873000"/>
              <a:ext cx="2908800" cy="1720440"/>
              <a:chOff x="3199320" y="873000"/>
              <a:chExt cx="2908800" cy="1720440"/>
            </a:xfrm>
          </p:grpSpPr>
          <p:pic>
            <p:nvPicPr>
              <p:cNvPr id="6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733920" y="873000"/>
                <a:ext cx="1736640" cy="13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8" name=""/>
              <p:cNvSpPr/>
              <p:nvPr/>
            </p:nvSpPr>
            <p:spPr>
              <a:xfrm>
                <a:off x="3199320" y="2133720"/>
                <a:ext cx="290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Gerenciamento de R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9" name=""/>
            <p:cNvSpPr/>
            <p:nvPr/>
          </p:nvSpPr>
          <p:spPr>
            <a:xfrm>
              <a:off x="4343400" y="2549520"/>
              <a:ext cx="0" cy="27000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562360" y="1101600"/>
            <a:ext cx="3175200" cy="2329920"/>
            <a:chOff x="5562360" y="1101600"/>
            <a:chExt cx="3175200" cy="2329920"/>
          </a:xfrm>
        </p:grpSpPr>
        <p:grpSp>
          <p:nvGrpSpPr>
            <p:cNvPr id="661" name=""/>
            <p:cNvGrpSpPr/>
            <p:nvPr/>
          </p:nvGrpSpPr>
          <p:grpSpPr>
            <a:xfrm>
              <a:off x="6629400" y="1101600"/>
              <a:ext cx="2108160" cy="2329920"/>
              <a:chOff x="6629400" y="1101600"/>
              <a:chExt cx="2108160" cy="2329920"/>
            </a:xfrm>
          </p:grpSpPr>
          <p:pic>
            <p:nvPicPr>
              <p:cNvPr id="6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9400" y="1101600"/>
                <a:ext cx="2108160" cy="187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3" name=""/>
              <p:cNvSpPr/>
              <p:nvPr/>
            </p:nvSpPr>
            <p:spPr>
              <a:xfrm>
                <a:off x="6780240" y="2971800"/>
                <a:ext cx="189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tabilida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 flipH="1">
              <a:off x="5562360" y="2708280"/>
              <a:ext cx="1066680" cy="45720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715000" y="3962520"/>
            <a:ext cx="3059280" cy="2364480"/>
            <a:chOff x="5715000" y="3962520"/>
            <a:chExt cx="3059280" cy="2364480"/>
          </a:xfrm>
        </p:grpSpPr>
        <p:graphicFrame>
          <p:nvGraphicFramePr>
            <p:cNvPr id="666" name=""/>
            <p:cNvGraphicFramePr/>
            <p:nvPr/>
          </p:nvGraphicFramePr>
          <p:xfrm>
            <a:off x="6934320" y="3962520"/>
            <a:ext cx="1839960" cy="17524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934320" y="3962520"/>
                      <a:ext cx="183996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8" name=""/>
            <p:cNvSpPr/>
            <p:nvPr/>
          </p:nvSpPr>
          <p:spPr>
            <a:xfrm>
              <a:off x="7163280" y="5867280"/>
              <a:ext cx="12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inanç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715000" y="4343400"/>
              <a:ext cx="1066680" cy="76212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457200" y="3886200"/>
            <a:ext cx="2895480" cy="2440800"/>
            <a:chOff x="457200" y="3886200"/>
            <a:chExt cx="2895480" cy="2440800"/>
          </a:xfrm>
        </p:grpSpPr>
        <p:pic>
          <p:nvPicPr>
            <p:cNvPr id="671" name="" descr=""/>
            <p:cNvPicPr/>
            <p:nvPr/>
          </p:nvPicPr>
          <p:blipFill>
            <a:blip r:embed="rId6"/>
            <a:stretch/>
          </p:blipFill>
          <p:spPr>
            <a:xfrm>
              <a:off x="457200" y="3886200"/>
              <a:ext cx="190332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685440" y="5867280"/>
              <a:ext cx="15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bric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2438280" y="4419720"/>
              <a:ext cx="914400" cy="76176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916080" y="4648320"/>
            <a:ext cx="1798920" cy="1678680"/>
            <a:chOff x="3916080" y="4648320"/>
            <a:chExt cx="1798920" cy="1678680"/>
          </a:xfrm>
        </p:grpSpPr>
        <p:grpSp>
          <p:nvGrpSpPr>
            <p:cNvPr id="675" name=""/>
            <p:cNvGrpSpPr/>
            <p:nvPr/>
          </p:nvGrpSpPr>
          <p:grpSpPr>
            <a:xfrm>
              <a:off x="3916080" y="4724280"/>
              <a:ext cx="1798920" cy="1602720"/>
              <a:chOff x="3916080" y="4724280"/>
              <a:chExt cx="1798920" cy="1602720"/>
            </a:xfrm>
          </p:grpSpPr>
          <p:sp>
            <p:nvSpPr>
              <p:cNvPr id="676" name=""/>
              <p:cNvSpPr/>
              <p:nvPr/>
            </p:nvSpPr>
            <p:spPr>
              <a:xfrm>
                <a:off x="3916080" y="5867280"/>
                <a:ext cx="157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ngenhar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968640" y="4724280"/>
                <a:ext cx="1746360" cy="1135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8" name=""/>
            <p:cNvSpPr/>
            <p:nvPr/>
          </p:nvSpPr>
          <p:spPr>
            <a:xfrm>
              <a:off x="4419720" y="4648320"/>
              <a:ext cx="0" cy="30456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3581280" y="3092400"/>
            <a:ext cx="161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36440" y="-76320"/>
            <a:ext cx="893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para cada Área Funcion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E536-7BA7-4D2E-8EBB-D3E309407DC4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rganização - Principais Funções Organizaciona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ndas 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85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nder os produtos e serviços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duzir produto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n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85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ministrar os recursos financeiros da organização (dinheiro, estoque, hipotecas, et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ter os registros financeiros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85000"/>
              </a:lnSpc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rair, desenvolver e manter a força de trabalh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7715160" y="239760"/>
            <a:ext cx="1225800" cy="151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EA39-4BB9-42B6-980C-C848D8639431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3352680" y="4014720"/>
            <a:ext cx="2362320" cy="1981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276720" y="3786120"/>
            <a:ext cx="2361960" cy="1981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00400" y="3557520"/>
            <a:ext cx="2362320" cy="19814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786120"/>
            <a:ext cx="210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stema de Informação Financ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1360" y="1920960"/>
            <a:ext cx="2454120" cy="3305160"/>
            <a:chOff x="441360" y="1920960"/>
            <a:chExt cx="2454120" cy="3305160"/>
          </a:xfrm>
        </p:grpSpPr>
        <p:sp>
          <p:nvSpPr>
            <p:cNvPr id="689" name=""/>
            <p:cNvSpPr/>
            <p:nvPr/>
          </p:nvSpPr>
          <p:spPr>
            <a:xfrm>
              <a:off x="2133720" y="4130640"/>
              <a:ext cx="761760" cy="60948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1"/>
            <a:stretch/>
          </p:blipFill>
          <p:spPr>
            <a:xfrm>
              <a:off x="533520" y="1920960"/>
              <a:ext cx="2286000" cy="227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41360" y="4400640"/>
              <a:ext cx="2073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renciamento do Capi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046320" y="771480"/>
            <a:ext cx="2876760" cy="2657520"/>
            <a:chOff x="3046320" y="771480"/>
            <a:chExt cx="2876760" cy="2657520"/>
          </a:xfrm>
        </p:grpSpPr>
        <p:pic>
          <p:nvPicPr>
            <p:cNvPr id="693" name="" descr=""/>
            <p:cNvPicPr/>
            <p:nvPr/>
          </p:nvPicPr>
          <p:blipFill>
            <a:blip r:embed="rId2"/>
            <a:stretch/>
          </p:blipFill>
          <p:spPr>
            <a:xfrm>
              <a:off x="3581280" y="771480"/>
              <a:ext cx="229248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3046320" y="2666880"/>
              <a:ext cx="28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çamento e Previs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343400" y="3139920"/>
              <a:ext cx="0" cy="289080"/>
            </a:xfrm>
            <a:prstGeom prst="line">
              <a:avLst/>
            </a:prstGeom>
            <a:ln w="572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131760" y="212760"/>
            <a:ext cx="81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para Finanç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6110640" y="2149560"/>
            <a:ext cx="2804760" cy="3187440"/>
            <a:chOff x="6110640" y="2149560"/>
            <a:chExt cx="2804760" cy="3187440"/>
          </a:xfrm>
        </p:grpSpPr>
        <p:sp>
          <p:nvSpPr>
            <p:cNvPr id="698" name=""/>
            <p:cNvSpPr/>
            <p:nvPr/>
          </p:nvSpPr>
          <p:spPr>
            <a:xfrm>
              <a:off x="6858000" y="451152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álise de Investimen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9" name="" descr=""/>
            <p:cNvPicPr/>
            <p:nvPr/>
          </p:nvPicPr>
          <p:blipFill>
            <a:blip r:embed="rId3"/>
            <a:stretch/>
          </p:blipFill>
          <p:spPr>
            <a:xfrm>
              <a:off x="6477120" y="2149560"/>
              <a:ext cx="2438280" cy="222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 flipV="1">
              <a:off x="6110640" y="4173480"/>
              <a:ext cx="732600" cy="644040"/>
            </a:xfrm>
            <a:prstGeom prst="line">
              <a:avLst/>
            </a:prstGeom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095-10A2-4563-9197-09F27C86C449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Organização - Procedimentos de Operações Padrões (SOPs)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467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imentos de Operações Padrões são regr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is para a compreensão das tarefas a serem realiz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regras orientam os empregados em vários 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itos procedimentos são formalizados e escritos, muito outros são práticas informais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itos Procedimentos de Operações Padrões de uma organização são incorporados em Sistemas de Inform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7777080" y="163440"/>
            <a:ext cx="1163880" cy="14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33A-7104-4732-B4A8-4C353B312ED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7784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rganização - Diferentes tipos de Pessoas e Habilidad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organizações requerem diferentes tipos de pessoas com diferentes ha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knowledge worker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 pessoas que projetam produtos e serviços e criam conhecimento para a organiz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Ex: engenheiros, arquitetos ou cientist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data worker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ssoas que processam o trabalho escrito da organização (Ex: secretárias, arquivista, escriturá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service workers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ssoas que produzem os produtos e serviços da organização (Ex: maquinistas, montadores, empacotado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7777080" y="163440"/>
            <a:ext cx="1163880" cy="143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A3A9-C662-4656-95E6-D96623F44C98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rganização - Cultura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ltu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njunto fundamental de suposições, valores 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iras de fazer as coisas,  que foram aceitas pe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oria dos membros d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e da cultura da organização pode ser encontrada embutida em seus sistemas de informação (Ex: dar prioridade aos serviços dos clientes pode ser encontrado em um sistema de acompanhamento de pacotes da empre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7756560" y="76320"/>
            <a:ext cx="123516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E17-C6A5-44FE-9013-D41DA417658C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rganização - Política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696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olítica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ferentes níveis e especialidades em uma organização criam diferentes interesses e pontos de v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as visões conflitam frequentemente. Esses conflitos são a base para as políticas organizacio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Sistemas de Informação resultam de conjunto de diferentes perspectivas, conflitos, compromissos e acordos que são parte natural de to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7880400" y="76320"/>
            <a:ext cx="11113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C1F-F81B-4359-A433-4C62FE6F1EA0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s Sistemas de Informação vistos por uma Perspectiva de Negóci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629400" y="54864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3505320" y="3581280"/>
            <a:ext cx="2209320" cy="1797120"/>
            <a:chOff x="3505320" y="3581280"/>
            <a:chExt cx="2209320" cy="1797120"/>
          </a:xfrm>
        </p:grpSpPr>
        <p:sp>
          <p:nvSpPr>
            <p:cNvPr id="716" name=""/>
            <p:cNvSpPr/>
            <p:nvPr/>
          </p:nvSpPr>
          <p:spPr>
            <a:xfrm>
              <a:off x="3657600" y="3733560"/>
              <a:ext cx="2057040" cy="16448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3581280"/>
              <a:ext cx="2057040" cy="16444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643200" y="3809880"/>
              <a:ext cx="176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mas  de 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3962520" y="5715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10080" y="2803680"/>
            <a:ext cx="758880" cy="607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6168960" y="3411360"/>
            <a:ext cx="2517840" cy="19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232C-F7CC-4A44-8180-E9537339D12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u Skin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: Das colheres de Chá aos Satélite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nvolvimento de aplicação para traduzir os pedidos em várias língu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envolveu VIP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Voice Information Progra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: voice mail, fax, telefone para conectar os distribuidores aos seus subordin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usiness Car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: distribuidores em perspectiva chamam um numero 800 e escutam fita com as oportunidades de negócio da Nu Skin. O sistema guarda o fone que chamou e o distribuidor retorna a lig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061-A35F-4FCB-B472-75EDAFCC3851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87627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Gerenciamento - Introdu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gerentes percebem os desafios de negócio n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mbiente; apresentam as estratégias organizacion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responder a esses desafios e alocam recursos financeiros e humanos para atingir a estratégia e coordenar o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gerentes têm também a responsabilidade de chef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gerentes devem criar novos produtos, serviços e até re-criar a organização de tempos em t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gerentes devem direcionar trabalhos criativos usando novo conhecimento e informação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tecnologia da informação  tem um papel importante no redirecionamento e reprojeto d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7184880" y="317520"/>
            <a:ext cx="16542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902-2ED2-46E4-B4D7-EE70AEB8EA60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Gerenciamento - Tipos de 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Gerentes em diferentes níve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28600" y="1375920"/>
            <a:ext cx="876312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diferentes níveis em um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em diferentes gerências para cada n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76000" y="3036960"/>
            <a:ext cx="21556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ência Sên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75880" y="3860640"/>
            <a:ext cx="42436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ência Média ou Intermedi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82960" y="4699080"/>
            <a:ext cx="41644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balhadores do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87240" y="5486400"/>
            <a:ext cx="47070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ionários da Produção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" y="2666880"/>
            <a:ext cx="3505320" cy="350532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09480" y="5486400"/>
            <a:ext cx="272268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38080" y="4724280"/>
            <a:ext cx="228600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3886200"/>
            <a:ext cx="177336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19320" y="3048120"/>
            <a:ext cx="1600200" cy="4597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616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8490-8154-45A6-97A7-D271CD4EF383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Gerenciamento - Tipos de 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Gerent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os de G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ência sêni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essoas que ocupam os mais altos níveis de hierarquia da organização e tomam decisões estratégicas de longo prazo sobre produtos e serviços a produz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ência méd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pessoas que ocupam níveis médios da hierarquia da organização e executam os programas e planos do gerentes sêniores supervisionando empre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balhadores do Conheciment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s que desenvolvem o produto ou o serviço (como engenheiros) e administram os documentos associados com a empresa (como secretári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cionários de Produ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u serviços, que efetivamente produzem os produtos  ou serviços  de uma organização - as atividades diárias d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676160" cy="13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BD2-D62A-4856-B25B-BB439911B0D3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s Sistemas de Informação vistos por uma Perspectiva de Negóci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5257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nologia   da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81280"/>
            <a:ext cx="2209320" cy="1797120"/>
            <a:chOff x="3505320" y="3581280"/>
            <a:chExt cx="2209320" cy="1797120"/>
          </a:xfrm>
        </p:grpSpPr>
        <p:sp>
          <p:nvSpPr>
            <p:cNvPr id="743" name=""/>
            <p:cNvSpPr/>
            <p:nvPr/>
          </p:nvSpPr>
          <p:spPr>
            <a:xfrm>
              <a:off x="3657600" y="3733560"/>
              <a:ext cx="2057040" cy="164484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581280"/>
              <a:ext cx="2057040" cy="1644480"/>
            </a:xfrm>
            <a:prstGeom prst="ellipse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43200" y="3809880"/>
              <a:ext cx="176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mas  de Infor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 flipH="1">
            <a:off x="2590920" y="2949480"/>
            <a:ext cx="76176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962520" y="5715000"/>
            <a:ext cx="1150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439640" cy="152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ED8-7DC1-4CB6-9D26-2F824DD4F70F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Tecnologia - Introdu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2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a Informação é uma das principais ferramentas disponíveis aos gerentes para enfrentar as mudanç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a Informação é o instrumento que mantém a organização un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armaze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telecomun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551720" y="76320"/>
            <a:ext cx="14400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59D-884F-4322-81BE-4B3572C4FA9C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609480" y="4572000"/>
            <a:ext cx="4343400" cy="457200"/>
          </a:xfrm>
          <a:prstGeom prst="flowChartAlternateProcess">
            <a:avLst/>
          </a:prstGeom>
          <a:solidFill>
            <a:srgbClr val="ff898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4114800"/>
            <a:ext cx="4038840" cy="457200"/>
          </a:xfrm>
          <a:prstGeom prst="flowChartAlternateProcess">
            <a:avLst/>
          </a:prstGeom>
          <a:solidFill>
            <a:srgbClr val="ff898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9480" y="3657600"/>
            <a:ext cx="1676520" cy="457200"/>
          </a:xfrm>
          <a:prstGeom prst="flowChartAlternateProcess">
            <a:avLst/>
          </a:prstGeom>
          <a:solidFill>
            <a:srgbClr val="ff898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3200400"/>
            <a:ext cx="1676520" cy="457200"/>
          </a:xfrm>
          <a:prstGeom prst="flowChartAlternateProcess">
            <a:avLst/>
          </a:prstGeom>
          <a:solidFill>
            <a:srgbClr val="ff898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Tecnologia - Introdu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32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a Informação é uma das principais ferramentas disponíveis aos gerentes para enfrentar as mudanç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a Informação é o instrumento que mantém a organização un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armaze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nologia de telecomun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i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551720" y="76320"/>
            <a:ext cx="1440000" cy="15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9E8-934C-4461-8BF5-F56ADC53144A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304920" y="3048120"/>
            <a:ext cx="868680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87878"/>
              </a:gs>
              <a:gs pos="50000">
                <a:srgbClr val="ffa7a7"/>
              </a:gs>
              <a:gs pos="100000">
                <a:srgbClr val="b8787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Fundamentos Organizacionais de Sistemas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de 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rspectiva técnica e comportamen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s Sistemas de Informação, com especial atenção às dimensões administrativas, organizacionais e tecnológicas nos Sistemas de Inform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dança do Processo de Gerenciamento,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Sistemas de Informação têm nas organizações, su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ecessidade de planeja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Sistemas de Informação para os administradores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Informação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0BF-D168-4F3C-BCC7-2FCC33BD87DF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s no Processo de Gerenciamento: Organizações e SI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cente interdependência entre organização e SI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cionamento de SI e organizações resultante da crescente complexidade e escopo dos sistemas e apl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2286000"/>
            <a:ext cx="3276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Estratégias de negó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Reg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imes New Roman"/>
              </a:rPr>
              <a:t>Procedi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43400" y="2286000"/>
            <a:ext cx="3809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s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4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3E9-7F93-4F44-A909-1DC3696D64B5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533160" y="2209320"/>
            <a:ext cx="7924680" cy="33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 sistemas atuais existe uma crescen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tre estratégias, regras e procedimentos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góc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ganizacionais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de 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 qualquer um desses component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terações nos outros compon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scen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declínio 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nologia de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mentam o papel dos sistemas nas   organiz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 Interdependência entre 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 Organização e os Sistemas</a:t>
            </a:r>
            <a:br>
              <a:rPr sz="4000"/>
            </a:b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6838920" y="228600"/>
            <a:ext cx="2139840" cy="1162080"/>
            <a:chOff x="6838920" y="228600"/>
            <a:chExt cx="2139840" cy="1162080"/>
          </a:xfrm>
        </p:grpSpPr>
        <p:sp>
          <p:nvSpPr>
            <p:cNvPr id="769" name=""/>
            <p:cNvSpPr/>
            <p:nvPr/>
          </p:nvSpPr>
          <p:spPr>
            <a:xfrm>
              <a:off x="6897600" y="228600"/>
              <a:ext cx="833400" cy="1162080"/>
            </a:xfrm>
            <a:prstGeom prst="rect">
              <a:avLst/>
            </a:prstGeom>
            <a:solidFill>
              <a:srgbClr val="c0d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38920" y="533520"/>
              <a:ext cx="1117440" cy="76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BUSIN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Estratég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egr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Procediment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15160" y="228600"/>
              <a:ext cx="1263600" cy="1162080"/>
            </a:xfrm>
            <a:prstGeom prst="rect">
              <a:avLst/>
            </a:prstGeom>
            <a:solidFill>
              <a:srgbClr val="f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24760" y="228600"/>
              <a:ext cx="1662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cc3300"/>
                  </a:solidFill>
                  <a:latin typeface="Arial"/>
                </a:rPr>
                <a:t>INTERDEPENDÊNC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19960" y="517680"/>
              <a:ext cx="628560" cy="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37280" y="762120"/>
              <a:ext cx="31752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254800" y="619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54800" y="61920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8254800" y="12286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254800" y="923760"/>
              <a:ext cx="2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8407440" y="457200"/>
              <a:ext cx="31752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407440" y="762120"/>
              <a:ext cx="317520" cy="210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8407440" y="1066680"/>
              <a:ext cx="317520" cy="211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2" name=""/>
          <p:cNvGraphicFramePr/>
          <p:nvPr/>
        </p:nvGraphicFramePr>
        <p:xfrm>
          <a:off x="7731000" y="4267080"/>
          <a:ext cx="993960" cy="17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31000" y="4267080"/>
                    <a:ext cx="9939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6AE-CC77-4B34-8650-ED050275E470}" type="slidenum">
              <a:t>48</a:t>
            </a:fld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EB38-1367-4D3E-98BC-949A7FAA7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4560" y="36000"/>
            <a:ext cx="8135640" cy="125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terdependência entre a Organização e o Sistemas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380880" y="1600200"/>
            <a:ext cx="8442360" cy="4419720"/>
            <a:chOff x="380880" y="1600200"/>
            <a:chExt cx="8442360" cy="4419720"/>
          </a:xfrm>
        </p:grpSpPr>
        <p:sp>
          <p:nvSpPr>
            <p:cNvPr id="787" name=""/>
            <p:cNvSpPr/>
            <p:nvPr/>
          </p:nvSpPr>
          <p:spPr>
            <a:xfrm>
              <a:off x="380880" y="1600200"/>
              <a:ext cx="2819520" cy="4419720"/>
            </a:xfrm>
            <a:prstGeom prst="rect">
              <a:avLst/>
            </a:prstGeom>
            <a:solidFill>
              <a:srgbClr val="c0d2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25320" y="2679840"/>
              <a:ext cx="2360880" cy="17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Estratég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Reg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Procedim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28560" y="5397480"/>
              <a:ext cx="2435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ORGANIZ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84560" y="1600200"/>
              <a:ext cx="5638680" cy="4419720"/>
            </a:xfrm>
            <a:prstGeom prst="rect">
              <a:avLst/>
            </a:prstGeom>
            <a:solidFill>
              <a:srgbClr val="ff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740120" y="5397480"/>
              <a:ext cx="388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00"/>
                  </a:solidFill>
                  <a:latin typeface="Arial"/>
                </a:rPr>
                <a:t>SISTEMAS DE INFORMAÇÃ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57800" y="231156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57800" y="337824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257800" y="452124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257800" y="2311560"/>
              <a:ext cx="0" cy="2209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6102360" y="1784520"/>
              <a:ext cx="2011320" cy="977760"/>
              <a:chOff x="6102360" y="1784520"/>
              <a:chExt cx="2011320" cy="977760"/>
            </a:xfrm>
          </p:grpSpPr>
          <p:sp>
            <p:nvSpPr>
              <p:cNvPr id="797" name=""/>
              <p:cNvSpPr/>
              <p:nvPr/>
            </p:nvSpPr>
            <p:spPr>
              <a:xfrm>
                <a:off x="6102360" y="1784520"/>
                <a:ext cx="196848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288120" y="2084400"/>
                <a:ext cx="18255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3282840" y="2895480"/>
              <a:ext cx="1968480" cy="978120"/>
              <a:chOff x="3282840" y="2895480"/>
              <a:chExt cx="1968480" cy="978120"/>
            </a:xfrm>
          </p:grpSpPr>
          <p:sp>
            <p:nvSpPr>
              <p:cNvPr id="800" name=""/>
              <p:cNvSpPr/>
              <p:nvPr/>
            </p:nvSpPr>
            <p:spPr>
              <a:xfrm>
                <a:off x="3282840" y="2895480"/>
                <a:ext cx="196848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30440" y="3195720"/>
                <a:ext cx="1673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SOFT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2" name=""/>
            <p:cNvSpPr/>
            <p:nvPr/>
          </p:nvSpPr>
          <p:spPr>
            <a:xfrm>
              <a:off x="6102360" y="2913120"/>
              <a:ext cx="196848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402240" y="3073320"/>
              <a:ext cx="15973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 DE D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5568840" y="4070520"/>
              <a:ext cx="3111480" cy="977760"/>
              <a:chOff x="5568840" y="4070520"/>
              <a:chExt cx="3111480" cy="977760"/>
            </a:xfrm>
          </p:grpSpPr>
          <p:sp>
            <p:nvSpPr>
              <p:cNvPr id="805" name=""/>
              <p:cNvSpPr/>
              <p:nvPr/>
            </p:nvSpPr>
            <p:spPr>
              <a:xfrm>
                <a:off x="5568840" y="4070520"/>
                <a:ext cx="311148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69080" y="4141800"/>
                <a:ext cx="26636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ELE-COMUNICAÇÕ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" name=""/>
            <p:cNvSpPr/>
            <p:nvPr/>
          </p:nvSpPr>
          <p:spPr>
            <a:xfrm>
              <a:off x="1698480" y="1754280"/>
              <a:ext cx="3502080" cy="45468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Arial"/>
                </a:rPr>
                <a:t>INTERDEPENDÊ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57280" y="2286000"/>
              <a:ext cx="1575000" cy="0"/>
            </a:xfrm>
            <a:prstGeom prst="line">
              <a:avLst/>
            </a:prstGeom>
            <a:ln w="10152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 flipV="1">
            <a:off x="8001000" y="1599840"/>
            <a:ext cx="0" cy="12985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0000"/>
                </a:solidFill>
                <a:latin typeface="Times New Roman"/>
              </a:rPr>
              <a:t>Nu Skin International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78000" y="3236760"/>
            <a:ext cx="1671840" cy="121932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8400" y="1495440"/>
            <a:ext cx="1671480" cy="124776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78000" y="4818240"/>
            <a:ext cx="1671840" cy="12776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70360" y="3271680"/>
            <a:ext cx="133668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03920" y="3402000"/>
            <a:ext cx="1136160" cy="777600"/>
            <a:chOff x="4903920" y="3402000"/>
            <a:chExt cx="1136160" cy="777600"/>
          </a:xfrm>
        </p:grpSpPr>
        <p:sp>
          <p:nvSpPr>
            <p:cNvPr id="65" name=""/>
            <p:cNvSpPr/>
            <p:nvPr/>
          </p:nvSpPr>
          <p:spPr>
            <a:xfrm>
              <a:off x="4903920" y="34020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04960" y="3661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06000" y="3985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06000" y="34020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03920" y="3985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70960" y="353160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73400" y="354780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04440" y="3466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572440" y="3531600"/>
              <a:ext cx="200520" cy="19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137560" y="3790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538960" y="3790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51480" y="1066680"/>
            <a:ext cx="154440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f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resa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10520" y="3271680"/>
            <a:ext cx="133668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577280" y="3402000"/>
            <a:ext cx="667800" cy="842760"/>
            <a:chOff x="7577280" y="3402000"/>
            <a:chExt cx="667800" cy="842760"/>
          </a:xfrm>
        </p:grpSpPr>
        <p:sp>
          <p:nvSpPr>
            <p:cNvPr id="79" name=""/>
            <p:cNvSpPr/>
            <p:nvPr/>
          </p:nvSpPr>
          <p:spPr>
            <a:xfrm>
              <a:off x="7577280" y="34020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10480" y="35316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44400" y="36612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849840" y="3855960"/>
            <a:ext cx="92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07040" y="3855960"/>
            <a:ext cx="12034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10080" y="4309560"/>
            <a:ext cx="0" cy="110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49840" y="5413320"/>
            <a:ext cx="159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48240" y="2234520"/>
            <a:ext cx="0" cy="84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2235240"/>
            <a:ext cx="16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106680" y="1623960"/>
            <a:ext cx="18716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1600200"/>
            <a:ext cx="0" cy="403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114440" y="1623960"/>
            <a:ext cx="4366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68560" y="293220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Tecnol.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1560" y="45133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rga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7480" y="121932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renci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8640" y="300528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e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19000" y="30052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ções 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4419720"/>
            <a:ext cx="3008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nsolidar Compensação para os 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municação com o mu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oordenar Rede de Distribui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crutar 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29000" y="3341520"/>
            <a:ext cx="98100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335320" y="4818240"/>
            <a:ext cx="1322280" cy="1242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71600" y="1689120"/>
            <a:ext cx="1349640" cy="1054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4799160"/>
            <a:ext cx="19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idores e subordin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00" y="1405080"/>
            <a:ext cx="194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a Rede de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00" y="3008160"/>
            <a:ext cx="194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até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oic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880" y="380880"/>
            <a:ext cx="229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s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ursos financeiros limi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69000" y="1827360"/>
            <a:ext cx="2389320" cy="91692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tenção da rede de distribui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ansão do 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141-83AD-43E3-9DDA-2E7FA96B3FEC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7505640" y="5486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23880" y="486108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5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486108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0s  -  197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019920" y="4861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80s   - 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Com o tempo os Sis vem tendo um importante papel na vida das organizaçõ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90720" y="2651040"/>
            <a:ext cx="1981080" cy="2149560"/>
          </a:xfrm>
          <a:prstGeom prst="rect">
            <a:avLst/>
          </a:prstGeom>
          <a:solidFill>
            <a:srgbClr val="ffc3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371600" y="3032280"/>
            <a:ext cx="1143000" cy="761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676520" y="3260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143000" y="40226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ações T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026360" y="20574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5320" y="2651040"/>
            <a:ext cx="1981080" cy="2149560"/>
          </a:xfrm>
          <a:prstGeom prst="rect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809880" y="2803680"/>
            <a:ext cx="137160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886200" y="40384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trole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72360" y="2057400"/>
            <a:ext cx="16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 Geren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019920" y="2651040"/>
            <a:ext cx="1981080" cy="214956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95880" y="2727360"/>
            <a:ext cx="175284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172200" y="38098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ividades Núcleo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085800" y="2057400"/>
            <a:ext cx="181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 Estraté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7200" y="5486400"/>
            <a:ext cx="82296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91120" y="31082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553080" y="3002040"/>
            <a:ext cx="8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B16-AAC3-4C7E-9908-F9D08BE25EBA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0" name=""/>
          <p:cNvGraphicFramePr/>
          <p:nvPr/>
        </p:nvGraphicFramePr>
        <p:xfrm>
          <a:off x="4572000" y="281448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1448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5760" indent="0">
              <a:lnSpc>
                <a:spcPct val="165000"/>
              </a:lnSpc>
              <a:spcBef>
                <a:spcPts val="33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oluçã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1950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Maquinas Eletrô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1960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partamentos de Processament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1970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istemas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1980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istemas de Informação &amp;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1990s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mpla Utilização de Informação pelas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795-A46D-418B-92EF-EF5C124B9C53}" type="slidenum">
              <a:t>51</a:t>
            </a:fld>
          </a:p>
        </p:txBody>
      </p:sp>
    </p:spTree>
  </p:cSld>
  <p:transition>
    <p:cover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77560" y="31716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950-1960: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 no papel do “dragã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 era um “mal necessário” associado com a burocracia do projeto, manufatura, e distribuição de um produto ou servi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 podia sufocar a empresa e impedi-la de realizar seu trabalho r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jetivo era redução do custo de processamento de papel, especialmente  da con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pt-BR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istema de Informação: EAM (máquinas de contabilidade eletrônicas) - propósito: aumentar a velocidade de processamento da cont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termo EDP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letronic data processin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vem deste perí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A39-7AC1-49AF-AC6F-856441F8F43D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24768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0-1970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 para Suporte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a visão da informação: uso n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orte ao gerenciamento g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ados de Sistemas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 Gerenci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ábrica de informaçõ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 forma de relatórios: produção semanal, informação financeira mensal, inventário, contas a receber, contas a pagar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realizar tarefas: empresas adquiria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adores de propósito g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permitiam apoiar várias fun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247320" y="275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5D2D-0CE1-4150-AA45-B3F4FAF4CCD7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-1980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 para Gere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eram vistos como coletores, armazenadores e processadores de informação para o controle gerencial de toda 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gimento d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de Suporte à Decis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SS) 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de Suporte Executiv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horar e agilizar o processo de tomada de decisão de gerentes e executivos na solução de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title"/>
          </p:nvPr>
        </p:nvSpPr>
        <p:spPr>
          <a:xfrm>
            <a:off x="247320" y="275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A907-ABF8-49B5-BBCC-2A2F482814E6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299520" y="1447920"/>
            <a:ext cx="80010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5-hoje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 como Recurso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ção vista como recurso estratég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nte potencial de vantagem competitiva e arma estratégica frente à concor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ominados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Estratég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rantir a sobrevivência e a prosperidade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de Informação Estratég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são diferentes de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stemas de informação em Nível Estratég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pois podem ser utilizados em diferentes níveis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title"/>
          </p:nvPr>
        </p:nvSpPr>
        <p:spPr>
          <a:xfrm>
            <a:off x="248760" y="266400"/>
            <a:ext cx="8656920" cy="1028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35A-9541-499A-98AD-B121EA3DA3E3}" type="slidenum">
              <a:t>55</a:t>
            </a:fld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bordagens Contemporâneas para S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dag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écni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dagem matemática e modelos norm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as: ciência da computação, ciência do gerenciamento e pesquisa ope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rdag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rtament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s comportamentais que não podem ser expressos com modelos norm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iplinas: sociologia, ciência polílica e psic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DEC-C22C-45F8-9E8D-F578F513BEE7}" type="slidenum">
              <a:t>56</a:t>
            </a:fld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2F01-57F7-4F76-83E6-55290572B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bordagens dos Sistemas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12800" y="2743200"/>
            <a:ext cx="6616800" cy="2819520"/>
          </a:xfrm>
          <a:prstGeom prst="ellipse">
            <a:avLst/>
          </a:prstGeom>
          <a:solidFill>
            <a:srgbClr val="bbf9b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943600" y="3975120"/>
            <a:ext cx="2133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CI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581280" y="4730760"/>
            <a:ext cx="3129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Ê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13040" y="4222800"/>
            <a:ext cx="1820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SIC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1676520"/>
            <a:ext cx="6781680" cy="2363760"/>
          </a:xfrm>
          <a:prstGeom prst="ellipse">
            <a:avLst/>
          </a:prstGeom>
          <a:solidFill>
            <a:srgbClr val="c9d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975040" y="1828800"/>
            <a:ext cx="29685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ÊNCIA DA COMPU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486400" y="2286000"/>
            <a:ext cx="2359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146240" y="2514600"/>
            <a:ext cx="2435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ÊNCIA DA ADMINIST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205000" y="1951200"/>
            <a:ext cx="5033880" cy="3173400"/>
          </a:xfrm>
          <a:custGeom>
            <a:avLst/>
            <a:gdLst/>
            <a:ahLst/>
            <a:rect l="l" t="t" r="r" b="b"/>
            <a:pathLst>
              <a:path w="4056" h="2152">
                <a:moveTo>
                  <a:pt x="0" y="0"/>
                </a:moveTo>
                <a:lnTo>
                  <a:pt x="4056" y="215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123360" y="1828800"/>
            <a:ext cx="2971800" cy="3524400"/>
          </a:xfrm>
          <a:custGeom>
            <a:avLst/>
            <a:gdLst/>
            <a:ahLst/>
            <a:rect l="l" t="t" r="r" b="b"/>
            <a:pathLst>
              <a:path w="648" h="2968">
                <a:moveTo>
                  <a:pt x="0" y="0"/>
                </a:moveTo>
                <a:lnTo>
                  <a:pt x="648" y="296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52280" y="1131840"/>
            <a:ext cx="2320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BORDAGEM TÉC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98920" y="5353200"/>
            <a:ext cx="4645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BORDAGEM COMPORTA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2680" y="2895480"/>
            <a:ext cx="3048120" cy="1422360"/>
          </a:xfrm>
          <a:prstGeom prst="ellipse">
            <a:avLst/>
          </a:prstGeom>
          <a:gradFill rotWithShape="0">
            <a:gsLst>
              <a:gs pos="0">
                <a:srgbClr val="bbf9b1"/>
              </a:gs>
              <a:gs pos="100000">
                <a:srgbClr val="618f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49840" y="3276720"/>
            <a:ext cx="22460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Sistemas de Informação atuais exigem que o administrado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reenda</a:t>
            </a:r>
            <a:r>
              <a:rPr b="0" lang="pt-BR" sz="24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cnologias de inform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saiba como acompanha-las, planeja-las e administra-las da maneira m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dequad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a organiz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administradores também devem saber reconhece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s organizacionai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encontra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s de sol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isso, é necessário conhece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e Informaçã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 Necessidade de Planejar a Arquitetura de Informação de uma Organiz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A867-8D79-467B-9435-4C6FC1EC77BD}" type="slidenum">
              <a:t>58</a:t>
            </a:fld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a forma que a tecnologia da informação pode ser usada em uma organização para atingir metas ou funções selecion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dministr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cada vez mais têm u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a determinação da arquitetura de informaçã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dministrador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ecessitam d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hecimento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d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tendimento organizacion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para a modelagem da arquitetura de informaçã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Arquitetura de Informação da Organiz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F73-27D2-45A5-8075-14EC710F465B}" type="slidenum">
              <a:t>59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Nu Skin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: Das colheres de Chá aos Satélite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clus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286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nfiança d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Nu Skin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os Sistemas de Informação para direcionar suas operações básicas demonstra como os Sistemas de Informação podem ajudar tanto as pequenas como as grandes empresas a competir no ambiente de negócios globalizados de ho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286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u Skin estendeu seu alcance para locais distantes, ofereceu novos produtos e serviços, remodelou serviços e fluxo de trabalho e alterou a maneira de conduzir os negóc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2EB6-0A10-45ED-9796-E8F8FA90BBA8}" type="slidenum">
              <a:t>6</a:t>
            </a:fld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3200400" y="1227240"/>
            <a:ext cx="2057400" cy="761760"/>
          </a:xfrm>
          <a:prstGeom prst="flowChartAlternateProcess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43200" y="2217600"/>
            <a:ext cx="2971800" cy="762120"/>
          </a:xfrm>
          <a:prstGeom prst="flowChartAlternateProcess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057400" y="3208320"/>
            <a:ext cx="4191120" cy="762120"/>
          </a:xfrm>
          <a:prstGeom prst="flowChartAlternateProcess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43000" y="4122720"/>
            <a:ext cx="5943600" cy="762120"/>
          </a:xfrm>
          <a:prstGeom prst="flowChartAlternateProcess">
            <a:avLst/>
          </a:prstGeom>
          <a:solidFill>
            <a:srgbClr val="ffc3c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rot="20529000">
            <a:off x="4955760" y="914040"/>
            <a:ext cx="1521000" cy="4229280"/>
          </a:xfrm>
          <a:prstGeom prst="triangle">
            <a:avLst>
              <a:gd name="adj" fmla="val 0"/>
            </a:avLst>
          </a:prstGeom>
          <a:solidFill>
            <a:srgbClr val="ffdddd"/>
          </a:solidFill>
          <a:ln w="0">
            <a:noFill/>
          </a:ln>
          <a:effectLst>
            <a:outerShdw dist="153753" dir="2700000" blurRad="0" rotWithShape="0">
              <a:srgbClr val="98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rot="20529000">
            <a:off x="3962520" y="1195200"/>
            <a:ext cx="1133280" cy="4152600"/>
          </a:xfrm>
          <a:prstGeom prst="triangle">
            <a:avLst>
              <a:gd name="adj" fmla="val 86060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584520" y="1219320"/>
            <a:ext cx="1371600" cy="3817800"/>
          </a:xfrm>
          <a:prstGeom prst="triangle">
            <a:avLst>
              <a:gd name="adj" fmla="val 50000"/>
            </a:avLst>
          </a:prstGeom>
          <a:solidFill>
            <a:srgbClr val="ffdddd"/>
          </a:solidFill>
          <a:ln w="0">
            <a:noFill/>
          </a:ln>
          <a:effectLst>
            <a:outerShdw dist="17819" dir="2700000" blurRad="0" rotWithShape="0">
              <a:srgbClr val="98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rot="1243200">
            <a:off x="2981160" y="1220400"/>
            <a:ext cx="1752840" cy="3924360"/>
          </a:xfrm>
          <a:prstGeom prst="triangle">
            <a:avLst>
              <a:gd name="adj" fmla="val 32292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rot="1243200">
            <a:off x="2060640" y="793440"/>
            <a:ext cx="1500120" cy="4387680"/>
          </a:xfrm>
          <a:prstGeom prst="triangle">
            <a:avLst>
              <a:gd name="adj" fmla="val 100000"/>
            </a:avLst>
          </a:prstGeom>
          <a:solidFill>
            <a:srgbClr val="ffdddd"/>
          </a:solidFill>
          <a:ln w="0">
            <a:noFill/>
          </a:ln>
          <a:effectLst>
            <a:outerShdw dist="17819" dir="2700000" blurRad="0" rotWithShape="0">
              <a:srgbClr val="98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676520" y="4968720"/>
            <a:ext cx="5410080" cy="594000"/>
          </a:xfrm>
          <a:prstGeom prst="rect">
            <a:avLst/>
          </a:prstGeom>
          <a:solidFill>
            <a:srgbClr val="ff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Times New Roman"/>
              </a:rPr>
              <a:t>Arquitetura de Informação da Organização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505320" y="770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en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66680" y="4960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Vendas e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52261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abric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886200" y="50292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Finanç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00600" y="52261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ontabilid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248520" y="49528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181480" y="1227240"/>
            <a:ext cx="22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stemas Estraté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62720" y="22176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stemas Gerenci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48520" y="32083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stemas de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086600" y="41227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Sistemas Opera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2480" y="5630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29000" y="5630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800600" y="56307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dos e Arqu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477120" y="5707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comunica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1820880"/>
            <a:ext cx="167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licações de Negócios Funcion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52280" y="563076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s de Comput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975-E47A-4495-BEC2-3A2A1E48295C}" type="slidenum">
              <a:t>60</a:t>
            </a:fld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cc0000"/>
                </a:solidFill>
                <a:latin typeface="Times New Roman"/>
              </a:rPr>
              <a:t>Exercício 1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pt-BR" sz="4000" spc="-1" strike="noStrike">
                <a:solidFill>
                  <a:srgbClr val="cc0000"/>
                </a:solidFill>
                <a:latin typeface="Times New Roman"/>
              </a:rPr>
              <a:t>United Parcel Service (UPS)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íder mundial de distribuição de encomendas (aéreas e terrest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imento de 1.8 bilhões em TI entre 92-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unicação entre o computador central (DIAD) e dispositivos adaptados em caminh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amento constante do processo de entrega de pac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12C-B0EF-4657-AEFA-C7FB49DAB5A0}" type="slidenum">
              <a:t>61</a:t>
            </a:fld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cc0000"/>
                </a:solidFill>
                <a:latin typeface="Times New Roman"/>
              </a:rPr>
              <a:t>Exercício 1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pt-BR" sz="4000" spc="-1" strike="noStrike">
                <a:solidFill>
                  <a:srgbClr val="cc0000"/>
                </a:solidFill>
                <a:latin typeface="Times New Roman"/>
              </a:rPr>
              <a:t>United Parcel Service (UPS)</a:t>
            </a:r>
            <a:br>
              <a:rPr sz="4000"/>
            </a:br>
            <a:r>
              <a:rPr b="1" i="1" lang="pt-BR" sz="3200" spc="-1" strike="noStrike">
                <a:solidFill>
                  <a:srgbClr val="000000"/>
                </a:solidFill>
                <a:latin typeface="Times New Roman"/>
              </a:rPr>
              <a:t>Questões:  </a:t>
            </a:r>
            <a:r>
              <a:rPr b="1" i="1" lang="pt-BR" sz="3200" spc="-1" strike="noStrike">
                <a:solidFill>
                  <a:srgbClr val="cc3300"/>
                </a:solidFill>
                <a:latin typeface="Times New Roman"/>
              </a:rPr>
              <a:t>em time em sala de aula</a:t>
            </a:r>
            <a:endParaRPr b="0" i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38080" y="2133720"/>
            <a:ext cx="7162920" cy="3733560"/>
          </a:xfrm>
          <a:prstGeom prst="foldedCorner">
            <a:avLst>
              <a:gd name="adj" fmla="val 12500"/>
            </a:avLst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is são as entradas, processamento e saídas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encomendas da U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is tecnologias são usad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estas tecnologias se relacionam com a estraté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negócio da UP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que deveria acontecer se estas tecnologias n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vessem disponíve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D1F7-A18F-4E1D-A683-BFD70F1C3E00}" type="slidenum">
              <a:t>62</a:t>
            </a:fld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 flipV="1">
            <a:off x="8001000" y="1599840"/>
            <a:ext cx="0" cy="129852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0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0000"/>
                </a:solidFill>
                <a:latin typeface="Times New Roman"/>
              </a:rPr>
              <a:t>UPS - United Parcel Service   </a:t>
            </a: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(</a:t>
            </a:r>
            <a:r>
              <a:rPr b="0" i="1" lang="pt-BR" sz="3600" spc="-1" strike="noStrike">
                <a:solidFill>
                  <a:srgbClr val="cc0000"/>
                </a:solidFill>
                <a:latin typeface="Times New Roman"/>
              </a:rPr>
              <a:t>montar</a:t>
            </a:r>
            <a:r>
              <a:rPr b="0" lang="pt-BR" sz="3600" spc="-1" strike="noStrike">
                <a:solidFill>
                  <a:srgbClr val="cc0000"/>
                </a:solidFill>
                <a:latin typeface="Times New Roman"/>
              </a:rPr>
              <a:t>...)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178000" y="3236760"/>
            <a:ext cx="1671840" cy="121932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138400" y="1495440"/>
            <a:ext cx="1671480" cy="124776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78000" y="4818240"/>
            <a:ext cx="1671840" cy="12776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770360" y="3271680"/>
            <a:ext cx="133668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903920" y="3402000"/>
            <a:ext cx="1136160" cy="777600"/>
            <a:chOff x="4903920" y="3402000"/>
            <a:chExt cx="1136160" cy="777600"/>
          </a:xfrm>
        </p:grpSpPr>
        <p:sp>
          <p:nvSpPr>
            <p:cNvPr id="902" name=""/>
            <p:cNvSpPr/>
            <p:nvPr/>
          </p:nvSpPr>
          <p:spPr>
            <a:xfrm>
              <a:off x="4903920" y="34020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304960" y="3661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706000" y="3985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706000" y="34020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03920" y="3985200"/>
              <a:ext cx="334080" cy="19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70960" y="353160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873400" y="3547800"/>
              <a:ext cx="0" cy="51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4440" y="3466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5572440" y="3531600"/>
              <a:ext cx="200520" cy="19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137560" y="3790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538960" y="3790800"/>
              <a:ext cx="267480" cy="25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4551480" y="1066680"/>
            <a:ext cx="154440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f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presa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10520" y="3271680"/>
            <a:ext cx="1336680" cy="1038240"/>
          </a:xfrm>
          <a:prstGeom prst="rect">
            <a:avLst/>
          </a:prstGeom>
          <a:solidFill>
            <a:srgbClr val="ffe5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7577280" y="3402000"/>
            <a:ext cx="667800" cy="842760"/>
            <a:chOff x="7577280" y="3402000"/>
            <a:chExt cx="667800" cy="842760"/>
          </a:xfrm>
        </p:grpSpPr>
        <p:sp>
          <p:nvSpPr>
            <p:cNvPr id="916" name=""/>
            <p:cNvSpPr/>
            <p:nvPr/>
          </p:nvSpPr>
          <p:spPr>
            <a:xfrm>
              <a:off x="7577280" y="34020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10480" y="35316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844400" y="3661200"/>
              <a:ext cx="400680" cy="58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49840" y="3855960"/>
            <a:ext cx="920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107040" y="3855960"/>
            <a:ext cx="120348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5410080" y="4309560"/>
            <a:ext cx="0" cy="110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49840" y="5413320"/>
            <a:ext cx="1598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48240" y="2234520"/>
            <a:ext cx="0" cy="84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809880" y="2235240"/>
            <a:ext cx="1665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6106680" y="1623960"/>
            <a:ext cx="18716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114800" y="1600200"/>
            <a:ext cx="0" cy="4032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114440" y="1623960"/>
            <a:ext cx="43668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68560" y="293220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Tecnol.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131560" y="45133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rganiz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067480" y="121932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renci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418640" y="3005280"/>
            <a:ext cx="22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de Informa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119000" y="30052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uções Negó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3" name="" descr=""/>
          <p:cNvPicPr/>
          <p:nvPr/>
        </p:nvPicPr>
        <p:blipFill>
          <a:blip r:embed="rId1"/>
          <a:stretch/>
        </p:blipFill>
        <p:spPr>
          <a:xfrm>
            <a:off x="2529000" y="3341520"/>
            <a:ext cx="981000" cy="1038240"/>
          </a:xfrm>
          <a:prstGeom prst="rect">
            <a:avLst/>
          </a:prstGeom>
          <a:ln w="0">
            <a:noFill/>
          </a:ln>
        </p:spPr>
      </p:pic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2335320" y="4818240"/>
            <a:ext cx="1322280" cy="1242720"/>
          </a:xfrm>
          <a:prstGeom prst="rect">
            <a:avLst/>
          </a:prstGeom>
          <a:ln w="0">
            <a:noFill/>
          </a:ln>
        </p:spPr>
      </p:pic>
      <p:pic>
        <p:nvPicPr>
          <p:cNvPr id="935" name="" descr=""/>
          <p:cNvPicPr/>
          <p:nvPr/>
        </p:nvPicPr>
        <p:blipFill>
          <a:blip r:embed="rId3"/>
          <a:stretch/>
        </p:blipFill>
        <p:spPr>
          <a:xfrm>
            <a:off x="2271600" y="1689120"/>
            <a:ext cx="1349640" cy="105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AF3-B154-4ED1-AA6C-568201D6DD4F}" type="slidenum">
              <a:t>63</a:t>
            </a:fld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304920" y="4495680"/>
            <a:ext cx="8686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87878"/>
              </a:gs>
              <a:gs pos="50000">
                <a:srgbClr val="ffa7a7"/>
              </a:gs>
              <a:gs pos="100000">
                <a:srgbClr val="b8787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Fundamentos Organizacionais de Sistemas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de 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rspectiva técnica e comportamen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s Sistemas de Informação, com especial atenção às dimensões administrativas, organizacionais e tecnológicas nos Sistemas de Inform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dança do Processo de Gerenciamento,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Sistemas de Informação têm nas organizações, su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ecessidade de planeja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Sistemas de Informação para os administradores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Informação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4B4-1AFA-429A-84BD-A4F31DAD071F}" type="slidenum">
              <a:t>64</a:t>
            </a:fld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228600" y="17524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 nos Negócios Estratég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o usar tecnologia de informação para projetar organizações competitivas e efetiv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 na Globalizaçã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entender os negócios e requisitos de sistema de um ambiente de economia globalizad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 na Arquitetura de Informação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as organizações podem desenvolver uma arquitetura de informação que de suporte aos objetivos de negóci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s no Processo de Gerenciament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941" name=""/>
          <p:cNvGraphicFramePr/>
          <p:nvPr/>
        </p:nvGraphicFramePr>
        <p:xfrm>
          <a:off x="7696080" y="4510080"/>
          <a:ext cx="6843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4510080"/>
                    <a:ext cx="6843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746-1C32-49E0-A32D-5A4045BBDA7C}" type="slidenum">
              <a:t>65</a:t>
            </a:fld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 no Investimento em SI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as organizações determinam o valor do negócio do S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18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dança de Controle e Responsabilidad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as organizações podem projetar sistemas onde as pessoas possam controlar e entender? Como podem ter certeza que seus SIs são usados de maneira socialmente ética e responsáv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s no Processo de Gerenciament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945" name=""/>
          <p:cNvGraphicFramePr/>
          <p:nvPr/>
        </p:nvGraphicFramePr>
        <p:xfrm>
          <a:off x="7773840" y="4343400"/>
          <a:ext cx="684360" cy="16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3840" y="4343400"/>
                    <a:ext cx="684360" cy="16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E0D-46D1-47FF-8F25-FD89739CD69C}" type="slidenum">
              <a:t>66</a:t>
            </a:fld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ido ao rápido desenvolvimento 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cnologia da inform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ão é fácil ou mecânico a construção de Sistemas de Informação que funcion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ma série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azõ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construir, operar e manter Sistemas de Informação são atividades desaf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iste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5 desafios chav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administradores devem prestar aten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26B9-45D3-4CE6-9112-248AE80DDA00}" type="slidenum">
              <a:t>67</a:t>
            </a:fld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1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Desafio dos Negócios Estratégicos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os negócios podem usar a tecnologia de informação para projetar organizações que sejam competitivas e eficient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s organizações precisam repensar e reprojetar a maneira como projetam, produzem, liberam e mantêm ben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É preciso usar a tecnologia da informação para simplificar e coordenar a comunicação, eliminar trabalho desnecessário  e eliminar as ineficiências das estruturas organizacionais fora de m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BFD1-F61F-4B2A-BB90-F970B5205F96}" type="slidenum">
              <a:t>68</a:t>
            </a:fld>
          </a:p>
        </p:txBody>
      </p:sp>
    </p:spTree>
  </p:cSld>
  <p:transition spd="slow">
    <p:wipe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Desafio da Global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as organizações podem entender o negócio e requisitos de sistema de um ambiente de economia globalizad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economia globalizada clama por sistemas de informação que possam apoiar a produção e a venda de bens em diferente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Devido as diferenças culturais, políticas  e de linguagem, devem ser desenvolvidos sistemas de informação multinacionais integ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D86-1A4B-406B-A654-883BC1A3EDF5}" type="slidenum">
              <a:t>69</a:t>
            </a:fld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Conclus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compreensão dos Sistemas de Informação é essencial para os administradores atu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uitas organizações necessitarão de Sistemas de Informação para progredir e prospera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2456-552A-4E22-90A8-2B88F71C7B47}" type="slidenum">
              <a:t>7</a:t>
            </a:fld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Desafio da Arquitetura de 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as organizações podem desenvolver uma arquitetura de informação que apoie seus objetivos de negó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 tecnologia da informação pode sugerir algumas nov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eiras de realizar negócios, no entanto as empresas ainda precisam ter uma clara idéia de seus objetivos de negócios e como eles podem ser melhor apoiados por sistemas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itas organizações não podem atingir seus objetivos por estarem incapacitadas por incompatíveis:  hardware; software; redes de telecomunicação e sistemas de inform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BCD-4E54-4C1D-92C0-E5DED474BFA6}" type="slidenum">
              <a:t>70</a:t>
            </a:fld>
          </a:p>
        </p:txBody>
      </p:sp>
    </p:spTree>
  </p:cSld>
  <p:transition spd="slow">
    <p:wipe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/>
          </p:nvPr>
        </p:nvSpPr>
        <p:spPr>
          <a:xfrm>
            <a:off x="2282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Desafio do Investimento em Sistemas de Inform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as organizações podem determinar o valor do negócio dos Sistemas de Informaçã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ma coisa é usar a tecnologia da informação para projetar, produzir, liberar e manter novos produtos. Outra coisa é fazer dinheiro com i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476280"/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mo um executivo sênior deve pensar quando se defronta com uma importante transformação na arquitetura de informaç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B237-4418-4284-88EE-7C5E3A840B7D}" type="slidenum">
              <a:t>71</a:t>
            </a:fld>
          </a:p>
        </p:txBody>
      </p:sp>
    </p:spTree>
  </p:cSld>
  <p:transition spd="slow">
    <p:wipe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 Desafio do Controle e da Responsabilid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as organizações podem projetar sistemas que as pessoas possam controlar e compreender? Como as organizações podem ter certeza que seus Sistemas de Informação são usados de maneira socialmente responsável e é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901"/>
              </a:spcBef>
              <a:buClr>
                <a:srgbClr val="3333cc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s sistemas são tão importantes para os negócios, governo e vida diária, que as organizações devem tomar atitudes especiais para garantir que eles sejam precisos, confiáveis e seg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O Desafio de Sistemas de Informação: Questões-Chav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D05-CE36-455B-A16C-7FA5E571D888}" type="slidenum">
              <a:t>72</a:t>
            </a:fld>
          </a:p>
        </p:txBody>
      </p:sp>
    </p:spTree>
  </p:cSld>
  <p:transition spd="slow">
    <p:wipe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304920" y="5334120"/>
            <a:ext cx="868680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87878"/>
              </a:gs>
              <a:gs pos="50000">
                <a:srgbClr val="ffa7a7"/>
              </a:gs>
              <a:gs pos="100000">
                <a:srgbClr val="b8787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Fundamentos Organizacionais de Sistemas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de 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SzPct val="10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rspectiva técnica e comportamen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s Sistemas de Informação, com especial atenção às dimensões administrativas, organizacionais e tecnológicas nos Sistemas de Inform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dança do Processo de Gerenciamento,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Sistemas de Informação têm nas organizações, su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ecessidade de planeja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Sistemas de Informação para os administradores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Informação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DACD-CB14-4E84-855C-E206ADC1D71B}" type="slidenum">
              <a:t>73</a:t>
            </a:fld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eis Principais Tipos de SIs do Ponto de Vista Organizacional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14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estratégic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ES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Suporte Executi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Executive Support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DS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Suporte a Deci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Decision Suppor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MI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Informações Gerencia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Management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de conheciment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KW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Conhecimento do Trabalh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Knowledge Work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OA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(Sistemas de Automação de Escritó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Office Auto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nível operacional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lnSpc>
                <a:spcPct val="90000"/>
              </a:lnSpc>
              <a:spcBef>
                <a:spcPts val="249"/>
              </a:spcBef>
              <a:buClr>
                <a:srgbClr val="cc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Times New Roman"/>
              </a:rPr>
              <a:t>TPS</a:t>
            </a:r>
            <a:r>
              <a:rPr b="0" lang="pt-BR" sz="2000" spc="-1" strike="noStrike">
                <a:solidFill>
                  <a:srgbClr val="ff505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(Sistemas de Processamento de Transaçõ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0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cc0000"/>
                </a:solidFill>
                <a:latin typeface="Times New Roman"/>
              </a:rPr>
              <a:t>Transaction Process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02200" y="723960"/>
            <a:ext cx="2781360" cy="286524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031080" y="3070080"/>
            <a:ext cx="2538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05720" y="1227240"/>
            <a:ext cx="125388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512040" y="1774800"/>
            <a:ext cx="16002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207120" y="2460600"/>
            <a:ext cx="21654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4168440" y="3030480"/>
            <a:ext cx="5583240" cy="3791160"/>
            <a:chOff x="4168440" y="3030480"/>
            <a:chExt cx="5583240" cy="3791160"/>
          </a:xfrm>
        </p:grpSpPr>
        <p:grpSp>
          <p:nvGrpSpPr>
            <p:cNvPr id="970" name=""/>
            <p:cNvGrpSpPr/>
            <p:nvPr/>
          </p:nvGrpSpPr>
          <p:grpSpPr>
            <a:xfrm>
              <a:off x="9353160" y="3030480"/>
              <a:ext cx="398520" cy="233640"/>
              <a:chOff x="9353160" y="3030480"/>
              <a:chExt cx="398520" cy="233640"/>
            </a:xfrm>
          </p:grpSpPr>
          <p:grpSp>
            <p:nvGrpSpPr>
              <p:cNvPr id="971" name=""/>
              <p:cNvGrpSpPr/>
              <p:nvPr/>
            </p:nvGrpSpPr>
            <p:grpSpPr>
              <a:xfrm>
                <a:off x="9353160" y="3030480"/>
                <a:ext cx="398520" cy="233640"/>
                <a:chOff x="9353160" y="3030480"/>
                <a:chExt cx="398520" cy="233640"/>
              </a:xfrm>
            </p:grpSpPr>
            <p:sp>
              <p:nvSpPr>
                <p:cNvPr id="972" name=""/>
                <p:cNvSpPr/>
                <p:nvPr/>
              </p:nvSpPr>
              <p:spPr>
                <a:xfrm flipH="1">
                  <a:off x="9352800" y="3030480"/>
                  <a:ext cx="398520" cy="233640"/>
                </a:xfrm>
                <a:custGeom>
                  <a:avLst/>
                  <a:gdLst/>
                  <a:ahLst/>
                  <a:rect l="l" t="t" r="r" b="b"/>
                  <a:pathLst>
                    <a:path w="503" h="293">
                      <a:moveTo>
                        <a:pt x="78" y="293"/>
                      </a:moveTo>
                      <a:lnTo>
                        <a:pt x="0" y="0"/>
                      </a:lnTo>
                      <a:lnTo>
                        <a:pt x="385" y="0"/>
                      </a:lnTo>
                      <a:lnTo>
                        <a:pt x="503" y="293"/>
                      </a:lnTo>
                      <a:lnTo>
                        <a:pt x="78" y="293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3" name=""/>
                <p:cNvGrpSpPr/>
                <p:nvPr/>
              </p:nvGrpSpPr>
              <p:grpSpPr>
                <a:xfrm>
                  <a:off x="9362880" y="3059280"/>
                  <a:ext cx="380880" cy="174600"/>
                  <a:chOff x="9362880" y="3059280"/>
                  <a:chExt cx="380880" cy="17460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flipH="1">
                    <a:off x="9419760" y="3059280"/>
                    <a:ext cx="3236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07" h="44">
                        <a:moveTo>
                          <a:pt x="0" y="0"/>
                        </a:moveTo>
                        <a:lnTo>
                          <a:pt x="389" y="0"/>
                        </a:lnTo>
                        <a:lnTo>
                          <a:pt x="407" y="44"/>
                        </a:lnTo>
                        <a:lnTo>
                          <a:pt x="1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flipH="1">
                    <a:off x="9390960" y="3129120"/>
                    <a:ext cx="33516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43">
                        <a:moveTo>
                          <a:pt x="0" y="0"/>
                        </a:moveTo>
                        <a:lnTo>
                          <a:pt x="403" y="0"/>
                        </a:lnTo>
                        <a:lnTo>
                          <a:pt x="421" y="43"/>
                        </a:lnTo>
                        <a:lnTo>
                          <a:pt x="12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H="1">
                    <a:off x="9362520" y="3198960"/>
                    <a:ext cx="3445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4">
                        <a:moveTo>
                          <a:pt x="0" y="0"/>
                        </a:moveTo>
                        <a:lnTo>
                          <a:pt x="415" y="0"/>
                        </a:lnTo>
                        <a:lnTo>
                          <a:pt x="433" y="44"/>
                        </a:lnTo>
                        <a:lnTo>
                          <a:pt x="12" y="4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7" name=""/>
              <p:cNvGrpSpPr/>
              <p:nvPr/>
            </p:nvGrpSpPr>
            <p:grpSpPr>
              <a:xfrm>
                <a:off x="9377280" y="3038400"/>
                <a:ext cx="361800" cy="212760"/>
                <a:chOff x="9377280" y="3038400"/>
                <a:chExt cx="361800" cy="21276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9678600" y="3040200"/>
                  <a:ext cx="60480" cy="210960"/>
                  <a:chOff x="9678600" y="3040200"/>
                  <a:chExt cx="60480" cy="21096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 flipH="1">
                    <a:off x="9732600" y="304020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H="1">
                    <a:off x="9724680" y="307044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H="1">
                    <a:off x="9715320" y="309888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>
                    <a:off x="9708840" y="312912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>
                    <a:off x="9700920" y="315756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>
                    <a:off x="9694440" y="3186000"/>
                    <a:ext cx="648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flipH="1">
                    <a:off x="9686520" y="321480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 flipH="1">
                    <a:off x="9678600" y="324504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7" name=""/>
                <p:cNvGrpSpPr/>
                <p:nvPr/>
              </p:nvGrpSpPr>
              <p:grpSpPr>
                <a:xfrm>
                  <a:off x="9377280" y="3038400"/>
                  <a:ext cx="79200" cy="206640"/>
                  <a:chOff x="9377280" y="3038400"/>
                  <a:chExt cx="79200" cy="20664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 flipH="1">
                    <a:off x="9448560" y="303840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 flipH="1">
                    <a:off x="9438840" y="306720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 flipH="1">
                    <a:off x="9428040" y="3094200"/>
                    <a:ext cx="79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 flipH="1">
                    <a:off x="9416520" y="312264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2" y="0"/>
                        </a:move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>
                    <a:off x="9405720" y="315612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>
                    <a:off x="9388080" y="3210120"/>
                    <a:ext cx="64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>
                    <a:off x="9376920" y="3238560"/>
                    <a:ext cx="61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 flipH="1">
                    <a:off x="9394560" y="3181320"/>
                    <a:ext cx="792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8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4" y="8"/>
                        </a:lnTo>
                        <a:lnTo>
                          <a:pt x="6" y="8"/>
                        </a:lnTo>
                        <a:lnTo>
                          <a:pt x="8" y="8"/>
                        </a:lnTo>
                        <a:lnTo>
                          <a:pt x="8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8" y="4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96" name=""/>
            <p:cNvGrpSpPr/>
            <p:nvPr/>
          </p:nvGrpSpPr>
          <p:grpSpPr>
            <a:xfrm>
              <a:off x="8970840" y="3178080"/>
              <a:ext cx="544320" cy="327240"/>
              <a:chOff x="8970840" y="3178080"/>
              <a:chExt cx="544320" cy="327240"/>
            </a:xfrm>
          </p:grpSpPr>
          <p:grpSp>
            <p:nvGrpSpPr>
              <p:cNvPr id="997" name=""/>
              <p:cNvGrpSpPr/>
              <p:nvPr/>
            </p:nvGrpSpPr>
            <p:grpSpPr>
              <a:xfrm>
                <a:off x="8970840" y="3178080"/>
                <a:ext cx="544320" cy="327240"/>
                <a:chOff x="8970840" y="3178080"/>
                <a:chExt cx="544320" cy="327240"/>
              </a:xfrm>
            </p:grpSpPr>
            <p:sp>
              <p:nvSpPr>
                <p:cNvPr id="998" name=""/>
                <p:cNvSpPr/>
                <p:nvPr/>
              </p:nvSpPr>
              <p:spPr>
                <a:xfrm flipH="1">
                  <a:off x="8970840" y="3178080"/>
                  <a:ext cx="544320" cy="327240"/>
                </a:xfrm>
                <a:custGeom>
                  <a:avLst/>
                  <a:gdLst/>
                  <a:ahLst/>
                  <a:rect l="l" t="t" r="r" b="b"/>
                  <a:pathLst>
                    <a:path w="687" h="413">
                      <a:moveTo>
                        <a:pt x="108" y="413"/>
                      </a:moveTo>
                      <a:lnTo>
                        <a:pt x="0" y="0"/>
                      </a:lnTo>
                      <a:lnTo>
                        <a:pt x="525" y="0"/>
                      </a:lnTo>
                      <a:lnTo>
                        <a:pt x="687" y="413"/>
                      </a:lnTo>
                      <a:lnTo>
                        <a:pt x="108" y="413"/>
                      </a:lnTo>
                      <a:close/>
                    </a:path>
                  </a:pathLst>
                </a:custGeom>
                <a:solidFill>
                  <a:srgbClr val="9f9fb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9" name=""/>
                <p:cNvGrpSpPr/>
                <p:nvPr/>
              </p:nvGrpSpPr>
              <p:grpSpPr>
                <a:xfrm>
                  <a:off x="8988120" y="3220920"/>
                  <a:ext cx="514440" cy="241560"/>
                  <a:chOff x="8988120" y="3220920"/>
                  <a:chExt cx="514440" cy="241560"/>
                </a:xfrm>
              </p:grpSpPr>
              <p:sp>
                <p:nvSpPr>
                  <p:cNvPr id="1000" name=""/>
                  <p:cNvSpPr/>
                  <p:nvPr/>
                </p:nvSpPr>
                <p:spPr>
                  <a:xfrm flipH="1">
                    <a:off x="9065520" y="3220920"/>
                    <a:ext cx="43668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1" h="60">
                        <a:moveTo>
                          <a:pt x="0" y="0"/>
                        </a:moveTo>
                        <a:lnTo>
                          <a:pt x="529" y="0"/>
                        </a:lnTo>
                        <a:lnTo>
                          <a:pt x="551" y="60"/>
                        </a:lnTo>
                        <a:lnTo>
                          <a:pt x="14" y="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flipH="1">
                    <a:off x="9025920" y="3316320"/>
                    <a:ext cx="4525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1" h="62">
                        <a:moveTo>
                          <a:pt x="0" y="0"/>
                        </a:moveTo>
                        <a:lnTo>
                          <a:pt x="547" y="0"/>
                        </a:lnTo>
                        <a:lnTo>
                          <a:pt x="571" y="62"/>
                        </a:lnTo>
                        <a:lnTo>
                          <a:pt x="16" y="6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 flipH="1">
                    <a:off x="8988120" y="3414600"/>
                    <a:ext cx="4651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7" h="59">
                        <a:moveTo>
                          <a:pt x="0" y="0"/>
                        </a:moveTo>
                        <a:lnTo>
                          <a:pt x="563" y="0"/>
                        </a:lnTo>
                        <a:lnTo>
                          <a:pt x="587" y="59"/>
                        </a:lnTo>
                        <a:lnTo>
                          <a:pt x="16" y="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3" name=""/>
              <p:cNvGrpSpPr/>
              <p:nvPr/>
            </p:nvGrpSpPr>
            <p:grpSpPr>
              <a:xfrm>
                <a:off x="9005760" y="3189240"/>
                <a:ext cx="490320" cy="298440"/>
                <a:chOff x="9005760" y="3189240"/>
                <a:chExt cx="490320" cy="298440"/>
              </a:xfrm>
            </p:grpSpPr>
            <p:grpSp>
              <p:nvGrpSpPr>
                <p:cNvPr id="1004" name=""/>
                <p:cNvGrpSpPr/>
                <p:nvPr/>
              </p:nvGrpSpPr>
              <p:grpSpPr>
                <a:xfrm>
                  <a:off x="9413640" y="3192480"/>
                  <a:ext cx="82440" cy="295200"/>
                  <a:chOff x="9413640" y="3192480"/>
                  <a:chExt cx="82440" cy="29520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 flipH="1">
                    <a:off x="9486720" y="3192480"/>
                    <a:ext cx="9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 flipH="1">
                    <a:off x="9476640" y="323388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>
                    <a:off x="9464040" y="3274920"/>
                    <a:ext cx="9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>
                    <a:off x="9456480" y="33163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>
                    <a:off x="9444960" y="3357720"/>
                    <a:ext cx="9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 flipH="1">
                    <a:off x="9435960" y="33973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 flipH="1">
                    <a:off x="9424800" y="3438720"/>
                    <a:ext cx="7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>
                    <a:off x="9413640" y="34797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9005760" y="3189240"/>
                  <a:ext cx="107640" cy="290520"/>
                  <a:chOff x="9005760" y="3189240"/>
                  <a:chExt cx="107640" cy="29052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 flipH="1">
                    <a:off x="9104040" y="3189240"/>
                    <a:ext cx="9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 flipH="1">
                    <a:off x="9089280" y="3228840"/>
                    <a:ext cx="9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 flipH="1">
                    <a:off x="9075600" y="3268800"/>
                    <a:ext cx="93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 flipH="1">
                    <a:off x="9061200" y="3306960"/>
                    <a:ext cx="79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">
                        <a:moveTo>
                          <a:pt x="4" y="0"/>
                        </a:move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0" y="6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 flipH="1">
                    <a:off x="9045360" y="3352680"/>
                    <a:ext cx="9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 flipH="1">
                    <a:off x="9021600" y="3429000"/>
                    <a:ext cx="936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2"/>
                        </a:lnTo>
                        <a:lnTo>
                          <a:pt x="10" y="12"/>
                        </a:lnTo>
                        <a:lnTo>
                          <a:pt x="10" y="10"/>
                        </a:lnTo>
                        <a:lnTo>
                          <a:pt x="12" y="10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 flipH="1">
                    <a:off x="9005760" y="347184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0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6" y="10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 flipH="1">
                    <a:off x="9030600" y="3390840"/>
                    <a:ext cx="972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2">
                        <a:moveTo>
                          <a:pt x="6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6" y="12"/>
                        </a:lnTo>
                        <a:lnTo>
                          <a:pt x="8" y="10"/>
                        </a:lnTo>
                        <a:lnTo>
                          <a:pt x="10" y="10"/>
                        </a:lnTo>
                        <a:lnTo>
                          <a:pt x="10" y="8"/>
                        </a:lnTo>
                        <a:lnTo>
                          <a:pt x="12" y="6"/>
                        </a:lnTo>
                        <a:lnTo>
                          <a:pt x="12" y="4"/>
                        </a:lnTo>
                        <a:lnTo>
                          <a:pt x="10" y="4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22" name=""/>
            <p:cNvGrpSpPr/>
            <p:nvPr/>
          </p:nvGrpSpPr>
          <p:grpSpPr>
            <a:xfrm>
              <a:off x="8426160" y="3390840"/>
              <a:ext cx="760320" cy="473040"/>
              <a:chOff x="8426160" y="3390840"/>
              <a:chExt cx="760320" cy="473040"/>
            </a:xfrm>
          </p:grpSpPr>
          <p:grpSp>
            <p:nvGrpSpPr>
              <p:cNvPr id="1023" name=""/>
              <p:cNvGrpSpPr/>
              <p:nvPr/>
            </p:nvGrpSpPr>
            <p:grpSpPr>
              <a:xfrm>
                <a:off x="8426160" y="3390840"/>
                <a:ext cx="760320" cy="473040"/>
                <a:chOff x="8426160" y="3390840"/>
                <a:chExt cx="760320" cy="473040"/>
              </a:xfrm>
            </p:grpSpPr>
            <p:sp>
              <p:nvSpPr>
                <p:cNvPr id="1024" name=""/>
                <p:cNvSpPr/>
                <p:nvPr/>
              </p:nvSpPr>
              <p:spPr>
                <a:xfrm flipH="1">
                  <a:off x="8426160" y="3390840"/>
                  <a:ext cx="760320" cy="473040"/>
                </a:xfrm>
                <a:custGeom>
                  <a:avLst/>
                  <a:gdLst/>
                  <a:ahLst/>
                  <a:rect l="l" t="t" r="r" b="b"/>
                  <a:pathLst>
                    <a:path w="958" h="596">
                      <a:moveTo>
                        <a:pt x="145" y="596"/>
                      </a:moveTo>
                      <a:lnTo>
                        <a:pt x="0" y="0"/>
                      </a:lnTo>
                      <a:lnTo>
                        <a:pt x="722" y="0"/>
                      </a:lnTo>
                      <a:lnTo>
                        <a:pt x="958" y="596"/>
                      </a:lnTo>
                      <a:lnTo>
                        <a:pt x="145" y="596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8457840" y="3459240"/>
                  <a:ext cx="711360" cy="325440"/>
                  <a:chOff x="8457840" y="3459240"/>
                  <a:chExt cx="711360" cy="32544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flipH="1">
                    <a:off x="8457840" y="3718080"/>
                    <a:ext cx="649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9" h="84">
                        <a:moveTo>
                          <a:pt x="0" y="0"/>
                        </a:moveTo>
                        <a:lnTo>
                          <a:pt x="785" y="0"/>
                        </a:lnTo>
                        <a:lnTo>
                          <a:pt x="819" y="84"/>
                        </a:lnTo>
                        <a:lnTo>
                          <a:pt x="20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 flipH="1">
                    <a:off x="8559360" y="3459240"/>
                    <a:ext cx="6094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84">
                        <a:moveTo>
                          <a:pt x="0" y="0"/>
                        </a:moveTo>
                        <a:lnTo>
                          <a:pt x="734" y="0"/>
                        </a:lnTo>
                        <a:lnTo>
                          <a:pt x="768" y="84"/>
                        </a:lnTo>
                        <a:lnTo>
                          <a:pt x="19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flipH="1">
                    <a:off x="8510400" y="3587760"/>
                    <a:ext cx="62856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793" h="84">
                        <a:moveTo>
                          <a:pt x="0" y="0"/>
                        </a:moveTo>
                        <a:lnTo>
                          <a:pt x="761" y="0"/>
                        </a:lnTo>
                        <a:lnTo>
                          <a:pt x="793" y="84"/>
                        </a:lnTo>
                        <a:lnTo>
                          <a:pt x="22" y="8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ff9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9" name=""/>
              <p:cNvGrpSpPr/>
              <p:nvPr/>
            </p:nvGrpSpPr>
            <p:grpSpPr>
              <a:xfrm>
                <a:off x="8470800" y="3419640"/>
                <a:ext cx="685800" cy="414360"/>
                <a:chOff x="8470800" y="3419640"/>
                <a:chExt cx="685800" cy="414360"/>
              </a:xfrm>
            </p:grpSpPr>
            <p:grpSp>
              <p:nvGrpSpPr>
                <p:cNvPr id="1030" name=""/>
                <p:cNvGrpSpPr/>
                <p:nvPr/>
              </p:nvGrpSpPr>
              <p:grpSpPr>
                <a:xfrm>
                  <a:off x="9035640" y="3419640"/>
                  <a:ext cx="120960" cy="414360"/>
                  <a:chOff x="9035640" y="3419640"/>
                  <a:chExt cx="120960" cy="4143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 flipH="1">
                    <a:off x="9143640" y="341964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5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2" y="15"/>
                        </a:lnTo>
                        <a:lnTo>
                          <a:pt x="4" y="15"/>
                        </a:lnTo>
                        <a:lnTo>
                          <a:pt x="6" y="15"/>
                        </a:lnTo>
                        <a:lnTo>
                          <a:pt x="10" y="15"/>
                        </a:lnTo>
                        <a:lnTo>
                          <a:pt x="12" y="15"/>
                        </a:lnTo>
                        <a:lnTo>
                          <a:pt x="14" y="15"/>
                        </a:lnTo>
                        <a:lnTo>
                          <a:pt x="16" y="11"/>
                        </a:lnTo>
                        <a:lnTo>
                          <a:pt x="16" y="9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H="1">
                    <a:off x="9127800" y="347832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9110160" y="35355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H="1">
                    <a:off x="9097560" y="3594240"/>
                    <a:ext cx="144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 flipH="1">
                    <a:off x="9081720" y="3651120"/>
                    <a:ext cx="1296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 flipH="1">
                    <a:off x="9067320" y="37069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H="1">
                    <a:off x="9051480" y="3764160"/>
                    <a:ext cx="126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>
                    <a:off x="9035640" y="382104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4" y="16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8470800" y="3422520"/>
                  <a:ext cx="155520" cy="406440"/>
                  <a:chOff x="8470800" y="3422520"/>
                  <a:chExt cx="155520" cy="40644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 flipH="1">
                    <a:off x="8611920" y="34225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5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5"/>
                        </a:lnTo>
                        <a:lnTo>
                          <a:pt x="0" y="7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lnTo>
                          <a:pt x="2" y="11"/>
                        </a:lnTo>
                        <a:lnTo>
                          <a:pt x="2" y="13"/>
                        </a:lnTo>
                        <a:lnTo>
                          <a:pt x="4" y="13"/>
                        </a:lnTo>
                        <a:lnTo>
                          <a:pt x="6" y="13"/>
                        </a:lnTo>
                        <a:lnTo>
                          <a:pt x="6" y="15"/>
                        </a:lnTo>
                        <a:lnTo>
                          <a:pt x="8" y="15"/>
                        </a:lnTo>
                        <a:lnTo>
                          <a:pt x="10" y="15"/>
                        </a:lnTo>
                        <a:lnTo>
                          <a:pt x="12" y="13"/>
                        </a:lnTo>
                        <a:lnTo>
                          <a:pt x="14" y="13"/>
                        </a:lnTo>
                        <a:lnTo>
                          <a:pt x="16" y="11"/>
                        </a:lnTo>
                        <a:lnTo>
                          <a:pt x="18" y="7"/>
                        </a:lnTo>
                        <a:lnTo>
                          <a:pt x="18" y="5"/>
                        </a:lnTo>
                        <a:lnTo>
                          <a:pt x="16" y="5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H="1">
                    <a:off x="8592480" y="3479760"/>
                    <a:ext cx="1260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 flipH="1">
                    <a:off x="8570520" y="353376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8549640" y="3589560"/>
                    <a:ext cx="126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4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0"/>
                        </a:lnTo>
                        <a:lnTo>
                          <a:pt x="2" y="12"/>
                        </a:lnTo>
                        <a:lnTo>
                          <a:pt x="4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8" y="14"/>
                        </a:lnTo>
                        <a:lnTo>
                          <a:pt x="10" y="14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 flipH="1">
                    <a:off x="8527680" y="3652920"/>
                    <a:ext cx="129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 flipH="1">
                    <a:off x="8492760" y="3757680"/>
                    <a:ext cx="1440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2" y="14"/>
                        </a:lnTo>
                        <a:lnTo>
                          <a:pt x="4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8"/>
                        </a:lnTo>
                        <a:lnTo>
                          <a:pt x="10" y="18"/>
                        </a:lnTo>
                        <a:lnTo>
                          <a:pt x="12" y="18"/>
                        </a:lnTo>
                        <a:lnTo>
                          <a:pt x="14" y="16"/>
                        </a:lnTo>
                        <a:lnTo>
                          <a:pt x="16" y="14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H="1">
                    <a:off x="8470440" y="381636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6">
                        <a:moveTo>
                          <a:pt x="8" y="0"/>
                        </a:move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4"/>
                        </a:lnTo>
                        <a:lnTo>
                          <a:pt x="4" y="16"/>
                        </a:lnTo>
                        <a:lnTo>
                          <a:pt x="6" y="16"/>
                        </a:lnTo>
                        <a:lnTo>
                          <a:pt x="8" y="16"/>
                        </a:lnTo>
                        <a:lnTo>
                          <a:pt x="10" y="16"/>
                        </a:lnTo>
                        <a:lnTo>
                          <a:pt x="12" y="16"/>
                        </a:lnTo>
                        <a:lnTo>
                          <a:pt x="14" y="14"/>
                        </a:lnTo>
                        <a:lnTo>
                          <a:pt x="16" y="12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16" y="6"/>
                        </a:lnTo>
                        <a:lnTo>
                          <a:pt x="16" y="4"/>
                        </a:lnTo>
                        <a:lnTo>
                          <a:pt x="14" y="4"/>
                        </a:lnTo>
                        <a:lnTo>
                          <a:pt x="14" y="2"/>
                        </a:lnTo>
                        <a:lnTo>
                          <a:pt x="12" y="2"/>
                        </a:lnTo>
                        <a:lnTo>
                          <a:pt x="10" y="2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>
                    <a:off x="8507160" y="3705120"/>
                    <a:ext cx="144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6">
                        <a:moveTo>
                          <a:pt x="10" y="0"/>
                        </a:move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2" y="12"/>
                        </a:lnTo>
                        <a:lnTo>
                          <a:pt x="4" y="14"/>
                        </a:lnTo>
                        <a:lnTo>
                          <a:pt x="6" y="14"/>
                        </a:lnTo>
                        <a:lnTo>
                          <a:pt x="6" y="16"/>
                        </a:lnTo>
                        <a:lnTo>
                          <a:pt x="10" y="16"/>
                        </a:lnTo>
                        <a:lnTo>
                          <a:pt x="12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16" y="12"/>
                        </a:lnTo>
                        <a:lnTo>
                          <a:pt x="18" y="10"/>
                        </a:lnTo>
                        <a:lnTo>
                          <a:pt x="18" y="8"/>
                        </a:lnTo>
                        <a:lnTo>
                          <a:pt x="18" y="6"/>
                        </a:lnTo>
                        <a:lnTo>
                          <a:pt x="18" y="4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48" name=""/>
            <p:cNvGrpSpPr/>
            <p:nvPr/>
          </p:nvGrpSpPr>
          <p:grpSpPr>
            <a:xfrm>
              <a:off x="8697600" y="3692520"/>
              <a:ext cx="372960" cy="171360"/>
              <a:chOff x="8697600" y="3692520"/>
              <a:chExt cx="372960" cy="171360"/>
            </a:xfrm>
          </p:grpSpPr>
          <p:sp>
            <p:nvSpPr>
              <p:cNvPr id="1049" name=""/>
              <p:cNvSpPr/>
              <p:nvPr/>
            </p:nvSpPr>
            <p:spPr>
              <a:xfrm flipH="1">
                <a:off x="8697600" y="3692520"/>
                <a:ext cx="372960" cy="171360"/>
              </a:xfrm>
              <a:custGeom>
                <a:avLst/>
                <a:gdLst/>
                <a:ahLst/>
                <a:rect l="l" t="t" r="r" b="b"/>
                <a:pathLst>
                  <a:path w="469" h="217">
                    <a:moveTo>
                      <a:pt x="415" y="0"/>
                    </a:moveTo>
                    <a:lnTo>
                      <a:pt x="0" y="217"/>
                    </a:lnTo>
                    <a:lnTo>
                      <a:pt x="469" y="217"/>
                    </a:lnTo>
                    <a:lnTo>
                      <a:pt x="415" y="0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0" name=""/>
              <p:cNvGrpSpPr/>
              <p:nvPr/>
            </p:nvGrpSpPr>
            <p:grpSpPr>
              <a:xfrm>
                <a:off x="8761320" y="3721320"/>
                <a:ext cx="245880" cy="128520"/>
                <a:chOff x="8761320" y="3721320"/>
                <a:chExt cx="245880" cy="128520"/>
              </a:xfrm>
            </p:grpSpPr>
            <p:sp>
              <p:nvSpPr>
                <p:cNvPr id="1051" name=""/>
                <p:cNvSpPr/>
                <p:nvPr/>
              </p:nvSpPr>
              <p:spPr>
                <a:xfrm flipH="1">
                  <a:off x="8761320" y="372132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>
                  <a:off x="8794440" y="374004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>
                  <a:off x="8829000" y="375768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0"/>
                      </a:lnTo>
                      <a:lnTo>
                        <a:pt x="12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 flipH="1">
                  <a:off x="8862840" y="3774960"/>
                  <a:ext cx="9360" cy="7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 flipH="1">
                  <a:off x="8894520" y="379116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>
                  <a:off x="8928000" y="380700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0" h="12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>
                  <a:off x="8960760" y="3826080"/>
                  <a:ext cx="9720" cy="792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10" y="10"/>
                      </a:lnTo>
                      <a:lnTo>
                        <a:pt x="10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8999280" y="38419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6" y="10"/>
                      </a:lnTo>
                      <a:lnTo>
                        <a:pt x="8" y="10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9156600" y="3390840"/>
              <a:ext cx="272880" cy="114480"/>
              <a:chOff x="9156600" y="3390840"/>
              <a:chExt cx="272880" cy="114480"/>
            </a:xfrm>
          </p:grpSpPr>
          <p:sp>
            <p:nvSpPr>
              <p:cNvPr id="1060" name=""/>
              <p:cNvSpPr/>
              <p:nvPr/>
            </p:nvSpPr>
            <p:spPr>
              <a:xfrm flipH="1">
                <a:off x="9156600" y="3390840"/>
                <a:ext cx="272880" cy="114480"/>
              </a:xfrm>
              <a:custGeom>
                <a:avLst/>
                <a:gdLst/>
                <a:ahLst/>
                <a:rect l="l" t="t" r="r" b="b"/>
                <a:pathLst>
                  <a:path w="345" h="143">
                    <a:moveTo>
                      <a:pt x="308" y="0"/>
                    </a:moveTo>
                    <a:lnTo>
                      <a:pt x="0" y="143"/>
                    </a:lnTo>
                    <a:lnTo>
                      <a:pt x="345" y="143"/>
                    </a:lnTo>
                    <a:lnTo>
                      <a:pt x="308" y="0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9191520" y="3406680"/>
                <a:ext cx="201600" cy="95400"/>
                <a:chOff x="9191520" y="3406680"/>
                <a:chExt cx="201600" cy="95400"/>
              </a:xfrm>
            </p:grpSpPr>
            <p:sp>
              <p:nvSpPr>
                <p:cNvPr id="1062" name=""/>
                <p:cNvSpPr/>
                <p:nvPr/>
              </p:nvSpPr>
              <p:spPr>
                <a:xfrm flipH="1">
                  <a:off x="9191520" y="340668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H="1">
                  <a:off x="9219960" y="341964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9"/>
                      </a:lnTo>
                      <a:lnTo>
                        <a:pt x="4" y="9"/>
                      </a:lnTo>
                      <a:lnTo>
                        <a:pt x="6" y="9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H="1">
                  <a:off x="9248400" y="343368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 flipH="1">
                  <a:off x="9275400" y="344664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9300960" y="3457440"/>
                  <a:ext cx="7920" cy="50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>
                  <a:off x="9329400" y="34704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>
                  <a:off x="9356040" y="34830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8" y="6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>
                  <a:off x="9385200" y="34956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8" y="8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0" y="4"/>
                      </a:lnTo>
                      <a:lnTo>
                        <a:pt x="10" y="2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0" name=""/>
            <p:cNvGrpSpPr/>
            <p:nvPr/>
          </p:nvGrpSpPr>
          <p:grpSpPr>
            <a:xfrm>
              <a:off x="7706880" y="3692520"/>
              <a:ext cx="1035360" cy="627120"/>
              <a:chOff x="7706880" y="3692520"/>
              <a:chExt cx="1035360" cy="627120"/>
            </a:xfrm>
          </p:grpSpPr>
          <p:grpSp>
            <p:nvGrpSpPr>
              <p:cNvPr id="1071" name=""/>
              <p:cNvGrpSpPr/>
              <p:nvPr/>
            </p:nvGrpSpPr>
            <p:grpSpPr>
              <a:xfrm>
                <a:off x="7706880" y="3692520"/>
                <a:ext cx="1035360" cy="627120"/>
                <a:chOff x="7706880" y="3692520"/>
                <a:chExt cx="1035360" cy="627120"/>
              </a:xfrm>
            </p:grpSpPr>
            <p:sp>
              <p:nvSpPr>
                <p:cNvPr id="1072" name=""/>
                <p:cNvSpPr/>
                <p:nvPr/>
              </p:nvSpPr>
              <p:spPr>
                <a:xfrm flipH="1">
                  <a:off x="7706880" y="3692520"/>
                  <a:ext cx="1035360" cy="627120"/>
                </a:xfrm>
                <a:custGeom>
                  <a:avLst/>
                  <a:gdLst/>
                  <a:ahLst/>
                  <a:rect l="l" t="t" r="r" b="b"/>
                  <a:pathLst>
                    <a:path w="1306" h="789">
                      <a:moveTo>
                        <a:pt x="206" y="789"/>
                      </a:moveTo>
                      <a:lnTo>
                        <a:pt x="0" y="0"/>
                      </a:lnTo>
                      <a:lnTo>
                        <a:pt x="996" y="0"/>
                      </a:lnTo>
                      <a:lnTo>
                        <a:pt x="1306" y="789"/>
                      </a:lnTo>
                      <a:lnTo>
                        <a:pt x="206" y="789"/>
                      </a:lnTo>
                      <a:close/>
                    </a:path>
                  </a:pathLst>
                </a:custGeom>
                <a:solidFill>
                  <a:srgbClr val="bfbfd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7741800" y="3774960"/>
                  <a:ext cx="978120" cy="462240"/>
                  <a:chOff x="7741800" y="3774960"/>
                  <a:chExt cx="978120" cy="46224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 flipH="1">
                    <a:off x="7884720" y="3774960"/>
                    <a:ext cx="8352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2" h="114">
                        <a:moveTo>
                          <a:pt x="0" y="0"/>
                        </a:moveTo>
                        <a:lnTo>
                          <a:pt x="1008" y="0"/>
                        </a:lnTo>
                        <a:lnTo>
                          <a:pt x="1052" y="114"/>
                        </a:lnTo>
                        <a:lnTo>
                          <a:pt x="30" y="1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>
                    <a:off x="7812000" y="3959280"/>
                    <a:ext cx="8604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4" h="117">
                        <a:moveTo>
                          <a:pt x="0" y="0"/>
                        </a:moveTo>
                        <a:lnTo>
                          <a:pt x="1040" y="0"/>
                        </a:lnTo>
                        <a:lnTo>
                          <a:pt x="1084" y="117"/>
                        </a:lnTo>
                        <a:lnTo>
                          <a:pt x="30" y="1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>
                    <a:off x="7741800" y="4146480"/>
                    <a:ext cx="8827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14" h="114">
                        <a:moveTo>
                          <a:pt x="0" y="0"/>
                        </a:moveTo>
                        <a:lnTo>
                          <a:pt x="1072" y="0"/>
                        </a:lnTo>
                        <a:lnTo>
                          <a:pt x="1114" y="114"/>
                        </a:lnTo>
                        <a:lnTo>
                          <a:pt x="30" y="1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77" name=""/>
              <p:cNvGrpSpPr/>
              <p:nvPr/>
            </p:nvGrpSpPr>
            <p:grpSpPr>
              <a:xfrm>
                <a:off x="7773840" y="3714840"/>
                <a:ext cx="931680" cy="571320"/>
                <a:chOff x="7773840" y="3714840"/>
                <a:chExt cx="931680" cy="571320"/>
              </a:xfrm>
            </p:grpSpPr>
            <p:grpSp>
              <p:nvGrpSpPr>
                <p:cNvPr id="1078" name=""/>
                <p:cNvGrpSpPr/>
                <p:nvPr/>
              </p:nvGrpSpPr>
              <p:grpSpPr>
                <a:xfrm>
                  <a:off x="8551440" y="3721320"/>
                  <a:ext cx="154080" cy="564840"/>
                  <a:chOff x="8551440" y="3721320"/>
                  <a:chExt cx="154080" cy="56484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 flipH="1">
                    <a:off x="8688240" y="372132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>
                    <a:off x="8670240" y="3801960"/>
                    <a:ext cx="17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>
                    <a:off x="8645040" y="3876840"/>
                    <a:ext cx="190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2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8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8"/>
                        </a:lnTo>
                        <a:lnTo>
                          <a:pt x="22" y="16"/>
                        </a:lnTo>
                        <a:lnTo>
                          <a:pt x="24" y="14"/>
                        </a:lnTo>
                        <a:lnTo>
                          <a:pt x="24" y="12"/>
                        </a:lnTo>
                        <a:lnTo>
                          <a:pt x="24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 flipH="1">
                    <a:off x="8629560" y="3956040"/>
                    <a:ext cx="1728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3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4" y="21"/>
                        </a:lnTo>
                        <a:lnTo>
                          <a:pt x="6" y="23"/>
                        </a:lnTo>
                        <a:lnTo>
                          <a:pt x="8" y="23"/>
                        </a:lnTo>
                        <a:lnTo>
                          <a:pt x="12" y="23"/>
                        </a:lnTo>
                        <a:lnTo>
                          <a:pt x="14" y="23"/>
                        </a:lnTo>
                        <a:lnTo>
                          <a:pt x="16" y="23"/>
                        </a:lnTo>
                        <a:lnTo>
                          <a:pt x="16" y="21"/>
                        </a:lnTo>
                        <a:lnTo>
                          <a:pt x="18" y="21"/>
                        </a:lnTo>
                        <a:lnTo>
                          <a:pt x="20" y="20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H="1">
                    <a:off x="8608320" y="403704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6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H="1">
                    <a:off x="8589240" y="4113360"/>
                    <a:ext cx="176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20"/>
                        </a:lnTo>
                        <a:lnTo>
                          <a:pt x="18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H="1">
                    <a:off x="8569080" y="4189320"/>
                    <a:ext cx="17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2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8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H="1">
                    <a:off x="8551080" y="4270320"/>
                    <a:ext cx="1620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20" y="2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7773840" y="3714840"/>
                  <a:ext cx="203040" cy="555480"/>
                  <a:chOff x="7773840" y="3714840"/>
                  <a:chExt cx="203040" cy="55548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flipH="1">
                    <a:off x="7959600" y="371484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2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1" y="14"/>
                        </a:lnTo>
                        <a:lnTo>
                          <a:pt x="21" y="12"/>
                        </a:lnTo>
                        <a:lnTo>
                          <a:pt x="21" y="10"/>
                        </a:lnTo>
                        <a:lnTo>
                          <a:pt x="21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H="1">
                    <a:off x="7932600" y="379260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0" y="8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H="1">
                    <a:off x="7905600" y="3865680"/>
                    <a:ext cx="172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2" y="20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2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0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>
                    <a:off x="7876440" y="3941640"/>
                    <a:ext cx="176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2" y="4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2" y="14"/>
                        </a:lnTo>
                        <a:lnTo>
                          <a:pt x="2" y="16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2" y="20"/>
                        </a:lnTo>
                        <a:lnTo>
                          <a:pt x="14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2" y="4"/>
                        </a:lnTo>
                        <a:lnTo>
                          <a:pt x="22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 flipH="1">
                    <a:off x="7846920" y="4029120"/>
                    <a:ext cx="17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0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 flipH="1">
                    <a:off x="7801920" y="4173480"/>
                    <a:ext cx="1764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6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2"/>
                        </a:lnTo>
                        <a:lnTo>
                          <a:pt x="8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6" y="22"/>
                        </a:lnTo>
                        <a:lnTo>
                          <a:pt x="18" y="22"/>
                        </a:lnTo>
                        <a:lnTo>
                          <a:pt x="20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2"/>
                        </a:lnTo>
                        <a:lnTo>
                          <a:pt x="14" y="2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 flipH="1">
                    <a:off x="7773840" y="4254480"/>
                    <a:ext cx="1584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0">
                        <a:moveTo>
                          <a:pt x="10" y="0"/>
                        </a:move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2" y="2"/>
                        </a:lnTo>
                        <a:lnTo>
                          <a:pt x="0" y="4"/>
                        </a:lnTo>
                        <a:lnTo>
                          <a:pt x="0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18"/>
                        </a:lnTo>
                        <a:lnTo>
                          <a:pt x="4" y="20"/>
                        </a:lnTo>
                        <a:lnTo>
                          <a:pt x="6" y="20"/>
                        </a:lnTo>
                        <a:lnTo>
                          <a:pt x="8" y="20"/>
                        </a:lnTo>
                        <a:lnTo>
                          <a:pt x="10" y="20"/>
                        </a:lnTo>
                        <a:lnTo>
                          <a:pt x="12" y="20"/>
                        </a:lnTo>
                        <a:lnTo>
                          <a:pt x="16" y="20"/>
                        </a:lnTo>
                        <a:lnTo>
                          <a:pt x="18" y="18"/>
                        </a:lnTo>
                        <a:lnTo>
                          <a:pt x="20" y="16"/>
                        </a:lnTo>
                        <a:lnTo>
                          <a:pt x="20" y="14"/>
                        </a:lnTo>
                        <a:lnTo>
                          <a:pt x="20" y="12"/>
                        </a:lnTo>
                        <a:lnTo>
                          <a:pt x="20" y="10"/>
                        </a:lnTo>
                        <a:lnTo>
                          <a:pt x="20" y="8"/>
                        </a:lnTo>
                        <a:lnTo>
                          <a:pt x="20" y="6"/>
                        </a:lnTo>
                        <a:lnTo>
                          <a:pt x="20" y="4"/>
                        </a:lnTo>
                        <a:lnTo>
                          <a:pt x="18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 flipH="1">
                    <a:off x="7821360" y="4100400"/>
                    <a:ext cx="17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2">
                        <a:moveTo>
                          <a:pt x="12" y="0"/>
                        </a:move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2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0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2" y="16"/>
                        </a:lnTo>
                        <a:lnTo>
                          <a:pt x="2" y="18"/>
                        </a:lnTo>
                        <a:lnTo>
                          <a:pt x="4" y="18"/>
                        </a:lnTo>
                        <a:lnTo>
                          <a:pt x="6" y="20"/>
                        </a:lnTo>
                        <a:lnTo>
                          <a:pt x="10" y="22"/>
                        </a:lnTo>
                        <a:lnTo>
                          <a:pt x="12" y="22"/>
                        </a:lnTo>
                        <a:lnTo>
                          <a:pt x="14" y="22"/>
                        </a:lnTo>
                        <a:lnTo>
                          <a:pt x="16" y="20"/>
                        </a:lnTo>
                        <a:lnTo>
                          <a:pt x="18" y="20"/>
                        </a:lnTo>
                        <a:lnTo>
                          <a:pt x="20" y="18"/>
                        </a:lnTo>
                        <a:lnTo>
                          <a:pt x="22" y="16"/>
                        </a:lnTo>
                        <a:lnTo>
                          <a:pt x="22" y="14"/>
                        </a:lnTo>
                        <a:lnTo>
                          <a:pt x="22" y="12"/>
                        </a:lnTo>
                        <a:lnTo>
                          <a:pt x="22" y="10"/>
                        </a:lnTo>
                        <a:lnTo>
                          <a:pt x="22" y="8"/>
                        </a:lnTo>
                        <a:lnTo>
                          <a:pt x="22" y="6"/>
                        </a:lnTo>
                        <a:lnTo>
                          <a:pt x="20" y="4"/>
                        </a:lnTo>
                        <a:lnTo>
                          <a:pt x="18" y="2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6" name=""/>
            <p:cNvGrpSpPr/>
            <p:nvPr/>
          </p:nvGrpSpPr>
          <p:grpSpPr>
            <a:xfrm>
              <a:off x="6671880" y="4102200"/>
              <a:ext cx="1443240" cy="896760"/>
              <a:chOff x="6671880" y="4102200"/>
              <a:chExt cx="1443240" cy="896760"/>
            </a:xfrm>
          </p:grpSpPr>
          <p:grpSp>
            <p:nvGrpSpPr>
              <p:cNvPr id="1097" name=""/>
              <p:cNvGrpSpPr/>
              <p:nvPr/>
            </p:nvGrpSpPr>
            <p:grpSpPr>
              <a:xfrm>
                <a:off x="6671880" y="4102200"/>
                <a:ext cx="1443240" cy="896760"/>
                <a:chOff x="6671880" y="4102200"/>
                <a:chExt cx="1443240" cy="896760"/>
              </a:xfrm>
            </p:grpSpPr>
            <p:sp>
              <p:nvSpPr>
                <p:cNvPr id="1098" name=""/>
                <p:cNvSpPr/>
                <p:nvPr/>
              </p:nvSpPr>
              <p:spPr>
                <a:xfrm flipH="1">
                  <a:off x="6671520" y="4102200"/>
                  <a:ext cx="1443240" cy="896760"/>
                </a:xfrm>
                <a:custGeom>
                  <a:avLst/>
                  <a:gdLst/>
                  <a:ahLst/>
                  <a:rect l="l" t="t" r="r" b="b"/>
                  <a:pathLst>
                    <a:path w="1818" h="1131">
                      <a:moveTo>
                        <a:pt x="275" y="1131"/>
                      </a:moveTo>
                      <a:lnTo>
                        <a:pt x="0" y="0"/>
                      </a:lnTo>
                      <a:lnTo>
                        <a:pt x="1371" y="0"/>
                      </a:lnTo>
                      <a:lnTo>
                        <a:pt x="1818" y="1131"/>
                      </a:lnTo>
                      <a:lnTo>
                        <a:pt x="275" y="113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9" name=""/>
                <p:cNvGrpSpPr/>
                <p:nvPr/>
              </p:nvGrpSpPr>
              <p:grpSpPr>
                <a:xfrm>
                  <a:off x="6733800" y="4230720"/>
                  <a:ext cx="1349640" cy="615960"/>
                  <a:chOff x="6733800" y="4230720"/>
                  <a:chExt cx="1349640" cy="61596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 flipH="1">
                    <a:off x="6733800" y="4719600"/>
                    <a:ext cx="12304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0" h="159">
                        <a:moveTo>
                          <a:pt x="0" y="0"/>
                        </a:moveTo>
                        <a:lnTo>
                          <a:pt x="1489" y="0"/>
                        </a:lnTo>
                        <a:lnTo>
                          <a:pt x="1550" y="159"/>
                        </a:lnTo>
                        <a:lnTo>
                          <a:pt x="37" y="15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 flipH="1">
                    <a:off x="6925680" y="4230720"/>
                    <a:ext cx="11574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59" h="157">
                        <a:moveTo>
                          <a:pt x="0" y="0"/>
                        </a:moveTo>
                        <a:lnTo>
                          <a:pt x="1395" y="0"/>
                        </a:lnTo>
                        <a:lnTo>
                          <a:pt x="1459" y="157"/>
                        </a:lnTo>
                        <a:lnTo>
                          <a:pt x="38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 flipH="1">
                    <a:off x="6830640" y="4475160"/>
                    <a:ext cx="11937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505" h="157">
                        <a:moveTo>
                          <a:pt x="0" y="0"/>
                        </a:moveTo>
                        <a:lnTo>
                          <a:pt x="1443" y="0"/>
                        </a:lnTo>
                        <a:lnTo>
                          <a:pt x="1505" y="157"/>
                        </a:lnTo>
                        <a:lnTo>
                          <a:pt x="42" y="15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03" name=""/>
              <p:cNvGrpSpPr/>
              <p:nvPr/>
            </p:nvGrpSpPr>
            <p:grpSpPr>
              <a:xfrm>
                <a:off x="6756120" y="4157640"/>
                <a:ext cx="1301760" cy="781200"/>
                <a:chOff x="6756120" y="4157640"/>
                <a:chExt cx="1301760" cy="781200"/>
              </a:xfrm>
            </p:grpSpPr>
            <p:grpSp>
              <p:nvGrpSpPr>
                <p:cNvPr id="1104" name=""/>
                <p:cNvGrpSpPr/>
                <p:nvPr/>
              </p:nvGrpSpPr>
              <p:grpSpPr>
                <a:xfrm>
                  <a:off x="7829280" y="4157640"/>
                  <a:ext cx="228600" cy="781200"/>
                  <a:chOff x="7829280" y="4157640"/>
                  <a:chExt cx="228600" cy="781200"/>
                </a:xfrm>
              </p:grpSpPr>
              <p:sp>
                <p:nvSpPr>
                  <p:cNvPr id="1105" name=""/>
                  <p:cNvSpPr/>
                  <p:nvPr/>
                </p:nvSpPr>
                <p:spPr>
                  <a:xfrm flipH="1">
                    <a:off x="8031960" y="415764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6"/>
                        </a:lnTo>
                        <a:lnTo>
                          <a:pt x="30" y="22"/>
                        </a:lnTo>
                        <a:lnTo>
                          <a:pt x="32" y="20"/>
                        </a:lnTo>
                        <a:lnTo>
                          <a:pt x="32" y="18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 flipH="1">
                    <a:off x="8005680" y="4267080"/>
                    <a:ext cx="252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8"/>
                        </a:lnTo>
                        <a:lnTo>
                          <a:pt x="8" y="30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30" y="28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 flipH="1">
                    <a:off x="7968600" y="437508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 flipH="1">
                    <a:off x="7944840" y="448488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0">
                        <a:moveTo>
                          <a:pt x="15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4" y="30"/>
                        </a:lnTo>
                        <a:lnTo>
                          <a:pt x="17" y="30"/>
                        </a:lnTo>
                        <a:lnTo>
                          <a:pt x="19" y="30"/>
                        </a:lnTo>
                        <a:lnTo>
                          <a:pt x="23" y="28"/>
                        </a:lnTo>
                        <a:lnTo>
                          <a:pt x="25" y="28"/>
                        </a:lnTo>
                        <a:lnTo>
                          <a:pt x="27" y="26"/>
                        </a:lnTo>
                        <a:lnTo>
                          <a:pt x="29" y="24"/>
                        </a:lnTo>
                        <a:lnTo>
                          <a:pt x="31" y="20"/>
                        </a:lnTo>
                        <a:lnTo>
                          <a:pt x="33" y="18"/>
                        </a:lnTo>
                        <a:lnTo>
                          <a:pt x="33" y="16"/>
                        </a:lnTo>
                        <a:lnTo>
                          <a:pt x="33" y="12"/>
                        </a:lnTo>
                        <a:lnTo>
                          <a:pt x="31" y="10"/>
                        </a:lnTo>
                        <a:lnTo>
                          <a:pt x="31" y="8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5" y="2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 flipH="1">
                    <a:off x="7914600" y="45957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4"/>
                        </a:lnTo>
                        <a:lnTo>
                          <a:pt x="8" y="26"/>
                        </a:lnTo>
                        <a:lnTo>
                          <a:pt x="10" y="28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 flipH="1">
                    <a:off x="7887600" y="46990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0" y="22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flipH="1">
                    <a:off x="7857360" y="480708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2"/>
                        </a:lnTo>
                        <a:lnTo>
                          <a:pt x="30" y="20"/>
                        </a:lnTo>
                        <a:lnTo>
                          <a:pt x="32" y="18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flipH="1">
                    <a:off x="7828920" y="4917960"/>
                    <a:ext cx="2700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6"/>
                        </a:lnTo>
                        <a:lnTo>
                          <a:pt x="2" y="20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2" y="28"/>
                        </a:lnTo>
                        <a:lnTo>
                          <a:pt x="14" y="28"/>
                        </a:lnTo>
                        <a:lnTo>
                          <a:pt x="18" y="28"/>
                        </a:lnTo>
                        <a:lnTo>
                          <a:pt x="22" y="28"/>
                        </a:lnTo>
                        <a:lnTo>
                          <a:pt x="24" y="28"/>
                        </a:lnTo>
                        <a:lnTo>
                          <a:pt x="26" y="26"/>
                        </a:lnTo>
                        <a:lnTo>
                          <a:pt x="28" y="26"/>
                        </a:lnTo>
                        <a:lnTo>
                          <a:pt x="32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3" name=""/>
                <p:cNvGrpSpPr/>
                <p:nvPr/>
              </p:nvGrpSpPr>
              <p:grpSpPr>
                <a:xfrm>
                  <a:off x="6756120" y="4160880"/>
                  <a:ext cx="298440" cy="770040"/>
                  <a:chOff x="6756120" y="4160880"/>
                  <a:chExt cx="298440" cy="770040"/>
                </a:xfrm>
              </p:grpSpPr>
              <p:sp>
                <p:nvSpPr>
                  <p:cNvPr id="1114" name=""/>
                  <p:cNvSpPr/>
                  <p:nvPr/>
                </p:nvSpPr>
                <p:spPr>
                  <a:xfrm flipH="1">
                    <a:off x="7027200" y="416088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2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8" y="28"/>
                        </a:lnTo>
                        <a:lnTo>
                          <a:pt x="30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 flipH="1">
                    <a:off x="6987600" y="426888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 flipH="1">
                    <a:off x="6949440" y="437184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4" y="18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2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 flipH="1">
                    <a:off x="6908040" y="44751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8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0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 flipH="1">
                    <a:off x="6863760" y="4595760"/>
                    <a:ext cx="270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30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2" y="20"/>
                        </a:lnTo>
                        <a:lnTo>
                          <a:pt x="2" y="22"/>
                        </a:lnTo>
                        <a:lnTo>
                          <a:pt x="4" y="24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0"/>
                        </a:lnTo>
                        <a:lnTo>
                          <a:pt x="18" y="30"/>
                        </a:lnTo>
                        <a:lnTo>
                          <a:pt x="20" y="30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2" y="24"/>
                        </a:lnTo>
                        <a:lnTo>
                          <a:pt x="32" y="22"/>
                        </a:lnTo>
                        <a:lnTo>
                          <a:pt x="34" y="20"/>
                        </a:lnTo>
                        <a:lnTo>
                          <a:pt x="34" y="16"/>
                        </a:lnTo>
                        <a:lnTo>
                          <a:pt x="34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2" y="6"/>
                        </a:lnTo>
                        <a:lnTo>
                          <a:pt x="28" y="4"/>
                        </a:lnTo>
                        <a:lnTo>
                          <a:pt x="24" y="2"/>
                        </a:lnTo>
                        <a:lnTo>
                          <a:pt x="22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 flipH="1">
                    <a:off x="6798600" y="4797360"/>
                    <a:ext cx="255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0" y="8"/>
                        </a:lnTo>
                        <a:lnTo>
                          <a:pt x="0" y="12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2" y="28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0" y="20"/>
                        </a:lnTo>
                        <a:lnTo>
                          <a:pt x="32" y="18"/>
                        </a:lnTo>
                        <a:lnTo>
                          <a:pt x="32" y="16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30" y="6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4" y="2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 flipH="1">
                    <a:off x="6755760" y="4908600"/>
                    <a:ext cx="255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16" y="0"/>
                        </a:move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2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8" y="28"/>
                        </a:lnTo>
                        <a:lnTo>
                          <a:pt x="10" y="28"/>
                        </a:lnTo>
                        <a:lnTo>
                          <a:pt x="12" y="30"/>
                        </a:lnTo>
                        <a:lnTo>
                          <a:pt x="16" y="30"/>
                        </a:lnTo>
                        <a:lnTo>
                          <a:pt x="20" y="30"/>
                        </a:lnTo>
                        <a:lnTo>
                          <a:pt x="24" y="28"/>
                        </a:lnTo>
                        <a:lnTo>
                          <a:pt x="26" y="28"/>
                        </a:lnTo>
                        <a:lnTo>
                          <a:pt x="27" y="26"/>
                        </a:lnTo>
                        <a:lnTo>
                          <a:pt x="29" y="22"/>
                        </a:lnTo>
                        <a:lnTo>
                          <a:pt x="31" y="20"/>
                        </a:lnTo>
                        <a:lnTo>
                          <a:pt x="31" y="18"/>
                        </a:lnTo>
                        <a:lnTo>
                          <a:pt x="31" y="16"/>
                        </a:lnTo>
                        <a:lnTo>
                          <a:pt x="31" y="12"/>
                        </a:lnTo>
                        <a:lnTo>
                          <a:pt x="31" y="10"/>
                        </a:lnTo>
                        <a:lnTo>
                          <a:pt x="31" y="8"/>
                        </a:lnTo>
                        <a:lnTo>
                          <a:pt x="29" y="6"/>
                        </a:lnTo>
                        <a:lnTo>
                          <a:pt x="27" y="4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 flipH="1">
                    <a:off x="6827040" y="4694400"/>
                    <a:ext cx="255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2">
                        <a:moveTo>
                          <a:pt x="16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4"/>
                        </a:lnTo>
                        <a:lnTo>
                          <a:pt x="4" y="26"/>
                        </a:lnTo>
                        <a:lnTo>
                          <a:pt x="6" y="26"/>
                        </a:lnTo>
                        <a:lnTo>
                          <a:pt x="8" y="28"/>
                        </a:lnTo>
                        <a:lnTo>
                          <a:pt x="10" y="30"/>
                        </a:lnTo>
                        <a:lnTo>
                          <a:pt x="14" y="32"/>
                        </a:lnTo>
                        <a:lnTo>
                          <a:pt x="16" y="32"/>
                        </a:lnTo>
                        <a:lnTo>
                          <a:pt x="20" y="32"/>
                        </a:lnTo>
                        <a:lnTo>
                          <a:pt x="24" y="30"/>
                        </a:lnTo>
                        <a:lnTo>
                          <a:pt x="26" y="28"/>
                        </a:lnTo>
                        <a:lnTo>
                          <a:pt x="28" y="26"/>
                        </a:lnTo>
                        <a:lnTo>
                          <a:pt x="30" y="24"/>
                        </a:lnTo>
                        <a:lnTo>
                          <a:pt x="32" y="22"/>
                        </a:lnTo>
                        <a:lnTo>
                          <a:pt x="32" y="20"/>
                        </a:lnTo>
                        <a:lnTo>
                          <a:pt x="32" y="16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32" y="10"/>
                        </a:lnTo>
                        <a:lnTo>
                          <a:pt x="30" y="8"/>
                        </a:lnTo>
                        <a:lnTo>
                          <a:pt x="28" y="6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22" name=""/>
            <p:cNvGrpSpPr/>
            <p:nvPr/>
          </p:nvGrpSpPr>
          <p:grpSpPr>
            <a:xfrm>
              <a:off x="7189560" y="4673520"/>
              <a:ext cx="706320" cy="325440"/>
              <a:chOff x="7189560" y="4673520"/>
              <a:chExt cx="706320" cy="325440"/>
            </a:xfrm>
          </p:grpSpPr>
          <p:sp>
            <p:nvSpPr>
              <p:cNvPr id="1123" name=""/>
              <p:cNvSpPr/>
              <p:nvPr/>
            </p:nvSpPr>
            <p:spPr>
              <a:xfrm flipH="1">
                <a:off x="7189560" y="4673520"/>
                <a:ext cx="706320" cy="325440"/>
              </a:xfrm>
              <a:custGeom>
                <a:avLst/>
                <a:gdLst/>
                <a:ahLst/>
                <a:rect l="l" t="t" r="r" b="b"/>
                <a:pathLst>
                  <a:path w="891" h="411">
                    <a:moveTo>
                      <a:pt x="789" y="0"/>
                    </a:moveTo>
                    <a:lnTo>
                      <a:pt x="0" y="411"/>
                    </a:lnTo>
                    <a:lnTo>
                      <a:pt x="891" y="411"/>
                    </a:lnTo>
                    <a:lnTo>
                      <a:pt x="789" y="0"/>
                    </a:lnTo>
                    <a:close/>
                  </a:path>
                </a:pathLst>
              </a:custGeom>
              <a:solidFill>
                <a:srgbClr val="9f9f9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4" name=""/>
              <p:cNvGrpSpPr/>
              <p:nvPr/>
            </p:nvGrpSpPr>
            <p:grpSpPr>
              <a:xfrm>
                <a:off x="7308720" y="4727520"/>
                <a:ext cx="468360" cy="246240"/>
                <a:chOff x="7308720" y="4727520"/>
                <a:chExt cx="468360" cy="246240"/>
              </a:xfrm>
            </p:grpSpPr>
            <p:sp>
              <p:nvSpPr>
                <p:cNvPr id="1125" name=""/>
                <p:cNvSpPr/>
                <p:nvPr/>
              </p:nvSpPr>
              <p:spPr>
                <a:xfrm flipH="1">
                  <a:off x="7308720" y="4727520"/>
                  <a:ext cx="15840" cy="17640"/>
                </a:xfrm>
                <a:custGeom>
                  <a:avLst/>
                  <a:gdLst/>
                  <a:ahLst/>
                  <a:rect l="l" t="t" r="r" b="b"/>
                  <a:pathLst>
                    <a:path w="20" h="22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6" y="20"/>
                      </a:lnTo>
                      <a:lnTo>
                        <a:pt x="18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>
                  <a:off x="7373520" y="4761000"/>
                  <a:ext cx="14400" cy="17280"/>
                </a:xfrm>
                <a:custGeom>
                  <a:avLst/>
                  <a:gdLst/>
                  <a:ahLst/>
                  <a:rect l="l" t="t" r="r" b="b"/>
                  <a:pathLst>
                    <a:path w="18" h="22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4" y="22"/>
                      </a:lnTo>
                      <a:lnTo>
                        <a:pt x="6" y="22"/>
                      </a:lnTo>
                      <a:lnTo>
                        <a:pt x="10" y="22"/>
                      </a:lnTo>
                      <a:lnTo>
                        <a:pt x="12" y="22"/>
                      </a:lnTo>
                      <a:lnTo>
                        <a:pt x="14" y="22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18" y="14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H="1">
                  <a:off x="7440480" y="47973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>
                  <a:off x="7503840" y="48276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7562520" y="48592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8"/>
                      </a:lnTo>
                      <a:lnTo>
                        <a:pt x="14" y="18"/>
                      </a:lnTo>
                      <a:lnTo>
                        <a:pt x="16" y="16"/>
                      </a:lnTo>
                      <a:lnTo>
                        <a:pt x="18" y="16"/>
                      </a:lnTo>
                      <a:lnTo>
                        <a:pt x="18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7626240" y="4890960"/>
                  <a:ext cx="15840" cy="1620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4" y="18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8"/>
                      </a:lnTo>
                      <a:lnTo>
                        <a:pt x="18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>
                  <a:off x="7691040" y="492444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4"/>
                      </a:lnTo>
                      <a:lnTo>
                        <a:pt x="2" y="16"/>
                      </a:lnTo>
                      <a:lnTo>
                        <a:pt x="2" y="18"/>
                      </a:lnTo>
                      <a:lnTo>
                        <a:pt x="4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8" y="18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>
                  <a:off x="7760520" y="495792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20" h="20">
                      <a:moveTo>
                        <a:pt x="10" y="0"/>
                      </a:move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4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4"/>
                      </a:ln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6" y="18"/>
                      </a:lnTo>
                      <a:lnTo>
                        <a:pt x="6" y="20"/>
                      </a:lnTo>
                      <a:lnTo>
                        <a:pt x="8" y="20"/>
                      </a:lnTo>
                      <a:lnTo>
                        <a:pt x="10" y="20"/>
                      </a:lnTo>
                      <a:lnTo>
                        <a:pt x="12" y="20"/>
                      </a:lnTo>
                      <a:lnTo>
                        <a:pt x="16" y="20"/>
                      </a:lnTo>
                      <a:lnTo>
                        <a:pt x="16" y="18"/>
                      </a:lnTo>
                      <a:lnTo>
                        <a:pt x="18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2"/>
                      </a:lnTo>
                      <a:lnTo>
                        <a:pt x="20" y="10"/>
                      </a:lnTo>
                      <a:lnTo>
                        <a:pt x="20" y="8"/>
                      </a:lnTo>
                      <a:lnTo>
                        <a:pt x="20" y="6"/>
                      </a:lnTo>
                      <a:lnTo>
                        <a:pt x="20" y="4"/>
                      </a:lnTo>
                      <a:lnTo>
                        <a:pt x="18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"/>
            <p:cNvGrpSpPr/>
            <p:nvPr/>
          </p:nvGrpSpPr>
          <p:grpSpPr>
            <a:xfrm>
              <a:off x="8059320" y="4102200"/>
              <a:ext cx="519120" cy="217440"/>
              <a:chOff x="8059320" y="4102200"/>
              <a:chExt cx="519120" cy="217440"/>
            </a:xfrm>
          </p:grpSpPr>
          <p:sp>
            <p:nvSpPr>
              <p:cNvPr id="1134" name=""/>
              <p:cNvSpPr/>
              <p:nvPr/>
            </p:nvSpPr>
            <p:spPr>
              <a:xfrm flipH="1">
                <a:off x="8059320" y="4102200"/>
                <a:ext cx="519120" cy="217440"/>
              </a:xfrm>
              <a:custGeom>
                <a:avLst/>
                <a:gdLst/>
                <a:ahLst/>
                <a:rect l="l" t="t" r="r" b="b"/>
                <a:pathLst>
                  <a:path w="655" h="273">
                    <a:moveTo>
                      <a:pt x="585" y="0"/>
                    </a:moveTo>
                    <a:lnTo>
                      <a:pt x="0" y="273"/>
                    </a:lnTo>
                    <a:lnTo>
                      <a:pt x="655" y="273"/>
                    </a:lnTo>
                    <a:lnTo>
                      <a:pt x="585" y="0"/>
                    </a:lnTo>
                    <a:close/>
                  </a:path>
                </a:pathLst>
              </a:custGeom>
              <a:solidFill>
                <a:srgbClr val="9f9f9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5" name=""/>
              <p:cNvGrpSpPr/>
              <p:nvPr/>
            </p:nvGrpSpPr>
            <p:grpSpPr>
              <a:xfrm>
                <a:off x="8124480" y="4132440"/>
                <a:ext cx="385920" cy="179280"/>
                <a:chOff x="8124480" y="4132440"/>
                <a:chExt cx="385920" cy="179280"/>
              </a:xfrm>
            </p:grpSpPr>
            <p:sp>
              <p:nvSpPr>
                <p:cNvPr id="1136" name=""/>
                <p:cNvSpPr/>
                <p:nvPr/>
              </p:nvSpPr>
              <p:spPr>
                <a:xfrm flipH="1">
                  <a:off x="8124480" y="41324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8" y="0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6"/>
                      </a:lnTo>
                      <a:lnTo>
                        <a:pt x="6" y="16"/>
                      </a:lnTo>
                      <a:lnTo>
                        <a:pt x="8" y="16"/>
                      </a:lnTo>
                      <a:lnTo>
                        <a:pt x="10" y="16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6" y="14"/>
                      </a:lnTo>
                      <a:lnTo>
                        <a:pt x="18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8178120" y="41576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4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 flipH="1">
                  <a:off x="8232120" y="418320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H="1">
                  <a:off x="8284680" y="420516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H="1">
                  <a:off x="8332560" y="4227480"/>
                  <a:ext cx="14400" cy="1116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0"/>
                      </a:lnTo>
                      <a:lnTo>
                        <a:pt x="2" y="12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18" y="8"/>
                      </a:lnTo>
                      <a:lnTo>
                        <a:pt x="18" y="6"/>
                      </a:lnTo>
                      <a:lnTo>
                        <a:pt x="18" y="4"/>
                      </a:lnTo>
                      <a:lnTo>
                        <a:pt x="16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 flipH="1">
                  <a:off x="8386200" y="425124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2" y="12"/>
                      </a:lnTo>
                      <a:lnTo>
                        <a:pt x="4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H="1">
                  <a:off x="8438760" y="4275360"/>
                  <a:ext cx="12960" cy="1080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6" y="0"/>
                      </a:move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2" y="14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4" y="12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2" y="2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 flipH="1">
                  <a:off x="8497440" y="430056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16" h="14">
                      <a:moveTo>
                        <a:pt x="8" y="0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2" y="12"/>
                      </a:lnTo>
                      <a:lnTo>
                        <a:pt x="4" y="14"/>
                      </a:lnTo>
                      <a:lnTo>
                        <a:pt x="6" y="14"/>
                      </a:lnTo>
                      <a:lnTo>
                        <a:pt x="8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6" y="10"/>
                      </a:lnTo>
                      <a:lnTo>
                        <a:pt x="16" y="8"/>
                      </a:lnTo>
                      <a:lnTo>
                        <a:pt x="16" y="6"/>
                      </a:lnTo>
                      <a:lnTo>
                        <a:pt x="16" y="4"/>
                      </a:lnTo>
                      <a:lnTo>
                        <a:pt x="16" y="2"/>
                      </a:lnTo>
                      <a:lnTo>
                        <a:pt x="14" y="2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4" name=""/>
            <p:cNvGrpSpPr/>
            <p:nvPr/>
          </p:nvGrpSpPr>
          <p:grpSpPr>
            <a:xfrm>
              <a:off x="5202000" y="4673520"/>
              <a:ext cx="2068560" cy="1252800"/>
              <a:chOff x="5202000" y="4673520"/>
              <a:chExt cx="2068560" cy="125280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5202000" y="4673520"/>
                <a:ext cx="2068560" cy="1252800"/>
                <a:chOff x="5202000" y="4673520"/>
                <a:chExt cx="2068560" cy="1252800"/>
              </a:xfrm>
            </p:grpSpPr>
            <p:sp>
              <p:nvSpPr>
                <p:cNvPr id="1146" name=""/>
                <p:cNvSpPr/>
                <p:nvPr/>
              </p:nvSpPr>
              <p:spPr>
                <a:xfrm flipH="1">
                  <a:off x="5202000" y="4673520"/>
                  <a:ext cx="2068560" cy="1252800"/>
                </a:xfrm>
                <a:custGeom>
                  <a:avLst/>
                  <a:gdLst/>
                  <a:ahLst/>
                  <a:rect l="l" t="t" r="r" b="b"/>
                  <a:pathLst>
                    <a:path w="2607" h="1577">
                      <a:moveTo>
                        <a:pt x="411" y="1577"/>
                      </a:moveTo>
                      <a:lnTo>
                        <a:pt x="2607" y="1577"/>
                      </a:lnTo>
                      <a:lnTo>
                        <a:pt x="1954" y="0"/>
                      </a:lnTo>
                      <a:lnTo>
                        <a:pt x="0" y="0"/>
                      </a:lnTo>
                      <a:lnTo>
                        <a:pt x="411" y="15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7" name=""/>
                <p:cNvGrpSpPr/>
                <p:nvPr/>
              </p:nvGrpSpPr>
              <p:grpSpPr>
                <a:xfrm>
                  <a:off x="5281200" y="4837320"/>
                  <a:ext cx="1944720" cy="895320"/>
                  <a:chOff x="5281200" y="4837320"/>
                  <a:chExt cx="1944720" cy="89532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 flipH="1">
                    <a:off x="5573520" y="4837320"/>
                    <a:ext cx="1652400" cy="18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82" h="240">
                        <a:moveTo>
                          <a:pt x="0" y="0"/>
                        </a:moveTo>
                        <a:lnTo>
                          <a:pt x="1982" y="0"/>
                        </a:lnTo>
                        <a:lnTo>
                          <a:pt x="2082" y="240"/>
                        </a:lnTo>
                        <a:lnTo>
                          <a:pt x="60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 flipH="1">
                    <a:off x="5425560" y="5192640"/>
                    <a:ext cx="170820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52" h="235">
                        <a:moveTo>
                          <a:pt x="0" y="0"/>
                        </a:moveTo>
                        <a:lnTo>
                          <a:pt x="2054" y="0"/>
                        </a:lnTo>
                        <a:lnTo>
                          <a:pt x="2152" y="235"/>
                        </a:lnTo>
                        <a:lnTo>
                          <a:pt x="60" y="23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>
                    <a:off x="5280840" y="5541840"/>
                    <a:ext cx="1760760" cy="19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0" h="239">
                        <a:moveTo>
                          <a:pt x="0" y="0"/>
                        </a:moveTo>
                        <a:lnTo>
                          <a:pt x="2122" y="0"/>
                        </a:lnTo>
                        <a:lnTo>
                          <a:pt x="2220" y="239"/>
                        </a:lnTo>
                        <a:lnTo>
                          <a:pt x="60" y="23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51" name=""/>
              <p:cNvGrpSpPr/>
              <p:nvPr/>
            </p:nvGrpSpPr>
            <p:grpSpPr>
              <a:xfrm>
                <a:off x="5298840" y="4775400"/>
                <a:ext cx="1881000" cy="1041120"/>
                <a:chOff x="5298840" y="4775400"/>
                <a:chExt cx="1881000" cy="1041120"/>
              </a:xfrm>
            </p:grpSpPr>
            <p:grpSp>
              <p:nvGrpSpPr>
                <p:cNvPr id="1152" name=""/>
                <p:cNvGrpSpPr/>
                <p:nvPr/>
              </p:nvGrpSpPr>
              <p:grpSpPr>
                <a:xfrm>
                  <a:off x="5298840" y="4775400"/>
                  <a:ext cx="452520" cy="1031760"/>
                  <a:chOff x="5298840" y="4775400"/>
                  <a:chExt cx="452520" cy="103176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 flipH="1">
                    <a:off x="5721120" y="47754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2" y="31"/>
                        </a:lnTo>
                        <a:lnTo>
                          <a:pt x="4" y="33"/>
                        </a:lnTo>
                        <a:lnTo>
                          <a:pt x="8" y="35"/>
                        </a:lnTo>
                        <a:lnTo>
                          <a:pt x="12" y="37"/>
                        </a:lnTo>
                        <a:lnTo>
                          <a:pt x="14" y="37"/>
                        </a:lnTo>
                        <a:lnTo>
                          <a:pt x="20" y="37"/>
                        </a:lnTo>
                        <a:lnTo>
                          <a:pt x="22" y="37"/>
                        </a:lnTo>
                        <a:lnTo>
                          <a:pt x="26" y="37"/>
                        </a:lnTo>
                        <a:lnTo>
                          <a:pt x="30" y="35"/>
                        </a:lnTo>
                        <a:lnTo>
                          <a:pt x="32" y="33"/>
                        </a:lnTo>
                        <a:lnTo>
                          <a:pt x="34" y="29"/>
                        </a:lnTo>
                        <a:lnTo>
                          <a:pt x="36" y="27"/>
                        </a:lnTo>
                        <a:lnTo>
                          <a:pt x="38" y="23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6" y="14"/>
                        </a:lnTo>
                        <a:lnTo>
                          <a:pt x="36" y="12"/>
                        </a:lnTo>
                        <a:lnTo>
                          <a:pt x="34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 flipH="1">
                    <a:off x="5662440" y="4921200"/>
                    <a:ext cx="3024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>
                    <a:off x="5603400" y="50562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7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3"/>
                        </a:lnTo>
                        <a:lnTo>
                          <a:pt x="0" y="17"/>
                        </a:lnTo>
                        <a:lnTo>
                          <a:pt x="0" y="21"/>
                        </a:lnTo>
                        <a:lnTo>
                          <a:pt x="0" y="25"/>
                        </a:lnTo>
                        <a:lnTo>
                          <a:pt x="2" y="27"/>
                        </a:lnTo>
                        <a:lnTo>
                          <a:pt x="4" y="29"/>
                        </a:lnTo>
                        <a:lnTo>
                          <a:pt x="6" y="31"/>
                        </a:lnTo>
                        <a:lnTo>
                          <a:pt x="10" y="35"/>
                        </a:lnTo>
                        <a:lnTo>
                          <a:pt x="12" y="35"/>
                        </a:lnTo>
                        <a:lnTo>
                          <a:pt x="14" y="37"/>
                        </a:lnTo>
                        <a:lnTo>
                          <a:pt x="20" y="37"/>
                        </a:lnTo>
                        <a:lnTo>
                          <a:pt x="24" y="37"/>
                        </a:lnTo>
                        <a:lnTo>
                          <a:pt x="28" y="35"/>
                        </a:lnTo>
                        <a:lnTo>
                          <a:pt x="30" y="33"/>
                        </a:lnTo>
                        <a:lnTo>
                          <a:pt x="34" y="31"/>
                        </a:lnTo>
                        <a:lnTo>
                          <a:pt x="36" y="29"/>
                        </a:lnTo>
                        <a:lnTo>
                          <a:pt x="38" y="25"/>
                        </a:lnTo>
                        <a:lnTo>
                          <a:pt x="38" y="23"/>
                        </a:lnTo>
                        <a:lnTo>
                          <a:pt x="38" y="19"/>
                        </a:lnTo>
                        <a:lnTo>
                          <a:pt x="38" y="15"/>
                        </a:lnTo>
                        <a:lnTo>
                          <a:pt x="38" y="13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 flipH="1">
                    <a:off x="5543280" y="520056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21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1" y="38"/>
                        </a:lnTo>
                        <a:lnTo>
                          <a:pt x="25" y="38"/>
                        </a:lnTo>
                        <a:lnTo>
                          <a:pt x="29" y="38"/>
                        </a:lnTo>
                        <a:lnTo>
                          <a:pt x="33" y="36"/>
                        </a:lnTo>
                        <a:lnTo>
                          <a:pt x="35" y="34"/>
                        </a:lnTo>
                        <a:lnTo>
                          <a:pt x="37" y="30"/>
                        </a:lnTo>
                        <a:lnTo>
                          <a:pt x="39" y="28"/>
                        </a:lnTo>
                        <a:lnTo>
                          <a:pt x="39" y="24"/>
                        </a:lnTo>
                        <a:lnTo>
                          <a:pt x="39" y="20"/>
                        </a:lnTo>
                        <a:lnTo>
                          <a:pt x="39" y="18"/>
                        </a:lnTo>
                        <a:lnTo>
                          <a:pt x="39" y="14"/>
                        </a:lnTo>
                        <a:lnTo>
                          <a:pt x="39" y="12"/>
                        </a:lnTo>
                        <a:lnTo>
                          <a:pt x="37" y="8"/>
                        </a:lnTo>
                        <a:lnTo>
                          <a:pt x="35" y="6"/>
                        </a:lnTo>
                        <a:lnTo>
                          <a:pt x="33" y="4"/>
                        </a:lnTo>
                        <a:lnTo>
                          <a:pt x="29" y="2"/>
                        </a:lnTo>
                        <a:lnTo>
                          <a:pt x="27" y="2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 flipH="1">
                    <a:off x="5478120" y="534672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>
                    <a:off x="5419440" y="548640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>
                    <a:off x="5357520" y="56307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4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8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4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H="1">
                    <a:off x="5298840" y="577692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1" name=""/>
                <p:cNvGrpSpPr/>
                <p:nvPr/>
              </p:nvGrpSpPr>
              <p:grpSpPr>
                <a:xfrm>
                  <a:off x="6873480" y="4794120"/>
                  <a:ext cx="306360" cy="1022400"/>
                  <a:chOff x="6873480" y="4794120"/>
                  <a:chExt cx="306360" cy="1022400"/>
                </a:xfrm>
              </p:grpSpPr>
              <p:sp>
                <p:nvSpPr>
                  <p:cNvPr id="1162" name=""/>
                  <p:cNvSpPr/>
                  <p:nvPr/>
                </p:nvSpPr>
                <p:spPr>
                  <a:xfrm flipH="1">
                    <a:off x="7149600" y="47941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7" y="36"/>
                        </a:lnTo>
                        <a:lnTo>
                          <a:pt x="29" y="34"/>
                        </a:lnTo>
                        <a:lnTo>
                          <a:pt x="33" y="32"/>
                        </a:lnTo>
                        <a:lnTo>
                          <a:pt x="35" y="30"/>
                        </a:lnTo>
                        <a:lnTo>
                          <a:pt x="37" y="26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6"/>
                        </a:lnTo>
                        <a:lnTo>
                          <a:pt x="37" y="14"/>
                        </a:lnTo>
                        <a:lnTo>
                          <a:pt x="37" y="10"/>
                        </a:lnTo>
                        <a:lnTo>
                          <a:pt x="35" y="8"/>
                        </a:lnTo>
                        <a:lnTo>
                          <a:pt x="33" y="6"/>
                        </a:lnTo>
                        <a:lnTo>
                          <a:pt x="31" y="4"/>
                        </a:lnTo>
                        <a:lnTo>
                          <a:pt x="27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 flipH="1">
                    <a:off x="7108560" y="49323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2"/>
                        </a:lnTo>
                        <a:lnTo>
                          <a:pt x="36" y="28"/>
                        </a:lnTo>
                        <a:lnTo>
                          <a:pt x="38" y="24"/>
                        </a:lnTo>
                        <a:lnTo>
                          <a:pt x="38" y="22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 flipH="1">
                    <a:off x="7062480" y="5073840"/>
                    <a:ext cx="3168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 flipH="1">
                    <a:off x="7026120" y="521028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 flipH="1">
                    <a:off x="6990840" y="535140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 flipH="1">
                    <a:off x="6951240" y="5499000"/>
                    <a:ext cx="288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6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>
                    <a:off x="6919560" y="56358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 flipH="1">
                    <a:off x="6873480" y="578664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4" y="32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6" y="36"/>
                        </a:lnTo>
                        <a:lnTo>
                          <a:pt x="30" y="34"/>
                        </a:lnTo>
                        <a:lnTo>
                          <a:pt x="32" y="32"/>
                        </a:lnTo>
                        <a:lnTo>
                          <a:pt x="34" y="30"/>
                        </a:lnTo>
                        <a:lnTo>
                          <a:pt x="36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6" y="12"/>
                        </a:lnTo>
                        <a:lnTo>
                          <a:pt x="36" y="10"/>
                        </a:lnTo>
                        <a:lnTo>
                          <a:pt x="34" y="8"/>
                        </a:lnTo>
                        <a:lnTo>
                          <a:pt x="32" y="6"/>
                        </a:lnTo>
                        <a:lnTo>
                          <a:pt x="30" y="2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70" name=""/>
            <p:cNvGrpSpPr/>
            <p:nvPr/>
          </p:nvGrpSpPr>
          <p:grpSpPr>
            <a:xfrm>
              <a:off x="9492840" y="3178080"/>
              <a:ext cx="193680" cy="86040"/>
              <a:chOff x="9492840" y="3178080"/>
              <a:chExt cx="193680" cy="86040"/>
            </a:xfrm>
          </p:grpSpPr>
          <p:sp>
            <p:nvSpPr>
              <p:cNvPr id="1171" name=""/>
              <p:cNvSpPr/>
              <p:nvPr/>
            </p:nvSpPr>
            <p:spPr>
              <a:xfrm flipH="1">
                <a:off x="9492840" y="3178080"/>
                <a:ext cx="193680" cy="86040"/>
              </a:xfrm>
              <a:custGeom>
                <a:avLst/>
                <a:gdLst/>
                <a:ahLst/>
                <a:rect l="l" t="t" r="r" b="b"/>
                <a:pathLst>
                  <a:path w="243" h="108">
                    <a:moveTo>
                      <a:pt x="215" y="0"/>
                    </a:moveTo>
                    <a:lnTo>
                      <a:pt x="0" y="108"/>
                    </a:lnTo>
                    <a:lnTo>
                      <a:pt x="243" y="108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5f5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9523080" y="3192480"/>
                <a:ext cx="127080" cy="63360"/>
                <a:chOff x="9523080" y="3192480"/>
                <a:chExt cx="127080" cy="63360"/>
              </a:xfrm>
            </p:grpSpPr>
            <p:sp>
              <p:nvSpPr>
                <p:cNvPr id="1173" name=""/>
                <p:cNvSpPr/>
                <p:nvPr/>
              </p:nvSpPr>
              <p:spPr>
                <a:xfrm flipH="1">
                  <a:off x="9522720" y="3192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 flipH="1">
                  <a:off x="9540360" y="32004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 flipH="1">
                  <a:off x="9559800" y="32101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H="1">
                  <a:off x="9576720" y="32180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>
                  <a:off x="9592560" y="32259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H="1">
                  <a:off x="9608760" y="323532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H="1">
                  <a:off x="9626040" y="32432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6" y="6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9646560" y="32544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1" name=""/>
            <p:cNvGrpSpPr/>
            <p:nvPr/>
          </p:nvGrpSpPr>
          <p:grpSpPr>
            <a:xfrm>
              <a:off x="4168440" y="5926320"/>
              <a:ext cx="2776680" cy="895320"/>
              <a:chOff x="4168440" y="5926320"/>
              <a:chExt cx="2776680" cy="895320"/>
            </a:xfrm>
          </p:grpSpPr>
          <p:grpSp>
            <p:nvGrpSpPr>
              <p:cNvPr id="1182" name=""/>
              <p:cNvGrpSpPr/>
              <p:nvPr/>
            </p:nvGrpSpPr>
            <p:grpSpPr>
              <a:xfrm>
                <a:off x="4168440" y="5926320"/>
                <a:ext cx="2776680" cy="895320"/>
                <a:chOff x="4168440" y="5926320"/>
                <a:chExt cx="2776680" cy="895320"/>
              </a:xfrm>
            </p:grpSpPr>
            <p:sp>
              <p:nvSpPr>
                <p:cNvPr id="1183" name=""/>
                <p:cNvSpPr/>
                <p:nvPr/>
              </p:nvSpPr>
              <p:spPr>
                <a:xfrm flipH="1">
                  <a:off x="4168080" y="5926320"/>
                  <a:ext cx="2776680" cy="895320"/>
                </a:xfrm>
                <a:custGeom>
                  <a:avLst/>
                  <a:gdLst/>
                  <a:ahLst/>
                  <a:rect l="l" t="t" r="r" b="b"/>
                  <a:pathLst>
                    <a:path w="3497" h="1129">
                      <a:moveTo>
                        <a:pt x="0" y="0"/>
                      </a:moveTo>
                      <a:lnTo>
                        <a:pt x="2196" y="0"/>
                      </a:lnTo>
                      <a:lnTo>
                        <a:pt x="3497" y="1129"/>
                      </a:lnTo>
                      <a:lnTo>
                        <a:pt x="719" y="11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4327200" y="6032520"/>
                  <a:ext cx="2549520" cy="654120"/>
                  <a:chOff x="4327200" y="6032520"/>
                  <a:chExt cx="2549520" cy="65412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 flipH="1">
                    <a:off x="4952880" y="6032520"/>
                    <a:ext cx="19238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423" h="138">
                        <a:moveTo>
                          <a:pt x="0" y="0"/>
                        </a:moveTo>
                        <a:lnTo>
                          <a:pt x="2263" y="0"/>
                        </a:lnTo>
                        <a:lnTo>
                          <a:pt x="2423" y="138"/>
                        </a:lnTo>
                        <a:lnTo>
                          <a:pt x="92" y="13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 flipH="1">
                    <a:off x="4326840" y="6551640"/>
                    <a:ext cx="2217960" cy="1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94" h="172">
                        <a:moveTo>
                          <a:pt x="0" y="0"/>
                        </a:moveTo>
                        <a:lnTo>
                          <a:pt x="2607" y="0"/>
                        </a:lnTo>
                        <a:lnTo>
                          <a:pt x="2794" y="172"/>
                        </a:lnTo>
                        <a:lnTo>
                          <a:pt x="108" y="1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 flipH="1">
                    <a:off x="4638240" y="6278760"/>
                    <a:ext cx="208152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21" h="172">
                        <a:moveTo>
                          <a:pt x="0" y="0"/>
                        </a:moveTo>
                        <a:lnTo>
                          <a:pt x="2426" y="0"/>
                        </a:lnTo>
                        <a:lnTo>
                          <a:pt x="2621" y="172"/>
                        </a:lnTo>
                        <a:lnTo>
                          <a:pt x="110" y="1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dfffb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88" name=""/>
              <p:cNvGrpSpPr/>
              <p:nvPr/>
            </p:nvGrpSpPr>
            <p:grpSpPr>
              <a:xfrm>
                <a:off x="4300200" y="5967360"/>
                <a:ext cx="2549520" cy="800280"/>
                <a:chOff x="4300200" y="5967360"/>
                <a:chExt cx="2549520" cy="800280"/>
              </a:xfrm>
            </p:grpSpPr>
            <p:grpSp>
              <p:nvGrpSpPr>
                <p:cNvPr id="1189" name=""/>
                <p:cNvGrpSpPr/>
                <p:nvPr/>
              </p:nvGrpSpPr>
              <p:grpSpPr>
                <a:xfrm>
                  <a:off x="6338520" y="5977080"/>
                  <a:ext cx="511200" cy="790560"/>
                  <a:chOff x="6338520" y="5977080"/>
                  <a:chExt cx="511200" cy="79056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 flipH="1">
                    <a:off x="6819480" y="597708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 flipH="1">
                    <a:off x="6746400" y="610236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1" y="38"/>
                        </a:lnTo>
                        <a:lnTo>
                          <a:pt x="27" y="38"/>
                        </a:lnTo>
                        <a:lnTo>
                          <a:pt x="29" y="36"/>
                        </a:lnTo>
                        <a:lnTo>
                          <a:pt x="31" y="34"/>
                        </a:lnTo>
                        <a:lnTo>
                          <a:pt x="35" y="30"/>
                        </a:lnTo>
                        <a:lnTo>
                          <a:pt x="35" y="28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8"/>
                        </a:lnTo>
                        <a:lnTo>
                          <a:pt x="37" y="14"/>
                        </a:lnTo>
                        <a:lnTo>
                          <a:pt x="35" y="12"/>
                        </a:lnTo>
                        <a:lnTo>
                          <a:pt x="35" y="8"/>
                        </a:lnTo>
                        <a:lnTo>
                          <a:pt x="31" y="6"/>
                        </a:lnTo>
                        <a:lnTo>
                          <a:pt x="29" y="4"/>
                        </a:lnTo>
                        <a:lnTo>
                          <a:pt x="27" y="2"/>
                        </a:lnTo>
                        <a:lnTo>
                          <a:pt x="23" y="2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 flipH="1">
                    <a:off x="6662520" y="62276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0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2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>
                    <a:off x="6581520" y="635796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2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2"/>
                        </a:lnTo>
                        <a:lnTo>
                          <a:pt x="28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>
                    <a:off x="6498720" y="648324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6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2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2" y="34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2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>
                    <a:off x="6424200" y="660888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6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4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4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2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2"/>
                        </a:lnTo>
                        <a:lnTo>
                          <a:pt x="36" y="10"/>
                        </a:lnTo>
                        <a:lnTo>
                          <a:pt x="36" y="6"/>
                        </a:lnTo>
                        <a:lnTo>
                          <a:pt x="34" y="4"/>
                        </a:lnTo>
                        <a:lnTo>
                          <a:pt x="32" y="2"/>
                        </a:lnTo>
                        <a:lnTo>
                          <a:pt x="28" y="0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>
                    <a:off x="6338520" y="673740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38">
                        <a:moveTo>
                          <a:pt x="17" y="0"/>
                        </a:moveTo>
                        <a:lnTo>
                          <a:pt x="13" y="0"/>
                        </a:lnTo>
                        <a:lnTo>
                          <a:pt x="10" y="2"/>
                        </a:lnTo>
                        <a:lnTo>
                          <a:pt x="6" y="4"/>
                        </a:lnTo>
                        <a:lnTo>
                          <a:pt x="4" y="6"/>
                        </a:lnTo>
                        <a:lnTo>
                          <a:pt x="2" y="8"/>
                        </a:lnTo>
                        <a:lnTo>
                          <a:pt x="0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4" y="34"/>
                        </a:lnTo>
                        <a:lnTo>
                          <a:pt x="8" y="36"/>
                        </a:lnTo>
                        <a:lnTo>
                          <a:pt x="12" y="38"/>
                        </a:lnTo>
                        <a:lnTo>
                          <a:pt x="13" y="38"/>
                        </a:lnTo>
                        <a:lnTo>
                          <a:pt x="19" y="38"/>
                        </a:lnTo>
                        <a:lnTo>
                          <a:pt x="21" y="38"/>
                        </a:lnTo>
                        <a:lnTo>
                          <a:pt x="27" y="36"/>
                        </a:lnTo>
                        <a:lnTo>
                          <a:pt x="29" y="36"/>
                        </a:lnTo>
                        <a:lnTo>
                          <a:pt x="31" y="34"/>
                        </a:lnTo>
                        <a:lnTo>
                          <a:pt x="33" y="30"/>
                        </a:lnTo>
                        <a:lnTo>
                          <a:pt x="35" y="26"/>
                        </a:lnTo>
                        <a:lnTo>
                          <a:pt x="37" y="24"/>
                        </a:lnTo>
                        <a:lnTo>
                          <a:pt x="37" y="20"/>
                        </a:lnTo>
                        <a:lnTo>
                          <a:pt x="37" y="16"/>
                        </a:lnTo>
                        <a:lnTo>
                          <a:pt x="37" y="14"/>
                        </a:lnTo>
                        <a:lnTo>
                          <a:pt x="35" y="12"/>
                        </a:lnTo>
                        <a:lnTo>
                          <a:pt x="33" y="8"/>
                        </a:lnTo>
                        <a:lnTo>
                          <a:pt x="31" y="6"/>
                        </a:lnTo>
                        <a:lnTo>
                          <a:pt x="29" y="4"/>
                        </a:lnTo>
                        <a:lnTo>
                          <a:pt x="27" y="2"/>
                        </a:lnTo>
                        <a:lnTo>
                          <a:pt x="23" y="2"/>
                        </a:lnTo>
                        <a:lnTo>
                          <a:pt x="21" y="0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7" name=""/>
                <p:cNvGrpSpPr/>
                <p:nvPr/>
              </p:nvGrpSpPr>
              <p:grpSpPr>
                <a:xfrm>
                  <a:off x="4300200" y="5967360"/>
                  <a:ext cx="916200" cy="800280"/>
                  <a:chOff x="4300200" y="5967360"/>
                  <a:chExt cx="916200" cy="800280"/>
                </a:xfrm>
              </p:grpSpPr>
              <p:sp>
                <p:nvSpPr>
                  <p:cNvPr id="1198" name=""/>
                  <p:cNvSpPr/>
                  <p:nvPr/>
                </p:nvSpPr>
                <p:spPr>
                  <a:xfrm flipH="1">
                    <a:off x="5184000" y="5967360"/>
                    <a:ext cx="320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0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10" y="36"/>
                        </a:lnTo>
                        <a:lnTo>
                          <a:pt x="12" y="36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0"/>
                        </a:lnTo>
                        <a:lnTo>
                          <a:pt x="26" y="0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H="1">
                    <a:off x="5044680" y="6081840"/>
                    <a:ext cx="3024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4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2"/>
                        </a:lnTo>
                        <a:lnTo>
                          <a:pt x="38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4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 flipH="1">
                    <a:off x="4909680" y="62071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 flipH="1">
                    <a:off x="4738320" y="634356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8">
                        <a:moveTo>
                          <a:pt x="19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0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4" y="28"/>
                        </a:lnTo>
                        <a:lnTo>
                          <a:pt x="4" y="30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4" y="38"/>
                        </a:lnTo>
                        <a:lnTo>
                          <a:pt x="16" y="38"/>
                        </a:lnTo>
                        <a:lnTo>
                          <a:pt x="19" y="38"/>
                        </a:lnTo>
                        <a:lnTo>
                          <a:pt x="23" y="38"/>
                        </a:lnTo>
                        <a:lnTo>
                          <a:pt x="27" y="36"/>
                        </a:lnTo>
                        <a:lnTo>
                          <a:pt x="31" y="36"/>
                        </a:lnTo>
                        <a:lnTo>
                          <a:pt x="33" y="34"/>
                        </a:lnTo>
                        <a:lnTo>
                          <a:pt x="35" y="30"/>
                        </a:lnTo>
                        <a:lnTo>
                          <a:pt x="37" y="26"/>
                        </a:lnTo>
                        <a:lnTo>
                          <a:pt x="39" y="24"/>
                        </a:lnTo>
                        <a:lnTo>
                          <a:pt x="39" y="20"/>
                        </a:lnTo>
                        <a:lnTo>
                          <a:pt x="39" y="16"/>
                        </a:lnTo>
                        <a:lnTo>
                          <a:pt x="37" y="14"/>
                        </a:lnTo>
                        <a:lnTo>
                          <a:pt x="37" y="10"/>
                        </a:lnTo>
                        <a:lnTo>
                          <a:pt x="35" y="8"/>
                        </a:lnTo>
                        <a:lnTo>
                          <a:pt x="33" y="6"/>
                        </a:lnTo>
                        <a:lnTo>
                          <a:pt x="31" y="4"/>
                        </a:lnTo>
                        <a:lnTo>
                          <a:pt x="29" y="2"/>
                        </a:lnTo>
                        <a:lnTo>
                          <a:pt x="25" y="0"/>
                        </a:lnTo>
                        <a:lnTo>
                          <a:pt x="23" y="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 flipH="1">
                    <a:off x="4592160" y="6477120"/>
                    <a:ext cx="298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18" y="0"/>
                        </a:moveTo>
                        <a:lnTo>
                          <a:pt x="14" y="0"/>
                        </a:lnTo>
                        <a:lnTo>
                          <a:pt x="10" y="2"/>
                        </a:lnTo>
                        <a:lnTo>
                          <a:pt x="8" y="2"/>
                        </a:lnTo>
                        <a:lnTo>
                          <a:pt x="6" y="4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0" y="14"/>
                        </a:lnTo>
                        <a:lnTo>
                          <a:pt x="0" y="18"/>
                        </a:lnTo>
                        <a:lnTo>
                          <a:pt x="0" y="22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0"/>
                        </a:lnTo>
                        <a:lnTo>
                          <a:pt x="6" y="32"/>
                        </a:lnTo>
                        <a:lnTo>
                          <a:pt x="8" y="36"/>
                        </a:lnTo>
                        <a:lnTo>
                          <a:pt x="12" y="36"/>
                        </a:lnTo>
                        <a:lnTo>
                          <a:pt x="14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0" y="34"/>
                        </a:lnTo>
                        <a:lnTo>
                          <a:pt x="34" y="32"/>
                        </a:lnTo>
                        <a:lnTo>
                          <a:pt x="36" y="30"/>
                        </a:lnTo>
                        <a:lnTo>
                          <a:pt x="36" y="26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6"/>
                        </a:lnTo>
                        <a:lnTo>
                          <a:pt x="38" y="14"/>
                        </a:lnTo>
                        <a:lnTo>
                          <a:pt x="36" y="10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0" y="4"/>
                        </a:lnTo>
                        <a:lnTo>
                          <a:pt x="28" y="2"/>
                        </a:lnTo>
                        <a:lnTo>
                          <a:pt x="24" y="0"/>
                        </a:lnTo>
                        <a:lnTo>
                          <a:pt x="22" y="0"/>
                        </a:lnTo>
                        <a:lnTo>
                          <a:pt x="1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 flipH="1">
                    <a:off x="4447800" y="6604200"/>
                    <a:ext cx="302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2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4"/>
                        </a:lnTo>
                        <a:lnTo>
                          <a:pt x="0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8"/>
                        </a:lnTo>
                        <a:lnTo>
                          <a:pt x="30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8"/>
                        </a:lnTo>
                        <a:lnTo>
                          <a:pt x="38" y="24"/>
                        </a:lnTo>
                        <a:lnTo>
                          <a:pt x="38" y="20"/>
                        </a:lnTo>
                        <a:lnTo>
                          <a:pt x="38" y="18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28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 flipH="1">
                    <a:off x="4300200" y="6737400"/>
                    <a:ext cx="316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8">
                        <a:moveTo>
                          <a:pt x="20" y="0"/>
                        </a:moveTo>
                        <a:lnTo>
                          <a:pt x="16" y="0"/>
                        </a:lnTo>
                        <a:lnTo>
                          <a:pt x="12" y="2"/>
                        </a:lnTo>
                        <a:lnTo>
                          <a:pt x="8" y="4"/>
                        </a:lnTo>
                        <a:lnTo>
                          <a:pt x="6" y="6"/>
                        </a:lnTo>
                        <a:lnTo>
                          <a:pt x="4" y="8"/>
                        </a:lnTo>
                        <a:lnTo>
                          <a:pt x="2" y="12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22"/>
                        </a:lnTo>
                        <a:lnTo>
                          <a:pt x="2" y="26"/>
                        </a:lnTo>
                        <a:lnTo>
                          <a:pt x="2" y="28"/>
                        </a:lnTo>
                        <a:lnTo>
                          <a:pt x="4" y="32"/>
                        </a:lnTo>
                        <a:lnTo>
                          <a:pt x="6" y="34"/>
                        </a:lnTo>
                        <a:lnTo>
                          <a:pt x="10" y="36"/>
                        </a:lnTo>
                        <a:lnTo>
                          <a:pt x="12" y="38"/>
                        </a:lnTo>
                        <a:lnTo>
                          <a:pt x="16" y="38"/>
                        </a:lnTo>
                        <a:lnTo>
                          <a:pt x="20" y="38"/>
                        </a:lnTo>
                        <a:lnTo>
                          <a:pt x="24" y="38"/>
                        </a:lnTo>
                        <a:lnTo>
                          <a:pt x="28" y="36"/>
                        </a:lnTo>
                        <a:lnTo>
                          <a:pt x="32" y="36"/>
                        </a:lnTo>
                        <a:lnTo>
                          <a:pt x="34" y="34"/>
                        </a:lnTo>
                        <a:lnTo>
                          <a:pt x="36" y="30"/>
                        </a:lnTo>
                        <a:lnTo>
                          <a:pt x="38" y="26"/>
                        </a:lnTo>
                        <a:lnTo>
                          <a:pt x="40" y="24"/>
                        </a:lnTo>
                        <a:lnTo>
                          <a:pt x="40" y="20"/>
                        </a:lnTo>
                        <a:lnTo>
                          <a:pt x="40" y="16"/>
                        </a:lnTo>
                        <a:lnTo>
                          <a:pt x="38" y="14"/>
                        </a:lnTo>
                        <a:lnTo>
                          <a:pt x="38" y="12"/>
                        </a:lnTo>
                        <a:lnTo>
                          <a:pt x="36" y="8"/>
                        </a:lnTo>
                        <a:lnTo>
                          <a:pt x="34" y="6"/>
                        </a:lnTo>
                        <a:lnTo>
                          <a:pt x="32" y="4"/>
                        </a:lnTo>
                        <a:lnTo>
                          <a:pt x="30" y="2"/>
                        </a:lnTo>
                        <a:lnTo>
                          <a:pt x="26" y="2"/>
                        </a:lnTo>
                        <a:lnTo>
                          <a:pt x="22" y="0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7293-93B6-4749-86E9-2F77B38060E1}" type="slidenum">
              <a:t>74</a:t>
            </a:fld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TPS - Sistemas de Processamento de Transaçõe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básicos que servem em nível operacional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: Folha de pagamento: produção de cheques de pag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 e grava as transações rotineiras (trocas diárias de negócios) necessárias para conduzir o negó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s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didos de ven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ções de clien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 de reserva de hote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ha de pagamen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stro de empreg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7" name=""/>
          <p:cNvGrpSpPr/>
          <p:nvPr/>
        </p:nvGrpSpPr>
        <p:grpSpPr>
          <a:xfrm>
            <a:off x="5967360" y="4343400"/>
            <a:ext cx="2948040" cy="1752480"/>
            <a:chOff x="5967360" y="4343400"/>
            <a:chExt cx="2948040" cy="1752480"/>
          </a:xfrm>
        </p:grpSpPr>
        <p:sp>
          <p:nvSpPr>
            <p:cNvPr id="1208" name=""/>
            <p:cNvSpPr/>
            <p:nvPr/>
          </p:nvSpPr>
          <p:spPr>
            <a:xfrm>
              <a:off x="5967360" y="4343400"/>
              <a:ext cx="2948040" cy="175248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248520" y="5689440"/>
              <a:ext cx="239400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6415200" y="5364000"/>
              <a:ext cx="21049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553080" y="5056200"/>
              <a:ext cx="18147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762600" y="4724280"/>
              <a:ext cx="14493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5348520" y="5653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370-CDF5-4C01-AA6F-1528A0574186}" type="slidenum">
              <a:t>75</a:t>
            </a:fld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TPS - Sistemas de Processamento de Transaçõe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S cria a divisão entre organização e seu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PS produz informação para outros tipos de 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ível operacional, tarefas, recursos e objetivos s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é-defin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altamente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utura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mplo: Decisão para autorizar crédito a um cliente é feita por um supervisor de nível baixo de acordo com um critério pré-definido (decisão programada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do que deve ser feito é determinar se 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ende aos crité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5967360" y="4343400"/>
            <a:ext cx="2948040" cy="1752480"/>
            <a:chOff x="5967360" y="4343400"/>
            <a:chExt cx="2948040" cy="1752480"/>
          </a:xfrm>
        </p:grpSpPr>
        <p:sp>
          <p:nvSpPr>
            <p:cNvPr id="1217" name=""/>
            <p:cNvSpPr/>
            <p:nvPr/>
          </p:nvSpPr>
          <p:spPr>
            <a:xfrm>
              <a:off x="5967360" y="4343400"/>
              <a:ext cx="2948040" cy="175248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248520" y="5689440"/>
              <a:ext cx="239400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15200" y="5364000"/>
              <a:ext cx="21049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553080" y="5056200"/>
              <a:ext cx="18147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762600" y="4724280"/>
              <a:ext cx="14493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2" name=""/>
          <p:cNvSpPr/>
          <p:nvPr/>
        </p:nvSpPr>
        <p:spPr>
          <a:xfrm>
            <a:off x="5348520" y="56530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T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FCAE-F44B-439B-BF4F-469397A7CBAB}" type="slidenum">
              <a:t>76</a:t>
            </a:fld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KWS - </a:t>
            </a:r>
            <a:r>
              <a:rPr b="0" i="1" lang="en-US" sz="3400" spc="-1" strike="noStrike">
                <a:solidFill>
                  <a:srgbClr val="cc0000"/>
                </a:solidFill>
                <a:latin typeface="Times New Roman"/>
              </a:rPr>
              <a:t>Sistemas de Conhecimento do Trabalho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e OAS </a:t>
            </a:r>
            <a:r>
              <a:rPr b="0" i="1" lang="en-US" sz="3400" spc="-1" strike="noStrike">
                <a:solidFill>
                  <a:srgbClr val="cc0000"/>
                </a:solidFill>
                <a:latin typeface="Times New Roman"/>
              </a:rPr>
              <a:t>Sistemas de Automação de Escritório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O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m a informação necessária em nível de conheciment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4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K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xilia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wor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a criação e integração de novos conhecimentos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14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O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umentam a produtividade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5967360" y="4343400"/>
            <a:ext cx="2948040" cy="1752480"/>
            <a:chOff x="5967360" y="4343400"/>
            <a:chExt cx="2948040" cy="1752480"/>
          </a:xfrm>
        </p:grpSpPr>
        <p:sp>
          <p:nvSpPr>
            <p:cNvPr id="1226" name=""/>
            <p:cNvSpPr/>
            <p:nvPr/>
          </p:nvSpPr>
          <p:spPr>
            <a:xfrm>
              <a:off x="5967360" y="4343400"/>
              <a:ext cx="2948040" cy="175248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248520" y="5689440"/>
              <a:ext cx="239400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415200" y="5364000"/>
              <a:ext cx="21049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53080" y="5056200"/>
              <a:ext cx="18147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62600" y="4724280"/>
              <a:ext cx="14493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1" name=""/>
          <p:cNvSpPr/>
          <p:nvPr/>
        </p:nvSpPr>
        <p:spPr>
          <a:xfrm>
            <a:off x="5002560" y="534816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KWS; 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D292-09D5-40F1-86B2-F17FA2FAA8BE}" type="slidenum">
              <a:t>77</a:t>
            </a:fld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KWS - Sistemas de Trabalho de Conhecimento</a:t>
            </a:r>
            <a:r>
              <a:rPr b="0" i="1" lang="en-US" sz="3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i="1" lang="en-US" sz="3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m as necessidades de informação em nível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WS auxiliam o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nowledge wor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 com formação universitária em profissão reconhecida como engenheiro, médico, advogado e cient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u trabalho consiste principalmente em criar nova informação e conh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Knowledge worker system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3480" indent="-20124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ve a criação de novo conhecimento  e                 garante que novas tecnologias sejam                           integradas apropriadamente nos                                 negócios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6515280" y="4724280"/>
            <a:ext cx="2552400" cy="1418400"/>
            <a:chOff x="6515280" y="4724280"/>
            <a:chExt cx="2552400" cy="1418400"/>
          </a:xfrm>
        </p:grpSpPr>
        <p:sp>
          <p:nvSpPr>
            <p:cNvPr id="1235" name=""/>
            <p:cNvSpPr/>
            <p:nvPr/>
          </p:nvSpPr>
          <p:spPr>
            <a:xfrm>
              <a:off x="6515280" y="4724280"/>
              <a:ext cx="2552400" cy="137016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58640" y="5774400"/>
              <a:ext cx="20725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03000" y="5522400"/>
              <a:ext cx="18223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023960" y="5281560"/>
              <a:ext cx="156960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03600" y="5022000"/>
              <a:ext cx="125460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5839200" y="55008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K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EC4-6263-4BA3-A543-37BEB2F6CE81}" type="slidenum">
              <a:t>78</a:t>
            </a:fld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OAS - Sistemas de Automação de Escritório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m as necessidades de informação em nível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AS ajudam principalmente o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work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work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oa com formação avançada menos formal como secretária, contador, escriturário e administr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u trabalho consiste principalmente em processar ao invés de criar nova informação e conhec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fice Automation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ções de tecnologia de informação projetadas              para aumentar a produtividade dos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wor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 escritório, apoiando                                    as atividades de coordenação e                           comun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591240" y="4419720"/>
            <a:ext cx="2552760" cy="175248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834240" y="5805360"/>
            <a:ext cx="207324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80280" y="4662360"/>
            <a:ext cx="125424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009120" y="541008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O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162920" y="5043600"/>
            <a:ext cx="152388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978600" y="5424480"/>
            <a:ext cx="182268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EC67-2E95-4B90-A28C-B570665A353D}" type="slidenum">
              <a:t>79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1447920"/>
            <a:ext cx="8686800" cy="419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87878"/>
              </a:gs>
              <a:gs pos="50000">
                <a:srgbClr val="ffa7a7"/>
              </a:gs>
              <a:gs pos="100000">
                <a:srgbClr val="b87878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Fundamentos Organizacionais de Sistemas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de </a:t>
            </a:r>
            <a:r>
              <a:rPr b="0" i="1" lang="pt-BR" sz="4000" spc="-1" strike="noStrike">
                <a:solidFill>
                  <a:srgbClr val="cc0000"/>
                </a:solidFill>
                <a:latin typeface="Times New Roman"/>
              </a:rPr>
              <a:t>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cei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Sistema de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erspectiva técnica e comportamental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os Sistemas de Informação, com especial atenção às dimensões administrativas, organizacionais e tecnológicas nos Sistemas de Informaçã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dança do Processo de Gerenciamento,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papel crític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os Sistemas de Informação têm nas organizações, su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dependênci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ecessidade de planejar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quitetura da infor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safi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Sistemas de Informação                                        para os administradores -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Questões-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3600" indent="-18360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incip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ipos de Sistem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de Informação n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334200" y="4506840"/>
            <a:ext cx="2165400" cy="1693800"/>
            <a:chOff x="6334200" y="4506840"/>
            <a:chExt cx="2165400" cy="1693800"/>
          </a:xfrm>
        </p:grpSpPr>
        <p:sp>
          <p:nvSpPr>
            <p:cNvPr id="113" name=""/>
            <p:cNvSpPr/>
            <p:nvPr/>
          </p:nvSpPr>
          <p:spPr>
            <a:xfrm>
              <a:off x="6334200" y="4506840"/>
              <a:ext cx="2165400" cy="1542960"/>
            </a:xfrm>
            <a:custGeom>
              <a:avLst/>
              <a:gdLst/>
              <a:ahLst/>
              <a:rect l="l" t="t" r="r" b="b"/>
              <a:pathLst>
                <a:path w="2728" h="1944">
                  <a:moveTo>
                    <a:pt x="0" y="756"/>
                  </a:moveTo>
                  <a:lnTo>
                    <a:pt x="1088" y="1944"/>
                  </a:lnTo>
                  <a:lnTo>
                    <a:pt x="2728" y="1051"/>
                  </a:lnTo>
                  <a:lnTo>
                    <a:pt x="1484" y="0"/>
                  </a:lnTo>
                  <a:lnTo>
                    <a:pt x="0" y="75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6432480" y="4597200"/>
              <a:ext cx="1190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34200" y="5108400"/>
              <a:ext cx="863640" cy="1092240"/>
            </a:xfrm>
            <a:custGeom>
              <a:avLst/>
              <a:gdLst/>
              <a:ahLst/>
              <a:rect l="l" t="t" r="r" b="b"/>
              <a:pathLst>
                <a:path w="1088" h="1376">
                  <a:moveTo>
                    <a:pt x="0" y="0"/>
                  </a:moveTo>
                  <a:lnTo>
                    <a:pt x="0" y="182"/>
                  </a:lnTo>
                  <a:lnTo>
                    <a:pt x="1088" y="1376"/>
                  </a:lnTo>
                  <a:lnTo>
                    <a:pt x="1088" y="11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05760" y="5345280"/>
              <a:ext cx="1293840" cy="852480"/>
            </a:xfrm>
            <a:custGeom>
              <a:avLst/>
              <a:gdLst/>
              <a:ahLst/>
              <a:rect l="l" t="t" r="r" b="b"/>
              <a:pathLst>
                <a:path w="1631" h="1074">
                  <a:moveTo>
                    <a:pt x="1631" y="0"/>
                  </a:moveTo>
                  <a:lnTo>
                    <a:pt x="1631" y="175"/>
                  </a:lnTo>
                  <a:lnTo>
                    <a:pt x="0" y="1074"/>
                  </a:lnTo>
                  <a:lnTo>
                    <a:pt x="0" y="889"/>
                  </a:lnTo>
                  <a:lnTo>
                    <a:pt x="1631" y="0"/>
                  </a:lnTo>
                  <a:close/>
                </a:path>
              </a:pathLst>
            </a:custGeom>
            <a:solidFill>
              <a:srgbClr val="5f5f7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7137360" y="5025960"/>
            <a:ext cx="1463760" cy="1603440"/>
            <a:chOff x="7137360" y="5025960"/>
            <a:chExt cx="1463760" cy="1603440"/>
          </a:xfrm>
        </p:grpSpPr>
        <p:grpSp>
          <p:nvGrpSpPr>
            <p:cNvPr id="118" name=""/>
            <p:cNvGrpSpPr/>
            <p:nvPr/>
          </p:nvGrpSpPr>
          <p:grpSpPr>
            <a:xfrm>
              <a:off x="7280280" y="5025960"/>
              <a:ext cx="1320840" cy="1603440"/>
              <a:chOff x="7280280" y="5025960"/>
              <a:chExt cx="1320840" cy="160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7378560" y="5173560"/>
                <a:ext cx="606600" cy="271440"/>
              </a:xfrm>
              <a:custGeom>
                <a:avLst/>
                <a:gdLst/>
                <a:ahLst/>
                <a:rect l="l" t="t" r="r" b="b"/>
                <a:pathLst>
                  <a:path w="764" h="340">
                    <a:moveTo>
                      <a:pt x="37" y="165"/>
                    </a:moveTo>
                    <a:lnTo>
                      <a:pt x="0" y="248"/>
                    </a:lnTo>
                    <a:lnTo>
                      <a:pt x="18" y="313"/>
                    </a:lnTo>
                    <a:lnTo>
                      <a:pt x="83" y="340"/>
                    </a:lnTo>
                    <a:lnTo>
                      <a:pt x="155" y="340"/>
                    </a:lnTo>
                    <a:lnTo>
                      <a:pt x="195" y="333"/>
                    </a:lnTo>
                    <a:lnTo>
                      <a:pt x="230" y="325"/>
                    </a:lnTo>
                    <a:lnTo>
                      <a:pt x="276" y="313"/>
                    </a:lnTo>
                    <a:lnTo>
                      <a:pt x="320" y="316"/>
                    </a:lnTo>
                    <a:lnTo>
                      <a:pt x="368" y="322"/>
                    </a:lnTo>
                    <a:lnTo>
                      <a:pt x="422" y="328"/>
                    </a:lnTo>
                    <a:lnTo>
                      <a:pt x="469" y="319"/>
                    </a:lnTo>
                    <a:lnTo>
                      <a:pt x="509" y="307"/>
                    </a:lnTo>
                    <a:lnTo>
                      <a:pt x="543" y="293"/>
                    </a:lnTo>
                    <a:lnTo>
                      <a:pt x="572" y="294"/>
                    </a:lnTo>
                    <a:lnTo>
                      <a:pt x="607" y="303"/>
                    </a:lnTo>
                    <a:lnTo>
                      <a:pt x="641" y="313"/>
                    </a:lnTo>
                    <a:lnTo>
                      <a:pt x="666" y="317"/>
                    </a:lnTo>
                    <a:lnTo>
                      <a:pt x="699" y="322"/>
                    </a:lnTo>
                    <a:lnTo>
                      <a:pt x="764" y="313"/>
                    </a:lnTo>
                    <a:lnTo>
                      <a:pt x="736" y="0"/>
                    </a:lnTo>
                    <a:lnTo>
                      <a:pt x="37" y="165"/>
                    </a:lnTo>
                    <a:close/>
                  </a:path>
                </a:pathLst>
              </a:custGeom>
              <a:solidFill>
                <a:srgbClr val="ffbfb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7280280" y="5025960"/>
                <a:ext cx="1320840" cy="1603440"/>
                <a:chOff x="7280280" y="5025960"/>
                <a:chExt cx="1320840" cy="16034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280280" y="5025960"/>
                  <a:ext cx="1320840" cy="1603440"/>
                </a:xfrm>
                <a:custGeom>
                  <a:avLst/>
                  <a:gdLst/>
                  <a:ahLst/>
                  <a:rect l="l" t="t" r="r" b="b"/>
                  <a:pathLst>
                    <a:path w="1664" h="2019">
                      <a:moveTo>
                        <a:pt x="438" y="720"/>
                      </a:moveTo>
                      <a:lnTo>
                        <a:pt x="327" y="628"/>
                      </a:lnTo>
                      <a:lnTo>
                        <a:pt x="318" y="508"/>
                      </a:lnTo>
                      <a:lnTo>
                        <a:pt x="254" y="407"/>
                      </a:lnTo>
                      <a:lnTo>
                        <a:pt x="180" y="342"/>
                      </a:lnTo>
                      <a:lnTo>
                        <a:pt x="131" y="313"/>
                      </a:lnTo>
                      <a:lnTo>
                        <a:pt x="97" y="305"/>
                      </a:lnTo>
                      <a:lnTo>
                        <a:pt x="66" y="310"/>
                      </a:lnTo>
                      <a:lnTo>
                        <a:pt x="36" y="322"/>
                      </a:lnTo>
                      <a:lnTo>
                        <a:pt x="11" y="338"/>
                      </a:lnTo>
                      <a:lnTo>
                        <a:pt x="0" y="361"/>
                      </a:lnTo>
                      <a:lnTo>
                        <a:pt x="5" y="388"/>
                      </a:lnTo>
                      <a:lnTo>
                        <a:pt x="33" y="499"/>
                      </a:lnTo>
                      <a:lnTo>
                        <a:pt x="51" y="628"/>
                      </a:lnTo>
                      <a:lnTo>
                        <a:pt x="51" y="677"/>
                      </a:lnTo>
                      <a:lnTo>
                        <a:pt x="51" y="729"/>
                      </a:lnTo>
                      <a:lnTo>
                        <a:pt x="79" y="775"/>
                      </a:lnTo>
                      <a:lnTo>
                        <a:pt x="143" y="848"/>
                      </a:lnTo>
                      <a:lnTo>
                        <a:pt x="208" y="950"/>
                      </a:lnTo>
                      <a:lnTo>
                        <a:pt x="244" y="1069"/>
                      </a:lnTo>
                      <a:lnTo>
                        <a:pt x="272" y="1235"/>
                      </a:lnTo>
                      <a:lnTo>
                        <a:pt x="318" y="1309"/>
                      </a:lnTo>
                      <a:lnTo>
                        <a:pt x="392" y="1393"/>
                      </a:lnTo>
                      <a:lnTo>
                        <a:pt x="465" y="1504"/>
                      </a:lnTo>
                      <a:lnTo>
                        <a:pt x="613" y="1642"/>
                      </a:lnTo>
                      <a:lnTo>
                        <a:pt x="677" y="1688"/>
                      </a:lnTo>
                      <a:lnTo>
                        <a:pt x="742" y="1715"/>
                      </a:lnTo>
                      <a:lnTo>
                        <a:pt x="774" y="1794"/>
                      </a:lnTo>
                      <a:lnTo>
                        <a:pt x="797" y="1847"/>
                      </a:lnTo>
                      <a:lnTo>
                        <a:pt x="815" y="1900"/>
                      </a:lnTo>
                      <a:lnTo>
                        <a:pt x="846" y="1946"/>
                      </a:lnTo>
                      <a:lnTo>
                        <a:pt x="889" y="1993"/>
                      </a:lnTo>
                      <a:lnTo>
                        <a:pt x="915" y="2019"/>
                      </a:lnTo>
                      <a:lnTo>
                        <a:pt x="955" y="1982"/>
                      </a:lnTo>
                      <a:lnTo>
                        <a:pt x="992" y="1946"/>
                      </a:lnTo>
                      <a:lnTo>
                        <a:pt x="1073" y="1889"/>
                      </a:lnTo>
                      <a:lnTo>
                        <a:pt x="1185" y="1817"/>
                      </a:lnTo>
                      <a:lnTo>
                        <a:pt x="1254" y="1775"/>
                      </a:lnTo>
                      <a:lnTo>
                        <a:pt x="1342" y="1725"/>
                      </a:lnTo>
                      <a:lnTo>
                        <a:pt x="1441" y="1691"/>
                      </a:lnTo>
                      <a:lnTo>
                        <a:pt x="1526" y="1669"/>
                      </a:lnTo>
                      <a:lnTo>
                        <a:pt x="1602" y="1677"/>
                      </a:lnTo>
                      <a:lnTo>
                        <a:pt x="1664" y="1688"/>
                      </a:lnTo>
                      <a:lnTo>
                        <a:pt x="1572" y="1587"/>
                      </a:lnTo>
                      <a:lnTo>
                        <a:pt x="1544" y="1550"/>
                      </a:lnTo>
                      <a:lnTo>
                        <a:pt x="1489" y="1504"/>
                      </a:lnTo>
                      <a:lnTo>
                        <a:pt x="1464" y="1470"/>
                      </a:lnTo>
                      <a:lnTo>
                        <a:pt x="1452" y="1439"/>
                      </a:lnTo>
                      <a:lnTo>
                        <a:pt x="1461" y="1366"/>
                      </a:lnTo>
                      <a:lnTo>
                        <a:pt x="1480" y="1134"/>
                      </a:lnTo>
                      <a:lnTo>
                        <a:pt x="1452" y="876"/>
                      </a:lnTo>
                      <a:lnTo>
                        <a:pt x="1452" y="710"/>
                      </a:lnTo>
                      <a:lnTo>
                        <a:pt x="1470" y="575"/>
                      </a:lnTo>
                      <a:lnTo>
                        <a:pt x="1480" y="511"/>
                      </a:lnTo>
                      <a:lnTo>
                        <a:pt x="1472" y="476"/>
                      </a:lnTo>
                      <a:lnTo>
                        <a:pt x="1460" y="451"/>
                      </a:lnTo>
                      <a:lnTo>
                        <a:pt x="1440" y="430"/>
                      </a:lnTo>
                      <a:lnTo>
                        <a:pt x="1418" y="417"/>
                      </a:lnTo>
                      <a:lnTo>
                        <a:pt x="1386" y="402"/>
                      </a:lnTo>
                      <a:lnTo>
                        <a:pt x="1342" y="379"/>
                      </a:lnTo>
                      <a:lnTo>
                        <a:pt x="1314" y="342"/>
                      </a:lnTo>
                      <a:lnTo>
                        <a:pt x="1249" y="278"/>
                      </a:lnTo>
                      <a:lnTo>
                        <a:pt x="1157" y="232"/>
                      </a:lnTo>
                      <a:lnTo>
                        <a:pt x="1038" y="176"/>
                      </a:lnTo>
                      <a:lnTo>
                        <a:pt x="881" y="78"/>
                      </a:lnTo>
                      <a:lnTo>
                        <a:pt x="846" y="48"/>
                      </a:lnTo>
                      <a:lnTo>
                        <a:pt x="806" y="14"/>
                      </a:lnTo>
                      <a:lnTo>
                        <a:pt x="760" y="0"/>
                      </a:lnTo>
                      <a:lnTo>
                        <a:pt x="686" y="11"/>
                      </a:lnTo>
                      <a:lnTo>
                        <a:pt x="639" y="38"/>
                      </a:lnTo>
                      <a:lnTo>
                        <a:pt x="594" y="61"/>
                      </a:lnTo>
                      <a:lnTo>
                        <a:pt x="551" y="74"/>
                      </a:lnTo>
                      <a:lnTo>
                        <a:pt x="502" y="75"/>
                      </a:lnTo>
                      <a:lnTo>
                        <a:pt x="462" y="80"/>
                      </a:lnTo>
                      <a:lnTo>
                        <a:pt x="401" y="94"/>
                      </a:lnTo>
                      <a:lnTo>
                        <a:pt x="350" y="117"/>
                      </a:lnTo>
                      <a:lnTo>
                        <a:pt x="290" y="149"/>
                      </a:lnTo>
                      <a:lnTo>
                        <a:pt x="162" y="176"/>
                      </a:lnTo>
                      <a:lnTo>
                        <a:pt x="116" y="186"/>
                      </a:lnTo>
                      <a:lnTo>
                        <a:pt x="100" y="195"/>
                      </a:lnTo>
                      <a:lnTo>
                        <a:pt x="88" y="210"/>
                      </a:lnTo>
                      <a:lnTo>
                        <a:pt x="85" y="242"/>
                      </a:lnTo>
                      <a:lnTo>
                        <a:pt x="88" y="278"/>
                      </a:lnTo>
                      <a:lnTo>
                        <a:pt x="109" y="295"/>
                      </a:lnTo>
                      <a:lnTo>
                        <a:pt x="131" y="311"/>
                      </a:lnTo>
                      <a:lnTo>
                        <a:pt x="180" y="342"/>
                      </a:lnTo>
                      <a:lnTo>
                        <a:pt x="318" y="361"/>
                      </a:lnTo>
                      <a:lnTo>
                        <a:pt x="436" y="344"/>
                      </a:lnTo>
                      <a:lnTo>
                        <a:pt x="475" y="351"/>
                      </a:lnTo>
                      <a:lnTo>
                        <a:pt x="559" y="345"/>
                      </a:lnTo>
                      <a:lnTo>
                        <a:pt x="611" y="331"/>
                      </a:lnTo>
                      <a:lnTo>
                        <a:pt x="677" y="305"/>
                      </a:lnTo>
                      <a:lnTo>
                        <a:pt x="717" y="292"/>
                      </a:lnTo>
                      <a:lnTo>
                        <a:pt x="725" y="331"/>
                      </a:lnTo>
                      <a:lnTo>
                        <a:pt x="726" y="361"/>
                      </a:lnTo>
                      <a:lnTo>
                        <a:pt x="739" y="400"/>
                      </a:lnTo>
                      <a:lnTo>
                        <a:pt x="723" y="517"/>
                      </a:lnTo>
                      <a:lnTo>
                        <a:pt x="677" y="646"/>
                      </a:lnTo>
                      <a:lnTo>
                        <a:pt x="613" y="692"/>
                      </a:lnTo>
                      <a:lnTo>
                        <a:pt x="438" y="720"/>
                      </a:lnTo>
                      <a:close/>
                    </a:path>
                  </a:pathLst>
                </a:custGeom>
                <a:solidFill>
                  <a:srgbClr val="f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567560" y="5391000"/>
                  <a:ext cx="41400" cy="255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54" y="32"/>
                      </a:moveTo>
                      <a:lnTo>
                        <a:pt x="25" y="21"/>
                      </a:lnTo>
                      <a:lnTo>
                        <a:pt x="6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8337600" y="5324400"/>
                  <a:ext cx="15840" cy="262080"/>
                </a:xfrm>
                <a:custGeom>
                  <a:avLst/>
                  <a:gdLst/>
                  <a:ahLst/>
                  <a:rect l="l" t="t" r="r" b="b"/>
                  <a:pathLst>
                    <a:path w="20" h="330">
                      <a:moveTo>
                        <a:pt x="10" y="0"/>
                      </a:moveTo>
                      <a:lnTo>
                        <a:pt x="20" y="51"/>
                      </a:lnTo>
                      <a:lnTo>
                        <a:pt x="2" y="236"/>
                      </a:lnTo>
                      <a:lnTo>
                        <a:pt x="0" y="33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331040" y="5295960"/>
                  <a:ext cx="54000" cy="131760"/>
                </a:xfrm>
                <a:custGeom>
                  <a:avLst/>
                  <a:gdLst/>
                  <a:ahLst/>
                  <a:rect l="l" t="t" r="r" b="b"/>
                  <a:pathLst>
                    <a:path w="69" h="166">
                      <a:moveTo>
                        <a:pt x="23" y="0"/>
                      </a:moveTo>
                      <a:lnTo>
                        <a:pt x="53" y="51"/>
                      </a:lnTo>
                      <a:lnTo>
                        <a:pt x="68" y="81"/>
                      </a:lnTo>
                      <a:lnTo>
                        <a:pt x="69" y="111"/>
                      </a:lnTo>
                      <a:lnTo>
                        <a:pt x="57" y="137"/>
                      </a:lnTo>
                      <a:lnTo>
                        <a:pt x="26" y="155"/>
                      </a:lnTo>
                      <a:lnTo>
                        <a:pt x="0" y="16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808760" y="5181480"/>
                  <a:ext cx="39960" cy="71640"/>
                </a:xfrm>
                <a:custGeom>
                  <a:avLst/>
                  <a:gdLst/>
                  <a:ahLst/>
                  <a:rect l="l" t="t" r="r" b="b"/>
                  <a:pathLst>
                    <a:path w="49" h="90">
                      <a:moveTo>
                        <a:pt x="0" y="0"/>
                      </a:moveTo>
                      <a:lnTo>
                        <a:pt x="0" y="31"/>
                      </a:lnTo>
                      <a:lnTo>
                        <a:pt x="7" y="55"/>
                      </a:lnTo>
                      <a:lnTo>
                        <a:pt x="25" y="80"/>
                      </a:lnTo>
                      <a:lnTo>
                        <a:pt x="49" y="9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556400" y="5240160"/>
                  <a:ext cx="81000" cy="63720"/>
                </a:xfrm>
                <a:custGeom>
                  <a:avLst/>
                  <a:gdLst/>
                  <a:ahLst/>
                  <a:rect l="l" t="t" r="r" b="b"/>
                  <a:pathLst>
                    <a:path w="103" h="82">
                      <a:moveTo>
                        <a:pt x="0" y="0"/>
                      </a:moveTo>
                      <a:lnTo>
                        <a:pt x="0" y="22"/>
                      </a:lnTo>
                      <a:lnTo>
                        <a:pt x="8" y="43"/>
                      </a:lnTo>
                      <a:lnTo>
                        <a:pt x="34" y="66"/>
                      </a:lnTo>
                      <a:lnTo>
                        <a:pt x="54" y="77"/>
                      </a:lnTo>
                      <a:lnTo>
                        <a:pt x="78" y="82"/>
                      </a:lnTo>
                      <a:lnTo>
                        <a:pt x="103" y="8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626240" y="5597640"/>
                  <a:ext cx="25560" cy="2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" name=""/>
            <p:cNvGrpSpPr/>
            <p:nvPr/>
          </p:nvGrpSpPr>
          <p:grpSpPr>
            <a:xfrm>
              <a:off x="7137360" y="5214960"/>
              <a:ext cx="1339920" cy="171360"/>
              <a:chOff x="7137360" y="5214960"/>
              <a:chExt cx="1339920" cy="17136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7137360" y="5308560"/>
                <a:ext cx="166680" cy="77760"/>
                <a:chOff x="7137360" y="5308560"/>
                <a:chExt cx="166680" cy="77760"/>
              </a:xfrm>
            </p:grpSpPr>
            <p:sp>
              <p:nvSpPr>
                <p:cNvPr id="130" name=""/>
                <p:cNvSpPr/>
                <p:nvPr/>
              </p:nvSpPr>
              <p:spPr>
                <a:xfrm flipH="1">
                  <a:off x="7137360" y="5356080"/>
                  <a:ext cx="31680" cy="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145280" y="5311800"/>
                  <a:ext cx="158760" cy="73080"/>
                </a:xfrm>
                <a:custGeom>
                  <a:avLst/>
                  <a:gdLst/>
                  <a:ahLst/>
                  <a:rect l="l" t="t" r="r" b="b"/>
                  <a:pathLst>
                    <a:path w="200" h="92">
                      <a:moveTo>
                        <a:pt x="172" y="0"/>
                      </a:moveTo>
                      <a:lnTo>
                        <a:pt x="149" y="2"/>
                      </a:lnTo>
                      <a:lnTo>
                        <a:pt x="117" y="6"/>
                      </a:lnTo>
                      <a:lnTo>
                        <a:pt x="98" y="9"/>
                      </a:lnTo>
                      <a:lnTo>
                        <a:pt x="66" y="18"/>
                      </a:lnTo>
                      <a:lnTo>
                        <a:pt x="43" y="28"/>
                      </a:lnTo>
                      <a:lnTo>
                        <a:pt x="29" y="34"/>
                      </a:lnTo>
                      <a:lnTo>
                        <a:pt x="17" y="43"/>
                      </a:lnTo>
                      <a:lnTo>
                        <a:pt x="0" y="55"/>
                      </a:lnTo>
                      <a:lnTo>
                        <a:pt x="11" y="64"/>
                      </a:lnTo>
                      <a:lnTo>
                        <a:pt x="26" y="77"/>
                      </a:lnTo>
                      <a:lnTo>
                        <a:pt x="52" y="84"/>
                      </a:lnTo>
                      <a:lnTo>
                        <a:pt x="75" y="87"/>
                      </a:lnTo>
                      <a:lnTo>
                        <a:pt x="98" y="89"/>
                      </a:lnTo>
                      <a:lnTo>
                        <a:pt x="131" y="92"/>
                      </a:lnTo>
                      <a:lnTo>
                        <a:pt x="167" y="92"/>
                      </a:lnTo>
                      <a:lnTo>
                        <a:pt x="200" y="87"/>
                      </a:lnTo>
                      <a:lnTo>
                        <a:pt x="178" y="51"/>
                      </a:lnTo>
                      <a:lnTo>
                        <a:pt x="172" y="0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238880" y="5308560"/>
                  <a:ext cx="55800" cy="77760"/>
                </a:xfrm>
                <a:custGeom>
                  <a:avLst/>
                  <a:gdLst/>
                  <a:ahLst/>
                  <a:rect l="l" t="t" r="r" b="b"/>
                  <a:pathLst>
                    <a:path w="69" h="99">
                      <a:moveTo>
                        <a:pt x="0" y="11"/>
                      </a:moveTo>
                      <a:lnTo>
                        <a:pt x="56" y="0"/>
                      </a:lnTo>
                      <a:lnTo>
                        <a:pt x="51" y="23"/>
                      </a:lnTo>
                      <a:lnTo>
                        <a:pt x="60" y="53"/>
                      </a:lnTo>
                      <a:lnTo>
                        <a:pt x="68" y="88"/>
                      </a:lnTo>
                      <a:lnTo>
                        <a:pt x="69" y="97"/>
                      </a:lnTo>
                      <a:lnTo>
                        <a:pt x="45" y="99"/>
                      </a:lnTo>
                      <a:lnTo>
                        <a:pt x="0" y="97"/>
                      </a:lnTo>
                      <a:lnTo>
                        <a:pt x="13" y="74"/>
                      </a:lnTo>
                      <a:lnTo>
                        <a:pt x="14" y="51"/>
                      </a:lnTo>
                      <a:lnTo>
                        <a:pt x="10" y="28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7237440" y="5214960"/>
                <a:ext cx="1239840" cy="169920"/>
                <a:chOff x="7237440" y="5214960"/>
                <a:chExt cx="1239840" cy="16992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7415280" y="5214960"/>
                  <a:ext cx="1062000" cy="163440"/>
                  <a:chOff x="7415280" y="5214960"/>
                  <a:chExt cx="1062000" cy="1634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7881840" y="5214960"/>
                    <a:ext cx="44784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52">
                        <a:moveTo>
                          <a:pt x="564" y="37"/>
                        </a:moveTo>
                        <a:lnTo>
                          <a:pt x="564" y="17"/>
                        </a:lnTo>
                        <a:lnTo>
                          <a:pt x="551" y="5"/>
                        </a:lnTo>
                        <a:lnTo>
                          <a:pt x="533" y="0"/>
                        </a:lnTo>
                        <a:lnTo>
                          <a:pt x="507" y="2"/>
                        </a:lnTo>
                        <a:lnTo>
                          <a:pt x="447" y="0"/>
                        </a:lnTo>
                        <a:lnTo>
                          <a:pt x="359" y="3"/>
                        </a:lnTo>
                        <a:lnTo>
                          <a:pt x="272" y="8"/>
                        </a:lnTo>
                        <a:lnTo>
                          <a:pt x="211" y="9"/>
                        </a:lnTo>
                        <a:lnTo>
                          <a:pt x="132" y="13"/>
                        </a:lnTo>
                        <a:lnTo>
                          <a:pt x="74" y="16"/>
                        </a:lnTo>
                        <a:lnTo>
                          <a:pt x="16" y="23"/>
                        </a:lnTo>
                        <a:lnTo>
                          <a:pt x="40" y="17"/>
                        </a:lnTo>
                        <a:lnTo>
                          <a:pt x="7" y="29"/>
                        </a:lnTo>
                        <a:lnTo>
                          <a:pt x="0" y="52"/>
                        </a:lnTo>
                        <a:lnTo>
                          <a:pt x="564" y="3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bfbfb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8445600" y="5230800"/>
                    <a:ext cx="3168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0">
                        <a:moveTo>
                          <a:pt x="0" y="4"/>
                        </a:moveTo>
                        <a:lnTo>
                          <a:pt x="39" y="0"/>
                        </a:lnTo>
                        <a:lnTo>
                          <a:pt x="42" y="29"/>
                        </a:lnTo>
                        <a:lnTo>
                          <a:pt x="2" y="4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7415280" y="5232240"/>
                    <a:ext cx="9716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5" h="184">
                        <a:moveTo>
                          <a:pt x="79" y="69"/>
                        </a:moveTo>
                        <a:lnTo>
                          <a:pt x="189" y="59"/>
                        </a:lnTo>
                        <a:lnTo>
                          <a:pt x="352" y="43"/>
                        </a:lnTo>
                        <a:lnTo>
                          <a:pt x="479" y="29"/>
                        </a:lnTo>
                        <a:lnTo>
                          <a:pt x="612" y="20"/>
                        </a:lnTo>
                        <a:lnTo>
                          <a:pt x="720" y="17"/>
                        </a:lnTo>
                        <a:lnTo>
                          <a:pt x="803" y="14"/>
                        </a:lnTo>
                        <a:lnTo>
                          <a:pt x="886" y="13"/>
                        </a:lnTo>
                        <a:lnTo>
                          <a:pt x="1014" y="2"/>
                        </a:lnTo>
                        <a:lnTo>
                          <a:pt x="1122" y="0"/>
                        </a:lnTo>
                        <a:lnTo>
                          <a:pt x="1186" y="0"/>
                        </a:lnTo>
                        <a:lnTo>
                          <a:pt x="1205" y="9"/>
                        </a:lnTo>
                        <a:lnTo>
                          <a:pt x="1219" y="23"/>
                        </a:lnTo>
                        <a:lnTo>
                          <a:pt x="1225" y="40"/>
                        </a:lnTo>
                        <a:lnTo>
                          <a:pt x="1220" y="68"/>
                        </a:lnTo>
                        <a:lnTo>
                          <a:pt x="1188" y="82"/>
                        </a:lnTo>
                        <a:lnTo>
                          <a:pt x="1134" y="89"/>
                        </a:lnTo>
                        <a:lnTo>
                          <a:pt x="1053" y="103"/>
                        </a:lnTo>
                        <a:lnTo>
                          <a:pt x="942" y="120"/>
                        </a:lnTo>
                        <a:lnTo>
                          <a:pt x="843" y="132"/>
                        </a:lnTo>
                        <a:lnTo>
                          <a:pt x="729" y="146"/>
                        </a:lnTo>
                        <a:lnTo>
                          <a:pt x="614" y="154"/>
                        </a:lnTo>
                        <a:lnTo>
                          <a:pt x="560" y="160"/>
                        </a:lnTo>
                        <a:lnTo>
                          <a:pt x="507" y="161"/>
                        </a:lnTo>
                        <a:lnTo>
                          <a:pt x="450" y="164"/>
                        </a:lnTo>
                        <a:lnTo>
                          <a:pt x="382" y="171"/>
                        </a:lnTo>
                        <a:lnTo>
                          <a:pt x="321" y="175"/>
                        </a:lnTo>
                        <a:lnTo>
                          <a:pt x="255" y="180"/>
                        </a:lnTo>
                        <a:lnTo>
                          <a:pt x="160" y="184"/>
                        </a:lnTo>
                        <a:lnTo>
                          <a:pt x="112" y="183"/>
                        </a:lnTo>
                        <a:lnTo>
                          <a:pt x="94" y="163"/>
                        </a:lnTo>
                        <a:lnTo>
                          <a:pt x="74" y="134"/>
                        </a:lnTo>
                        <a:lnTo>
                          <a:pt x="51" y="114"/>
                        </a:lnTo>
                        <a:lnTo>
                          <a:pt x="0" y="74"/>
                        </a:lnTo>
                        <a:lnTo>
                          <a:pt x="79" y="69"/>
                        </a:lnTo>
                        <a:close/>
                      </a:path>
                    </a:pathLst>
                  </a:custGeom>
                  <a:solidFill>
                    <a:srgbClr val="00007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8344080" y="5227560"/>
                    <a:ext cx="1094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81">
                        <a:moveTo>
                          <a:pt x="11" y="5"/>
                        </a:moveTo>
                        <a:lnTo>
                          <a:pt x="0" y="31"/>
                        </a:lnTo>
                        <a:lnTo>
                          <a:pt x="2" y="54"/>
                        </a:lnTo>
                        <a:lnTo>
                          <a:pt x="6" y="68"/>
                        </a:lnTo>
                        <a:lnTo>
                          <a:pt x="14" y="81"/>
                        </a:lnTo>
                        <a:lnTo>
                          <a:pt x="51" y="77"/>
                        </a:lnTo>
                        <a:lnTo>
                          <a:pt x="83" y="68"/>
                        </a:lnTo>
                        <a:lnTo>
                          <a:pt x="107" y="58"/>
                        </a:lnTo>
                        <a:lnTo>
                          <a:pt x="126" y="51"/>
                        </a:lnTo>
                        <a:lnTo>
                          <a:pt x="138" y="40"/>
                        </a:lnTo>
                        <a:lnTo>
                          <a:pt x="129" y="31"/>
                        </a:lnTo>
                        <a:lnTo>
                          <a:pt x="126" y="14"/>
                        </a:lnTo>
                        <a:lnTo>
                          <a:pt x="133" y="5"/>
                        </a:lnTo>
                        <a:lnTo>
                          <a:pt x="115" y="0"/>
                        </a:lnTo>
                        <a:lnTo>
                          <a:pt x="75" y="0"/>
                        </a:lnTo>
                        <a:lnTo>
                          <a:pt x="11" y="5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8319960" y="5235480"/>
                    <a:ext cx="1296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80">
                        <a:moveTo>
                          <a:pt x="11" y="0"/>
                        </a:moveTo>
                        <a:lnTo>
                          <a:pt x="0" y="25"/>
                        </a:lnTo>
                        <a:lnTo>
                          <a:pt x="0" y="43"/>
                        </a:lnTo>
                        <a:lnTo>
                          <a:pt x="6" y="65"/>
                        </a:lnTo>
                        <a:lnTo>
                          <a:pt x="15" y="8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0" name=""/>
                <p:cNvSpPr/>
                <p:nvPr/>
              </p:nvSpPr>
              <p:spPr>
                <a:xfrm>
                  <a:off x="7237440" y="5319720"/>
                  <a:ext cx="14400" cy="65160"/>
                </a:xfrm>
                <a:custGeom>
                  <a:avLst/>
                  <a:gdLst/>
                  <a:ahLst/>
                  <a:rect l="l" t="t" r="r" b="b"/>
                  <a:pathLst>
                    <a:path w="17" h="83">
                      <a:moveTo>
                        <a:pt x="0" y="0"/>
                      </a:moveTo>
                      <a:lnTo>
                        <a:pt x="11" y="14"/>
                      </a:lnTo>
                      <a:lnTo>
                        <a:pt x="17" y="34"/>
                      </a:lnTo>
                      <a:lnTo>
                        <a:pt x="17" y="51"/>
                      </a:lnTo>
                      <a:lnTo>
                        <a:pt x="12" y="71"/>
                      </a:lnTo>
                      <a:lnTo>
                        <a:pt x="6" y="83"/>
                      </a:lnTo>
                      <a:lnTo>
                        <a:pt x="9" y="75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C99-0C84-45AC-ABC2-C36EC37A84E3}" type="slidenum">
              <a:t>8</a:t>
            </a:fld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IS - Sistemas de Informações Gerenciai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écada de 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o de SI para produzir relatórios ger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m em nível de gerenciament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dos às atividades internas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m para as funções de planejamento, controle e tomada de decis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zem relatórios semanais, mensais e anu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ece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órios diá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 mensais e em                                alguns casos, aces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-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o desempenho                                          da organização e a registros histó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67360" y="4343400"/>
            <a:ext cx="2948040" cy="175248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248520" y="5689440"/>
            <a:ext cx="23940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15200" y="5364000"/>
            <a:ext cx="210492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553080" y="5056200"/>
            <a:ext cx="18147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62600" y="4724280"/>
            <a:ext cx="1449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87000" y="50562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5D49-B059-4983-8217-E606BD32006E}" type="slidenum">
              <a:t>80</a:t>
            </a:fld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s TPS para obter seus d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me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relata as operações básicas d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 dados de transações básicas d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P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rim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usualmente apresentados em longos relatórios produzid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rmen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mente servem aos gerentes interessados em resultad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anais, mensais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ua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não em atividades diá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trata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ões estrutura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que são bem        conhecidas antecipad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 são geralmen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lexíve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 com                                            baixa capacidade ana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MIS - Sistemas de Informações Gerenciai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6248520" y="4419720"/>
            <a:ext cx="2787480" cy="1685880"/>
            <a:chOff x="6248520" y="4419720"/>
            <a:chExt cx="2787480" cy="1685880"/>
          </a:xfrm>
        </p:grpSpPr>
        <p:sp>
          <p:nvSpPr>
            <p:cNvPr id="1260" name=""/>
            <p:cNvSpPr/>
            <p:nvPr/>
          </p:nvSpPr>
          <p:spPr>
            <a:xfrm>
              <a:off x="6248520" y="4419720"/>
              <a:ext cx="2787480" cy="1685880"/>
            </a:xfrm>
            <a:prstGeom prst="triangle">
              <a:avLst>
                <a:gd name="adj" fmla="val 50000"/>
              </a:avLst>
            </a:prstGeom>
            <a:solidFill>
              <a:srgbClr val="ff898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514200" y="5711760"/>
              <a:ext cx="226332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671880" y="5401440"/>
              <a:ext cx="199008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804000" y="5105160"/>
              <a:ext cx="17139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000200" y="4785840"/>
              <a:ext cx="1370160" cy="368280"/>
            </a:xfrm>
            <a:prstGeom prst="rect">
              <a:avLst/>
            </a:prstGeom>
            <a:solidFill>
              <a:srgbClr val="ff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stratég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"/>
          <p:cNvSpPr/>
          <p:nvPr/>
        </p:nvSpPr>
        <p:spPr>
          <a:xfrm>
            <a:off x="6084000" y="5105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163-4BA0-495F-89CB-BED83CDE425E}" type="slidenum">
              <a:t>81</a:t>
            </a:fld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MIS - Sistemas de Informações Gerenciai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Apoiam decisões estruturadas e não estruturadas em níveis de controle operacional e geren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São geralmente orientados para relatórios e cont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MIS contam com dados e fluxo de dados existentes n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MIS tem capacidade analítica limi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MIS geralmente apoiam a tomada de decisão usando dados do passado e do pres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 MIS são relativamente inflexí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- MIS tem uma orientação interna ao invés de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- Requisitos de informação são conhecidos e est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- MIS exige um prolongado proces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álise e proje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09480" y="838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acterísticas dos 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153200" y="4976640"/>
            <a:ext cx="2232000" cy="152892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365960" y="6148440"/>
            <a:ext cx="18129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493040" y="5867280"/>
            <a:ext cx="159228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97800" y="5599080"/>
            <a:ext cx="137304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696080" y="5308560"/>
            <a:ext cx="12369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012440" y="558324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DDD-DC1D-4887-B266-8A20541B8C68}" type="slidenum">
              <a:t>82</a:t>
            </a:fld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685800" y="1828800"/>
            <a:ext cx="3263760" cy="4025880"/>
          </a:xfrm>
          <a:custGeom>
            <a:avLst/>
            <a:gdLst>
              <a:gd name="textAreaLeft" fmla="*/ 119160 w 3263760"/>
              <a:gd name="textAreaRight" fmla="*/ 3144600 w 3263760"/>
              <a:gd name="textAreaTop" fmla="*/ 119160 h 4025880"/>
              <a:gd name="textAreaBottom" fmla="*/ 3906720 h 4025880"/>
            </a:gdLst>
            <a:ahLst/>
            <a:rect l="textAreaLeft" t="textAreaTop" r="textAreaRight" b="textAreaBottom"/>
            <a:pathLst>
              <a:path w="21600" h="26643">
                <a:moveTo>
                  <a:pt x="2699" y="0"/>
                </a:moveTo>
                <a:arcTo wR="2699" hR="2699" stAng="16200000" swAng="-5400000"/>
                <a:lnTo>
                  <a:pt x="0" y="23944"/>
                </a:lnTo>
                <a:arcTo wR="2699" hR="2699" stAng="10800000" swAng="-5400000"/>
                <a:lnTo>
                  <a:pt x="18901" y="26643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d2df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988920" y="2430360"/>
            <a:ext cx="380880" cy="596880"/>
            <a:chOff x="988920" y="2430360"/>
            <a:chExt cx="380880" cy="596880"/>
          </a:xfrm>
        </p:grpSpPr>
        <p:sp>
          <p:nvSpPr>
            <p:cNvPr id="1277" name=""/>
            <p:cNvSpPr/>
            <p:nvPr/>
          </p:nvSpPr>
          <p:spPr>
            <a:xfrm>
              <a:off x="995040" y="2887560"/>
              <a:ext cx="368280" cy="139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88920" y="2500200"/>
              <a:ext cx="380880" cy="457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995040" y="2430360"/>
              <a:ext cx="368280" cy="13968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988920" y="25063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369800" y="250632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"/>
          <p:cNvSpPr/>
          <p:nvPr/>
        </p:nvSpPr>
        <p:spPr>
          <a:xfrm>
            <a:off x="995400" y="395460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88920" y="3567240"/>
            <a:ext cx="3812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995400" y="349740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88920" y="35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370160" y="35733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995400" y="50212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988920" y="4633920"/>
            <a:ext cx="3812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995400" y="45640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988920" y="46404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370160" y="46404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81200" y="2430360"/>
            <a:ext cx="1816200" cy="673200"/>
          </a:xfrm>
          <a:prstGeom prst="rect">
            <a:avLst/>
          </a:prstGeom>
          <a:solidFill>
            <a:srgbClr val="ffcf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81200" y="3497400"/>
            <a:ext cx="1816200" cy="672840"/>
          </a:xfrm>
          <a:prstGeom prst="rect">
            <a:avLst/>
          </a:prstGeom>
          <a:solidFill>
            <a:srgbClr val="ffcf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681200" y="4564080"/>
            <a:ext cx="1816200" cy="673200"/>
          </a:xfrm>
          <a:prstGeom prst="rect">
            <a:avLst/>
          </a:prstGeom>
          <a:solidFill>
            <a:srgbClr val="ffcf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87800" y="1824120"/>
            <a:ext cx="4635360" cy="4025880"/>
          </a:xfrm>
          <a:prstGeom prst="roundRect">
            <a:avLst>
              <a:gd name="adj" fmla="val 12495"/>
            </a:avLst>
          </a:prstGeom>
          <a:solidFill>
            <a:srgbClr val="ffefe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267080" y="2201760"/>
            <a:ext cx="1897200" cy="3264120"/>
          </a:xfrm>
          <a:prstGeom prst="rect">
            <a:avLst/>
          </a:prstGeom>
          <a:solidFill>
            <a:srgbClr val="ffcf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500720" y="27352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494240" y="2347920"/>
            <a:ext cx="380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00720" y="22780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494240" y="23544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875120" y="23544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4500720" y="357336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494240" y="3186000"/>
            <a:ext cx="380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500720" y="311616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494240" y="3192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875120" y="31924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500720" y="441180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494240" y="4024440"/>
            <a:ext cx="380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500720" y="395460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494240" y="4030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875120" y="4030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500720" y="52498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94240" y="4862520"/>
            <a:ext cx="380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500720" y="4792680"/>
            <a:ext cx="368280" cy="1396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494240" y="48690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875120" y="48690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958000" y="1824120"/>
            <a:ext cx="143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419720" y="5473800"/>
            <a:ext cx="174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rquiv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105520" y="2349360"/>
            <a:ext cx="10634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5105520" y="3111480"/>
            <a:ext cx="113976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 unidade pro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5105520" y="3949560"/>
            <a:ext cx="10634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Prod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105520" y="4788000"/>
            <a:ext cx="12160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ENS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405480" y="3497400"/>
            <a:ext cx="825480" cy="520560"/>
          </a:xfrm>
          <a:prstGeom prst="rect">
            <a:avLst/>
          </a:prstGeom>
          <a:solidFill>
            <a:srgbClr val="ffe9e9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551640" y="3567240"/>
            <a:ext cx="758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391520" y="4788000"/>
            <a:ext cx="1444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16480" y="2728800"/>
            <a:ext cx="96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516480" y="3567240"/>
            <a:ext cx="96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516480" y="4100400"/>
            <a:ext cx="96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752480" y="1828800"/>
            <a:ext cx="106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676520" y="2425680"/>
            <a:ext cx="18255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renc. de ven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460520" y="3492360"/>
            <a:ext cx="2273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 Planej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752480" y="4635360"/>
            <a:ext cx="1673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st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85800" y="3124080"/>
            <a:ext cx="2514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s de Pedi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85800" y="4254480"/>
            <a:ext cx="30448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o de Prod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85800" y="5397480"/>
            <a:ext cx="2811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quivos Contábe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1376280" y="272880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376280" y="379584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376280" y="4862520"/>
            <a:ext cx="292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516480" y="5014800"/>
            <a:ext cx="965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83360" y="3719520"/>
            <a:ext cx="203040" cy="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250040" y="3719520"/>
            <a:ext cx="355680" cy="0"/>
          </a:xfrm>
          <a:prstGeom prst="line">
            <a:avLst/>
          </a:prstGeom>
          <a:ln w="255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cc0000"/>
                </a:solidFill>
                <a:latin typeface="Times New Roman"/>
              </a:rPr>
              <a:t>Dados TPS para Aplicativos M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605720" y="3484440"/>
            <a:ext cx="914400" cy="770040"/>
          </a:xfrm>
          <a:prstGeom prst="flowChartDocumen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96080" y="3581280"/>
            <a:ext cx="914400" cy="785880"/>
          </a:xfrm>
          <a:prstGeom prst="flowChartDocument">
            <a:avLst/>
          </a:prstGeom>
          <a:solidFill>
            <a:srgbClr val="ffe9e9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42080" y="37400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BF8-FD9F-448E-882E-B4B657395C97}" type="slidenum">
              <a:t>83</a:t>
            </a:fld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DSS - Sistemas de Suporte à Decis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as responsáveis por rodar diversas vezes em um dia a fim de corresponder às mudanças de cond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or poder analítico do que outros siste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-203400">
              <a:spcBef>
                <a:spcPts val="601"/>
              </a:spcBef>
              <a:buClr>
                <a:srgbClr val="000000"/>
              </a:buClr>
              <a:buSzPct val="3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ói uma variedade de modelos de análise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mite usuários iniciar e controlar o input 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erece flexibilidade, adaptabilidade e respostas ráp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967360" y="4343400"/>
            <a:ext cx="2948040" cy="175248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248520" y="5689440"/>
            <a:ext cx="23940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415200" y="5364000"/>
            <a:ext cx="210492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553080" y="5056200"/>
            <a:ext cx="18147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62600" y="4724280"/>
            <a:ext cx="1449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780880" y="50562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D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4353-6694-4104-B3CC-6E390578B899}" type="slidenum">
              <a:t>84</a:t>
            </a:fld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rvem as necessidades de informação em nível d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 ajudam os gerentes a tomar decisões que s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mi-estruturadas, úni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que mudam rapidamente e qu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ã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cilmente especificad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 anteced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 devem roda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s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zes em um dia afim de corresponder às mudanças de condi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 têm mai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der analític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o que outros sistemas:         são construídos com uma variedade de                                    modelos de análise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57200" y="15228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DSS - Sistemas de Suporte à Decis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119640" y="4495680"/>
            <a:ext cx="2948040" cy="175284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400800" y="5842080"/>
            <a:ext cx="23940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67480" y="5516640"/>
            <a:ext cx="210492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705720" y="5208480"/>
            <a:ext cx="18144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915240" y="4876920"/>
            <a:ext cx="1449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933160" y="520848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D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0B9-6D1C-450E-A608-A9856D746E8D}" type="slidenum">
              <a:t>85</a:t>
            </a:fld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DSS - Sistemas de Suporte à Decisão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190760"/>
          </a:xfrm>
          <a:prstGeom prst="rect">
            <a:avLst/>
          </a:prstGeom>
          <a:noFill/>
          <a:ln w="936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- Oferece aos usuários flexibilidade, adaptabilidade e uma resposta ráp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 Permite ao usuários iniciar e controlar a entrada e a 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- Opera com pouco ou  nenhum auxílio de programador profiss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- Fornece apoio para decisões e problemas cujas soluções não podem ser especificadas antecipad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- Utiliza ferramentas sofisticadas de modelagem e anál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09480" y="83808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aracterísticas dos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7EA9-B3DB-47F8-B88B-E491259DFFF5}" type="slidenum">
              <a:t>86</a:t>
            </a:fld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ESS - Sistema de Suporte Executiv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servem em nível estratégico da organiz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jetados para incorporar dados sobre event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pacidade de telecomunicação e computação aplicada a um conjunto de problemas, não a um problema especí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jetados para serem usados por executivos sên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são projetados para resolver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s específ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les fornecem  uma generalizada capacidade de computação e telecomunicação que pode ser aplicada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s que se altera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incorpora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terfaces gráficas fáceis de usa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porque o gerente sênior usualmente  não têm                                                      experiência com sistema de informação baseado                                                         em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6653160" y="5029200"/>
            <a:ext cx="2948040" cy="175248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934320" y="6299280"/>
            <a:ext cx="23940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101000" y="5973840"/>
            <a:ext cx="210492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38880" y="5665680"/>
            <a:ext cx="18147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448400" y="5334120"/>
            <a:ext cx="1449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662880" y="5334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EAD1-23AD-49B3-8ADE-58012C713212}" type="slidenum">
              <a:t>87</a:t>
            </a:fld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direcionam tomadas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cisão não estruturad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través de gráficos e comunicações avanç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são projetados para incorporar dados sobre event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xternos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is como novas leis de tributos e competidores, mas também desenha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 resumid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MIS e DSS  inter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iltram, comprimem e rastreia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s crít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nfatizando a redução de tempo e esforço exigido para obter informação útil para os ex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S têm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aixa capacidade analític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mpregando                   porém 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oftwares gráficos mais avançad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              e podendo emitir gráficos e dados a partir                                             de várias fontes imediatamente para                                                        o executivo sên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0492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ESS - Sistemas de Suporte Ex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653160" y="4343400"/>
            <a:ext cx="2948040" cy="175248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934320" y="5689440"/>
            <a:ext cx="239400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101000" y="5364000"/>
            <a:ext cx="210492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238880" y="5056200"/>
            <a:ext cx="18147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448400" y="4724280"/>
            <a:ext cx="1449360" cy="36828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662880" y="47242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7ADE-F4C6-429E-A48F-E8B0CA670BA8}" type="slidenum">
              <a:t>88</a:t>
            </a:fld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1" name=""/>
          <p:cNvGrpSpPr/>
          <p:nvPr/>
        </p:nvGrpSpPr>
        <p:grpSpPr>
          <a:xfrm>
            <a:off x="3728880" y="793800"/>
            <a:ext cx="1667160" cy="1666800"/>
            <a:chOff x="3728880" y="793800"/>
            <a:chExt cx="1667160" cy="1666800"/>
          </a:xfrm>
        </p:grpSpPr>
        <p:sp>
          <p:nvSpPr>
            <p:cNvPr id="1382" name=""/>
            <p:cNvSpPr/>
            <p:nvPr/>
          </p:nvSpPr>
          <p:spPr>
            <a:xfrm>
              <a:off x="3728880" y="793800"/>
              <a:ext cx="1667160" cy="1666800"/>
            </a:xfrm>
            <a:prstGeom prst="ellipse">
              <a:avLst/>
            </a:prstGeom>
            <a:gradFill rotWithShape="0">
              <a:gsLst>
                <a:gs pos="0">
                  <a:srgbClr val="fafd00"/>
                </a:gs>
                <a:gs pos="100000">
                  <a:srgbClr val="c7c9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78880" y="1418400"/>
              <a:ext cx="10494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4" name=""/>
          <p:cNvGrpSpPr/>
          <p:nvPr/>
        </p:nvGrpSpPr>
        <p:grpSpPr>
          <a:xfrm>
            <a:off x="3630240" y="3560760"/>
            <a:ext cx="3373560" cy="2534760"/>
            <a:chOff x="3630240" y="3560760"/>
            <a:chExt cx="3373560" cy="2534760"/>
          </a:xfrm>
        </p:grpSpPr>
        <p:grpSp>
          <p:nvGrpSpPr>
            <p:cNvPr id="1385" name=""/>
            <p:cNvGrpSpPr/>
            <p:nvPr/>
          </p:nvGrpSpPr>
          <p:grpSpPr>
            <a:xfrm>
              <a:off x="5821200" y="3793680"/>
              <a:ext cx="628920" cy="867960"/>
              <a:chOff x="5821200" y="3793680"/>
              <a:chExt cx="628920" cy="867960"/>
            </a:xfrm>
          </p:grpSpPr>
          <p:sp>
            <p:nvSpPr>
              <p:cNvPr id="1386" name=""/>
              <p:cNvSpPr/>
              <p:nvPr/>
            </p:nvSpPr>
            <p:spPr>
              <a:xfrm>
                <a:off x="5821200" y="3793680"/>
                <a:ext cx="0" cy="8679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6450120" y="3839760"/>
                <a:ext cx="0" cy="6757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 flipH="1" flipV="1">
              <a:off x="3630240" y="3560760"/>
              <a:ext cx="2004120" cy="151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81800" y="5332320"/>
              <a:ext cx="1701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337360" y="4428720"/>
              <a:ext cx="1666440" cy="1666800"/>
            </a:xfrm>
            <a:prstGeom prst="ellipse">
              <a:avLst/>
            </a:prstGeom>
            <a:gradFill rotWithShape="0">
              <a:gsLst>
                <a:gs pos="0">
                  <a:srgbClr val="ef9100"/>
                </a:gs>
                <a:gs pos="100000">
                  <a:srgbClr val="a664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787720" y="5054040"/>
              <a:ext cx="104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P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2120760" y="3514320"/>
            <a:ext cx="3420720" cy="2581200"/>
            <a:chOff x="2120760" y="3514320"/>
            <a:chExt cx="3420720" cy="2581200"/>
          </a:xfrm>
        </p:grpSpPr>
        <p:grpSp>
          <p:nvGrpSpPr>
            <p:cNvPr id="1393" name=""/>
            <p:cNvGrpSpPr/>
            <p:nvPr/>
          </p:nvGrpSpPr>
          <p:grpSpPr>
            <a:xfrm>
              <a:off x="2604240" y="3840840"/>
              <a:ext cx="629280" cy="721800"/>
              <a:chOff x="2604240" y="3840840"/>
              <a:chExt cx="629280" cy="721800"/>
            </a:xfrm>
          </p:grpSpPr>
          <p:sp>
            <p:nvSpPr>
              <p:cNvPr id="1394" name=""/>
              <p:cNvSpPr/>
              <p:nvPr/>
            </p:nvSpPr>
            <p:spPr>
              <a:xfrm>
                <a:off x="2604240" y="3863880"/>
                <a:ext cx="0" cy="6987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3233520" y="3840840"/>
                <a:ext cx="0" cy="6753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6" name=""/>
            <p:cNvSpPr/>
            <p:nvPr/>
          </p:nvSpPr>
          <p:spPr>
            <a:xfrm flipV="1">
              <a:off x="3606840" y="3514320"/>
              <a:ext cx="1934640" cy="1491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20760" y="4429080"/>
              <a:ext cx="1666800" cy="1666440"/>
            </a:xfrm>
            <a:prstGeom prst="ellipse">
              <a:avLst/>
            </a:prstGeom>
            <a:gradFill rotWithShape="0">
              <a:gsLst>
                <a:gs pos="0">
                  <a:srgbClr val="00ae00"/>
                </a:gs>
                <a:gs pos="100000">
                  <a:srgbClr val="009b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02360" y="4774320"/>
              <a:ext cx="1045800" cy="11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KW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2120760" y="2109960"/>
            <a:ext cx="4883040" cy="1818720"/>
            <a:chOff x="2120760" y="2109960"/>
            <a:chExt cx="4883040" cy="1818720"/>
          </a:xfrm>
        </p:grpSpPr>
        <p:sp>
          <p:nvSpPr>
            <p:cNvPr id="1400" name=""/>
            <p:cNvSpPr/>
            <p:nvPr/>
          </p:nvSpPr>
          <p:spPr>
            <a:xfrm flipV="1">
              <a:off x="3379320" y="2144880"/>
              <a:ext cx="547560" cy="501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 flipV="1">
              <a:off x="5185800" y="2109960"/>
              <a:ext cx="745920" cy="536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337360" y="2261520"/>
              <a:ext cx="1666440" cy="1667160"/>
            </a:xfrm>
            <a:prstGeom prst="ellipse">
              <a:avLst/>
            </a:prstGeom>
            <a:gradFill rotWithShape="0">
              <a:gsLst>
                <a:gs pos="0">
                  <a:srgbClr val="b50069"/>
                </a:gs>
                <a:gs pos="100000">
                  <a:srgbClr val="bb1977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489840" y="3095280"/>
              <a:ext cx="1864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0760" y="2261520"/>
              <a:ext cx="1666440" cy="1667160"/>
            </a:xfrm>
            <a:prstGeom prst="ellipse">
              <a:avLst/>
            </a:prstGeom>
            <a:gradFill rotWithShape="0">
              <a:gsLst>
                <a:gs pos="0">
                  <a:srgbClr val="618ffd"/>
                </a:gs>
                <a:gs pos="100000">
                  <a:srgbClr val="395597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787720" y="2859120"/>
              <a:ext cx="104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70760" y="2859120"/>
              <a:ext cx="10458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cc0000"/>
                </a:solidFill>
                <a:latin typeface="Times New Roman"/>
              </a:rPr>
              <a:t>Integração e Relacionamento dos Siste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67D-AAE6-492E-AA1B-896223482706}" type="slidenum">
              <a:t>89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Conceitos Básicos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s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atos em sua forma prim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rocess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definição de relações entre dados requer: conhec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hecimento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ras, diretrizes e procedimentos usados para selecionar, organizar e manipular dados, para torná- los úteis para uma tarefa específ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:é um conjunto de fatos organizados de tal forma que adquirem valor adicional além do valor do fato em sí - (dado tornado mais útil através da aplicação do conhecimento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organização ou processamento dos dados podem ser feitos mentalmente, manualmente ou utilizar um comput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475-51CF-443D-84BE-ECA2A4D7115F}" type="slidenum">
              <a:t>9</a:t>
            </a:fld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cc0000"/>
                </a:solidFill>
                <a:latin typeface="Times New Roman"/>
              </a:rPr>
              <a:t>Integração e Relacionamento dos Sistema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276720" y="1219320"/>
            <a:ext cx="243828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33520" y="2666880"/>
            <a:ext cx="243828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95880" y="259092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095880" y="449568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09480" y="449568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371600" y="3886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752480" y="3886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352680" y="3048120"/>
            <a:ext cx="2438640" cy="228600"/>
          </a:xfrm>
          <a:prstGeom prst="rightArrow">
            <a:avLst>
              <a:gd name="adj1" fmla="val 50000"/>
              <a:gd name="adj2" fmla="val 26669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276720" y="487692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238880" y="3886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17586600">
            <a:off x="4419360" y="2513880"/>
            <a:ext cx="228600" cy="3276720"/>
          </a:xfrm>
          <a:prstGeom prst="upArrow">
            <a:avLst>
              <a:gd name="adj1" fmla="val 50000"/>
              <a:gd name="adj2" fmla="val 358346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rot="3751200">
            <a:off x="4419360" y="2438280"/>
            <a:ext cx="228600" cy="3276720"/>
          </a:xfrm>
          <a:prstGeom prst="upArrow">
            <a:avLst>
              <a:gd name="adj1" fmla="val 50000"/>
              <a:gd name="adj2" fmla="val 358346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3751200">
            <a:off x="2663640" y="1796760"/>
            <a:ext cx="214200" cy="1052640"/>
          </a:xfrm>
          <a:prstGeom prst="upArrow">
            <a:avLst>
              <a:gd name="adj1" fmla="val 50000"/>
              <a:gd name="adj2" fmla="val 12285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 rot="17586600">
            <a:off x="6245280" y="1574280"/>
            <a:ext cx="225360" cy="1314720"/>
          </a:xfrm>
          <a:prstGeom prst="upArrow">
            <a:avLst>
              <a:gd name="adj1" fmla="val 50000"/>
              <a:gd name="adj2" fmla="val 14584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505320" y="1295280"/>
            <a:ext cx="19810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Apo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8080" y="4648320"/>
            <a:ext cx="198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WS e O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s de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324480" y="4495680"/>
            <a:ext cx="1981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s de Processamento de Trans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62120" y="2666880"/>
            <a:ext cx="198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Informação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324480" y="2743200"/>
            <a:ext cx="198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Apoio à Dec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D24-3178-4D31-A5FC-2EC98B497FCC}" type="slidenum">
              <a:t>90</a:t>
            </a:fld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cc0000"/>
                </a:solidFill>
                <a:latin typeface="Times New Roman"/>
              </a:rPr>
              <a:t>Integração e Relacionamento dos Sistemas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6720" y="1219320"/>
            <a:ext cx="243828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33520" y="2666880"/>
            <a:ext cx="243828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095880" y="259092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6095880" y="449568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609480" y="4495680"/>
            <a:ext cx="2438640" cy="1143000"/>
          </a:xfrm>
          <a:prstGeom prst="ellipse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371600" y="3886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752480" y="3886200"/>
            <a:ext cx="304920" cy="533520"/>
          </a:xfrm>
          <a:prstGeom prst="down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352680" y="3048120"/>
            <a:ext cx="2438640" cy="228600"/>
          </a:xfrm>
          <a:prstGeom prst="rightArrow">
            <a:avLst>
              <a:gd name="adj1" fmla="val 50000"/>
              <a:gd name="adj2" fmla="val 26669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276720" y="4876920"/>
            <a:ext cx="2514600" cy="228600"/>
          </a:xfrm>
          <a:prstGeom prst="leftArrow">
            <a:avLst>
              <a:gd name="adj1" fmla="val 50000"/>
              <a:gd name="adj2" fmla="val 275000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238880" y="3886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rot="17586600">
            <a:off x="4419360" y="2513880"/>
            <a:ext cx="228600" cy="3276720"/>
          </a:xfrm>
          <a:prstGeom prst="upArrow">
            <a:avLst>
              <a:gd name="adj1" fmla="val 50000"/>
              <a:gd name="adj2" fmla="val 358346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rot="3751200">
            <a:off x="4419360" y="2438280"/>
            <a:ext cx="228600" cy="3276720"/>
          </a:xfrm>
          <a:prstGeom prst="upArrow">
            <a:avLst>
              <a:gd name="adj1" fmla="val 50000"/>
              <a:gd name="adj2" fmla="val 358346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rot="3751200">
            <a:off x="2663640" y="1796760"/>
            <a:ext cx="214200" cy="1052640"/>
          </a:xfrm>
          <a:prstGeom prst="upArrow">
            <a:avLst>
              <a:gd name="adj1" fmla="val 50000"/>
              <a:gd name="adj2" fmla="val 12285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7586600">
            <a:off x="6245280" y="1574280"/>
            <a:ext cx="225360" cy="1314720"/>
          </a:xfrm>
          <a:prstGeom prst="upArrow">
            <a:avLst>
              <a:gd name="adj1" fmla="val 50000"/>
              <a:gd name="adj2" fmla="val 145847"/>
            </a:avLst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05320" y="1295280"/>
            <a:ext cx="19810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Apoio Execu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8080" y="4648320"/>
            <a:ext cx="198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KWS e O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s de Conhec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6324480" y="4495680"/>
            <a:ext cx="1981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P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s de Processamento de Trans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62120" y="2666880"/>
            <a:ext cx="1981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Informação Geren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324480" y="2743200"/>
            <a:ext cx="19814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ema de Apoio à Decis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38080" y="1371600"/>
            <a:ext cx="7543800" cy="4755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Times New Roman"/>
              </a:rPr>
              <a:t>Decisões para integrar os sistema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, para centralizar o controle são como as marés:  “</a:t>
            </a:r>
            <a:r>
              <a:rPr b="0" i="1" lang="pt-BR" sz="3200" spc="-1" strike="noStrike">
                <a:solidFill>
                  <a:srgbClr val="3333cc"/>
                </a:solidFill>
                <a:latin typeface="Times New Roman"/>
              </a:rPr>
              <a:t>elas fluem e recuam de acordo com as condições e valores dos negócios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ão existe um nível certo de integração ou centraliz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F526-7283-4C8E-B821-AB37CA52EC76}" type="slidenum">
              <a:t>91</a:t>
            </a:fld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/>
          <p:nvPr/>
        </p:nvSpPr>
        <p:spPr>
          <a:xfrm>
            <a:off x="100080" y="5397480"/>
            <a:ext cx="8926560" cy="698400"/>
          </a:xfrm>
          <a:prstGeom prst="rect">
            <a:avLst/>
          </a:prstGeom>
          <a:solidFill>
            <a:srgbClr val="ff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00080" y="4157640"/>
            <a:ext cx="8926560" cy="490680"/>
          </a:xfrm>
          <a:prstGeom prst="rect">
            <a:avLst/>
          </a:prstGeom>
          <a:solidFill>
            <a:srgbClr val="ff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00080" y="2954160"/>
            <a:ext cx="8926560" cy="487440"/>
          </a:xfrm>
          <a:prstGeom prst="rect">
            <a:avLst/>
          </a:prstGeom>
          <a:solidFill>
            <a:srgbClr val="ffe9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528300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</a:t>
            </a:r>
            <a:r>
              <a:rPr b="0" i="1" lang="en-US" sz="3600" spc="-1" strike="noStrike">
                <a:solidFill>
                  <a:srgbClr val="cc0000"/>
                </a:solidFill>
                <a:latin typeface="Times New Roman"/>
              </a:rPr>
              <a:t>Tabela Comparativa</a:t>
            </a:r>
            <a:endParaRPr b="0" i="1" lang="en-US" sz="36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51920" y="1992240"/>
            <a:ext cx="67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ip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59480" y="223056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296720" y="2114640"/>
            <a:ext cx="1805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ção d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799800" y="211464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514840" y="211464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ção de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903800" y="211464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su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90360" y="19810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90360" y="1981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90360" y="19810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90360" y="1981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00080" y="1981080"/>
            <a:ext cx="85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60480" y="1981080"/>
            <a:ext cx="24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624560" y="199224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624560" y="199224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423040" y="19810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423040" y="198108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459400" y="1981080"/>
            <a:ext cx="1974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7534440" y="19810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7534440" y="198108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7443720" y="1981080"/>
            <a:ext cx="158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9024840" y="19810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9024840" y="1981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9024840" y="198108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024840" y="198108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0360" y="1992240"/>
            <a:ext cx="97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90360" y="1992240"/>
            <a:ext cx="180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9024840" y="1992240"/>
            <a:ext cx="180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73960" y="2478240"/>
            <a:ext cx="361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992520" y="2478240"/>
            <a:ext cx="7983720" cy="481680"/>
            <a:chOff x="992520" y="2478240"/>
            <a:chExt cx="7983720" cy="481680"/>
          </a:xfrm>
        </p:grpSpPr>
        <p:sp>
          <p:nvSpPr>
            <p:cNvPr id="1482" name=""/>
            <p:cNvSpPr/>
            <p:nvPr/>
          </p:nvSpPr>
          <p:spPr>
            <a:xfrm>
              <a:off x="6108840" y="2716200"/>
              <a:ext cx="780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esqui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992520" y="2478240"/>
              <a:ext cx="7983720" cy="481680"/>
              <a:chOff x="992520" y="2478240"/>
              <a:chExt cx="7983720" cy="481680"/>
            </a:xfrm>
          </p:grpSpPr>
          <p:sp>
            <p:nvSpPr>
              <p:cNvPr id="1484" name=""/>
              <p:cNvSpPr/>
              <p:nvPr/>
            </p:nvSpPr>
            <p:spPr>
              <a:xfrm>
                <a:off x="1880280" y="2716200"/>
                <a:ext cx="655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tern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5" name=""/>
              <p:cNvGrpSpPr/>
              <p:nvPr/>
            </p:nvGrpSpPr>
            <p:grpSpPr>
              <a:xfrm>
                <a:off x="992520" y="2478240"/>
                <a:ext cx="7983720" cy="243720"/>
                <a:chOff x="992520" y="2478240"/>
                <a:chExt cx="7983720" cy="24372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992520" y="2478240"/>
                  <a:ext cx="23310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ados agregados; externos 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3580920" y="2478240"/>
                  <a:ext cx="17197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gráficos; simulações;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5585040" y="2478240"/>
                  <a:ext cx="18507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projeções; respostas à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582680" y="2478240"/>
                  <a:ext cx="1393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gerentes sênio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0" name=""/>
          <p:cNvSpPr/>
          <p:nvPr/>
        </p:nvSpPr>
        <p:spPr>
          <a:xfrm>
            <a:off x="90360" y="24685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90360" y="246852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00080" y="2468520"/>
            <a:ext cx="85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960480" y="2468520"/>
            <a:ext cx="24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624560" y="2479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24560" y="2479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352680" y="2468520"/>
            <a:ext cx="207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23040" y="24685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23040" y="246852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459400" y="2468520"/>
            <a:ext cx="1974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534440" y="24685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534440" y="246852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443720" y="2468520"/>
            <a:ext cx="158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24840" y="246852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9024840" y="246852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90360" y="2478240"/>
            <a:ext cx="9720" cy="47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90360" y="2478240"/>
            <a:ext cx="1800" cy="47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9024840" y="2478240"/>
            <a:ext cx="1800" cy="47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6400" y="2965320"/>
            <a:ext cx="3726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1250280" y="2965320"/>
            <a:ext cx="7689960" cy="482040"/>
            <a:chOff x="1250280" y="2965320"/>
            <a:chExt cx="7689960" cy="482040"/>
          </a:xfrm>
        </p:grpSpPr>
        <p:sp>
          <p:nvSpPr>
            <p:cNvPr id="1510" name=""/>
            <p:cNvSpPr/>
            <p:nvPr/>
          </p:nvSpPr>
          <p:spPr>
            <a:xfrm>
              <a:off x="1250280" y="2965320"/>
              <a:ext cx="193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ixo volume de dado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458360" y="3203640"/>
              <a:ext cx="151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elos analí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555360" y="296532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ativo, simula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700240" y="2965320"/>
              <a:ext cx="160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latórios especiai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728320" y="3203640"/>
              <a:ext cx="1546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álise de decis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736040" y="2965320"/>
              <a:ext cx="109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fissionai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7610760" y="3203640"/>
              <a:ext cx="1329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rentes de sta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90360" y="29541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624560" y="296532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24560" y="296532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423040" y="29541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423040" y="295416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34440" y="29541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34440" y="295416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9024840" y="29541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9024840" y="2954160"/>
            <a:ext cx="180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90360" y="2965320"/>
            <a:ext cx="97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90360" y="2965320"/>
            <a:ext cx="180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9024840" y="2965320"/>
            <a:ext cx="180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69640" y="3451320"/>
            <a:ext cx="38484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1322640" y="3451320"/>
            <a:ext cx="7311960" cy="720000"/>
            <a:chOff x="1322640" y="3451320"/>
            <a:chExt cx="7311960" cy="720000"/>
          </a:xfrm>
        </p:grpSpPr>
        <p:sp>
          <p:nvSpPr>
            <p:cNvPr id="1531" name=""/>
            <p:cNvSpPr/>
            <p:nvPr/>
          </p:nvSpPr>
          <p:spPr>
            <a:xfrm>
              <a:off x="1322640" y="3451320"/>
              <a:ext cx="178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o volume de dado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536120" y="36892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elos simp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640680" y="3451320"/>
              <a:ext cx="160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latórios , model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53200" y="3689280"/>
              <a:ext cx="178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ples, análise baix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226040" y="39276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ív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654520" y="3451320"/>
              <a:ext cx="1690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umários e relatór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001560" y="368928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 exceçõ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913160" y="3451320"/>
              <a:ext cx="721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Ger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idd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90360" y="34416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90360" y="344160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100080" y="3441600"/>
            <a:ext cx="850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960480" y="3441600"/>
            <a:ext cx="24098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624560" y="34527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624560" y="345276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352680" y="3441600"/>
            <a:ext cx="207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23040" y="34416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423040" y="344160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459400" y="3441600"/>
            <a:ext cx="1974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534440" y="344160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7534440" y="344160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443720" y="3441600"/>
            <a:ext cx="1581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9024840" y="344160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9024840" y="344160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90360" y="3451320"/>
            <a:ext cx="972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90360" y="3451320"/>
            <a:ext cx="180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9024840" y="3451320"/>
            <a:ext cx="180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29320" y="4176720"/>
            <a:ext cx="47304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K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8" name=""/>
          <p:cNvGrpSpPr/>
          <p:nvPr/>
        </p:nvGrpSpPr>
        <p:grpSpPr>
          <a:xfrm>
            <a:off x="1150920" y="4157640"/>
            <a:ext cx="7708320" cy="500760"/>
            <a:chOff x="1150920" y="4157640"/>
            <a:chExt cx="7708320" cy="500760"/>
          </a:xfrm>
        </p:grpSpPr>
        <p:sp>
          <p:nvSpPr>
            <p:cNvPr id="1559" name=""/>
            <p:cNvSpPr/>
            <p:nvPr/>
          </p:nvSpPr>
          <p:spPr>
            <a:xfrm>
              <a:off x="1150920" y="4157640"/>
              <a:ext cx="212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specificação de projeto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27320" y="4414680"/>
              <a:ext cx="1794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se de conhecimen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498840" y="4176720"/>
              <a:ext cx="1876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elagem; simul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771880" y="4176720"/>
              <a:ext cx="145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odelos; gráf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712640" y="4176720"/>
              <a:ext cx="114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fissionais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773840" y="4414680"/>
              <a:ext cx="99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ff técni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5" name=""/>
          <p:cNvSpPr/>
          <p:nvPr/>
        </p:nvSpPr>
        <p:spPr>
          <a:xfrm>
            <a:off x="90360" y="41673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0360" y="41673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624560" y="417816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624560" y="4178160"/>
            <a:ext cx="144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423040" y="41673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423040" y="41673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534440" y="41673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534440" y="41673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9024840" y="416736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9024840" y="416736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90360" y="4176720"/>
            <a:ext cx="97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90360" y="4176720"/>
            <a:ext cx="1800" cy="47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49480" y="4662360"/>
            <a:ext cx="41688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O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0360" y="465300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90360" y="465300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0080" y="4653000"/>
            <a:ext cx="85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60480" y="4653000"/>
            <a:ext cx="240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624560" y="466416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624560" y="466416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352680" y="4653000"/>
            <a:ext cx="207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423040" y="4653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423040" y="465300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459400" y="4653000"/>
            <a:ext cx="197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534440" y="465300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534440" y="465300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443720" y="4653000"/>
            <a:ext cx="158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9024840" y="465300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9024840" y="465300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90360" y="4662360"/>
            <a:ext cx="9720" cy="71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90360" y="4662360"/>
            <a:ext cx="180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9024840" y="4662360"/>
            <a:ext cx="1800" cy="71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74320" y="5383080"/>
            <a:ext cx="3726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013640" y="5689440"/>
            <a:ext cx="83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den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7980480" y="5410080"/>
            <a:ext cx="59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sso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1432440" y="5451480"/>
            <a:ext cx="1575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ações; ev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61480" y="5451480"/>
            <a:ext cx="176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agem; atualiza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630760" y="5451480"/>
            <a:ext cx="174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latórios detalhad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74120" y="5689440"/>
            <a:ext cx="125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stas; sumá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7773840" y="5638680"/>
            <a:ext cx="100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cion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7769880" y="585144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ervis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90360" y="5372280"/>
            <a:ext cx="972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90360" y="53722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90360" y="537228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24560" y="5383080"/>
            <a:ext cx="9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24560" y="5383080"/>
            <a:ext cx="144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"/>
          <p:cNvGrpSpPr/>
          <p:nvPr/>
        </p:nvGrpSpPr>
        <p:grpSpPr>
          <a:xfrm>
            <a:off x="1144440" y="4662360"/>
            <a:ext cx="7779960" cy="715320"/>
            <a:chOff x="1144440" y="4662360"/>
            <a:chExt cx="7779960" cy="715320"/>
          </a:xfrm>
        </p:grpSpPr>
        <p:sp>
          <p:nvSpPr>
            <p:cNvPr id="1611" name=""/>
            <p:cNvSpPr/>
            <p:nvPr/>
          </p:nvSpPr>
          <p:spPr>
            <a:xfrm>
              <a:off x="5659560" y="4896000"/>
              <a:ext cx="1672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ronogramas; e-ma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144440" y="4662360"/>
              <a:ext cx="213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os; cronogra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910680" y="466236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o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803040" y="4896000"/>
              <a:ext cx="1252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gerenciamento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902040" y="5133960"/>
              <a:ext cx="104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onogra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66640" y="466236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cumentos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623720" y="4662360"/>
              <a:ext cx="130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lerical work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8" name=""/>
          <p:cNvSpPr/>
          <p:nvPr/>
        </p:nvSpPr>
        <p:spPr>
          <a:xfrm>
            <a:off x="5423040" y="53722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423040" y="537228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534440" y="53722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534440" y="5372280"/>
            <a:ext cx="144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9024840" y="53722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9024840" y="5372280"/>
            <a:ext cx="1800" cy="1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90360" y="5383080"/>
            <a:ext cx="9720" cy="71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90360" y="5383080"/>
            <a:ext cx="1800" cy="71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90360" y="6097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90360" y="6097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90360" y="6097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0360" y="6097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00080" y="6097680"/>
            <a:ext cx="850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960480" y="6097680"/>
            <a:ext cx="2409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624560" y="610884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624560" y="610884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423040" y="6097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5423040" y="6097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468760" y="6097680"/>
            <a:ext cx="197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7534440" y="6097680"/>
            <a:ext cx="9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534440" y="6097680"/>
            <a:ext cx="14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443720" y="6097680"/>
            <a:ext cx="1581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9024840" y="5383080"/>
            <a:ext cx="1800" cy="71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9024840" y="6097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9024840" y="6097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9024840" y="6097680"/>
            <a:ext cx="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024840" y="6097680"/>
            <a:ext cx="18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325680" y="1981080"/>
            <a:ext cx="225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950760" y="1992240"/>
            <a:ext cx="0" cy="41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429000" y="1986120"/>
            <a:ext cx="0" cy="410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H="1">
            <a:off x="99720" y="2954160"/>
            <a:ext cx="892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576840" y="152280"/>
            <a:ext cx="2414880" cy="1479600"/>
          </a:xfrm>
          <a:prstGeom prst="triangle">
            <a:avLst>
              <a:gd name="adj" fmla="val 50000"/>
            </a:avLst>
          </a:prstGeom>
          <a:solidFill>
            <a:srgbClr val="ff898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764400" y="1287360"/>
            <a:ext cx="2054160" cy="3373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980400" y="961920"/>
            <a:ext cx="1724040" cy="3373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hec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151760" y="654120"/>
            <a:ext cx="1428840" cy="3373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70920" y="380880"/>
            <a:ext cx="1187280" cy="337320"/>
          </a:xfrm>
          <a:prstGeom prst="rect">
            <a:avLst/>
          </a:prstGeom>
          <a:solidFill>
            <a:srgbClr val="ff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até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554880" y="3492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11920" y="654120"/>
            <a:ext cx="101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DSS; M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581800" y="944640"/>
            <a:ext cx="114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KWS; O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869080" y="12952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T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543800" y="2003400"/>
            <a:ext cx="0" cy="409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0080" y="1981080"/>
            <a:ext cx="0" cy="413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7EA-267D-4DCB-901E-F53AB8A5BD76}" type="slidenum">
              <a:t>92</a:t>
            </a:fld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330120" y="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Estratégicos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295200" y="1344600"/>
            <a:ext cx="85946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ovo pap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Sistemas de Informação tem sido sua aplicação em problemas que se relacionam com a vantagem competitiva de um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s sistemas são considerado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istemas de Informação Estratég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rque se concentram em resolver problemas relacionados com a prosperidade da empresa a longo prazo e sua sobrevivê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is problemas podem significar a criação de novos produtos e serviços, o estabelecimento de novas relações com os clientes e fornecedores, ou a descoberta de meios mais eficientes e mais eficazes de se administra as atividades internas d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8D5-212C-402B-9845-BD39232781E5}" type="slidenum">
              <a:t>93</a:t>
            </a:fld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30120" y="7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Sistemas de Informação Estratégicos 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239760" y="1301400"/>
            <a:ext cx="85946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objetiv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s de Informação Estratég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fornecer soluções que permitirão às empresas derrotar e frustar seus concor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mudam os objetivos, operações, produtos, serviços ou relacionamentos ambientais d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rganiz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ajudá-la a obter um diferencial sobre os concor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s de Informação Estratégicos podem até mesmo mudar o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negócios da empres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7616-C5E3-447B-BEF4-2610014FAB2E}" type="slidenum">
              <a:t>94</a:t>
            </a:fld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"/>
          <p:cNvSpPr/>
          <p:nvPr/>
        </p:nvSpPr>
        <p:spPr>
          <a:xfrm>
            <a:off x="185760" y="1282680"/>
            <a:ext cx="8853480" cy="828720"/>
          </a:xfrm>
          <a:prstGeom prst="flowChartAlternateProcess">
            <a:avLst/>
          </a:prstGeom>
          <a:solidFill>
            <a:srgbClr val="ffefe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90240" y="1447920"/>
            <a:ext cx="803880" cy="2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Perío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252160" y="1365120"/>
            <a:ext cx="143928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Concepção 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Inform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4893480" y="1365120"/>
            <a:ext cx="15066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Sistem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de Inform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318800" y="1427040"/>
            <a:ext cx="991440" cy="2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Propósi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736640" y="1898640"/>
            <a:ext cx="52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11640" y="1898640"/>
            <a:ext cx="52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946920" y="1898640"/>
            <a:ext cx="522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66680" y="3182760"/>
            <a:ext cx="8874000" cy="995400"/>
          </a:xfrm>
          <a:prstGeom prst="flowChartAlternateProcess">
            <a:avLst/>
          </a:prstGeom>
          <a:solidFill>
            <a:srgbClr val="ffcdcd"/>
          </a:solidFill>
          <a:ln w="9360">
            <a:solidFill>
              <a:srgbClr val="993300"/>
            </a:solidFill>
            <a:miter/>
          </a:ln>
          <a:effectLst>
            <a:outerShdw dist="17819" dir="2700000" blurRad="0" rotWithShape="0">
              <a:srgbClr val="ffff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00680" y="323532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1960-197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941480" y="3235320"/>
            <a:ext cx="215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Suporte de propósi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era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16480" y="3521160"/>
            <a:ext cx="5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091640" y="3235320"/>
            <a:ext cx="19072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ápidos requisit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 relatóri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gerai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185760" y="4178160"/>
            <a:ext cx="8874000" cy="10432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56400" y="423216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1970-198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908000" y="4232160"/>
            <a:ext cx="2256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Controle customizad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do gerenci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850640" y="4232160"/>
            <a:ext cx="1015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361480" y="4740120"/>
            <a:ext cx="54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108920" y="4232160"/>
            <a:ext cx="20350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</a:rPr>
              <a:t>Melhorar e customizar a tomada de decis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85760" y="5221440"/>
            <a:ext cx="8874000" cy="1125360"/>
          </a:xfrm>
          <a:prstGeom prst="flowChartAlternateProcess">
            <a:avLst/>
          </a:prstGeom>
          <a:solidFill>
            <a:srgbClr val="ffcdcd"/>
          </a:solidFill>
          <a:ln w="9360">
            <a:solidFill>
              <a:srgbClr val="993300"/>
            </a:solidFill>
            <a:miter/>
          </a:ln>
          <a:effectLst>
            <a:outerShdw dist="17819" dir="2700000" blurRad="0" rotWithShape="0">
              <a:srgbClr val="ffff1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56400" y="534996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1985-20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949040" y="5237280"/>
            <a:ext cx="23248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ecursos estratégico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Vantagem competitiv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Armas estratégic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4573800" y="5289480"/>
            <a:ext cx="2402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TRATÉ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43760" y="5237280"/>
            <a:ext cx="21002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Promover sobrevivência e prosperidade da organizaçã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Mudança no Conceito de Informação e Sistema de Informação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5240" y="2111400"/>
            <a:ext cx="8874000" cy="1089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0" name=""/>
          <p:cNvGrpSpPr/>
          <p:nvPr/>
        </p:nvGrpSpPr>
        <p:grpSpPr>
          <a:xfrm>
            <a:off x="2104920" y="2187720"/>
            <a:ext cx="2428560" cy="568800"/>
            <a:chOff x="2104920" y="2187720"/>
            <a:chExt cx="2428560" cy="568800"/>
          </a:xfrm>
        </p:grpSpPr>
        <p:sp>
          <p:nvSpPr>
            <p:cNvPr id="1691" name=""/>
            <p:cNvSpPr/>
            <p:nvPr/>
          </p:nvSpPr>
          <p:spPr>
            <a:xfrm>
              <a:off x="2413080" y="2187720"/>
              <a:ext cx="1530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Mal necessári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04920" y="2466720"/>
              <a:ext cx="2428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Requisitos burocrátic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3" name=""/>
          <p:cNvSpPr/>
          <p:nvPr/>
        </p:nvSpPr>
        <p:spPr>
          <a:xfrm>
            <a:off x="4960080" y="2187720"/>
            <a:ext cx="14544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Máquinas 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contabil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letrônic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796440" y="2187720"/>
            <a:ext cx="220428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Rápida contabilidad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e process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e pap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88080" y="2270160"/>
            <a:ext cx="1044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Times New Roman"/>
              </a:rPr>
              <a:t>1950-196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7347-CCC2-485A-BAF8-0C81A3266444}" type="slidenum">
              <a:t>95</a:t>
            </a:fld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Bibliografia</a:t>
            </a:r>
            <a:endParaRPr b="0" i="1" lang="en-US" sz="4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763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pítulos 1, 2 e 3 do Livro Texto (Land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daptação e extensão do material de Sistemas de Informação do ICMC-USP/São Car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FAA-132F-42DE-B905-09B2E8A61B80}" type="slidenum">
              <a:t>96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18:28:09Z</dcterms:created>
  <dc:creator>REJANE MARIA DA COSTA FIGUEIREDO</dc:creator>
  <dc:description/>
  <dc:language>en-US</dc:language>
  <cp:lastModifiedBy>DCT-UFMS</cp:lastModifiedBy>
  <cp:lastPrinted>2000-06-09T16:25:37Z</cp:lastPrinted>
  <dcterms:modified xsi:type="dcterms:W3CDTF">2002-03-13T20:31:59Z</dcterms:modified>
  <cp:revision>169</cp:revision>
  <dc:subject/>
  <dc:title>Dado, Conhecimento, Informação</dc:title>
</cp:coreProperties>
</file>