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A0F7-E5EE-42E3-90F4-EBED61690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176560" y="4062960"/>
            <a:ext cx="6967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D610-9B83-4121-AD25-77BFC457E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17656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4668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7944-B51B-42CC-A928-2209BE380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32400" y="159984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87880" y="159984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176560" y="406296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532400" y="406296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87880" y="406296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ED54-98C5-4AE6-BBBB-6FF321774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AB8EE-63A8-43C6-86DE-5CE434BC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19582-FED4-4D64-A2CA-E62A3BD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05225-8E48-41D3-A8DD-233889CB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B6599-19FD-4668-A9C3-6E1DCBB7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11BC4-C3BC-43D6-8690-BDAF3EEB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981080" y="228240"/>
            <a:ext cx="712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DB1FE-BCFA-4B41-B1F6-CEDC89EE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17656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552AD-EE1B-43CF-BDFA-DD764567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1F98-FA19-4BDF-A0D7-CF341FA0E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74668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8488C-5475-44D1-B395-AE0C173F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176560" y="4062960"/>
            <a:ext cx="6967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EAFB4-07DB-483D-958B-7031E0C5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176560" y="4062960"/>
            <a:ext cx="6967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61C51-E134-442F-98CC-CA0677C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7656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4668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63EF5-AE1A-4F2F-9A33-AAD975EB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32400" y="159984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87880" y="159984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176560" y="406296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532400" y="406296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887880" y="4062960"/>
            <a:ext cx="224316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B0619-A93C-4405-A502-0B99DF51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CD30C-D91A-4B65-AB2B-1E09E7B1D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F4465-CD98-4907-8CEE-AD5F6D2DC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7ECB-872E-4079-A63D-B6A2DB9BB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228240"/>
            <a:ext cx="7120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70E4-D9C7-4764-8E6A-BD38BF079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7656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796B-3508-4B62-B6C2-AED8504F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46680" y="406296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8FDA5-F780-4F16-8897-7F38A49D2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46680" y="1599840"/>
            <a:ext cx="33998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176560" y="4062960"/>
            <a:ext cx="696744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34B5-94A4-494F-B566-1D3D316BD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024760" y="6334200"/>
            <a:ext cx="107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6882-A571-463B-9CB5-1373C64D5F91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219320" y="0"/>
            <a:ext cx="7924680" cy="1447920"/>
          </a:xfrm>
          <a:prstGeom prst="rect">
            <a:avLst/>
          </a:prstGeom>
          <a:gradFill rotWithShape="0">
            <a:gsLst>
              <a:gs pos="0">
                <a:srgbClr val="b1d7d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1143000" y="-380880"/>
            <a:ext cx="3505320" cy="756108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4" name="04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990720" y="3962520"/>
            <a:ext cx="820440" cy="447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7600" y="4494960"/>
            <a:ext cx="6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9900"/>
                </a:solidFill>
                <a:latin typeface="Arial"/>
              </a:rPr>
              <a:t>CAP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922320" y="1371600"/>
            <a:ext cx="30988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Profissionais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ffff"/>
                </a:solidFill>
                <a:latin typeface="Verdana"/>
              </a:rPr>
              <a:t>da Era Web</a:t>
            </a:r>
            <a:endParaRPr b="0" lang="en-US" sz="2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10960" y="6534000"/>
            <a:ext cx="501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00"/>
                </a:solidFill>
                <a:latin typeface="Verdana"/>
              </a:rPr>
              <a:t>1</a:t>
            </a:r>
            <a:r>
              <a:rPr b="0" lang="en-US" sz="1300" spc="-1" strike="noStrike" baseline="30000">
                <a:solidFill>
                  <a:srgbClr val="333300"/>
                </a:solidFill>
                <a:latin typeface="Verdana"/>
              </a:rPr>
              <a:t>o</a:t>
            </a:r>
            <a:r>
              <a:rPr b="0" lang="en-US" sz="1300" spc="-1" strike="noStrike">
                <a:solidFill>
                  <a:srgbClr val="333300"/>
                </a:solidFill>
                <a:latin typeface="Verdana"/>
              </a:rPr>
              <a:t> Ciclo de Palestra de Informática do SENAC - 27 a 29/08/2001</a:t>
            </a:r>
            <a:endParaRPr b="0" lang="en-US" sz="13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CA5D-8AFA-449F-97F5-334266E6CE95}" type="datetime">
              <a:rPr b="1" lang="pt-BR" sz="3200" spc="-1" strike="noStrike">
                <a:solidFill>
                  <a:srgbClr val="333300"/>
                </a:solidFill>
                <a:latin typeface="Arial"/>
              </a:rPr>
              <a:t>28/07/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767040" y="6319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7196040" y="6319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7F2-84C9-4238-89AA-3926349A98A7}" type="slidenum">
              <a:rPr b="0" lang="pt-BR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0"/>
            <a:ext cx="800100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ffffff"/>
              </a:gs>
            </a:gsLst>
            <a:lin ang="10800000"/>
          </a:gra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1066680" y="-304920"/>
            <a:ext cx="3504960" cy="7561440"/>
          </a:xfrm>
          <a:prstGeom prst="ellipse">
            <a:avLst/>
          </a:prstGeom>
          <a:gradFill rotWithShape="0">
            <a:gsLst>
              <a:gs pos="0">
                <a:srgbClr val="004747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iwanet.org/" TargetMode="External"/><Relationship Id="rId2" Type="http://schemas.openxmlformats.org/officeDocument/2006/relationships/hyperlink" Target="http://www.iwanet.org/" TargetMode="External"/><Relationship Id="rId3" Type="http://schemas.openxmlformats.org/officeDocument/2006/relationships/hyperlink" Target="http://www.iwanet.org/" TargetMode="External"/><Relationship Id="rId4" Type="http://schemas.openxmlformats.org/officeDocument/2006/relationships/hyperlink" Target="http://www.iwanet.org/" TargetMode="External"/><Relationship Id="rId5" Type="http://schemas.openxmlformats.org/officeDocument/2006/relationships/hyperlink" Target="http://www.ispa.com.br/" TargetMode="External"/><Relationship Id="rId6" Type="http://schemas.openxmlformats.org/officeDocument/2006/relationships/hyperlink" Target="http://www.ispa.com.br/" TargetMode="External"/><Relationship Id="rId7" Type="http://schemas.openxmlformats.org/officeDocument/2006/relationships/hyperlink" Target="http://www.ispa.com.br/" TargetMode="External"/><Relationship Id="rId8" Type="http://schemas.openxmlformats.org/officeDocument/2006/relationships/hyperlink" Target="http://www.ispa.com.br/" TargetMode="External"/><Relationship Id="rId9" Type="http://schemas.openxmlformats.org/officeDocument/2006/relationships/hyperlink" Target="http://www.undp.org/" TargetMode="External"/><Relationship Id="rId10" Type="http://schemas.openxmlformats.org/officeDocument/2006/relationships/hyperlink" Target="http://www.undp.org/" TargetMode="External"/><Relationship Id="rId11" Type="http://schemas.openxmlformats.org/officeDocument/2006/relationships/hyperlink" Target="http://www.undp.org/" TargetMode="External"/><Relationship Id="rId12" Type="http://schemas.openxmlformats.org/officeDocument/2006/relationships/hyperlink" Target="http://www.undp.org/" TargetMode="External"/><Relationship Id="rId13" Type="http://schemas.openxmlformats.org/officeDocument/2006/relationships/hyperlink" Target="http://www.undp.org/" TargetMode="External"/><Relationship Id="rId14" Type="http://schemas.openxmlformats.org/officeDocument/2006/relationships/hyperlink" Target="http://www.webengineering.org/" TargetMode="External"/><Relationship Id="rId15" Type="http://schemas.openxmlformats.org/officeDocument/2006/relationships/hyperlink" Target="http://aeims.uws.edu.au/WebEhome" TargetMode="External"/><Relationship Id="rId16" Type="http://schemas.openxmlformats.org/officeDocument/2006/relationships/hyperlink" Target="http://aeims.uws.edu.au/WebEhome" TargetMode="External"/><Relationship Id="rId17" Type="http://schemas.openxmlformats.org/officeDocument/2006/relationships/hyperlink" Target="http://www.rspa.com/spi/webe.htm" TargetMode="External"/><Relationship Id="rId18" Type="http://schemas.openxmlformats.org/officeDocument/2006/relationships/hyperlink" Target="http://www.rspa.com/spi/webe.htm" TargetMode="External"/><Relationship Id="rId19" Type="http://schemas.openxmlformats.org/officeDocument/2006/relationships/hyperlink" Target="http://www.w3.org/" TargetMode="External"/><Relationship Id="rId20" Type="http://schemas.openxmlformats.org/officeDocument/2006/relationships/hyperlink" Target="http://www.w3.org/" TargetMode="External"/><Relationship Id="rId2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70896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800" spc="-1" strike="noStrike">
                <a:solidFill>
                  <a:srgbClr val="333300"/>
                </a:solidFill>
                <a:latin typeface="Arial"/>
              </a:rPr>
              <a:t>P</a:t>
            </a:r>
            <a:r>
              <a:rPr b="1" lang="pt-PT" sz="3600" spc="-1" strike="noStrike">
                <a:solidFill>
                  <a:srgbClr val="333300"/>
                </a:solidFill>
                <a:latin typeface="Arial"/>
              </a:rPr>
              <a:t>ROFISSIONAIS</a:t>
            </a:r>
            <a:r>
              <a:rPr b="1" lang="pt-PT" sz="48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1" lang="pt-PT" sz="3600" spc="-1" strike="noStrike">
                <a:solidFill>
                  <a:srgbClr val="333300"/>
                </a:solidFill>
                <a:latin typeface="Arial"/>
              </a:rPr>
              <a:t>DA</a:t>
            </a:r>
            <a:r>
              <a:rPr b="1" lang="pt-PT" sz="4800" spc="-1" strike="noStrike">
                <a:solidFill>
                  <a:srgbClr val="333300"/>
                </a:solidFill>
                <a:latin typeface="Arial"/>
              </a:rPr>
              <a:t> E</a:t>
            </a:r>
            <a:r>
              <a:rPr b="1" lang="pt-PT" sz="3600" spc="-1" strike="noStrike">
                <a:solidFill>
                  <a:srgbClr val="333300"/>
                </a:solidFill>
                <a:latin typeface="Arial"/>
              </a:rPr>
              <a:t>RA</a:t>
            </a:r>
            <a:r>
              <a:rPr b="1" lang="pt-PT" sz="4800" spc="-1" strike="noStrike">
                <a:solidFill>
                  <a:srgbClr val="333300"/>
                </a:solidFill>
                <a:latin typeface="Arial"/>
              </a:rPr>
              <a:t> W</a:t>
            </a:r>
            <a:r>
              <a:rPr b="1" lang="pt-PT" sz="3600" spc="-1" strike="noStrike">
                <a:solidFill>
                  <a:srgbClr val="333300"/>
                </a:solidFill>
                <a:latin typeface="Arial"/>
              </a:rPr>
              <a:t>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41160" y="2333520"/>
            <a:ext cx="67057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333300"/>
                </a:solidFill>
                <a:latin typeface="Arial"/>
              </a:rPr>
              <a:t>Prof. Dr. </a:t>
            </a:r>
            <a:r>
              <a:rPr b="1" lang="pt-BR" sz="2600" spc="-1" strike="noStrike">
                <a:solidFill>
                  <a:srgbClr val="333300"/>
                </a:solidFill>
                <a:latin typeface="Arial"/>
              </a:rPr>
              <a:t>Marcelo Augusto Santos Turine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</a:rPr>
              <a:t>mast@dct.ufms.br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00"/>
                </a:solidFill>
                <a:latin typeface="Arial"/>
              </a:rPr>
              <a:t>Departamento de Computação Estatística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00"/>
                </a:solidFill>
                <a:latin typeface="Arial"/>
              </a:rPr>
              <a:t>Universidade Federal do Mato Grosso do Su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00"/>
                </a:solidFill>
                <a:latin typeface="Arial"/>
              </a:rPr>
              <a:t>Campo Grande, MS, Brasi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pt-PT" sz="2400" spc="-1" strike="noStrike" baseline="30000">
                <a:solidFill>
                  <a:srgbClr val="333300"/>
                </a:solidFill>
                <a:latin typeface="Arial"/>
              </a:rPr>
              <a:t>o</a:t>
            </a:r>
            <a:r>
              <a:rPr b="1" lang="pt-PT" sz="2400" spc="-1" strike="noStrike">
                <a:solidFill>
                  <a:srgbClr val="333300"/>
                </a:solidFill>
                <a:latin typeface="Arial"/>
              </a:rPr>
              <a:t> Ciclo de Palestra de Informática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3300"/>
                </a:solidFill>
                <a:latin typeface="Arial"/>
              </a:rPr>
              <a:t>SENAC-M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333300"/>
                </a:solidFill>
                <a:latin typeface="Arial"/>
              </a:rPr>
              <a:t>27 a 29/08/2001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555120" y="0"/>
            <a:ext cx="393228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a apresentação irá envolver algum debate com a platéia, o que irá criar itens de ação.   Use o PowerPoint para registrar estes itens de ação durante sua apresentaçã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 modo de apresentação de slides, clique no botão direito do mous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'Registro de reuni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cione a guia 'Itens de ação'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igite os itens de ação à medida que eles forem surgindo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lique em OK para desconsiderar esta caixa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sso criará automaticamente um slide do item de ação no fim da apresentação contendo os pontos que você forneceu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ngenharia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76560" y="1600200"/>
            <a:ext cx="69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Tahoma"/>
              </a:rPr>
              <a:t>Multi e Interdisciplinar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895480" y="2247480"/>
            <a:ext cx="5334120" cy="3696120"/>
            <a:chOff x="2895480" y="2247480"/>
            <a:chExt cx="5334120" cy="3696120"/>
          </a:xfrm>
        </p:grpSpPr>
        <p:sp>
          <p:nvSpPr>
            <p:cNvPr id="199" name=""/>
            <p:cNvSpPr/>
            <p:nvPr/>
          </p:nvSpPr>
          <p:spPr>
            <a:xfrm>
              <a:off x="7772400" y="2247840"/>
              <a:ext cx="152280" cy="83844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895480" y="2247480"/>
              <a:ext cx="5334120" cy="3696120"/>
              <a:chOff x="2895480" y="2247480"/>
              <a:chExt cx="5334120" cy="3696120"/>
            </a:xfrm>
          </p:grpSpPr>
          <p:sp>
            <p:nvSpPr>
              <p:cNvPr id="201" name=""/>
              <p:cNvSpPr/>
              <p:nvPr/>
            </p:nvSpPr>
            <p:spPr>
              <a:xfrm>
                <a:off x="3200400" y="3429000"/>
                <a:ext cx="0" cy="106668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895480" y="4495680"/>
                <a:ext cx="304920" cy="144792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3505320" y="5524560"/>
                <a:ext cx="1981080" cy="41904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86400" y="4076640"/>
                <a:ext cx="0" cy="144792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505320" y="3733560"/>
                <a:ext cx="1981080" cy="53316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86400" y="2819520"/>
                <a:ext cx="457200" cy="91440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3505320" y="2590920"/>
                <a:ext cx="1100160" cy="22860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943600" y="2247480"/>
                <a:ext cx="1176480" cy="34308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433920" y="3086280"/>
                <a:ext cx="1338120" cy="64764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34280" y="4076640"/>
                <a:ext cx="685800" cy="83844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8229600" y="5105520"/>
                <a:ext cx="0" cy="83808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7924680" y="3086280"/>
                <a:ext cx="304920" cy="182880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flipV="1">
                <a:off x="5943600" y="5333760"/>
                <a:ext cx="1828800" cy="609480"/>
              </a:xfrm>
              <a:prstGeom prst="line">
                <a:avLst/>
              </a:prstGeom>
              <a:ln cap="sq" w="1260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4267080" y="5105520"/>
            <a:ext cx="1981440" cy="83808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Hipermídi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1600200"/>
            <a:ext cx="1981080" cy="990720"/>
          </a:xfrm>
          <a:prstGeom prst="ellipse">
            <a:avLst/>
          </a:prstGeom>
          <a:solidFill>
            <a:srgbClr val="dfdfe5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Banco d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Dado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71640" y="4076640"/>
            <a:ext cx="2286000" cy="838440"/>
          </a:xfrm>
          <a:prstGeom prst="ellipse">
            <a:avLst/>
          </a:prstGeom>
          <a:solidFill>
            <a:srgbClr val="fed2f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Comunicaçã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Visu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76560" y="2590920"/>
            <a:ext cx="1981080" cy="8380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Arquitetur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05480" y="3429000"/>
            <a:ext cx="2514600" cy="83808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Redes d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5524560"/>
            <a:ext cx="1981440" cy="8380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Art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7080" y="2247840"/>
            <a:ext cx="1981440" cy="83844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Interfac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20080" y="5524560"/>
            <a:ext cx="1981080" cy="838080"/>
          </a:xfrm>
          <a:prstGeom prst="ellipse">
            <a:avLst/>
          </a:prstGeom>
          <a:solidFill>
            <a:srgbClr val="ffc1bf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Computaçã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Gráfica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0080" y="2590920"/>
            <a:ext cx="1981080" cy="8380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Marketing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Jornalism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34280" y="4495680"/>
            <a:ext cx="2666880" cy="83844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Lingüística</a:t>
            </a:r>
            <a:br>
              <a:rPr sz="2000"/>
            </a:b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Computacional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62520" y="5943600"/>
            <a:ext cx="2819160" cy="838080"/>
          </a:xfrm>
          <a:prstGeom prst="ellipse">
            <a:avLst/>
          </a:prstGeom>
          <a:solidFill>
            <a:srgbClr val="fed2f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Engenharia d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Verdana"/>
              </a:rPr>
              <a:t>Softwar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20200" y="5105520"/>
            <a:ext cx="7200360" cy="459720"/>
          </a:xfrm>
          <a:prstGeom prst="rect">
            <a:avLst/>
          </a:prstGeom>
          <a:solidFill>
            <a:srgbClr val="3333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Beleza não garante o sucesso de uma WebApp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arquiteto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715000" y="2743200"/>
            <a:ext cx="3514680" cy="2222640"/>
          </a:xfrm>
          <a:custGeom>
            <a:avLst/>
            <a:gdLst/>
            <a:ahLst/>
            <a:rect l="l" t="t" r="r" b="b"/>
            <a:pathLst>
              <a:path w="2214" h="1400">
                <a:moveTo>
                  <a:pt x="726" y="2"/>
                </a:moveTo>
                <a:cubicBezTo>
                  <a:pt x="425" y="16"/>
                  <a:pt x="557" y="0"/>
                  <a:pt x="330" y="38"/>
                </a:cubicBezTo>
                <a:cubicBezTo>
                  <a:pt x="306" y="42"/>
                  <a:pt x="282" y="46"/>
                  <a:pt x="258" y="50"/>
                </a:cubicBezTo>
                <a:cubicBezTo>
                  <a:pt x="234" y="54"/>
                  <a:pt x="186" y="62"/>
                  <a:pt x="186" y="62"/>
                </a:cubicBezTo>
                <a:cubicBezTo>
                  <a:pt x="132" y="89"/>
                  <a:pt x="109" y="112"/>
                  <a:pt x="90" y="170"/>
                </a:cubicBezTo>
                <a:cubicBezTo>
                  <a:pt x="94" y="346"/>
                  <a:pt x="0" y="632"/>
                  <a:pt x="150" y="782"/>
                </a:cubicBezTo>
                <a:cubicBezTo>
                  <a:pt x="356" y="1400"/>
                  <a:pt x="405" y="1011"/>
                  <a:pt x="1602" y="1022"/>
                </a:cubicBezTo>
                <a:cubicBezTo>
                  <a:pt x="2214" y="1008"/>
                  <a:pt x="2198" y="1185"/>
                  <a:pt x="2118" y="542"/>
                </a:cubicBezTo>
                <a:cubicBezTo>
                  <a:pt x="2116" y="526"/>
                  <a:pt x="2086" y="530"/>
                  <a:pt x="2070" y="530"/>
                </a:cubicBezTo>
                <a:cubicBezTo>
                  <a:pt x="1818" y="522"/>
                  <a:pt x="1566" y="522"/>
                  <a:pt x="1314" y="518"/>
                </a:cubicBezTo>
                <a:cubicBezTo>
                  <a:pt x="1255" y="473"/>
                  <a:pt x="1237" y="449"/>
                  <a:pt x="1218" y="374"/>
                </a:cubicBezTo>
                <a:cubicBezTo>
                  <a:pt x="1209" y="338"/>
                  <a:pt x="1220" y="292"/>
                  <a:pt x="1194" y="266"/>
                </a:cubicBezTo>
                <a:cubicBezTo>
                  <a:pt x="1147" y="219"/>
                  <a:pt x="1085" y="216"/>
                  <a:pt x="1026" y="206"/>
                </a:cubicBezTo>
                <a:cubicBezTo>
                  <a:pt x="983" y="184"/>
                  <a:pt x="937" y="168"/>
                  <a:pt x="894" y="146"/>
                </a:cubicBezTo>
                <a:cubicBezTo>
                  <a:pt x="847" y="123"/>
                  <a:pt x="814" y="99"/>
                  <a:pt x="762" y="86"/>
                </a:cubicBezTo>
                <a:cubicBezTo>
                  <a:pt x="754" y="74"/>
                  <a:pt x="744" y="63"/>
                  <a:pt x="738" y="50"/>
                </a:cubicBezTo>
                <a:cubicBezTo>
                  <a:pt x="732" y="35"/>
                  <a:pt x="726" y="2"/>
                  <a:pt x="726" y="2"/>
                </a:cubicBezTo>
                <a:close/>
              </a:path>
            </a:pathLst>
          </a:custGeom>
          <a:solidFill>
            <a:srgbClr val="ccffff"/>
          </a:solidFill>
          <a:ln cap="sq" w="1260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vos profission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e-va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76560" y="1447560"/>
            <a:ext cx="69674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A Internet é hoje a maior e a melhor geradora de empregos do mundo da tecnologia - oferece novas oportunidades profissionais, novas competências e exigências...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0" name="BD05679_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1371600" cy="132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766880" y="3795840"/>
            <a:ext cx="1662120" cy="485640"/>
          </a:xfrm>
          <a:prstGeom prst="rightArrow">
            <a:avLst>
              <a:gd name="adj1" fmla="val 50000"/>
              <a:gd name="adj2" fmla="val 85563"/>
            </a:avLst>
          </a:prstGeom>
          <a:solidFill>
            <a:srgbClr val="b3b2be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3795840"/>
            <a:ext cx="914400" cy="485640"/>
          </a:xfrm>
          <a:prstGeom prst="rightArrow">
            <a:avLst>
              <a:gd name="adj1" fmla="val 50000"/>
              <a:gd name="adj2" fmla="val 47072"/>
            </a:avLst>
          </a:prstGeom>
          <a:solidFill>
            <a:srgbClr val="b3b2be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455920" y="4811760"/>
            <a:ext cx="3182760" cy="1708920"/>
            <a:chOff x="2455920" y="4811760"/>
            <a:chExt cx="3182760" cy="1708920"/>
          </a:xfrm>
        </p:grpSpPr>
        <p:sp>
          <p:nvSpPr>
            <p:cNvPr id="234" name=""/>
            <p:cNvSpPr/>
            <p:nvPr/>
          </p:nvSpPr>
          <p:spPr>
            <a:xfrm>
              <a:off x="3332160" y="4811760"/>
              <a:ext cx="1511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00"/>
                  </a:solidFill>
                  <a:latin typeface="Arial"/>
                </a:rPr>
                <a:t>Cursos de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00"/>
                  </a:solidFill>
                  <a:latin typeface="Arial"/>
                </a:rPr>
                <a:t>Graduação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00"/>
                  </a:solidFill>
                  <a:latin typeface="Arial"/>
                </a:rPr>
                <a:t>-SBC-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331800" y="5818320"/>
              <a:ext cx="554040" cy="2775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86200" y="5818320"/>
              <a:ext cx="228600" cy="2775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86200" y="5818320"/>
              <a:ext cx="914400" cy="2775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895480" y="5818320"/>
              <a:ext cx="990720" cy="277560"/>
            </a:xfrm>
            <a:prstGeom prst="line">
              <a:avLst/>
            </a:prstGeom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55920" y="6060960"/>
              <a:ext cx="31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00"/>
                  </a:solidFill>
                  <a:latin typeface="Times New Roman"/>
                </a:rPr>
                <a:t>CCp EngC  SI    LicC</a:t>
              </a: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94240" y="4432320"/>
            <a:ext cx="351972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</a:rPr>
              <a:t>Cursos d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</a:rPr>
              <a:t>Capacitação Tecnológica /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</a:rPr>
              <a:t>Certificaçã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Arial"/>
              </a:rPr>
              <a:t>ISPA CyClades – Internet/Intranet System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Arial"/>
              </a:rPr>
              <a:t>Programmer and Analys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IWA - Associação Internacional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3300"/>
                </a:solidFill>
                <a:latin typeface="Arial"/>
                <a:ea typeface="Times New Roman"/>
              </a:rPr>
              <a:t>de Webmaster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75800" y="2971800"/>
            <a:ext cx="29390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333300"/>
                </a:solidFill>
                <a:latin typeface="Arial"/>
              </a:rPr>
              <a:t>W</a:t>
            </a:r>
            <a:r>
              <a:rPr b="0" lang="pt-BR" sz="2800" spc="-1" strike="noStrike">
                <a:solidFill>
                  <a:srgbClr val="333300"/>
                </a:solidFill>
                <a:latin typeface="Arial"/>
              </a:rPr>
              <a:t>EB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333300"/>
                </a:solidFill>
                <a:latin typeface="Arial"/>
              </a:rPr>
              <a:t>ROFISSIONAL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42" name="sem%20título" descr=""/>
          <p:cNvPicPr/>
          <p:nvPr/>
        </p:nvPicPr>
        <p:blipFill>
          <a:blip r:embed="rId2"/>
          <a:stretch/>
        </p:blipFill>
        <p:spPr>
          <a:xfrm>
            <a:off x="1066680" y="4937040"/>
            <a:ext cx="114300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ercado Atual –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áreas q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362320" y="1599840"/>
            <a:ext cx="6781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Programação Web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Engenheiro Web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Banco de Dados Web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Comércio Eletrônico (e-negócio)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Segurança na Web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Internet rápida e móvel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Software livre (Linux)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Telefonia celular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Redes de voz e dados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Armazenamento de dados (</a:t>
            </a:r>
            <a:r>
              <a:rPr b="0" i="1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data centers</a:t>
            </a:r>
            <a:r>
              <a:rPr b="0" lang="pt-BR" sz="2600" spc="-1" strike="noStrike">
                <a:solidFill>
                  <a:srgbClr val="333300"/>
                </a:solidFill>
                <a:latin typeface="Arial"/>
                <a:ea typeface="Times New Roman"/>
              </a:rPr>
              <a:t>)</a:t>
            </a:r>
            <a:endParaRPr b="0" lang="en-US" sz="26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cipação Femin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Ainda é pequena na área de Ciências Exatas e Tecnologia, mas aumentou muito nos últimos ano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POLI-USP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Engenharia de computação – de 43 alunos (5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Ciência da Computação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1986 - 5%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00"/>
                </a:solidFill>
                <a:latin typeface="Arial"/>
              </a:rPr>
              <a:t>2001 - 40%</a:t>
            </a:r>
            <a:endParaRPr b="1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Unicamp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- 20% dos alunos de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CCp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PUC - RJ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– 50 mulheres para 250 homen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ITA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- já estudam 15 mulheres entre 135 aluno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UFMS – 20% dos alunos CCp e Análise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MCT e CNPq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- 53% das mulheres (2.373 pesquisadores - 29 anos)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Programador de Internet (web developer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Todo bom programador precisa saber HTML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rogramação XML - uma evolução do HTML e se integra a ele facilmente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nhecer as linguagens Java, C++, Javascript, Perl, ActiveX, ASP, PHP e ColdFusion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Outra tendência - utilização de objetos distribuídos. Para entrar nesse mundo, deve conhecer Java, C++, AtiveX, Com e Corba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rogramas como DreamWeaver, FrontPage, GoLive (Adobe Systems) e HomeSite (Allaire) facilitam a vida do programador ao ajudar a criar sites dinâmicos que precisam estar ligados a banco de dado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2.800 até: R$4.000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esenvolvedor/Engenheiro de website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É mais que um </a:t>
            </a: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Webdesigner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Webmaster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Conhece técnicas e métodos de engenharia de softwar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Conhecer as linguagens mais usadas, como VB, Java e C++, além de Perl, ActiveX, ASP, PHP, ColdFusion e Flash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Transformar todas as partes do site em componentes que se conversam: Com (da Microsoft) e o Corba (administrado por um consórcio de empresas)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4.500 até: R$6.000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dministrador de Banco de Dados (DBA) para Web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Especialistas em banco de dados voltados para Web tornaram-se mais do que profissionais caros: sem eles, desista!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Os sites são totalmente dependentes da base de dados e hoje há uma carência de bons profissionais para modelagem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Não basta mexer bem com o Oracle ou SQL Server ou ainda com IBM DB2 ou o prometido Jasmine (da CA) - focar o aprendizado nas linguagens que permitem fazer com que os dados possam ser acessados – PHP, ASP e ColdFusion - como o SQL (PL/SQL e o MySQL). No lado cliente, o DBA tem que enfrentar o HTML e o JavaScript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4.000 até: R$7.000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Especialista em Conectividad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Deve entender de protocolo TCP/IP com roteadores estáticos, BGP (Border Gateway Protocol), o protocolo usado para interligar dois provedores, e também de switches e roteadore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Tráfego de voz, vídeo e dado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3.000 até: R$7.000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176560" y="1600200"/>
            <a:ext cx="69674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Arquiteto de interface para Internet móvel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mo colocar a Internet na tela de aparelhinhos como o Palm ou o telefone celular?” pensar nos limitadores, como o tamanho do monitor e a baixa capacidade de resolução e de armazenamento dos terminais móvei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Estatísticas mostram que em 2004 vai ter tanta gente acessando a Internet de terminais móveis quanto de desktop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Não há mão-de-obra especializada para um mundo que já une telecom com Web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Tecnologia WAP (Wireless Application Protocol), conhecimentos de Java e C++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3.000 até: R$8.000</a:t>
            </a: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iretor de Internet </a:t>
            </a:r>
            <a:r>
              <a:rPr b="1" lang="pt-BR" sz="2200" spc="-1" strike="noStrike">
                <a:solidFill>
                  <a:srgbClr val="333300"/>
                </a:solidFill>
                <a:latin typeface="Arial"/>
              </a:rPr>
              <a:t>(Chief Internet Officer)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Missão: traçar a estratégia de Web para diversas categorias de negócios – e-commerce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Entende de tecnologia, mas tem perfil de business, sabe ponderar custos e descobrir o que vale a pena desenvolver e o que deve ser comprado pronto”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enxergar a Internet como meio para modernizar a forma de as empresas fazerem negócios, para que elas sejam mais rápidas e lucrativas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entender de marketing e planejamento estratégico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12.000 até: R$25.000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ino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59760" y="2895480"/>
            <a:ext cx="1573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Contex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32760" y="2941560"/>
            <a:ext cx="2718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Web Profissiona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81280" y="5405400"/>
            <a:ext cx="2332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Competênci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93960" y="5405400"/>
            <a:ext cx="1895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Verdana"/>
              </a:rPr>
              <a:t>Tendência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96" name="director" descr=""/>
          <p:cNvPicPr/>
          <p:nvPr/>
        </p:nvPicPr>
        <p:blipFill>
          <a:blip r:embed="rId1"/>
          <a:stretch/>
        </p:blipFill>
        <p:spPr>
          <a:xfrm>
            <a:off x="2971800" y="4176720"/>
            <a:ext cx="1422360" cy="1254240"/>
          </a:xfrm>
          <a:prstGeom prst="rect">
            <a:avLst/>
          </a:prstGeom>
          <a:ln w="0">
            <a:noFill/>
          </a:ln>
        </p:spPr>
      </p:pic>
      <p:pic>
        <p:nvPicPr>
          <p:cNvPr id="97" name="dreamweaver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1260360" cy="1363680"/>
          </a:xfrm>
          <a:prstGeom prst="rect">
            <a:avLst/>
          </a:prstGeom>
          <a:ln w="0">
            <a:noFill/>
          </a:ln>
        </p:spPr>
      </p:pic>
      <p:pic>
        <p:nvPicPr>
          <p:cNvPr id="98" name="fireworks" descr=""/>
          <p:cNvPicPr/>
          <p:nvPr/>
        </p:nvPicPr>
        <p:blipFill>
          <a:blip r:embed="rId3"/>
          <a:stretch/>
        </p:blipFill>
        <p:spPr>
          <a:xfrm>
            <a:off x="6121440" y="1857240"/>
            <a:ext cx="1260360" cy="1038240"/>
          </a:xfrm>
          <a:prstGeom prst="rect">
            <a:avLst/>
          </a:prstGeom>
          <a:ln w="0">
            <a:noFill/>
          </a:ln>
        </p:spPr>
      </p:pic>
      <p:pic>
        <p:nvPicPr>
          <p:cNvPr id="99" name="flash%2520generator" descr=""/>
          <p:cNvPicPr/>
          <p:nvPr/>
        </p:nvPicPr>
        <p:blipFill>
          <a:blip r:embed="rId4"/>
          <a:stretch/>
        </p:blipFill>
        <p:spPr>
          <a:xfrm>
            <a:off x="5965920" y="4089240"/>
            <a:ext cx="118584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Executivo de Comércio Eletrônico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O segredo de sucesso de um bom site de comércio eletrônico é fazer com que o consumidor se sinta bem e para isso as páginas devem ser agradáveis e funcionais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Os requisitos exigidos: tino comercial, conhecimento de tecnologias de Internet e de sistemas de ERP e logística.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Disposição ilimitada para manter o acesso ao site funcionando perfeitamente 24 horas por dia, sete dias por semana, capacidade para desenvolver um auto-atendimento prático, em ambiente personalizado, com gerenciamento de pedidos em tempo real e entrega o mais rápido possível.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12.000 até: R$18.000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Produtor Executivo para Web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Como um arquiteto que projeta um prédio, o produtor executivo desenha a planta, faz o pré-projeto, alinha os custos e apresenta uma solução para construir um sistema de Internet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Especialista em desenvolvimento e metódico o suficiente para encontrar formas de transferir para a Web o sistema antigo da empresa (ou o legado, no jargão dos técnicos)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É vantagem para a empresa trocar o SQL Server pelo Oracle8i? Os servidores de Web estão dando conta do recado? Quais são as formas mais seguras de pagamento pela Web? Perguntas complicadas?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6.000 até: R$9.000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Expert em Segurança de Site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rovedores de serviços e empresas que estão montando suas estruturas de vendas, entre empresas e vendas para o consumidor, não podem correr riscos de ver suas operações devassadas por hackers mal-intencionado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Profissional full time de olho na segurança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Sistemas operacionais e as ferramentas de proteção específicas, como programas de firewall e de criptografia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4.500 até: R$6.000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iretor de Conhecimento (</a:t>
            </a:r>
            <a:r>
              <a:rPr b="1" i="1" lang="pt-BR" sz="2400" spc="-1" strike="noStrike">
                <a:solidFill>
                  <a:srgbClr val="333300"/>
                </a:solidFill>
                <a:latin typeface="Arial"/>
              </a:rPr>
              <a:t>Schief Knowledge Officer</a:t>
            </a: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Líder de projetos virtuai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É o designer e implementador da infra-estrutura necessária à administração do conhecimento, e isso inclui a escolha de programas para armazenar e cruzar as informações (como banco de dados, data warehouse e data mining), e meios de tornar os resultados acessíveis a todos os tomadores de decisão da companhia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Não vai precisar programar ou saber como associar queries dentro de um banco de dados, mas deve estar muito por dentro desses programas para saber o que solicitar aos programadore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lário: de R$ 8.000 até: R$12.000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-profis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0" y="1599840"/>
            <a:ext cx="68580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É fundamental ter disposição para estudar, aprender, aprender, aprender, reciclar e aplicar os conhecimento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Possuir conhecimentos sólidos e técnicos da área, talento, dedicação,  persistência e criatividad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espojamento para jogar fora tudo (ou quase tudo) o que aprendeu e começar de novo, sempr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Não ter medo de virar tudo do avesso, de quebrar paradigmas, mesmo quando isso envolve riscos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361960" y="15998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Estar antenado com o que acontece em outras partes do mundo, dos Estados Unidos ao Japão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Disposição para suar além (muito além) das tradicionais 8h por dia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Capacidade para se adaptar a novas regras do jogo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808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Ter habilidade para associar as novas tecnologias ao legado da empresa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clusões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ndência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362320" y="1523520"/>
            <a:ext cx="678168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Programadores de TV interativa (WebTV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rocura por pessoas capazes de integrar conteúdo de Internet e de comércio eletrônico com programas de TV divertidos, que prendam o telespectador (</a:t>
            </a: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Banda larga vai se popularizar</a:t>
            </a: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Electronic Customer Relationship Management (eCRM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Sair do modelo de "mercados de massa" para o de "mercados de um”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Personalização de conteúdos e serviço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Caçador de piratas e fraudadore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intenção é garantir a qualidade dos produtos vendidos e sua entrega. Os caçadores têm como missão encontrar as operações e os sites pirata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Geração e edição de imagens Web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ndências e Direçõe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514240" y="1599840"/>
            <a:ext cx="66294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eXtended Markup Language (XML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Independência de plataforma tecnológica e interoperabilidade plena 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Arial"/>
              </a:rPr>
              <a:t>Portais corporativo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Espaços virtuais de trabalho nos quais existem ferramentas de gestão de conhecimento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Arial"/>
              </a:rPr>
              <a:t>Facilidades automatizadas para captação, organização, análise e distribuição de informação, além de colaboração, mediação e treinamento a distância mediado por computador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Especialista na recuperação de desastre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sua função será colocar tudo de volta no ar, o mais rápido possível, depois de um ataque de crackers ou de víru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</a:rPr>
              <a:t>Pesquisa (Mestrado e Doutorado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38280" y="1523520"/>
            <a:ext cx="67392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Times New Roman"/>
              </a:rPr>
              <a:t>Associação Internacional de Webmaster (IWA)  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ea typeface="Times New Roman"/>
                <a:hlinkClick r:id="rId1"/>
              </a:rPr>
              <a:t>www.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ea typeface="Times New Roman"/>
                <a:hlinkClick r:id="rId2"/>
              </a:rPr>
              <a:t>iwanet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ea typeface="Times New Roman"/>
                <a:hlinkClick r:id="rId3"/>
              </a:rPr>
              <a:t>.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ea typeface="Times New Roman"/>
                <a:hlinkClick r:id="rId4"/>
              </a:rPr>
              <a:t>org</a:t>
            </a:r>
            <a:r>
              <a:rPr b="0" lang="pt-BR" sz="2000" spc="-1" strike="noStrike">
                <a:solidFill>
                  <a:srgbClr val="3333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ISPA CyClades – Internet/Intranet System Programmer and Analyst - 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www.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ispa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.com.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br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00"/>
                </a:solidFill>
                <a:latin typeface="Arial"/>
              </a:rPr>
              <a:t>Programa de Desenvolvimento das Nações Unidas (ONU) - 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http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://www.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undp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.</a:t>
            </a:r>
            <a:r>
              <a:rPr b="0" lang="pt-BR" sz="20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org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WebEngineering.org Community Homepage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4"/>
              </a:rPr>
              <a:t>http://www.webengineering.org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Web Engineering Homepage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5"/>
              </a:rPr>
              <a:t>http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6"/>
              </a:rPr>
              <a:t>://aeims.uws.edu.au/WebEhome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Web Engineering Resources, R.S. Pressman and Associate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7"/>
              </a:rPr>
              <a:t>http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8"/>
              </a:rPr>
              <a:t>://www.rspa.com/spi/webe.htm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  <a:ea typeface="Arial"/>
              </a:rPr>
              <a:t>World Wide Web Consortium - 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19"/>
              </a:rPr>
              <a:t>http</a:t>
            </a:r>
            <a:r>
              <a:rPr b="0" lang="en-US" sz="2000" spc="-1" strike="noStrike" u="sng">
                <a:solidFill>
                  <a:srgbClr val="999933"/>
                </a:solidFill>
                <a:uFillTx/>
                <a:latin typeface="Arial"/>
                <a:ea typeface="Arial"/>
                <a:hlinkClick r:id="rId20"/>
              </a:rPr>
              <a:t>://www.w3.org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ergunta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680" y="159984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00"/>
                </a:solidFill>
                <a:latin typeface="Arial"/>
                <a:ea typeface="Times New Roman"/>
              </a:rPr>
              <a:t>Novos profissionais de TI com competências no desenvolvimento de software e soluções corporativas para Web</a:t>
            </a: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r">
              <a:spcBef>
                <a:spcPts val="55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00"/>
                </a:solidFill>
                <a:latin typeface="Arial"/>
                <a:ea typeface="Times New Roman"/>
              </a:rPr>
              <a:t>Quais são as tecnologias da era  Web de mais futuro, nas quais vale investir a carreira?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r">
              <a:spcBef>
                <a:spcPts val="55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00"/>
                </a:solidFill>
                <a:latin typeface="Arial"/>
                <a:ea typeface="Times New Roman"/>
              </a:rPr>
              <a:t>Qual curso faço para ser um profissional Web de qualidade?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r">
              <a:spcBef>
                <a:spcPts val="55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00"/>
                </a:solidFill>
                <a:latin typeface="Arial"/>
                <a:ea typeface="Times New Roman"/>
              </a:rPr>
              <a:t>Quais as competências do novo profissional do milênio e do e-profissional?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 algn="r">
              <a:spcBef>
                <a:spcPts val="55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333300"/>
                </a:solidFill>
                <a:latin typeface="Arial"/>
                <a:ea typeface="Times New Roman"/>
              </a:rPr>
              <a:t> </a:t>
            </a:r>
            <a:r>
              <a:rPr b="0" lang="pt-BR" sz="2200" spc="-1" strike="noStrike">
                <a:solidFill>
                  <a:srgbClr val="333300"/>
                </a:solidFill>
                <a:latin typeface="Arial"/>
                <a:ea typeface="Times New Roman"/>
              </a:rPr>
              <a:t>Quais as áreas de pesquisa mais promissoras?</a:t>
            </a:r>
            <a:endParaRPr b="0" lang="en-US" sz="22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059600" y="27000"/>
            <a:ext cx="1917720" cy="1411200"/>
            <a:chOff x="7059600" y="27000"/>
            <a:chExt cx="1917720" cy="1411200"/>
          </a:xfrm>
        </p:grpSpPr>
        <p:sp>
          <p:nvSpPr>
            <p:cNvPr id="103" name=""/>
            <p:cNvSpPr/>
            <p:nvPr/>
          </p:nvSpPr>
          <p:spPr>
            <a:xfrm>
              <a:off x="7059600" y="27000"/>
              <a:ext cx="1917720" cy="1411200"/>
            </a:xfrm>
            <a:custGeom>
              <a:avLst/>
              <a:gdLst/>
              <a:ahLst/>
              <a:rect l="l" t="t" r="r" b="b"/>
              <a:pathLst>
                <a:path w="3033" h="2669">
                  <a:moveTo>
                    <a:pt x="3018" y="1277"/>
                  </a:moveTo>
                  <a:lnTo>
                    <a:pt x="3028" y="1193"/>
                  </a:lnTo>
                  <a:lnTo>
                    <a:pt x="3033" y="1096"/>
                  </a:lnTo>
                  <a:lnTo>
                    <a:pt x="3028" y="1002"/>
                  </a:lnTo>
                  <a:lnTo>
                    <a:pt x="3011" y="921"/>
                  </a:lnTo>
                  <a:lnTo>
                    <a:pt x="3004" y="904"/>
                  </a:lnTo>
                  <a:lnTo>
                    <a:pt x="2994" y="888"/>
                  </a:lnTo>
                  <a:lnTo>
                    <a:pt x="2983" y="874"/>
                  </a:lnTo>
                  <a:lnTo>
                    <a:pt x="2971" y="863"/>
                  </a:lnTo>
                  <a:lnTo>
                    <a:pt x="2957" y="855"/>
                  </a:lnTo>
                  <a:lnTo>
                    <a:pt x="2940" y="851"/>
                  </a:lnTo>
                  <a:lnTo>
                    <a:pt x="2921" y="851"/>
                  </a:lnTo>
                  <a:lnTo>
                    <a:pt x="2899" y="852"/>
                  </a:lnTo>
                  <a:lnTo>
                    <a:pt x="2898" y="854"/>
                  </a:lnTo>
                  <a:lnTo>
                    <a:pt x="2892" y="857"/>
                  </a:lnTo>
                  <a:lnTo>
                    <a:pt x="2881" y="865"/>
                  </a:lnTo>
                  <a:lnTo>
                    <a:pt x="2867" y="873"/>
                  </a:lnTo>
                  <a:lnTo>
                    <a:pt x="2848" y="885"/>
                  </a:lnTo>
                  <a:lnTo>
                    <a:pt x="2828" y="897"/>
                  </a:lnTo>
                  <a:lnTo>
                    <a:pt x="2803" y="913"/>
                  </a:lnTo>
                  <a:lnTo>
                    <a:pt x="2776" y="930"/>
                  </a:lnTo>
                  <a:lnTo>
                    <a:pt x="2747" y="950"/>
                  </a:lnTo>
                  <a:lnTo>
                    <a:pt x="2714" y="971"/>
                  </a:lnTo>
                  <a:lnTo>
                    <a:pt x="2680" y="994"/>
                  </a:lnTo>
                  <a:lnTo>
                    <a:pt x="2644" y="1017"/>
                  </a:lnTo>
                  <a:lnTo>
                    <a:pt x="2605" y="1042"/>
                  </a:lnTo>
                  <a:lnTo>
                    <a:pt x="2567" y="1068"/>
                  </a:lnTo>
                  <a:lnTo>
                    <a:pt x="2525" y="1096"/>
                  </a:lnTo>
                  <a:lnTo>
                    <a:pt x="2483" y="1124"/>
                  </a:lnTo>
                  <a:lnTo>
                    <a:pt x="2439" y="1154"/>
                  </a:lnTo>
                  <a:lnTo>
                    <a:pt x="2395" y="1184"/>
                  </a:lnTo>
                  <a:lnTo>
                    <a:pt x="2350" y="1215"/>
                  </a:lnTo>
                  <a:lnTo>
                    <a:pt x="2307" y="1244"/>
                  </a:lnTo>
                  <a:lnTo>
                    <a:pt x="2262" y="1277"/>
                  </a:lnTo>
                  <a:lnTo>
                    <a:pt x="2217" y="1308"/>
                  </a:lnTo>
                  <a:lnTo>
                    <a:pt x="2171" y="1339"/>
                  </a:lnTo>
                  <a:lnTo>
                    <a:pt x="2128" y="1370"/>
                  </a:lnTo>
                  <a:lnTo>
                    <a:pt x="2086" y="1401"/>
                  </a:lnTo>
                  <a:lnTo>
                    <a:pt x="2044" y="1432"/>
                  </a:lnTo>
                  <a:lnTo>
                    <a:pt x="2002" y="1464"/>
                  </a:lnTo>
                  <a:lnTo>
                    <a:pt x="1963" y="1493"/>
                  </a:lnTo>
                  <a:lnTo>
                    <a:pt x="1926" y="1523"/>
                  </a:lnTo>
                  <a:lnTo>
                    <a:pt x="1890" y="1552"/>
                  </a:lnTo>
                  <a:lnTo>
                    <a:pt x="1856" y="1580"/>
                  </a:lnTo>
                  <a:lnTo>
                    <a:pt x="1825" y="1607"/>
                  </a:lnTo>
                  <a:lnTo>
                    <a:pt x="1804" y="1624"/>
                  </a:lnTo>
                  <a:lnTo>
                    <a:pt x="1786" y="1642"/>
                  </a:lnTo>
                  <a:lnTo>
                    <a:pt x="1766" y="1660"/>
                  </a:lnTo>
                  <a:lnTo>
                    <a:pt x="1747" y="1677"/>
                  </a:lnTo>
                  <a:lnTo>
                    <a:pt x="1727" y="1695"/>
                  </a:lnTo>
                  <a:lnTo>
                    <a:pt x="1708" y="1712"/>
                  </a:lnTo>
                  <a:lnTo>
                    <a:pt x="1689" y="1731"/>
                  </a:lnTo>
                  <a:lnTo>
                    <a:pt x="1671" y="1748"/>
                  </a:lnTo>
                  <a:lnTo>
                    <a:pt x="1652" y="1767"/>
                  </a:lnTo>
                  <a:lnTo>
                    <a:pt x="1633" y="1785"/>
                  </a:lnTo>
                  <a:lnTo>
                    <a:pt x="1615" y="1803"/>
                  </a:lnTo>
                  <a:lnTo>
                    <a:pt x="1596" y="1821"/>
                  </a:lnTo>
                  <a:lnTo>
                    <a:pt x="1577" y="1840"/>
                  </a:lnTo>
                  <a:lnTo>
                    <a:pt x="1559" y="1857"/>
                  </a:lnTo>
                  <a:lnTo>
                    <a:pt x="1542" y="1876"/>
                  </a:lnTo>
                  <a:lnTo>
                    <a:pt x="1523" y="1894"/>
                  </a:lnTo>
                  <a:lnTo>
                    <a:pt x="1535" y="1843"/>
                  </a:lnTo>
                  <a:lnTo>
                    <a:pt x="1548" y="1793"/>
                  </a:lnTo>
                  <a:lnTo>
                    <a:pt x="1563" y="1743"/>
                  </a:lnTo>
                  <a:lnTo>
                    <a:pt x="1580" y="1695"/>
                  </a:lnTo>
                  <a:lnTo>
                    <a:pt x="1598" y="1646"/>
                  </a:lnTo>
                  <a:lnTo>
                    <a:pt x="1618" y="1599"/>
                  </a:lnTo>
                  <a:lnTo>
                    <a:pt x="1640" y="1551"/>
                  </a:lnTo>
                  <a:lnTo>
                    <a:pt x="1661" y="1504"/>
                  </a:lnTo>
                  <a:lnTo>
                    <a:pt x="1686" y="1459"/>
                  </a:lnTo>
                  <a:lnTo>
                    <a:pt x="1713" y="1414"/>
                  </a:lnTo>
                  <a:lnTo>
                    <a:pt x="1739" y="1369"/>
                  </a:lnTo>
                  <a:lnTo>
                    <a:pt x="1769" y="1325"/>
                  </a:lnTo>
                  <a:lnTo>
                    <a:pt x="1800" y="1283"/>
                  </a:lnTo>
                  <a:lnTo>
                    <a:pt x="1832" y="1241"/>
                  </a:lnTo>
                  <a:lnTo>
                    <a:pt x="1868" y="1201"/>
                  </a:lnTo>
                  <a:lnTo>
                    <a:pt x="1904" y="1162"/>
                  </a:lnTo>
                  <a:lnTo>
                    <a:pt x="1954" y="1110"/>
                  </a:lnTo>
                  <a:lnTo>
                    <a:pt x="2003" y="1062"/>
                  </a:lnTo>
                  <a:lnTo>
                    <a:pt x="2055" y="1014"/>
                  </a:lnTo>
                  <a:lnTo>
                    <a:pt x="2106" y="966"/>
                  </a:lnTo>
                  <a:lnTo>
                    <a:pt x="2157" y="919"/>
                  </a:lnTo>
                  <a:lnTo>
                    <a:pt x="2210" y="873"/>
                  </a:lnTo>
                  <a:lnTo>
                    <a:pt x="2262" y="827"/>
                  </a:lnTo>
                  <a:lnTo>
                    <a:pt x="2313" y="781"/>
                  </a:lnTo>
                  <a:lnTo>
                    <a:pt x="2364" y="734"/>
                  </a:lnTo>
                  <a:lnTo>
                    <a:pt x="2416" y="689"/>
                  </a:lnTo>
                  <a:lnTo>
                    <a:pt x="2467" y="642"/>
                  </a:lnTo>
                  <a:lnTo>
                    <a:pt x="2518" y="594"/>
                  </a:lnTo>
                  <a:lnTo>
                    <a:pt x="2568" y="546"/>
                  </a:lnTo>
                  <a:lnTo>
                    <a:pt x="2616" y="498"/>
                  </a:lnTo>
                  <a:lnTo>
                    <a:pt x="2664" y="446"/>
                  </a:lnTo>
                  <a:lnTo>
                    <a:pt x="2711" y="395"/>
                  </a:lnTo>
                  <a:lnTo>
                    <a:pt x="2742" y="325"/>
                  </a:lnTo>
                  <a:lnTo>
                    <a:pt x="2753" y="277"/>
                  </a:lnTo>
                  <a:lnTo>
                    <a:pt x="2753" y="229"/>
                  </a:lnTo>
                  <a:lnTo>
                    <a:pt x="2744" y="182"/>
                  </a:lnTo>
                  <a:lnTo>
                    <a:pt x="2724" y="138"/>
                  </a:lnTo>
                  <a:lnTo>
                    <a:pt x="2711" y="120"/>
                  </a:lnTo>
                  <a:lnTo>
                    <a:pt x="2696" y="103"/>
                  </a:lnTo>
                  <a:lnTo>
                    <a:pt x="2680" y="87"/>
                  </a:lnTo>
                  <a:lnTo>
                    <a:pt x="2663" y="73"/>
                  </a:lnTo>
                  <a:lnTo>
                    <a:pt x="2644" y="62"/>
                  </a:lnTo>
                  <a:lnTo>
                    <a:pt x="2626" y="53"/>
                  </a:lnTo>
                  <a:lnTo>
                    <a:pt x="2605" y="44"/>
                  </a:lnTo>
                  <a:lnTo>
                    <a:pt x="2585" y="37"/>
                  </a:lnTo>
                  <a:lnTo>
                    <a:pt x="2565" y="34"/>
                  </a:lnTo>
                  <a:lnTo>
                    <a:pt x="2543" y="33"/>
                  </a:lnTo>
                  <a:lnTo>
                    <a:pt x="2523" y="31"/>
                  </a:lnTo>
                  <a:lnTo>
                    <a:pt x="2501" y="34"/>
                  </a:lnTo>
                  <a:lnTo>
                    <a:pt x="2479" y="37"/>
                  </a:lnTo>
                  <a:lnTo>
                    <a:pt x="2459" y="45"/>
                  </a:lnTo>
                  <a:lnTo>
                    <a:pt x="2439" y="53"/>
                  </a:lnTo>
                  <a:lnTo>
                    <a:pt x="2419" y="64"/>
                  </a:lnTo>
                  <a:lnTo>
                    <a:pt x="2414" y="67"/>
                  </a:lnTo>
                  <a:lnTo>
                    <a:pt x="2399" y="73"/>
                  </a:lnTo>
                  <a:lnTo>
                    <a:pt x="2374" y="86"/>
                  </a:lnTo>
                  <a:lnTo>
                    <a:pt x="2343" y="101"/>
                  </a:lnTo>
                  <a:lnTo>
                    <a:pt x="2304" y="121"/>
                  </a:lnTo>
                  <a:lnTo>
                    <a:pt x="2260" y="145"/>
                  </a:lnTo>
                  <a:lnTo>
                    <a:pt x="2212" y="170"/>
                  </a:lnTo>
                  <a:lnTo>
                    <a:pt x="2161" y="198"/>
                  </a:lnTo>
                  <a:lnTo>
                    <a:pt x="2108" y="227"/>
                  </a:lnTo>
                  <a:lnTo>
                    <a:pt x="2052" y="258"/>
                  </a:lnTo>
                  <a:lnTo>
                    <a:pt x="1997" y="291"/>
                  </a:lnTo>
                  <a:lnTo>
                    <a:pt x="1944" y="324"/>
                  </a:lnTo>
                  <a:lnTo>
                    <a:pt x="1892" y="356"/>
                  </a:lnTo>
                  <a:lnTo>
                    <a:pt x="1843" y="389"/>
                  </a:lnTo>
                  <a:lnTo>
                    <a:pt x="1800" y="420"/>
                  </a:lnTo>
                  <a:lnTo>
                    <a:pt x="1761" y="451"/>
                  </a:lnTo>
                  <a:lnTo>
                    <a:pt x="1720" y="487"/>
                  </a:lnTo>
                  <a:lnTo>
                    <a:pt x="1682" y="523"/>
                  </a:lnTo>
                  <a:lnTo>
                    <a:pt x="1646" y="558"/>
                  </a:lnTo>
                  <a:lnTo>
                    <a:pt x="1610" y="597"/>
                  </a:lnTo>
                  <a:lnTo>
                    <a:pt x="1574" y="635"/>
                  </a:lnTo>
                  <a:lnTo>
                    <a:pt x="1542" y="673"/>
                  </a:lnTo>
                  <a:lnTo>
                    <a:pt x="1509" y="714"/>
                  </a:lnTo>
                  <a:lnTo>
                    <a:pt x="1476" y="753"/>
                  </a:lnTo>
                  <a:lnTo>
                    <a:pt x="1445" y="793"/>
                  </a:lnTo>
                  <a:lnTo>
                    <a:pt x="1412" y="834"/>
                  </a:lnTo>
                  <a:lnTo>
                    <a:pt x="1381" y="876"/>
                  </a:lnTo>
                  <a:lnTo>
                    <a:pt x="1350" y="916"/>
                  </a:lnTo>
                  <a:lnTo>
                    <a:pt x="1318" y="957"/>
                  </a:lnTo>
                  <a:lnTo>
                    <a:pt x="1286" y="999"/>
                  </a:lnTo>
                  <a:lnTo>
                    <a:pt x="1254" y="1040"/>
                  </a:lnTo>
                  <a:lnTo>
                    <a:pt x="1220" y="1081"/>
                  </a:lnTo>
                  <a:lnTo>
                    <a:pt x="1193" y="1114"/>
                  </a:lnTo>
                  <a:lnTo>
                    <a:pt x="1167" y="1146"/>
                  </a:lnTo>
                  <a:lnTo>
                    <a:pt x="1140" y="1177"/>
                  </a:lnTo>
                  <a:lnTo>
                    <a:pt x="1114" y="1210"/>
                  </a:lnTo>
                  <a:lnTo>
                    <a:pt x="1089" y="1243"/>
                  </a:lnTo>
                  <a:lnTo>
                    <a:pt x="1063" y="1275"/>
                  </a:lnTo>
                  <a:lnTo>
                    <a:pt x="1038" y="1308"/>
                  </a:lnTo>
                  <a:lnTo>
                    <a:pt x="1013" y="1339"/>
                  </a:lnTo>
                  <a:lnTo>
                    <a:pt x="988" y="1372"/>
                  </a:lnTo>
                  <a:lnTo>
                    <a:pt x="961" y="1404"/>
                  </a:lnTo>
                  <a:lnTo>
                    <a:pt x="937" y="1436"/>
                  </a:lnTo>
                  <a:lnTo>
                    <a:pt x="912" y="1468"/>
                  </a:lnTo>
                  <a:lnTo>
                    <a:pt x="887" y="1499"/>
                  </a:lnTo>
                  <a:lnTo>
                    <a:pt x="862" y="1532"/>
                  </a:lnTo>
                  <a:lnTo>
                    <a:pt x="837" y="1565"/>
                  </a:lnTo>
                  <a:lnTo>
                    <a:pt x="812" y="1596"/>
                  </a:lnTo>
                  <a:lnTo>
                    <a:pt x="817" y="1576"/>
                  </a:lnTo>
                  <a:lnTo>
                    <a:pt x="823" y="1554"/>
                  </a:lnTo>
                  <a:lnTo>
                    <a:pt x="828" y="1534"/>
                  </a:lnTo>
                  <a:lnTo>
                    <a:pt x="834" y="1513"/>
                  </a:lnTo>
                  <a:lnTo>
                    <a:pt x="862" y="1434"/>
                  </a:lnTo>
                  <a:lnTo>
                    <a:pt x="893" y="1358"/>
                  </a:lnTo>
                  <a:lnTo>
                    <a:pt x="926" y="1282"/>
                  </a:lnTo>
                  <a:lnTo>
                    <a:pt x="961" y="1205"/>
                  </a:lnTo>
                  <a:lnTo>
                    <a:pt x="999" y="1132"/>
                  </a:lnTo>
                  <a:lnTo>
                    <a:pt x="1039" y="1059"/>
                  </a:lnTo>
                  <a:lnTo>
                    <a:pt x="1081" y="988"/>
                  </a:lnTo>
                  <a:lnTo>
                    <a:pt x="1123" y="916"/>
                  </a:lnTo>
                  <a:lnTo>
                    <a:pt x="1168" y="846"/>
                  </a:lnTo>
                  <a:lnTo>
                    <a:pt x="1215" y="778"/>
                  </a:lnTo>
                  <a:lnTo>
                    <a:pt x="1263" y="709"/>
                  </a:lnTo>
                  <a:lnTo>
                    <a:pt x="1311" y="641"/>
                  </a:lnTo>
                  <a:lnTo>
                    <a:pt x="1361" y="575"/>
                  </a:lnTo>
                  <a:lnTo>
                    <a:pt x="1412" y="509"/>
                  </a:lnTo>
                  <a:lnTo>
                    <a:pt x="1464" y="443"/>
                  </a:lnTo>
                  <a:lnTo>
                    <a:pt x="1515" y="379"/>
                  </a:lnTo>
                  <a:lnTo>
                    <a:pt x="1556" y="294"/>
                  </a:lnTo>
                  <a:lnTo>
                    <a:pt x="1560" y="277"/>
                  </a:lnTo>
                  <a:lnTo>
                    <a:pt x="1565" y="261"/>
                  </a:lnTo>
                  <a:lnTo>
                    <a:pt x="1566" y="244"/>
                  </a:lnTo>
                  <a:lnTo>
                    <a:pt x="1568" y="227"/>
                  </a:lnTo>
                  <a:lnTo>
                    <a:pt x="1565" y="182"/>
                  </a:lnTo>
                  <a:lnTo>
                    <a:pt x="1554" y="140"/>
                  </a:lnTo>
                  <a:lnTo>
                    <a:pt x="1534" y="103"/>
                  </a:lnTo>
                  <a:lnTo>
                    <a:pt x="1507" y="68"/>
                  </a:lnTo>
                  <a:lnTo>
                    <a:pt x="1476" y="40"/>
                  </a:lnTo>
                  <a:lnTo>
                    <a:pt x="1439" y="20"/>
                  </a:lnTo>
                  <a:lnTo>
                    <a:pt x="1397" y="6"/>
                  </a:lnTo>
                  <a:lnTo>
                    <a:pt x="1353" y="0"/>
                  </a:lnTo>
                  <a:lnTo>
                    <a:pt x="1266" y="5"/>
                  </a:lnTo>
                  <a:lnTo>
                    <a:pt x="1221" y="14"/>
                  </a:lnTo>
                  <a:lnTo>
                    <a:pt x="1176" y="23"/>
                  </a:lnTo>
                  <a:lnTo>
                    <a:pt x="1133" y="34"/>
                  </a:lnTo>
                  <a:lnTo>
                    <a:pt x="1087" y="47"/>
                  </a:lnTo>
                  <a:lnTo>
                    <a:pt x="1044" y="59"/>
                  </a:lnTo>
                  <a:lnTo>
                    <a:pt x="1000" y="73"/>
                  </a:lnTo>
                  <a:lnTo>
                    <a:pt x="957" y="87"/>
                  </a:lnTo>
                  <a:lnTo>
                    <a:pt x="913" y="104"/>
                  </a:lnTo>
                  <a:lnTo>
                    <a:pt x="870" y="120"/>
                  </a:lnTo>
                  <a:lnTo>
                    <a:pt x="828" y="138"/>
                  </a:lnTo>
                  <a:lnTo>
                    <a:pt x="786" y="157"/>
                  </a:lnTo>
                  <a:lnTo>
                    <a:pt x="745" y="177"/>
                  </a:lnTo>
                  <a:lnTo>
                    <a:pt x="705" y="198"/>
                  </a:lnTo>
                  <a:lnTo>
                    <a:pt x="664" y="219"/>
                  </a:lnTo>
                  <a:lnTo>
                    <a:pt x="625" y="243"/>
                  </a:lnTo>
                  <a:lnTo>
                    <a:pt x="588" y="266"/>
                  </a:lnTo>
                  <a:lnTo>
                    <a:pt x="549" y="292"/>
                  </a:lnTo>
                  <a:lnTo>
                    <a:pt x="513" y="317"/>
                  </a:lnTo>
                  <a:lnTo>
                    <a:pt x="478" y="345"/>
                  </a:lnTo>
                  <a:lnTo>
                    <a:pt x="442" y="373"/>
                  </a:lnTo>
                  <a:lnTo>
                    <a:pt x="408" y="403"/>
                  </a:lnTo>
                  <a:lnTo>
                    <a:pt x="375" y="434"/>
                  </a:lnTo>
                  <a:lnTo>
                    <a:pt x="344" y="467"/>
                  </a:lnTo>
                  <a:lnTo>
                    <a:pt x="313" y="499"/>
                  </a:lnTo>
                  <a:lnTo>
                    <a:pt x="283" y="533"/>
                  </a:lnTo>
                  <a:lnTo>
                    <a:pt x="255" y="569"/>
                  </a:lnTo>
                  <a:lnTo>
                    <a:pt x="229" y="605"/>
                  </a:lnTo>
                  <a:lnTo>
                    <a:pt x="202" y="644"/>
                  </a:lnTo>
                  <a:lnTo>
                    <a:pt x="178" y="683"/>
                  </a:lnTo>
                  <a:lnTo>
                    <a:pt x="156" y="723"/>
                  </a:lnTo>
                  <a:lnTo>
                    <a:pt x="134" y="764"/>
                  </a:lnTo>
                  <a:lnTo>
                    <a:pt x="114" y="807"/>
                  </a:lnTo>
                  <a:lnTo>
                    <a:pt x="94" y="855"/>
                  </a:lnTo>
                  <a:lnTo>
                    <a:pt x="75" y="904"/>
                  </a:lnTo>
                  <a:lnTo>
                    <a:pt x="58" y="953"/>
                  </a:lnTo>
                  <a:lnTo>
                    <a:pt x="42" y="1003"/>
                  </a:lnTo>
                  <a:lnTo>
                    <a:pt x="30" y="1054"/>
                  </a:lnTo>
                  <a:lnTo>
                    <a:pt x="19" y="1104"/>
                  </a:lnTo>
                  <a:lnTo>
                    <a:pt x="11" y="1156"/>
                  </a:lnTo>
                  <a:lnTo>
                    <a:pt x="5" y="1207"/>
                  </a:lnTo>
                  <a:lnTo>
                    <a:pt x="0" y="1296"/>
                  </a:lnTo>
                  <a:lnTo>
                    <a:pt x="5" y="1384"/>
                  </a:lnTo>
                  <a:lnTo>
                    <a:pt x="16" y="1473"/>
                  </a:lnTo>
                  <a:lnTo>
                    <a:pt x="36" y="1562"/>
                  </a:lnTo>
                  <a:lnTo>
                    <a:pt x="42" y="1583"/>
                  </a:lnTo>
                  <a:lnTo>
                    <a:pt x="48" y="1605"/>
                  </a:lnTo>
                  <a:lnTo>
                    <a:pt x="58" y="1625"/>
                  </a:lnTo>
                  <a:lnTo>
                    <a:pt x="70" y="1644"/>
                  </a:lnTo>
                  <a:lnTo>
                    <a:pt x="83" y="1661"/>
                  </a:lnTo>
                  <a:lnTo>
                    <a:pt x="97" y="1677"/>
                  </a:lnTo>
                  <a:lnTo>
                    <a:pt x="112" y="1692"/>
                  </a:lnTo>
                  <a:lnTo>
                    <a:pt x="129" y="1705"/>
                  </a:lnTo>
                  <a:lnTo>
                    <a:pt x="148" y="1715"/>
                  </a:lnTo>
                  <a:lnTo>
                    <a:pt x="167" y="1725"/>
                  </a:lnTo>
                  <a:lnTo>
                    <a:pt x="187" y="1733"/>
                  </a:lnTo>
                  <a:lnTo>
                    <a:pt x="209" y="1737"/>
                  </a:lnTo>
                  <a:lnTo>
                    <a:pt x="229" y="1742"/>
                  </a:lnTo>
                  <a:lnTo>
                    <a:pt x="251" y="1743"/>
                  </a:lnTo>
                  <a:lnTo>
                    <a:pt x="274" y="1742"/>
                  </a:lnTo>
                  <a:lnTo>
                    <a:pt x="296" y="1739"/>
                  </a:lnTo>
                  <a:lnTo>
                    <a:pt x="304" y="1737"/>
                  </a:lnTo>
                  <a:lnTo>
                    <a:pt x="311" y="1736"/>
                  </a:lnTo>
                  <a:lnTo>
                    <a:pt x="318" y="1734"/>
                  </a:lnTo>
                  <a:lnTo>
                    <a:pt x="325" y="1731"/>
                  </a:lnTo>
                  <a:lnTo>
                    <a:pt x="332" y="1728"/>
                  </a:lnTo>
                  <a:lnTo>
                    <a:pt x="339" y="1726"/>
                  </a:lnTo>
                  <a:lnTo>
                    <a:pt x="346" y="1723"/>
                  </a:lnTo>
                  <a:lnTo>
                    <a:pt x="352" y="1720"/>
                  </a:lnTo>
                  <a:lnTo>
                    <a:pt x="350" y="1771"/>
                  </a:lnTo>
                  <a:lnTo>
                    <a:pt x="350" y="1824"/>
                  </a:lnTo>
                  <a:lnTo>
                    <a:pt x="352" y="1876"/>
                  </a:lnTo>
                  <a:lnTo>
                    <a:pt x="355" y="1929"/>
                  </a:lnTo>
                  <a:lnTo>
                    <a:pt x="361" y="1981"/>
                  </a:lnTo>
                  <a:lnTo>
                    <a:pt x="369" y="2034"/>
                  </a:lnTo>
                  <a:lnTo>
                    <a:pt x="378" y="2089"/>
                  </a:lnTo>
                  <a:lnTo>
                    <a:pt x="391" y="2142"/>
                  </a:lnTo>
                  <a:lnTo>
                    <a:pt x="397" y="2149"/>
                  </a:lnTo>
                  <a:lnTo>
                    <a:pt x="412" y="2171"/>
                  </a:lnTo>
                  <a:lnTo>
                    <a:pt x="436" y="2202"/>
                  </a:lnTo>
                  <a:lnTo>
                    <a:pt x="464" y="2237"/>
                  </a:lnTo>
                  <a:lnTo>
                    <a:pt x="498" y="2272"/>
                  </a:lnTo>
                  <a:lnTo>
                    <a:pt x="534" y="2303"/>
                  </a:lnTo>
                  <a:lnTo>
                    <a:pt x="568" y="2327"/>
                  </a:lnTo>
                  <a:lnTo>
                    <a:pt x="602" y="2336"/>
                  </a:lnTo>
                  <a:lnTo>
                    <a:pt x="608" y="2335"/>
                  </a:lnTo>
                  <a:lnTo>
                    <a:pt x="627" y="2333"/>
                  </a:lnTo>
                  <a:lnTo>
                    <a:pt x="653" y="2328"/>
                  </a:lnTo>
                  <a:lnTo>
                    <a:pt x="685" y="2321"/>
                  </a:lnTo>
                  <a:lnTo>
                    <a:pt x="719" y="2313"/>
                  </a:lnTo>
                  <a:lnTo>
                    <a:pt x="751" y="2300"/>
                  </a:lnTo>
                  <a:lnTo>
                    <a:pt x="779" y="2286"/>
                  </a:lnTo>
                  <a:lnTo>
                    <a:pt x="801" y="2269"/>
                  </a:lnTo>
                  <a:lnTo>
                    <a:pt x="828" y="2243"/>
                  </a:lnTo>
                  <a:lnTo>
                    <a:pt x="857" y="2216"/>
                  </a:lnTo>
                  <a:lnTo>
                    <a:pt x="887" y="2188"/>
                  </a:lnTo>
                  <a:lnTo>
                    <a:pt x="915" y="2162"/>
                  </a:lnTo>
                  <a:lnTo>
                    <a:pt x="943" y="2134"/>
                  </a:lnTo>
                  <a:lnTo>
                    <a:pt x="969" y="2104"/>
                  </a:lnTo>
                  <a:lnTo>
                    <a:pt x="996" y="2075"/>
                  </a:lnTo>
                  <a:lnTo>
                    <a:pt x="1022" y="2045"/>
                  </a:lnTo>
                  <a:lnTo>
                    <a:pt x="1047" y="2013"/>
                  </a:lnTo>
                  <a:lnTo>
                    <a:pt x="1049" y="2011"/>
                  </a:lnTo>
                  <a:lnTo>
                    <a:pt x="1049" y="2009"/>
                  </a:lnTo>
                  <a:lnTo>
                    <a:pt x="1050" y="2009"/>
                  </a:lnTo>
                  <a:lnTo>
                    <a:pt x="1050" y="2008"/>
                  </a:lnTo>
                  <a:lnTo>
                    <a:pt x="1041" y="2103"/>
                  </a:lnTo>
                  <a:lnTo>
                    <a:pt x="1035" y="2198"/>
                  </a:lnTo>
                  <a:lnTo>
                    <a:pt x="1031" y="2294"/>
                  </a:lnTo>
                  <a:lnTo>
                    <a:pt x="1031" y="2390"/>
                  </a:lnTo>
                  <a:lnTo>
                    <a:pt x="1035" y="2412"/>
                  </a:lnTo>
                  <a:lnTo>
                    <a:pt x="1045" y="2464"/>
                  </a:lnTo>
                  <a:lnTo>
                    <a:pt x="1059" y="2523"/>
                  </a:lnTo>
                  <a:lnTo>
                    <a:pt x="1077" y="2566"/>
                  </a:lnTo>
                  <a:lnTo>
                    <a:pt x="1089" y="2585"/>
                  </a:lnTo>
                  <a:lnTo>
                    <a:pt x="1105" y="2602"/>
                  </a:lnTo>
                  <a:lnTo>
                    <a:pt x="1120" y="2618"/>
                  </a:lnTo>
                  <a:lnTo>
                    <a:pt x="1137" y="2630"/>
                  </a:lnTo>
                  <a:lnTo>
                    <a:pt x="1156" y="2641"/>
                  </a:lnTo>
                  <a:lnTo>
                    <a:pt x="1174" y="2650"/>
                  </a:lnTo>
                  <a:lnTo>
                    <a:pt x="1195" y="2658"/>
                  </a:lnTo>
                  <a:lnTo>
                    <a:pt x="1215" y="2664"/>
                  </a:lnTo>
                  <a:lnTo>
                    <a:pt x="1235" y="2667"/>
                  </a:lnTo>
                  <a:lnTo>
                    <a:pt x="1257" y="2669"/>
                  </a:lnTo>
                  <a:lnTo>
                    <a:pt x="1279" y="2669"/>
                  </a:lnTo>
                  <a:lnTo>
                    <a:pt x="1299" y="2666"/>
                  </a:lnTo>
                  <a:lnTo>
                    <a:pt x="1321" y="2661"/>
                  </a:lnTo>
                  <a:lnTo>
                    <a:pt x="1341" y="2655"/>
                  </a:lnTo>
                  <a:lnTo>
                    <a:pt x="1361" y="2646"/>
                  </a:lnTo>
                  <a:lnTo>
                    <a:pt x="1381" y="2635"/>
                  </a:lnTo>
                  <a:lnTo>
                    <a:pt x="1388" y="2628"/>
                  </a:lnTo>
                  <a:lnTo>
                    <a:pt x="1403" y="2613"/>
                  </a:lnTo>
                  <a:lnTo>
                    <a:pt x="1430" y="2588"/>
                  </a:lnTo>
                  <a:lnTo>
                    <a:pt x="1464" y="2554"/>
                  </a:lnTo>
                  <a:lnTo>
                    <a:pt x="1504" y="2513"/>
                  </a:lnTo>
                  <a:lnTo>
                    <a:pt x="1552" y="2467"/>
                  </a:lnTo>
                  <a:lnTo>
                    <a:pt x="1605" y="2417"/>
                  </a:lnTo>
                  <a:lnTo>
                    <a:pt x="1661" y="2361"/>
                  </a:lnTo>
                  <a:lnTo>
                    <a:pt x="1720" y="2305"/>
                  </a:lnTo>
                  <a:lnTo>
                    <a:pt x="1781" y="2246"/>
                  </a:lnTo>
                  <a:lnTo>
                    <a:pt x="1843" y="2188"/>
                  </a:lnTo>
                  <a:lnTo>
                    <a:pt x="1904" y="2131"/>
                  </a:lnTo>
                  <a:lnTo>
                    <a:pt x="1963" y="2076"/>
                  </a:lnTo>
                  <a:lnTo>
                    <a:pt x="2021" y="2023"/>
                  </a:lnTo>
                  <a:lnTo>
                    <a:pt x="2072" y="1977"/>
                  </a:lnTo>
                  <a:lnTo>
                    <a:pt x="2120" y="1935"/>
                  </a:lnTo>
                  <a:lnTo>
                    <a:pt x="2108" y="1999"/>
                  </a:lnTo>
                  <a:lnTo>
                    <a:pt x="2097" y="2081"/>
                  </a:lnTo>
                  <a:lnTo>
                    <a:pt x="2086" y="2151"/>
                  </a:lnTo>
                  <a:lnTo>
                    <a:pt x="2083" y="2181"/>
                  </a:lnTo>
                  <a:lnTo>
                    <a:pt x="2083" y="2187"/>
                  </a:lnTo>
                  <a:lnTo>
                    <a:pt x="2083" y="2191"/>
                  </a:lnTo>
                  <a:lnTo>
                    <a:pt x="2083" y="2198"/>
                  </a:lnTo>
                  <a:lnTo>
                    <a:pt x="2083" y="2202"/>
                  </a:lnTo>
                  <a:lnTo>
                    <a:pt x="2089" y="2247"/>
                  </a:lnTo>
                  <a:lnTo>
                    <a:pt x="2103" y="2288"/>
                  </a:lnTo>
                  <a:lnTo>
                    <a:pt x="2123" y="2325"/>
                  </a:lnTo>
                  <a:lnTo>
                    <a:pt x="2151" y="2358"/>
                  </a:lnTo>
                  <a:lnTo>
                    <a:pt x="2185" y="2384"/>
                  </a:lnTo>
                  <a:lnTo>
                    <a:pt x="2223" y="2403"/>
                  </a:lnTo>
                  <a:lnTo>
                    <a:pt x="2265" y="2415"/>
                  </a:lnTo>
                  <a:lnTo>
                    <a:pt x="2310" y="2418"/>
                  </a:lnTo>
                  <a:lnTo>
                    <a:pt x="2313" y="2418"/>
                  </a:lnTo>
                  <a:lnTo>
                    <a:pt x="2322" y="2417"/>
                  </a:lnTo>
                  <a:lnTo>
                    <a:pt x="2336" y="2415"/>
                  </a:lnTo>
                  <a:lnTo>
                    <a:pt x="2357" y="2412"/>
                  </a:lnTo>
                  <a:lnTo>
                    <a:pt x="2380" y="2409"/>
                  </a:lnTo>
                  <a:lnTo>
                    <a:pt x="2406" y="2404"/>
                  </a:lnTo>
                  <a:lnTo>
                    <a:pt x="2436" y="2400"/>
                  </a:lnTo>
                  <a:lnTo>
                    <a:pt x="2467" y="2395"/>
                  </a:lnTo>
                  <a:lnTo>
                    <a:pt x="2498" y="2389"/>
                  </a:lnTo>
                  <a:lnTo>
                    <a:pt x="2532" y="2384"/>
                  </a:lnTo>
                  <a:lnTo>
                    <a:pt x="2565" y="2378"/>
                  </a:lnTo>
                  <a:lnTo>
                    <a:pt x="2596" y="2372"/>
                  </a:lnTo>
                  <a:lnTo>
                    <a:pt x="2627" y="2366"/>
                  </a:lnTo>
                  <a:lnTo>
                    <a:pt x="2655" y="2359"/>
                  </a:lnTo>
                  <a:lnTo>
                    <a:pt x="2682" y="2353"/>
                  </a:lnTo>
                  <a:lnTo>
                    <a:pt x="2703" y="2347"/>
                  </a:lnTo>
                  <a:lnTo>
                    <a:pt x="2745" y="2330"/>
                  </a:lnTo>
                  <a:lnTo>
                    <a:pt x="2781" y="2307"/>
                  </a:lnTo>
                  <a:lnTo>
                    <a:pt x="2812" y="2277"/>
                  </a:lnTo>
                  <a:lnTo>
                    <a:pt x="2837" y="2241"/>
                  </a:lnTo>
                  <a:lnTo>
                    <a:pt x="2853" y="2202"/>
                  </a:lnTo>
                  <a:lnTo>
                    <a:pt x="2862" y="2160"/>
                  </a:lnTo>
                  <a:lnTo>
                    <a:pt x="2864" y="2117"/>
                  </a:lnTo>
                  <a:lnTo>
                    <a:pt x="2854" y="2072"/>
                  </a:lnTo>
                  <a:lnTo>
                    <a:pt x="2846" y="2051"/>
                  </a:lnTo>
                  <a:lnTo>
                    <a:pt x="2839" y="2031"/>
                  </a:lnTo>
                  <a:lnTo>
                    <a:pt x="2828" y="2013"/>
                  </a:lnTo>
                  <a:lnTo>
                    <a:pt x="2815" y="1995"/>
                  </a:lnTo>
                  <a:lnTo>
                    <a:pt x="2801" y="1980"/>
                  </a:lnTo>
                  <a:lnTo>
                    <a:pt x="2786" y="1966"/>
                  </a:lnTo>
                  <a:lnTo>
                    <a:pt x="2770" y="1953"/>
                  </a:lnTo>
                  <a:lnTo>
                    <a:pt x="2753" y="1941"/>
                  </a:lnTo>
                  <a:lnTo>
                    <a:pt x="2734" y="1932"/>
                  </a:lnTo>
                  <a:lnTo>
                    <a:pt x="2716" y="1924"/>
                  </a:lnTo>
                  <a:lnTo>
                    <a:pt x="2696" y="1919"/>
                  </a:lnTo>
                  <a:lnTo>
                    <a:pt x="2675" y="1915"/>
                  </a:lnTo>
                  <a:lnTo>
                    <a:pt x="2654" y="1913"/>
                  </a:lnTo>
                  <a:lnTo>
                    <a:pt x="2633" y="1913"/>
                  </a:lnTo>
                  <a:lnTo>
                    <a:pt x="2612" y="1915"/>
                  </a:lnTo>
                  <a:lnTo>
                    <a:pt x="2590" y="1919"/>
                  </a:lnTo>
                  <a:lnTo>
                    <a:pt x="2609" y="1876"/>
                  </a:lnTo>
                  <a:lnTo>
                    <a:pt x="2627" y="1832"/>
                  </a:lnTo>
                  <a:lnTo>
                    <a:pt x="2646" y="1793"/>
                  </a:lnTo>
                  <a:lnTo>
                    <a:pt x="2666" y="1754"/>
                  </a:lnTo>
                  <a:lnTo>
                    <a:pt x="2686" y="1717"/>
                  </a:lnTo>
                  <a:lnTo>
                    <a:pt x="2708" y="1680"/>
                  </a:lnTo>
                  <a:lnTo>
                    <a:pt x="2730" y="1646"/>
                  </a:lnTo>
                  <a:lnTo>
                    <a:pt x="2753" y="1611"/>
                  </a:lnTo>
                  <a:lnTo>
                    <a:pt x="2778" y="1577"/>
                  </a:lnTo>
                  <a:lnTo>
                    <a:pt x="2803" y="1544"/>
                  </a:lnTo>
                  <a:lnTo>
                    <a:pt x="2831" y="1512"/>
                  </a:lnTo>
                  <a:lnTo>
                    <a:pt x="2859" y="1479"/>
                  </a:lnTo>
                  <a:lnTo>
                    <a:pt x="2888" y="1448"/>
                  </a:lnTo>
                  <a:lnTo>
                    <a:pt x="2918" y="1415"/>
                  </a:lnTo>
                  <a:lnTo>
                    <a:pt x="2951" y="1383"/>
                  </a:lnTo>
                  <a:lnTo>
                    <a:pt x="2985" y="1348"/>
                  </a:lnTo>
                  <a:lnTo>
                    <a:pt x="2988" y="1344"/>
                  </a:lnTo>
                  <a:lnTo>
                    <a:pt x="2997" y="1331"/>
                  </a:lnTo>
                  <a:lnTo>
                    <a:pt x="3008" y="1310"/>
                  </a:lnTo>
                  <a:lnTo>
                    <a:pt x="3018" y="1277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40040" y="396000"/>
              <a:ext cx="186840" cy="311760"/>
            </a:xfrm>
            <a:custGeom>
              <a:avLst/>
              <a:gdLst/>
              <a:ahLst/>
              <a:rect l="l" t="t" r="r" b="b"/>
              <a:pathLst>
                <a:path w="298" h="590">
                  <a:moveTo>
                    <a:pt x="98" y="237"/>
                  </a:moveTo>
                  <a:lnTo>
                    <a:pt x="117" y="203"/>
                  </a:lnTo>
                  <a:lnTo>
                    <a:pt x="137" y="170"/>
                  </a:lnTo>
                  <a:lnTo>
                    <a:pt x="161" y="139"/>
                  </a:lnTo>
                  <a:lnTo>
                    <a:pt x="184" y="108"/>
                  </a:lnTo>
                  <a:lnTo>
                    <a:pt x="210" y="80"/>
                  </a:lnTo>
                  <a:lnTo>
                    <a:pt x="238" y="52"/>
                  </a:lnTo>
                  <a:lnTo>
                    <a:pt x="268" y="25"/>
                  </a:lnTo>
                  <a:lnTo>
                    <a:pt x="298" y="0"/>
                  </a:lnTo>
                  <a:lnTo>
                    <a:pt x="276" y="36"/>
                  </a:lnTo>
                  <a:lnTo>
                    <a:pt x="254" y="72"/>
                  </a:lnTo>
                  <a:lnTo>
                    <a:pt x="232" y="108"/>
                  </a:lnTo>
                  <a:lnTo>
                    <a:pt x="210" y="143"/>
                  </a:lnTo>
                  <a:lnTo>
                    <a:pt x="190" y="179"/>
                  </a:lnTo>
                  <a:lnTo>
                    <a:pt x="170" y="215"/>
                  </a:lnTo>
                  <a:lnTo>
                    <a:pt x="150" y="252"/>
                  </a:lnTo>
                  <a:lnTo>
                    <a:pt x="131" y="288"/>
                  </a:lnTo>
                  <a:lnTo>
                    <a:pt x="112" y="325"/>
                  </a:lnTo>
                  <a:lnTo>
                    <a:pt x="94" y="363"/>
                  </a:lnTo>
                  <a:lnTo>
                    <a:pt x="77" y="400"/>
                  </a:lnTo>
                  <a:lnTo>
                    <a:pt x="60" y="437"/>
                  </a:lnTo>
                  <a:lnTo>
                    <a:pt x="44" y="475"/>
                  </a:lnTo>
                  <a:lnTo>
                    <a:pt x="28" y="514"/>
                  </a:lnTo>
                  <a:lnTo>
                    <a:pt x="14" y="551"/>
                  </a:lnTo>
                  <a:lnTo>
                    <a:pt x="0" y="590"/>
                  </a:lnTo>
                  <a:lnTo>
                    <a:pt x="4" y="543"/>
                  </a:lnTo>
                  <a:lnTo>
                    <a:pt x="8" y="498"/>
                  </a:lnTo>
                  <a:lnTo>
                    <a:pt x="18" y="453"/>
                  </a:lnTo>
                  <a:lnTo>
                    <a:pt x="28" y="408"/>
                  </a:lnTo>
                  <a:lnTo>
                    <a:pt x="44" y="364"/>
                  </a:lnTo>
                  <a:lnTo>
                    <a:pt x="60" y="321"/>
                  </a:lnTo>
                  <a:lnTo>
                    <a:pt x="78" y="279"/>
                  </a:lnTo>
                  <a:lnTo>
                    <a:pt x="98" y="237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233840" y="54360"/>
              <a:ext cx="1628280" cy="1255320"/>
            </a:xfrm>
            <a:custGeom>
              <a:avLst/>
              <a:gdLst/>
              <a:ahLst/>
              <a:rect l="l" t="t" r="r" b="b"/>
              <a:pathLst>
                <a:path w="2577" h="2373">
                  <a:moveTo>
                    <a:pt x="2149" y="547"/>
                  </a:moveTo>
                  <a:lnTo>
                    <a:pt x="2263" y="564"/>
                  </a:lnTo>
                  <a:lnTo>
                    <a:pt x="2264" y="544"/>
                  </a:lnTo>
                  <a:lnTo>
                    <a:pt x="2269" y="524"/>
                  </a:lnTo>
                  <a:lnTo>
                    <a:pt x="2277" y="507"/>
                  </a:lnTo>
                  <a:lnTo>
                    <a:pt x="2287" y="488"/>
                  </a:lnTo>
                  <a:lnTo>
                    <a:pt x="2298" y="473"/>
                  </a:lnTo>
                  <a:lnTo>
                    <a:pt x="2312" y="457"/>
                  </a:lnTo>
                  <a:lnTo>
                    <a:pt x="2326" y="442"/>
                  </a:lnTo>
                  <a:lnTo>
                    <a:pt x="2342" y="428"/>
                  </a:lnTo>
                  <a:lnTo>
                    <a:pt x="2347" y="412"/>
                  </a:lnTo>
                  <a:lnTo>
                    <a:pt x="2356" y="396"/>
                  </a:lnTo>
                  <a:lnTo>
                    <a:pt x="2361" y="382"/>
                  </a:lnTo>
                  <a:lnTo>
                    <a:pt x="2348" y="368"/>
                  </a:lnTo>
                  <a:lnTo>
                    <a:pt x="2340" y="348"/>
                  </a:lnTo>
                  <a:lnTo>
                    <a:pt x="2339" y="333"/>
                  </a:lnTo>
                  <a:lnTo>
                    <a:pt x="2343" y="319"/>
                  </a:lnTo>
                  <a:lnTo>
                    <a:pt x="2356" y="308"/>
                  </a:lnTo>
                  <a:lnTo>
                    <a:pt x="2362" y="303"/>
                  </a:lnTo>
                  <a:lnTo>
                    <a:pt x="2370" y="300"/>
                  </a:lnTo>
                  <a:lnTo>
                    <a:pt x="2376" y="297"/>
                  </a:lnTo>
                  <a:lnTo>
                    <a:pt x="2384" y="294"/>
                  </a:lnTo>
                  <a:lnTo>
                    <a:pt x="2392" y="292"/>
                  </a:lnTo>
                  <a:lnTo>
                    <a:pt x="2401" y="292"/>
                  </a:lnTo>
                  <a:lnTo>
                    <a:pt x="2409" y="292"/>
                  </a:lnTo>
                  <a:lnTo>
                    <a:pt x="2416" y="294"/>
                  </a:lnTo>
                  <a:lnTo>
                    <a:pt x="2426" y="298"/>
                  </a:lnTo>
                  <a:lnTo>
                    <a:pt x="2437" y="302"/>
                  </a:lnTo>
                  <a:lnTo>
                    <a:pt x="2449" y="303"/>
                  </a:lnTo>
                  <a:lnTo>
                    <a:pt x="2462" y="305"/>
                  </a:lnTo>
                  <a:lnTo>
                    <a:pt x="2474" y="306"/>
                  </a:lnTo>
                  <a:lnTo>
                    <a:pt x="2485" y="311"/>
                  </a:lnTo>
                  <a:lnTo>
                    <a:pt x="2496" y="317"/>
                  </a:lnTo>
                  <a:lnTo>
                    <a:pt x="2505" y="326"/>
                  </a:lnTo>
                  <a:lnTo>
                    <a:pt x="2518" y="334"/>
                  </a:lnTo>
                  <a:lnTo>
                    <a:pt x="2528" y="345"/>
                  </a:lnTo>
                  <a:lnTo>
                    <a:pt x="2538" y="356"/>
                  </a:lnTo>
                  <a:lnTo>
                    <a:pt x="2546" y="368"/>
                  </a:lnTo>
                  <a:lnTo>
                    <a:pt x="2553" y="381"/>
                  </a:lnTo>
                  <a:lnTo>
                    <a:pt x="2560" y="393"/>
                  </a:lnTo>
                  <a:lnTo>
                    <a:pt x="2567" y="407"/>
                  </a:lnTo>
                  <a:lnTo>
                    <a:pt x="2574" y="420"/>
                  </a:lnTo>
                  <a:lnTo>
                    <a:pt x="2577" y="445"/>
                  </a:lnTo>
                  <a:lnTo>
                    <a:pt x="2574" y="468"/>
                  </a:lnTo>
                  <a:lnTo>
                    <a:pt x="2567" y="491"/>
                  </a:lnTo>
                  <a:lnTo>
                    <a:pt x="2555" y="513"/>
                  </a:lnTo>
                  <a:lnTo>
                    <a:pt x="2561" y="526"/>
                  </a:lnTo>
                  <a:lnTo>
                    <a:pt x="2567" y="540"/>
                  </a:lnTo>
                  <a:lnTo>
                    <a:pt x="2567" y="555"/>
                  </a:lnTo>
                  <a:lnTo>
                    <a:pt x="2560" y="568"/>
                  </a:lnTo>
                  <a:lnTo>
                    <a:pt x="2550" y="578"/>
                  </a:lnTo>
                  <a:lnTo>
                    <a:pt x="2539" y="585"/>
                  </a:lnTo>
                  <a:lnTo>
                    <a:pt x="2528" y="591"/>
                  </a:lnTo>
                  <a:lnTo>
                    <a:pt x="2516" y="594"/>
                  </a:lnTo>
                  <a:lnTo>
                    <a:pt x="2504" y="597"/>
                  </a:lnTo>
                  <a:lnTo>
                    <a:pt x="2493" y="602"/>
                  </a:lnTo>
                  <a:lnTo>
                    <a:pt x="2482" y="608"/>
                  </a:lnTo>
                  <a:lnTo>
                    <a:pt x="2474" y="619"/>
                  </a:lnTo>
                  <a:lnTo>
                    <a:pt x="2491" y="639"/>
                  </a:lnTo>
                  <a:lnTo>
                    <a:pt x="2505" y="661"/>
                  </a:lnTo>
                  <a:lnTo>
                    <a:pt x="2516" y="686"/>
                  </a:lnTo>
                  <a:lnTo>
                    <a:pt x="2525" y="709"/>
                  </a:lnTo>
                  <a:lnTo>
                    <a:pt x="2532" y="736"/>
                  </a:lnTo>
                  <a:lnTo>
                    <a:pt x="2536" y="762"/>
                  </a:lnTo>
                  <a:lnTo>
                    <a:pt x="2541" y="788"/>
                  </a:lnTo>
                  <a:lnTo>
                    <a:pt x="2546" y="815"/>
                  </a:lnTo>
                  <a:lnTo>
                    <a:pt x="2546" y="846"/>
                  </a:lnTo>
                  <a:lnTo>
                    <a:pt x="2542" y="874"/>
                  </a:lnTo>
                  <a:lnTo>
                    <a:pt x="2536" y="902"/>
                  </a:lnTo>
                  <a:lnTo>
                    <a:pt x="2528" y="930"/>
                  </a:lnTo>
                  <a:lnTo>
                    <a:pt x="2519" y="956"/>
                  </a:lnTo>
                  <a:lnTo>
                    <a:pt x="2507" y="981"/>
                  </a:lnTo>
                  <a:lnTo>
                    <a:pt x="2491" y="1006"/>
                  </a:lnTo>
                  <a:lnTo>
                    <a:pt x="2476" y="1029"/>
                  </a:lnTo>
                  <a:lnTo>
                    <a:pt x="2493" y="1090"/>
                  </a:lnTo>
                  <a:lnTo>
                    <a:pt x="2496" y="1155"/>
                  </a:lnTo>
                  <a:lnTo>
                    <a:pt x="2490" y="1222"/>
                  </a:lnTo>
                  <a:lnTo>
                    <a:pt x="2479" y="1285"/>
                  </a:lnTo>
                  <a:lnTo>
                    <a:pt x="2494" y="1351"/>
                  </a:lnTo>
                  <a:lnTo>
                    <a:pt x="2496" y="1420"/>
                  </a:lnTo>
                  <a:lnTo>
                    <a:pt x="2486" y="1488"/>
                  </a:lnTo>
                  <a:lnTo>
                    <a:pt x="2465" y="1552"/>
                  </a:lnTo>
                  <a:lnTo>
                    <a:pt x="2476" y="1575"/>
                  </a:lnTo>
                  <a:lnTo>
                    <a:pt x="2485" y="1600"/>
                  </a:lnTo>
                  <a:lnTo>
                    <a:pt x="2486" y="1625"/>
                  </a:lnTo>
                  <a:lnTo>
                    <a:pt x="2476" y="1648"/>
                  </a:lnTo>
                  <a:lnTo>
                    <a:pt x="2469" y="1653"/>
                  </a:lnTo>
                  <a:lnTo>
                    <a:pt x="2465" y="1659"/>
                  </a:lnTo>
                  <a:lnTo>
                    <a:pt x="2458" y="1666"/>
                  </a:lnTo>
                  <a:lnTo>
                    <a:pt x="2452" y="1672"/>
                  </a:lnTo>
                  <a:lnTo>
                    <a:pt x="2446" y="1676"/>
                  </a:lnTo>
                  <a:lnTo>
                    <a:pt x="2438" y="1681"/>
                  </a:lnTo>
                  <a:lnTo>
                    <a:pt x="2430" y="1683"/>
                  </a:lnTo>
                  <a:lnTo>
                    <a:pt x="2421" y="1683"/>
                  </a:lnTo>
                  <a:lnTo>
                    <a:pt x="2410" y="1666"/>
                  </a:lnTo>
                  <a:lnTo>
                    <a:pt x="2401" y="1647"/>
                  </a:lnTo>
                  <a:lnTo>
                    <a:pt x="2395" y="1628"/>
                  </a:lnTo>
                  <a:lnTo>
                    <a:pt x="2388" y="1608"/>
                  </a:lnTo>
                  <a:lnTo>
                    <a:pt x="2406" y="1535"/>
                  </a:lnTo>
                  <a:lnTo>
                    <a:pt x="2382" y="1501"/>
                  </a:lnTo>
                  <a:lnTo>
                    <a:pt x="2357" y="1467"/>
                  </a:lnTo>
                  <a:lnTo>
                    <a:pt x="2331" y="1432"/>
                  </a:lnTo>
                  <a:lnTo>
                    <a:pt x="2306" y="1398"/>
                  </a:lnTo>
                  <a:lnTo>
                    <a:pt x="2280" y="1364"/>
                  </a:lnTo>
                  <a:lnTo>
                    <a:pt x="2255" y="1330"/>
                  </a:lnTo>
                  <a:lnTo>
                    <a:pt x="2230" y="1294"/>
                  </a:lnTo>
                  <a:lnTo>
                    <a:pt x="2208" y="1258"/>
                  </a:lnTo>
                  <a:lnTo>
                    <a:pt x="2189" y="1313"/>
                  </a:lnTo>
                  <a:lnTo>
                    <a:pt x="2168" y="1364"/>
                  </a:lnTo>
                  <a:lnTo>
                    <a:pt x="2143" y="1417"/>
                  </a:lnTo>
                  <a:lnTo>
                    <a:pt x="2116" y="1467"/>
                  </a:lnTo>
                  <a:lnTo>
                    <a:pt x="2085" y="1515"/>
                  </a:lnTo>
                  <a:lnTo>
                    <a:pt x="2051" y="1563"/>
                  </a:lnTo>
                  <a:lnTo>
                    <a:pt x="2014" y="1608"/>
                  </a:lnTo>
                  <a:lnTo>
                    <a:pt x="1972" y="1652"/>
                  </a:lnTo>
                  <a:lnTo>
                    <a:pt x="1986" y="1695"/>
                  </a:lnTo>
                  <a:lnTo>
                    <a:pt x="2003" y="1737"/>
                  </a:lnTo>
                  <a:lnTo>
                    <a:pt x="2018" y="1781"/>
                  </a:lnTo>
                  <a:lnTo>
                    <a:pt x="2034" y="1824"/>
                  </a:lnTo>
                  <a:lnTo>
                    <a:pt x="2048" y="1868"/>
                  </a:lnTo>
                  <a:lnTo>
                    <a:pt x="2059" y="1911"/>
                  </a:lnTo>
                  <a:lnTo>
                    <a:pt x="2067" y="1958"/>
                  </a:lnTo>
                  <a:lnTo>
                    <a:pt x="2070" y="2006"/>
                  </a:lnTo>
                  <a:lnTo>
                    <a:pt x="2065" y="2016"/>
                  </a:lnTo>
                  <a:lnTo>
                    <a:pt x="2057" y="2020"/>
                  </a:lnTo>
                  <a:lnTo>
                    <a:pt x="2048" y="2022"/>
                  </a:lnTo>
                  <a:lnTo>
                    <a:pt x="2039" y="2022"/>
                  </a:lnTo>
                  <a:lnTo>
                    <a:pt x="2029" y="2023"/>
                  </a:lnTo>
                  <a:lnTo>
                    <a:pt x="2021" y="2026"/>
                  </a:lnTo>
                  <a:lnTo>
                    <a:pt x="2018" y="2031"/>
                  </a:lnTo>
                  <a:lnTo>
                    <a:pt x="2018" y="2042"/>
                  </a:lnTo>
                  <a:lnTo>
                    <a:pt x="2021" y="2064"/>
                  </a:lnTo>
                  <a:lnTo>
                    <a:pt x="2021" y="2087"/>
                  </a:lnTo>
                  <a:lnTo>
                    <a:pt x="2018" y="2110"/>
                  </a:lnTo>
                  <a:lnTo>
                    <a:pt x="2009" y="2135"/>
                  </a:lnTo>
                  <a:lnTo>
                    <a:pt x="2004" y="2145"/>
                  </a:lnTo>
                  <a:lnTo>
                    <a:pt x="1995" y="2152"/>
                  </a:lnTo>
                  <a:lnTo>
                    <a:pt x="1984" y="2159"/>
                  </a:lnTo>
                  <a:lnTo>
                    <a:pt x="1972" y="2162"/>
                  </a:lnTo>
                  <a:lnTo>
                    <a:pt x="1972" y="2171"/>
                  </a:lnTo>
                  <a:lnTo>
                    <a:pt x="1975" y="2182"/>
                  </a:lnTo>
                  <a:lnTo>
                    <a:pt x="1979" y="2191"/>
                  </a:lnTo>
                  <a:lnTo>
                    <a:pt x="1981" y="2201"/>
                  </a:lnTo>
                  <a:lnTo>
                    <a:pt x="1990" y="2202"/>
                  </a:lnTo>
                  <a:lnTo>
                    <a:pt x="2001" y="2205"/>
                  </a:lnTo>
                  <a:lnTo>
                    <a:pt x="2012" y="2210"/>
                  </a:lnTo>
                  <a:lnTo>
                    <a:pt x="2025" y="2213"/>
                  </a:lnTo>
                  <a:lnTo>
                    <a:pt x="2035" y="2218"/>
                  </a:lnTo>
                  <a:lnTo>
                    <a:pt x="2043" y="2221"/>
                  </a:lnTo>
                  <a:lnTo>
                    <a:pt x="2049" y="2226"/>
                  </a:lnTo>
                  <a:lnTo>
                    <a:pt x="2051" y="2229"/>
                  </a:lnTo>
                  <a:lnTo>
                    <a:pt x="2039" y="2240"/>
                  </a:lnTo>
                  <a:lnTo>
                    <a:pt x="2025" y="2247"/>
                  </a:lnTo>
                  <a:lnTo>
                    <a:pt x="2009" y="2254"/>
                  </a:lnTo>
                  <a:lnTo>
                    <a:pt x="1995" y="2260"/>
                  </a:lnTo>
                  <a:lnTo>
                    <a:pt x="1978" y="2263"/>
                  </a:lnTo>
                  <a:lnTo>
                    <a:pt x="1962" y="2268"/>
                  </a:lnTo>
                  <a:lnTo>
                    <a:pt x="1948" y="2272"/>
                  </a:lnTo>
                  <a:lnTo>
                    <a:pt x="1933" y="2277"/>
                  </a:lnTo>
                  <a:lnTo>
                    <a:pt x="1916" y="2274"/>
                  </a:lnTo>
                  <a:lnTo>
                    <a:pt x="1906" y="2266"/>
                  </a:lnTo>
                  <a:lnTo>
                    <a:pt x="1900" y="2254"/>
                  </a:lnTo>
                  <a:lnTo>
                    <a:pt x="1899" y="2240"/>
                  </a:lnTo>
                  <a:lnTo>
                    <a:pt x="1899" y="2224"/>
                  </a:lnTo>
                  <a:lnTo>
                    <a:pt x="1899" y="2208"/>
                  </a:lnTo>
                  <a:lnTo>
                    <a:pt x="1895" y="2194"/>
                  </a:lnTo>
                  <a:lnTo>
                    <a:pt x="1888" y="2184"/>
                  </a:lnTo>
                  <a:lnTo>
                    <a:pt x="1762" y="2241"/>
                  </a:lnTo>
                  <a:lnTo>
                    <a:pt x="1766" y="2252"/>
                  </a:lnTo>
                  <a:lnTo>
                    <a:pt x="1762" y="2264"/>
                  </a:lnTo>
                  <a:lnTo>
                    <a:pt x="1754" y="2275"/>
                  </a:lnTo>
                  <a:lnTo>
                    <a:pt x="1751" y="2289"/>
                  </a:lnTo>
                  <a:lnTo>
                    <a:pt x="1746" y="2310"/>
                  </a:lnTo>
                  <a:lnTo>
                    <a:pt x="1740" y="2331"/>
                  </a:lnTo>
                  <a:lnTo>
                    <a:pt x="1729" y="2347"/>
                  </a:lnTo>
                  <a:lnTo>
                    <a:pt x="1710" y="2356"/>
                  </a:lnTo>
                  <a:lnTo>
                    <a:pt x="1696" y="2359"/>
                  </a:lnTo>
                  <a:lnTo>
                    <a:pt x="1681" y="2362"/>
                  </a:lnTo>
                  <a:lnTo>
                    <a:pt x="1665" y="2367"/>
                  </a:lnTo>
                  <a:lnTo>
                    <a:pt x="1650" y="2372"/>
                  </a:lnTo>
                  <a:lnTo>
                    <a:pt x="1634" y="2373"/>
                  </a:lnTo>
                  <a:lnTo>
                    <a:pt x="1620" y="2373"/>
                  </a:lnTo>
                  <a:lnTo>
                    <a:pt x="1606" y="2370"/>
                  </a:lnTo>
                  <a:lnTo>
                    <a:pt x="1594" y="2362"/>
                  </a:lnTo>
                  <a:lnTo>
                    <a:pt x="1600" y="2350"/>
                  </a:lnTo>
                  <a:lnTo>
                    <a:pt x="1609" y="2339"/>
                  </a:lnTo>
                  <a:lnTo>
                    <a:pt x="1622" y="2330"/>
                  </a:lnTo>
                  <a:lnTo>
                    <a:pt x="1634" y="2320"/>
                  </a:lnTo>
                  <a:lnTo>
                    <a:pt x="1640" y="2306"/>
                  </a:lnTo>
                  <a:lnTo>
                    <a:pt x="1650" y="2292"/>
                  </a:lnTo>
                  <a:lnTo>
                    <a:pt x="1654" y="2278"/>
                  </a:lnTo>
                  <a:lnTo>
                    <a:pt x="1653" y="2261"/>
                  </a:lnTo>
                  <a:lnTo>
                    <a:pt x="1645" y="2260"/>
                  </a:lnTo>
                  <a:lnTo>
                    <a:pt x="1637" y="2258"/>
                  </a:lnTo>
                  <a:lnTo>
                    <a:pt x="1629" y="2257"/>
                  </a:lnTo>
                  <a:lnTo>
                    <a:pt x="1622" y="2255"/>
                  </a:lnTo>
                  <a:lnTo>
                    <a:pt x="1614" y="2254"/>
                  </a:lnTo>
                  <a:lnTo>
                    <a:pt x="1608" y="2250"/>
                  </a:lnTo>
                  <a:lnTo>
                    <a:pt x="1600" y="2246"/>
                  </a:lnTo>
                  <a:lnTo>
                    <a:pt x="1594" y="2241"/>
                  </a:lnTo>
                  <a:lnTo>
                    <a:pt x="1591" y="2233"/>
                  </a:lnTo>
                  <a:lnTo>
                    <a:pt x="1591" y="2222"/>
                  </a:lnTo>
                  <a:lnTo>
                    <a:pt x="1592" y="2210"/>
                  </a:lnTo>
                  <a:lnTo>
                    <a:pt x="1592" y="2196"/>
                  </a:lnTo>
                  <a:lnTo>
                    <a:pt x="1591" y="2185"/>
                  </a:lnTo>
                  <a:lnTo>
                    <a:pt x="1588" y="2177"/>
                  </a:lnTo>
                  <a:lnTo>
                    <a:pt x="1578" y="2174"/>
                  </a:lnTo>
                  <a:lnTo>
                    <a:pt x="1563" y="2176"/>
                  </a:lnTo>
                  <a:lnTo>
                    <a:pt x="1549" y="1905"/>
                  </a:lnTo>
                  <a:lnTo>
                    <a:pt x="1518" y="1913"/>
                  </a:lnTo>
                  <a:lnTo>
                    <a:pt x="1486" y="1919"/>
                  </a:lnTo>
                  <a:lnTo>
                    <a:pt x="1454" y="1924"/>
                  </a:lnTo>
                  <a:lnTo>
                    <a:pt x="1421" y="1928"/>
                  </a:lnTo>
                  <a:lnTo>
                    <a:pt x="1387" y="1933"/>
                  </a:lnTo>
                  <a:lnTo>
                    <a:pt x="1353" y="1936"/>
                  </a:lnTo>
                  <a:lnTo>
                    <a:pt x="1318" y="1938"/>
                  </a:lnTo>
                  <a:lnTo>
                    <a:pt x="1284" y="1939"/>
                  </a:lnTo>
                  <a:lnTo>
                    <a:pt x="1250" y="1939"/>
                  </a:lnTo>
                  <a:lnTo>
                    <a:pt x="1216" y="1938"/>
                  </a:lnTo>
                  <a:lnTo>
                    <a:pt x="1182" y="1935"/>
                  </a:lnTo>
                  <a:lnTo>
                    <a:pt x="1147" y="1932"/>
                  </a:lnTo>
                  <a:lnTo>
                    <a:pt x="1115" y="1927"/>
                  </a:lnTo>
                  <a:lnTo>
                    <a:pt x="1082" y="1921"/>
                  </a:lnTo>
                  <a:lnTo>
                    <a:pt x="1051" y="1914"/>
                  </a:lnTo>
                  <a:lnTo>
                    <a:pt x="1020" y="1905"/>
                  </a:lnTo>
                  <a:lnTo>
                    <a:pt x="1021" y="1921"/>
                  </a:lnTo>
                  <a:lnTo>
                    <a:pt x="1021" y="1938"/>
                  </a:lnTo>
                  <a:lnTo>
                    <a:pt x="1017" y="1953"/>
                  </a:lnTo>
                  <a:lnTo>
                    <a:pt x="1000" y="1961"/>
                  </a:lnTo>
                  <a:lnTo>
                    <a:pt x="989" y="1961"/>
                  </a:lnTo>
                  <a:lnTo>
                    <a:pt x="993" y="1983"/>
                  </a:lnTo>
                  <a:lnTo>
                    <a:pt x="1000" y="2003"/>
                  </a:lnTo>
                  <a:lnTo>
                    <a:pt x="1009" y="2025"/>
                  </a:lnTo>
                  <a:lnTo>
                    <a:pt x="1017" y="2047"/>
                  </a:lnTo>
                  <a:lnTo>
                    <a:pt x="1021" y="2070"/>
                  </a:lnTo>
                  <a:lnTo>
                    <a:pt x="1024" y="2092"/>
                  </a:lnTo>
                  <a:lnTo>
                    <a:pt x="1020" y="2115"/>
                  </a:lnTo>
                  <a:lnTo>
                    <a:pt x="1009" y="2138"/>
                  </a:lnTo>
                  <a:lnTo>
                    <a:pt x="1012" y="2166"/>
                  </a:lnTo>
                  <a:lnTo>
                    <a:pt x="1018" y="2194"/>
                  </a:lnTo>
                  <a:lnTo>
                    <a:pt x="1029" y="2221"/>
                  </a:lnTo>
                  <a:lnTo>
                    <a:pt x="1043" y="2246"/>
                  </a:lnTo>
                  <a:lnTo>
                    <a:pt x="1060" y="2269"/>
                  </a:lnTo>
                  <a:lnTo>
                    <a:pt x="1080" y="2289"/>
                  </a:lnTo>
                  <a:lnTo>
                    <a:pt x="1104" y="2305"/>
                  </a:lnTo>
                  <a:lnTo>
                    <a:pt x="1130" y="2317"/>
                  </a:lnTo>
                  <a:lnTo>
                    <a:pt x="1138" y="2323"/>
                  </a:lnTo>
                  <a:lnTo>
                    <a:pt x="1143" y="2331"/>
                  </a:lnTo>
                  <a:lnTo>
                    <a:pt x="1146" y="2341"/>
                  </a:lnTo>
                  <a:lnTo>
                    <a:pt x="1144" y="2351"/>
                  </a:lnTo>
                  <a:lnTo>
                    <a:pt x="1129" y="2355"/>
                  </a:lnTo>
                  <a:lnTo>
                    <a:pt x="1113" y="2358"/>
                  </a:lnTo>
                  <a:lnTo>
                    <a:pt x="1096" y="2361"/>
                  </a:lnTo>
                  <a:lnTo>
                    <a:pt x="1080" y="2364"/>
                  </a:lnTo>
                  <a:lnTo>
                    <a:pt x="1063" y="2365"/>
                  </a:lnTo>
                  <a:lnTo>
                    <a:pt x="1048" y="2367"/>
                  </a:lnTo>
                  <a:lnTo>
                    <a:pt x="1034" y="2365"/>
                  </a:lnTo>
                  <a:lnTo>
                    <a:pt x="1020" y="2361"/>
                  </a:lnTo>
                  <a:lnTo>
                    <a:pt x="1004" y="2320"/>
                  </a:lnTo>
                  <a:lnTo>
                    <a:pt x="982" y="2311"/>
                  </a:lnTo>
                  <a:lnTo>
                    <a:pt x="961" y="2300"/>
                  </a:lnTo>
                  <a:lnTo>
                    <a:pt x="940" y="2286"/>
                  </a:lnTo>
                  <a:lnTo>
                    <a:pt x="922" y="2271"/>
                  </a:lnTo>
                  <a:lnTo>
                    <a:pt x="902" y="2255"/>
                  </a:lnTo>
                  <a:lnTo>
                    <a:pt x="883" y="2240"/>
                  </a:lnTo>
                  <a:lnTo>
                    <a:pt x="863" y="2226"/>
                  </a:lnTo>
                  <a:lnTo>
                    <a:pt x="843" y="2212"/>
                  </a:lnTo>
                  <a:lnTo>
                    <a:pt x="824" y="2199"/>
                  </a:lnTo>
                  <a:lnTo>
                    <a:pt x="807" y="2188"/>
                  </a:lnTo>
                  <a:lnTo>
                    <a:pt x="790" y="2176"/>
                  </a:lnTo>
                  <a:lnTo>
                    <a:pt x="773" y="2163"/>
                  </a:lnTo>
                  <a:lnTo>
                    <a:pt x="755" y="2149"/>
                  </a:lnTo>
                  <a:lnTo>
                    <a:pt x="738" y="2135"/>
                  </a:lnTo>
                  <a:lnTo>
                    <a:pt x="721" y="2121"/>
                  </a:lnTo>
                  <a:lnTo>
                    <a:pt x="706" y="2104"/>
                  </a:lnTo>
                  <a:lnTo>
                    <a:pt x="696" y="2123"/>
                  </a:lnTo>
                  <a:lnTo>
                    <a:pt x="685" y="2143"/>
                  </a:lnTo>
                  <a:lnTo>
                    <a:pt x="673" y="2160"/>
                  </a:lnTo>
                  <a:lnTo>
                    <a:pt x="661" y="2179"/>
                  </a:lnTo>
                  <a:lnTo>
                    <a:pt x="647" y="2198"/>
                  </a:lnTo>
                  <a:lnTo>
                    <a:pt x="634" y="2216"/>
                  </a:lnTo>
                  <a:lnTo>
                    <a:pt x="623" y="2235"/>
                  </a:lnTo>
                  <a:lnTo>
                    <a:pt x="612" y="2255"/>
                  </a:lnTo>
                  <a:lnTo>
                    <a:pt x="617" y="2264"/>
                  </a:lnTo>
                  <a:lnTo>
                    <a:pt x="625" y="2272"/>
                  </a:lnTo>
                  <a:lnTo>
                    <a:pt x="636" y="2280"/>
                  </a:lnTo>
                  <a:lnTo>
                    <a:pt x="645" y="2288"/>
                  </a:lnTo>
                  <a:lnTo>
                    <a:pt x="653" y="2296"/>
                  </a:lnTo>
                  <a:lnTo>
                    <a:pt x="657" y="2303"/>
                  </a:lnTo>
                  <a:lnTo>
                    <a:pt x="656" y="2311"/>
                  </a:lnTo>
                  <a:lnTo>
                    <a:pt x="647" y="2320"/>
                  </a:lnTo>
                  <a:lnTo>
                    <a:pt x="634" y="2320"/>
                  </a:lnTo>
                  <a:lnTo>
                    <a:pt x="620" y="2322"/>
                  </a:lnTo>
                  <a:lnTo>
                    <a:pt x="605" y="2323"/>
                  </a:lnTo>
                  <a:lnTo>
                    <a:pt x="589" y="2325"/>
                  </a:lnTo>
                  <a:lnTo>
                    <a:pt x="575" y="2327"/>
                  </a:lnTo>
                  <a:lnTo>
                    <a:pt x="561" y="2325"/>
                  </a:lnTo>
                  <a:lnTo>
                    <a:pt x="547" y="2319"/>
                  </a:lnTo>
                  <a:lnTo>
                    <a:pt x="536" y="2310"/>
                  </a:lnTo>
                  <a:lnTo>
                    <a:pt x="538" y="2289"/>
                  </a:lnTo>
                  <a:lnTo>
                    <a:pt x="539" y="2269"/>
                  </a:lnTo>
                  <a:lnTo>
                    <a:pt x="542" y="2250"/>
                  </a:lnTo>
                  <a:lnTo>
                    <a:pt x="547" y="2232"/>
                  </a:lnTo>
                  <a:lnTo>
                    <a:pt x="533" y="1992"/>
                  </a:lnTo>
                  <a:lnTo>
                    <a:pt x="527" y="1966"/>
                  </a:lnTo>
                  <a:lnTo>
                    <a:pt x="527" y="1938"/>
                  </a:lnTo>
                  <a:lnTo>
                    <a:pt x="522" y="1913"/>
                  </a:lnTo>
                  <a:lnTo>
                    <a:pt x="505" y="1893"/>
                  </a:lnTo>
                  <a:lnTo>
                    <a:pt x="505" y="1871"/>
                  </a:lnTo>
                  <a:lnTo>
                    <a:pt x="499" y="1851"/>
                  </a:lnTo>
                  <a:lnTo>
                    <a:pt x="488" y="1832"/>
                  </a:lnTo>
                  <a:lnTo>
                    <a:pt x="474" y="1815"/>
                  </a:lnTo>
                  <a:lnTo>
                    <a:pt x="458" y="1799"/>
                  </a:lnTo>
                  <a:lnTo>
                    <a:pt x="443" y="1782"/>
                  </a:lnTo>
                  <a:lnTo>
                    <a:pt x="429" y="1767"/>
                  </a:lnTo>
                  <a:lnTo>
                    <a:pt x="416" y="1748"/>
                  </a:lnTo>
                  <a:lnTo>
                    <a:pt x="407" y="1731"/>
                  </a:lnTo>
                  <a:lnTo>
                    <a:pt x="402" y="1712"/>
                  </a:lnTo>
                  <a:lnTo>
                    <a:pt x="398" y="1694"/>
                  </a:lnTo>
                  <a:lnTo>
                    <a:pt x="391" y="1678"/>
                  </a:lnTo>
                  <a:lnTo>
                    <a:pt x="382" y="1680"/>
                  </a:lnTo>
                  <a:lnTo>
                    <a:pt x="370" y="1681"/>
                  </a:lnTo>
                  <a:lnTo>
                    <a:pt x="359" y="1684"/>
                  </a:lnTo>
                  <a:lnTo>
                    <a:pt x="348" y="1687"/>
                  </a:lnTo>
                  <a:lnTo>
                    <a:pt x="343" y="1714"/>
                  </a:lnTo>
                  <a:lnTo>
                    <a:pt x="335" y="1739"/>
                  </a:lnTo>
                  <a:lnTo>
                    <a:pt x="328" y="1764"/>
                  </a:lnTo>
                  <a:lnTo>
                    <a:pt x="318" y="1788"/>
                  </a:lnTo>
                  <a:lnTo>
                    <a:pt x="309" y="1812"/>
                  </a:lnTo>
                  <a:lnTo>
                    <a:pt x="298" y="1837"/>
                  </a:lnTo>
                  <a:lnTo>
                    <a:pt x="290" y="1862"/>
                  </a:lnTo>
                  <a:lnTo>
                    <a:pt x="283" y="1886"/>
                  </a:lnTo>
                  <a:lnTo>
                    <a:pt x="272" y="1905"/>
                  </a:lnTo>
                  <a:lnTo>
                    <a:pt x="267" y="1925"/>
                  </a:lnTo>
                  <a:lnTo>
                    <a:pt x="265" y="1947"/>
                  </a:lnTo>
                  <a:lnTo>
                    <a:pt x="265" y="1969"/>
                  </a:lnTo>
                  <a:lnTo>
                    <a:pt x="265" y="1989"/>
                  </a:lnTo>
                  <a:lnTo>
                    <a:pt x="261" y="2009"/>
                  </a:lnTo>
                  <a:lnTo>
                    <a:pt x="253" y="2028"/>
                  </a:lnTo>
                  <a:lnTo>
                    <a:pt x="237" y="2044"/>
                  </a:lnTo>
                  <a:lnTo>
                    <a:pt x="228" y="2039"/>
                  </a:lnTo>
                  <a:lnTo>
                    <a:pt x="219" y="2034"/>
                  </a:lnTo>
                  <a:lnTo>
                    <a:pt x="209" y="2028"/>
                  </a:lnTo>
                  <a:lnTo>
                    <a:pt x="202" y="2022"/>
                  </a:lnTo>
                  <a:lnTo>
                    <a:pt x="194" y="2014"/>
                  </a:lnTo>
                  <a:lnTo>
                    <a:pt x="189" y="2005"/>
                  </a:lnTo>
                  <a:lnTo>
                    <a:pt x="185" y="1995"/>
                  </a:lnTo>
                  <a:lnTo>
                    <a:pt x="183" y="1984"/>
                  </a:lnTo>
                  <a:lnTo>
                    <a:pt x="183" y="1967"/>
                  </a:lnTo>
                  <a:lnTo>
                    <a:pt x="185" y="1952"/>
                  </a:lnTo>
                  <a:lnTo>
                    <a:pt x="188" y="1936"/>
                  </a:lnTo>
                  <a:lnTo>
                    <a:pt x="194" y="1922"/>
                  </a:lnTo>
                  <a:lnTo>
                    <a:pt x="188" y="1888"/>
                  </a:lnTo>
                  <a:lnTo>
                    <a:pt x="181" y="1855"/>
                  </a:lnTo>
                  <a:lnTo>
                    <a:pt x="174" y="1823"/>
                  </a:lnTo>
                  <a:lnTo>
                    <a:pt x="166" y="1788"/>
                  </a:lnTo>
                  <a:lnTo>
                    <a:pt x="160" y="1756"/>
                  </a:lnTo>
                  <a:lnTo>
                    <a:pt x="155" y="1722"/>
                  </a:lnTo>
                  <a:lnTo>
                    <a:pt x="152" y="1687"/>
                  </a:lnTo>
                  <a:lnTo>
                    <a:pt x="152" y="1652"/>
                  </a:lnTo>
                  <a:lnTo>
                    <a:pt x="143" y="1644"/>
                  </a:lnTo>
                  <a:lnTo>
                    <a:pt x="133" y="1636"/>
                  </a:lnTo>
                  <a:lnTo>
                    <a:pt x="122" y="1630"/>
                  </a:lnTo>
                  <a:lnTo>
                    <a:pt x="111" y="1624"/>
                  </a:lnTo>
                  <a:lnTo>
                    <a:pt x="102" y="1617"/>
                  </a:lnTo>
                  <a:lnTo>
                    <a:pt x="93" y="1610"/>
                  </a:lnTo>
                  <a:lnTo>
                    <a:pt x="87" y="1602"/>
                  </a:lnTo>
                  <a:lnTo>
                    <a:pt x="80" y="1593"/>
                  </a:lnTo>
                  <a:lnTo>
                    <a:pt x="87" y="1541"/>
                  </a:lnTo>
                  <a:lnTo>
                    <a:pt x="93" y="1490"/>
                  </a:lnTo>
                  <a:lnTo>
                    <a:pt x="101" y="1439"/>
                  </a:lnTo>
                  <a:lnTo>
                    <a:pt x="108" y="1389"/>
                  </a:lnTo>
                  <a:lnTo>
                    <a:pt x="79" y="1361"/>
                  </a:lnTo>
                  <a:lnTo>
                    <a:pt x="54" y="1330"/>
                  </a:lnTo>
                  <a:lnTo>
                    <a:pt x="34" y="1299"/>
                  </a:lnTo>
                  <a:lnTo>
                    <a:pt x="17" y="1263"/>
                  </a:lnTo>
                  <a:lnTo>
                    <a:pt x="6" y="1227"/>
                  </a:lnTo>
                  <a:lnTo>
                    <a:pt x="0" y="1190"/>
                  </a:lnTo>
                  <a:lnTo>
                    <a:pt x="0" y="1151"/>
                  </a:lnTo>
                  <a:lnTo>
                    <a:pt x="7" y="1110"/>
                  </a:lnTo>
                  <a:lnTo>
                    <a:pt x="17" y="1079"/>
                  </a:lnTo>
                  <a:lnTo>
                    <a:pt x="28" y="1048"/>
                  </a:lnTo>
                  <a:lnTo>
                    <a:pt x="40" y="1017"/>
                  </a:lnTo>
                  <a:lnTo>
                    <a:pt x="54" y="987"/>
                  </a:lnTo>
                  <a:lnTo>
                    <a:pt x="70" y="958"/>
                  </a:lnTo>
                  <a:lnTo>
                    <a:pt x="87" y="930"/>
                  </a:lnTo>
                  <a:lnTo>
                    <a:pt x="107" y="902"/>
                  </a:lnTo>
                  <a:lnTo>
                    <a:pt x="129" y="876"/>
                  </a:lnTo>
                  <a:lnTo>
                    <a:pt x="119" y="869"/>
                  </a:lnTo>
                  <a:lnTo>
                    <a:pt x="110" y="868"/>
                  </a:lnTo>
                  <a:lnTo>
                    <a:pt x="101" y="865"/>
                  </a:lnTo>
                  <a:lnTo>
                    <a:pt x="93" y="860"/>
                  </a:lnTo>
                  <a:lnTo>
                    <a:pt x="85" y="855"/>
                  </a:lnTo>
                  <a:lnTo>
                    <a:pt x="77" y="852"/>
                  </a:lnTo>
                  <a:lnTo>
                    <a:pt x="68" y="848"/>
                  </a:lnTo>
                  <a:lnTo>
                    <a:pt x="60" y="844"/>
                  </a:lnTo>
                  <a:lnTo>
                    <a:pt x="52" y="838"/>
                  </a:lnTo>
                  <a:lnTo>
                    <a:pt x="48" y="832"/>
                  </a:lnTo>
                  <a:lnTo>
                    <a:pt x="45" y="824"/>
                  </a:lnTo>
                  <a:lnTo>
                    <a:pt x="46" y="815"/>
                  </a:lnTo>
                  <a:lnTo>
                    <a:pt x="71" y="787"/>
                  </a:lnTo>
                  <a:lnTo>
                    <a:pt x="90" y="756"/>
                  </a:lnTo>
                  <a:lnTo>
                    <a:pt x="107" y="723"/>
                  </a:lnTo>
                  <a:lnTo>
                    <a:pt x="122" y="690"/>
                  </a:lnTo>
                  <a:lnTo>
                    <a:pt x="139" y="659"/>
                  </a:lnTo>
                  <a:lnTo>
                    <a:pt x="161" y="630"/>
                  </a:lnTo>
                  <a:lnTo>
                    <a:pt x="188" y="605"/>
                  </a:lnTo>
                  <a:lnTo>
                    <a:pt x="222" y="585"/>
                  </a:lnTo>
                  <a:lnTo>
                    <a:pt x="233" y="582"/>
                  </a:lnTo>
                  <a:lnTo>
                    <a:pt x="242" y="582"/>
                  </a:lnTo>
                  <a:lnTo>
                    <a:pt x="250" y="582"/>
                  </a:lnTo>
                  <a:lnTo>
                    <a:pt x="256" y="582"/>
                  </a:lnTo>
                  <a:lnTo>
                    <a:pt x="261" y="583"/>
                  </a:lnTo>
                  <a:lnTo>
                    <a:pt x="265" y="582"/>
                  </a:lnTo>
                  <a:lnTo>
                    <a:pt x="269" y="580"/>
                  </a:lnTo>
                  <a:lnTo>
                    <a:pt x="273" y="575"/>
                  </a:lnTo>
                  <a:lnTo>
                    <a:pt x="290" y="574"/>
                  </a:lnTo>
                  <a:lnTo>
                    <a:pt x="306" y="575"/>
                  </a:lnTo>
                  <a:lnTo>
                    <a:pt x="321" y="577"/>
                  </a:lnTo>
                  <a:lnTo>
                    <a:pt x="335" y="582"/>
                  </a:lnTo>
                  <a:lnTo>
                    <a:pt x="348" y="588"/>
                  </a:lnTo>
                  <a:lnTo>
                    <a:pt x="360" y="596"/>
                  </a:lnTo>
                  <a:lnTo>
                    <a:pt x="373" y="605"/>
                  </a:lnTo>
                  <a:lnTo>
                    <a:pt x="382" y="616"/>
                  </a:lnTo>
                  <a:lnTo>
                    <a:pt x="388" y="597"/>
                  </a:lnTo>
                  <a:lnTo>
                    <a:pt x="395" y="580"/>
                  </a:lnTo>
                  <a:lnTo>
                    <a:pt x="402" y="561"/>
                  </a:lnTo>
                  <a:lnTo>
                    <a:pt x="410" y="544"/>
                  </a:lnTo>
                  <a:lnTo>
                    <a:pt x="418" y="526"/>
                  </a:lnTo>
                  <a:lnTo>
                    <a:pt x="427" y="507"/>
                  </a:lnTo>
                  <a:lnTo>
                    <a:pt x="438" y="488"/>
                  </a:lnTo>
                  <a:lnTo>
                    <a:pt x="451" y="468"/>
                  </a:lnTo>
                  <a:lnTo>
                    <a:pt x="475" y="426"/>
                  </a:lnTo>
                  <a:lnTo>
                    <a:pt x="499" y="390"/>
                  </a:lnTo>
                  <a:lnTo>
                    <a:pt x="522" y="361"/>
                  </a:lnTo>
                  <a:lnTo>
                    <a:pt x="545" y="333"/>
                  </a:lnTo>
                  <a:lnTo>
                    <a:pt x="569" y="306"/>
                  </a:lnTo>
                  <a:lnTo>
                    <a:pt x="595" y="281"/>
                  </a:lnTo>
                  <a:lnTo>
                    <a:pt x="623" y="253"/>
                  </a:lnTo>
                  <a:lnTo>
                    <a:pt x="657" y="224"/>
                  </a:lnTo>
                  <a:lnTo>
                    <a:pt x="681" y="204"/>
                  </a:lnTo>
                  <a:lnTo>
                    <a:pt x="706" y="185"/>
                  </a:lnTo>
                  <a:lnTo>
                    <a:pt x="732" y="166"/>
                  </a:lnTo>
                  <a:lnTo>
                    <a:pt x="759" y="149"/>
                  </a:lnTo>
                  <a:lnTo>
                    <a:pt x="787" y="132"/>
                  </a:lnTo>
                  <a:lnTo>
                    <a:pt x="815" y="117"/>
                  </a:lnTo>
                  <a:lnTo>
                    <a:pt x="843" y="103"/>
                  </a:lnTo>
                  <a:lnTo>
                    <a:pt x="872" y="89"/>
                  </a:lnTo>
                  <a:lnTo>
                    <a:pt x="902" y="76"/>
                  </a:lnTo>
                  <a:lnTo>
                    <a:pt x="933" y="64"/>
                  </a:lnTo>
                  <a:lnTo>
                    <a:pt x="964" y="53"/>
                  </a:lnTo>
                  <a:lnTo>
                    <a:pt x="996" y="42"/>
                  </a:lnTo>
                  <a:lnTo>
                    <a:pt x="1028" y="34"/>
                  </a:lnTo>
                  <a:lnTo>
                    <a:pt x="1060" y="25"/>
                  </a:lnTo>
                  <a:lnTo>
                    <a:pt x="1093" y="19"/>
                  </a:lnTo>
                  <a:lnTo>
                    <a:pt x="1126" y="12"/>
                  </a:lnTo>
                  <a:lnTo>
                    <a:pt x="1158" y="8"/>
                  </a:lnTo>
                  <a:lnTo>
                    <a:pt x="1191" y="5"/>
                  </a:lnTo>
                  <a:lnTo>
                    <a:pt x="1224" y="1"/>
                  </a:lnTo>
                  <a:lnTo>
                    <a:pt x="1256" y="0"/>
                  </a:lnTo>
                  <a:lnTo>
                    <a:pt x="1289" y="0"/>
                  </a:lnTo>
                  <a:lnTo>
                    <a:pt x="1322" y="1"/>
                  </a:lnTo>
                  <a:lnTo>
                    <a:pt x="1354" y="3"/>
                  </a:lnTo>
                  <a:lnTo>
                    <a:pt x="1387" y="6"/>
                  </a:lnTo>
                  <a:lnTo>
                    <a:pt x="1418" y="9"/>
                  </a:lnTo>
                  <a:lnTo>
                    <a:pt x="1451" y="14"/>
                  </a:lnTo>
                  <a:lnTo>
                    <a:pt x="1482" y="20"/>
                  </a:lnTo>
                  <a:lnTo>
                    <a:pt x="1513" y="28"/>
                  </a:lnTo>
                  <a:lnTo>
                    <a:pt x="1544" y="37"/>
                  </a:lnTo>
                  <a:lnTo>
                    <a:pt x="1575" y="47"/>
                  </a:lnTo>
                  <a:lnTo>
                    <a:pt x="1605" y="57"/>
                  </a:lnTo>
                  <a:lnTo>
                    <a:pt x="1634" y="70"/>
                  </a:lnTo>
                  <a:lnTo>
                    <a:pt x="1673" y="87"/>
                  </a:lnTo>
                  <a:lnTo>
                    <a:pt x="1712" y="106"/>
                  </a:lnTo>
                  <a:lnTo>
                    <a:pt x="1751" y="127"/>
                  </a:lnTo>
                  <a:lnTo>
                    <a:pt x="1788" y="151"/>
                  </a:lnTo>
                  <a:lnTo>
                    <a:pt x="1825" y="176"/>
                  </a:lnTo>
                  <a:lnTo>
                    <a:pt x="1863" y="202"/>
                  </a:lnTo>
                  <a:lnTo>
                    <a:pt x="1899" y="232"/>
                  </a:lnTo>
                  <a:lnTo>
                    <a:pt x="1933" y="261"/>
                  </a:lnTo>
                  <a:lnTo>
                    <a:pt x="1965" y="294"/>
                  </a:lnTo>
                  <a:lnTo>
                    <a:pt x="1998" y="326"/>
                  </a:lnTo>
                  <a:lnTo>
                    <a:pt x="2028" y="362"/>
                  </a:lnTo>
                  <a:lnTo>
                    <a:pt x="2057" y="396"/>
                  </a:lnTo>
                  <a:lnTo>
                    <a:pt x="2084" y="434"/>
                  </a:lnTo>
                  <a:lnTo>
                    <a:pt x="2107" y="471"/>
                  </a:lnTo>
                  <a:lnTo>
                    <a:pt x="2129" y="508"/>
                  </a:lnTo>
                  <a:lnTo>
                    <a:pt x="2149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02720" y="65880"/>
              <a:ext cx="738000" cy="693720"/>
            </a:xfrm>
            <a:custGeom>
              <a:avLst/>
              <a:gdLst/>
              <a:ahLst/>
              <a:rect l="l" t="t" r="r" b="b"/>
              <a:pathLst>
                <a:path w="1168" h="1311">
                  <a:moveTo>
                    <a:pt x="420" y="21"/>
                  </a:moveTo>
                  <a:lnTo>
                    <a:pt x="469" y="34"/>
                  </a:lnTo>
                  <a:lnTo>
                    <a:pt x="519" y="49"/>
                  </a:lnTo>
                  <a:lnTo>
                    <a:pt x="567" y="68"/>
                  </a:lnTo>
                  <a:lnTo>
                    <a:pt x="614" y="88"/>
                  </a:lnTo>
                  <a:lnTo>
                    <a:pt x="661" y="112"/>
                  </a:lnTo>
                  <a:lnTo>
                    <a:pt x="706" y="138"/>
                  </a:lnTo>
                  <a:lnTo>
                    <a:pt x="748" y="168"/>
                  </a:lnTo>
                  <a:lnTo>
                    <a:pt x="790" y="197"/>
                  </a:lnTo>
                  <a:lnTo>
                    <a:pt x="830" y="231"/>
                  </a:lnTo>
                  <a:lnTo>
                    <a:pt x="869" y="267"/>
                  </a:lnTo>
                  <a:lnTo>
                    <a:pt x="906" y="304"/>
                  </a:lnTo>
                  <a:lnTo>
                    <a:pt x="941" y="345"/>
                  </a:lnTo>
                  <a:lnTo>
                    <a:pt x="975" y="387"/>
                  </a:lnTo>
                  <a:lnTo>
                    <a:pt x="1006" y="430"/>
                  </a:lnTo>
                  <a:lnTo>
                    <a:pt x="1036" y="476"/>
                  </a:lnTo>
                  <a:lnTo>
                    <a:pt x="1062" y="524"/>
                  </a:lnTo>
                  <a:lnTo>
                    <a:pt x="1088" y="583"/>
                  </a:lnTo>
                  <a:lnTo>
                    <a:pt x="1112" y="644"/>
                  </a:lnTo>
                  <a:lnTo>
                    <a:pt x="1130" y="707"/>
                  </a:lnTo>
                  <a:lnTo>
                    <a:pt x="1148" y="771"/>
                  </a:lnTo>
                  <a:lnTo>
                    <a:pt x="1158" y="836"/>
                  </a:lnTo>
                  <a:lnTo>
                    <a:pt x="1166" y="903"/>
                  </a:lnTo>
                  <a:lnTo>
                    <a:pt x="1168" y="972"/>
                  </a:lnTo>
                  <a:lnTo>
                    <a:pt x="1163" y="1040"/>
                  </a:lnTo>
                  <a:lnTo>
                    <a:pt x="1157" y="1048"/>
                  </a:lnTo>
                  <a:lnTo>
                    <a:pt x="1148" y="1059"/>
                  </a:lnTo>
                  <a:lnTo>
                    <a:pt x="1135" y="1070"/>
                  </a:lnTo>
                  <a:lnTo>
                    <a:pt x="1121" y="1081"/>
                  </a:lnTo>
                  <a:lnTo>
                    <a:pt x="1104" y="1091"/>
                  </a:lnTo>
                  <a:lnTo>
                    <a:pt x="1088" y="1102"/>
                  </a:lnTo>
                  <a:lnTo>
                    <a:pt x="1073" y="1110"/>
                  </a:lnTo>
                  <a:lnTo>
                    <a:pt x="1057" y="1115"/>
                  </a:lnTo>
                  <a:lnTo>
                    <a:pt x="1059" y="1129"/>
                  </a:lnTo>
                  <a:lnTo>
                    <a:pt x="1050" y="1138"/>
                  </a:lnTo>
                  <a:lnTo>
                    <a:pt x="1040" y="1147"/>
                  </a:lnTo>
                  <a:lnTo>
                    <a:pt x="1032" y="1158"/>
                  </a:lnTo>
                  <a:lnTo>
                    <a:pt x="1025" y="1168"/>
                  </a:lnTo>
                  <a:lnTo>
                    <a:pt x="1018" y="1179"/>
                  </a:lnTo>
                  <a:lnTo>
                    <a:pt x="1012" y="1189"/>
                  </a:lnTo>
                  <a:lnTo>
                    <a:pt x="1008" y="1200"/>
                  </a:lnTo>
                  <a:lnTo>
                    <a:pt x="1003" y="1211"/>
                  </a:lnTo>
                  <a:lnTo>
                    <a:pt x="987" y="1227"/>
                  </a:lnTo>
                  <a:lnTo>
                    <a:pt x="972" y="1242"/>
                  </a:lnTo>
                  <a:lnTo>
                    <a:pt x="953" y="1255"/>
                  </a:lnTo>
                  <a:lnTo>
                    <a:pt x="936" y="1267"/>
                  </a:lnTo>
                  <a:lnTo>
                    <a:pt x="917" y="1278"/>
                  </a:lnTo>
                  <a:lnTo>
                    <a:pt x="897" y="1289"/>
                  </a:lnTo>
                  <a:lnTo>
                    <a:pt x="878" y="1300"/>
                  </a:lnTo>
                  <a:lnTo>
                    <a:pt x="860" y="1311"/>
                  </a:lnTo>
                  <a:lnTo>
                    <a:pt x="852" y="1303"/>
                  </a:lnTo>
                  <a:lnTo>
                    <a:pt x="846" y="1294"/>
                  </a:lnTo>
                  <a:lnTo>
                    <a:pt x="838" y="1286"/>
                  </a:lnTo>
                  <a:lnTo>
                    <a:pt x="832" y="1277"/>
                  </a:lnTo>
                  <a:lnTo>
                    <a:pt x="827" y="1267"/>
                  </a:lnTo>
                  <a:lnTo>
                    <a:pt x="824" y="1258"/>
                  </a:lnTo>
                  <a:lnTo>
                    <a:pt x="826" y="1247"/>
                  </a:lnTo>
                  <a:lnTo>
                    <a:pt x="832" y="1236"/>
                  </a:lnTo>
                  <a:lnTo>
                    <a:pt x="840" y="1221"/>
                  </a:lnTo>
                  <a:lnTo>
                    <a:pt x="843" y="1203"/>
                  </a:lnTo>
                  <a:lnTo>
                    <a:pt x="843" y="1186"/>
                  </a:lnTo>
                  <a:lnTo>
                    <a:pt x="844" y="1169"/>
                  </a:lnTo>
                  <a:lnTo>
                    <a:pt x="846" y="1152"/>
                  </a:lnTo>
                  <a:lnTo>
                    <a:pt x="850" y="1138"/>
                  </a:lnTo>
                  <a:lnTo>
                    <a:pt x="861" y="1124"/>
                  </a:lnTo>
                  <a:lnTo>
                    <a:pt x="878" y="1115"/>
                  </a:lnTo>
                  <a:lnTo>
                    <a:pt x="896" y="1109"/>
                  </a:lnTo>
                  <a:lnTo>
                    <a:pt x="914" y="1105"/>
                  </a:lnTo>
                  <a:lnTo>
                    <a:pt x="933" y="1105"/>
                  </a:lnTo>
                  <a:lnTo>
                    <a:pt x="952" y="1105"/>
                  </a:lnTo>
                  <a:lnTo>
                    <a:pt x="970" y="1104"/>
                  </a:lnTo>
                  <a:lnTo>
                    <a:pt x="987" y="1101"/>
                  </a:lnTo>
                  <a:lnTo>
                    <a:pt x="1001" y="1093"/>
                  </a:lnTo>
                  <a:lnTo>
                    <a:pt x="1012" y="1081"/>
                  </a:lnTo>
                  <a:lnTo>
                    <a:pt x="1017" y="1071"/>
                  </a:lnTo>
                  <a:lnTo>
                    <a:pt x="1022" y="1062"/>
                  </a:lnTo>
                  <a:lnTo>
                    <a:pt x="1026" y="1053"/>
                  </a:lnTo>
                  <a:lnTo>
                    <a:pt x="1031" y="1045"/>
                  </a:lnTo>
                  <a:lnTo>
                    <a:pt x="1036" y="1035"/>
                  </a:lnTo>
                  <a:lnTo>
                    <a:pt x="1042" y="1028"/>
                  </a:lnTo>
                  <a:lnTo>
                    <a:pt x="1050" y="1021"/>
                  </a:lnTo>
                  <a:lnTo>
                    <a:pt x="1059" y="1015"/>
                  </a:lnTo>
                  <a:lnTo>
                    <a:pt x="1078" y="1021"/>
                  </a:lnTo>
                  <a:lnTo>
                    <a:pt x="1093" y="1020"/>
                  </a:lnTo>
                  <a:lnTo>
                    <a:pt x="1106" y="1012"/>
                  </a:lnTo>
                  <a:lnTo>
                    <a:pt x="1116" y="1000"/>
                  </a:lnTo>
                  <a:lnTo>
                    <a:pt x="1126" y="986"/>
                  </a:lnTo>
                  <a:lnTo>
                    <a:pt x="1137" y="970"/>
                  </a:lnTo>
                  <a:lnTo>
                    <a:pt x="1146" y="955"/>
                  </a:lnTo>
                  <a:lnTo>
                    <a:pt x="1158" y="944"/>
                  </a:lnTo>
                  <a:lnTo>
                    <a:pt x="1162" y="933"/>
                  </a:lnTo>
                  <a:lnTo>
                    <a:pt x="1160" y="920"/>
                  </a:lnTo>
                  <a:lnTo>
                    <a:pt x="1157" y="910"/>
                  </a:lnTo>
                  <a:lnTo>
                    <a:pt x="1152" y="899"/>
                  </a:lnTo>
                  <a:lnTo>
                    <a:pt x="1146" y="894"/>
                  </a:lnTo>
                  <a:lnTo>
                    <a:pt x="1140" y="891"/>
                  </a:lnTo>
                  <a:lnTo>
                    <a:pt x="1132" y="889"/>
                  </a:lnTo>
                  <a:lnTo>
                    <a:pt x="1124" y="889"/>
                  </a:lnTo>
                  <a:lnTo>
                    <a:pt x="1115" y="889"/>
                  </a:lnTo>
                  <a:lnTo>
                    <a:pt x="1107" y="889"/>
                  </a:lnTo>
                  <a:lnTo>
                    <a:pt x="1099" y="889"/>
                  </a:lnTo>
                  <a:lnTo>
                    <a:pt x="1092" y="889"/>
                  </a:lnTo>
                  <a:lnTo>
                    <a:pt x="1098" y="872"/>
                  </a:lnTo>
                  <a:lnTo>
                    <a:pt x="1098" y="854"/>
                  </a:lnTo>
                  <a:lnTo>
                    <a:pt x="1095" y="836"/>
                  </a:lnTo>
                  <a:lnTo>
                    <a:pt x="1090" y="818"/>
                  </a:lnTo>
                  <a:lnTo>
                    <a:pt x="1082" y="808"/>
                  </a:lnTo>
                  <a:lnTo>
                    <a:pt x="1073" y="801"/>
                  </a:lnTo>
                  <a:lnTo>
                    <a:pt x="1060" y="794"/>
                  </a:lnTo>
                  <a:lnTo>
                    <a:pt x="1048" y="793"/>
                  </a:lnTo>
                  <a:lnTo>
                    <a:pt x="1039" y="810"/>
                  </a:lnTo>
                  <a:lnTo>
                    <a:pt x="1034" y="830"/>
                  </a:lnTo>
                  <a:lnTo>
                    <a:pt x="1029" y="849"/>
                  </a:lnTo>
                  <a:lnTo>
                    <a:pt x="1025" y="869"/>
                  </a:lnTo>
                  <a:lnTo>
                    <a:pt x="1018" y="888"/>
                  </a:lnTo>
                  <a:lnTo>
                    <a:pt x="1009" y="905"/>
                  </a:lnTo>
                  <a:lnTo>
                    <a:pt x="997" y="920"/>
                  </a:lnTo>
                  <a:lnTo>
                    <a:pt x="978" y="933"/>
                  </a:lnTo>
                  <a:lnTo>
                    <a:pt x="972" y="945"/>
                  </a:lnTo>
                  <a:lnTo>
                    <a:pt x="967" y="959"/>
                  </a:lnTo>
                  <a:lnTo>
                    <a:pt x="962" y="975"/>
                  </a:lnTo>
                  <a:lnTo>
                    <a:pt x="958" y="989"/>
                  </a:lnTo>
                  <a:lnTo>
                    <a:pt x="950" y="1001"/>
                  </a:lnTo>
                  <a:lnTo>
                    <a:pt x="941" y="1014"/>
                  </a:lnTo>
                  <a:lnTo>
                    <a:pt x="930" y="1023"/>
                  </a:lnTo>
                  <a:lnTo>
                    <a:pt x="913" y="1029"/>
                  </a:lnTo>
                  <a:lnTo>
                    <a:pt x="900" y="1029"/>
                  </a:lnTo>
                  <a:lnTo>
                    <a:pt x="888" y="1029"/>
                  </a:lnTo>
                  <a:lnTo>
                    <a:pt x="875" y="1025"/>
                  </a:lnTo>
                  <a:lnTo>
                    <a:pt x="868" y="1015"/>
                  </a:lnTo>
                  <a:lnTo>
                    <a:pt x="864" y="987"/>
                  </a:lnTo>
                  <a:lnTo>
                    <a:pt x="866" y="959"/>
                  </a:lnTo>
                  <a:lnTo>
                    <a:pt x="874" y="934"/>
                  </a:lnTo>
                  <a:lnTo>
                    <a:pt x="882" y="910"/>
                  </a:lnTo>
                  <a:lnTo>
                    <a:pt x="889" y="885"/>
                  </a:lnTo>
                  <a:lnTo>
                    <a:pt x="892" y="860"/>
                  </a:lnTo>
                  <a:lnTo>
                    <a:pt x="892" y="835"/>
                  </a:lnTo>
                  <a:lnTo>
                    <a:pt x="883" y="808"/>
                  </a:lnTo>
                  <a:lnTo>
                    <a:pt x="877" y="802"/>
                  </a:lnTo>
                  <a:lnTo>
                    <a:pt x="875" y="794"/>
                  </a:lnTo>
                  <a:lnTo>
                    <a:pt x="877" y="788"/>
                  </a:lnTo>
                  <a:lnTo>
                    <a:pt x="878" y="782"/>
                  </a:lnTo>
                  <a:lnTo>
                    <a:pt x="885" y="770"/>
                  </a:lnTo>
                  <a:lnTo>
                    <a:pt x="894" y="757"/>
                  </a:lnTo>
                  <a:lnTo>
                    <a:pt x="902" y="746"/>
                  </a:lnTo>
                  <a:lnTo>
                    <a:pt x="910" y="734"/>
                  </a:lnTo>
                  <a:lnTo>
                    <a:pt x="916" y="721"/>
                  </a:lnTo>
                  <a:lnTo>
                    <a:pt x="920" y="709"/>
                  </a:lnTo>
                  <a:lnTo>
                    <a:pt x="920" y="695"/>
                  </a:lnTo>
                  <a:lnTo>
                    <a:pt x="917" y="679"/>
                  </a:lnTo>
                  <a:lnTo>
                    <a:pt x="908" y="661"/>
                  </a:lnTo>
                  <a:lnTo>
                    <a:pt x="894" y="647"/>
                  </a:lnTo>
                  <a:lnTo>
                    <a:pt x="877" y="637"/>
                  </a:lnTo>
                  <a:lnTo>
                    <a:pt x="860" y="630"/>
                  </a:lnTo>
                  <a:lnTo>
                    <a:pt x="841" y="623"/>
                  </a:lnTo>
                  <a:lnTo>
                    <a:pt x="826" y="614"/>
                  </a:lnTo>
                  <a:lnTo>
                    <a:pt x="813" y="602"/>
                  </a:lnTo>
                  <a:lnTo>
                    <a:pt x="805" y="583"/>
                  </a:lnTo>
                  <a:lnTo>
                    <a:pt x="801" y="556"/>
                  </a:lnTo>
                  <a:lnTo>
                    <a:pt x="804" y="532"/>
                  </a:lnTo>
                  <a:lnTo>
                    <a:pt x="812" y="508"/>
                  </a:lnTo>
                  <a:lnTo>
                    <a:pt x="822" y="485"/>
                  </a:lnTo>
                  <a:lnTo>
                    <a:pt x="835" y="463"/>
                  </a:lnTo>
                  <a:lnTo>
                    <a:pt x="850" y="443"/>
                  </a:lnTo>
                  <a:lnTo>
                    <a:pt x="864" y="421"/>
                  </a:lnTo>
                  <a:lnTo>
                    <a:pt x="877" y="399"/>
                  </a:lnTo>
                  <a:lnTo>
                    <a:pt x="880" y="379"/>
                  </a:lnTo>
                  <a:lnTo>
                    <a:pt x="878" y="359"/>
                  </a:lnTo>
                  <a:lnTo>
                    <a:pt x="871" y="342"/>
                  </a:lnTo>
                  <a:lnTo>
                    <a:pt x="860" y="325"/>
                  </a:lnTo>
                  <a:lnTo>
                    <a:pt x="843" y="309"/>
                  </a:lnTo>
                  <a:lnTo>
                    <a:pt x="826" y="298"/>
                  </a:lnTo>
                  <a:lnTo>
                    <a:pt x="807" y="290"/>
                  </a:lnTo>
                  <a:lnTo>
                    <a:pt x="787" y="284"/>
                  </a:lnTo>
                  <a:lnTo>
                    <a:pt x="765" y="281"/>
                  </a:lnTo>
                  <a:lnTo>
                    <a:pt x="743" y="280"/>
                  </a:lnTo>
                  <a:lnTo>
                    <a:pt x="721" y="278"/>
                  </a:lnTo>
                  <a:lnTo>
                    <a:pt x="700" y="278"/>
                  </a:lnTo>
                  <a:lnTo>
                    <a:pt x="684" y="263"/>
                  </a:lnTo>
                  <a:lnTo>
                    <a:pt x="668" y="245"/>
                  </a:lnTo>
                  <a:lnTo>
                    <a:pt x="654" y="228"/>
                  </a:lnTo>
                  <a:lnTo>
                    <a:pt x="639" y="211"/>
                  </a:lnTo>
                  <a:lnTo>
                    <a:pt x="625" y="194"/>
                  </a:lnTo>
                  <a:lnTo>
                    <a:pt x="608" y="179"/>
                  </a:lnTo>
                  <a:lnTo>
                    <a:pt x="589" y="166"/>
                  </a:lnTo>
                  <a:lnTo>
                    <a:pt x="569" y="155"/>
                  </a:lnTo>
                  <a:lnTo>
                    <a:pt x="561" y="147"/>
                  </a:lnTo>
                  <a:lnTo>
                    <a:pt x="555" y="138"/>
                  </a:lnTo>
                  <a:lnTo>
                    <a:pt x="549" y="129"/>
                  </a:lnTo>
                  <a:lnTo>
                    <a:pt x="544" y="118"/>
                  </a:lnTo>
                  <a:lnTo>
                    <a:pt x="539" y="109"/>
                  </a:lnTo>
                  <a:lnTo>
                    <a:pt x="535" y="99"/>
                  </a:lnTo>
                  <a:lnTo>
                    <a:pt x="529" y="90"/>
                  </a:lnTo>
                  <a:lnTo>
                    <a:pt x="521" y="82"/>
                  </a:lnTo>
                  <a:lnTo>
                    <a:pt x="519" y="76"/>
                  </a:lnTo>
                  <a:lnTo>
                    <a:pt x="515" y="71"/>
                  </a:lnTo>
                  <a:lnTo>
                    <a:pt x="507" y="67"/>
                  </a:lnTo>
                  <a:lnTo>
                    <a:pt x="501" y="62"/>
                  </a:lnTo>
                  <a:lnTo>
                    <a:pt x="480" y="71"/>
                  </a:lnTo>
                  <a:lnTo>
                    <a:pt x="460" y="77"/>
                  </a:lnTo>
                  <a:lnTo>
                    <a:pt x="443" y="82"/>
                  </a:lnTo>
                  <a:lnTo>
                    <a:pt x="426" y="87"/>
                  </a:lnTo>
                  <a:lnTo>
                    <a:pt x="409" y="90"/>
                  </a:lnTo>
                  <a:lnTo>
                    <a:pt x="395" y="95"/>
                  </a:lnTo>
                  <a:lnTo>
                    <a:pt x="381" y="99"/>
                  </a:lnTo>
                  <a:lnTo>
                    <a:pt x="367" y="105"/>
                  </a:lnTo>
                  <a:lnTo>
                    <a:pt x="345" y="109"/>
                  </a:lnTo>
                  <a:lnTo>
                    <a:pt x="325" y="107"/>
                  </a:lnTo>
                  <a:lnTo>
                    <a:pt x="305" y="104"/>
                  </a:lnTo>
                  <a:lnTo>
                    <a:pt x="286" y="98"/>
                  </a:lnTo>
                  <a:lnTo>
                    <a:pt x="266" y="91"/>
                  </a:lnTo>
                  <a:lnTo>
                    <a:pt x="247" y="85"/>
                  </a:lnTo>
                  <a:lnTo>
                    <a:pt x="227" y="82"/>
                  </a:lnTo>
                  <a:lnTo>
                    <a:pt x="205" y="82"/>
                  </a:lnTo>
                  <a:lnTo>
                    <a:pt x="179" y="79"/>
                  </a:lnTo>
                  <a:lnTo>
                    <a:pt x="151" y="85"/>
                  </a:lnTo>
                  <a:lnTo>
                    <a:pt x="123" y="93"/>
                  </a:lnTo>
                  <a:lnTo>
                    <a:pt x="96" y="102"/>
                  </a:lnTo>
                  <a:lnTo>
                    <a:pt x="71" y="107"/>
                  </a:lnTo>
                  <a:lnTo>
                    <a:pt x="49" y="105"/>
                  </a:lnTo>
                  <a:lnTo>
                    <a:pt x="31" y="91"/>
                  </a:lnTo>
                  <a:lnTo>
                    <a:pt x="17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7" y="35"/>
                  </a:lnTo>
                  <a:lnTo>
                    <a:pt x="0" y="28"/>
                  </a:lnTo>
                  <a:lnTo>
                    <a:pt x="26" y="21"/>
                  </a:lnTo>
                  <a:lnTo>
                    <a:pt x="54" y="15"/>
                  </a:lnTo>
                  <a:lnTo>
                    <a:pt x="81" y="11"/>
                  </a:lnTo>
                  <a:lnTo>
                    <a:pt x="107" y="7"/>
                  </a:lnTo>
                  <a:lnTo>
                    <a:pt x="135" y="4"/>
                  </a:lnTo>
                  <a:lnTo>
                    <a:pt x="161" y="3"/>
                  </a:lnTo>
                  <a:lnTo>
                    <a:pt x="188" y="1"/>
                  </a:lnTo>
                  <a:lnTo>
                    <a:pt x="214" y="0"/>
                  </a:lnTo>
                  <a:lnTo>
                    <a:pt x="241" y="0"/>
                  </a:lnTo>
                  <a:lnTo>
                    <a:pt x="266" y="1"/>
                  </a:lnTo>
                  <a:lnTo>
                    <a:pt x="292" y="3"/>
                  </a:lnTo>
                  <a:lnTo>
                    <a:pt x="319" y="4"/>
                  </a:lnTo>
                  <a:lnTo>
                    <a:pt x="343" y="7"/>
                  </a:lnTo>
                  <a:lnTo>
                    <a:pt x="370" y="12"/>
                  </a:lnTo>
                  <a:lnTo>
                    <a:pt x="395" y="17"/>
                  </a:lnTo>
                  <a:lnTo>
                    <a:pt x="420" y="21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8880" y="83880"/>
              <a:ext cx="836640" cy="807120"/>
            </a:xfrm>
            <a:custGeom>
              <a:avLst/>
              <a:gdLst/>
              <a:ahLst/>
              <a:rect l="l" t="t" r="r" b="b"/>
              <a:pathLst>
                <a:path w="1323" h="1524">
                  <a:moveTo>
                    <a:pt x="273" y="107"/>
                  </a:moveTo>
                  <a:lnTo>
                    <a:pt x="287" y="101"/>
                  </a:lnTo>
                  <a:lnTo>
                    <a:pt x="303" y="95"/>
                  </a:lnTo>
                  <a:lnTo>
                    <a:pt x="319" y="90"/>
                  </a:lnTo>
                  <a:lnTo>
                    <a:pt x="334" y="85"/>
                  </a:lnTo>
                  <a:lnTo>
                    <a:pt x="351" y="82"/>
                  </a:lnTo>
                  <a:lnTo>
                    <a:pt x="367" y="81"/>
                  </a:lnTo>
                  <a:lnTo>
                    <a:pt x="384" y="79"/>
                  </a:lnTo>
                  <a:lnTo>
                    <a:pt x="401" y="79"/>
                  </a:lnTo>
                  <a:lnTo>
                    <a:pt x="418" y="79"/>
                  </a:lnTo>
                  <a:lnTo>
                    <a:pt x="434" y="81"/>
                  </a:lnTo>
                  <a:lnTo>
                    <a:pt x="451" y="82"/>
                  </a:lnTo>
                  <a:lnTo>
                    <a:pt x="468" y="85"/>
                  </a:lnTo>
                  <a:lnTo>
                    <a:pt x="483" y="90"/>
                  </a:lnTo>
                  <a:lnTo>
                    <a:pt x="499" y="95"/>
                  </a:lnTo>
                  <a:lnTo>
                    <a:pt x="515" y="99"/>
                  </a:lnTo>
                  <a:lnTo>
                    <a:pt x="530" y="106"/>
                  </a:lnTo>
                  <a:lnTo>
                    <a:pt x="553" y="104"/>
                  </a:lnTo>
                  <a:lnTo>
                    <a:pt x="575" y="98"/>
                  </a:lnTo>
                  <a:lnTo>
                    <a:pt x="595" y="89"/>
                  </a:lnTo>
                  <a:lnTo>
                    <a:pt x="617" y="79"/>
                  </a:lnTo>
                  <a:lnTo>
                    <a:pt x="637" y="70"/>
                  </a:lnTo>
                  <a:lnTo>
                    <a:pt x="658" y="62"/>
                  </a:lnTo>
                  <a:lnTo>
                    <a:pt x="679" y="57"/>
                  </a:lnTo>
                  <a:lnTo>
                    <a:pt x="703" y="57"/>
                  </a:lnTo>
                  <a:lnTo>
                    <a:pt x="711" y="87"/>
                  </a:lnTo>
                  <a:lnTo>
                    <a:pt x="726" y="110"/>
                  </a:lnTo>
                  <a:lnTo>
                    <a:pt x="748" y="132"/>
                  </a:lnTo>
                  <a:lnTo>
                    <a:pt x="771" y="151"/>
                  </a:lnTo>
                  <a:lnTo>
                    <a:pt x="796" y="169"/>
                  </a:lnTo>
                  <a:lnTo>
                    <a:pt x="819" y="190"/>
                  </a:lnTo>
                  <a:lnTo>
                    <a:pt x="840" y="211"/>
                  </a:lnTo>
                  <a:lnTo>
                    <a:pt x="854" y="238"/>
                  </a:lnTo>
                  <a:lnTo>
                    <a:pt x="874" y="264"/>
                  </a:lnTo>
                  <a:lnTo>
                    <a:pt x="903" y="277"/>
                  </a:lnTo>
                  <a:lnTo>
                    <a:pt x="936" y="281"/>
                  </a:lnTo>
                  <a:lnTo>
                    <a:pt x="970" y="283"/>
                  </a:lnTo>
                  <a:lnTo>
                    <a:pt x="1001" y="288"/>
                  </a:lnTo>
                  <a:lnTo>
                    <a:pt x="1025" y="297"/>
                  </a:lnTo>
                  <a:lnTo>
                    <a:pt x="1039" y="319"/>
                  </a:lnTo>
                  <a:lnTo>
                    <a:pt x="1039" y="358"/>
                  </a:lnTo>
                  <a:lnTo>
                    <a:pt x="1009" y="404"/>
                  </a:lnTo>
                  <a:lnTo>
                    <a:pt x="1012" y="387"/>
                  </a:lnTo>
                  <a:lnTo>
                    <a:pt x="1011" y="368"/>
                  </a:lnTo>
                  <a:lnTo>
                    <a:pt x="1006" y="351"/>
                  </a:lnTo>
                  <a:lnTo>
                    <a:pt x="998" y="336"/>
                  </a:lnTo>
                  <a:lnTo>
                    <a:pt x="989" y="326"/>
                  </a:lnTo>
                  <a:lnTo>
                    <a:pt x="978" y="322"/>
                  </a:lnTo>
                  <a:lnTo>
                    <a:pt x="966" y="322"/>
                  </a:lnTo>
                  <a:lnTo>
                    <a:pt x="953" y="322"/>
                  </a:lnTo>
                  <a:lnTo>
                    <a:pt x="942" y="325"/>
                  </a:lnTo>
                  <a:lnTo>
                    <a:pt x="930" y="330"/>
                  </a:lnTo>
                  <a:lnTo>
                    <a:pt x="919" y="334"/>
                  </a:lnTo>
                  <a:lnTo>
                    <a:pt x="908" y="337"/>
                  </a:lnTo>
                  <a:lnTo>
                    <a:pt x="899" y="344"/>
                  </a:lnTo>
                  <a:lnTo>
                    <a:pt x="889" y="350"/>
                  </a:lnTo>
                  <a:lnTo>
                    <a:pt x="882" y="359"/>
                  </a:lnTo>
                  <a:lnTo>
                    <a:pt x="875" y="368"/>
                  </a:lnTo>
                  <a:lnTo>
                    <a:pt x="869" y="378"/>
                  </a:lnTo>
                  <a:lnTo>
                    <a:pt x="866" y="387"/>
                  </a:lnTo>
                  <a:lnTo>
                    <a:pt x="861" y="398"/>
                  </a:lnTo>
                  <a:lnTo>
                    <a:pt x="860" y="409"/>
                  </a:lnTo>
                  <a:lnTo>
                    <a:pt x="872" y="440"/>
                  </a:lnTo>
                  <a:lnTo>
                    <a:pt x="882" y="471"/>
                  </a:lnTo>
                  <a:lnTo>
                    <a:pt x="889" y="504"/>
                  </a:lnTo>
                  <a:lnTo>
                    <a:pt x="899" y="536"/>
                  </a:lnTo>
                  <a:lnTo>
                    <a:pt x="903" y="544"/>
                  </a:lnTo>
                  <a:lnTo>
                    <a:pt x="908" y="552"/>
                  </a:lnTo>
                  <a:lnTo>
                    <a:pt x="913" y="561"/>
                  </a:lnTo>
                  <a:lnTo>
                    <a:pt x="919" y="569"/>
                  </a:lnTo>
                  <a:lnTo>
                    <a:pt x="925" y="575"/>
                  </a:lnTo>
                  <a:lnTo>
                    <a:pt x="934" y="580"/>
                  </a:lnTo>
                  <a:lnTo>
                    <a:pt x="942" y="583"/>
                  </a:lnTo>
                  <a:lnTo>
                    <a:pt x="953" y="583"/>
                  </a:lnTo>
                  <a:lnTo>
                    <a:pt x="964" y="569"/>
                  </a:lnTo>
                  <a:lnTo>
                    <a:pt x="970" y="552"/>
                  </a:lnTo>
                  <a:lnTo>
                    <a:pt x="972" y="535"/>
                  </a:lnTo>
                  <a:lnTo>
                    <a:pt x="973" y="518"/>
                  </a:lnTo>
                  <a:lnTo>
                    <a:pt x="975" y="536"/>
                  </a:lnTo>
                  <a:lnTo>
                    <a:pt x="978" y="555"/>
                  </a:lnTo>
                  <a:lnTo>
                    <a:pt x="983" y="574"/>
                  </a:lnTo>
                  <a:lnTo>
                    <a:pt x="994" y="589"/>
                  </a:lnTo>
                  <a:lnTo>
                    <a:pt x="1006" y="602"/>
                  </a:lnTo>
                  <a:lnTo>
                    <a:pt x="1022" y="611"/>
                  </a:lnTo>
                  <a:lnTo>
                    <a:pt x="1039" y="617"/>
                  </a:lnTo>
                  <a:lnTo>
                    <a:pt x="1057" y="624"/>
                  </a:lnTo>
                  <a:lnTo>
                    <a:pt x="1071" y="631"/>
                  </a:lnTo>
                  <a:lnTo>
                    <a:pt x="1082" y="642"/>
                  </a:lnTo>
                  <a:lnTo>
                    <a:pt x="1085" y="659"/>
                  </a:lnTo>
                  <a:lnTo>
                    <a:pt x="1081" y="683"/>
                  </a:lnTo>
                  <a:lnTo>
                    <a:pt x="1065" y="701"/>
                  </a:lnTo>
                  <a:lnTo>
                    <a:pt x="1051" y="723"/>
                  </a:lnTo>
                  <a:lnTo>
                    <a:pt x="1043" y="745"/>
                  </a:lnTo>
                  <a:lnTo>
                    <a:pt x="1043" y="770"/>
                  </a:lnTo>
                  <a:lnTo>
                    <a:pt x="1054" y="782"/>
                  </a:lnTo>
                  <a:lnTo>
                    <a:pt x="1059" y="799"/>
                  </a:lnTo>
                  <a:lnTo>
                    <a:pt x="1057" y="816"/>
                  </a:lnTo>
                  <a:lnTo>
                    <a:pt x="1056" y="834"/>
                  </a:lnTo>
                  <a:lnTo>
                    <a:pt x="1045" y="871"/>
                  </a:lnTo>
                  <a:lnTo>
                    <a:pt x="1037" y="908"/>
                  </a:lnTo>
                  <a:lnTo>
                    <a:pt x="1036" y="947"/>
                  </a:lnTo>
                  <a:lnTo>
                    <a:pt x="1039" y="987"/>
                  </a:lnTo>
                  <a:lnTo>
                    <a:pt x="1043" y="995"/>
                  </a:lnTo>
                  <a:lnTo>
                    <a:pt x="1048" y="1001"/>
                  </a:lnTo>
                  <a:lnTo>
                    <a:pt x="1054" y="1006"/>
                  </a:lnTo>
                  <a:lnTo>
                    <a:pt x="1062" y="1011"/>
                  </a:lnTo>
                  <a:lnTo>
                    <a:pt x="1068" y="1015"/>
                  </a:lnTo>
                  <a:lnTo>
                    <a:pt x="1074" y="1019"/>
                  </a:lnTo>
                  <a:lnTo>
                    <a:pt x="1082" y="1023"/>
                  </a:lnTo>
                  <a:lnTo>
                    <a:pt x="1088" y="1026"/>
                  </a:lnTo>
                  <a:lnTo>
                    <a:pt x="1099" y="1026"/>
                  </a:lnTo>
                  <a:lnTo>
                    <a:pt x="1109" y="1026"/>
                  </a:lnTo>
                  <a:lnTo>
                    <a:pt x="1118" y="1025"/>
                  </a:lnTo>
                  <a:lnTo>
                    <a:pt x="1127" y="1023"/>
                  </a:lnTo>
                  <a:lnTo>
                    <a:pt x="1135" y="1022"/>
                  </a:lnTo>
                  <a:lnTo>
                    <a:pt x="1143" y="1017"/>
                  </a:lnTo>
                  <a:lnTo>
                    <a:pt x="1151" y="1012"/>
                  </a:lnTo>
                  <a:lnTo>
                    <a:pt x="1158" y="1006"/>
                  </a:lnTo>
                  <a:lnTo>
                    <a:pt x="1169" y="991"/>
                  </a:lnTo>
                  <a:lnTo>
                    <a:pt x="1180" y="975"/>
                  </a:lnTo>
                  <a:lnTo>
                    <a:pt x="1188" y="958"/>
                  </a:lnTo>
                  <a:lnTo>
                    <a:pt x="1196" y="939"/>
                  </a:lnTo>
                  <a:lnTo>
                    <a:pt x="1205" y="924"/>
                  </a:lnTo>
                  <a:lnTo>
                    <a:pt x="1214" y="907"/>
                  </a:lnTo>
                  <a:lnTo>
                    <a:pt x="1228" y="893"/>
                  </a:lnTo>
                  <a:lnTo>
                    <a:pt x="1244" y="879"/>
                  </a:lnTo>
                  <a:lnTo>
                    <a:pt x="1263" y="804"/>
                  </a:lnTo>
                  <a:lnTo>
                    <a:pt x="1264" y="824"/>
                  </a:lnTo>
                  <a:lnTo>
                    <a:pt x="1260" y="849"/>
                  </a:lnTo>
                  <a:lnTo>
                    <a:pt x="1263" y="874"/>
                  </a:lnTo>
                  <a:lnTo>
                    <a:pt x="1283" y="890"/>
                  </a:lnTo>
                  <a:lnTo>
                    <a:pt x="1323" y="893"/>
                  </a:lnTo>
                  <a:lnTo>
                    <a:pt x="1286" y="947"/>
                  </a:lnTo>
                  <a:lnTo>
                    <a:pt x="1274" y="945"/>
                  </a:lnTo>
                  <a:lnTo>
                    <a:pt x="1261" y="945"/>
                  </a:lnTo>
                  <a:lnTo>
                    <a:pt x="1249" y="949"/>
                  </a:lnTo>
                  <a:lnTo>
                    <a:pt x="1236" y="952"/>
                  </a:lnTo>
                  <a:lnTo>
                    <a:pt x="1225" y="958"/>
                  </a:lnTo>
                  <a:lnTo>
                    <a:pt x="1214" y="966"/>
                  </a:lnTo>
                  <a:lnTo>
                    <a:pt x="1207" y="975"/>
                  </a:lnTo>
                  <a:lnTo>
                    <a:pt x="1200" y="987"/>
                  </a:lnTo>
                  <a:lnTo>
                    <a:pt x="1193" y="1003"/>
                  </a:lnTo>
                  <a:lnTo>
                    <a:pt x="1185" y="1019"/>
                  </a:lnTo>
                  <a:lnTo>
                    <a:pt x="1176" y="1033"/>
                  </a:lnTo>
                  <a:lnTo>
                    <a:pt x="1160" y="1039"/>
                  </a:lnTo>
                  <a:lnTo>
                    <a:pt x="1140" y="1040"/>
                  </a:lnTo>
                  <a:lnTo>
                    <a:pt x="1120" y="1040"/>
                  </a:lnTo>
                  <a:lnTo>
                    <a:pt x="1098" y="1042"/>
                  </a:lnTo>
                  <a:lnTo>
                    <a:pt x="1076" y="1045"/>
                  </a:lnTo>
                  <a:lnTo>
                    <a:pt x="1057" y="1051"/>
                  </a:lnTo>
                  <a:lnTo>
                    <a:pt x="1039" y="1062"/>
                  </a:lnTo>
                  <a:lnTo>
                    <a:pt x="1025" y="1078"/>
                  </a:lnTo>
                  <a:lnTo>
                    <a:pt x="1014" y="1098"/>
                  </a:lnTo>
                  <a:lnTo>
                    <a:pt x="1008" y="1124"/>
                  </a:lnTo>
                  <a:lnTo>
                    <a:pt x="1008" y="1152"/>
                  </a:lnTo>
                  <a:lnTo>
                    <a:pt x="1006" y="1179"/>
                  </a:lnTo>
                  <a:lnTo>
                    <a:pt x="994" y="1202"/>
                  </a:lnTo>
                  <a:lnTo>
                    <a:pt x="995" y="1227"/>
                  </a:lnTo>
                  <a:lnTo>
                    <a:pt x="1003" y="1249"/>
                  </a:lnTo>
                  <a:lnTo>
                    <a:pt x="1015" y="1269"/>
                  </a:lnTo>
                  <a:lnTo>
                    <a:pt x="1029" y="1288"/>
                  </a:lnTo>
                  <a:lnTo>
                    <a:pt x="1020" y="1294"/>
                  </a:lnTo>
                  <a:lnTo>
                    <a:pt x="1011" y="1297"/>
                  </a:lnTo>
                  <a:lnTo>
                    <a:pt x="1000" y="1300"/>
                  </a:lnTo>
                  <a:lnTo>
                    <a:pt x="989" y="1303"/>
                  </a:lnTo>
                  <a:lnTo>
                    <a:pt x="987" y="1275"/>
                  </a:lnTo>
                  <a:lnTo>
                    <a:pt x="984" y="1249"/>
                  </a:lnTo>
                  <a:lnTo>
                    <a:pt x="980" y="1222"/>
                  </a:lnTo>
                  <a:lnTo>
                    <a:pt x="973" y="1197"/>
                  </a:lnTo>
                  <a:lnTo>
                    <a:pt x="964" y="1173"/>
                  </a:lnTo>
                  <a:lnTo>
                    <a:pt x="952" y="1148"/>
                  </a:lnTo>
                  <a:lnTo>
                    <a:pt x="939" y="1124"/>
                  </a:lnTo>
                  <a:lnTo>
                    <a:pt x="924" y="1103"/>
                  </a:lnTo>
                  <a:lnTo>
                    <a:pt x="902" y="1089"/>
                  </a:lnTo>
                  <a:lnTo>
                    <a:pt x="882" y="1073"/>
                  </a:lnTo>
                  <a:lnTo>
                    <a:pt x="860" y="1059"/>
                  </a:lnTo>
                  <a:lnTo>
                    <a:pt x="836" y="1045"/>
                  </a:lnTo>
                  <a:lnTo>
                    <a:pt x="813" y="1034"/>
                  </a:lnTo>
                  <a:lnTo>
                    <a:pt x="790" y="1029"/>
                  </a:lnTo>
                  <a:lnTo>
                    <a:pt x="763" y="1031"/>
                  </a:lnTo>
                  <a:lnTo>
                    <a:pt x="737" y="1040"/>
                  </a:lnTo>
                  <a:lnTo>
                    <a:pt x="726" y="1047"/>
                  </a:lnTo>
                  <a:lnTo>
                    <a:pt x="717" y="1056"/>
                  </a:lnTo>
                  <a:lnTo>
                    <a:pt x="709" y="1068"/>
                  </a:lnTo>
                  <a:lnTo>
                    <a:pt x="704" y="1081"/>
                  </a:lnTo>
                  <a:lnTo>
                    <a:pt x="693" y="1093"/>
                  </a:lnTo>
                  <a:lnTo>
                    <a:pt x="683" y="1107"/>
                  </a:lnTo>
                  <a:lnTo>
                    <a:pt x="672" y="1121"/>
                  </a:lnTo>
                  <a:lnTo>
                    <a:pt x="661" y="1135"/>
                  </a:lnTo>
                  <a:lnTo>
                    <a:pt x="653" y="1151"/>
                  </a:lnTo>
                  <a:lnTo>
                    <a:pt x="645" y="1166"/>
                  </a:lnTo>
                  <a:lnTo>
                    <a:pt x="642" y="1183"/>
                  </a:lnTo>
                  <a:lnTo>
                    <a:pt x="641" y="1201"/>
                  </a:lnTo>
                  <a:lnTo>
                    <a:pt x="662" y="1224"/>
                  </a:lnTo>
                  <a:lnTo>
                    <a:pt x="670" y="1255"/>
                  </a:lnTo>
                  <a:lnTo>
                    <a:pt x="673" y="1288"/>
                  </a:lnTo>
                  <a:lnTo>
                    <a:pt x="686" y="1317"/>
                  </a:lnTo>
                  <a:lnTo>
                    <a:pt x="693" y="1325"/>
                  </a:lnTo>
                  <a:lnTo>
                    <a:pt x="701" y="1331"/>
                  </a:lnTo>
                  <a:lnTo>
                    <a:pt x="711" y="1336"/>
                  </a:lnTo>
                  <a:lnTo>
                    <a:pt x="720" y="1339"/>
                  </a:lnTo>
                  <a:lnTo>
                    <a:pt x="731" y="1342"/>
                  </a:lnTo>
                  <a:lnTo>
                    <a:pt x="740" y="1344"/>
                  </a:lnTo>
                  <a:lnTo>
                    <a:pt x="751" y="1345"/>
                  </a:lnTo>
                  <a:lnTo>
                    <a:pt x="760" y="1347"/>
                  </a:lnTo>
                  <a:lnTo>
                    <a:pt x="745" y="1356"/>
                  </a:lnTo>
                  <a:lnTo>
                    <a:pt x="729" y="1365"/>
                  </a:lnTo>
                  <a:lnTo>
                    <a:pt x="714" y="1373"/>
                  </a:lnTo>
                  <a:lnTo>
                    <a:pt x="698" y="1383"/>
                  </a:lnTo>
                  <a:lnTo>
                    <a:pt x="683" y="1390"/>
                  </a:lnTo>
                  <a:lnTo>
                    <a:pt x="667" y="1398"/>
                  </a:lnTo>
                  <a:lnTo>
                    <a:pt x="651" y="1406"/>
                  </a:lnTo>
                  <a:lnTo>
                    <a:pt x="636" y="1414"/>
                  </a:lnTo>
                  <a:lnTo>
                    <a:pt x="619" y="1421"/>
                  </a:lnTo>
                  <a:lnTo>
                    <a:pt x="603" y="1428"/>
                  </a:lnTo>
                  <a:lnTo>
                    <a:pt x="586" y="1435"/>
                  </a:lnTo>
                  <a:lnTo>
                    <a:pt x="571" y="1443"/>
                  </a:lnTo>
                  <a:lnTo>
                    <a:pt x="553" y="1449"/>
                  </a:lnTo>
                  <a:lnTo>
                    <a:pt x="538" y="1457"/>
                  </a:lnTo>
                  <a:lnTo>
                    <a:pt x="521" y="1463"/>
                  </a:lnTo>
                  <a:lnTo>
                    <a:pt x="505" y="1471"/>
                  </a:lnTo>
                  <a:lnTo>
                    <a:pt x="491" y="1473"/>
                  </a:lnTo>
                  <a:lnTo>
                    <a:pt x="477" y="1476"/>
                  </a:lnTo>
                  <a:lnTo>
                    <a:pt x="462" y="1477"/>
                  </a:lnTo>
                  <a:lnTo>
                    <a:pt x="448" y="1479"/>
                  </a:lnTo>
                  <a:lnTo>
                    <a:pt x="432" y="1482"/>
                  </a:lnTo>
                  <a:lnTo>
                    <a:pt x="418" y="1484"/>
                  </a:lnTo>
                  <a:lnTo>
                    <a:pt x="404" y="1484"/>
                  </a:lnTo>
                  <a:lnTo>
                    <a:pt x="392" y="1485"/>
                  </a:lnTo>
                  <a:lnTo>
                    <a:pt x="384" y="1477"/>
                  </a:lnTo>
                  <a:lnTo>
                    <a:pt x="375" y="1473"/>
                  </a:lnTo>
                  <a:lnTo>
                    <a:pt x="364" y="1468"/>
                  </a:lnTo>
                  <a:lnTo>
                    <a:pt x="353" y="1467"/>
                  </a:lnTo>
                  <a:lnTo>
                    <a:pt x="347" y="1457"/>
                  </a:lnTo>
                  <a:lnTo>
                    <a:pt x="339" y="1451"/>
                  </a:lnTo>
                  <a:lnTo>
                    <a:pt x="329" y="1445"/>
                  </a:lnTo>
                  <a:lnTo>
                    <a:pt x="320" y="1442"/>
                  </a:lnTo>
                  <a:lnTo>
                    <a:pt x="309" y="1439"/>
                  </a:lnTo>
                  <a:lnTo>
                    <a:pt x="298" y="1439"/>
                  </a:lnTo>
                  <a:lnTo>
                    <a:pt x="287" y="1440"/>
                  </a:lnTo>
                  <a:lnTo>
                    <a:pt x="277" y="1442"/>
                  </a:lnTo>
                  <a:lnTo>
                    <a:pt x="269" y="1445"/>
                  </a:lnTo>
                  <a:lnTo>
                    <a:pt x="261" y="1448"/>
                  </a:lnTo>
                  <a:lnTo>
                    <a:pt x="253" y="1453"/>
                  </a:lnTo>
                  <a:lnTo>
                    <a:pt x="247" y="1459"/>
                  </a:lnTo>
                  <a:lnTo>
                    <a:pt x="239" y="1465"/>
                  </a:lnTo>
                  <a:lnTo>
                    <a:pt x="235" y="1471"/>
                  </a:lnTo>
                  <a:lnTo>
                    <a:pt x="230" y="1477"/>
                  </a:lnTo>
                  <a:lnTo>
                    <a:pt x="225" y="1485"/>
                  </a:lnTo>
                  <a:lnTo>
                    <a:pt x="132" y="1524"/>
                  </a:lnTo>
                  <a:lnTo>
                    <a:pt x="113" y="1513"/>
                  </a:lnTo>
                  <a:lnTo>
                    <a:pt x="98" y="1498"/>
                  </a:lnTo>
                  <a:lnTo>
                    <a:pt x="85" y="1482"/>
                  </a:lnTo>
                  <a:lnTo>
                    <a:pt x="73" y="1463"/>
                  </a:lnTo>
                  <a:lnTo>
                    <a:pt x="60" y="1445"/>
                  </a:lnTo>
                  <a:lnTo>
                    <a:pt x="48" y="1426"/>
                  </a:lnTo>
                  <a:lnTo>
                    <a:pt x="34" y="1409"/>
                  </a:lnTo>
                  <a:lnTo>
                    <a:pt x="17" y="1393"/>
                  </a:lnTo>
                  <a:lnTo>
                    <a:pt x="26" y="1376"/>
                  </a:lnTo>
                  <a:lnTo>
                    <a:pt x="34" y="1359"/>
                  </a:lnTo>
                  <a:lnTo>
                    <a:pt x="39" y="1339"/>
                  </a:lnTo>
                  <a:lnTo>
                    <a:pt x="42" y="1320"/>
                  </a:lnTo>
                  <a:lnTo>
                    <a:pt x="46" y="1300"/>
                  </a:lnTo>
                  <a:lnTo>
                    <a:pt x="53" y="1281"/>
                  </a:lnTo>
                  <a:lnTo>
                    <a:pt x="62" y="1263"/>
                  </a:lnTo>
                  <a:lnTo>
                    <a:pt x="74" y="1247"/>
                  </a:lnTo>
                  <a:lnTo>
                    <a:pt x="77" y="1233"/>
                  </a:lnTo>
                  <a:lnTo>
                    <a:pt x="76" y="1219"/>
                  </a:lnTo>
                  <a:lnTo>
                    <a:pt x="68" y="1207"/>
                  </a:lnTo>
                  <a:lnTo>
                    <a:pt x="54" y="1201"/>
                  </a:lnTo>
                  <a:lnTo>
                    <a:pt x="42" y="1194"/>
                  </a:lnTo>
                  <a:lnTo>
                    <a:pt x="31" y="1187"/>
                  </a:lnTo>
                  <a:lnTo>
                    <a:pt x="23" y="1177"/>
                  </a:lnTo>
                  <a:lnTo>
                    <a:pt x="20" y="1163"/>
                  </a:lnTo>
                  <a:lnTo>
                    <a:pt x="32" y="1151"/>
                  </a:lnTo>
                  <a:lnTo>
                    <a:pt x="45" y="1137"/>
                  </a:lnTo>
                  <a:lnTo>
                    <a:pt x="56" y="1123"/>
                  </a:lnTo>
                  <a:lnTo>
                    <a:pt x="65" y="1107"/>
                  </a:lnTo>
                  <a:lnTo>
                    <a:pt x="73" y="1093"/>
                  </a:lnTo>
                  <a:lnTo>
                    <a:pt x="76" y="1076"/>
                  </a:lnTo>
                  <a:lnTo>
                    <a:pt x="76" y="1061"/>
                  </a:lnTo>
                  <a:lnTo>
                    <a:pt x="71" y="1043"/>
                  </a:lnTo>
                  <a:lnTo>
                    <a:pt x="65" y="1037"/>
                  </a:lnTo>
                  <a:lnTo>
                    <a:pt x="59" y="1033"/>
                  </a:lnTo>
                  <a:lnTo>
                    <a:pt x="53" y="1028"/>
                  </a:lnTo>
                  <a:lnTo>
                    <a:pt x="45" y="1026"/>
                  </a:lnTo>
                  <a:lnTo>
                    <a:pt x="37" y="1026"/>
                  </a:lnTo>
                  <a:lnTo>
                    <a:pt x="29" y="1028"/>
                  </a:lnTo>
                  <a:lnTo>
                    <a:pt x="21" y="1029"/>
                  </a:lnTo>
                  <a:lnTo>
                    <a:pt x="14" y="1033"/>
                  </a:lnTo>
                  <a:lnTo>
                    <a:pt x="0" y="1040"/>
                  </a:lnTo>
                  <a:lnTo>
                    <a:pt x="3" y="1028"/>
                  </a:lnTo>
                  <a:lnTo>
                    <a:pt x="12" y="1012"/>
                  </a:lnTo>
                  <a:lnTo>
                    <a:pt x="25" y="998"/>
                  </a:lnTo>
                  <a:lnTo>
                    <a:pt x="42" y="989"/>
                  </a:lnTo>
                  <a:lnTo>
                    <a:pt x="59" y="987"/>
                  </a:lnTo>
                  <a:lnTo>
                    <a:pt x="77" y="986"/>
                  </a:lnTo>
                  <a:lnTo>
                    <a:pt x="96" y="983"/>
                  </a:lnTo>
                  <a:lnTo>
                    <a:pt x="113" y="980"/>
                  </a:lnTo>
                  <a:lnTo>
                    <a:pt x="129" y="973"/>
                  </a:lnTo>
                  <a:lnTo>
                    <a:pt x="144" y="966"/>
                  </a:lnTo>
                  <a:lnTo>
                    <a:pt x="155" y="952"/>
                  </a:lnTo>
                  <a:lnTo>
                    <a:pt x="165" y="935"/>
                  </a:lnTo>
                  <a:lnTo>
                    <a:pt x="168" y="925"/>
                  </a:lnTo>
                  <a:lnTo>
                    <a:pt x="171" y="914"/>
                  </a:lnTo>
                  <a:lnTo>
                    <a:pt x="174" y="905"/>
                  </a:lnTo>
                  <a:lnTo>
                    <a:pt x="179" y="896"/>
                  </a:lnTo>
                  <a:lnTo>
                    <a:pt x="185" y="886"/>
                  </a:lnTo>
                  <a:lnTo>
                    <a:pt x="193" y="879"/>
                  </a:lnTo>
                  <a:lnTo>
                    <a:pt x="200" y="872"/>
                  </a:lnTo>
                  <a:lnTo>
                    <a:pt x="211" y="868"/>
                  </a:lnTo>
                  <a:lnTo>
                    <a:pt x="225" y="869"/>
                  </a:lnTo>
                  <a:lnTo>
                    <a:pt x="239" y="869"/>
                  </a:lnTo>
                  <a:lnTo>
                    <a:pt x="253" y="868"/>
                  </a:lnTo>
                  <a:lnTo>
                    <a:pt x="266" y="863"/>
                  </a:lnTo>
                  <a:lnTo>
                    <a:pt x="278" y="858"/>
                  </a:lnTo>
                  <a:lnTo>
                    <a:pt x="291" y="849"/>
                  </a:lnTo>
                  <a:lnTo>
                    <a:pt x="301" y="840"/>
                  </a:lnTo>
                  <a:lnTo>
                    <a:pt x="311" y="827"/>
                  </a:lnTo>
                  <a:lnTo>
                    <a:pt x="323" y="826"/>
                  </a:lnTo>
                  <a:lnTo>
                    <a:pt x="331" y="830"/>
                  </a:lnTo>
                  <a:lnTo>
                    <a:pt x="339" y="837"/>
                  </a:lnTo>
                  <a:lnTo>
                    <a:pt x="345" y="844"/>
                  </a:lnTo>
                  <a:lnTo>
                    <a:pt x="351" y="854"/>
                  </a:lnTo>
                  <a:lnTo>
                    <a:pt x="357" y="862"/>
                  </a:lnTo>
                  <a:lnTo>
                    <a:pt x="365" y="866"/>
                  </a:lnTo>
                  <a:lnTo>
                    <a:pt x="376" y="868"/>
                  </a:lnTo>
                  <a:lnTo>
                    <a:pt x="384" y="871"/>
                  </a:lnTo>
                  <a:lnTo>
                    <a:pt x="390" y="871"/>
                  </a:lnTo>
                  <a:lnTo>
                    <a:pt x="398" y="869"/>
                  </a:lnTo>
                  <a:lnTo>
                    <a:pt x="404" y="866"/>
                  </a:lnTo>
                  <a:lnTo>
                    <a:pt x="410" y="862"/>
                  </a:lnTo>
                  <a:lnTo>
                    <a:pt x="415" y="857"/>
                  </a:lnTo>
                  <a:lnTo>
                    <a:pt x="420" y="851"/>
                  </a:lnTo>
                  <a:lnTo>
                    <a:pt x="424" y="844"/>
                  </a:lnTo>
                  <a:lnTo>
                    <a:pt x="423" y="834"/>
                  </a:lnTo>
                  <a:lnTo>
                    <a:pt x="420" y="824"/>
                  </a:lnTo>
                  <a:lnTo>
                    <a:pt x="415" y="815"/>
                  </a:lnTo>
                  <a:lnTo>
                    <a:pt x="410" y="807"/>
                  </a:lnTo>
                  <a:lnTo>
                    <a:pt x="403" y="798"/>
                  </a:lnTo>
                  <a:lnTo>
                    <a:pt x="395" y="792"/>
                  </a:lnTo>
                  <a:lnTo>
                    <a:pt x="387" y="785"/>
                  </a:lnTo>
                  <a:lnTo>
                    <a:pt x="378" y="779"/>
                  </a:lnTo>
                  <a:lnTo>
                    <a:pt x="378" y="768"/>
                  </a:lnTo>
                  <a:lnTo>
                    <a:pt x="384" y="756"/>
                  </a:lnTo>
                  <a:lnTo>
                    <a:pt x="387" y="743"/>
                  </a:lnTo>
                  <a:lnTo>
                    <a:pt x="384" y="731"/>
                  </a:lnTo>
                  <a:lnTo>
                    <a:pt x="375" y="718"/>
                  </a:lnTo>
                  <a:lnTo>
                    <a:pt x="364" y="711"/>
                  </a:lnTo>
                  <a:lnTo>
                    <a:pt x="350" y="706"/>
                  </a:lnTo>
                  <a:lnTo>
                    <a:pt x="337" y="703"/>
                  </a:lnTo>
                  <a:lnTo>
                    <a:pt x="323" y="700"/>
                  </a:lnTo>
                  <a:lnTo>
                    <a:pt x="311" y="695"/>
                  </a:lnTo>
                  <a:lnTo>
                    <a:pt x="300" y="687"/>
                  </a:lnTo>
                  <a:lnTo>
                    <a:pt x="292" y="675"/>
                  </a:lnTo>
                  <a:lnTo>
                    <a:pt x="281" y="652"/>
                  </a:lnTo>
                  <a:lnTo>
                    <a:pt x="272" y="628"/>
                  </a:lnTo>
                  <a:lnTo>
                    <a:pt x="263" y="605"/>
                  </a:lnTo>
                  <a:lnTo>
                    <a:pt x="253" y="582"/>
                  </a:lnTo>
                  <a:lnTo>
                    <a:pt x="241" y="560"/>
                  </a:lnTo>
                  <a:lnTo>
                    <a:pt x="228" y="540"/>
                  </a:lnTo>
                  <a:lnTo>
                    <a:pt x="211" y="521"/>
                  </a:lnTo>
                  <a:lnTo>
                    <a:pt x="191" y="504"/>
                  </a:lnTo>
                  <a:lnTo>
                    <a:pt x="183" y="502"/>
                  </a:lnTo>
                  <a:lnTo>
                    <a:pt x="175" y="502"/>
                  </a:lnTo>
                  <a:lnTo>
                    <a:pt x="169" y="504"/>
                  </a:lnTo>
                  <a:lnTo>
                    <a:pt x="161" y="507"/>
                  </a:lnTo>
                  <a:lnTo>
                    <a:pt x="157" y="510"/>
                  </a:lnTo>
                  <a:lnTo>
                    <a:pt x="151" y="515"/>
                  </a:lnTo>
                  <a:lnTo>
                    <a:pt x="146" y="519"/>
                  </a:lnTo>
                  <a:lnTo>
                    <a:pt x="141" y="526"/>
                  </a:lnTo>
                  <a:lnTo>
                    <a:pt x="137" y="549"/>
                  </a:lnTo>
                  <a:lnTo>
                    <a:pt x="133" y="572"/>
                  </a:lnTo>
                  <a:lnTo>
                    <a:pt x="129" y="594"/>
                  </a:lnTo>
                  <a:lnTo>
                    <a:pt x="116" y="614"/>
                  </a:lnTo>
                  <a:lnTo>
                    <a:pt x="105" y="614"/>
                  </a:lnTo>
                  <a:lnTo>
                    <a:pt x="96" y="619"/>
                  </a:lnTo>
                  <a:lnTo>
                    <a:pt x="87" y="627"/>
                  </a:lnTo>
                  <a:lnTo>
                    <a:pt x="74" y="634"/>
                  </a:lnTo>
                  <a:lnTo>
                    <a:pt x="79" y="606"/>
                  </a:lnTo>
                  <a:lnTo>
                    <a:pt x="77" y="578"/>
                  </a:lnTo>
                  <a:lnTo>
                    <a:pt x="67" y="552"/>
                  </a:lnTo>
                  <a:lnTo>
                    <a:pt x="51" y="529"/>
                  </a:lnTo>
                  <a:lnTo>
                    <a:pt x="56" y="516"/>
                  </a:lnTo>
                  <a:lnTo>
                    <a:pt x="62" y="502"/>
                  </a:lnTo>
                  <a:lnTo>
                    <a:pt x="68" y="490"/>
                  </a:lnTo>
                  <a:lnTo>
                    <a:pt x="77" y="477"/>
                  </a:lnTo>
                  <a:lnTo>
                    <a:pt x="87" y="466"/>
                  </a:lnTo>
                  <a:lnTo>
                    <a:pt x="99" y="457"/>
                  </a:lnTo>
                  <a:lnTo>
                    <a:pt x="112" y="451"/>
                  </a:lnTo>
                  <a:lnTo>
                    <a:pt x="126" y="446"/>
                  </a:lnTo>
                  <a:lnTo>
                    <a:pt x="141" y="448"/>
                  </a:lnTo>
                  <a:lnTo>
                    <a:pt x="158" y="451"/>
                  </a:lnTo>
                  <a:lnTo>
                    <a:pt x="174" y="452"/>
                  </a:lnTo>
                  <a:lnTo>
                    <a:pt x="189" y="452"/>
                  </a:lnTo>
                  <a:lnTo>
                    <a:pt x="203" y="451"/>
                  </a:lnTo>
                  <a:lnTo>
                    <a:pt x="217" y="445"/>
                  </a:lnTo>
                  <a:lnTo>
                    <a:pt x="230" y="434"/>
                  </a:lnTo>
                  <a:lnTo>
                    <a:pt x="239" y="418"/>
                  </a:lnTo>
                  <a:lnTo>
                    <a:pt x="239" y="396"/>
                  </a:lnTo>
                  <a:lnTo>
                    <a:pt x="242" y="375"/>
                  </a:lnTo>
                  <a:lnTo>
                    <a:pt x="249" y="356"/>
                  </a:lnTo>
                  <a:lnTo>
                    <a:pt x="256" y="336"/>
                  </a:lnTo>
                  <a:lnTo>
                    <a:pt x="264" y="317"/>
                  </a:lnTo>
                  <a:lnTo>
                    <a:pt x="270" y="298"/>
                  </a:lnTo>
                  <a:lnTo>
                    <a:pt x="273" y="278"/>
                  </a:lnTo>
                  <a:lnTo>
                    <a:pt x="273" y="256"/>
                  </a:lnTo>
                  <a:lnTo>
                    <a:pt x="266" y="242"/>
                  </a:lnTo>
                  <a:lnTo>
                    <a:pt x="255" y="236"/>
                  </a:lnTo>
                  <a:lnTo>
                    <a:pt x="242" y="235"/>
                  </a:lnTo>
                  <a:lnTo>
                    <a:pt x="230" y="235"/>
                  </a:lnTo>
                  <a:lnTo>
                    <a:pt x="219" y="236"/>
                  </a:lnTo>
                  <a:lnTo>
                    <a:pt x="208" y="233"/>
                  </a:lnTo>
                  <a:lnTo>
                    <a:pt x="200" y="227"/>
                  </a:lnTo>
                  <a:lnTo>
                    <a:pt x="196" y="213"/>
                  </a:lnTo>
                  <a:lnTo>
                    <a:pt x="189" y="207"/>
                  </a:lnTo>
                  <a:lnTo>
                    <a:pt x="183" y="202"/>
                  </a:lnTo>
                  <a:lnTo>
                    <a:pt x="175" y="199"/>
                  </a:lnTo>
                  <a:lnTo>
                    <a:pt x="168" y="197"/>
                  </a:lnTo>
                  <a:lnTo>
                    <a:pt x="158" y="196"/>
                  </a:lnTo>
                  <a:lnTo>
                    <a:pt x="149" y="196"/>
                  </a:lnTo>
                  <a:lnTo>
                    <a:pt x="141" y="196"/>
                  </a:lnTo>
                  <a:lnTo>
                    <a:pt x="132" y="196"/>
                  </a:lnTo>
                  <a:lnTo>
                    <a:pt x="132" y="171"/>
                  </a:lnTo>
                  <a:lnTo>
                    <a:pt x="138" y="149"/>
                  </a:lnTo>
                  <a:lnTo>
                    <a:pt x="141" y="127"/>
                  </a:lnTo>
                  <a:lnTo>
                    <a:pt x="133" y="106"/>
                  </a:lnTo>
                  <a:lnTo>
                    <a:pt x="126" y="95"/>
                  </a:lnTo>
                  <a:lnTo>
                    <a:pt x="115" y="85"/>
                  </a:lnTo>
                  <a:lnTo>
                    <a:pt x="104" y="78"/>
                  </a:lnTo>
                  <a:lnTo>
                    <a:pt x="93" y="70"/>
                  </a:lnTo>
                  <a:lnTo>
                    <a:pt x="82" y="64"/>
                  </a:lnTo>
                  <a:lnTo>
                    <a:pt x="71" y="56"/>
                  </a:lnTo>
                  <a:lnTo>
                    <a:pt x="62" y="48"/>
                  </a:lnTo>
                  <a:lnTo>
                    <a:pt x="54" y="39"/>
                  </a:lnTo>
                  <a:lnTo>
                    <a:pt x="68" y="34"/>
                  </a:lnTo>
                  <a:lnTo>
                    <a:pt x="82" y="29"/>
                  </a:lnTo>
                  <a:lnTo>
                    <a:pt x="96" y="23"/>
                  </a:lnTo>
                  <a:lnTo>
                    <a:pt x="110" y="19"/>
                  </a:lnTo>
                  <a:lnTo>
                    <a:pt x="124" y="12"/>
                  </a:lnTo>
                  <a:lnTo>
                    <a:pt x="138" y="8"/>
                  </a:lnTo>
                  <a:lnTo>
                    <a:pt x="152" y="3"/>
                  </a:lnTo>
                  <a:lnTo>
                    <a:pt x="168" y="0"/>
                  </a:lnTo>
                  <a:lnTo>
                    <a:pt x="175" y="15"/>
                  </a:lnTo>
                  <a:lnTo>
                    <a:pt x="183" y="33"/>
                  </a:lnTo>
                  <a:lnTo>
                    <a:pt x="194" y="51"/>
                  </a:lnTo>
                  <a:lnTo>
                    <a:pt x="205" y="67"/>
                  </a:lnTo>
                  <a:lnTo>
                    <a:pt x="219" y="82"/>
                  </a:lnTo>
                  <a:lnTo>
                    <a:pt x="235" y="95"/>
                  </a:lnTo>
                  <a:lnTo>
                    <a:pt x="253" y="104"/>
                  </a:lnTo>
                  <a:lnTo>
                    <a:pt x="273" y="107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58840" y="112320"/>
              <a:ext cx="567360" cy="612360"/>
            </a:xfrm>
            <a:custGeom>
              <a:avLst/>
              <a:gdLst/>
              <a:ahLst/>
              <a:rect l="l" t="t" r="r" b="b"/>
              <a:pathLst>
                <a:path w="897" h="1158">
                  <a:moveTo>
                    <a:pt x="553" y="26"/>
                  </a:moveTo>
                  <a:lnTo>
                    <a:pt x="560" y="26"/>
                  </a:lnTo>
                  <a:lnTo>
                    <a:pt x="567" y="28"/>
                  </a:lnTo>
                  <a:lnTo>
                    <a:pt x="574" y="29"/>
                  </a:lnTo>
                  <a:lnTo>
                    <a:pt x="580" y="32"/>
                  </a:lnTo>
                  <a:lnTo>
                    <a:pt x="588" y="36"/>
                  </a:lnTo>
                  <a:lnTo>
                    <a:pt x="594" y="40"/>
                  </a:lnTo>
                  <a:lnTo>
                    <a:pt x="600" y="43"/>
                  </a:lnTo>
                  <a:lnTo>
                    <a:pt x="606" y="48"/>
                  </a:lnTo>
                  <a:lnTo>
                    <a:pt x="616" y="64"/>
                  </a:lnTo>
                  <a:lnTo>
                    <a:pt x="617" y="81"/>
                  </a:lnTo>
                  <a:lnTo>
                    <a:pt x="614" y="98"/>
                  </a:lnTo>
                  <a:lnTo>
                    <a:pt x="609" y="115"/>
                  </a:lnTo>
                  <a:lnTo>
                    <a:pt x="606" y="132"/>
                  </a:lnTo>
                  <a:lnTo>
                    <a:pt x="608" y="148"/>
                  </a:lnTo>
                  <a:lnTo>
                    <a:pt x="616" y="160"/>
                  </a:lnTo>
                  <a:lnTo>
                    <a:pt x="634" y="171"/>
                  </a:lnTo>
                  <a:lnTo>
                    <a:pt x="642" y="174"/>
                  </a:lnTo>
                  <a:lnTo>
                    <a:pt x="651" y="176"/>
                  </a:lnTo>
                  <a:lnTo>
                    <a:pt x="661" y="174"/>
                  </a:lnTo>
                  <a:lnTo>
                    <a:pt x="670" y="174"/>
                  </a:lnTo>
                  <a:lnTo>
                    <a:pt x="678" y="176"/>
                  </a:lnTo>
                  <a:lnTo>
                    <a:pt x="684" y="179"/>
                  </a:lnTo>
                  <a:lnTo>
                    <a:pt x="687" y="185"/>
                  </a:lnTo>
                  <a:lnTo>
                    <a:pt x="686" y="197"/>
                  </a:lnTo>
                  <a:lnTo>
                    <a:pt x="692" y="203"/>
                  </a:lnTo>
                  <a:lnTo>
                    <a:pt x="698" y="210"/>
                  </a:lnTo>
                  <a:lnTo>
                    <a:pt x="706" y="213"/>
                  </a:lnTo>
                  <a:lnTo>
                    <a:pt x="715" y="213"/>
                  </a:lnTo>
                  <a:lnTo>
                    <a:pt x="723" y="214"/>
                  </a:lnTo>
                  <a:lnTo>
                    <a:pt x="732" y="213"/>
                  </a:lnTo>
                  <a:lnTo>
                    <a:pt x="740" y="213"/>
                  </a:lnTo>
                  <a:lnTo>
                    <a:pt x="748" y="211"/>
                  </a:lnTo>
                  <a:lnTo>
                    <a:pt x="740" y="242"/>
                  </a:lnTo>
                  <a:lnTo>
                    <a:pt x="731" y="275"/>
                  </a:lnTo>
                  <a:lnTo>
                    <a:pt x="721" y="309"/>
                  </a:lnTo>
                  <a:lnTo>
                    <a:pt x="718" y="345"/>
                  </a:lnTo>
                  <a:lnTo>
                    <a:pt x="704" y="361"/>
                  </a:lnTo>
                  <a:lnTo>
                    <a:pt x="687" y="367"/>
                  </a:lnTo>
                  <a:lnTo>
                    <a:pt x="670" y="367"/>
                  </a:lnTo>
                  <a:lnTo>
                    <a:pt x="651" y="364"/>
                  </a:lnTo>
                  <a:lnTo>
                    <a:pt x="633" y="359"/>
                  </a:lnTo>
                  <a:lnTo>
                    <a:pt x="614" y="359"/>
                  </a:lnTo>
                  <a:lnTo>
                    <a:pt x="597" y="365"/>
                  </a:lnTo>
                  <a:lnTo>
                    <a:pt x="581" y="379"/>
                  </a:lnTo>
                  <a:lnTo>
                    <a:pt x="570" y="390"/>
                  </a:lnTo>
                  <a:lnTo>
                    <a:pt x="561" y="401"/>
                  </a:lnTo>
                  <a:lnTo>
                    <a:pt x="550" y="412"/>
                  </a:lnTo>
                  <a:lnTo>
                    <a:pt x="541" y="424"/>
                  </a:lnTo>
                  <a:lnTo>
                    <a:pt x="535" y="437"/>
                  </a:lnTo>
                  <a:lnTo>
                    <a:pt x="528" y="449"/>
                  </a:lnTo>
                  <a:lnTo>
                    <a:pt x="527" y="463"/>
                  </a:lnTo>
                  <a:lnTo>
                    <a:pt x="528" y="479"/>
                  </a:lnTo>
                  <a:lnTo>
                    <a:pt x="546" y="494"/>
                  </a:lnTo>
                  <a:lnTo>
                    <a:pt x="552" y="513"/>
                  </a:lnTo>
                  <a:lnTo>
                    <a:pt x="553" y="533"/>
                  </a:lnTo>
                  <a:lnTo>
                    <a:pt x="550" y="553"/>
                  </a:lnTo>
                  <a:lnTo>
                    <a:pt x="549" y="574"/>
                  </a:lnTo>
                  <a:lnTo>
                    <a:pt x="552" y="592"/>
                  </a:lnTo>
                  <a:lnTo>
                    <a:pt x="561" y="609"/>
                  </a:lnTo>
                  <a:lnTo>
                    <a:pt x="581" y="622"/>
                  </a:lnTo>
                  <a:lnTo>
                    <a:pt x="591" y="619"/>
                  </a:lnTo>
                  <a:lnTo>
                    <a:pt x="598" y="614"/>
                  </a:lnTo>
                  <a:lnTo>
                    <a:pt x="606" y="608"/>
                  </a:lnTo>
                  <a:lnTo>
                    <a:pt x="612" y="600"/>
                  </a:lnTo>
                  <a:lnTo>
                    <a:pt x="619" y="594"/>
                  </a:lnTo>
                  <a:lnTo>
                    <a:pt x="625" y="589"/>
                  </a:lnTo>
                  <a:lnTo>
                    <a:pt x="634" y="588"/>
                  </a:lnTo>
                  <a:lnTo>
                    <a:pt x="647" y="589"/>
                  </a:lnTo>
                  <a:lnTo>
                    <a:pt x="662" y="564"/>
                  </a:lnTo>
                  <a:lnTo>
                    <a:pt x="670" y="535"/>
                  </a:lnTo>
                  <a:lnTo>
                    <a:pt x="678" y="507"/>
                  </a:lnTo>
                  <a:lnTo>
                    <a:pt x="692" y="482"/>
                  </a:lnTo>
                  <a:lnTo>
                    <a:pt x="703" y="488"/>
                  </a:lnTo>
                  <a:lnTo>
                    <a:pt x="712" y="497"/>
                  </a:lnTo>
                  <a:lnTo>
                    <a:pt x="720" y="507"/>
                  </a:lnTo>
                  <a:lnTo>
                    <a:pt x="726" y="518"/>
                  </a:lnTo>
                  <a:lnTo>
                    <a:pt x="735" y="543"/>
                  </a:lnTo>
                  <a:lnTo>
                    <a:pt x="745" y="569"/>
                  </a:lnTo>
                  <a:lnTo>
                    <a:pt x="756" y="595"/>
                  </a:lnTo>
                  <a:lnTo>
                    <a:pt x="768" y="620"/>
                  </a:lnTo>
                  <a:lnTo>
                    <a:pt x="784" y="644"/>
                  </a:lnTo>
                  <a:lnTo>
                    <a:pt x="804" y="662"/>
                  </a:lnTo>
                  <a:lnTo>
                    <a:pt x="827" y="675"/>
                  </a:lnTo>
                  <a:lnTo>
                    <a:pt x="857" y="681"/>
                  </a:lnTo>
                  <a:lnTo>
                    <a:pt x="857" y="692"/>
                  </a:lnTo>
                  <a:lnTo>
                    <a:pt x="852" y="704"/>
                  </a:lnTo>
                  <a:lnTo>
                    <a:pt x="847" y="715"/>
                  </a:lnTo>
                  <a:lnTo>
                    <a:pt x="846" y="729"/>
                  </a:lnTo>
                  <a:lnTo>
                    <a:pt x="852" y="737"/>
                  </a:lnTo>
                  <a:lnTo>
                    <a:pt x="860" y="743"/>
                  </a:lnTo>
                  <a:lnTo>
                    <a:pt x="868" y="746"/>
                  </a:lnTo>
                  <a:lnTo>
                    <a:pt x="877" y="751"/>
                  </a:lnTo>
                  <a:lnTo>
                    <a:pt x="883" y="756"/>
                  </a:lnTo>
                  <a:lnTo>
                    <a:pt x="891" y="762"/>
                  </a:lnTo>
                  <a:lnTo>
                    <a:pt x="896" y="770"/>
                  </a:lnTo>
                  <a:lnTo>
                    <a:pt x="897" y="781"/>
                  </a:lnTo>
                  <a:lnTo>
                    <a:pt x="888" y="782"/>
                  </a:lnTo>
                  <a:lnTo>
                    <a:pt x="878" y="781"/>
                  </a:lnTo>
                  <a:lnTo>
                    <a:pt x="871" y="776"/>
                  </a:lnTo>
                  <a:lnTo>
                    <a:pt x="864" y="768"/>
                  </a:lnTo>
                  <a:lnTo>
                    <a:pt x="857" y="760"/>
                  </a:lnTo>
                  <a:lnTo>
                    <a:pt x="850" y="753"/>
                  </a:lnTo>
                  <a:lnTo>
                    <a:pt x="843" y="746"/>
                  </a:lnTo>
                  <a:lnTo>
                    <a:pt x="833" y="743"/>
                  </a:lnTo>
                  <a:lnTo>
                    <a:pt x="821" y="740"/>
                  </a:lnTo>
                  <a:lnTo>
                    <a:pt x="808" y="740"/>
                  </a:lnTo>
                  <a:lnTo>
                    <a:pt x="799" y="745"/>
                  </a:lnTo>
                  <a:lnTo>
                    <a:pt x="790" y="751"/>
                  </a:lnTo>
                  <a:lnTo>
                    <a:pt x="780" y="759"/>
                  </a:lnTo>
                  <a:lnTo>
                    <a:pt x="771" y="768"/>
                  </a:lnTo>
                  <a:lnTo>
                    <a:pt x="762" y="776"/>
                  </a:lnTo>
                  <a:lnTo>
                    <a:pt x="752" y="782"/>
                  </a:lnTo>
                  <a:lnTo>
                    <a:pt x="742" y="781"/>
                  </a:lnTo>
                  <a:lnTo>
                    <a:pt x="729" y="781"/>
                  </a:lnTo>
                  <a:lnTo>
                    <a:pt x="718" y="781"/>
                  </a:lnTo>
                  <a:lnTo>
                    <a:pt x="707" y="782"/>
                  </a:lnTo>
                  <a:lnTo>
                    <a:pt x="696" y="787"/>
                  </a:lnTo>
                  <a:lnTo>
                    <a:pt x="687" y="791"/>
                  </a:lnTo>
                  <a:lnTo>
                    <a:pt x="678" y="798"/>
                  </a:lnTo>
                  <a:lnTo>
                    <a:pt x="668" y="805"/>
                  </a:lnTo>
                  <a:lnTo>
                    <a:pt x="659" y="818"/>
                  </a:lnTo>
                  <a:lnTo>
                    <a:pt x="651" y="833"/>
                  </a:lnTo>
                  <a:lnTo>
                    <a:pt x="647" y="851"/>
                  </a:lnTo>
                  <a:lnTo>
                    <a:pt x="640" y="866"/>
                  </a:lnTo>
                  <a:lnTo>
                    <a:pt x="633" y="880"/>
                  </a:lnTo>
                  <a:lnTo>
                    <a:pt x="622" y="892"/>
                  </a:lnTo>
                  <a:lnTo>
                    <a:pt x="608" y="899"/>
                  </a:lnTo>
                  <a:lnTo>
                    <a:pt x="589" y="900"/>
                  </a:lnTo>
                  <a:lnTo>
                    <a:pt x="577" y="900"/>
                  </a:lnTo>
                  <a:lnTo>
                    <a:pt x="564" y="902"/>
                  </a:lnTo>
                  <a:lnTo>
                    <a:pt x="552" y="903"/>
                  </a:lnTo>
                  <a:lnTo>
                    <a:pt x="541" y="906"/>
                  </a:lnTo>
                  <a:lnTo>
                    <a:pt x="530" y="911"/>
                  </a:lnTo>
                  <a:lnTo>
                    <a:pt x="519" y="916"/>
                  </a:lnTo>
                  <a:lnTo>
                    <a:pt x="508" y="920"/>
                  </a:lnTo>
                  <a:lnTo>
                    <a:pt x="499" y="928"/>
                  </a:lnTo>
                  <a:lnTo>
                    <a:pt x="491" y="939"/>
                  </a:lnTo>
                  <a:lnTo>
                    <a:pt x="483" y="950"/>
                  </a:lnTo>
                  <a:lnTo>
                    <a:pt x="477" y="962"/>
                  </a:lnTo>
                  <a:lnTo>
                    <a:pt x="473" y="973"/>
                  </a:lnTo>
                  <a:lnTo>
                    <a:pt x="466" y="986"/>
                  </a:lnTo>
                  <a:lnTo>
                    <a:pt x="462" y="998"/>
                  </a:lnTo>
                  <a:lnTo>
                    <a:pt x="455" y="1009"/>
                  </a:lnTo>
                  <a:lnTo>
                    <a:pt x="449" y="1022"/>
                  </a:lnTo>
                  <a:lnTo>
                    <a:pt x="451" y="1025"/>
                  </a:lnTo>
                  <a:lnTo>
                    <a:pt x="452" y="1028"/>
                  </a:lnTo>
                  <a:lnTo>
                    <a:pt x="454" y="1032"/>
                  </a:lnTo>
                  <a:lnTo>
                    <a:pt x="454" y="1036"/>
                  </a:lnTo>
                  <a:lnTo>
                    <a:pt x="445" y="1037"/>
                  </a:lnTo>
                  <a:lnTo>
                    <a:pt x="437" y="1037"/>
                  </a:lnTo>
                  <a:lnTo>
                    <a:pt x="429" y="1036"/>
                  </a:lnTo>
                  <a:lnTo>
                    <a:pt x="423" y="1031"/>
                  </a:lnTo>
                  <a:lnTo>
                    <a:pt x="417" y="1026"/>
                  </a:lnTo>
                  <a:lnTo>
                    <a:pt x="410" y="1020"/>
                  </a:lnTo>
                  <a:lnTo>
                    <a:pt x="406" y="1014"/>
                  </a:lnTo>
                  <a:lnTo>
                    <a:pt x="401" y="1006"/>
                  </a:lnTo>
                  <a:lnTo>
                    <a:pt x="399" y="983"/>
                  </a:lnTo>
                  <a:lnTo>
                    <a:pt x="395" y="961"/>
                  </a:lnTo>
                  <a:lnTo>
                    <a:pt x="387" y="942"/>
                  </a:lnTo>
                  <a:lnTo>
                    <a:pt x="373" y="925"/>
                  </a:lnTo>
                  <a:lnTo>
                    <a:pt x="364" y="916"/>
                  </a:lnTo>
                  <a:lnTo>
                    <a:pt x="351" y="911"/>
                  </a:lnTo>
                  <a:lnTo>
                    <a:pt x="339" y="910"/>
                  </a:lnTo>
                  <a:lnTo>
                    <a:pt x="326" y="908"/>
                  </a:lnTo>
                  <a:lnTo>
                    <a:pt x="314" y="906"/>
                  </a:lnTo>
                  <a:lnTo>
                    <a:pt x="303" y="902"/>
                  </a:lnTo>
                  <a:lnTo>
                    <a:pt x="294" y="894"/>
                  </a:lnTo>
                  <a:lnTo>
                    <a:pt x="287" y="882"/>
                  </a:lnTo>
                  <a:lnTo>
                    <a:pt x="277" y="872"/>
                  </a:lnTo>
                  <a:lnTo>
                    <a:pt x="264" y="866"/>
                  </a:lnTo>
                  <a:lnTo>
                    <a:pt x="252" y="861"/>
                  </a:lnTo>
                  <a:lnTo>
                    <a:pt x="238" y="858"/>
                  </a:lnTo>
                  <a:lnTo>
                    <a:pt x="224" y="857"/>
                  </a:lnTo>
                  <a:lnTo>
                    <a:pt x="210" y="857"/>
                  </a:lnTo>
                  <a:lnTo>
                    <a:pt x="196" y="855"/>
                  </a:lnTo>
                  <a:lnTo>
                    <a:pt x="183" y="854"/>
                  </a:lnTo>
                  <a:lnTo>
                    <a:pt x="165" y="874"/>
                  </a:lnTo>
                  <a:lnTo>
                    <a:pt x="155" y="899"/>
                  </a:lnTo>
                  <a:lnTo>
                    <a:pt x="152" y="924"/>
                  </a:lnTo>
                  <a:lnTo>
                    <a:pt x="155" y="950"/>
                  </a:lnTo>
                  <a:lnTo>
                    <a:pt x="165" y="962"/>
                  </a:lnTo>
                  <a:lnTo>
                    <a:pt x="174" y="973"/>
                  </a:lnTo>
                  <a:lnTo>
                    <a:pt x="185" y="984"/>
                  </a:lnTo>
                  <a:lnTo>
                    <a:pt x="196" y="995"/>
                  </a:lnTo>
                  <a:lnTo>
                    <a:pt x="203" y="1006"/>
                  </a:lnTo>
                  <a:lnTo>
                    <a:pt x="208" y="1018"/>
                  </a:lnTo>
                  <a:lnTo>
                    <a:pt x="210" y="1032"/>
                  </a:lnTo>
                  <a:lnTo>
                    <a:pt x="205" y="1050"/>
                  </a:lnTo>
                  <a:lnTo>
                    <a:pt x="211" y="1064"/>
                  </a:lnTo>
                  <a:lnTo>
                    <a:pt x="221" y="1076"/>
                  </a:lnTo>
                  <a:lnTo>
                    <a:pt x="233" y="1087"/>
                  </a:lnTo>
                  <a:lnTo>
                    <a:pt x="244" y="1096"/>
                  </a:lnTo>
                  <a:lnTo>
                    <a:pt x="252" y="1107"/>
                  </a:lnTo>
                  <a:lnTo>
                    <a:pt x="255" y="1118"/>
                  </a:lnTo>
                  <a:lnTo>
                    <a:pt x="249" y="1130"/>
                  </a:lnTo>
                  <a:lnTo>
                    <a:pt x="235" y="1144"/>
                  </a:lnTo>
                  <a:lnTo>
                    <a:pt x="230" y="1158"/>
                  </a:lnTo>
                  <a:lnTo>
                    <a:pt x="217" y="1148"/>
                  </a:lnTo>
                  <a:lnTo>
                    <a:pt x="202" y="1138"/>
                  </a:lnTo>
                  <a:lnTo>
                    <a:pt x="188" y="1130"/>
                  </a:lnTo>
                  <a:lnTo>
                    <a:pt x="174" y="1121"/>
                  </a:lnTo>
                  <a:lnTo>
                    <a:pt x="161" y="1110"/>
                  </a:lnTo>
                  <a:lnTo>
                    <a:pt x="152" y="1098"/>
                  </a:lnTo>
                  <a:lnTo>
                    <a:pt x="146" y="1082"/>
                  </a:lnTo>
                  <a:lnTo>
                    <a:pt x="146" y="1062"/>
                  </a:lnTo>
                  <a:lnTo>
                    <a:pt x="141" y="1054"/>
                  </a:lnTo>
                  <a:lnTo>
                    <a:pt x="135" y="1046"/>
                  </a:lnTo>
                  <a:lnTo>
                    <a:pt x="129" y="1040"/>
                  </a:lnTo>
                  <a:lnTo>
                    <a:pt x="121" y="1034"/>
                  </a:lnTo>
                  <a:lnTo>
                    <a:pt x="115" y="1028"/>
                  </a:lnTo>
                  <a:lnTo>
                    <a:pt x="107" y="1022"/>
                  </a:lnTo>
                  <a:lnTo>
                    <a:pt x="99" y="1015"/>
                  </a:lnTo>
                  <a:lnTo>
                    <a:pt x="91" y="1011"/>
                  </a:lnTo>
                  <a:lnTo>
                    <a:pt x="90" y="970"/>
                  </a:lnTo>
                  <a:lnTo>
                    <a:pt x="93" y="927"/>
                  </a:lnTo>
                  <a:lnTo>
                    <a:pt x="96" y="883"/>
                  </a:lnTo>
                  <a:lnTo>
                    <a:pt x="96" y="840"/>
                  </a:lnTo>
                  <a:lnTo>
                    <a:pt x="91" y="799"/>
                  </a:lnTo>
                  <a:lnTo>
                    <a:pt x="79" y="762"/>
                  </a:lnTo>
                  <a:lnTo>
                    <a:pt x="54" y="729"/>
                  </a:lnTo>
                  <a:lnTo>
                    <a:pt x="15" y="703"/>
                  </a:lnTo>
                  <a:lnTo>
                    <a:pt x="0" y="686"/>
                  </a:lnTo>
                  <a:lnTo>
                    <a:pt x="0" y="664"/>
                  </a:lnTo>
                  <a:lnTo>
                    <a:pt x="6" y="639"/>
                  </a:lnTo>
                  <a:lnTo>
                    <a:pt x="12" y="617"/>
                  </a:lnTo>
                  <a:lnTo>
                    <a:pt x="17" y="600"/>
                  </a:lnTo>
                  <a:lnTo>
                    <a:pt x="23" y="583"/>
                  </a:lnTo>
                  <a:lnTo>
                    <a:pt x="29" y="571"/>
                  </a:lnTo>
                  <a:lnTo>
                    <a:pt x="31" y="566"/>
                  </a:lnTo>
                  <a:lnTo>
                    <a:pt x="40" y="566"/>
                  </a:lnTo>
                  <a:lnTo>
                    <a:pt x="49" y="563"/>
                  </a:lnTo>
                  <a:lnTo>
                    <a:pt x="57" y="558"/>
                  </a:lnTo>
                  <a:lnTo>
                    <a:pt x="67" y="550"/>
                  </a:lnTo>
                  <a:lnTo>
                    <a:pt x="74" y="544"/>
                  </a:lnTo>
                  <a:lnTo>
                    <a:pt x="82" y="538"/>
                  </a:lnTo>
                  <a:lnTo>
                    <a:pt x="91" y="533"/>
                  </a:lnTo>
                  <a:lnTo>
                    <a:pt x="101" y="532"/>
                  </a:lnTo>
                  <a:lnTo>
                    <a:pt x="123" y="513"/>
                  </a:lnTo>
                  <a:lnTo>
                    <a:pt x="133" y="491"/>
                  </a:lnTo>
                  <a:lnTo>
                    <a:pt x="138" y="466"/>
                  </a:lnTo>
                  <a:lnTo>
                    <a:pt x="140" y="440"/>
                  </a:lnTo>
                  <a:lnTo>
                    <a:pt x="140" y="415"/>
                  </a:lnTo>
                  <a:lnTo>
                    <a:pt x="144" y="390"/>
                  </a:lnTo>
                  <a:lnTo>
                    <a:pt x="155" y="368"/>
                  </a:lnTo>
                  <a:lnTo>
                    <a:pt x="177" y="351"/>
                  </a:lnTo>
                  <a:lnTo>
                    <a:pt x="199" y="343"/>
                  </a:lnTo>
                  <a:lnTo>
                    <a:pt x="221" y="336"/>
                  </a:lnTo>
                  <a:lnTo>
                    <a:pt x="242" y="325"/>
                  </a:lnTo>
                  <a:lnTo>
                    <a:pt x="263" y="312"/>
                  </a:lnTo>
                  <a:lnTo>
                    <a:pt x="281" y="300"/>
                  </a:lnTo>
                  <a:lnTo>
                    <a:pt x="300" y="284"/>
                  </a:lnTo>
                  <a:lnTo>
                    <a:pt x="315" y="266"/>
                  </a:lnTo>
                  <a:lnTo>
                    <a:pt x="328" y="245"/>
                  </a:lnTo>
                  <a:lnTo>
                    <a:pt x="325" y="148"/>
                  </a:lnTo>
                  <a:lnTo>
                    <a:pt x="322" y="144"/>
                  </a:lnTo>
                  <a:lnTo>
                    <a:pt x="319" y="141"/>
                  </a:lnTo>
                  <a:lnTo>
                    <a:pt x="315" y="138"/>
                  </a:lnTo>
                  <a:lnTo>
                    <a:pt x="315" y="134"/>
                  </a:lnTo>
                  <a:lnTo>
                    <a:pt x="340" y="113"/>
                  </a:lnTo>
                  <a:lnTo>
                    <a:pt x="367" y="93"/>
                  </a:lnTo>
                  <a:lnTo>
                    <a:pt x="392" y="74"/>
                  </a:lnTo>
                  <a:lnTo>
                    <a:pt x="418" y="57"/>
                  </a:lnTo>
                  <a:lnTo>
                    <a:pt x="445" y="42"/>
                  </a:lnTo>
                  <a:lnTo>
                    <a:pt x="471" y="26"/>
                  </a:lnTo>
                  <a:lnTo>
                    <a:pt x="499" y="12"/>
                  </a:lnTo>
                  <a:lnTo>
                    <a:pt x="527" y="0"/>
                  </a:lnTo>
                  <a:lnTo>
                    <a:pt x="535" y="4"/>
                  </a:lnTo>
                  <a:lnTo>
                    <a:pt x="539" y="12"/>
                  </a:lnTo>
                  <a:lnTo>
                    <a:pt x="544" y="22"/>
                  </a:lnTo>
                  <a:lnTo>
                    <a:pt x="553" y="2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50960" y="180360"/>
              <a:ext cx="176760" cy="236520"/>
            </a:xfrm>
            <a:custGeom>
              <a:avLst/>
              <a:gdLst/>
              <a:ahLst/>
              <a:rect l="l" t="t" r="r" b="b"/>
              <a:pathLst>
                <a:path w="280" h="448">
                  <a:moveTo>
                    <a:pt x="220" y="27"/>
                  </a:moveTo>
                  <a:lnTo>
                    <a:pt x="271" y="92"/>
                  </a:lnTo>
                  <a:lnTo>
                    <a:pt x="269" y="139"/>
                  </a:lnTo>
                  <a:lnTo>
                    <a:pt x="276" y="185"/>
                  </a:lnTo>
                  <a:lnTo>
                    <a:pt x="280" y="230"/>
                  </a:lnTo>
                  <a:lnTo>
                    <a:pt x="276" y="276"/>
                  </a:lnTo>
                  <a:lnTo>
                    <a:pt x="269" y="290"/>
                  </a:lnTo>
                  <a:lnTo>
                    <a:pt x="260" y="300"/>
                  </a:lnTo>
                  <a:lnTo>
                    <a:pt x="249" y="308"/>
                  </a:lnTo>
                  <a:lnTo>
                    <a:pt x="238" y="314"/>
                  </a:lnTo>
                  <a:lnTo>
                    <a:pt x="226" y="321"/>
                  </a:lnTo>
                  <a:lnTo>
                    <a:pt x="213" y="328"/>
                  </a:lnTo>
                  <a:lnTo>
                    <a:pt x="204" y="339"/>
                  </a:lnTo>
                  <a:lnTo>
                    <a:pt x="196" y="352"/>
                  </a:lnTo>
                  <a:lnTo>
                    <a:pt x="193" y="366"/>
                  </a:lnTo>
                  <a:lnTo>
                    <a:pt x="190" y="378"/>
                  </a:lnTo>
                  <a:lnTo>
                    <a:pt x="187" y="392"/>
                  </a:lnTo>
                  <a:lnTo>
                    <a:pt x="182" y="405"/>
                  </a:lnTo>
                  <a:lnTo>
                    <a:pt x="176" y="417"/>
                  </a:lnTo>
                  <a:lnTo>
                    <a:pt x="168" y="428"/>
                  </a:lnTo>
                  <a:lnTo>
                    <a:pt x="159" y="439"/>
                  </a:lnTo>
                  <a:lnTo>
                    <a:pt x="148" y="448"/>
                  </a:lnTo>
                  <a:lnTo>
                    <a:pt x="126" y="440"/>
                  </a:lnTo>
                  <a:lnTo>
                    <a:pt x="109" y="428"/>
                  </a:lnTo>
                  <a:lnTo>
                    <a:pt x="97" y="411"/>
                  </a:lnTo>
                  <a:lnTo>
                    <a:pt x="87" y="392"/>
                  </a:lnTo>
                  <a:lnTo>
                    <a:pt x="80" y="372"/>
                  </a:lnTo>
                  <a:lnTo>
                    <a:pt x="72" y="352"/>
                  </a:lnTo>
                  <a:lnTo>
                    <a:pt x="64" y="330"/>
                  </a:lnTo>
                  <a:lnTo>
                    <a:pt x="55" y="311"/>
                  </a:lnTo>
                  <a:lnTo>
                    <a:pt x="56" y="283"/>
                  </a:lnTo>
                  <a:lnTo>
                    <a:pt x="50" y="258"/>
                  </a:lnTo>
                  <a:lnTo>
                    <a:pt x="39" y="235"/>
                  </a:lnTo>
                  <a:lnTo>
                    <a:pt x="25" y="213"/>
                  </a:lnTo>
                  <a:lnTo>
                    <a:pt x="13" y="192"/>
                  </a:lnTo>
                  <a:lnTo>
                    <a:pt x="3" y="168"/>
                  </a:lnTo>
                  <a:lnTo>
                    <a:pt x="0" y="143"/>
                  </a:lnTo>
                  <a:lnTo>
                    <a:pt x="8" y="115"/>
                  </a:lnTo>
                  <a:lnTo>
                    <a:pt x="22" y="92"/>
                  </a:lnTo>
                  <a:lnTo>
                    <a:pt x="41" y="70"/>
                  </a:lnTo>
                  <a:lnTo>
                    <a:pt x="59" y="50"/>
                  </a:lnTo>
                  <a:lnTo>
                    <a:pt x="81" y="33"/>
                  </a:lnTo>
                  <a:lnTo>
                    <a:pt x="105" y="19"/>
                  </a:lnTo>
                  <a:lnTo>
                    <a:pt x="129" y="8"/>
                  </a:lnTo>
                  <a:lnTo>
                    <a:pt x="156" y="2"/>
                  </a:lnTo>
                  <a:lnTo>
                    <a:pt x="182" y="0"/>
                  </a:lnTo>
                  <a:lnTo>
                    <a:pt x="189" y="11"/>
                  </a:lnTo>
                  <a:lnTo>
                    <a:pt x="199" y="17"/>
                  </a:lnTo>
                  <a:lnTo>
                    <a:pt x="210" y="21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547400" y="195120"/>
              <a:ext cx="98280" cy="92880"/>
            </a:xfrm>
            <a:custGeom>
              <a:avLst/>
              <a:gdLst/>
              <a:ahLst/>
              <a:rect l="l" t="t" r="r" b="b"/>
              <a:pathLst>
                <a:path w="155" h="176">
                  <a:moveTo>
                    <a:pt x="151" y="88"/>
                  </a:moveTo>
                  <a:lnTo>
                    <a:pt x="135" y="106"/>
                  </a:lnTo>
                  <a:lnTo>
                    <a:pt x="116" y="120"/>
                  </a:lnTo>
                  <a:lnTo>
                    <a:pt x="98" y="130"/>
                  </a:lnTo>
                  <a:lnTo>
                    <a:pt x="79" y="140"/>
                  </a:lnTo>
                  <a:lnTo>
                    <a:pt x="59" y="148"/>
                  </a:lnTo>
                  <a:lnTo>
                    <a:pt x="39" y="157"/>
                  </a:lnTo>
                  <a:lnTo>
                    <a:pt x="18" y="165"/>
                  </a:lnTo>
                  <a:lnTo>
                    <a:pt x="0" y="176"/>
                  </a:lnTo>
                  <a:lnTo>
                    <a:pt x="15" y="152"/>
                  </a:lnTo>
                  <a:lnTo>
                    <a:pt x="32" y="130"/>
                  </a:lnTo>
                  <a:lnTo>
                    <a:pt x="49" y="107"/>
                  </a:lnTo>
                  <a:lnTo>
                    <a:pt x="68" y="85"/>
                  </a:lnTo>
                  <a:lnTo>
                    <a:pt x="87" y="64"/>
                  </a:lnTo>
                  <a:lnTo>
                    <a:pt x="107" y="42"/>
                  </a:lnTo>
                  <a:lnTo>
                    <a:pt x="129" y="22"/>
                  </a:lnTo>
                  <a:lnTo>
                    <a:pt x="151" y="0"/>
                  </a:lnTo>
                  <a:lnTo>
                    <a:pt x="152" y="22"/>
                  </a:lnTo>
                  <a:lnTo>
                    <a:pt x="155" y="43"/>
                  </a:lnTo>
                  <a:lnTo>
                    <a:pt x="155" y="67"/>
                  </a:lnTo>
                  <a:lnTo>
                    <a:pt x="151" y="88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67160" y="195120"/>
              <a:ext cx="142560" cy="205200"/>
            </a:xfrm>
            <a:custGeom>
              <a:avLst/>
              <a:gdLst/>
              <a:ahLst/>
              <a:rect l="l" t="t" r="r" b="b"/>
              <a:pathLst>
                <a:path w="225" h="387">
                  <a:moveTo>
                    <a:pt x="214" y="60"/>
                  </a:moveTo>
                  <a:lnTo>
                    <a:pt x="211" y="88"/>
                  </a:lnTo>
                  <a:lnTo>
                    <a:pt x="214" y="120"/>
                  </a:lnTo>
                  <a:lnTo>
                    <a:pt x="219" y="151"/>
                  </a:lnTo>
                  <a:lnTo>
                    <a:pt x="224" y="183"/>
                  </a:lnTo>
                  <a:lnTo>
                    <a:pt x="225" y="213"/>
                  </a:lnTo>
                  <a:lnTo>
                    <a:pt x="218" y="239"/>
                  </a:lnTo>
                  <a:lnTo>
                    <a:pt x="197" y="260"/>
                  </a:lnTo>
                  <a:lnTo>
                    <a:pt x="163" y="274"/>
                  </a:lnTo>
                  <a:lnTo>
                    <a:pt x="152" y="286"/>
                  </a:lnTo>
                  <a:lnTo>
                    <a:pt x="146" y="302"/>
                  </a:lnTo>
                  <a:lnTo>
                    <a:pt x="141" y="317"/>
                  </a:lnTo>
                  <a:lnTo>
                    <a:pt x="137" y="333"/>
                  </a:lnTo>
                  <a:lnTo>
                    <a:pt x="132" y="348"/>
                  </a:lnTo>
                  <a:lnTo>
                    <a:pt x="126" y="364"/>
                  </a:lnTo>
                  <a:lnTo>
                    <a:pt x="116" y="376"/>
                  </a:lnTo>
                  <a:lnTo>
                    <a:pt x="104" y="387"/>
                  </a:lnTo>
                  <a:lnTo>
                    <a:pt x="85" y="362"/>
                  </a:lnTo>
                  <a:lnTo>
                    <a:pt x="71" y="333"/>
                  </a:lnTo>
                  <a:lnTo>
                    <a:pt x="62" y="303"/>
                  </a:lnTo>
                  <a:lnTo>
                    <a:pt x="54" y="272"/>
                  </a:lnTo>
                  <a:lnTo>
                    <a:pt x="46" y="241"/>
                  </a:lnTo>
                  <a:lnTo>
                    <a:pt x="37" y="210"/>
                  </a:lnTo>
                  <a:lnTo>
                    <a:pt x="25" y="180"/>
                  </a:lnTo>
                  <a:lnTo>
                    <a:pt x="8" y="154"/>
                  </a:lnTo>
                  <a:lnTo>
                    <a:pt x="1" y="140"/>
                  </a:lnTo>
                  <a:lnTo>
                    <a:pt x="0" y="126"/>
                  </a:lnTo>
                  <a:lnTo>
                    <a:pt x="3" y="113"/>
                  </a:lnTo>
                  <a:lnTo>
                    <a:pt x="8" y="101"/>
                  </a:lnTo>
                  <a:lnTo>
                    <a:pt x="15" y="90"/>
                  </a:lnTo>
                  <a:lnTo>
                    <a:pt x="25" y="78"/>
                  </a:lnTo>
                  <a:lnTo>
                    <a:pt x="32" y="67"/>
                  </a:lnTo>
                  <a:lnTo>
                    <a:pt x="42" y="56"/>
                  </a:lnTo>
                  <a:lnTo>
                    <a:pt x="54" y="46"/>
                  </a:lnTo>
                  <a:lnTo>
                    <a:pt x="67" y="36"/>
                  </a:lnTo>
                  <a:lnTo>
                    <a:pt x="78" y="26"/>
                  </a:lnTo>
                  <a:lnTo>
                    <a:pt x="92" y="17"/>
                  </a:lnTo>
                  <a:lnTo>
                    <a:pt x="104" y="9"/>
                  </a:lnTo>
                  <a:lnTo>
                    <a:pt x="118" y="3"/>
                  </a:lnTo>
                  <a:lnTo>
                    <a:pt x="134" y="0"/>
                  </a:lnTo>
                  <a:lnTo>
                    <a:pt x="149" y="0"/>
                  </a:lnTo>
                  <a:lnTo>
                    <a:pt x="158" y="5"/>
                  </a:lnTo>
                  <a:lnTo>
                    <a:pt x="168" y="11"/>
                  </a:lnTo>
                  <a:lnTo>
                    <a:pt x="177" y="19"/>
                  </a:lnTo>
                  <a:lnTo>
                    <a:pt x="185" y="26"/>
                  </a:lnTo>
                  <a:lnTo>
                    <a:pt x="193" y="34"/>
                  </a:lnTo>
                  <a:lnTo>
                    <a:pt x="200" y="43"/>
                  </a:lnTo>
                  <a:lnTo>
                    <a:pt x="207" y="53"/>
                  </a:lnTo>
                  <a:lnTo>
                    <a:pt x="214" y="60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683920" y="26388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53">
                  <a:moveTo>
                    <a:pt x="208" y="26"/>
                  </a:moveTo>
                  <a:lnTo>
                    <a:pt x="224" y="51"/>
                  </a:lnTo>
                  <a:lnTo>
                    <a:pt x="230" y="79"/>
                  </a:lnTo>
                  <a:lnTo>
                    <a:pt x="234" y="107"/>
                  </a:lnTo>
                  <a:lnTo>
                    <a:pt x="245" y="132"/>
                  </a:lnTo>
                  <a:lnTo>
                    <a:pt x="244" y="145"/>
                  </a:lnTo>
                  <a:lnTo>
                    <a:pt x="239" y="152"/>
                  </a:lnTo>
                  <a:lnTo>
                    <a:pt x="231" y="160"/>
                  </a:lnTo>
                  <a:lnTo>
                    <a:pt x="222" y="166"/>
                  </a:lnTo>
                  <a:lnTo>
                    <a:pt x="196" y="173"/>
                  </a:lnTo>
                  <a:lnTo>
                    <a:pt x="172" y="185"/>
                  </a:lnTo>
                  <a:lnTo>
                    <a:pt x="150" y="202"/>
                  </a:lnTo>
                  <a:lnTo>
                    <a:pt x="130" y="219"/>
                  </a:lnTo>
                  <a:lnTo>
                    <a:pt x="108" y="236"/>
                  </a:lnTo>
                  <a:lnTo>
                    <a:pt x="87" y="249"/>
                  </a:lnTo>
                  <a:lnTo>
                    <a:pt x="62" y="253"/>
                  </a:lnTo>
                  <a:lnTo>
                    <a:pt x="32" y="250"/>
                  </a:lnTo>
                  <a:lnTo>
                    <a:pt x="14" y="225"/>
                  </a:lnTo>
                  <a:lnTo>
                    <a:pt x="3" y="199"/>
                  </a:lnTo>
                  <a:lnTo>
                    <a:pt x="0" y="169"/>
                  </a:lnTo>
                  <a:lnTo>
                    <a:pt x="3" y="138"/>
                  </a:lnTo>
                  <a:lnTo>
                    <a:pt x="7" y="129"/>
                  </a:lnTo>
                  <a:lnTo>
                    <a:pt x="14" y="120"/>
                  </a:lnTo>
                  <a:lnTo>
                    <a:pt x="18" y="110"/>
                  </a:lnTo>
                  <a:lnTo>
                    <a:pt x="26" y="101"/>
                  </a:lnTo>
                  <a:lnTo>
                    <a:pt x="32" y="92"/>
                  </a:lnTo>
                  <a:lnTo>
                    <a:pt x="40" y="84"/>
                  </a:lnTo>
                  <a:lnTo>
                    <a:pt x="48" y="75"/>
                  </a:lnTo>
                  <a:lnTo>
                    <a:pt x="57" y="67"/>
                  </a:lnTo>
                  <a:lnTo>
                    <a:pt x="67" y="71"/>
                  </a:lnTo>
                  <a:lnTo>
                    <a:pt x="74" y="78"/>
                  </a:lnTo>
                  <a:lnTo>
                    <a:pt x="82" y="84"/>
                  </a:lnTo>
                  <a:lnTo>
                    <a:pt x="91" y="90"/>
                  </a:lnTo>
                  <a:lnTo>
                    <a:pt x="94" y="81"/>
                  </a:lnTo>
                  <a:lnTo>
                    <a:pt x="93" y="71"/>
                  </a:lnTo>
                  <a:lnTo>
                    <a:pt x="88" y="62"/>
                  </a:lnTo>
                  <a:lnTo>
                    <a:pt x="82" y="53"/>
                  </a:lnTo>
                  <a:lnTo>
                    <a:pt x="77" y="45"/>
                  </a:lnTo>
                  <a:lnTo>
                    <a:pt x="76" y="36"/>
                  </a:lnTo>
                  <a:lnTo>
                    <a:pt x="81" y="26"/>
                  </a:lnTo>
                  <a:lnTo>
                    <a:pt x="91" y="17"/>
                  </a:lnTo>
                  <a:lnTo>
                    <a:pt x="104" y="9"/>
                  </a:lnTo>
                  <a:lnTo>
                    <a:pt x="118" y="5"/>
                  </a:lnTo>
                  <a:lnTo>
                    <a:pt x="135" y="1"/>
                  </a:lnTo>
                  <a:lnTo>
                    <a:pt x="150" y="0"/>
                  </a:lnTo>
                  <a:lnTo>
                    <a:pt x="168" y="3"/>
                  </a:lnTo>
                  <a:lnTo>
                    <a:pt x="183" y="8"/>
                  </a:lnTo>
                  <a:lnTo>
                    <a:pt x="197" y="15"/>
                  </a:lnTo>
                  <a:lnTo>
                    <a:pt x="208" y="26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38680" y="269280"/>
              <a:ext cx="64440" cy="108720"/>
            </a:xfrm>
            <a:custGeom>
              <a:avLst/>
              <a:gdLst/>
              <a:ahLst/>
              <a:rect l="l" t="t" r="r" b="b"/>
              <a:pathLst>
                <a:path w="102" h="205">
                  <a:moveTo>
                    <a:pt x="102" y="15"/>
                  </a:moveTo>
                  <a:lnTo>
                    <a:pt x="101" y="40"/>
                  </a:lnTo>
                  <a:lnTo>
                    <a:pt x="93" y="62"/>
                  </a:lnTo>
                  <a:lnTo>
                    <a:pt x="82" y="81"/>
                  </a:lnTo>
                  <a:lnTo>
                    <a:pt x="71" y="101"/>
                  </a:lnTo>
                  <a:lnTo>
                    <a:pt x="68" y="127"/>
                  </a:lnTo>
                  <a:lnTo>
                    <a:pt x="67" y="154"/>
                  </a:lnTo>
                  <a:lnTo>
                    <a:pt x="63" y="180"/>
                  </a:lnTo>
                  <a:lnTo>
                    <a:pt x="57" y="205"/>
                  </a:lnTo>
                  <a:lnTo>
                    <a:pt x="43" y="193"/>
                  </a:lnTo>
                  <a:lnTo>
                    <a:pt x="35" y="177"/>
                  </a:lnTo>
                  <a:lnTo>
                    <a:pt x="29" y="160"/>
                  </a:lnTo>
                  <a:lnTo>
                    <a:pt x="25" y="141"/>
                  </a:lnTo>
                  <a:lnTo>
                    <a:pt x="20" y="123"/>
                  </a:lnTo>
                  <a:lnTo>
                    <a:pt x="15" y="104"/>
                  </a:lnTo>
                  <a:lnTo>
                    <a:pt x="9" y="85"/>
                  </a:lnTo>
                  <a:lnTo>
                    <a:pt x="0" y="70"/>
                  </a:lnTo>
                  <a:lnTo>
                    <a:pt x="1" y="53"/>
                  </a:lnTo>
                  <a:lnTo>
                    <a:pt x="6" y="36"/>
                  </a:lnTo>
                  <a:lnTo>
                    <a:pt x="15" y="20"/>
                  </a:lnTo>
                  <a:lnTo>
                    <a:pt x="29" y="11"/>
                  </a:lnTo>
                  <a:lnTo>
                    <a:pt x="39" y="9"/>
                  </a:lnTo>
                  <a:lnTo>
                    <a:pt x="48" y="6"/>
                  </a:lnTo>
                  <a:lnTo>
                    <a:pt x="57" y="3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6" y="6"/>
                  </a:lnTo>
                  <a:lnTo>
                    <a:pt x="102" y="15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3920" y="277560"/>
              <a:ext cx="55440" cy="55800"/>
            </a:xfrm>
            <a:custGeom>
              <a:avLst/>
              <a:gdLst/>
              <a:ahLst/>
              <a:rect l="l" t="t" r="r" b="b"/>
              <a:pathLst>
                <a:path w="88" h="106">
                  <a:moveTo>
                    <a:pt x="88" y="41"/>
                  </a:moveTo>
                  <a:lnTo>
                    <a:pt x="84" y="61"/>
                  </a:lnTo>
                  <a:lnTo>
                    <a:pt x="73" y="78"/>
                  </a:lnTo>
                  <a:lnTo>
                    <a:pt x="59" y="94"/>
                  </a:lnTo>
                  <a:lnTo>
                    <a:pt x="43" y="106"/>
                  </a:lnTo>
                  <a:lnTo>
                    <a:pt x="29" y="106"/>
                  </a:lnTo>
                  <a:lnTo>
                    <a:pt x="18" y="98"/>
                  </a:lnTo>
                  <a:lnTo>
                    <a:pt x="9" y="89"/>
                  </a:lnTo>
                  <a:lnTo>
                    <a:pt x="0" y="78"/>
                  </a:lnTo>
                  <a:lnTo>
                    <a:pt x="1" y="66"/>
                  </a:lnTo>
                  <a:lnTo>
                    <a:pt x="4" y="53"/>
                  </a:lnTo>
                  <a:lnTo>
                    <a:pt x="11" y="44"/>
                  </a:lnTo>
                  <a:lnTo>
                    <a:pt x="18" y="35"/>
                  </a:lnTo>
                  <a:lnTo>
                    <a:pt x="28" y="25"/>
                  </a:lnTo>
                  <a:lnTo>
                    <a:pt x="37" y="16"/>
                  </a:lnTo>
                  <a:lnTo>
                    <a:pt x="46" y="8"/>
                  </a:lnTo>
                  <a:lnTo>
                    <a:pt x="57" y="0"/>
                  </a:lnTo>
                  <a:lnTo>
                    <a:pt x="71" y="5"/>
                  </a:lnTo>
                  <a:lnTo>
                    <a:pt x="79" y="16"/>
                  </a:lnTo>
                  <a:lnTo>
                    <a:pt x="84" y="28"/>
                  </a:lnTo>
                  <a:lnTo>
                    <a:pt x="88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56520" y="295560"/>
              <a:ext cx="30240" cy="2628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6"/>
                  </a:moveTo>
                  <a:lnTo>
                    <a:pt x="45" y="19"/>
                  </a:lnTo>
                  <a:lnTo>
                    <a:pt x="39" y="31"/>
                  </a:lnTo>
                  <a:lnTo>
                    <a:pt x="28" y="40"/>
                  </a:lnTo>
                  <a:lnTo>
                    <a:pt x="19" y="51"/>
                  </a:lnTo>
                  <a:lnTo>
                    <a:pt x="14" y="50"/>
                  </a:lnTo>
                  <a:lnTo>
                    <a:pt x="9" y="45"/>
                  </a:lnTo>
                  <a:lnTo>
                    <a:pt x="5" y="42"/>
                  </a:lnTo>
                  <a:lnTo>
                    <a:pt x="0" y="37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4" y="14"/>
                  </a:lnTo>
                  <a:lnTo>
                    <a:pt x="20" y="8"/>
                  </a:lnTo>
                  <a:lnTo>
                    <a:pt x="28" y="3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8" y="6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6560" y="311400"/>
              <a:ext cx="42840" cy="79200"/>
            </a:xfrm>
            <a:custGeom>
              <a:avLst/>
              <a:gdLst/>
              <a:ahLst/>
              <a:rect l="l" t="t" r="r" b="b"/>
              <a:pathLst>
                <a:path w="69" h="151">
                  <a:moveTo>
                    <a:pt x="45" y="126"/>
                  </a:moveTo>
                  <a:lnTo>
                    <a:pt x="33" y="129"/>
                  </a:lnTo>
                  <a:lnTo>
                    <a:pt x="22" y="135"/>
                  </a:lnTo>
                  <a:lnTo>
                    <a:pt x="11" y="142"/>
                  </a:lnTo>
                  <a:lnTo>
                    <a:pt x="0" y="151"/>
                  </a:lnTo>
                  <a:lnTo>
                    <a:pt x="5" y="137"/>
                  </a:lnTo>
                  <a:lnTo>
                    <a:pt x="10" y="121"/>
                  </a:lnTo>
                  <a:lnTo>
                    <a:pt x="16" y="107"/>
                  </a:lnTo>
                  <a:lnTo>
                    <a:pt x="22" y="92"/>
                  </a:lnTo>
                  <a:lnTo>
                    <a:pt x="30" y="76"/>
                  </a:lnTo>
                  <a:lnTo>
                    <a:pt x="38" y="61"/>
                  </a:lnTo>
                  <a:lnTo>
                    <a:pt x="44" y="47"/>
                  </a:lnTo>
                  <a:lnTo>
                    <a:pt x="52" y="31"/>
                  </a:lnTo>
                  <a:lnTo>
                    <a:pt x="69" y="0"/>
                  </a:lnTo>
                  <a:lnTo>
                    <a:pt x="66" y="31"/>
                  </a:lnTo>
                  <a:lnTo>
                    <a:pt x="66" y="65"/>
                  </a:lnTo>
                  <a:lnTo>
                    <a:pt x="61" y="98"/>
                  </a:lnTo>
                  <a:lnTo>
                    <a:pt x="45" y="126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768880" y="317880"/>
              <a:ext cx="30240" cy="1548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47" y="31"/>
                  </a:moveTo>
                  <a:lnTo>
                    <a:pt x="40" y="30"/>
                  </a:lnTo>
                  <a:lnTo>
                    <a:pt x="34" y="28"/>
                  </a:lnTo>
                  <a:lnTo>
                    <a:pt x="28" y="26"/>
                  </a:lnTo>
                  <a:lnTo>
                    <a:pt x="22" y="23"/>
                  </a:lnTo>
                  <a:lnTo>
                    <a:pt x="15" y="20"/>
                  </a:lnTo>
                  <a:lnTo>
                    <a:pt x="9" y="17"/>
                  </a:lnTo>
                  <a:lnTo>
                    <a:pt x="5" y="16"/>
                  </a:lnTo>
                  <a:lnTo>
                    <a:pt x="0" y="12"/>
                  </a:lnTo>
                  <a:lnTo>
                    <a:pt x="12" y="0"/>
                  </a:lnTo>
                  <a:lnTo>
                    <a:pt x="23" y="8"/>
                  </a:lnTo>
                  <a:lnTo>
                    <a:pt x="33" y="12"/>
                  </a:lnTo>
                  <a:lnTo>
                    <a:pt x="42" y="2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709120" y="338760"/>
              <a:ext cx="20160" cy="2196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31" y="38"/>
                  </a:moveTo>
                  <a:lnTo>
                    <a:pt x="25" y="42"/>
                  </a:lnTo>
                  <a:lnTo>
                    <a:pt x="19" y="41"/>
                  </a:lnTo>
                  <a:lnTo>
                    <a:pt x="13" y="36"/>
                  </a:lnTo>
                  <a:lnTo>
                    <a:pt x="6" y="32"/>
                  </a:lnTo>
                  <a:lnTo>
                    <a:pt x="2" y="25"/>
                  </a:lnTo>
                  <a:lnTo>
                    <a:pt x="0" y="18"/>
                  </a:lnTo>
                  <a:lnTo>
                    <a:pt x="0" y="8"/>
                  </a:lnTo>
                  <a:lnTo>
                    <a:pt x="2" y="0"/>
                  </a:lnTo>
                  <a:lnTo>
                    <a:pt x="16" y="2"/>
                  </a:lnTo>
                  <a:lnTo>
                    <a:pt x="22" y="13"/>
                  </a:lnTo>
                  <a:lnTo>
                    <a:pt x="27" y="25"/>
                  </a:lnTo>
                  <a:lnTo>
                    <a:pt x="31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05800" y="361080"/>
              <a:ext cx="219600" cy="298080"/>
            </a:xfrm>
            <a:custGeom>
              <a:avLst/>
              <a:gdLst/>
              <a:ahLst/>
              <a:rect l="l" t="t" r="r" b="b"/>
              <a:pathLst>
                <a:path w="349" h="565">
                  <a:moveTo>
                    <a:pt x="97" y="14"/>
                  </a:moveTo>
                  <a:lnTo>
                    <a:pt x="100" y="27"/>
                  </a:lnTo>
                  <a:lnTo>
                    <a:pt x="106" y="39"/>
                  </a:lnTo>
                  <a:lnTo>
                    <a:pt x="112" y="52"/>
                  </a:lnTo>
                  <a:lnTo>
                    <a:pt x="118" y="63"/>
                  </a:lnTo>
                  <a:lnTo>
                    <a:pt x="128" y="74"/>
                  </a:lnTo>
                  <a:lnTo>
                    <a:pt x="137" y="83"/>
                  </a:lnTo>
                  <a:lnTo>
                    <a:pt x="148" y="91"/>
                  </a:lnTo>
                  <a:lnTo>
                    <a:pt x="159" y="97"/>
                  </a:lnTo>
                  <a:lnTo>
                    <a:pt x="178" y="98"/>
                  </a:lnTo>
                  <a:lnTo>
                    <a:pt x="195" y="98"/>
                  </a:lnTo>
                  <a:lnTo>
                    <a:pt x="212" y="95"/>
                  </a:lnTo>
                  <a:lnTo>
                    <a:pt x="229" y="91"/>
                  </a:lnTo>
                  <a:lnTo>
                    <a:pt x="246" y="84"/>
                  </a:lnTo>
                  <a:lnTo>
                    <a:pt x="261" y="75"/>
                  </a:lnTo>
                  <a:lnTo>
                    <a:pt x="277" y="66"/>
                  </a:lnTo>
                  <a:lnTo>
                    <a:pt x="293" y="55"/>
                  </a:lnTo>
                  <a:lnTo>
                    <a:pt x="305" y="70"/>
                  </a:lnTo>
                  <a:lnTo>
                    <a:pt x="316" y="86"/>
                  </a:lnTo>
                  <a:lnTo>
                    <a:pt x="324" y="105"/>
                  </a:lnTo>
                  <a:lnTo>
                    <a:pt x="330" y="123"/>
                  </a:lnTo>
                  <a:lnTo>
                    <a:pt x="335" y="144"/>
                  </a:lnTo>
                  <a:lnTo>
                    <a:pt x="338" y="164"/>
                  </a:lnTo>
                  <a:lnTo>
                    <a:pt x="342" y="184"/>
                  </a:lnTo>
                  <a:lnTo>
                    <a:pt x="347" y="203"/>
                  </a:lnTo>
                  <a:lnTo>
                    <a:pt x="349" y="252"/>
                  </a:lnTo>
                  <a:lnTo>
                    <a:pt x="344" y="301"/>
                  </a:lnTo>
                  <a:lnTo>
                    <a:pt x="331" y="346"/>
                  </a:lnTo>
                  <a:lnTo>
                    <a:pt x="313" y="389"/>
                  </a:lnTo>
                  <a:lnTo>
                    <a:pt x="288" y="430"/>
                  </a:lnTo>
                  <a:lnTo>
                    <a:pt x="258" y="465"/>
                  </a:lnTo>
                  <a:lnTo>
                    <a:pt x="223" y="498"/>
                  </a:lnTo>
                  <a:lnTo>
                    <a:pt x="182" y="526"/>
                  </a:lnTo>
                  <a:lnTo>
                    <a:pt x="168" y="531"/>
                  </a:lnTo>
                  <a:lnTo>
                    <a:pt x="156" y="537"/>
                  </a:lnTo>
                  <a:lnTo>
                    <a:pt x="142" y="543"/>
                  </a:lnTo>
                  <a:lnTo>
                    <a:pt x="128" y="548"/>
                  </a:lnTo>
                  <a:lnTo>
                    <a:pt x="114" y="553"/>
                  </a:lnTo>
                  <a:lnTo>
                    <a:pt x="100" y="557"/>
                  </a:lnTo>
                  <a:lnTo>
                    <a:pt x="87" y="562"/>
                  </a:lnTo>
                  <a:lnTo>
                    <a:pt x="73" y="565"/>
                  </a:lnTo>
                  <a:lnTo>
                    <a:pt x="67" y="559"/>
                  </a:lnTo>
                  <a:lnTo>
                    <a:pt x="64" y="549"/>
                  </a:lnTo>
                  <a:lnTo>
                    <a:pt x="62" y="540"/>
                  </a:lnTo>
                  <a:lnTo>
                    <a:pt x="62" y="531"/>
                  </a:lnTo>
                  <a:lnTo>
                    <a:pt x="87" y="504"/>
                  </a:lnTo>
                  <a:lnTo>
                    <a:pt x="109" y="475"/>
                  </a:lnTo>
                  <a:lnTo>
                    <a:pt x="128" y="445"/>
                  </a:lnTo>
                  <a:lnTo>
                    <a:pt x="143" y="413"/>
                  </a:lnTo>
                  <a:lnTo>
                    <a:pt x="156" y="382"/>
                  </a:lnTo>
                  <a:lnTo>
                    <a:pt x="167" y="347"/>
                  </a:lnTo>
                  <a:lnTo>
                    <a:pt x="174" y="313"/>
                  </a:lnTo>
                  <a:lnTo>
                    <a:pt x="179" y="277"/>
                  </a:lnTo>
                  <a:lnTo>
                    <a:pt x="178" y="266"/>
                  </a:lnTo>
                  <a:lnTo>
                    <a:pt x="173" y="254"/>
                  </a:lnTo>
                  <a:lnTo>
                    <a:pt x="167" y="245"/>
                  </a:lnTo>
                  <a:lnTo>
                    <a:pt x="159" y="237"/>
                  </a:lnTo>
                  <a:lnTo>
                    <a:pt x="154" y="237"/>
                  </a:lnTo>
                  <a:lnTo>
                    <a:pt x="151" y="238"/>
                  </a:lnTo>
                  <a:lnTo>
                    <a:pt x="150" y="243"/>
                  </a:lnTo>
                  <a:lnTo>
                    <a:pt x="148" y="246"/>
                  </a:lnTo>
                  <a:lnTo>
                    <a:pt x="151" y="270"/>
                  </a:lnTo>
                  <a:lnTo>
                    <a:pt x="150" y="291"/>
                  </a:lnTo>
                  <a:lnTo>
                    <a:pt x="146" y="315"/>
                  </a:lnTo>
                  <a:lnTo>
                    <a:pt x="142" y="336"/>
                  </a:lnTo>
                  <a:lnTo>
                    <a:pt x="134" y="358"/>
                  </a:lnTo>
                  <a:lnTo>
                    <a:pt x="126" y="378"/>
                  </a:lnTo>
                  <a:lnTo>
                    <a:pt x="117" y="399"/>
                  </a:lnTo>
                  <a:lnTo>
                    <a:pt x="108" y="419"/>
                  </a:lnTo>
                  <a:lnTo>
                    <a:pt x="87" y="445"/>
                  </a:lnTo>
                  <a:lnTo>
                    <a:pt x="87" y="402"/>
                  </a:lnTo>
                  <a:lnTo>
                    <a:pt x="86" y="358"/>
                  </a:lnTo>
                  <a:lnTo>
                    <a:pt x="83" y="315"/>
                  </a:lnTo>
                  <a:lnTo>
                    <a:pt x="76" y="271"/>
                  </a:lnTo>
                  <a:lnTo>
                    <a:pt x="69" y="228"/>
                  </a:lnTo>
                  <a:lnTo>
                    <a:pt x="61" y="186"/>
                  </a:lnTo>
                  <a:lnTo>
                    <a:pt x="52" y="144"/>
                  </a:lnTo>
                  <a:lnTo>
                    <a:pt x="42" y="103"/>
                  </a:lnTo>
                  <a:lnTo>
                    <a:pt x="34" y="80"/>
                  </a:lnTo>
                  <a:lnTo>
                    <a:pt x="20" y="44"/>
                  </a:lnTo>
                  <a:lnTo>
                    <a:pt x="6" y="14"/>
                  </a:lnTo>
                  <a:lnTo>
                    <a:pt x="0" y="0"/>
                  </a:lnTo>
                  <a:lnTo>
                    <a:pt x="13" y="2"/>
                  </a:lnTo>
                  <a:lnTo>
                    <a:pt x="24" y="4"/>
                  </a:lnTo>
                  <a:lnTo>
                    <a:pt x="36" y="4"/>
                  </a:lnTo>
                  <a:lnTo>
                    <a:pt x="48" y="5"/>
                  </a:lnTo>
                  <a:lnTo>
                    <a:pt x="61" y="7"/>
                  </a:lnTo>
                  <a:lnTo>
                    <a:pt x="73" y="8"/>
                  </a:lnTo>
                  <a:lnTo>
                    <a:pt x="86" y="10"/>
                  </a:lnTo>
                  <a:lnTo>
                    <a:pt x="97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76760" y="446760"/>
              <a:ext cx="70560" cy="88560"/>
            </a:xfrm>
            <a:custGeom>
              <a:avLst/>
              <a:gdLst/>
              <a:ahLst/>
              <a:rect l="l" t="t" r="r" b="b"/>
              <a:pathLst>
                <a:path w="112" h="168">
                  <a:moveTo>
                    <a:pt x="92" y="151"/>
                  </a:moveTo>
                  <a:lnTo>
                    <a:pt x="87" y="159"/>
                  </a:lnTo>
                  <a:lnTo>
                    <a:pt x="81" y="164"/>
                  </a:lnTo>
                  <a:lnTo>
                    <a:pt x="75" y="167"/>
                  </a:lnTo>
                  <a:lnTo>
                    <a:pt x="67" y="168"/>
                  </a:lnTo>
                  <a:lnTo>
                    <a:pt x="59" y="168"/>
                  </a:lnTo>
                  <a:lnTo>
                    <a:pt x="51" y="167"/>
                  </a:lnTo>
                  <a:lnTo>
                    <a:pt x="42" y="162"/>
                  </a:lnTo>
                  <a:lnTo>
                    <a:pt x="31" y="156"/>
                  </a:lnTo>
                  <a:lnTo>
                    <a:pt x="12" y="140"/>
                  </a:lnTo>
                  <a:lnTo>
                    <a:pt x="3" y="123"/>
                  </a:lnTo>
                  <a:lnTo>
                    <a:pt x="0" y="104"/>
                  </a:lnTo>
                  <a:lnTo>
                    <a:pt x="5" y="84"/>
                  </a:lnTo>
                  <a:lnTo>
                    <a:pt x="9" y="64"/>
                  </a:lnTo>
                  <a:lnTo>
                    <a:pt x="17" y="44"/>
                  </a:lnTo>
                  <a:lnTo>
                    <a:pt x="22" y="25"/>
                  </a:lnTo>
                  <a:lnTo>
                    <a:pt x="23" y="6"/>
                  </a:lnTo>
                  <a:lnTo>
                    <a:pt x="34" y="8"/>
                  </a:lnTo>
                  <a:lnTo>
                    <a:pt x="45" y="10"/>
                  </a:lnTo>
                  <a:lnTo>
                    <a:pt x="56" y="10"/>
                  </a:lnTo>
                  <a:lnTo>
                    <a:pt x="67" y="8"/>
                  </a:lnTo>
                  <a:lnTo>
                    <a:pt x="79" y="6"/>
                  </a:lnTo>
                  <a:lnTo>
                    <a:pt x="90" y="5"/>
                  </a:lnTo>
                  <a:lnTo>
                    <a:pt x="101" y="3"/>
                  </a:lnTo>
                  <a:lnTo>
                    <a:pt x="112" y="0"/>
                  </a:lnTo>
                  <a:lnTo>
                    <a:pt x="107" y="36"/>
                  </a:lnTo>
                  <a:lnTo>
                    <a:pt x="101" y="73"/>
                  </a:lnTo>
                  <a:lnTo>
                    <a:pt x="95" y="112"/>
                  </a:lnTo>
                  <a:lnTo>
                    <a:pt x="92" y="151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94400" y="463680"/>
              <a:ext cx="25200" cy="1692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38" y="33"/>
                  </a:moveTo>
                  <a:lnTo>
                    <a:pt x="29" y="28"/>
                  </a:lnTo>
                  <a:lnTo>
                    <a:pt x="20" y="25"/>
                  </a:lnTo>
                  <a:lnTo>
                    <a:pt x="10" y="22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3"/>
                  </a:lnTo>
                  <a:lnTo>
                    <a:pt x="4" y="0"/>
                  </a:lnTo>
                  <a:lnTo>
                    <a:pt x="15" y="6"/>
                  </a:lnTo>
                  <a:lnTo>
                    <a:pt x="28" y="12"/>
                  </a:lnTo>
                  <a:lnTo>
                    <a:pt x="37" y="20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49840" y="494280"/>
              <a:ext cx="203400" cy="325440"/>
            </a:xfrm>
            <a:custGeom>
              <a:avLst/>
              <a:gdLst/>
              <a:ahLst/>
              <a:rect l="l" t="t" r="r" b="b"/>
              <a:pathLst>
                <a:path w="322" h="618">
                  <a:moveTo>
                    <a:pt x="79" y="81"/>
                  </a:moveTo>
                  <a:lnTo>
                    <a:pt x="81" y="133"/>
                  </a:lnTo>
                  <a:lnTo>
                    <a:pt x="79" y="184"/>
                  </a:lnTo>
                  <a:lnTo>
                    <a:pt x="76" y="235"/>
                  </a:lnTo>
                  <a:lnTo>
                    <a:pt x="74" y="285"/>
                  </a:lnTo>
                  <a:lnTo>
                    <a:pt x="81" y="297"/>
                  </a:lnTo>
                  <a:lnTo>
                    <a:pt x="88" y="307"/>
                  </a:lnTo>
                  <a:lnTo>
                    <a:pt x="99" y="313"/>
                  </a:lnTo>
                  <a:lnTo>
                    <a:pt x="110" y="321"/>
                  </a:lnTo>
                  <a:lnTo>
                    <a:pt x="121" y="327"/>
                  </a:lnTo>
                  <a:lnTo>
                    <a:pt x="129" y="336"/>
                  </a:lnTo>
                  <a:lnTo>
                    <a:pt x="135" y="346"/>
                  </a:lnTo>
                  <a:lnTo>
                    <a:pt x="137" y="360"/>
                  </a:lnTo>
                  <a:lnTo>
                    <a:pt x="140" y="380"/>
                  </a:lnTo>
                  <a:lnTo>
                    <a:pt x="147" y="397"/>
                  </a:lnTo>
                  <a:lnTo>
                    <a:pt x="160" y="413"/>
                  </a:lnTo>
                  <a:lnTo>
                    <a:pt x="177" y="423"/>
                  </a:lnTo>
                  <a:lnTo>
                    <a:pt x="186" y="428"/>
                  </a:lnTo>
                  <a:lnTo>
                    <a:pt x="194" y="433"/>
                  </a:lnTo>
                  <a:lnTo>
                    <a:pt x="203" y="439"/>
                  </a:lnTo>
                  <a:lnTo>
                    <a:pt x="213" y="445"/>
                  </a:lnTo>
                  <a:lnTo>
                    <a:pt x="221" y="451"/>
                  </a:lnTo>
                  <a:lnTo>
                    <a:pt x="228" y="458"/>
                  </a:lnTo>
                  <a:lnTo>
                    <a:pt x="236" y="465"/>
                  </a:lnTo>
                  <a:lnTo>
                    <a:pt x="242" y="472"/>
                  </a:lnTo>
                  <a:lnTo>
                    <a:pt x="242" y="492"/>
                  </a:lnTo>
                  <a:lnTo>
                    <a:pt x="247" y="511"/>
                  </a:lnTo>
                  <a:lnTo>
                    <a:pt x="255" y="526"/>
                  </a:lnTo>
                  <a:lnTo>
                    <a:pt x="267" y="542"/>
                  </a:lnTo>
                  <a:lnTo>
                    <a:pt x="280" y="556"/>
                  </a:lnTo>
                  <a:lnTo>
                    <a:pt x="295" y="570"/>
                  </a:lnTo>
                  <a:lnTo>
                    <a:pt x="309" y="584"/>
                  </a:lnTo>
                  <a:lnTo>
                    <a:pt x="322" y="598"/>
                  </a:lnTo>
                  <a:lnTo>
                    <a:pt x="297" y="610"/>
                  </a:lnTo>
                  <a:lnTo>
                    <a:pt x="272" y="616"/>
                  </a:lnTo>
                  <a:lnTo>
                    <a:pt x="244" y="618"/>
                  </a:lnTo>
                  <a:lnTo>
                    <a:pt x="217" y="613"/>
                  </a:lnTo>
                  <a:lnTo>
                    <a:pt x="189" y="609"/>
                  </a:lnTo>
                  <a:lnTo>
                    <a:pt x="161" y="601"/>
                  </a:lnTo>
                  <a:lnTo>
                    <a:pt x="137" y="596"/>
                  </a:lnTo>
                  <a:lnTo>
                    <a:pt x="112" y="591"/>
                  </a:lnTo>
                  <a:lnTo>
                    <a:pt x="96" y="562"/>
                  </a:lnTo>
                  <a:lnTo>
                    <a:pt x="84" y="531"/>
                  </a:lnTo>
                  <a:lnTo>
                    <a:pt x="71" y="498"/>
                  </a:lnTo>
                  <a:lnTo>
                    <a:pt x="62" y="465"/>
                  </a:lnTo>
                  <a:lnTo>
                    <a:pt x="53" y="433"/>
                  </a:lnTo>
                  <a:lnTo>
                    <a:pt x="43" y="400"/>
                  </a:lnTo>
                  <a:lnTo>
                    <a:pt x="32" y="367"/>
                  </a:lnTo>
                  <a:lnTo>
                    <a:pt x="23" y="335"/>
                  </a:lnTo>
                  <a:lnTo>
                    <a:pt x="9" y="260"/>
                  </a:lnTo>
                  <a:lnTo>
                    <a:pt x="1" y="181"/>
                  </a:lnTo>
                  <a:lnTo>
                    <a:pt x="0" y="102"/>
                  </a:lnTo>
                  <a:lnTo>
                    <a:pt x="3" y="22"/>
                  </a:lnTo>
                  <a:lnTo>
                    <a:pt x="12" y="0"/>
                  </a:lnTo>
                  <a:lnTo>
                    <a:pt x="25" y="7"/>
                  </a:lnTo>
                  <a:lnTo>
                    <a:pt x="35" y="14"/>
                  </a:lnTo>
                  <a:lnTo>
                    <a:pt x="45" y="24"/>
                  </a:lnTo>
                  <a:lnTo>
                    <a:pt x="54" y="35"/>
                  </a:lnTo>
                  <a:lnTo>
                    <a:pt x="62" y="46"/>
                  </a:lnTo>
                  <a:lnTo>
                    <a:pt x="70" y="58"/>
                  </a:lnTo>
                  <a:lnTo>
                    <a:pt x="74" y="69"/>
                  </a:lnTo>
                  <a:lnTo>
                    <a:pt x="79" y="81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00520" y="509400"/>
              <a:ext cx="23760" cy="17640"/>
            </a:xfrm>
            <a:custGeom>
              <a:avLst/>
              <a:gdLst/>
              <a:ahLst/>
              <a:rect l="l" t="t" r="r" b="b"/>
              <a:pathLst>
                <a:path w="37" h="35">
                  <a:moveTo>
                    <a:pt x="37" y="32"/>
                  </a:moveTo>
                  <a:lnTo>
                    <a:pt x="29" y="35"/>
                  </a:lnTo>
                  <a:lnTo>
                    <a:pt x="23" y="32"/>
                  </a:lnTo>
                  <a:lnTo>
                    <a:pt x="15" y="27"/>
                  </a:lnTo>
                  <a:lnTo>
                    <a:pt x="8" y="22"/>
                  </a:lnTo>
                  <a:lnTo>
                    <a:pt x="3" y="18"/>
                  </a:lnTo>
                  <a:lnTo>
                    <a:pt x="0" y="11"/>
                  </a:lnTo>
                  <a:lnTo>
                    <a:pt x="0" y="5"/>
                  </a:lnTo>
                  <a:lnTo>
                    <a:pt x="5" y="0"/>
                  </a:lnTo>
                  <a:lnTo>
                    <a:pt x="14" y="7"/>
                  </a:lnTo>
                  <a:lnTo>
                    <a:pt x="22" y="14"/>
                  </a:lnTo>
                  <a:lnTo>
                    <a:pt x="29" y="22"/>
                  </a:lnTo>
                  <a:lnTo>
                    <a:pt x="3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52560" y="524160"/>
              <a:ext cx="252720" cy="288720"/>
            </a:xfrm>
            <a:custGeom>
              <a:avLst/>
              <a:gdLst/>
              <a:ahLst/>
              <a:rect l="l" t="t" r="r" b="b"/>
              <a:pathLst>
                <a:path w="401" h="546">
                  <a:moveTo>
                    <a:pt x="188" y="5"/>
                  </a:moveTo>
                  <a:lnTo>
                    <a:pt x="198" y="18"/>
                  </a:lnTo>
                  <a:lnTo>
                    <a:pt x="207" y="27"/>
                  </a:lnTo>
                  <a:lnTo>
                    <a:pt x="218" y="33"/>
                  </a:lnTo>
                  <a:lnTo>
                    <a:pt x="230" y="39"/>
                  </a:lnTo>
                  <a:lnTo>
                    <a:pt x="243" y="42"/>
                  </a:lnTo>
                  <a:lnTo>
                    <a:pt x="255" y="44"/>
                  </a:lnTo>
                  <a:lnTo>
                    <a:pt x="269" y="46"/>
                  </a:lnTo>
                  <a:lnTo>
                    <a:pt x="283" y="46"/>
                  </a:lnTo>
                  <a:lnTo>
                    <a:pt x="285" y="112"/>
                  </a:lnTo>
                  <a:lnTo>
                    <a:pt x="291" y="178"/>
                  </a:lnTo>
                  <a:lnTo>
                    <a:pt x="300" y="243"/>
                  </a:lnTo>
                  <a:lnTo>
                    <a:pt x="314" y="305"/>
                  </a:lnTo>
                  <a:lnTo>
                    <a:pt x="331" y="366"/>
                  </a:lnTo>
                  <a:lnTo>
                    <a:pt x="352" y="425"/>
                  </a:lnTo>
                  <a:lnTo>
                    <a:pt x="375" y="484"/>
                  </a:lnTo>
                  <a:lnTo>
                    <a:pt x="401" y="542"/>
                  </a:lnTo>
                  <a:lnTo>
                    <a:pt x="389" y="540"/>
                  </a:lnTo>
                  <a:lnTo>
                    <a:pt x="376" y="539"/>
                  </a:lnTo>
                  <a:lnTo>
                    <a:pt x="364" y="537"/>
                  </a:lnTo>
                  <a:lnTo>
                    <a:pt x="352" y="537"/>
                  </a:lnTo>
                  <a:lnTo>
                    <a:pt x="339" y="534"/>
                  </a:lnTo>
                  <a:lnTo>
                    <a:pt x="328" y="529"/>
                  </a:lnTo>
                  <a:lnTo>
                    <a:pt x="320" y="521"/>
                  </a:lnTo>
                  <a:lnTo>
                    <a:pt x="313" y="509"/>
                  </a:lnTo>
                  <a:lnTo>
                    <a:pt x="292" y="504"/>
                  </a:lnTo>
                  <a:lnTo>
                    <a:pt x="271" y="500"/>
                  </a:lnTo>
                  <a:lnTo>
                    <a:pt x="249" y="493"/>
                  </a:lnTo>
                  <a:lnTo>
                    <a:pt x="229" y="486"/>
                  </a:lnTo>
                  <a:lnTo>
                    <a:pt x="210" y="476"/>
                  </a:lnTo>
                  <a:lnTo>
                    <a:pt x="193" y="462"/>
                  </a:lnTo>
                  <a:lnTo>
                    <a:pt x="180" y="445"/>
                  </a:lnTo>
                  <a:lnTo>
                    <a:pt x="173" y="422"/>
                  </a:lnTo>
                  <a:lnTo>
                    <a:pt x="170" y="397"/>
                  </a:lnTo>
                  <a:lnTo>
                    <a:pt x="170" y="372"/>
                  </a:lnTo>
                  <a:lnTo>
                    <a:pt x="171" y="349"/>
                  </a:lnTo>
                  <a:lnTo>
                    <a:pt x="176" y="324"/>
                  </a:lnTo>
                  <a:lnTo>
                    <a:pt x="182" y="301"/>
                  </a:lnTo>
                  <a:lnTo>
                    <a:pt x="191" y="279"/>
                  </a:lnTo>
                  <a:lnTo>
                    <a:pt x="201" y="257"/>
                  </a:lnTo>
                  <a:lnTo>
                    <a:pt x="213" y="237"/>
                  </a:lnTo>
                  <a:lnTo>
                    <a:pt x="207" y="231"/>
                  </a:lnTo>
                  <a:lnTo>
                    <a:pt x="201" y="224"/>
                  </a:lnTo>
                  <a:lnTo>
                    <a:pt x="193" y="221"/>
                  </a:lnTo>
                  <a:lnTo>
                    <a:pt x="185" y="224"/>
                  </a:lnTo>
                  <a:lnTo>
                    <a:pt x="170" y="249"/>
                  </a:lnTo>
                  <a:lnTo>
                    <a:pt x="156" y="279"/>
                  </a:lnTo>
                  <a:lnTo>
                    <a:pt x="145" y="308"/>
                  </a:lnTo>
                  <a:lnTo>
                    <a:pt x="138" y="339"/>
                  </a:lnTo>
                  <a:lnTo>
                    <a:pt x="137" y="372"/>
                  </a:lnTo>
                  <a:lnTo>
                    <a:pt x="140" y="403"/>
                  </a:lnTo>
                  <a:lnTo>
                    <a:pt x="148" y="433"/>
                  </a:lnTo>
                  <a:lnTo>
                    <a:pt x="163" y="461"/>
                  </a:lnTo>
                  <a:lnTo>
                    <a:pt x="168" y="469"/>
                  </a:lnTo>
                  <a:lnTo>
                    <a:pt x="174" y="476"/>
                  </a:lnTo>
                  <a:lnTo>
                    <a:pt x="180" y="484"/>
                  </a:lnTo>
                  <a:lnTo>
                    <a:pt x="187" y="490"/>
                  </a:lnTo>
                  <a:lnTo>
                    <a:pt x="194" y="497"/>
                  </a:lnTo>
                  <a:lnTo>
                    <a:pt x="202" y="503"/>
                  </a:lnTo>
                  <a:lnTo>
                    <a:pt x="212" y="507"/>
                  </a:lnTo>
                  <a:lnTo>
                    <a:pt x="219" y="512"/>
                  </a:lnTo>
                  <a:lnTo>
                    <a:pt x="221" y="520"/>
                  </a:lnTo>
                  <a:lnTo>
                    <a:pt x="219" y="529"/>
                  </a:lnTo>
                  <a:lnTo>
                    <a:pt x="216" y="539"/>
                  </a:lnTo>
                  <a:lnTo>
                    <a:pt x="213" y="546"/>
                  </a:lnTo>
                  <a:lnTo>
                    <a:pt x="179" y="537"/>
                  </a:lnTo>
                  <a:lnTo>
                    <a:pt x="145" y="521"/>
                  </a:lnTo>
                  <a:lnTo>
                    <a:pt x="114" y="501"/>
                  </a:lnTo>
                  <a:lnTo>
                    <a:pt x="84" y="476"/>
                  </a:lnTo>
                  <a:lnTo>
                    <a:pt x="58" y="448"/>
                  </a:lnTo>
                  <a:lnTo>
                    <a:pt x="34" y="419"/>
                  </a:lnTo>
                  <a:lnTo>
                    <a:pt x="16" y="386"/>
                  </a:lnTo>
                  <a:lnTo>
                    <a:pt x="3" y="353"/>
                  </a:lnTo>
                  <a:lnTo>
                    <a:pt x="0" y="304"/>
                  </a:lnTo>
                  <a:lnTo>
                    <a:pt x="3" y="254"/>
                  </a:lnTo>
                  <a:lnTo>
                    <a:pt x="13" y="207"/>
                  </a:lnTo>
                  <a:lnTo>
                    <a:pt x="30" y="162"/>
                  </a:lnTo>
                  <a:lnTo>
                    <a:pt x="50" y="119"/>
                  </a:lnTo>
                  <a:lnTo>
                    <a:pt x="75" y="78"/>
                  </a:lnTo>
                  <a:lnTo>
                    <a:pt x="103" y="38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8" y="2"/>
                  </a:lnTo>
                  <a:lnTo>
                    <a:pt x="156" y="4"/>
                  </a:lnTo>
                  <a:lnTo>
                    <a:pt x="162" y="5"/>
                  </a:lnTo>
                  <a:lnTo>
                    <a:pt x="170" y="5"/>
                  </a:lnTo>
                  <a:lnTo>
                    <a:pt x="176" y="7"/>
                  </a:lnTo>
                  <a:lnTo>
                    <a:pt x="182" y="5"/>
                  </a:lnTo>
                  <a:lnTo>
                    <a:pt x="18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71520" y="579240"/>
              <a:ext cx="131040" cy="109800"/>
            </a:xfrm>
            <a:custGeom>
              <a:avLst/>
              <a:gdLst/>
              <a:ahLst/>
              <a:rect l="l" t="t" r="r" b="b"/>
              <a:pathLst>
                <a:path w="208" h="208">
                  <a:moveTo>
                    <a:pt x="91" y="18"/>
                  </a:moveTo>
                  <a:lnTo>
                    <a:pt x="99" y="34"/>
                  </a:lnTo>
                  <a:lnTo>
                    <a:pt x="110" y="43"/>
                  </a:lnTo>
                  <a:lnTo>
                    <a:pt x="122" y="48"/>
                  </a:lnTo>
                  <a:lnTo>
                    <a:pt x="138" y="51"/>
                  </a:lnTo>
                  <a:lnTo>
                    <a:pt x="154" y="54"/>
                  </a:lnTo>
                  <a:lnTo>
                    <a:pt x="168" y="57"/>
                  </a:lnTo>
                  <a:lnTo>
                    <a:pt x="180" y="65"/>
                  </a:lnTo>
                  <a:lnTo>
                    <a:pt x="189" y="77"/>
                  </a:lnTo>
                  <a:lnTo>
                    <a:pt x="191" y="98"/>
                  </a:lnTo>
                  <a:lnTo>
                    <a:pt x="194" y="118"/>
                  </a:lnTo>
                  <a:lnTo>
                    <a:pt x="199" y="136"/>
                  </a:lnTo>
                  <a:lnTo>
                    <a:pt x="208" y="154"/>
                  </a:lnTo>
                  <a:lnTo>
                    <a:pt x="192" y="158"/>
                  </a:lnTo>
                  <a:lnTo>
                    <a:pt x="177" y="163"/>
                  </a:lnTo>
                  <a:lnTo>
                    <a:pt x="163" y="168"/>
                  </a:lnTo>
                  <a:lnTo>
                    <a:pt x="149" y="174"/>
                  </a:lnTo>
                  <a:lnTo>
                    <a:pt x="135" y="182"/>
                  </a:lnTo>
                  <a:lnTo>
                    <a:pt x="121" y="189"/>
                  </a:lnTo>
                  <a:lnTo>
                    <a:pt x="107" y="199"/>
                  </a:lnTo>
                  <a:lnTo>
                    <a:pt x="94" y="208"/>
                  </a:lnTo>
                  <a:lnTo>
                    <a:pt x="76" y="199"/>
                  </a:lnTo>
                  <a:lnTo>
                    <a:pt x="65" y="186"/>
                  </a:lnTo>
                  <a:lnTo>
                    <a:pt x="60" y="174"/>
                  </a:lnTo>
                  <a:lnTo>
                    <a:pt x="59" y="158"/>
                  </a:lnTo>
                  <a:lnTo>
                    <a:pt x="59" y="144"/>
                  </a:lnTo>
                  <a:lnTo>
                    <a:pt x="57" y="129"/>
                  </a:lnTo>
                  <a:lnTo>
                    <a:pt x="52" y="113"/>
                  </a:lnTo>
                  <a:lnTo>
                    <a:pt x="42" y="99"/>
                  </a:lnTo>
                  <a:lnTo>
                    <a:pt x="34" y="91"/>
                  </a:lnTo>
                  <a:lnTo>
                    <a:pt x="24" y="85"/>
                  </a:lnTo>
                  <a:lnTo>
                    <a:pt x="17" y="77"/>
                  </a:lnTo>
                  <a:lnTo>
                    <a:pt x="9" y="71"/>
                  </a:lnTo>
                  <a:lnTo>
                    <a:pt x="3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4" y="32"/>
                  </a:lnTo>
                  <a:lnTo>
                    <a:pt x="7" y="24"/>
                  </a:lnTo>
                  <a:lnTo>
                    <a:pt x="12" y="15"/>
                  </a:lnTo>
                  <a:lnTo>
                    <a:pt x="15" y="7"/>
                  </a:lnTo>
                  <a:lnTo>
                    <a:pt x="23" y="0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2" y="1"/>
                  </a:lnTo>
                  <a:lnTo>
                    <a:pt x="62" y="1"/>
                  </a:lnTo>
                  <a:lnTo>
                    <a:pt x="71" y="3"/>
                  </a:lnTo>
                  <a:lnTo>
                    <a:pt x="79" y="6"/>
                  </a:lnTo>
                  <a:lnTo>
                    <a:pt x="85" y="10"/>
                  </a:lnTo>
                  <a:lnTo>
                    <a:pt x="91" y="18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42160" y="612720"/>
              <a:ext cx="151560" cy="249480"/>
            </a:xfrm>
            <a:custGeom>
              <a:avLst/>
              <a:gdLst/>
              <a:ahLst/>
              <a:rect l="l" t="t" r="r" b="b"/>
              <a:pathLst>
                <a:path w="240" h="473">
                  <a:moveTo>
                    <a:pt x="223" y="224"/>
                  </a:moveTo>
                  <a:lnTo>
                    <a:pt x="235" y="285"/>
                  </a:lnTo>
                  <a:lnTo>
                    <a:pt x="238" y="347"/>
                  </a:lnTo>
                  <a:lnTo>
                    <a:pt x="234" y="408"/>
                  </a:lnTo>
                  <a:lnTo>
                    <a:pt x="216" y="467"/>
                  </a:lnTo>
                  <a:lnTo>
                    <a:pt x="213" y="469"/>
                  </a:lnTo>
                  <a:lnTo>
                    <a:pt x="209" y="472"/>
                  </a:lnTo>
                  <a:lnTo>
                    <a:pt x="204" y="473"/>
                  </a:lnTo>
                  <a:lnTo>
                    <a:pt x="199" y="469"/>
                  </a:lnTo>
                  <a:lnTo>
                    <a:pt x="69" y="296"/>
                  </a:lnTo>
                  <a:lnTo>
                    <a:pt x="55" y="276"/>
                  </a:lnTo>
                  <a:lnTo>
                    <a:pt x="41" y="255"/>
                  </a:lnTo>
                  <a:lnTo>
                    <a:pt x="28" y="235"/>
                  </a:lnTo>
                  <a:lnTo>
                    <a:pt x="16" y="213"/>
                  </a:lnTo>
                  <a:lnTo>
                    <a:pt x="8" y="192"/>
                  </a:lnTo>
                  <a:lnTo>
                    <a:pt x="2" y="168"/>
                  </a:lnTo>
                  <a:lnTo>
                    <a:pt x="0" y="145"/>
                  </a:lnTo>
                  <a:lnTo>
                    <a:pt x="3" y="122"/>
                  </a:lnTo>
                  <a:lnTo>
                    <a:pt x="10" y="122"/>
                  </a:lnTo>
                  <a:lnTo>
                    <a:pt x="22" y="120"/>
                  </a:lnTo>
                  <a:lnTo>
                    <a:pt x="36" y="117"/>
                  </a:lnTo>
                  <a:lnTo>
                    <a:pt x="47" y="114"/>
                  </a:lnTo>
                  <a:lnTo>
                    <a:pt x="72" y="106"/>
                  </a:lnTo>
                  <a:lnTo>
                    <a:pt x="97" y="95"/>
                  </a:lnTo>
                  <a:lnTo>
                    <a:pt x="120" y="84"/>
                  </a:lnTo>
                  <a:lnTo>
                    <a:pt x="145" y="72"/>
                  </a:lnTo>
                  <a:lnTo>
                    <a:pt x="167" y="56"/>
                  </a:lnTo>
                  <a:lnTo>
                    <a:pt x="190" y="41"/>
                  </a:lnTo>
                  <a:lnTo>
                    <a:pt x="212" y="22"/>
                  </a:lnTo>
                  <a:lnTo>
                    <a:pt x="232" y="0"/>
                  </a:lnTo>
                  <a:lnTo>
                    <a:pt x="240" y="56"/>
                  </a:lnTo>
                  <a:lnTo>
                    <a:pt x="240" y="114"/>
                  </a:lnTo>
                  <a:lnTo>
                    <a:pt x="234" y="170"/>
                  </a:lnTo>
                  <a:lnTo>
                    <a:pt x="223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18320" y="644400"/>
              <a:ext cx="190800" cy="127800"/>
            </a:xfrm>
            <a:custGeom>
              <a:avLst/>
              <a:gdLst/>
              <a:ahLst/>
              <a:rect l="l" t="t" r="r" b="b"/>
              <a:pathLst>
                <a:path w="303" h="241">
                  <a:moveTo>
                    <a:pt x="303" y="0"/>
                  </a:moveTo>
                  <a:lnTo>
                    <a:pt x="303" y="12"/>
                  </a:lnTo>
                  <a:lnTo>
                    <a:pt x="300" y="23"/>
                  </a:lnTo>
                  <a:lnTo>
                    <a:pt x="294" y="33"/>
                  </a:lnTo>
                  <a:lnTo>
                    <a:pt x="286" y="42"/>
                  </a:lnTo>
                  <a:lnTo>
                    <a:pt x="278" y="50"/>
                  </a:lnTo>
                  <a:lnTo>
                    <a:pt x="269" y="59"/>
                  </a:lnTo>
                  <a:lnTo>
                    <a:pt x="259" y="67"/>
                  </a:lnTo>
                  <a:lnTo>
                    <a:pt x="252" y="75"/>
                  </a:lnTo>
                  <a:lnTo>
                    <a:pt x="233" y="95"/>
                  </a:lnTo>
                  <a:lnTo>
                    <a:pt x="210" y="123"/>
                  </a:lnTo>
                  <a:lnTo>
                    <a:pt x="180" y="152"/>
                  </a:lnTo>
                  <a:lnTo>
                    <a:pt x="149" y="184"/>
                  </a:lnTo>
                  <a:lnTo>
                    <a:pt x="115" y="212"/>
                  </a:lnTo>
                  <a:lnTo>
                    <a:pt x="81" y="232"/>
                  </a:lnTo>
                  <a:lnTo>
                    <a:pt x="48" y="241"/>
                  </a:lnTo>
                  <a:lnTo>
                    <a:pt x="17" y="238"/>
                  </a:lnTo>
                  <a:lnTo>
                    <a:pt x="0" y="219"/>
                  </a:lnTo>
                  <a:lnTo>
                    <a:pt x="0" y="190"/>
                  </a:lnTo>
                  <a:lnTo>
                    <a:pt x="9" y="156"/>
                  </a:lnTo>
                  <a:lnTo>
                    <a:pt x="25" y="128"/>
                  </a:lnTo>
                  <a:lnTo>
                    <a:pt x="46" y="107"/>
                  </a:lnTo>
                  <a:lnTo>
                    <a:pt x="70" y="92"/>
                  </a:lnTo>
                  <a:lnTo>
                    <a:pt x="95" y="79"/>
                  </a:lnTo>
                  <a:lnTo>
                    <a:pt x="121" y="70"/>
                  </a:lnTo>
                  <a:lnTo>
                    <a:pt x="147" y="64"/>
                  </a:lnTo>
                  <a:lnTo>
                    <a:pt x="174" y="59"/>
                  </a:lnTo>
                  <a:lnTo>
                    <a:pt x="202" y="59"/>
                  </a:lnTo>
                  <a:lnTo>
                    <a:pt x="230" y="59"/>
                  </a:lnTo>
                  <a:lnTo>
                    <a:pt x="236" y="50"/>
                  </a:lnTo>
                  <a:lnTo>
                    <a:pt x="244" y="40"/>
                  </a:lnTo>
                  <a:lnTo>
                    <a:pt x="252" y="30"/>
                  </a:lnTo>
                  <a:lnTo>
                    <a:pt x="261" y="20"/>
                  </a:lnTo>
                  <a:lnTo>
                    <a:pt x="270" y="12"/>
                  </a:lnTo>
                  <a:lnTo>
                    <a:pt x="281" y="6"/>
                  </a:lnTo>
                  <a:lnTo>
                    <a:pt x="292" y="2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69200" y="642600"/>
              <a:ext cx="126360" cy="181800"/>
            </a:xfrm>
            <a:custGeom>
              <a:avLst/>
              <a:gdLst/>
              <a:ahLst/>
              <a:rect l="l" t="t" r="r" b="b"/>
              <a:pathLst>
                <a:path w="201" h="344">
                  <a:moveTo>
                    <a:pt x="134" y="59"/>
                  </a:moveTo>
                  <a:lnTo>
                    <a:pt x="145" y="78"/>
                  </a:lnTo>
                  <a:lnTo>
                    <a:pt x="156" y="99"/>
                  </a:lnTo>
                  <a:lnTo>
                    <a:pt x="165" y="120"/>
                  </a:lnTo>
                  <a:lnTo>
                    <a:pt x="171" y="143"/>
                  </a:lnTo>
                  <a:lnTo>
                    <a:pt x="178" y="166"/>
                  </a:lnTo>
                  <a:lnTo>
                    <a:pt x="182" y="190"/>
                  </a:lnTo>
                  <a:lnTo>
                    <a:pt x="184" y="213"/>
                  </a:lnTo>
                  <a:lnTo>
                    <a:pt x="185" y="238"/>
                  </a:lnTo>
                  <a:lnTo>
                    <a:pt x="179" y="264"/>
                  </a:lnTo>
                  <a:lnTo>
                    <a:pt x="184" y="291"/>
                  </a:lnTo>
                  <a:lnTo>
                    <a:pt x="193" y="317"/>
                  </a:lnTo>
                  <a:lnTo>
                    <a:pt x="201" y="344"/>
                  </a:lnTo>
                  <a:lnTo>
                    <a:pt x="195" y="337"/>
                  </a:lnTo>
                  <a:lnTo>
                    <a:pt x="188" y="334"/>
                  </a:lnTo>
                  <a:lnTo>
                    <a:pt x="179" y="331"/>
                  </a:lnTo>
                  <a:lnTo>
                    <a:pt x="171" y="330"/>
                  </a:lnTo>
                  <a:lnTo>
                    <a:pt x="165" y="328"/>
                  </a:lnTo>
                  <a:lnTo>
                    <a:pt x="160" y="325"/>
                  </a:lnTo>
                  <a:lnTo>
                    <a:pt x="160" y="319"/>
                  </a:lnTo>
                  <a:lnTo>
                    <a:pt x="167" y="308"/>
                  </a:lnTo>
                  <a:lnTo>
                    <a:pt x="165" y="289"/>
                  </a:lnTo>
                  <a:lnTo>
                    <a:pt x="165" y="271"/>
                  </a:lnTo>
                  <a:lnTo>
                    <a:pt x="168" y="252"/>
                  </a:lnTo>
                  <a:lnTo>
                    <a:pt x="173" y="235"/>
                  </a:lnTo>
                  <a:lnTo>
                    <a:pt x="173" y="221"/>
                  </a:lnTo>
                  <a:lnTo>
                    <a:pt x="168" y="208"/>
                  </a:lnTo>
                  <a:lnTo>
                    <a:pt x="162" y="197"/>
                  </a:lnTo>
                  <a:lnTo>
                    <a:pt x="154" y="185"/>
                  </a:lnTo>
                  <a:lnTo>
                    <a:pt x="146" y="174"/>
                  </a:lnTo>
                  <a:lnTo>
                    <a:pt x="143" y="162"/>
                  </a:lnTo>
                  <a:lnTo>
                    <a:pt x="145" y="149"/>
                  </a:lnTo>
                  <a:lnTo>
                    <a:pt x="154" y="135"/>
                  </a:lnTo>
                  <a:lnTo>
                    <a:pt x="153" y="126"/>
                  </a:lnTo>
                  <a:lnTo>
                    <a:pt x="148" y="118"/>
                  </a:lnTo>
                  <a:lnTo>
                    <a:pt x="142" y="112"/>
                  </a:lnTo>
                  <a:lnTo>
                    <a:pt x="134" y="107"/>
                  </a:lnTo>
                  <a:lnTo>
                    <a:pt x="128" y="109"/>
                  </a:lnTo>
                  <a:lnTo>
                    <a:pt x="122" y="109"/>
                  </a:lnTo>
                  <a:lnTo>
                    <a:pt x="117" y="107"/>
                  </a:lnTo>
                  <a:lnTo>
                    <a:pt x="114" y="103"/>
                  </a:lnTo>
                  <a:lnTo>
                    <a:pt x="115" y="92"/>
                  </a:lnTo>
                  <a:lnTo>
                    <a:pt x="115" y="79"/>
                  </a:lnTo>
                  <a:lnTo>
                    <a:pt x="112" y="70"/>
                  </a:lnTo>
                  <a:lnTo>
                    <a:pt x="106" y="62"/>
                  </a:lnTo>
                  <a:lnTo>
                    <a:pt x="100" y="54"/>
                  </a:lnTo>
                  <a:lnTo>
                    <a:pt x="92" y="51"/>
                  </a:lnTo>
                  <a:lnTo>
                    <a:pt x="86" y="48"/>
                  </a:lnTo>
                  <a:lnTo>
                    <a:pt x="86" y="39"/>
                  </a:lnTo>
                  <a:lnTo>
                    <a:pt x="81" y="37"/>
                  </a:lnTo>
                  <a:lnTo>
                    <a:pt x="72" y="40"/>
                  </a:lnTo>
                  <a:lnTo>
                    <a:pt x="62" y="45"/>
                  </a:lnTo>
                  <a:lnTo>
                    <a:pt x="59" y="48"/>
                  </a:lnTo>
                  <a:lnTo>
                    <a:pt x="61" y="39"/>
                  </a:lnTo>
                  <a:lnTo>
                    <a:pt x="59" y="29"/>
                  </a:lnTo>
                  <a:lnTo>
                    <a:pt x="55" y="22"/>
                  </a:lnTo>
                  <a:lnTo>
                    <a:pt x="48" y="17"/>
                  </a:lnTo>
                  <a:lnTo>
                    <a:pt x="44" y="14"/>
                  </a:lnTo>
                  <a:lnTo>
                    <a:pt x="38" y="14"/>
                  </a:lnTo>
                  <a:lnTo>
                    <a:pt x="31" y="14"/>
                  </a:lnTo>
                  <a:lnTo>
                    <a:pt x="24" y="14"/>
                  </a:lnTo>
                  <a:lnTo>
                    <a:pt x="17" y="15"/>
                  </a:lnTo>
                  <a:lnTo>
                    <a:pt x="11" y="15"/>
                  </a:lnTo>
                  <a:lnTo>
                    <a:pt x="5" y="12"/>
                  </a:lnTo>
                  <a:lnTo>
                    <a:pt x="0" y="8"/>
                  </a:lnTo>
                  <a:lnTo>
                    <a:pt x="6" y="6"/>
                  </a:lnTo>
                  <a:lnTo>
                    <a:pt x="13" y="5"/>
                  </a:lnTo>
                  <a:lnTo>
                    <a:pt x="20" y="1"/>
                  </a:lnTo>
                  <a:lnTo>
                    <a:pt x="28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5"/>
                  </a:lnTo>
                  <a:lnTo>
                    <a:pt x="13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51080" y="653040"/>
              <a:ext cx="80640" cy="7704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127" y="28"/>
                  </a:moveTo>
                  <a:lnTo>
                    <a:pt x="118" y="42"/>
                  </a:lnTo>
                  <a:lnTo>
                    <a:pt x="112" y="62"/>
                  </a:lnTo>
                  <a:lnTo>
                    <a:pt x="109" y="82"/>
                  </a:lnTo>
                  <a:lnTo>
                    <a:pt x="101" y="99"/>
                  </a:lnTo>
                  <a:lnTo>
                    <a:pt x="37" y="146"/>
                  </a:lnTo>
                  <a:lnTo>
                    <a:pt x="28" y="143"/>
                  </a:lnTo>
                  <a:lnTo>
                    <a:pt x="18" y="135"/>
                  </a:lnTo>
                  <a:lnTo>
                    <a:pt x="9" y="126"/>
                  </a:lnTo>
                  <a:lnTo>
                    <a:pt x="0" y="119"/>
                  </a:lnTo>
                  <a:lnTo>
                    <a:pt x="4" y="101"/>
                  </a:lnTo>
                  <a:lnTo>
                    <a:pt x="14" y="82"/>
                  </a:lnTo>
                  <a:lnTo>
                    <a:pt x="26" y="66"/>
                  </a:lnTo>
                  <a:lnTo>
                    <a:pt x="42" y="57"/>
                  </a:lnTo>
                  <a:lnTo>
                    <a:pt x="34" y="71"/>
                  </a:lnTo>
                  <a:lnTo>
                    <a:pt x="26" y="85"/>
                  </a:lnTo>
                  <a:lnTo>
                    <a:pt x="20" y="101"/>
                  </a:lnTo>
                  <a:lnTo>
                    <a:pt x="17" y="116"/>
                  </a:lnTo>
                  <a:lnTo>
                    <a:pt x="23" y="124"/>
                  </a:lnTo>
                  <a:lnTo>
                    <a:pt x="32" y="129"/>
                  </a:lnTo>
                  <a:lnTo>
                    <a:pt x="40" y="130"/>
                  </a:lnTo>
                  <a:lnTo>
                    <a:pt x="48" y="126"/>
                  </a:lnTo>
                  <a:lnTo>
                    <a:pt x="59" y="101"/>
                  </a:lnTo>
                  <a:lnTo>
                    <a:pt x="70" y="77"/>
                  </a:lnTo>
                  <a:lnTo>
                    <a:pt x="77" y="52"/>
                  </a:lnTo>
                  <a:lnTo>
                    <a:pt x="73" y="26"/>
                  </a:lnTo>
                  <a:lnTo>
                    <a:pt x="119" y="0"/>
                  </a:lnTo>
                  <a:lnTo>
                    <a:pt x="124" y="6"/>
                  </a:lnTo>
                  <a:lnTo>
                    <a:pt x="126" y="14"/>
                  </a:lnTo>
                  <a:lnTo>
                    <a:pt x="126" y="20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05840" y="672120"/>
              <a:ext cx="132480" cy="120600"/>
            </a:xfrm>
            <a:custGeom>
              <a:avLst/>
              <a:gdLst/>
              <a:ahLst/>
              <a:rect l="l" t="t" r="r" b="b"/>
              <a:pathLst>
                <a:path w="210" h="227">
                  <a:moveTo>
                    <a:pt x="210" y="199"/>
                  </a:moveTo>
                  <a:lnTo>
                    <a:pt x="205" y="227"/>
                  </a:lnTo>
                  <a:lnTo>
                    <a:pt x="194" y="224"/>
                  </a:lnTo>
                  <a:lnTo>
                    <a:pt x="182" y="221"/>
                  </a:lnTo>
                  <a:lnTo>
                    <a:pt x="169" y="218"/>
                  </a:lnTo>
                  <a:lnTo>
                    <a:pt x="158" y="215"/>
                  </a:lnTo>
                  <a:lnTo>
                    <a:pt x="146" y="213"/>
                  </a:lnTo>
                  <a:lnTo>
                    <a:pt x="135" y="215"/>
                  </a:lnTo>
                  <a:lnTo>
                    <a:pt x="124" y="218"/>
                  </a:lnTo>
                  <a:lnTo>
                    <a:pt x="113" y="225"/>
                  </a:lnTo>
                  <a:lnTo>
                    <a:pt x="104" y="211"/>
                  </a:lnTo>
                  <a:lnTo>
                    <a:pt x="93" y="205"/>
                  </a:lnTo>
                  <a:lnTo>
                    <a:pt x="81" y="202"/>
                  </a:lnTo>
                  <a:lnTo>
                    <a:pt x="67" y="201"/>
                  </a:lnTo>
                  <a:lnTo>
                    <a:pt x="54" y="199"/>
                  </a:lnTo>
                  <a:lnTo>
                    <a:pt x="42" y="196"/>
                  </a:lnTo>
                  <a:lnTo>
                    <a:pt x="34" y="190"/>
                  </a:lnTo>
                  <a:lnTo>
                    <a:pt x="28" y="176"/>
                  </a:lnTo>
                  <a:lnTo>
                    <a:pt x="23" y="151"/>
                  </a:lnTo>
                  <a:lnTo>
                    <a:pt x="22" y="126"/>
                  </a:lnTo>
                  <a:lnTo>
                    <a:pt x="17" y="103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3" y="62"/>
                  </a:lnTo>
                  <a:lnTo>
                    <a:pt x="8" y="51"/>
                  </a:lnTo>
                  <a:lnTo>
                    <a:pt x="15" y="40"/>
                  </a:lnTo>
                  <a:lnTo>
                    <a:pt x="22" y="29"/>
                  </a:lnTo>
                  <a:lnTo>
                    <a:pt x="31" y="19"/>
                  </a:lnTo>
                  <a:lnTo>
                    <a:pt x="39" y="9"/>
                  </a:lnTo>
                  <a:lnTo>
                    <a:pt x="48" y="0"/>
                  </a:lnTo>
                  <a:lnTo>
                    <a:pt x="57" y="31"/>
                  </a:lnTo>
                  <a:lnTo>
                    <a:pt x="70" y="61"/>
                  </a:lnTo>
                  <a:lnTo>
                    <a:pt x="87" y="89"/>
                  </a:lnTo>
                  <a:lnTo>
                    <a:pt x="107" y="115"/>
                  </a:lnTo>
                  <a:lnTo>
                    <a:pt x="130" y="140"/>
                  </a:lnTo>
                  <a:lnTo>
                    <a:pt x="155" y="162"/>
                  </a:lnTo>
                  <a:lnTo>
                    <a:pt x="182" y="182"/>
                  </a:lnTo>
                  <a:lnTo>
                    <a:pt x="210" y="199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19880" y="699840"/>
              <a:ext cx="17640" cy="15480"/>
            </a:xfrm>
            <a:custGeom>
              <a:avLst/>
              <a:gdLst/>
              <a:ahLst/>
              <a:rect l="l" t="t" r="r" b="b"/>
              <a:pathLst>
                <a:path w="28" h="30">
                  <a:moveTo>
                    <a:pt x="28" y="17"/>
                  </a:moveTo>
                  <a:lnTo>
                    <a:pt x="28" y="28"/>
                  </a:lnTo>
                  <a:lnTo>
                    <a:pt x="21" y="30"/>
                  </a:lnTo>
                  <a:lnTo>
                    <a:pt x="14" y="25"/>
                  </a:lnTo>
                  <a:lnTo>
                    <a:pt x="7" y="19"/>
                  </a:lnTo>
                  <a:lnTo>
                    <a:pt x="0" y="14"/>
                  </a:lnTo>
                  <a:lnTo>
                    <a:pt x="6" y="0"/>
                  </a:lnTo>
                  <a:lnTo>
                    <a:pt x="12" y="2"/>
                  </a:lnTo>
                  <a:lnTo>
                    <a:pt x="18" y="6"/>
                  </a:lnTo>
                  <a:lnTo>
                    <a:pt x="23" y="13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698960" y="709200"/>
              <a:ext cx="105840" cy="104760"/>
            </a:xfrm>
            <a:custGeom>
              <a:avLst/>
              <a:gdLst/>
              <a:ahLst/>
              <a:rect l="l" t="t" r="r" b="b"/>
              <a:pathLst>
                <a:path w="170" h="199">
                  <a:moveTo>
                    <a:pt x="170" y="49"/>
                  </a:moveTo>
                  <a:lnTo>
                    <a:pt x="157" y="64"/>
                  </a:lnTo>
                  <a:lnTo>
                    <a:pt x="148" y="81"/>
                  </a:lnTo>
                  <a:lnTo>
                    <a:pt x="143" y="101"/>
                  </a:lnTo>
                  <a:lnTo>
                    <a:pt x="140" y="120"/>
                  </a:lnTo>
                  <a:lnTo>
                    <a:pt x="135" y="140"/>
                  </a:lnTo>
                  <a:lnTo>
                    <a:pt x="132" y="159"/>
                  </a:lnTo>
                  <a:lnTo>
                    <a:pt x="125" y="178"/>
                  </a:lnTo>
                  <a:lnTo>
                    <a:pt x="114" y="193"/>
                  </a:lnTo>
                  <a:lnTo>
                    <a:pt x="101" y="196"/>
                  </a:lnTo>
                  <a:lnTo>
                    <a:pt x="89" y="198"/>
                  </a:lnTo>
                  <a:lnTo>
                    <a:pt x="75" y="199"/>
                  </a:lnTo>
                  <a:lnTo>
                    <a:pt x="61" y="199"/>
                  </a:lnTo>
                  <a:lnTo>
                    <a:pt x="45" y="199"/>
                  </a:lnTo>
                  <a:lnTo>
                    <a:pt x="31" y="198"/>
                  </a:lnTo>
                  <a:lnTo>
                    <a:pt x="17" y="198"/>
                  </a:lnTo>
                  <a:lnTo>
                    <a:pt x="3" y="196"/>
                  </a:lnTo>
                  <a:lnTo>
                    <a:pt x="5" y="184"/>
                  </a:lnTo>
                  <a:lnTo>
                    <a:pt x="13" y="173"/>
                  </a:lnTo>
                  <a:lnTo>
                    <a:pt x="20" y="164"/>
                  </a:lnTo>
                  <a:lnTo>
                    <a:pt x="17" y="151"/>
                  </a:lnTo>
                  <a:lnTo>
                    <a:pt x="8" y="143"/>
                  </a:lnTo>
                  <a:lnTo>
                    <a:pt x="2" y="134"/>
                  </a:lnTo>
                  <a:lnTo>
                    <a:pt x="0" y="125"/>
                  </a:lnTo>
                  <a:lnTo>
                    <a:pt x="3" y="114"/>
                  </a:lnTo>
                  <a:lnTo>
                    <a:pt x="10" y="109"/>
                  </a:lnTo>
                  <a:lnTo>
                    <a:pt x="17" y="106"/>
                  </a:lnTo>
                  <a:lnTo>
                    <a:pt x="25" y="103"/>
                  </a:lnTo>
                  <a:lnTo>
                    <a:pt x="33" y="98"/>
                  </a:lnTo>
                  <a:lnTo>
                    <a:pt x="41" y="95"/>
                  </a:lnTo>
                  <a:lnTo>
                    <a:pt x="47" y="89"/>
                  </a:lnTo>
                  <a:lnTo>
                    <a:pt x="53" y="83"/>
                  </a:lnTo>
                  <a:lnTo>
                    <a:pt x="56" y="73"/>
                  </a:lnTo>
                  <a:lnTo>
                    <a:pt x="66" y="66"/>
                  </a:lnTo>
                  <a:lnTo>
                    <a:pt x="75" y="58"/>
                  </a:lnTo>
                  <a:lnTo>
                    <a:pt x="84" y="49"/>
                  </a:lnTo>
                  <a:lnTo>
                    <a:pt x="94" y="39"/>
                  </a:lnTo>
                  <a:lnTo>
                    <a:pt x="101" y="30"/>
                  </a:lnTo>
                  <a:lnTo>
                    <a:pt x="109" y="21"/>
                  </a:lnTo>
                  <a:lnTo>
                    <a:pt x="117" y="10"/>
                  </a:lnTo>
                  <a:lnTo>
                    <a:pt x="125" y="0"/>
                  </a:lnTo>
                  <a:lnTo>
                    <a:pt x="131" y="16"/>
                  </a:lnTo>
                  <a:lnTo>
                    <a:pt x="143" y="28"/>
                  </a:lnTo>
                  <a:lnTo>
                    <a:pt x="157" y="39"/>
                  </a:lnTo>
                  <a:lnTo>
                    <a:pt x="170" y="49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283240" y="721800"/>
              <a:ext cx="70560" cy="50760"/>
            </a:xfrm>
            <a:custGeom>
              <a:avLst/>
              <a:gdLst/>
              <a:ahLst/>
              <a:rect l="l" t="t" r="r" b="b"/>
              <a:pathLst>
                <a:path w="114" h="95">
                  <a:moveTo>
                    <a:pt x="34" y="25"/>
                  </a:moveTo>
                  <a:lnTo>
                    <a:pt x="42" y="31"/>
                  </a:lnTo>
                  <a:lnTo>
                    <a:pt x="50" y="38"/>
                  </a:lnTo>
                  <a:lnTo>
                    <a:pt x="56" y="42"/>
                  </a:lnTo>
                  <a:lnTo>
                    <a:pt x="61" y="48"/>
                  </a:lnTo>
                  <a:lnTo>
                    <a:pt x="67" y="52"/>
                  </a:lnTo>
                  <a:lnTo>
                    <a:pt x="72" y="53"/>
                  </a:lnTo>
                  <a:lnTo>
                    <a:pt x="78" y="53"/>
                  </a:lnTo>
                  <a:lnTo>
                    <a:pt x="86" y="48"/>
                  </a:lnTo>
                  <a:lnTo>
                    <a:pt x="92" y="62"/>
                  </a:lnTo>
                  <a:lnTo>
                    <a:pt x="101" y="72"/>
                  </a:lnTo>
                  <a:lnTo>
                    <a:pt x="110" y="81"/>
                  </a:lnTo>
                  <a:lnTo>
                    <a:pt x="114" y="95"/>
                  </a:lnTo>
                  <a:lnTo>
                    <a:pt x="98" y="86"/>
                  </a:lnTo>
                  <a:lnTo>
                    <a:pt x="82" y="76"/>
                  </a:lnTo>
                  <a:lnTo>
                    <a:pt x="67" y="66"/>
                  </a:lnTo>
                  <a:lnTo>
                    <a:pt x="53" y="56"/>
                  </a:lnTo>
                  <a:lnTo>
                    <a:pt x="39" y="45"/>
                  </a:lnTo>
                  <a:lnTo>
                    <a:pt x="25" y="33"/>
                  </a:lnTo>
                  <a:lnTo>
                    <a:pt x="12" y="20"/>
                  </a:lnTo>
                  <a:lnTo>
                    <a:pt x="0" y="6"/>
                  </a:lnTo>
                  <a:lnTo>
                    <a:pt x="6" y="0"/>
                  </a:lnTo>
                  <a:lnTo>
                    <a:pt x="16" y="2"/>
                  </a:lnTo>
                  <a:lnTo>
                    <a:pt x="25" y="8"/>
                  </a:lnTo>
                  <a:lnTo>
                    <a:pt x="31" y="16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86640" y="721800"/>
              <a:ext cx="125280" cy="169200"/>
            </a:xfrm>
            <a:custGeom>
              <a:avLst/>
              <a:gdLst/>
              <a:ahLst/>
              <a:rect l="l" t="t" r="r" b="b"/>
              <a:pathLst>
                <a:path w="199" h="319">
                  <a:moveTo>
                    <a:pt x="28" y="319"/>
                  </a:moveTo>
                  <a:lnTo>
                    <a:pt x="17" y="308"/>
                  </a:lnTo>
                  <a:lnTo>
                    <a:pt x="9" y="293"/>
                  </a:lnTo>
                  <a:lnTo>
                    <a:pt x="5" y="277"/>
                  </a:lnTo>
                  <a:lnTo>
                    <a:pt x="0" y="262"/>
                  </a:lnTo>
                  <a:lnTo>
                    <a:pt x="142" y="42"/>
                  </a:lnTo>
                  <a:lnTo>
                    <a:pt x="148" y="38"/>
                  </a:lnTo>
                  <a:lnTo>
                    <a:pt x="156" y="33"/>
                  </a:lnTo>
                  <a:lnTo>
                    <a:pt x="163" y="30"/>
                  </a:lnTo>
                  <a:lnTo>
                    <a:pt x="171" y="25"/>
                  </a:lnTo>
                  <a:lnTo>
                    <a:pt x="179" y="20"/>
                  </a:lnTo>
                  <a:lnTo>
                    <a:pt x="187" y="14"/>
                  </a:lnTo>
                  <a:lnTo>
                    <a:pt x="193" y="8"/>
                  </a:lnTo>
                  <a:lnTo>
                    <a:pt x="199" y="0"/>
                  </a:lnTo>
                  <a:lnTo>
                    <a:pt x="187" y="44"/>
                  </a:lnTo>
                  <a:lnTo>
                    <a:pt x="171" y="86"/>
                  </a:lnTo>
                  <a:lnTo>
                    <a:pt x="152" y="128"/>
                  </a:lnTo>
                  <a:lnTo>
                    <a:pt x="132" y="167"/>
                  </a:lnTo>
                  <a:lnTo>
                    <a:pt x="109" y="206"/>
                  </a:lnTo>
                  <a:lnTo>
                    <a:pt x="82" y="244"/>
                  </a:lnTo>
                  <a:lnTo>
                    <a:pt x="56" y="282"/>
                  </a:lnTo>
                  <a:lnTo>
                    <a:pt x="28" y="319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0880" y="726120"/>
              <a:ext cx="20160" cy="17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31" y="12"/>
                  </a:moveTo>
                  <a:lnTo>
                    <a:pt x="29" y="19"/>
                  </a:lnTo>
                  <a:lnTo>
                    <a:pt x="26" y="25"/>
                  </a:lnTo>
                  <a:lnTo>
                    <a:pt x="25" y="30"/>
                  </a:lnTo>
                  <a:lnTo>
                    <a:pt x="20" y="34"/>
                  </a:lnTo>
                  <a:lnTo>
                    <a:pt x="14" y="31"/>
                  </a:lnTo>
                  <a:lnTo>
                    <a:pt x="8" y="28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3" y="6"/>
                  </a:lnTo>
                  <a:lnTo>
                    <a:pt x="12" y="0"/>
                  </a:lnTo>
                  <a:lnTo>
                    <a:pt x="23" y="2"/>
                  </a:lnTo>
                  <a:lnTo>
                    <a:pt x="3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15720" y="727200"/>
              <a:ext cx="145080" cy="135360"/>
            </a:xfrm>
            <a:custGeom>
              <a:avLst/>
              <a:gdLst/>
              <a:ahLst/>
              <a:rect l="l" t="t" r="r" b="b"/>
              <a:pathLst>
                <a:path w="228" h="256">
                  <a:moveTo>
                    <a:pt x="228" y="26"/>
                  </a:moveTo>
                  <a:lnTo>
                    <a:pt x="66" y="256"/>
                  </a:lnTo>
                  <a:lnTo>
                    <a:pt x="59" y="239"/>
                  </a:lnTo>
                  <a:lnTo>
                    <a:pt x="49" y="222"/>
                  </a:lnTo>
                  <a:lnTo>
                    <a:pt x="42" y="205"/>
                  </a:lnTo>
                  <a:lnTo>
                    <a:pt x="34" y="188"/>
                  </a:lnTo>
                  <a:lnTo>
                    <a:pt x="24" y="169"/>
                  </a:lnTo>
                  <a:lnTo>
                    <a:pt x="17" y="152"/>
                  </a:lnTo>
                  <a:lnTo>
                    <a:pt x="7" y="133"/>
                  </a:lnTo>
                  <a:lnTo>
                    <a:pt x="0" y="116"/>
                  </a:lnTo>
                  <a:lnTo>
                    <a:pt x="28" y="107"/>
                  </a:lnTo>
                  <a:lnTo>
                    <a:pt x="54" y="96"/>
                  </a:lnTo>
                  <a:lnTo>
                    <a:pt x="80" y="82"/>
                  </a:lnTo>
                  <a:lnTo>
                    <a:pt x="105" y="68"/>
                  </a:lnTo>
                  <a:lnTo>
                    <a:pt x="130" y="52"/>
                  </a:lnTo>
                  <a:lnTo>
                    <a:pt x="155" y="37"/>
                  </a:lnTo>
                  <a:lnTo>
                    <a:pt x="178" y="18"/>
                  </a:lnTo>
                  <a:lnTo>
                    <a:pt x="202" y="0"/>
                  </a:lnTo>
                  <a:lnTo>
                    <a:pt x="2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16680" y="782280"/>
              <a:ext cx="70560" cy="8100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102" y="71"/>
                  </a:moveTo>
                  <a:lnTo>
                    <a:pt x="106" y="92"/>
                  </a:lnTo>
                  <a:lnTo>
                    <a:pt x="107" y="113"/>
                  </a:lnTo>
                  <a:lnTo>
                    <a:pt x="110" y="134"/>
                  </a:lnTo>
                  <a:lnTo>
                    <a:pt x="112" y="154"/>
                  </a:lnTo>
                  <a:lnTo>
                    <a:pt x="98" y="154"/>
                  </a:lnTo>
                  <a:lnTo>
                    <a:pt x="88" y="143"/>
                  </a:lnTo>
                  <a:lnTo>
                    <a:pt x="81" y="127"/>
                  </a:lnTo>
                  <a:lnTo>
                    <a:pt x="73" y="118"/>
                  </a:lnTo>
                  <a:lnTo>
                    <a:pt x="64" y="113"/>
                  </a:lnTo>
                  <a:lnTo>
                    <a:pt x="56" y="109"/>
                  </a:lnTo>
                  <a:lnTo>
                    <a:pt x="48" y="102"/>
                  </a:lnTo>
                  <a:lnTo>
                    <a:pt x="42" y="96"/>
                  </a:lnTo>
                  <a:lnTo>
                    <a:pt x="36" y="90"/>
                  </a:lnTo>
                  <a:lnTo>
                    <a:pt x="29" y="85"/>
                  </a:lnTo>
                  <a:lnTo>
                    <a:pt x="23" y="81"/>
                  </a:lnTo>
                  <a:lnTo>
                    <a:pt x="15" y="78"/>
                  </a:lnTo>
                  <a:lnTo>
                    <a:pt x="6" y="67"/>
                  </a:lnTo>
                  <a:lnTo>
                    <a:pt x="1" y="54"/>
                  </a:lnTo>
                  <a:lnTo>
                    <a:pt x="0" y="40"/>
                  </a:lnTo>
                  <a:lnTo>
                    <a:pt x="3" y="26"/>
                  </a:lnTo>
                  <a:lnTo>
                    <a:pt x="18" y="0"/>
                  </a:lnTo>
                  <a:lnTo>
                    <a:pt x="32" y="3"/>
                  </a:lnTo>
                  <a:lnTo>
                    <a:pt x="45" y="11"/>
                  </a:lnTo>
                  <a:lnTo>
                    <a:pt x="56" y="20"/>
                  </a:lnTo>
                  <a:lnTo>
                    <a:pt x="64" y="31"/>
                  </a:lnTo>
                  <a:lnTo>
                    <a:pt x="73" y="42"/>
                  </a:lnTo>
                  <a:lnTo>
                    <a:pt x="81" y="53"/>
                  </a:lnTo>
                  <a:lnTo>
                    <a:pt x="92" y="64"/>
                  </a:lnTo>
                  <a:lnTo>
                    <a:pt x="102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8640" y="783360"/>
              <a:ext cx="28800" cy="2412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47" y="11"/>
                  </a:moveTo>
                  <a:lnTo>
                    <a:pt x="39" y="22"/>
                  </a:lnTo>
                  <a:lnTo>
                    <a:pt x="36" y="36"/>
                  </a:lnTo>
                  <a:lnTo>
                    <a:pt x="30" y="45"/>
                  </a:lnTo>
                  <a:lnTo>
                    <a:pt x="19" y="43"/>
                  </a:lnTo>
                  <a:lnTo>
                    <a:pt x="13" y="39"/>
                  </a:lnTo>
                  <a:lnTo>
                    <a:pt x="8" y="33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7" y="17"/>
                  </a:lnTo>
                  <a:lnTo>
                    <a:pt x="13" y="12"/>
                  </a:lnTo>
                  <a:lnTo>
                    <a:pt x="19" y="8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07000" y="800280"/>
              <a:ext cx="36360" cy="3348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53" y="9"/>
                  </a:moveTo>
                  <a:lnTo>
                    <a:pt x="53" y="20"/>
                  </a:lnTo>
                  <a:lnTo>
                    <a:pt x="55" y="34"/>
                  </a:lnTo>
                  <a:lnTo>
                    <a:pt x="56" y="48"/>
                  </a:lnTo>
                  <a:lnTo>
                    <a:pt x="59" y="61"/>
                  </a:lnTo>
                  <a:lnTo>
                    <a:pt x="52" y="64"/>
                  </a:lnTo>
                  <a:lnTo>
                    <a:pt x="44" y="64"/>
                  </a:lnTo>
                  <a:lnTo>
                    <a:pt x="36" y="61"/>
                  </a:lnTo>
                  <a:lnTo>
                    <a:pt x="28" y="56"/>
                  </a:lnTo>
                  <a:lnTo>
                    <a:pt x="20" y="51"/>
                  </a:lnTo>
                  <a:lnTo>
                    <a:pt x="13" y="45"/>
                  </a:lnTo>
                  <a:lnTo>
                    <a:pt x="6" y="39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7"/>
                  </a:lnTo>
                  <a:lnTo>
                    <a:pt x="10" y="9"/>
                  </a:lnTo>
                  <a:lnTo>
                    <a:pt x="13" y="0"/>
                  </a:lnTo>
                  <a:lnTo>
                    <a:pt x="53" y="9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31800" y="795960"/>
              <a:ext cx="45360" cy="51480"/>
            </a:xfrm>
            <a:custGeom>
              <a:avLst/>
              <a:gdLst/>
              <a:ahLst/>
              <a:rect l="l" t="t" r="r" b="b"/>
              <a:pathLst>
                <a:path w="73" h="98">
                  <a:moveTo>
                    <a:pt x="64" y="59"/>
                  </a:moveTo>
                  <a:lnTo>
                    <a:pt x="65" y="67"/>
                  </a:lnTo>
                  <a:lnTo>
                    <a:pt x="70" y="80"/>
                  </a:lnTo>
                  <a:lnTo>
                    <a:pt x="73" y="92"/>
                  </a:lnTo>
                  <a:lnTo>
                    <a:pt x="72" y="98"/>
                  </a:lnTo>
                  <a:lnTo>
                    <a:pt x="64" y="86"/>
                  </a:lnTo>
                  <a:lnTo>
                    <a:pt x="53" y="73"/>
                  </a:lnTo>
                  <a:lnTo>
                    <a:pt x="39" y="62"/>
                  </a:lnTo>
                  <a:lnTo>
                    <a:pt x="27" y="52"/>
                  </a:lnTo>
                  <a:lnTo>
                    <a:pt x="14" y="39"/>
                  </a:lnTo>
                  <a:lnTo>
                    <a:pt x="5" y="27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3" y="3"/>
                  </a:lnTo>
                  <a:lnTo>
                    <a:pt x="20" y="8"/>
                  </a:lnTo>
                  <a:lnTo>
                    <a:pt x="28" y="16"/>
                  </a:lnTo>
                  <a:lnTo>
                    <a:pt x="36" y="25"/>
                  </a:lnTo>
                  <a:lnTo>
                    <a:pt x="42" y="36"/>
                  </a:lnTo>
                  <a:lnTo>
                    <a:pt x="48" y="45"/>
                  </a:lnTo>
                  <a:lnTo>
                    <a:pt x="56" y="53"/>
                  </a:lnTo>
                  <a:lnTo>
                    <a:pt x="64" y="59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301880" y="802080"/>
              <a:ext cx="264240" cy="134280"/>
            </a:xfrm>
            <a:custGeom>
              <a:avLst/>
              <a:gdLst/>
              <a:ahLst/>
              <a:rect l="l" t="t" r="r" b="b"/>
              <a:pathLst>
                <a:path w="419" h="253">
                  <a:moveTo>
                    <a:pt x="179" y="73"/>
                  </a:moveTo>
                  <a:lnTo>
                    <a:pt x="187" y="74"/>
                  </a:lnTo>
                  <a:lnTo>
                    <a:pt x="195" y="77"/>
                  </a:lnTo>
                  <a:lnTo>
                    <a:pt x="203" y="79"/>
                  </a:lnTo>
                  <a:lnTo>
                    <a:pt x="210" y="79"/>
                  </a:lnTo>
                  <a:lnTo>
                    <a:pt x="218" y="81"/>
                  </a:lnTo>
                  <a:lnTo>
                    <a:pt x="226" y="81"/>
                  </a:lnTo>
                  <a:lnTo>
                    <a:pt x="232" y="81"/>
                  </a:lnTo>
                  <a:lnTo>
                    <a:pt x="240" y="81"/>
                  </a:lnTo>
                  <a:lnTo>
                    <a:pt x="262" y="98"/>
                  </a:lnTo>
                  <a:lnTo>
                    <a:pt x="283" y="113"/>
                  </a:lnTo>
                  <a:lnTo>
                    <a:pt x="304" y="129"/>
                  </a:lnTo>
                  <a:lnTo>
                    <a:pt x="325" y="144"/>
                  </a:lnTo>
                  <a:lnTo>
                    <a:pt x="347" y="158"/>
                  </a:lnTo>
                  <a:lnTo>
                    <a:pt x="371" y="171"/>
                  </a:lnTo>
                  <a:lnTo>
                    <a:pt x="394" y="182"/>
                  </a:lnTo>
                  <a:lnTo>
                    <a:pt x="419" y="189"/>
                  </a:lnTo>
                  <a:lnTo>
                    <a:pt x="419" y="199"/>
                  </a:lnTo>
                  <a:lnTo>
                    <a:pt x="416" y="207"/>
                  </a:lnTo>
                  <a:lnTo>
                    <a:pt x="411" y="211"/>
                  </a:lnTo>
                  <a:lnTo>
                    <a:pt x="405" y="214"/>
                  </a:lnTo>
                  <a:lnTo>
                    <a:pt x="397" y="216"/>
                  </a:lnTo>
                  <a:lnTo>
                    <a:pt x="389" y="217"/>
                  </a:lnTo>
                  <a:lnTo>
                    <a:pt x="381" y="219"/>
                  </a:lnTo>
                  <a:lnTo>
                    <a:pt x="374" y="221"/>
                  </a:lnTo>
                  <a:lnTo>
                    <a:pt x="355" y="219"/>
                  </a:lnTo>
                  <a:lnTo>
                    <a:pt x="336" y="221"/>
                  </a:lnTo>
                  <a:lnTo>
                    <a:pt x="318" y="224"/>
                  </a:lnTo>
                  <a:lnTo>
                    <a:pt x="299" y="227"/>
                  </a:lnTo>
                  <a:lnTo>
                    <a:pt x="280" y="230"/>
                  </a:lnTo>
                  <a:lnTo>
                    <a:pt x="262" y="234"/>
                  </a:lnTo>
                  <a:lnTo>
                    <a:pt x="243" y="239"/>
                  </a:lnTo>
                  <a:lnTo>
                    <a:pt x="226" y="244"/>
                  </a:lnTo>
                  <a:lnTo>
                    <a:pt x="207" y="248"/>
                  </a:lnTo>
                  <a:lnTo>
                    <a:pt x="190" y="250"/>
                  </a:lnTo>
                  <a:lnTo>
                    <a:pt x="171" y="253"/>
                  </a:lnTo>
                  <a:lnTo>
                    <a:pt x="153" y="253"/>
                  </a:lnTo>
                  <a:lnTo>
                    <a:pt x="136" y="252"/>
                  </a:lnTo>
                  <a:lnTo>
                    <a:pt x="117" y="247"/>
                  </a:lnTo>
                  <a:lnTo>
                    <a:pt x="98" y="241"/>
                  </a:lnTo>
                  <a:lnTo>
                    <a:pt x="80" y="231"/>
                  </a:lnTo>
                  <a:lnTo>
                    <a:pt x="0" y="180"/>
                  </a:lnTo>
                  <a:lnTo>
                    <a:pt x="5" y="135"/>
                  </a:lnTo>
                  <a:lnTo>
                    <a:pt x="11" y="88"/>
                  </a:lnTo>
                  <a:lnTo>
                    <a:pt x="17" y="43"/>
                  </a:lnTo>
                  <a:lnTo>
                    <a:pt x="27" y="0"/>
                  </a:lnTo>
                  <a:lnTo>
                    <a:pt x="45" y="11"/>
                  </a:lnTo>
                  <a:lnTo>
                    <a:pt x="64" y="18"/>
                  </a:lnTo>
                  <a:lnTo>
                    <a:pt x="84" y="26"/>
                  </a:lnTo>
                  <a:lnTo>
                    <a:pt x="103" y="34"/>
                  </a:lnTo>
                  <a:lnTo>
                    <a:pt x="123" y="42"/>
                  </a:lnTo>
                  <a:lnTo>
                    <a:pt x="142" y="51"/>
                  </a:lnTo>
                  <a:lnTo>
                    <a:pt x="161" y="60"/>
                  </a:lnTo>
                  <a:lnTo>
                    <a:pt x="179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30160" y="802080"/>
              <a:ext cx="300960" cy="123480"/>
            </a:xfrm>
            <a:custGeom>
              <a:avLst/>
              <a:gdLst/>
              <a:ahLst/>
              <a:rect l="l" t="t" r="r" b="b"/>
              <a:pathLst>
                <a:path w="476" h="235">
                  <a:moveTo>
                    <a:pt x="476" y="9"/>
                  </a:moveTo>
                  <a:lnTo>
                    <a:pt x="468" y="39"/>
                  </a:lnTo>
                  <a:lnTo>
                    <a:pt x="456" y="67"/>
                  </a:lnTo>
                  <a:lnTo>
                    <a:pt x="438" y="92"/>
                  </a:lnTo>
                  <a:lnTo>
                    <a:pt x="418" y="117"/>
                  </a:lnTo>
                  <a:lnTo>
                    <a:pt x="398" y="140"/>
                  </a:lnTo>
                  <a:lnTo>
                    <a:pt x="375" y="163"/>
                  </a:lnTo>
                  <a:lnTo>
                    <a:pt x="353" y="187"/>
                  </a:lnTo>
                  <a:lnTo>
                    <a:pt x="333" y="210"/>
                  </a:lnTo>
                  <a:lnTo>
                    <a:pt x="325" y="216"/>
                  </a:lnTo>
                  <a:lnTo>
                    <a:pt x="317" y="223"/>
                  </a:lnTo>
                  <a:lnTo>
                    <a:pt x="309" y="227"/>
                  </a:lnTo>
                  <a:lnTo>
                    <a:pt x="302" y="232"/>
                  </a:lnTo>
                  <a:lnTo>
                    <a:pt x="292" y="233"/>
                  </a:lnTo>
                  <a:lnTo>
                    <a:pt x="283" y="235"/>
                  </a:lnTo>
                  <a:lnTo>
                    <a:pt x="274" y="233"/>
                  </a:lnTo>
                  <a:lnTo>
                    <a:pt x="264" y="230"/>
                  </a:lnTo>
                  <a:lnTo>
                    <a:pt x="250" y="221"/>
                  </a:lnTo>
                  <a:lnTo>
                    <a:pt x="235" y="215"/>
                  </a:lnTo>
                  <a:lnTo>
                    <a:pt x="219" y="207"/>
                  </a:lnTo>
                  <a:lnTo>
                    <a:pt x="204" y="202"/>
                  </a:lnTo>
                  <a:lnTo>
                    <a:pt x="188" y="198"/>
                  </a:lnTo>
                  <a:lnTo>
                    <a:pt x="173" y="193"/>
                  </a:lnTo>
                  <a:lnTo>
                    <a:pt x="155" y="191"/>
                  </a:lnTo>
                  <a:lnTo>
                    <a:pt x="140" y="188"/>
                  </a:lnTo>
                  <a:lnTo>
                    <a:pt x="123" y="187"/>
                  </a:lnTo>
                  <a:lnTo>
                    <a:pt x="106" y="185"/>
                  </a:lnTo>
                  <a:lnTo>
                    <a:pt x="89" y="185"/>
                  </a:lnTo>
                  <a:lnTo>
                    <a:pt x="71" y="185"/>
                  </a:lnTo>
                  <a:lnTo>
                    <a:pt x="53" y="185"/>
                  </a:lnTo>
                  <a:lnTo>
                    <a:pt x="36" y="185"/>
                  </a:lnTo>
                  <a:lnTo>
                    <a:pt x="19" y="185"/>
                  </a:lnTo>
                  <a:lnTo>
                    <a:pt x="0" y="185"/>
                  </a:lnTo>
                  <a:lnTo>
                    <a:pt x="3" y="174"/>
                  </a:lnTo>
                  <a:lnTo>
                    <a:pt x="9" y="165"/>
                  </a:lnTo>
                  <a:lnTo>
                    <a:pt x="17" y="160"/>
                  </a:lnTo>
                  <a:lnTo>
                    <a:pt x="26" y="156"/>
                  </a:lnTo>
                  <a:lnTo>
                    <a:pt x="37" y="154"/>
                  </a:lnTo>
                  <a:lnTo>
                    <a:pt x="48" y="153"/>
                  </a:lnTo>
                  <a:lnTo>
                    <a:pt x="57" y="153"/>
                  </a:lnTo>
                  <a:lnTo>
                    <a:pt x="68" y="151"/>
                  </a:lnTo>
                  <a:lnTo>
                    <a:pt x="92" y="146"/>
                  </a:lnTo>
                  <a:lnTo>
                    <a:pt x="113" y="140"/>
                  </a:lnTo>
                  <a:lnTo>
                    <a:pt x="135" y="134"/>
                  </a:lnTo>
                  <a:lnTo>
                    <a:pt x="157" y="128"/>
                  </a:lnTo>
                  <a:lnTo>
                    <a:pt x="179" y="120"/>
                  </a:lnTo>
                  <a:lnTo>
                    <a:pt x="199" y="112"/>
                  </a:lnTo>
                  <a:lnTo>
                    <a:pt x="219" y="103"/>
                  </a:lnTo>
                  <a:lnTo>
                    <a:pt x="241" y="93"/>
                  </a:lnTo>
                  <a:lnTo>
                    <a:pt x="261" y="84"/>
                  </a:lnTo>
                  <a:lnTo>
                    <a:pt x="281" y="75"/>
                  </a:lnTo>
                  <a:lnTo>
                    <a:pt x="302" y="64"/>
                  </a:lnTo>
                  <a:lnTo>
                    <a:pt x="322" y="53"/>
                  </a:lnTo>
                  <a:lnTo>
                    <a:pt x="342" y="42"/>
                  </a:lnTo>
                  <a:lnTo>
                    <a:pt x="361" y="31"/>
                  </a:lnTo>
                  <a:lnTo>
                    <a:pt x="381" y="20"/>
                  </a:lnTo>
                  <a:lnTo>
                    <a:pt x="401" y="9"/>
                  </a:lnTo>
                  <a:lnTo>
                    <a:pt x="409" y="3"/>
                  </a:lnTo>
                  <a:lnTo>
                    <a:pt x="418" y="2"/>
                  </a:lnTo>
                  <a:lnTo>
                    <a:pt x="428" y="0"/>
                  </a:lnTo>
                  <a:lnTo>
                    <a:pt x="437" y="0"/>
                  </a:lnTo>
                  <a:lnTo>
                    <a:pt x="448" y="3"/>
                  </a:lnTo>
                  <a:lnTo>
                    <a:pt x="457" y="5"/>
                  </a:lnTo>
                  <a:lnTo>
                    <a:pt x="466" y="8"/>
                  </a:lnTo>
                  <a:lnTo>
                    <a:pt x="47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14840" y="813960"/>
              <a:ext cx="309600" cy="387000"/>
            </a:xfrm>
            <a:custGeom>
              <a:avLst/>
              <a:gdLst/>
              <a:ahLst/>
              <a:rect l="l" t="t" r="r" b="b"/>
              <a:pathLst>
                <a:path w="490" h="731">
                  <a:moveTo>
                    <a:pt x="463" y="406"/>
                  </a:moveTo>
                  <a:lnTo>
                    <a:pt x="474" y="444"/>
                  </a:lnTo>
                  <a:lnTo>
                    <a:pt x="483" y="483"/>
                  </a:lnTo>
                  <a:lnTo>
                    <a:pt x="488" y="521"/>
                  </a:lnTo>
                  <a:lnTo>
                    <a:pt x="490" y="562"/>
                  </a:lnTo>
                  <a:lnTo>
                    <a:pt x="468" y="565"/>
                  </a:lnTo>
                  <a:lnTo>
                    <a:pt x="446" y="570"/>
                  </a:lnTo>
                  <a:lnTo>
                    <a:pt x="426" y="576"/>
                  </a:lnTo>
                  <a:lnTo>
                    <a:pt x="404" y="581"/>
                  </a:lnTo>
                  <a:lnTo>
                    <a:pt x="384" y="587"/>
                  </a:lnTo>
                  <a:lnTo>
                    <a:pt x="362" y="593"/>
                  </a:lnTo>
                  <a:lnTo>
                    <a:pt x="342" y="601"/>
                  </a:lnTo>
                  <a:lnTo>
                    <a:pt x="320" y="607"/>
                  </a:lnTo>
                  <a:lnTo>
                    <a:pt x="303" y="615"/>
                  </a:lnTo>
                  <a:lnTo>
                    <a:pt x="286" y="626"/>
                  </a:lnTo>
                  <a:lnTo>
                    <a:pt x="269" y="637"/>
                  </a:lnTo>
                  <a:lnTo>
                    <a:pt x="252" y="649"/>
                  </a:lnTo>
                  <a:lnTo>
                    <a:pt x="236" y="661"/>
                  </a:lnTo>
                  <a:lnTo>
                    <a:pt x="219" y="674"/>
                  </a:lnTo>
                  <a:lnTo>
                    <a:pt x="203" y="686"/>
                  </a:lnTo>
                  <a:lnTo>
                    <a:pt x="186" y="697"/>
                  </a:lnTo>
                  <a:lnTo>
                    <a:pt x="169" y="708"/>
                  </a:lnTo>
                  <a:lnTo>
                    <a:pt x="151" y="717"/>
                  </a:lnTo>
                  <a:lnTo>
                    <a:pt x="133" y="724"/>
                  </a:lnTo>
                  <a:lnTo>
                    <a:pt x="115" y="730"/>
                  </a:lnTo>
                  <a:lnTo>
                    <a:pt x="95" y="731"/>
                  </a:lnTo>
                  <a:lnTo>
                    <a:pt x="74" y="731"/>
                  </a:lnTo>
                  <a:lnTo>
                    <a:pt x="53" y="728"/>
                  </a:lnTo>
                  <a:lnTo>
                    <a:pt x="31" y="721"/>
                  </a:lnTo>
                  <a:lnTo>
                    <a:pt x="28" y="492"/>
                  </a:lnTo>
                  <a:lnTo>
                    <a:pt x="26" y="467"/>
                  </a:lnTo>
                  <a:lnTo>
                    <a:pt x="25" y="442"/>
                  </a:lnTo>
                  <a:lnTo>
                    <a:pt x="25" y="416"/>
                  </a:lnTo>
                  <a:lnTo>
                    <a:pt x="26" y="391"/>
                  </a:lnTo>
                  <a:lnTo>
                    <a:pt x="32" y="366"/>
                  </a:lnTo>
                  <a:lnTo>
                    <a:pt x="40" y="343"/>
                  </a:lnTo>
                  <a:lnTo>
                    <a:pt x="53" y="321"/>
                  </a:lnTo>
                  <a:lnTo>
                    <a:pt x="71" y="302"/>
                  </a:lnTo>
                  <a:lnTo>
                    <a:pt x="70" y="296"/>
                  </a:lnTo>
                  <a:lnTo>
                    <a:pt x="65" y="290"/>
                  </a:lnTo>
                  <a:lnTo>
                    <a:pt x="59" y="285"/>
                  </a:lnTo>
                  <a:lnTo>
                    <a:pt x="54" y="279"/>
                  </a:lnTo>
                  <a:lnTo>
                    <a:pt x="42" y="288"/>
                  </a:lnTo>
                  <a:lnTo>
                    <a:pt x="32" y="299"/>
                  </a:lnTo>
                  <a:lnTo>
                    <a:pt x="22" y="311"/>
                  </a:lnTo>
                  <a:lnTo>
                    <a:pt x="14" y="324"/>
                  </a:lnTo>
                  <a:lnTo>
                    <a:pt x="6" y="313"/>
                  </a:lnTo>
                  <a:lnTo>
                    <a:pt x="1" y="299"/>
                  </a:lnTo>
                  <a:lnTo>
                    <a:pt x="0" y="285"/>
                  </a:lnTo>
                  <a:lnTo>
                    <a:pt x="1" y="271"/>
                  </a:lnTo>
                  <a:lnTo>
                    <a:pt x="11" y="257"/>
                  </a:lnTo>
                  <a:lnTo>
                    <a:pt x="23" y="245"/>
                  </a:lnTo>
                  <a:lnTo>
                    <a:pt x="34" y="234"/>
                  </a:lnTo>
                  <a:lnTo>
                    <a:pt x="46" y="223"/>
                  </a:lnTo>
                  <a:lnTo>
                    <a:pt x="60" y="212"/>
                  </a:lnTo>
                  <a:lnTo>
                    <a:pt x="73" y="201"/>
                  </a:lnTo>
                  <a:lnTo>
                    <a:pt x="85" y="190"/>
                  </a:lnTo>
                  <a:lnTo>
                    <a:pt x="96" y="178"/>
                  </a:lnTo>
                  <a:lnTo>
                    <a:pt x="110" y="162"/>
                  </a:lnTo>
                  <a:lnTo>
                    <a:pt x="124" y="147"/>
                  </a:lnTo>
                  <a:lnTo>
                    <a:pt x="137" y="131"/>
                  </a:lnTo>
                  <a:lnTo>
                    <a:pt x="151" y="114"/>
                  </a:lnTo>
                  <a:lnTo>
                    <a:pt x="163" y="98"/>
                  </a:lnTo>
                  <a:lnTo>
                    <a:pt x="175" y="81"/>
                  </a:lnTo>
                  <a:lnTo>
                    <a:pt x="186" y="66"/>
                  </a:lnTo>
                  <a:lnTo>
                    <a:pt x="199" y="49"/>
                  </a:lnTo>
                  <a:lnTo>
                    <a:pt x="205" y="60"/>
                  </a:lnTo>
                  <a:lnTo>
                    <a:pt x="216" y="67"/>
                  </a:lnTo>
                  <a:lnTo>
                    <a:pt x="225" y="74"/>
                  </a:lnTo>
                  <a:lnTo>
                    <a:pt x="235" y="80"/>
                  </a:lnTo>
                  <a:lnTo>
                    <a:pt x="225" y="112"/>
                  </a:lnTo>
                  <a:lnTo>
                    <a:pt x="219" y="147"/>
                  </a:lnTo>
                  <a:lnTo>
                    <a:pt x="221" y="182"/>
                  </a:lnTo>
                  <a:lnTo>
                    <a:pt x="239" y="210"/>
                  </a:lnTo>
                  <a:lnTo>
                    <a:pt x="247" y="224"/>
                  </a:lnTo>
                  <a:lnTo>
                    <a:pt x="244" y="237"/>
                  </a:lnTo>
                  <a:lnTo>
                    <a:pt x="236" y="249"/>
                  </a:lnTo>
                  <a:lnTo>
                    <a:pt x="235" y="265"/>
                  </a:lnTo>
                  <a:lnTo>
                    <a:pt x="233" y="279"/>
                  </a:lnTo>
                  <a:lnTo>
                    <a:pt x="236" y="291"/>
                  </a:lnTo>
                  <a:lnTo>
                    <a:pt x="242" y="302"/>
                  </a:lnTo>
                  <a:lnTo>
                    <a:pt x="249" y="313"/>
                  </a:lnTo>
                  <a:lnTo>
                    <a:pt x="253" y="325"/>
                  </a:lnTo>
                  <a:lnTo>
                    <a:pt x="256" y="336"/>
                  </a:lnTo>
                  <a:lnTo>
                    <a:pt x="255" y="349"/>
                  </a:lnTo>
                  <a:lnTo>
                    <a:pt x="247" y="363"/>
                  </a:lnTo>
                  <a:lnTo>
                    <a:pt x="252" y="378"/>
                  </a:lnTo>
                  <a:lnTo>
                    <a:pt x="264" y="395"/>
                  </a:lnTo>
                  <a:lnTo>
                    <a:pt x="278" y="413"/>
                  </a:lnTo>
                  <a:lnTo>
                    <a:pt x="286" y="427"/>
                  </a:lnTo>
                  <a:lnTo>
                    <a:pt x="278" y="431"/>
                  </a:lnTo>
                  <a:lnTo>
                    <a:pt x="270" y="430"/>
                  </a:lnTo>
                  <a:lnTo>
                    <a:pt x="264" y="425"/>
                  </a:lnTo>
                  <a:lnTo>
                    <a:pt x="258" y="417"/>
                  </a:lnTo>
                  <a:lnTo>
                    <a:pt x="252" y="411"/>
                  </a:lnTo>
                  <a:lnTo>
                    <a:pt x="247" y="405"/>
                  </a:lnTo>
                  <a:lnTo>
                    <a:pt x="242" y="402"/>
                  </a:lnTo>
                  <a:lnTo>
                    <a:pt x="239" y="405"/>
                  </a:lnTo>
                  <a:lnTo>
                    <a:pt x="241" y="423"/>
                  </a:lnTo>
                  <a:lnTo>
                    <a:pt x="247" y="442"/>
                  </a:lnTo>
                  <a:lnTo>
                    <a:pt x="258" y="458"/>
                  </a:lnTo>
                  <a:lnTo>
                    <a:pt x="272" y="470"/>
                  </a:lnTo>
                  <a:lnTo>
                    <a:pt x="286" y="475"/>
                  </a:lnTo>
                  <a:lnTo>
                    <a:pt x="295" y="475"/>
                  </a:lnTo>
                  <a:lnTo>
                    <a:pt x="303" y="473"/>
                  </a:lnTo>
                  <a:lnTo>
                    <a:pt x="309" y="470"/>
                  </a:lnTo>
                  <a:lnTo>
                    <a:pt x="331" y="447"/>
                  </a:lnTo>
                  <a:lnTo>
                    <a:pt x="340" y="419"/>
                  </a:lnTo>
                  <a:lnTo>
                    <a:pt x="343" y="388"/>
                  </a:lnTo>
                  <a:lnTo>
                    <a:pt x="343" y="357"/>
                  </a:lnTo>
                  <a:lnTo>
                    <a:pt x="334" y="346"/>
                  </a:lnTo>
                  <a:lnTo>
                    <a:pt x="331" y="335"/>
                  </a:lnTo>
                  <a:lnTo>
                    <a:pt x="333" y="324"/>
                  </a:lnTo>
                  <a:lnTo>
                    <a:pt x="339" y="315"/>
                  </a:lnTo>
                  <a:lnTo>
                    <a:pt x="345" y="304"/>
                  </a:lnTo>
                  <a:lnTo>
                    <a:pt x="350" y="293"/>
                  </a:lnTo>
                  <a:lnTo>
                    <a:pt x="350" y="280"/>
                  </a:lnTo>
                  <a:lnTo>
                    <a:pt x="343" y="268"/>
                  </a:lnTo>
                  <a:lnTo>
                    <a:pt x="343" y="259"/>
                  </a:lnTo>
                  <a:lnTo>
                    <a:pt x="340" y="251"/>
                  </a:lnTo>
                  <a:lnTo>
                    <a:pt x="334" y="245"/>
                  </a:lnTo>
                  <a:lnTo>
                    <a:pt x="328" y="237"/>
                  </a:lnTo>
                  <a:lnTo>
                    <a:pt x="322" y="231"/>
                  </a:lnTo>
                  <a:lnTo>
                    <a:pt x="319" y="223"/>
                  </a:lnTo>
                  <a:lnTo>
                    <a:pt x="320" y="215"/>
                  </a:lnTo>
                  <a:lnTo>
                    <a:pt x="326" y="206"/>
                  </a:lnTo>
                  <a:lnTo>
                    <a:pt x="333" y="178"/>
                  </a:lnTo>
                  <a:lnTo>
                    <a:pt x="328" y="150"/>
                  </a:lnTo>
                  <a:lnTo>
                    <a:pt x="317" y="125"/>
                  </a:lnTo>
                  <a:lnTo>
                    <a:pt x="306" y="100"/>
                  </a:lnTo>
                  <a:lnTo>
                    <a:pt x="314" y="77"/>
                  </a:lnTo>
                  <a:lnTo>
                    <a:pt x="315" y="50"/>
                  </a:lnTo>
                  <a:lnTo>
                    <a:pt x="314" y="25"/>
                  </a:lnTo>
                  <a:lnTo>
                    <a:pt x="309" y="0"/>
                  </a:lnTo>
                  <a:lnTo>
                    <a:pt x="314" y="13"/>
                  </a:lnTo>
                  <a:lnTo>
                    <a:pt x="326" y="46"/>
                  </a:lnTo>
                  <a:lnTo>
                    <a:pt x="345" y="94"/>
                  </a:lnTo>
                  <a:lnTo>
                    <a:pt x="368" y="153"/>
                  </a:lnTo>
                  <a:lnTo>
                    <a:pt x="393" y="220"/>
                  </a:lnTo>
                  <a:lnTo>
                    <a:pt x="418" y="287"/>
                  </a:lnTo>
                  <a:lnTo>
                    <a:pt x="443" y="350"/>
                  </a:lnTo>
                  <a:lnTo>
                    <a:pt x="463" y="4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57760" y="820080"/>
              <a:ext cx="471600" cy="261360"/>
            </a:xfrm>
            <a:custGeom>
              <a:avLst/>
              <a:gdLst/>
              <a:ahLst/>
              <a:rect l="l" t="t" r="r" b="b"/>
              <a:pathLst>
                <a:path w="745" h="495">
                  <a:moveTo>
                    <a:pt x="196" y="27"/>
                  </a:moveTo>
                  <a:lnTo>
                    <a:pt x="216" y="31"/>
                  </a:lnTo>
                  <a:lnTo>
                    <a:pt x="238" y="33"/>
                  </a:lnTo>
                  <a:lnTo>
                    <a:pt x="258" y="31"/>
                  </a:lnTo>
                  <a:lnTo>
                    <a:pt x="279" y="28"/>
                  </a:lnTo>
                  <a:lnTo>
                    <a:pt x="299" y="25"/>
                  </a:lnTo>
                  <a:lnTo>
                    <a:pt x="319" y="22"/>
                  </a:lnTo>
                  <a:lnTo>
                    <a:pt x="339" y="19"/>
                  </a:lnTo>
                  <a:lnTo>
                    <a:pt x="358" y="17"/>
                  </a:lnTo>
                  <a:lnTo>
                    <a:pt x="366" y="13"/>
                  </a:lnTo>
                  <a:lnTo>
                    <a:pt x="373" y="14"/>
                  </a:lnTo>
                  <a:lnTo>
                    <a:pt x="381" y="17"/>
                  </a:lnTo>
                  <a:lnTo>
                    <a:pt x="389" y="21"/>
                  </a:lnTo>
                  <a:lnTo>
                    <a:pt x="408" y="24"/>
                  </a:lnTo>
                  <a:lnTo>
                    <a:pt x="428" y="24"/>
                  </a:lnTo>
                  <a:lnTo>
                    <a:pt x="450" y="21"/>
                  </a:lnTo>
                  <a:lnTo>
                    <a:pt x="470" y="17"/>
                  </a:lnTo>
                  <a:lnTo>
                    <a:pt x="490" y="17"/>
                  </a:lnTo>
                  <a:lnTo>
                    <a:pt x="509" y="21"/>
                  </a:lnTo>
                  <a:lnTo>
                    <a:pt x="524" y="30"/>
                  </a:lnTo>
                  <a:lnTo>
                    <a:pt x="537" y="49"/>
                  </a:lnTo>
                  <a:lnTo>
                    <a:pt x="549" y="66"/>
                  </a:lnTo>
                  <a:lnTo>
                    <a:pt x="562" y="84"/>
                  </a:lnTo>
                  <a:lnTo>
                    <a:pt x="574" y="106"/>
                  </a:lnTo>
                  <a:lnTo>
                    <a:pt x="588" y="125"/>
                  </a:lnTo>
                  <a:lnTo>
                    <a:pt x="602" y="142"/>
                  </a:lnTo>
                  <a:lnTo>
                    <a:pt x="619" y="156"/>
                  </a:lnTo>
                  <a:lnTo>
                    <a:pt x="639" y="162"/>
                  </a:lnTo>
                  <a:lnTo>
                    <a:pt x="663" y="162"/>
                  </a:lnTo>
                  <a:lnTo>
                    <a:pt x="674" y="159"/>
                  </a:lnTo>
                  <a:lnTo>
                    <a:pt x="684" y="154"/>
                  </a:lnTo>
                  <a:lnTo>
                    <a:pt x="695" y="150"/>
                  </a:lnTo>
                  <a:lnTo>
                    <a:pt x="706" y="145"/>
                  </a:lnTo>
                  <a:lnTo>
                    <a:pt x="717" y="140"/>
                  </a:lnTo>
                  <a:lnTo>
                    <a:pt x="726" y="137"/>
                  </a:lnTo>
                  <a:lnTo>
                    <a:pt x="736" y="136"/>
                  </a:lnTo>
                  <a:lnTo>
                    <a:pt x="745" y="134"/>
                  </a:lnTo>
                  <a:lnTo>
                    <a:pt x="731" y="153"/>
                  </a:lnTo>
                  <a:lnTo>
                    <a:pt x="717" y="175"/>
                  </a:lnTo>
                  <a:lnTo>
                    <a:pt x="703" y="196"/>
                  </a:lnTo>
                  <a:lnTo>
                    <a:pt x="688" y="220"/>
                  </a:lnTo>
                  <a:lnTo>
                    <a:pt x="670" y="240"/>
                  </a:lnTo>
                  <a:lnTo>
                    <a:pt x="652" y="257"/>
                  </a:lnTo>
                  <a:lnTo>
                    <a:pt x="628" y="271"/>
                  </a:lnTo>
                  <a:lnTo>
                    <a:pt x="602" y="277"/>
                  </a:lnTo>
                  <a:lnTo>
                    <a:pt x="586" y="272"/>
                  </a:lnTo>
                  <a:lnTo>
                    <a:pt x="572" y="268"/>
                  </a:lnTo>
                  <a:lnTo>
                    <a:pt x="557" y="260"/>
                  </a:lnTo>
                  <a:lnTo>
                    <a:pt x="543" y="252"/>
                  </a:lnTo>
                  <a:lnTo>
                    <a:pt x="529" y="243"/>
                  </a:lnTo>
                  <a:lnTo>
                    <a:pt x="516" y="234"/>
                  </a:lnTo>
                  <a:lnTo>
                    <a:pt x="504" y="223"/>
                  </a:lnTo>
                  <a:lnTo>
                    <a:pt x="492" y="212"/>
                  </a:lnTo>
                  <a:lnTo>
                    <a:pt x="487" y="212"/>
                  </a:lnTo>
                  <a:lnTo>
                    <a:pt x="484" y="212"/>
                  </a:lnTo>
                  <a:lnTo>
                    <a:pt x="481" y="213"/>
                  </a:lnTo>
                  <a:lnTo>
                    <a:pt x="478" y="216"/>
                  </a:lnTo>
                  <a:lnTo>
                    <a:pt x="482" y="229"/>
                  </a:lnTo>
                  <a:lnTo>
                    <a:pt x="489" y="238"/>
                  </a:lnTo>
                  <a:lnTo>
                    <a:pt x="496" y="248"/>
                  </a:lnTo>
                  <a:lnTo>
                    <a:pt x="506" y="255"/>
                  </a:lnTo>
                  <a:lnTo>
                    <a:pt x="516" y="262"/>
                  </a:lnTo>
                  <a:lnTo>
                    <a:pt x="527" y="269"/>
                  </a:lnTo>
                  <a:lnTo>
                    <a:pt x="537" y="277"/>
                  </a:lnTo>
                  <a:lnTo>
                    <a:pt x="546" y="285"/>
                  </a:lnTo>
                  <a:lnTo>
                    <a:pt x="597" y="305"/>
                  </a:lnTo>
                  <a:lnTo>
                    <a:pt x="611" y="346"/>
                  </a:lnTo>
                  <a:lnTo>
                    <a:pt x="622" y="388"/>
                  </a:lnTo>
                  <a:lnTo>
                    <a:pt x="630" y="431"/>
                  </a:lnTo>
                  <a:lnTo>
                    <a:pt x="636" y="476"/>
                  </a:lnTo>
                  <a:lnTo>
                    <a:pt x="622" y="490"/>
                  </a:lnTo>
                  <a:lnTo>
                    <a:pt x="604" y="493"/>
                  </a:lnTo>
                  <a:lnTo>
                    <a:pt x="585" y="495"/>
                  </a:lnTo>
                  <a:lnTo>
                    <a:pt x="566" y="495"/>
                  </a:lnTo>
                  <a:lnTo>
                    <a:pt x="548" y="495"/>
                  </a:lnTo>
                  <a:lnTo>
                    <a:pt x="529" y="493"/>
                  </a:lnTo>
                  <a:lnTo>
                    <a:pt x="510" y="492"/>
                  </a:lnTo>
                  <a:lnTo>
                    <a:pt x="492" y="489"/>
                  </a:lnTo>
                  <a:lnTo>
                    <a:pt x="475" y="487"/>
                  </a:lnTo>
                  <a:lnTo>
                    <a:pt x="456" y="484"/>
                  </a:lnTo>
                  <a:lnTo>
                    <a:pt x="437" y="482"/>
                  </a:lnTo>
                  <a:lnTo>
                    <a:pt x="419" y="481"/>
                  </a:lnTo>
                  <a:lnTo>
                    <a:pt x="401" y="481"/>
                  </a:lnTo>
                  <a:lnTo>
                    <a:pt x="383" y="481"/>
                  </a:lnTo>
                  <a:lnTo>
                    <a:pt x="364" y="482"/>
                  </a:lnTo>
                  <a:lnTo>
                    <a:pt x="345" y="486"/>
                  </a:lnTo>
                  <a:lnTo>
                    <a:pt x="327" y="490"/>
                  </a:lnTo>
                  <a:lnTo>
                    <a:pt x="307" y="484"/>
                  </a:lnTo>
                  <a:lnTo>
                    <a:pt x="286" y="479"/>
                  </a:lnTo>
                  <a:lnTo>
                    <a:pt x="266" y="475"/>
                  </a:lnTo>
                  <a:lnTo>
                    <a:pt x="246" y="470"/>
                  </a:lnTo>
                  <a:lnTo>
                    <a:pt x="226" y="465"/>
                  </a:lnTo>
                  <a:lnTo>
                    <a:pt x="205" y="456"/>
                  </a:lnTo>
                  <a:lnTo>
                    <a:pt x="188" y="445"/>
                  </a:lnTo>
                  <a:lnTo>
                    <a:pt x="173" y="431"/>
                  </a:lnTo>
                  <a:lnTo>
                    <a:pt x="177" y="386"/>
                  </a:lnTo>
                  <a:lnTo>
                    <a:pt x="179" y="341"/>
                  </a:lnTo>
                  <a:lnTo>
                    <a:pt x="182" y="296"/>
                  </a:lnTo>
                  <a:lnTo>
                    <a:pt x="187" y="251"/>
                  </a:lnTo>
                  <a:lnTo>
                    <a:pt x="193" y="206"/>
                  </a:lnTo>
                  <a:lnTo>
                    <a:pt x="204" y="162"/>
                  </a:lnTo>
                  <a:lnTo>
                    <a:pt x="218" y="122"/>
                  </a:lnTo>
                  <a:lnTo>
                    <a:pt x="237" y="83"/>
                  </a:lnTo>
                  <a:lnTo>
                    <a:pt x="237" y="77"/>
                  </a:lnTo>
                  <a:lnTo>
                    <a:pt x="233" y="70"/>
                  </a:lnTo>
                  <a:lnTo>
                    <a:pt x="230" y="64"/>
                  </a:lnTo>
                  <a:lnTo>
                    <a:pt x="224" y="58"/>
                  </a:lnTo>
                  <a:lnTo>
                    <a:pt x="210" y="61"/>
                  </a:lnTo>
                  <a:lnTo>
                    <a:pt x="202" y="72"/>
                  </a:lnTo>
                  <a:lnTo>
                    <a:pt x="196" y="84"/>
                  </a:lnTo>
                  <a:lnTo>
                    <a:pt x="190" y="97"/>
                  </a:lnTo>
                  <a:lnTo>
                    <a:pt x="188" y="108"/>
                  </a:lnTo>
                  <a:lnTo>
                    <a:pt x="185" y="120"/>
                  </a:lnTo>
                  <a:lnTo>
                    <a:pt x="181" y="128"/>
                  </a:lnTo>
                  <a:lnTo>
                    <a:pt x="171" y="126"/>
                  </a:lnTo>
                  <a:lnTo>
                    <a:pt x="146" y="119"/>
                  </a:lnTo>
                  <a:lnTo>
                    <a:pt x="123" y="109"/>
                  </a:lnTo>
                  <a:lnTo>
                    <a:pt x="101" y="97"/>
                  </a:lnTo>
                  <a:lnTo>
                    <a:pt x="79" y="83"/>
                  </a:lnTo>
                  <a:lnTo>
                    <a:pt x="59" y="67"/>
                  </a:lnTo>
                  <a:lnTo>
                    <a:pt x="39" y="50"/>
                  </a:lnTo>
                  <a:lnTo>
                    <a:pt x="19" y="35"/>
                  </a:lnTo>
                  <a:lnTo>
                    <a:pt x="0" y="17"/>
                  </a:lnTo>
                  <a:lnTo>
                    <a:pt x="3" y="0"/>
                  </a:lnTo>
                  <a:lnTo>
                    <a:pt x="27" y="7"/>
                  </a:lnTo>
                  <a:lnTo>
                    <a:pt x="50" y="11"/>
                  </a:lnTo>
                  <a:lnTo>
                    <a:pt x="75" y="13"/>
                  </a:lnTo>
                  <a:lnTo>
                    <a:pt x="100" y="13"/>
                  </a:lnTo>
                  <a:lnTo>
                    <a:pt x="123" y="14"/>
                  </a:lnTo>
                  <a:lnTo>
                    <a:pt x="148" y="16"/>
                  </a:lnTo>
                  <a:lnTo>
                    <a:pt x="173" y="19"/>
                  </a:lnTo>
                  <a:lnTo>
                    <a:pt x="19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52040" y="857520"/>
              <a:ext cx="22320" cy="2412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33" y="33"/>
                  </a:moveTo>
                  <a:lnTo>
                    <a:pt x="19" y="47"/>
                  </a:lnTo>
                  <a:lnTo>
                    <a:pt x="10" y="45"/>
                  </a:lnTo>
                  <a:lnTo>
                    <a:pt x="4" y="35"/>
                  </a:lnTo>
                  <a:lnTo>
                    <a:pt x="0" y="22"/>
                  </a:lnTo>
                  <a:lnTo>
                    <a:pt x="7" y="16"/>
                  </a:lnTo>
                  <a:lnTo>
                    <a:pt x="13" y="8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2" y="7"/>
                  </a:lnTo>
                  <a:lnTo>
                    <a:pt x="35" y="16"/>
                  </a:lnTo>
                  <a:lnTo>
                    <a:pt x="36" y="25"/>
                  </a:lnTo>
                  <a:lnTo>
                    <a:pt x="33" y="33"/>
                  </a:lnTo>
                  <a:close/>
                </a:path>
              </a:pathLst>
            </a:custGeom>
            <a:solidFill>
              <a:srgbClr val="cca5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69680" y="874080"/>
              <a:ext cx="50400" cy="23040"/>
            </a:xfrm>
            <a:custGeom>
              <a:avLst/>
              <a:gdLst/>
              <a:ahLst/>
              <a:rect l="l" t="t" r="r" b="b"/>
              <a:pathLst>
                <a:path w="80" h="44">
                  <a:moveTo>
                    <a:pt x="80" y="11"/>
                  </a:moveTo>
                  <a:lnTo>
                    <a:pt x="74" y="20"/>
                  </a:lnTo>
                  <a:lnTo>
                    <a:pt x="66" y="30"/>
                  </a:lnTo>
                  <a:lnTo>
                    <a:pt x="58" y="37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36" y="44"/>
                  </a:lnTo>
                  <a:lnTo>
                    <a:pt x="30" y="44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1" y="40"/>
                  </a:lnTo>
                  <a:lnTo>
                    <a:pt x="5" y="39"/>
                  </a:lnTo>
                  <a:lnTo>
                    <a:pt x="0" y="37"/>
                  </a:lnTo>
                  <a:lnTo>
                    <a:pt x="10" y="36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39" y="11"/>
                  </a:lnTo>
                  <a:lnTo>
                    <a:pt x="39" y="0"/>
                  </a:lnTo>
                  <a:lnTo>
                    <a:pt x="50" y="3"/>
                  </a:lnTo>
                  <a:lnTo>
                    <a:pt x="61" y="3"/>
                  </a:lnTo>
                  <a:lnTo>
                    <a:pt x="72" y="6"/>
                  </a:lnTo>
                  <a:lnTo>
                    <a:pt x="80" y="11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90520" y="874080"/>
              <a:ext cx="12600" cy="41040"/>
            </a:xfrm>
            <a:custGeom>
              <a:avLst/>
              <a:gdLst/>
              <a:ahLst/>
              <a:rect l="l" t="t" r="r" b="b"/>
              <a:pathLst>
                <a:path w="20" h="78">
                  <a:moveTo>
                    <a:pt x="17" y="78"/>
                  </a:moveTo>
                  <a:lnTo>
                    <a:pt x="11" y="67"/>
                  </a:lnTo>
                  <a:lnTo>
                    <a:pt x="3" y="54"/>
                  </a:lnTo>
                  <a:lnTo>
                    <a:pt x="0" y="44"/>
                  </a:lnTo>
                  <a:lnTo>
                    <a:pt x="6" y="31"/>
                  </a:lnTo>
                  <a:lnTo>
                    <a:pt x="3" y="23"/>
                  </a:lnTo>
                  <a:lnTo>
                    <a:pt x="3" y="16"/>
                  </a:lnTo>
                  <a:lnTo>
                    <a:pt x="3" y="9"/>
                  </a:lnTo>
                  <a:lnTo>
                    <a:pt x="3" y="0"/>
                  </a:lnTo>
                  <a:lnTo>
                    <a:pt x="13" y="19"/>
                  </a:lnTo>
                  <a:lnTo>
                    <a:pt x="19" y="39"/>
                  </a:lnTo>
                  <a:lnTo>
                    <a:pt x="20" y="59"/>
                  </a:lnTo>
                  <a:lnTo>
                    <a:pt x="17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66480" y="874080"/>
              <a:ext cx="25200" cy="38880"/>
            </a:xfrm>
            <a:custGeom>
              <a:avLst/>
              <a:gdLst/>
              <a:ahLst/>
              <a:rect l="l" t="t" r="r" b="b"/>
              <a:pathLst>
                <a:path w="40" h="73">
                  <a:moveTo>
                    <a:pt x="40" y="51"/>
                  </a:moveTo>
                  <a:lnTo>
                    <a:pt x="17" y="73"/>
                  </a:lnTo>
                  <a:lnTo>
                    <a:pt x="11" y="53"/>
                  </a:lnTo>
                  <a:lnTo>
                    <a:pt x="3" y="34"/>
                  </a:lnTo>
                  <a:lnTo>
                    <a:pt x="0" y="16"/>
                  </a:lnTo>
                  <a:lnTo>
                    <a:pt x="12" y="0"/>
                  </a:lnTo>
                  <a:lnTo>
                    <a:pt x="17" y="14"/>
                  </a:lnTo>
                  <a:lnTo>
                    <a:pt x="22" y="28"/>
                  </a:lnTo>
                  <a:lnTo>
                    <a:pt x="29" y="40"/>
                  </a:lnTo>
                  <a:lnTo>
                    <a:pt x="40" y="51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763480" y="877320"/>
              <a:ext cx="21240" cy="49320"/>
            </a:xfrm>
            <a:custGeom>
              <a:avLst/>
              <a:gdLst/>
              <a:ahLst/>
              <a:rect l="l" t="t" r="r" b="b"/>
              <a:pathLst>
                <a:path w="34" h="93">
                  <a:moveTo>
                    <a:pt x="34" y="66"/>
                  </a:moveTo>
                  <a:lnTo>
                    <a:pt x="29" y="73"/>
                  </a:lnTo>
                  <a:lnTo>
                    <a:pt x="24" y="81"/>
                  </a:lnTo>
                  <a:lnTo>
                    <a:pt x="18" y="89"/>
                  </a:lnTo>
                  <a:lnTo>
                    <a:pt x="10" y="93"/>
                  </a:lnTo>
                  <a:lnTo>
                    <a:pt x="0" y="72"/>
                  </a:lnTo>
                  <a:lnTo>
                    <a:pt x="1" y="47"/>
                  </a:lnTo>
                  <a:lnTo>
                    <a:pt x="7" y="22"/>
                  </a:lnTo>
                  <a:lnTo>
                    <a:pt x="15" y="0"/>
                  </a:lnTo>
                  <a:lnTo>
                    <a:pt x="24" y="14"/>
                  </a:lnTo>
                  <a:lnTo>
                    <a:pt x="31" y="30"/>
                  </a:lnTo>
                  <a:lnTo>
                    <a:pt x="34" y="48"/>
                  </a:lnTo>
                  <a:lnTo>
                    <a:pt x="34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35480" y="904680"/>
              <a:ext cx="280440" cy="151200"/>
            </a:xfrm>
            <a:custGeom>
              <a:avLst/>
              <a:gdLst/>
              <a:ahLst/>
              <a:rect l="l" t="t" r="r" b="b"/>
              <a:pathLst>
                <a:path w="445" h="286">
                  <a:moveTo>
                    <a:pt x="134" y="14"/>
                  </a:moveTo>
                  <a:lnTo>
                    <a:pt x="151" y="21"/>
                  </a:lnTo>
                  <a:lnTo>
                    <a:pt x="182" y="23"/>
                  </a:lnTo>
                  <a:lnTo>
                    <a:pt x="212" y="21"/>
                  </a:lnTo>
                  <a:lnTo>
                    <a:pt x="243" y="21"/>
                  </a:lnTo>
                  <a:lnTo>
                    <a:pt x="274" y="21"/>
                  </a:lnTo>
                  <a:lnTo>
                    <a:pt x="303" y="23"/>
                  </a:lnTo>
                  <a:lnTo>
                    <a:pt x="333" y="28"/>
                  </a:lnTo>
                  <a:lnTo>
                    <a:pt x="361" y="35"/>
                  </a:lnTo>
                  <a:lnTo>
                    <a:pt x="387" y="48"/>
                  </a:lnTo>
                  <a:lnTo>
                    <a:pt x="398" y="54"/>
                  </a:lnTo>
                  <a:lnTo>
                    <a:pt x="411" y="60"/>
                  </a:lnTo>
                  <a:lnTo>
                    <a:pt x="420" y="66"/>
                  </a:lnTo>
                  <a:lnTo>
                    <a:pt x="422" y="76"/>
                  </a:lnTo>
                  <a:lnTo>
                    <a:pt x="414" y="96"/>
                  </a:lnTo>
                  <a:lnTo>
                    <a:pt x="414" y="118"/>
                  </a:lnTo>
                  <a:lnTo>
                    <a:pt x="418" y="139"/>
                  </a:lnTo>
                  <a:lnTo>
                    <a:pt x="428" y="158"/>
                  </a:lnTo>
                  <a:lnTo>
                    <a:pt x="445" y="167"/>
                  </a:lnTo>
                  <a:lnTo>
                    <a:pt x="445" y="181"/>
                  </a:lnTo>
                  <a:lnTo>
                    <a:pt x="440" y="199"/>
                  </a:lnTo>
                  <a:lnTo>
                    <a:pt x="439" y="216"/>
                  </a:lnTo>
                  <a:lnTo>
                    <a:pt x="439" y="272"/>
                  </a:lnTo>
                  <a:lnTo>
                    <a:pt x="431" y="273"/>
                  </a:lnTo>
                  <a:lnTo>
                    <a:pt x="425" y="276"/>
                  </a:lnTo>
                  <a:lnTo>
                    <a:pt x="417" y="278"/>
                  </a:lnTo>
                  <a:lnTo>
                    <a:pt x="411" y="281"/>
                  </a:lnTo>
                  <a:lnTo>
                    <a:pt x="404" y="283"/>
                  </a:lnTo>
                  <a:lnTo>
                    <a:pt x="397" y="284"/>
                  </a:lnTo>
                  <a:lnTo>
                    <a:pt x="390" y="286"/>
                  </a:lnTo>
                  <a:lnTo>
                    <a:pt x="383" y="286"/>
                  </a:lnTo>
                  <a:lnTo>
                    <a:pt x="376" y="272"/>
                  </a:lnTo>
                  <a:lnTo>
                    <a:pt x="370" y="258"/>
                  </a:lnTo>
                  <a:lnTo>
                    <a:pt x="367" y="244"/>
                  </a:lnTo>
                  <a:lnTo>
                    <a:pt x="373" y="230"/>
                  </a:lnTo>
                  <a:lnTo>
                    <a:pt x="384" y="217"/>
                  </a:lnTo>
                  <a:lnTo>
                    <a:pt x="392" y="203"/>
                  </a:lnTo>
                  <a:lnTo>
                    <a:pt x="397" y="189"/>
                  </a:lnTo>
                  <a:lnTo>
                    <a:pt x="394" y="172"/>
                  </a:lnTo>
                  <a:lnTo>
                    <a:pt x="386" y="155"/>
                  </a:lnTo>
                  <a:lnTo>
                    <a:pt x="373" y="144"/>
                  </a:lnTo>
                  <a:lnTo>
                    <a:pt x="358" y="138"/>
                  </a:lnTo>
                  <a:lnTo>
                    <a:pt x="341" y="133"/>
                  </a:lnTo>
                  <a:lnTo>
                    <a:pt x="324" y="130"/>
                  </a:lnTo>
                  <a:lnTo>
                    <a:pt x="308" y="125"/>
                  </a:lnTo>
                  <a:lnTo>
                    <a:pt x="294" y="116"/>
                  </a:lnTo>
                  <a:lnTo>
                    <a:pt x="283" y="101"/>
                  </a:lnTo>
                  <a:lnTo>
                    <a:pt x="255" y="91"/>
                  </a:lnTo>
                  <a:lnTo>
                    <a:pt x="226" y="93"/>
                  </a:lnTo>
                  <a:lnTo>
                    <a:pt x="193" y="97"/>
                  </a:lnTo>
                  <a:lnTo>
                    <a:pt x="162" y="105"/>
                  </a:lnTo>
                  <a:lnTo>
                    <a:pt x="132" y="110"/>
                  </a:lnTo>
                  <a:lnTo>
                    <a:pt x="106" y="107"/>
                  </a:lnTo>
                  <a:lnTo>
                    <a:pt x="82" y="94"/>
                  </a:lnTo>
                  <a:lnTo>
                    <a:pt x="64" y="65"/>
                  </a:lnTo>
                  <a:lnTo>
                    <a:pt x="56" y="57"/>
                  </a:lnTo>
                  <a:lnTo>
                    <a:pt x="48" y="51"/>
                  </a:lnTo>
                  <a:lnTo>
                    <a:pt x="42" y="43"/>
                  </a:lnTo>
                  <a:lnTo>
                    <a:pt x="34" y="37"/>
                  </a:lnTo>
                  <a:lnTo>
                    <a:pt x="26" y="32"/>
                  </a:lnTo>
                  <a:lnTo>
                    <a:pt x="17" y="28"/>
                  </a:lnTo>
                  <a:lnTo>
                    <a:pt x="9" y="24"/>
                  </a:lnTo>
                  <a:lnTo>
                    <a:pt x="0" y="21"/>
                  </a:lnTo>
                  <a:lnTo>
                    <a:pt x="5" y="9"/>
                  </a:lnTo>
                  <a:lnTo>
                    <a:pt x="11" y="3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6" y="4"/>
                  </a:lnTo>
                  <a:lnTo>
                    <a:pt x="45" y="7"/>
                  </a:lnTo>
                  <a:lnTo>
                    <a:pt x="54" y="12"/>
                  </a:lnTo>
                  <a:lnTo>
                    <a:pt x="64" y="14"/>
                  </a:lnTo>
                  <a:lnTo>
                    <a:pt x="134" y="14"/>
                  </a:lnTo>
                  <a:close/>
                </a:path>
              </a:pathLst>
            </a:custGeom>
            <a:solidFill>
              <a:srgbClr val="8cf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54480" y="931320"/>
              <a:ext cx="311040" cy="138600"/>
            </a:xfrm>
            <a:custGeom>
              <a:avLst/>
              <a:gdLst/>
              <a:ahLst/>
              <a:rect l="l" t="t" r="r" b="b"/>
              <a:pathLst>
                <a:path w="492" h="263">
                  <a:moveTo>
                    <a:pt x="217" y="84"/>
                  </a:moveTo>
                  <a:lnTo>
                    <a:pt x="238" y="90"/>
                  </a:lnTo>
                  <a:lnTo>
                    <a:pt x="259" y="94"/>
                  </a:lnTo>
                  <a:lnTo>
                    <a:pt x="280" y="92"/>
                  </a:lnTo>
                  <a:lnTo>
                    <a:pt x="301" y="89"/>
                  </a:lnTo>
                  <a:lnTo>
                    <a:pt x="322" y="83"/>
                  </a:lnTo>
                  <a:lnTo>
                    <a:pt x="343" y="78"/>
                  </a:lnTo>
                  <a:lnTo>
                    <a:pt x="364" y="73"/>
                  </a:lnTo>
                  <a:lnTo>
                    <a:pt x="385" y="70"/>
                  </a:lnTo>
                  <a:lnTo>
                    <a:pt x="397" y="76"/>
                  </a:lnTo>
                  <a:lnTo>
                    <a:pt x="410" y="86"/>
                  </a:lnTo>
                  <a:lnTo>
                    <a:pt x="420" y="94"/>
                  </a:lnTo>
                  <a:lnTo>
                    <a:pt x="433" y="103"/>
                  </a:lnTo>
                  <a:lnTo>
                    <a:pt x="447" y="111"/>
                  </a:lnTo>
                  <a:lnTo>
                    <a:pt x="461" y="117"/>
                  </a:lnTo>
                  <a:lnTo>
                    <a:pt x="475" y="120"/>
                  </a:lnTo>
                  <a:lnTo>
                    <a:pt x="490" y="122"/>
                  </a:lnTo>
                  <a:lnTo>
                    <a:pt x="492" y="136"/>
                  </a:lnTo>
                  <a:lnTo>
                    <a:pt x="484" y="146"/>
                  </a:lnTo>
                  <a:lnTo>
                    <a:pt x="473" y="157"/>
                  </a:lnTo>
                  <a:lnTo>
                    <a:pt x="467" y="170"/>
                  </a:lnTo>
                  <a:lnTo>
                    <a:pt x="464" y="190"/>
                  </a:lnTo>
                  <a:lnTo>
                    <a:pt x="466" y="209"/>
                  </a:lnTo>
                  <a:lnTo>
                    <a:pt x="473" y="227"/>
                  </a:lnTo>
                  <a:lnTo>
                    <a:pt x="486" y="243"/>
                  </a:lnTo>
                  <a:lnTo>
                    <a:pt x="458" y="249"/>
                  </a:lnTo>
                  <a:lnTo>
                    <a:pt x="430" y="254"/>
                  </a:lnTo>
                  <a:lnTo>
                    <a:pt x="402" y="258"/>
                  </a:lnTo>
                  <a:lnTo>
                    <a:pt x="372" y="262"/>
                  </a:lnTo>
                  <a:lnTo>
                    <a:pt x="343" y="263"/>
                  </a:lnTo>
                  <a:lnTo>
                    <a:pt x="313" y="263"/>
                  </a:lnTo>
                  <a:lnTo>
                    <a:pt x="284" y="262"/>
                  </a:lnTo>
                  <a:lnTo>
                    <a:pt x="254" y="260"/>
                  </a:lnTo>
                  <a:lnTo>
                    <a:pt x="224" y="258"/>
                  </a:lnTo>
                  <a:lnTo>
                    <a:pt x="195" y="254"/>
                  </a:lnTo>
                  <a:lnTo>
                    <a:pt x="165" y="249"/>
                  </a:lnTo>
                  <a:lnTo>
                    <a:pt x="137" y="244"/>
                  </a:lnTo>
                  <a:lnTo>
                    <a:pt x="109" y="238"/>
                  </a:lnTo>
                  <a:lnTo>
                    <a:pt x="81" y="230"/>
                  </a:lnTo>
                  <a:lnTo>
                    <a:pt x="55" y="223"/>
                  </a:lnTo>
                  <a:lnTo>
                    <a:pt x="28" y="215"/>
                  </a:lnTo>
                  <a:lnTo>
                    <a:pt x="24" y="184"/>
                  </a:lnTo>
                  <a:lnTo>
                    <a:pt x="16" y="154"/>
                  </a:lnTo>
                  <a:lnTo>
                    <a:pt x="7" y="125"/>
                  </a:lnTo>
                  <a:lnTo>
                    <a:pt x="0" y="95"/>
                  </a:lnTo>
                  <a:lnTo>
                    <a:pt x="18" y="92"/>
                  </a:lnTo>
                  <a:lnTo>
                    <a:pt x="33" y="84"/>
                  </a:lnTo>
                  <a:lnTo>
                    <a:pt x="49" y="75"/>
                  </a:lnTo>
                  <a:lnTo>
                    <a:pt x="63" y="62"/>
                  </a:lnTo>
                  <a:lnTo>
                    <a:pt x="75" y="48"/>
                  </a:lnTo>
                  <a:lnTo>
                    <a:pt x="86" y="33"/>
                  </a:lnTo>
                  <a:lnTo>
                    <a:pt x="97" y="19"/>
                  </a:lnTo>
                  <a:lnTo>
                    <a:pt x="106" y="3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2"/>
                  </a:lnTo>
                  <a:lnTo>
                    <a:pt x="133" y="3"/>
                  </a:lnTo>
                  <a:lnTo>
                    <a:pt x="139" y="6"/>
                  </a:lnTo>
                  <a:lnTo>
                    <a:pt x="145" y="8"/>
                  </a:lnTo>
                  <a:lnTo>
                    <a:pt x="151" y="11"/>
                  </a:lnTo>
                  <a:lnTo>
                    <a:pt x="158" y="13"/>
                  </a:lnTo>
                  <a:lnTo>
                    <a:pt x="167" y="20"/>
                  </a:lnTo>
                  <a:lnTo>
                    <a:pt x="173" y="31"/>
                  </a:lnTo>
                  <a:lnTo>
                    <a:pt x="179" y="42"/>
                  </a:lnTo>
                  <a:lnTo>
                    <a:pt x="184" y="53"/>
                  </a:lnTo>
                  <a:lnTo>
                    <a:pt x="189" y="62"/>
                  </a:lnTo>
                  <a:lnTo>
                    <a:pt x="195" y="72"/>
                  </a:lnTo>
                  <a:lnTo>
                    <a:pt x="204" y="80"/>
                  </a:lnTo>
                  <a:lnTo>
                    <a:pt x="217" y="84"/>
                  </a:lnTo>
                  <a:close/>
                </a:path>
              </a:pathLst>
            </a:custGeom>
            <a:solidFill>
              <a:srgbClr val="b7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99160" y="935640"/>
              <a:ext cx="60480" cy="7704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97" y="0"/>
                  </a:moveTo>
                  <a:lnTo>
                    <a:pt x="94" y="35"/>
                  </a:lnTo>
                  <a:lnTo>
                    <a:pt x="89" y="73"/>
                  </a:lnTo>
                  <a:lnTo>
                    <a:pt x="84" y="108"/>
                  </a:lnTo>
                  <a:lnTo>
                    <a:pt x="80" y="146"/>
                  </a:lnTo>
                  <a:lnTo>
                    <a:pt x="64" y="130"/>
                  </a:lnTo>
                  <a:lnTo>
                    <a:pt x="50" y="115"/>
                  </a:lnTo>
                  <a:lnTo>
                    <a:pt x="36" y="98"/>
                  </a:lnTo>
                  <a:lnTo>
                    <a:pt x="24" y="80"/>
                  </a:lnTo>
                  <a:lnTo>
                    <a:pt x="14" y="62"/>
                  </a:lnTo>
                  <a:lnTo>
                    <a:pt x="7" y="43"/>
                  </a:lnTo>
                  <a:lnTo>
                    <a:pt x="2" y="24"/>
                  </a:lnTo>
                  <a:lnTo>
                    <a:pt x="0" y="6"/>
                  </a:lnTo>
                  <a:lnTo>
                    <a:pt x="13" y="4"/>
                  </a:lnTo>
                  <a:lnTo>
                    <a:pt x="24" y="3"/>
                  </a:lnTo>
                  <a:lnTo>
                    <a:pt x="36" y="3"/>
                  </a:lnTo>
                  <a:lnTo>
                    <a:pt x="49" y="1"/>
                  </a:lnTo>
                  <a:lnTo>
                    <a:pt x="60" y="1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45080" y="938520"/>
              <a:ext cx="88560" cy="180720"/>
            </a:xfrm>
            <a:custGeom>
              <a:avLst/>
              <a:gdLst/>
              <a:ahLst/>
              <a:rect l="l" t="t" r="r" b="b"/>
              <a:pathLst>
                <a:path w="140" h="340">
                  <a:moveTo>
                    <a:pt x="140" y="22"/>
                  </a:moveTo>
                  <a:lnTo>
                    <a:pt x="129" y="51"/>
                  </a:lnTo>
                  <a:lnTo>
                    <a:pt x="118" y="82"/>
                  </a:lnTo>
                  <a:lnTo>
                    <a:pt x="109" y="112"/>
                  </a:lnTo>
                  <a:lnTo>
                    <a:pt x="98" y="143"/>
                  </a:lnTo>
                  <a:lnTo>
                    <a:pt x="88" y="172"/>
                  </a:lnTo>
                  <a:lnTo>
                    <a:pt x="78" y="202"/>
                  </a:lnTo>
                  <a:lnTo>
                    <a:pt x="67" y="232"/>
                  </a:lnTo>
                  <a:lnTo>
                    <a:pt x="54" y="261"/>
                  </a:lnTo>
                  <a:lnTo>
                    <a:pt x="57" y="281"/>
                  </a:lnTo>
                  <a:lnTo>
                    <a:pt x="62" y="305"/>
                  </a:lnTo>
                  <a:lnTo>
                    <a:pt x="62" y="325"/>
                  </a:lnTo>
                  <a:lnTo>
                    <a:pt x="50" y="340"/>
                  </a:lnTo>
                  <a:lnTo>
                    <a:pt x="40" y="330"/>
                  </a:lnTo>
                  <a:lnTo>
                    <a:pt x="31" y="317"/>
                  </a:lnTo>
                  <a:lnTo>
                    <a:pt x="26" y="302"/>
                  </a:lnTo>
                  <a:lnTo>
                    <a:pt x="26" y="286"/>
                  </a:lnTo>
                  <a:lnTo>
                    <a:pt x="32" y="275"/>
                  </a:lnTo>
                  <a:lnTo>
                    <a:pt x="40" y="261"/>
                  </a:lnTo>
                  <a:lnTo>
                    <a:pt x="43" y="247"/>
                  </a:lnTo>
                  <a:lnTo>
                    <a:pt x="43" y="233"/>
                  </a:lnTo>
                  <a:lnTo>
                    <a:pt x="28" y="176"/>
                  </a:lnTo>
                  <a:lnTo>
                    <a:pt x="15" y="118"/>
                  </a:lnTo>
                  <a:lnTo>
                    <a:pt x="6" y="59"/>
                  </a:lnTo>
                  <a:lnTo>
                    <a:pt x="0" y="0"/>
                  </a:lnTo>
                  <a:lnTo>
                    <a:pt x="17" y="4"/>
                  </a:lnTo>
                  <a:lnTo>
                    <a:pt x="34" y="9"/>
                  </a:lnTo>
                  <a:lnTo>
                    <a:pt x="51" y="15"/>
                  </a:lnTo>
                  <a:lnTo>
                    <a:pt x="68" y="20"/>
                  </a:lnTo>
                  <a:lnTo>
                    <a:pt x="85" y="23"/>
                  </a:lnTo>
                  <a:lnTo>
                    <a:pt x="102" y="26"/>
                  </a:lnTo>
                  <a:lnTo>
                    <a:pt x="121" y="25"/>
                  </a:lnTo>
                  <a:lnTo>
                    <a:pt x="140" y="22"/>
                  </a:lnTo>
                  <a:close/>
                </a:path>
              </a:pathLst>
            </a:cu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99520" y="942840"/>
              <a:ext cx="12600" cy="32760"/>
            </a:xfrm>
            <a:custGeom>
              <a:avLst/>
              <a:gdLst/>
              <a:ahLst/>
              <a:rect l="l" t="t" r="r" b="b"/>
              <a:pathLst>
                <a:path w="20" h="62">
                  <a:moveTo>
                    <a:pt x="20" y="56"/>
                  </a:moveTo>
                  <a:lnTo>
                    <a:pt x="13" y="62"/>
                  </a:lnTo>
                  <a:lnTo>
                    <a:pt x="8" y="50"/>
                  </a:lnTo>
                  <a:lnTo>
                    <a:pt x="3" y="37"/>
                  </a:lnTo>
                  <a:lnTo>
                    <a:pt x="0" y="23"/>
                  </a:lnTo>
                  <a:lnTo>
                    <a:pt x="6" y="9"/>
                  </a:lnTo>
                  <a:lnTo>
                    <a:pt x="3" y="0"/>
                  </a:lnTo>
                  <a:lnTo>
                    <a:pt x="14" y="11"/>
                  </a:lnTo>
                  <a:lnTo>
                    <a:pt x="19" y="25"/>
                  </a:lnTo>
                  <a:lnTo>
                    <a:pt x="20" y="42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404560" y="995760"/>
              <a:ext cx="7200" cy="2520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12" y="48"/>
                  </a:moveTo>
                  <a:lnTo>
                    <a:pt x="1" y="37"/>
                  </a:lnTo>
                  <a:lnTo>
                    <a:pt x="0" y="27"/>
                  </a:lnTo>
                  <a:lnTo>
                    <a:pt x="1" y="13"/>
                  </a:lnTo>
                  <a:lnTo>
                    <a:pt x="5" y="0"/>
                  </a:lnTo>
                  <a:lnTo>
                    <a:pt x="9" y="11"/>
                  </a:lnTo>
                  <a:lnTo>
                    <a:pt x="12" y="23"/>
                  </a:lnTo>
                  <a:lnTo>
                    <a:pt x="12" y="36"/>
                  </a:lnTo>
                  <a:lnTo>
                    <a:pt x="12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85200" y="1074240"/>
              <a:ext cx="298440" cy="190440"/>
            </a:xfrm>
            <a:custGeom>
              <a:avLst/>
              <a:gdLst/>
              <a:ahLst/>
              <a:rect l="l" t="t" r="r" b="b"/>
              <a:pathLst>
                <a:path w="472" h="361">
                  <a:moveTo>
                    <a:pt x="213" y="29"/>
                  </a:moveTo>
                  <a:lnTo>
                    <a:pt x="237" y="33"/>
                  </a:lnTo>
                  <a:lnTo>
                    <a:pt x="260" y="36"/>
                  </a:lnTo>
                  <a:lnTo>
                    <a:pt x="283" y="39"/>
                  </a:lnTo>
                  <a:lnTo>
                    <a:pt x="307" y="40"/>
                  </a:lnTo>
                  <a:lnTo>
                    <a:pt x="332" y="43"/>
                  </a:lnTo>
                  <a:lnTo>
                    <a:pt x="355" y="43"/>
                  </a:lnTo>
                  <a:lnTo>
                    <a:pt x="380" y="43"/>
                  </a:lnTo>
                  <a:lnTo>
                    <a:pt x="403" y="43"/>
                  </a:lnTo>
                  <a:lnTo>
                    <a:pt x="411" y="62"/>
                  </a:lnTo>
                  <a:lnTo>
                    <a:pt x="420" y="82"/>
                  </a:lnTo>
                  <a:lnTo>
                    <a:pt x="430" y="103"/>
                  </a:lnTo>
                  <a:lnTo>
                    <a:pt x="436" y="123"/>
                  </a:lnTo>
                  <a:lnTo>
                    <a:pt x="440" y="145"/>
                  </a:lnTo>
                  <a:lnTo>
                    <a:pt x="440" y="165"/>
                  </a:lnTo>
                  <a:lnTo>
                    <a:pt x="434" y="185"/>
                  </a:lnTo>
                  <a:lnTo>
                    <a:pt x="423" y="205"/>
                  </a:lnTo>
                  <a:lnTo>
                    <a:pt x="425" y="225"/>
                  </a:lnTo>
                  <a:lnTo>
                    <a:pt x="428" y="244"/>
                  </a:lnTo>
                  <a:lnTo>
                    <a:pt x="434" y="261"/>
                  </a:lnTo>
                  <a:lnTo>
                    <a:pt x="440" y="278"/>
                  </a:lnTo>
                  <a:lnTo>
                    <a:pt x="450" y="295"/>
                  </a:lnTo>
                  <a:lnTo>
                    <a:pt x="458" y="313"/>
                  </a:lnTo>
                  <a:lnTo>
                    <a:pt x="465" y="331"/>
                  </a:lnTo>
                  <a:lnTo>
                    <a:pt x="472" y="348"/>
                  </a:lnTo>
                  <a:lnTo>
                    <a:pt x="462" y="358"/>
                  </a:lnTo>
                  <a:lnTo>
                    <a:pt x="450" y="361"/>
                  </a:lnTo>
                  <a:lnTo>
                    <a:pt x="437" y="359"/>
                  </a:lnTo>
                  <a:lnTo>
                    <a:pt x="426" y="359"/>
                  </a:lnTo>
                  <a:lnTo>
                    <a:pt x="411" y="344"/>
                  </a:lnTo>
                  <a:lnTo>
                    <a:pt x="394" y="328"/>
                  </a:lnTo>
                  <a:lnTo>
                    <a:pt x="375" y="316"/>
                  </a:lnTo>
                  <a:lnTo>
                    <a:pt x="356" y="303"/>
                  </a:lnTo>
                  <a:lnTo>
                    <a:pt x="338" y="291"/>
                  </a:lnTo>
                  <a:lnTo>
                    <a:pt x="319" y="278"/>
                  </a:lnTo>
                  <a:lnTo>
                    <a:pt x="301" y="267"/>
                  </a:lnTo>
                  <a:lnTo>
                    <a:pt x="282" y="255"/>
                  </a:lnTo>
                  <a:lnTo>
                    <a:pt x="263" y="244"/>
                  </a:lnTo>
                  <a:lnTo>
                    <a:pt x="245" y="230"/>
                  </a:lnTo>
                  <a:lnTo>
                    <a:pt x="227" y="218"/>
                  </a:lnTo>
                  <a:lnTo>
                    <a:pt x="212" y="204"/>
                  </a:lnTo>
                  <a:lnTo>
                    <a:pt x="196" y="188"/>
                  </a:lnTo>
                  <a:lnTo>
                    <a:pt x="182" y="171"/>
                  </a:lnTo>
                  <a:lnTo>
                    <a:pt x="170" y="151"/>
                  </a:lnTo>
                  <a:lnTo>
                    <a:pt x="159" y="131"/>
                  </a:lnTo>
                  <a:lnTo>
                    <a:pt x="154" y="126"/>
                  </a:lnTo>
                  <a:lnTo>
                    <a:pt x="150" y="123"/>
                  </a:lnTo>
                  <a:lnTo>
                    <a:pt x="145" y="121"/>
                  </a:lnTo>
                  <a:lnTo>
                    <a:pt x="140" y="120"/>
                  </a:lnTo>
                  <a:lnTo>
                    <a:pt x="131" y="143"/>
                  </a:lnTo>
                  <a:lnTo>
                    <a:pt x="120" y="165"/>
                  </a:lnTo>
                  <a:lnTo>
                    <a:pt x="109" y="188"/>
                  </a:lnTo>
                  <a:lnTo>
                    <a:pt x="98" y="210"/>
                  </a:lnTo>
                  <a:lnTo>
                    <a:pt x="86" y="232"/>
                  </a:lnTo>
                  <a:lnTo>
                    <a:pt x="73" y="252"/>
                  </a:lnTo>
                  <a:lnTo>
                    <a:pt x="59" y="274"/>
                  </a:lnTo>
                  <a:lnTo>
                    <a:pt x="44" y="294"/>
                  </a:lnTo>
                  <a:lnTo>
                    <a:pt x="41" y="299"/>
                  </a:lnTo>
                  <a:lnTo>
                    <a:pt x="36" y="302"/>
                  </a:lnTo>
                  <a:lnTo>
                    <a:pt x="30" y="306"/>
                  </a:lnTo>
                  <a:lnTo>
                    <a:pt x="25" y="311"/>
                  </a:lnTo>
                  <a:lnTo>
                    <a:pt x="21" y="305"/>
                  </a:lnTo>
                  <a:lnTo>
                    <a:pt x="17" y="295"/>
                  </a:lnTo>
                  <a:lnTo>
                    <a:pt x="16" y="286"/>
                  </a:lnTo>
                  <a:lnTo>
                    <a:pt x="16" y="277"/>
                  </a:lnTo>
                  <a:lnTo>
                    <a:pt x="13" y="207"/>
                  </a:lnTo>
                  <a:lnTo>
                    <a:pt x="8" y="138"/>
                  </a:lnTo>
                  <a:lnTo>
                    <a:pt x="3" y="68"/>
                  </a:lnTo>
                  <a:lnTo>
                    <a:pt x="0" y="0"/>
                  </a:lnTo>
                  <a:lnTo>
                    <a:pt x="25" y="8"/>
                  </a:lnTo>
                  <a:lnTo>
                    <a:pt x="52" y="17"/>
                  </a:lnTo>
                  <a:lnTo>
                    <a:pt x="77" y="25"/>
                  </a:lnTo>
                  <a:lnTo>
                    <a:pt x="105" y="33"/>
                  </a:lnTo>
                  <a:lnTo>
                    <a:pt x="131" y="37"/>
                  </a:lnTo>
                  <a:lnTo>
                    <a:pt x="159" y="39"/>
                  </a:lnTo>
                  <a:lnTo>
                    <a:pt x="185" y="37"/>
                  </a:lnTo>
                  <a:lnTo>
                    <a:pt x="21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54080" y="1133640"/>
              <a:ext cx="241200" cy="101160"/>
            </a:xfrm>
            <a:custGeom>
              <a:avLst/>
              <a:gdLst/>
              <a:ahLst/>
              <a:rect l="l" t="t" r="r" b="b"/>
              <a:pathLst>
                <a:path w="383" h="193">
                  <a:moveTo>
                    <a:pt x="378" y="0"/>
                  </a:moveTo>
                  <a:lnTo>
                    <a:pt x="381" y="19"/>
                  </a:lnTo>
                  <a:lnTo>
                    <a:pt x="383" y="39"/>
                  </a:lnTo>
                  <a:lnTo>
                    <a:pt x="381" y="59"/>
                  </a:lnTo>
                  <a:lnTo>
                    <a:pt x="373" y="76"/>
                  </a:lnTo>
                  <a:lnTo>
                    <a:pt x="361" y="89"/>
                  </a:lnTo>
                  <a:lnTo>
                    <a:pt x="348" y="96"/>
                  </a:lnTo>
                  <a:lnTo>
                    <a:pt x="334" y="103"/>
                  </a:lnTo>
                  <a:lnTo>
                    <a:pt x="320" y="106"/>
                  </a:lnTo>
                  <a:lnTo>
                    <a:pt x="305" y="109"/>
                  </a:lnTo>
                  <a:lnTo>
                    <a:pt x="289" y="112"/>
                  </a:lnTo>
                  <a:lnTo>
                    <a:pt x="274" y="115"/>
                  </a:lnTo>
                  <a:lnTo>
                    <a:pt x="258" y="118"/>
                  </a:lnTo>
                  <a:lnTo>
                    <a:pt x="230" y="131"/>
                  </a:lnTo>
                  <a:lnTo>
                    <a:pt x="202" y="145"/>
                  </a:lnTo>
                  <a:lnTo>
                    <a:pt x="174" y="157"/>
                  </a:lnTo>
                  <a:lnTo>
                    <a:pt x="146" y="169"/>
                  </a:lnTo>
                  <a:lnTo>
                    <a:pt x="118" y="179"/>
                  </a:lnTo>
                  <a:lnTo>
                    <a:pt x="89" y="187"/>
                  </a:lnTo>
                  <a:lnTo>
                    <a:pt x="57" y="191"/>
                  </a:lnTo>
                  <a:lnTo>
                    <a:pt x="25" y="193"/>
                  </a:lnTo>
                  <a:lnTo>
                    <a:pt x="0" y="190"/>
                  </a:lnTo>
                  <a:lnTo>
                    <a:pt x="2" y="182"/>
                  </a:lnTo>
                  <a:lnTo>
                    <a:pt x="3" y="173"/>
                  </a:lnTo>
                  <a:lnTo>
                    <a:pt x="3" y="163"/>
                  </a:lnTo>
                  <a:lnTo>
                    <a:pt x="3" y="152"/>
                  </a:lnTo>
                  <a:lnTo>
                    <a:pt x="31" y="155"/>
                  </a:lnTo>
                  <a:lnTo>
                    <a:pt x="56" y="154"/>
                  </a:lnTo>
                  <a:lnTo>
                    <a:pt x="81" y="148"/>
                  </a:lnTo>
                  <a:lnTo>
                    <a:pt x="104" y="140"/>
                  </a:lnTo>
                  <a:lnTo>
                    <a:pt x="127" y="127"/>
                  </a:lnTo>
                  <a:lnTo>
                    <a:pt x="149" y="115"/>
                  </a:lnTo>
                  <a:lnTo>
                    <a:pt x="171" y="101"/>
                  </a:lnTo>
                  <a:lnTo>
                    <a:pt x="191" y="85"/>
                  </a:lnTo>
                  <a:lnTo>
                    <a:pt x="213" y="70"/>
                  </a:lnTo>
                  <a:lnTo>
                    <a:pt x="235" y="54"/>
                  </a:lnTo>
                  <a:lnTo>
                    <a:pt x="257" y="39"/>
                  </a:lnTo>
                  <a:lnTo>
                    <a:pt x="278" y="26"/>
                  </a:lnTo>
                  <a:lnTo>
                    <a:pt x="302" y="15"/>
                  </a:lnTo>
                  <a:lnTo>
                    <a:pt x="325" y="6"/>
                  </a:lnTo>
                  <a:lnTo>
                    <a:pt x="351" y="1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38760" y="1203120"/>
              <a:ext cx="73080" cy="42120"/>
            </a:xfrm>
            <a:custGeom>
              <a:avLst/>
              <a:gdLst/>
              <a:ahLst/>
              <a:rect l="l" t="t" r="r" b="b"/>
              <a:pathLst>
                <a:path w="117" h="81">
                  <a:moveTo>
                    <a:pt x="45" y="0"/>
                  </a:moveTo>
                  <a:lnTo>
                    <a:pt x="49" y="14"/>
                  </a:lnTo>
                  <a:lnTo>
                    <a:pt x="50" y="30"/>
                  </a:lnTo>
                  <a:lnTo>
                    <a:pt x="55" y="42"/>
                  </a:lnTo>
                  <a:lnTo>
                    <a:pt x="66" y="53"/>
                  </a:lnTo>
                  <a:lnTo>
                    <a:pt x="98" y="55"/>
                  </a:lnTo>
                  <a:lnTo>
                    <a:pt x="117" y="61"/>
                  </a:lnTo>
                  <a:lnTo>
                    <a:pt x="106" y="65"/>
                  </a:lnTo>
                  <a:lnTo>
                    <a:pt x="94" y="69"/>
                  </a:lnTo>
                  <a:lnTo>
                    <a:pt x="81" y="73"/>
                  </a:lnTo>
                  <a:lnTo>
                    <a:pt x="67" y="78"/>
                  </a:lnTo>
                  <a:lnTo>
                    <a:pt x="53" y="81"/>
                  </a:lnTo>
                  <a:lnTo>
                    <a:pt x="39" y="81"/>
                  </a:lnTo>
                  <a:lnTo>
                    <a:pt x="27" y="81"/>
                  </a:lnTo>
                  <a:lnTo>
                    <a:pt x="17" y="78"/>
                  </a:lnTo>
                  <a:lnTo>
                    <a:pt x="19" y="59"/>
                  </a:lnTo>
                  <a:lnTo>
                    <a:pt x="16" y="41"/>
                  </a:lnTo>
                  <a:lnTo>
                    <a:pt x="10" y="25"/>
                  </a:lnTo>
                  <a:lnTo>
                    <a:pt x="0" y="9"/>
                  </a:lnTo>
                  <a:lnTo>
                    <a:pt x="11" y="8"/>
                  </a:lnTo>
                  <a:lnTo>
                    <a:pt x="24" y="5"/>
                  </a:lnTo>
                  <a:lnTo>
                    <a:pt x="35" y="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81800" y="1243440"/>
              <a:ext cx="48960" cy="4968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80" y="2"/>
                  </a:moveTo>
                  <a:lnTo>
                    <a:pt x="74" y="22"/>
                  </a:lnTo>
                  <a:lnTo>
                    <a:pt x="67" y="41"/>
                  </a:lnTo>
                  <a:lnTo>
                    <a:pt x="60" y="59"/>
                  </a:lnTo>
                  <a:lnTo>
                    <a:pt x="53" y="78"/>
                  </a:lnTo>
                  <a:lnTo>
                    <a:pt x="47" y="81"/>
                  </a:lnTo>
                  <a:lnTo>
                    <a:pt x="41" y="83"/>
                  </a:lnTo>
                  <a:lnTo>
                    <a:pt x="33" y="86"/>
                  </a:lnTo>
                  <a:lnTo>
                    <a:pt x="27" y="87"/>
                  </a:lnTo>
                  <a:lnTo>
                    <a:pt x="21" y="89"/>
                  </a:lnTo>
                  <a:lnTo>
                    <a:pt x="13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11" y="76"/>
                  </a:lnTo>
                  <a:lnTo>
                    <a:pt x="21" y="56"/>
                  </a:lnTo>
                  <a:lnTo>
                    <a:pt x="22" y="35"/>
                  </a:lnTo>
                  <a:lnTo>
                    <a:pt x="16" y="14"/>
                  </a:lnTo>
                  <a:lnTo>
                    <a:pt x="24" y="14"/>
                  </a:lnTo>
                  <a:lnTo>
                    <a:pt x="32" y="13"/>
                  </a:lnTo>
                  <a:lnTo>
                    <a:pt x="39" y="10"/>
                  </a:lnTo>
                  <a:lnTo>
                    <a:pt x="46" y="7"/>
                  </a:lnTo>
                  <a:lnTo>
                    <a:pt x="53" y="3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8c3f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90240" y="1252800"/>
              <a:ext cx="41400" cy="18720"/>
            </a:xfrm>
            <a:custGeom>
              <a:avLst/>
              <a:gdLst/>
              <a:ahLst/>
              <a:rect l="l" t="t" r="r" b="b"/>
              <a:pathLst>
                <a:path w="65" h="34">
                  <a:moveTo>
                    <a:pt x="65" y="31"/>
                  </a:moveTo>
                  <a:lnTo>
                    <a:pt x="59" y="34"/>
                  </a:lnTo>
                  <a:lnTo>
                    <a:pt x="53" y="34"/>
                  </a:lnTo>
                  <a:lnTo>
                    <a:pt x="44" y="34"/>
                  </a:lnTo>
                  <a:lnTo>
                    <a:pt x="36" y="34"/>
                  </a:lnTo>
                  <a:lnTo>
                    <a:pt x="25" y="33"/>
                  </a:lnTo>
                  <a:lnTo>
                    <a:pt x="17" y="31"/>
                  </a:lnTo>
                  <a:lnTo>
                    <a:pt x="8" y="30"/>
                  </a:lnTo>
                  <a:lnTo>
                    <a:pt x="0" y="3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2" y="3"/>
                  </a:lnTo>
                  <a:lnTo>
                    <a:pt x="31" y="6"/>
                  </a:lnTo>
                  <a:lnTo>
                    <a:pt x="39" y="9"/>
                  </a:lnTo>
                  <a:lnTo>
                    <a:pt x="47" y="14"/>
                  </a:lnTo>
                  <a:lnTo>
                    <a:pt x="55" y="20"/>
                  </a:lnTo>
                  <a:lnTo>
                    <a:pt x="61" y="25"/>
                  </a:lnTo>
                  <a:lnTo>
                    <a:pt x="6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89040" y="1268640"/>
              <a:ext cx="48960" cy="21960"/>
            </a:xfrm>
            <a:custGeom>
              <a:avLst/>
              <a:gdLst/>
              <a:ahLst/>
              <a:rect l="l" t="t" r="r" b="b"/>
              <a:pathLst>
                <a:path w="76" h="41">
                  <a:moveTo>
                    <a:pt x="76" y="35"/>
                  </a:moveTo>
                  <a:lnTo>
                    <a:pt x="68" y="38"/>
                  </a:lnTo>
                  <a:lnTo>
                    <a:pt x="61" y="40"/>
                  </a:lnTo>
                  <a:lnTo>
                    <a:pt x="50" y="41"/>
                  </a:lnTo>
                  <a:lnTo>
                    <a:pt x="40" y="41"/>
                  </a:lnTo>
                  <a:lnTo>
                    <a:pt x="29" y="41"/>
                  </a:lnTo>
                  <a:lnTo>
                    <a:pt x="20" y="41"/>
                  </a:lnTo>
                  <a:lnTo>
                    <a:pt x="11" y="41"/>
                  </a:lnTo>
                  <a:lnTo>
                    <a:pt x="3" y="41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25" y="4"/>
                  </a:lnTo>
                  <a:lnTo>
                    <a:pt x="31" y="7"/>
                  </a:lnTo>
                  <a:lnTo>
                    <a:pt x="40" y="12"/>
                  </a:lnTo>
                  <a:lnTo>
                    <a:pt x="48" y="17"/>
                  </a:lnTo>
                  <a:lnTo>
                    <a:pt x="56" y="21"/>
                  </a:lnTo>
                  <a:lnTo>
                    <a:pt x="64" y="26"/>
                  </a:lnTo>
                  <a:lnTo>
                    <a:pt x="70" y="31"/>
                  </a:lnTo>
                  <a:lnTo>
                    <a:pt x="76" y="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889040" y="369720"/>
              <a:ext cx="486360" cy="433440"/>
            </a:xfrm>
            <a:custGeom>
              <a:avLst/>
              <a:gdLst/>
              <a:ahLst/>
              <a:rect l="l" t="t" r="r" b="b"/>
              <a:pathLst>
                <a:path w="770" h="819">
                  <a:moveTo>
                    <a:pt x="767" y="402"/>
                  </a:moveTo>
                  <a:lnTo>
                    <a:pt x="764" y="374"/>
                  </a:lnTo>
                  <a:lnTo>
                    <a:pt x="762" y="339"/>
                  </a:lnTo>
                  <a:lnTo>
                    <a:pt x="764" y="309"/>
                  </a:lnTo>
                  <a:lnTo>
                    <a:pt x="764" y="295"/>
                  </a:lnTo>
                  <a:lnTo>
                    <a:pt x="762" y="294"/>
                  </a:lnTo>
                  <a:lnTo>
                    <a:pt x="757" y="289"/>
                  </a:lnTo>
                  <a:lnTo>
                    <a:pt x="751" y="284"/>
                  </a:lnTo>
                  <a:lnTo>
                    <a:pt x="743" y="278"/>
                  </a:lnTo>
                  <a:lnTo>
                    <a:pt x="734" y="272"/>
                  </a:lnTo>
                  <a:lnTo>
                    <a:pt x="725" y="269"/>
                  </a:lnTo>
                  <a:lnTo>
                    <a:pt x="715" y="266"/>
                  </a:lnTo>
                  <a:lnTo>
                    <a:pt x="706" y="267"/>
                  </a:lnTo>
                  <a:lnTo>
                    <a:pt x="706" y="261"/>
                  </a:lnTo>
                  <a:lnTo>
                    <a:pt x="706" y="245"/>
                  </a:lnTo>
                  <a:lnTo>
                    <a:pt x="706" y="225"/>
                  </a:lnTo>
                  <a:lnTo>
                    <a:pt x="709" y="205"/>
                  </a:lnTo>
                  <a:lnTo>
                    <a:pt x="708" y="177"/>
                  </a:lnTo>
                  <a:lnTo>
                    <a:pt x="704" y="171"/>
                  </a:lnTo>
                  <a:lnTo>
                    <a:pt x="701" y="163"/>
                  </a:lnTo>
                  <a:lnTo>
                    <a:pt x="697" y="157"/>
                  </a:lnTo>
                  <a:lnTo>
                    <a:pt x="690" y="152"/>
                  </a:lnTo>
                  <a:lnTo>
                    <a:pt x="683" y="147"/>
                  </a:lnTo>
                  <a:lnTo>
                    <a:pt x="675" y="144"/>
                  </a:lnTo>
                  <a:lnTo>
                    <a:pt x="667" y="144"/>
                  </a:lnTo>
                  <a:lnTo>
                    <a:pt x="658" y="144"/>
                  </a:lnTo>
                  <a:lnTo>
                    <a:pt x="650" y="146"/>
                  </a:lnTo>
                  <a:lnTo>
                    <a:pt x="642" y="150"/>
                  </a:lnTo>
                  <a:lnTo>
                    <a:pt x="636" y="155"/>
                  </a:lnTo>
                  <a:lnTo>
                    <a:pt x="630" y="161"/>
                  </a:lnTo>
                  <a:lnTo>
                    <a:pt x="622" y="171"/>
                  </a:lnTo>
                  <a:lnTo>
                    <a:pt x="603" y="199"/>
                  </a:lnTo>
                  <a:lnTo>
                    <a:pt x="574" y="239"/>
                  </a:lnTo>
                  <a:lnTo>
                    <a:pt x="538" y="289"/>
                  </a:lnTo>
                  <a:lnTo>
                    <a:pt x="498" y="345"/>
                  </a:lnTo>
                  <a:lnTo>
                    <a:pt x="457" y="401"/>
                  </a:lnTo>
                  <a:lnTo>
                    <a:pt x="418" y="455"/>
                  </a:lnTo>
                  <a:lnTo>
                    <a:pt x="384" y="502"/>
                  </a:lnTo>
                  <a:lnTo>
                    <a:pt x="373" y="516"/>
                  </a:lnTo>
                  <a:lnTo>
                    <a:pt x="362" y="531"/>
                  </a:lnTo>
                  <a:lnTo>
                    <a:pt x="350" y="545"/>
                  </a:lnTo>
                  <a:lnTo>
                    <a:pt x="339" y="559"/>
                  </a:lnTo>
                  <a:lnTo>
                    <a:pt x="327" y="572"/>
                  </a:lnTo>
                  <a:lnTo>
                    <a:pt x="316" y="586"/>
                  </a:lnTo>
                  <a:lnTo>
                    <a:pt x="303" y="600"/>
                  </a:lnTo>
                  <a:lnTo>
                    <a:pt x="291" y="612"/>
                  </a:lnTo>
                  <a:lnTo>
                    <a:pt x="299" y="595"/>
                  </a:lnTo>
                  <a:lnTo>
                    <a:pt x="311" y="569"/>
                  </a:lnTo>
                  <a:lnTo>
                    <a:pt x="327" y="535"/>
                  </a:lnTo>
                  <a:lnTo>
                    <a:pt x="347" y="496"/>
                  </a:lnTo>
                  <a:lnTo>
                    <a:pt x="369" y="452"/>
                  </a:lnTo>
                  <a:lnTo>
                    <a:pt x="392" y="404"/>
                  </a:lnTo>
                  <a:lnTo>
                    <a:pt x="415" y="356"/>
                  </a:lnTo>
                  <a:lnTo>
                    <a:pt x="440" y="306"/>
                  </a:lnTo>
                  <a:lnTo>
                    <a:pt x="465" y="258"/>
                  </a:lnTo>
                  <a:lnTo>
                    <a:pt x="488" y="211"/>
                  </a:lnTo>
                  <a:lnTo>
                    <a:pt x="510" y="168"/>
                  </a:lnTo>
                  <a:lnTo>
                    <a:pt x="529" y="130"/>
                  </a:lnTo>
                  <a:lnTo>
                    <a:pt x="544" y="98"/>
                  </a:lnTo>
                  <a:lnTo>
                    <a:pt x="557" y="74"/>
                  </a:lnTo>
                  <a:lnTo>
                    <a:pt x="565" y="59"/>
                  </a:lnTo>
                  <a:lnTo>
                    <a:pt x="568" y="52"/>
                  </a:lnTo>
                  <a:lnTo>
                    <a:pt x="568" y="35"/>
                  </a:lnTo>
                  <a:lnTo>
                    <a:pt x="563" y="21"/>
                  </a:lnTo>
                  <a:lnTo>
                    <a:pt x="552" y="9"/>
                  </a:lnTo>
                  <a:lnTo>
                    <a:pt x="538" y="1"/>
                  </a:lnTo>
                  <a:lnTo>
                    <a:pt x="530" y="0"/>
                  </a:lnTo>
                  <a:lnTo>
                    <a:pt x="521" y="3"/>
                  </a:lnTo>
                  <a:lnTo>
                    <a:pt x="512" y="7"/>
                  </a:lnTo>
                  <a:lnTo>
                    <a:pt x="504" y="14"/>
                  </a:lnTo>
                  <a:lnTo>
                    <a:pt x="496" y="20"/>
                  </a:lnTo>
                  <a:lnTo>
                    <a:pt x="490" y="24"/>
                  </a:lnTo>
                  <a:lnTo>
                    <a:pt x="485" y="29"/>
                  </a:lnTo>
                  <a:lnTo>
                    <a:pt x="484" y="31"/>
                  </a:lnTo>
                  <a:lnTo>
                    <a:pt x="484" y="31"/>
                  </a:lnTo>
                  <a:lnTo>
                    <a:pt x="484" y="32"/>
                  </a:lnTo>
                  <a:lnTo>
                    <a:pt x="463" y="71"/>
                  </a:lnTo>
                  <a:lnTo>
                    <a:pt x="443" y="110"/>
                  </a:lnTo>
                  <a:lnTo>
                    <a:pt x="425" y="149"/>
                  </a:lnTo>
                  <a:lnTo>
                    <a:pt x="404" y="188"/>
                  </a:lnTo>
                  <a:lnTo>
                    <a:pt x="386" y="227"/>
                  </a:lnTo>
                  <a:lnTo>
                    <a:pt x="365" y="266"/>
                  </a:lnTo>
                  <a:lnTo>
                    <a:pt x="344" y="304"/>
                  </a:lnTo>
                  <a:lnTo>
                    <a:pt x="322" y="343"/>
                  </a:lnTo>
                  <a:lnTo>
                    <a:pt x="305" y="364"/>
                  </a:lnTo>
                  <a:lnTo>
                    <a:pt x="286" y="385"/>
                  </a:lnTo>
                  <a:lnTo>
                    <a:pt x="269" y="405"/>
                  </a:lnTo>
                  <a:lnTo>
                    <a:pt x="250" y="426"/>
                  </a:lnTo>
                  <a:lnTo>
                    <a:pt x="233" y="446"/>
                  </a:lnTo>
                  <a:lnTo>
                    <a:pt x="215" y="466"/>
                  </a:lnTo>
                  <a:lnTo>
                    <a:pt x="197" y="488"/>
                  </a:lnTo>
                  <a:lnTo>
                    <a:pt x="180" y="508"/>
                  </a:lnTo>
                  <a:lnTo>
                    <a:pt x="182" y="499"/>
                  </a:lnTo>
                  <a:lnTo>
                    <a:pt x="183" y="480"/>
                  </a:lnTo>
                  <a:lnTo>
                    <a:pt x="182" y="458"/>
                  </a:lnTo>
                  <a:lnTo>
                    <a:pt x="176" y="443"/>
                  </a:lnTo>
                  <a:lnTo>
                    <a:pt x="168" y="438"/>
                  </a:lnTo>
                  <a:lnTo>
                    <a:pt x="160" y="435"/>
                  </a:lnTo>
                  <a:lnTo>
                    <a:pt x="152" y="433"/>
                  </a:lnTo>
                  <a:lnTo>
                    <a:pt x="145" y="433"/>
                  </a:lnTo>
                  <a:lnTo>
                    <a:pt x="137" y="435"/>
                  </a:lnTo>
                  <a:lnTo>
                    <a:pt x="129" y="437"/>
                  </a:lnTo>
                  <a:lnTo>
                    <a:pt x="121" y="441"/>
                  </a:lnTo>
                  <a:lnTo>
                    <a:pt x="115" y="447"/>
                  </a:lnTo>
                  <a:lnTo>
                    <a:pt x="110" y="454"/>
                  </a:lnTo>
                  <a:lnTo>
                    <a:pt x="99" y="468"/>
                  </a:lnTo>
                  <a:lnTo>
                    <a:pt x="87" y="483"/>
                  </a:lnTo>
                  <a:lnTo>
                    <a:pt x="78" y="496"/>
                  </a:lnTo>
                  <a:lnTo>
                    <a:pt x="71" y="488"/>
                  </a:lnTo>
                  <a:lnTo>
                    <a:pt x="64" y="483"/>
                  </a:lnTo>
                  <a:lnTo>
                    <a:pt x="54" y="480"/>
                  </a:lnTo>
                  <a:lnTo>
                    <a:pt x="43" y="479"/>
                  </a:lnTo>
                  <a:lnTo>
                    <a:pt x="26" y="482"/>
                  </a:lnTo>
                  <a:lnTo>
                    <a:pt x="12" y="491"/>
                  </a:lnTo>
                  <a:lnTo>
                    <a:pt x="3" y="505"/>
                  </a:lnTo>
                  <a:lnTo>
                    <a:pt x="0" y="522"/>
                  </a:lnTo>
                  <a:lnTo>
                    <a:pt x="0" y="549"/>
                  </a:lnTo>
                  <a:lnTo>
                    <a:pt x="0" y="577"/>
                  </a:lnTo>
                  <a:lnTo>
                    <a:pt x="0" y="605"/>
                  </a:lnTo>
                  <a:lnTo>
                    <a:pt x="0" y="631"/>
                  </a:lnTo>
                  <a:lnTo>
                    <a:pt x="3" y="639"/>
                  </a:lnTo>
                  <a:lnTo>
                    <a:pt x="9" y="657"/>
                  </a:lnTo>
                  <a:lnTo>
                    <a:pt x="20" y="678"/>
                  </a:lnTo>
                  <a:lnTo>
                    <a:pt x="33" y="689"/>
                  </a:lnTo>
                  <a:lnTo>
                    <a:pt x="33" y="692"/>
                  </a:lnTo>
                  <a:lnTo>
                    <a:pt x="33" y="698"/>
                  </a:lnTo>
                  <a:lnTo>
                    <a:pt x="33" y="706"/>
                  </a:lnTo>
                  <a:lnTo>
                    <a:pt x="33" y="710"/>
                  </a:lnTo>
                  <a:lnTo>
                    <a:pt x="36" y="718"/>
                  </a:lnTo>
                  <a:lnTo>
                    <a:pt x="39" y="726"/>
                  </a:lnTo>
                  <a:lnTo>
                    <a:pt x="43" y="732"/>
                  </a:lnTo>
                  <a:lnTo>
                    <a:pt x="51" y="738"/>
                  </a:lnTo>
                  <a:lnTo>
                    <a:pt x="57" y="743"/>
                  </a:lnTo>
                  <a:lnTo>
                    <a:pt x="65" y="745"/>
                  </a:lnTo>
                  <a:lnTo>
                    <a:pt x="73" y="746"/>
                  </a:lnTo>
                  <a:lnTo>
                    <a:pt x="82" y="746"/>
                  </a:lnTo>
                  <a:lnTo>
                    <a:pt x="85" y="743"/>
                  </a:lnTo>
                  <a:lnTo>
                    <a:pt x="95" y="735"/>
                  </a:lnTo>
                  <a:lnTo>
                    <a:pt x="107" y="723"/>
                  </a:lnTo>
                  <a:lnTo>
                    <a:pt x="123" y="709"/>
                  </a:lnTo>
                  <a:lnTo>
                    <a:pt x="140" y="693"/>
                  </a:lnTo>
                  <a:lnTo>
                    <a:pt x="155" y="678"/>
                  </a:lnTo>
                  <a:lnTo>
                    <a:pt x="169" y="664"/>
                  </a:lnTo>
                  <a:lnTo>
                    <a:pt x="180" y="651"/>
                  </a:lnTo>
                  <a:lnTo>
                    <a:pt x="176" y="664"/>
                  </a:lnTo>
                  <a:lnTo>
                    <a:pt x="169" y="676"/>
                  </a:lnTo>
                  <a:lnTo>
                    <a:pt x="163" y="689"/>
                  </a:lnTo>
                  <a:lnTo>
                    <a:pt x="159" y="701"/>
                  </a:lnTo>
                  <a:lnTo>
                    <a:pt x="152" y="713"/>
                  </a:lnTo>
                  <a:lnTo>
                    <a:pt x="146" y="726"/>
                  </a:lnTo>
                  <a:lnTo>
                    <a:pt x="138" y="738"/>
                  </a:lnTo>
                  <a:lnTo>
                    <a:pt x="132" y="751"/>
                  </a:lnTo>
                  <a:lnTo>
                    <a:pt x="134" y="762"/>
                  </a:lnTo>
                  <a:lnTo>
                    <a:pt x="138" y="785"/>
                  </a:lnTo>
                  <a:lnTo>
                    <a:pt x="149" y="808"/>
                  </a:lnTo>
                  <a:lnTo>
                    <a:pt x="163" y="819"/>
                  </a:lnTo>
                  <a:lnTo>
                    <a:pt x="211" y="810"/>
                  </a:lnTo>
                  <a:lnTo>
                    <a:pt x="241" y="785"/>
                  </a:lnTo>
                  <a:lnTo>
                    <a:pt x="269" y="760"/>
                  </a:lnTo>
                  <a:lnTo>
                    <a:pt x="297" y="734"/>
                  </a:lnTo>
                  <a:lnTo>
                    <a:pt x="323" y="706"/>
                  </a:lnTo>
                  <a:lnTo>
                    <a:pt x="348" y="678"/>
                  </a:lnTo>
                  <a:lnTo>
                    <a:pt x="373" y="650"/>
                  </a:lnTo>
                  <a:lnTo>
                    <a:pt x="397" y="620"/>
                  </a:lnTo>
                  <a:lnTo>
                    <a:pt x="420" y="591"/>
                  </a:lnTo>
                  <a:lnTo>
                    <a:pt x="443" y="561"/>
                  </a:lnTo>
                  <a:lnTo>
                    <a:pt x="465" y="530"/>
                  </a:lnTo>
                  <a:lnTo>
                    <a:pt x="488" y="499"/>
                  </a:lnTo>
                  <a:lnTo>
                    <a:pt x="510" y="466"/>
                  </a:lnTo>
                  <a:lnTo>
                    <a:pt x="532" y="433"/>
                  </a:lnTo>
                  <a:lnTo>
                    <a:pt x="554" y="401"/>
                  </a:lnTo>
                  <a:lnTo>
                    <a:pt x="575" y="368"/>
                  </a:lnTo>
                  <a:lnTo>
                    <a:pt x="599" y="336"/>
                  </a:lnTo>
                  <a:lnTo>
                    <a:pt x="603" y="346"/>
                  </a:lnTo>
                  <a:lnTo>
                    <a:pt x="613" y="365"/>
                  </a:lnTo>
                  <a:lnTo>
                    <a:pt x="620" y="384"/>
                  </a:lnTo>
                  <a:lnTo>
                    <a:pt x="625" y="393"/>
                  </a:lnTo>
                  <a:lnTo>
                    <a:pt x="631" y="395"/>
                  </a:lnTo>
                  <a:lnTo>
                    <a:pt x="639" y="396"/>
                  </a:lnTo>
                  <a:lnTo>
                    <a:pt x="647" y="396"/>
                  </a:lnTo>
                  <a:lnTo>
                    <a:pt x="656" y="395"/>
                  </a:lnTo>
                  <a:lnTo>
                    <a:pt x="664" y="393"/>
                  </a:lnTo>
                  <a:lnTo>
                    <a:pt x="672" y="391"/>
                  </a:lnTo>
                  <a:lnTo>
                    <a:pt x="676" y="390"/>
                  </a:lnTo>
                  <a:lnTo>
                    <a:pt x="678" y="390"/>
                  </a:lnTo>
                  <a:lnTo>
                    <a:pt x="680" y="398"/>
                  </a:lnTo>
                  <a:lnTo>
                    <a:pt x="684" y="409"/>
                  </a:lnTo>
                  <a:lnTo>
                    <a:pt x="692" y="419"/>
                  </a:lnTo>
                  <a:lnTo>
                    <a:pt x="701" y="433"/>
                  </a:lnTo>
                  <a:lnTo>
                    <a:pt x="712" y="444"/>
                  </a:lnTo>
                  <a:lnTo>
                    <a:pt x="723" y="454"/>
                  </a:lnTo>
                  <a:lnTo>
                    <a:pt x="732" y="458"/>
                  </a:lnTo>
                  <a:lnTo>
                    <a:pt x="742" y="458"/>
                  </a:lnTo>
                  <a:lnTo>
                    <a:pt x="757" y="449"/>
                  </a:lnTo>
                  <a:lnTo>
                    <a:pt x="767" y="437"/>
                  </a:lnTo>
                  <a:lnTo>
                    <a:pt x="770" y="419"/>
                  </a:lnTo>
                  <a:lnTo>
                    <a:pt x="767" y="402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03880" y="636120"/>
              <a:ext cx="1080" cy="108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81080" y="1066680"/>
            <a:ext cx="7162920" cy="5562720"/>
            <a:chOff x="1981080" y="1066680"/>
            <a:chExt cx="7162920" cy="5562720"/>
          </a:xfrm>
        </p:grpSpPr>
        <p:sp>
          <p:nvSpPr>
            <p:cNvPr id="165" name=""/>
            <p:cNvSpPr/>
            <p:nvPr/>
          </p:nvSpPr>
          <p:spPr>
            <a:xfrm>
              <a:off x="1981080" y="1066680"/>
              <a:ext cx="7162920" cy="5562720"/>
            </a:xfrm>
            <a:prstGeom prst="cloudCallout">
              <a:avLst>
                <a:gd name="adj1" fmla="val -43550"/>
                <a:gd name="adj2" fmla="val 60759"/>
              </a:avLst>
            </a:prstGeom>
            <a:solidFill>
              <a:srgbClr val="dfdfe5"/>
            </a:solidFill>
            <a:ln cap="sq" w="1260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6" name="PlaceHolder 3"/>
            <p:cNvSpPr>
              <a:spLocks noGrp="1"/>
            </p:cNvSpPr>
            <p:nvPr>
              <p:ph/>
            </p:nvPr>
          </p:nvSpPr>
          <p:spPr>
            <a:xfrm>
              <a:off x="3124080" y="1904760"/>
              <a:ext cx="5105520" cy="471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 algn="ctr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00"/>
                  </a:solidFill>
                  <a:latin typeface="Arial"/>
                  <a:ea typeface="Times New Roman"/>
                </a:rPr>
                <a:t>Realizar tentativas de respostas sobre tais perguntas, mas não serão </a:t>
              </a:r>
              <a:r>
                <a:rPr b="1" lang="pt-BR" sz="2400" spc="-1" strike="noStrike">
                  <a:solidFill>
                    <a:srgbClr val="333300"/>
                  </a:solidFill>
                  <a:latin typeface="Arial"/>
                  <a:ea typeface="Times New Roman"/>
                </a:rPr>
                <a:t>exatas</a:t>
              </a:r>
              <a:r>
                <a:rPr b="0" lang="pt-BR" sz="2400" spc="-1" strike="noStrike">
                  <a:solidFill>
                    <a:srgbClr val="333300"/>
                  </a:solidFill>
                  <a:latin typeface="Arial"/>
                  <a:ea typeface="Times New Roman"/>
                </a:rPr>
                <a:t> e </a:t>
              </a:r>
              <a:r>
                <a:rPr b="1" lang="pt-BR" sz="2400" spc="-1" strike="noStrike">
                  <a:solidFill>
                    <a:srgbClr val="333300"/>
                  </a:solidFill>
                  <a:latin typeface="Arial"/>
                  <a:ea typeface="Times New Roman"/>
                </a:rPr>
                <a:t>certas</a:t>
              </a:r>
              <a:r>
                <a:rPr b="0" lang="pt-BR" sz="2400" spc="-1" strike="noStrike">
                  <a:solidFill>
                    <a:srgbClr val="333300"/>
                  </a:solidFill>
                  <a:latin typeface="Arial"/>
                  <a:ea typeface="Times New Roman"/>
                </a:rPr>
                <a:t>, pois os crescentes avanços tecnológicos impossibilitam exercícios de futurologia na área de TI e, especificamente, na era da Internet ao longo das próximas décadas.</a:t>
              </a:r>
              <a:r>
                <a:rPr b="0" lang="pt-BR" sz="2400" spc="-1" strike="noStrike">
                  <a:solidFill>
                    <a:srgbClr val="333300"/>
                  </a:solidFill>
                  <a:latin typeface="Arial"/>
                </a:rPr>
                <a:t> Fase de consolidação de padrões, plataformas e conceitos...</a:t>
              </a: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  <a:p>
              <a:pPr marL="343080" indent="0" algn="ctr">
                <a:spcBef>
                  <a:spcPts val="601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  <a:p>
              <a:pPr marL="343080" indent="0" algn="ctr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fig" descr=""/>
          <p:cNvPicPr/>
          <p:nvPr/>
        </p:nvPicPr>
        <p:blipFill>
          <a:blip r:embed="rId1"/>
          <a:stretch/>
        </p:blipFill>
        <p:spPr>
          <a:xfrm>
            <a:off x="-304920" y="457200"/>
            <a:ext cx="10706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 de Realização Tecnológica (I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ONU publicou (julho de 2001) um ranking do desenvolvimento tecnológico de 72 paíse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Brasil 43</a:t>
            </a:r>
            <a:r>
              <a:rPr b="0" lang="en-US" sz="2000" spc="-1" strike="noStrike" baseline="30000">
                <a:solidFill>
                  <a:srgbClr val="3333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posição, atrás dos países Panamá, Trinidad Tobago, África do Sul, Uruguai, Costa Rica, Argentina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O ranking não mede o poderio tecnológico, mas sim o processo de: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Criação de novas  tecnologias (patentes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Difusão de tecnologias - número de sites na Internet, proporção de exportação de tecnologias, número de telefones fixos, celulares e consumo de energia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Utilização de tecnologias - escolaridade da população e a taxa bruta de matrículas nos cursos de 3o grau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Índice de Realização Tecnológica (IR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361960" y="1456920"/>
            <a:ext cx="673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Estímulo...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Ampliar os investimentos em tecnologia no desenvolvimento de Aplicações para Web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Categorias WebApps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Propaganda e Marketing 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Transacionais (compras eletrônicas e bancos on-line)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Quiosques de Informação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Publicações (Enciclopédias, Catálogos, Periódicos, Revistas, Jornais, etc)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Portais (UOL, Terra, etc)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00"/>
                </a:solidFill>
                <a:latin typeface="Arial"/>
                <a:ea typeface="Times New Roman"/>
              </a:rPr>
              <a:t>Comunidades virtuais (leilão on-line)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Educação, Treinamento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Suporte Online, Documentação e Ajuda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Entretenimento , Vídeo-Conferência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Arial"/>
              </a:rPr>
              <a:t>Sistemas de Informação Geográfica</a:t>
            </a:r>
            <a:endParaRPr b="0" lang="en-US" sz="1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7120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Web (WWW ou W</a:t>
            </a:r>
            <a:r>
              <a:rPr b="0" lang="pt-BR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76560" y="1599840"/>
            <a:ext cx="69674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Vitrine da tecnologia Hipermídia (Hipertexto + Multimídia) - sistema organizado e estruturado, que permite a recuperação e distribuição de informação e serviços na </a:t>
            </a:r>
            <a:r>
              <a:rPr b="0" i="1" lang="en-US" sz="2400" spc="-1" strike="noStrike">
                <a:solidFill>
                  <a:srgbClr val="3333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Motivos (meio de comunicação)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interface consistente e simples: “leitura universal” através de </a:t>
            </a:r>
            <a:r>
              <a:rPr b="0" i="1" lang="en-US" sz="2000" spc="-1" strike="noStrike">
                <a:solidFill>
                  <a:srgbClr val="333300"/>
                </a:solidFill>
                <a:latin typeface="Arial"/>
              </a:rPr>
              <a:t>browsers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padrão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integração de diferentes tecnologias e tipos de documentos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crescente número de servidores de informação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baixo custo de transmissão de informação </a:t>
            </a:r>
            <a:r>
              <a:rPr b="0" lang="en-US" sz="2000" spc="-1" strike="noStrike">
                <a:solidFill>
                  <a:srgbClr val="3333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 bom para prestação de serviços!</a:t>
            </a: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ranking" descr=""/>
          <p:cNvPicPr/>
          <p:nvPr/>
        </p:nvPicPr>
        <p:blipFill>
          <a:blip r:embed="rId1"/>
          <a:stretch/>
        </p:blipFill>
        <p:spPr>
          <a:xfrm>
            <a:off x="2362320" y="1606680"/>
            <a:ext cx="6705360" cy="4794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981080" y="38160"/>
            <a:ext cx="711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Uso da Internet...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981080" y="38160"/>
            <a:ext cx="711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Novas Competências...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78040" y="1447920"/>
            <a:ext cx="5859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ngenharia de Software Convenciona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ngenharia de Software Orientada a Objeto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00"/>
                </a:solidFill>
                <a:latin typeface="Arial"/>
              </a:rPr>
              <a:t>Engenharia de Conhecimento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91080" y="2971800"/>
            <a:ext cx="1564920" cy="848880"/>
            <a:chOff x="4591080" y="2971800"/>
            <a:chExt cx="1564920" cy="848880"/>
          </a:xfrm>
        </p:grpSpPr>
        <p:grpSp>
          <p:nvGrpSpPr>
            <p:cNvPr id="179" name=""/>
            <p:cNvGrpSpPr/>
            <p:nvPr/>
          </p:nvGrpSpPr>
          <p:grpSpPr>
            <a:xfrm>
              <a:off x="4650840" y="2971800"/>
              <a:ext cx="1497240" cy="847800"/>
              <a:chOff x="4650840" y="2971800"/>
              <a:chExt cx="1497240" cy="847800"/>
            </a:xfrm>
          </p:grpSpPr>
          <p:sp>
            <p:nvSpPr>
              <p:cNvPr id="180" name=""/>
              <p:cNvSpPr/>
              <p:nvPr/>
            </p:nvSpPr>
            <p:spPr>
              <a:xfrm>
                <a:off x="4650840" y="2971800"/>
                <a:ext cx="1497240" cy="834120"/>
              </a:xfrm>
              <a:custGeom>
                <a:avLst/>
                <a:gdLst/>
                <a:ahLst/>
                <a:rect l="l" t="t" r="r" b="b"/>
                <a:pathLst>
                  <a:path w="3572" h="2739">
                    <a:moveTo>
                      <a:pt x="0" y="0"/>
                    </a:moveTo>
                    <a:lnTo>
                      <a:pt x="456" y="0"/>
                    </a:lnTo>
                    <a:lnTo>
                      <a:pt x="557" y="136"/>
                    </a:lnTo>
                    <a:lnTo>
                      <a:pt x="654" y="267"/>
                    </a:lnTo>
                    <a:lnTo>
                      <a:pt x="761" y="408"/>
                    </a:lnTo>
                    <a:lnTo>
                      <a:pt x="885" y="569"/>
                    </a:lnTo>
                    <a:lnTo>
                      <a:pt x="1000" y="723"/>
                    </a:lnTo>
                    <a:lnTo>
                      <a:pt x="1106" y="861"/>
                    </a:lnTo>
                    <a:lnTo>
                      <a:pt x="1197" y="987"/>
                    </a:lnTo>
                    <a:lnTo>
                      <a:pt x="1281" y="1107"/>
                    </a:lnTo>
                    <a:lnTo>
                      <a:pt x="1376" y="1251"/>
                    </a:lnTo>
                    <a:lnTo>
                      <a:pt x="1453" y="1376"/>
                    </a:lnTo>
                    <a:lnTo>
                      <a:pt x="1533" y="1512"/>
                    </a:lnTo>
                    <a:lnTo>
                      <a:pt x="1615" y="1666"/>
                    </a:lnTo>
                    <a:lnTo>
                      <a:pt x="1681" y="1805"/>
                    </a:lnTo>
                    <a:lnTo>
                      <a:pt x="1742" y="1955"/>
                    </a:lnTo>
                    <a:lnTo>
                      <a:pt x="1793" y="1820"/>
                    </a:lnTo>
                    <a:lnTo>
                      <a:pt x="1850" y="1662"/>
                    </a:lnTo>
                    <a:lnTo>
                      <a:pt x="1918" y="1492"/>
                    </a:lnTo>
                    <a:lnTo>
                      <a:pt x="1991" y="1321"/>
                    </a:lnTo>
                    <a:lnTo>
                      <a:pt x="2071" y="1156"/>
                    </a:lnTo>
                    <a:lnTo>
                      <a:pt x="2162" y="993"/>
                    </a:lnTo>
                    <a:lnTo>
                      <a:pt x="2272" y="816"/>
                    </a:lnTo>
                    <a:lnTo>
                      <a:pt x="2430" y="608"/>
                    </a:lnTo>
                    <a:lnTo>
                      <a:pt x="2554" y="453"/>
                    </a:lnTo>
                    <a:lnTo>
                      <a:pt x="2690" y="308"/>
                    </a:lnTo>
                    <a:lnTo>
                      <a:pt x="2831" y="184"/>
                    </a:lnTo>
                    <a:lnTo>
                      <a:pt x="3070" y="0"/>
                    </a:lnTo>
                    <a:lnTo>
                      <a:pt x="3572" y="0"/>
                    </a:lnTo>
                    <a:lnTo>
                      <a:pt x="3395" y="144"/>
                    </a:lnTo>
                    <a:lnTo>
                      <a:pt x="3214" y="321"/>
                    </a:lnTo>
                    <a:lnTo>
                      <a:pt x="3059" y="480"/>
                    </a:lnTo>
                    <a:lnTo>
                      <a:pt x="2911" y="641"/>
                    </a:lnTo>
                    <a:lnTo>
                      <a:pt x="2752" y="835"/>
                    </a:lnTo>
                    <a:lnTo>
                      <a:pt x="2611" y="1025"/>
                    </a:lnTo>
                    <a:lnTo>
                      <a:pt x="2514" y="1165"/>
                    </a:lnTo>
                    <a:lnTo>
                      <a:pt x="2412" y="1348"/>
                    </a:lnTo>
                    <a:lnTo>
                      <a:pt x="2323" y="1510"/>
                    </a:lnTo>
                    <a:lnTo>
                      <a:pt x="2258" y="1644"/>
                    </a:lnTo>
                    <a:lnTo>
                      <a:pt x="2184" y="1817"/>
                    </a:lnTo>
                    <a:lnTo>
                      <a:pt x="2130" y="1952"/>
                    </a:lnTo>
                    <a:lnTo>
                      <a:pt x="2094" y="2047"/>
                    </a:lnTo>
                    <a:lnTo>
                      <a:pt x="2055" y="2170"/>
                    </a:lnTo>
                    <a:lnTo>
                      <a:pt x="2026" y="2274"/>
                    </a:lnTo>
                    <a:lnTo>
                      <a:pt x="2278" y="2274"/>
                    </a:lnTo>
                    <a:lnTo>
                      <a:pt x="1811" y="2739"/>
                    </a:lnTo>
                    <a:lnTo>
                      <a:pt x="1305" y="2274"/>
                    </a:lnTo>
                    <a:lnTo>
                      <a:pt x="1557" y="2274"/>
                    </a:lnTo>
                    <a:lnTo>
                      <a:pt x="1537" y="2193"/>
                    </a:lnTo>
                    <a:lnTo>
                      <a:pt x="1501" y="2098"/>
                    </a:lnTo>
                    <a:lnTo>
                      <a:pt x="1448" y="1997"/>
                    </a:lnTo>
                    <a:lnTo>
                      <a:pt x="1381" y="1874"/>
                    </a:lnTo>
                    <a:lnTo>
                      <a:pt x="1304" y="1748"/>
                    </a:lnTo>
                    <a:lnTo>
                      <a:pt x="1237" y="1642"/>
                    </a:lnTo>
                    <a:lnTo>
                      <a:pt x="1166" y="1532"/>
                    </a:lnTo>
                    <a:lnTo>
                      <a:pt x="1086" y="1412"/>
                    </a:lnTo>
                    <a:lnTo>
                      <a:pt x="1017" y="1312"/>
                    </a:lnTo>
                    <a:lnTo>
                      <a:pt x="939" y="1193"/>
                    </a:lnTo>
                    <a:lnTo>
                      <a:pt x="788" y="985"/>
                    </a:lnTo>
                    <a:lnTo>
                      <a:pt x="672" y="829"/>
                    </a:lnTo>
                    <a:lnTo>
                      <a:pt x="576" y="703"/>
                    </a:lnTo>
                    <a:lnTo>
                      <a:pt x="492" y="597"/>
                    </a:lnTo>
                    <a:lnTo>
                      <a:pt x="365" y="440"/>
                    </a:lnTo>
                    <a:lnTo>
                      <a:pt x="248" y="295"/>
                    </a:lnTo>
                    <a:lnTo>
                      <a:pt x="127" y="1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431320" y="3665160"/>
                <a:ext cx="177120" cy="13320"/>
              </a:xfrm>
              <a:custGeom>
                <a:avLst/>
                <a:gdLst/>
                <a:ahLst/>
                <a:rect l="l" t="t" r="r" b="b"/>
                <a:pathLst>
                  <a:path w="423" h="46">
                    <a:moveTo>
                      <a:pt x="0" y="46"/>
                    </a:moveTo>
                    <a:lnTo>
                      <a:pt x="165" y="0"/>
                    </a:lnTo>
                    <a:lnTo>
                      <a:pt x="423" y="0"/>
                    </a:lnTo>
                    <a:lnTo>
                      <a:pt x="247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40960" y="3665160"/>
                <a:ext cx="264960" cy="154440"/>
              </a:xfrm>
              <a:custGeom>
                <a:avLst/>
                <a:gdLst/>
                <a:ahLst/>
                <a:rect l="l" t="t" r="r" b="b"/>
                <a:pathLst>
                  <a:path w="634" h="508">
                    <a:moveTo>
                      <a:pt x="0" y="508"/>
                    </a:moveTo>
                    <a:lnTo>
                      <a:pt x="166" y="463"/>
                    </a:lnTo>
                    <a:lnTo>
                      <a:pt x="634" y="0"/>
                    </a:lnTo>
                    <a:lnTo>
                      <a:pt x="464" y="46"/>
                    </a:lnTo>
                    <a:lnTo>
                      <a:pt x="0" y="508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129640" y="3665160"/>
                <a:ext cx="130320" cy="13320"/>
              </a:xfrm>
              <a:custGeom>
                <a:avLst/>
                <a:gdLst/>
                <a:ahLst/>
                <a:rect l="l" t="t" r="r" b="b"/>
                <a:pathLst>
                  <a:path w="313" h="46">
                    <a:moveTo>
                      <a:pt x="0" y="46"/>
                    </a:moveTo>
                    <a:lnTo>
                      <a:pt x="261" y="46"/>
                    </a:lnTo>
                    <a:lnTo>
                      <a:pt x="313" y="0"/>
                    </a:lnTo>
                    <a:lnTo>
                      <a:pt x="160" y="0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5880240" y="2971800"/>
              <a:ext cx="275760" cy="13680"/>
            </a:xfrm>
            <a:custGeom>
              <a:avLst/>
              <a:gdLst/>
              <a:ahLst/>
              <a:rect l="l" t="t" r="r" b="b"/>
              <a:pathLst>
                <a:path w="659" h="45">
                  <a:moveTo>
                    <a:pt x="0" y="45"/>
                  </a:moveTo>
                  <a:lnTo>
                    <a:pt x="164" y="0"/>
                  </a:lnTo>
                  <a:lnTo>
                    <a:pt x="659" y="0"/>
                  </a:lnTo>
                  <a:lnTo>
                    <a:pt x="495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91080" y="2971800"/>
              <a:ext cx="259920" cy="14400"/>
            </a:xfrm>
            <a:custGeom>
              <a:avLst/>
              <a:gdLst/>
              <a:ahLst/>
              <a:rect l="l" t="t" r="r" b="b"/>
              <a:pathLst>
                <a:path w="619" h="49">
                  <a:moveTo>
                    <a:pt x="0" y="45"/>
                  </a:moveTo>
                  <a:lnTo>
                    <a:pt x="170" y="0"/>
                  </a:lnTo>
                  <a:lnTo>
                    <a:pt x="619" y="0"/>
                  </a:lnTo>
                  <a:lnTo>
                    <a:pt x="450" y="4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92160" y="2986200"/>
              <a:ext cx="1497240" cy="834480"/>
            </a:xfrm>
            <a:custGeom>
              <a:avLst/>
              <a:gdLst/>
              <a:ahLst/>
              <a:rect l="l" t="t" r="r" b="b"/>
              <a:pathLst>
                <a:path w="3573" h="2739">
                  <a:moveTo>
                    <a:pt x="0" y="0"/>
                  </a:moveTo>
                  <a:lnTo>
                    <a:pt x="457" y="0"/>
                  </a:lnTo>
                  <a:lnTo>
                    <a:pt x="557" y="136"/>
                  </a:lnTo>
                  <a:lnTo>
                    <a:pt x="655" y="267"/>
                  </a:lnTo>
                  <a:lnTo>
                    <a:pt x="762" y="409"/>
                  </a:lnTo>
                  <a:lnTo>
                    <a:pt x="887" y="569"/>
                  </a:lnTo>
                  <a:lnTo>
                    <a:pt x="1001" y="723"/>
                  </a:lnTo>
                  <a:lnTo>
                    <a:pt x="1106" y="861"/>
                  </a:lnTo>
                  <a:lnTo>
                    <a:pt x="1197" y="987"/>
                  </a:lnTo>
                  <a:lnTo>
                    <a:pt x="1281" y="1108"/>
                  </a:lnTo>
                  <a:lnTo>
                    <a:pt x="1378" y="1252"/>
                  </a:lnTo>
                  <a:lnTo>
                    <a:pt x="1455" y="1376"/>
                  </a:lnTo>
                  <a:lnTo>
                    <a:pt x="1534" y="1513"/>
                  </a:lnTo>
                  <a:lnTo>
                    <a:pt x="1615" y="1666"/>
                  </a:lnTo>
                  <a:lnTo>
                    <a:pt x="1683" y="1805"/>
                  </a:lnTo>
                  <a:lnTo>
                    <a:pt x="1744" y="1954"/>
                  </a:lnTo>
                  <a:lnTo>
                    <a:pt x="1795" y="1821"/>
                  </a:lnTo>
                  <a:lnTo>
                    <a:pt x="1851" y="1661"/>
                  </a:lnTo>
                  <a:lnTo>
                    <a:pt x="1919" y="1492"/>
                  </a:lnTo>
                  <a:lnTo>
                    <a:pt x="1993" y="1321"/>
                  </a:lnTo>
                  <a:lnTo>
                    <a:pt x="2072" y="1156"/>
                  </a:lnTo>
                  <a:lnTo>
                    <a:pt x="2163" y="993"/>
                  </a:lnTo>
                  <a:lnTo>
                    <a:pt x="2273" y="816"/>
                  </a:lnTo>
                  <a:lnTo>
                    <a:pt x="2432" y="608"/>
                  </a:lnTo>
                  <a:lnTo>
                    <a:pt x="2556" y="453"/>
                  </a:lnTo>
                  <a:lnTo>
                    <a:pt x="2691" y="308"/>
                  </a:lnTo>
                  <a:lnTo>
                    <a:pt x="2831" y="185"/>
                  </a:lnTo>
                  <a:lnTo>
                    <a:pt x="3072" y="0"/>
                  </a:lnTo>
                  <a:lnTo>
                    <a:pt x="3573" y="0"/>
                  </a:lnTo>
                  <a:lnTo>
                    <a:pt x="3397" y="144"/>
                  </a:lnTo>
                  <a:lnTo>
                    <a:pt x="3216" y="320"/>
                  </a:lnTo>
                  <a:lnTo>
                    <a:pt x="3060" y="481"/>
                  </a:lnTo>
                  <a:lnTo>
                    <a:pt x="2912" y="641"/>
                  </a:lnTo>
                  <a:lnTo>
                    <a:pt x="2752" y="835"/>
                  </a:lnTo>
                  <a:lnTo>
                    <a:pt x="2613" y="1025"/>
                  </a:lnTo>
                  <a:lnTo>
                    <a:pt x="2516" y="1165"/>
                  </a:lnTo>
                  <a:lnTo>
                    <a:pt x="2413" y="1348"/>
                  </a:lnTo>
                  <a:lnTo>
                    <a:pt x="2324" y="1510"/>
                  </a:lnTo>
                  <a:lnTo>
                    <a:pt x="2260" y="1645"/>
                  </a:lnTo>
                  <a:lnTo>
                    <a:pt x="2184" y="1817"/>
                  </a:lnTo>
                  <a:lnTo>
                    <a:pt x="2131" y="1953"/>
                  </a:lnTo>
                  <a:lnTo>
                    <a:pt x="2096" y="2046"/>
                  </a:lnTo>
                  <a:lnTo>
                    <a:pt x="2057" y="2170"/>
                  </a:lnTo>
                  <a:lnTo>
                    <a:pt x="2027" y="2274"/>
                  </a:lnTo>
                  <a:lnTo>
                    <a:pt x="2280" y="2274"/>
                  </a:lnTo>
                  <a:lnTo>
                    <a:pt x="1812" y="2739"/>
                  </a:lnTo>
                  <a:lnTo>
                    <a:pt x="1307" y="2274"/>
                  </a:lnTo>
                  <a:lnTo>
                    <a:pt x="1559" y="2274"/>
                  </a:lnTo>
                  <a:lnTo>
                    <a:pt x="1538" y="2194"/>
                  </a:lnTo>
                  <a:lnTo>
                    <a:pt x="1502" y="2097"/>
                  </a:lnTo>
                  <a:lnTo>
                    <a:pt x="1450" y="1998"/>
                  </a:lnTo>
                  <a:lnTo>
                    <a:pt x="1382" y="1874"/>
                  </a:lnTo>
                  <a:lnTo>
                    <a:pt x="1306" y="1749"/>
                  </a:lnTo>
                  <a:lnTo>
                    <a:pt x="1238" y="1642"/>
                  </a:lnTo>
                  <a:lnTo>
                    <a:pt x="1167" y="1533"/>
                  </a:lnTo>
                  <a:lnTo>
                    <a:pt x="1086" y="1412"/>
                  </a:lnTo>
                  <a:lnTo>
                    <a:pt x="1019" y="1312"/>
                  </a:lnTo>
                  <a:lnTo>
                    <a:pt x="941" y="1193"/>
                  </a:lnTo>
                  <a:lnTo>
                    <a:pt x="790" y="985"/>
                  </a:lnTo>
                  <a:lnTo>
                    <a:pt x="674" y="828"/>
                  </a:lnTo>
                  <a:lnTo>
                    <a:pt x="577" y="703"/>
                  </a:lnTo>
                  <a:lnTo>
                    <a:pt x="494" y="598"/>
                  </a:lnTo>
                  <a:lnTo>
                    <a:pt x="366" y="441"/>
                  </a:lnTo>
                  <a:lnTo>
                    <a:pt x="249" y="295"/>
                  </a:lnTo>
                  <a:lnTo>
                    <a:pt x="129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530800" y="3581280"/>
            <a:ext cx="6147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</a:rPr>
              <a:t>Engenharia Web</a:t>
            </a: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90720" y="4572000"/>
            <a:ext cx="8153280" cy="1850760"/>
            <a:chOff x="990720" y="4572000"/>
            <a:chExt cx="8153280" cy="1850760"/>
          </a:xfrm>
        </p:grpSpPr>
        <p:sp>
          <p:nvSpPr>
            <p:cNvPr id="189" name=""/>
            <p:cNvSpPr/>
            <p:nvPr/>
          </p:nvSpPr>
          <p:spPr>
            <a:xfrm>
              <a:off x="990720" y="4572000"/>
              <a:ext cx="8153280" cy="13831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920" y="4818600"/>
              <a:ext cx="6933960" cy="4442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genharia de Software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72160" y="5410440"/>
              <a:ext cx="217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00"/>
                  </a:solidFill>
                  <a:latin typeface="Arial"/>
                </a:rPr>
                <a:t>Engenharia Web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43600" y="5213880"/>
              <a:ext cx="2438280" cy="592560"/>
            </a:xfrm>
            <a:prstGeom prst="irregularSeal2">
              <a:avLst/>
            </a:prstGeom>
            <a:solidFill>
              <a:srgbClr val="b3b2be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uidelines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0120" y="5955840"/>
              <a:ext cx="1523880" cy="466920"/>
              <a:chOff x="7620120" y="5955840"/>
              <a:chExt cx="1523880" cy="46692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0120" y="5955840"/>
                <a:ext cx="1523880" cy="466920"/>
              </a:xfrm>
              <a:prstGeom prst="borderCallout1">
                <a:avLst>
                  <a:gd name="adj1" fmla="val 18750"/>
                  <a:gd name="adj2" fmla="val -8333"/>
                  <a:gd name="adj3" fmla="val -30296"/>
                  <a:gd name="adj4" fmla="val -25523"/>
                </a:avLst>
              </a:prstGeom>
              <a:solidFill>
                <a:srgbClr val="ffff99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75000" y="600408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esafios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9T16:35:39Z</dcterms:created>
  <dc:creator>Prof. Dr. Marcelo Turine</dc:creator>
  <dc:description/>
  <dc:language>en-US</dc:language>
  <cp:lastModifiedBy>DCT-UFMS</cp:lastModifiedBy>
  <cp:lastPrinted>2001-08-27T12:13:26Z</cp:lastPrinted>
  <dcterms:modified xsi:type="dcterms:W3CDTF">2001-08-28T19:46:51Z</dcterms:modified>
  <cp:revision>181</cp:revision>
  <dc:subject/>
  <dc:title>Gerência de Projetos</dc:title>
</cp:coreProperties>
</file>