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061-9A7C-4F39-9668-D22FC446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0DD-5D57-4C6B-A97B-EA863508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C9C-441A-47D9-8E95-99AB2789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447-F974-4693-BA87-F21147F2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D91-AF52-430B-A07D-A71041F0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1A3-4E26-462D-91A1-DF942C65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99F-BE76-4387-B61C-829D662E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2B90-E261-450C-B37C-883B9F9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679-4F22-4617-9B9B-BF8F3D0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0A29-6EEC-421A-B989-C7D2CEA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FB40-A1E3-4352-9C11-73943D7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887-014A-4749-ADF9-431ED646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A82-6110-40DC-8BD6-D4FDC23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1F2-525E-4BD0-891E-41EBC9D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D87-36F1-4587-B2AD-802AA07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3F99-D2E2-4EC1-A6F1-814FC44D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EEB1-471A-4561-A518-C053CBE5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C40-8CBA-4121-BA03-A12AA40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A34-EEEF-4592-BB83-1EADE37B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732-155B-4C4C-950C-7FD31649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3DF-2B60-4A1F-BBB9-2CFAD40A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B87-D3F2-40A1-A926-AA99127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273-7656-4398-B502-BA8E2E9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752-F53B-43CE-9FCD-61B3AC7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CDD-9EEA-48D6-BEF1-B4D6EBEE573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FAB-12E1-4675-BB59-5B7602343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C8B1-7588-43DB-A9E7-BE7DA956519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A97-3604-4D34-B6B1-5483D1F34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aan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uma.org.br/" TargetMode="External"/><Relationship Id="rId2" Type="http://schemas.openxmlformats.org/officeDocument/2006/relationships/hyperlink" Target="http://www.numa.org.br/" TargetMode="External"/><Relationship Id="rId3" Type="http://schemas.openxmlformats.org/officeDocument/2006/relationships/hyperlink" Target="http://www.numa.org.br/" TargetMode="External"/><Relationship Id="rId4" Type="http://schemas.openxmlformats.org/officeDocument/2006/relationships/hyperlink" Target="http://www.numa.org.br/" TargetMode="External"/><Relationship Id="rId5" Type="http://schemas.openxmlformats.org/officeDocument/2006/relationships/hyperlink" Target="http://www.numa.org.br/" TargetMode="External"/><Relationship Id="rId6" Type="http://schemas.openxmlformats.org/officeDocument/2006/relationships/hyperlink" Target="http://www.numa.org.br/" TargetMode="External"/><Relationship Id="rId7" Type="http://schemas.openxmlformats.org/officeDocument/2006/relationships/hyperlink" Target="http://www.numa.org.br/" TargetMode="External"/><Relationship Id="rId8" Type="http://schemas.openxmlformats.org/officeDocument/2006/relationships/hyperlink" Target="http://www.numa.org.br/" TargetMode="External"/><Relationship Id="rId9" Type="http://schemas.openxmlformats.org/officeDocument/2006/relationships/hyperlink" Target="http://www.numa.org.br/" TargetMode="External"/><Relationship Id="rId10" Type="http://schemas.openxmlformats.org/officeDocument/2006/relationships/hyperlink" Target="http://www.numa.org.br/" TargetMode="External"/><Relationship Id="rId11" Type="http://schemas.openxmlformats.org/officeDocument/2006/relationships/hyperlink" Target="http://www.numa.org.br/" TargetMode="External"/><Relationship Id="rId12" Type="http://schemas.openxmlformats.org/officeDocument/2006/relationships/hyperlink" Target="http://www.informacional.com.br/" TargetMode="External"/><Relationship Id="rId13" Type="http://schemas.openxmlformats.org/officeDocument/2006/relationships/hyperlink" Target="http://www.informacional.com.br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Seminário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ntegra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Ed Lu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lávio Julio de Alme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Leandro Brent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Márcio D’Ávi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Wilson Alves da Silva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9600" y="1981080"/>
            <a:ext cx="2648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33"/>
                </a:solidFill>
                <a:latin typeface="Times New Roman"/>
              </a:rPr>
              <a:t>ERP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 que o ERP realmente faz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P é a espinha dorsal do empreendime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roniza seu sistema de inform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ção de dados consistente que flui entre as diferentes interfaces do negóc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ERP propicia a informação correta, para a pessoa correta e no momento corret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Benefícios do Sistema ERP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s ERP funcionam com a utilização de uma base de dados co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 sistema integrado oferece a possibilidade melhoria de relatórios, fidelidade de dados, consistência e comparação de dados, devido à utilização de um critério único em todas as atividades d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m administra o CPD de uma grande corporação, sabe contabilizar as horas ou dias de desespero que poderão ser evitado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 Mercado do E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to com maior taxa de crescimento no mercado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as empresas preferiram investir em um sistema ERP do que preparar seu antigo sistema para o bug do ano 2.000, o que seria um gasto sem melhoria algu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Como obter sucesso na implantação do ERP?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imento da alta direção no proje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omunicabilidade com o mundo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ência as expecta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condicione o projeto a uma data especí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altere o programa fo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 bom sistema não conserta dados er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 Futuro do E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grande desafio entre as empresas é a expansão do ER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empresas procuram estabelecer um elo de ligação entre clientes e fornecedores, obtendo com isso um tempo de resposta menor ao mercado e uma vantagem competitiva nos negóc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nteresse crescente no mercado de pequenas empresas, já que o preço dos pacotes de comercialização do ERP esta baixand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Os efeitos colaterais do ERP na red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o que fazer para evitar dores de cabeça futuras?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stá a red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qual é o custo de um estudo desse ti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s futu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fazer antes de implementar ?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RP com a INTERNE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ção de custos no processo de compras e vendas de produtos e matéria-pri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didade da integr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inuição de despesas no departamentos de informática e com transações entre contas de e-m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de relacionamento do usuário com seus parcei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sistema ERP é implantado para reduzir gastos, aumentar a eficiência e continuar competitiv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importa o sistema que você implantou, ou está planejando implantar, o que importa é se os benefícios estão sendo realizados ou vão se rea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sistema ERP não é uma fórmula mágica para o crescimento da empresa, apenas uma ferramenta para facilitar a chegada nesse obje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Fornecedores de sistemas ERP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Baan –</a:t>
            </a:r>
            <a:r>
              <a:rPr b="0" lang="es-ES_tradnl" sz="20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 http://www.baan.co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Datasul - http://www2.datasul.com.br/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D Edwards - http://www.jdedwards.com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icrosiga - http://www.microsiga.com.br/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KGroup (Computer Associates) - http://www.mkgroup.com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Oracle - http://www.oracle.com/applications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oplesoft - http://www.peoplesoft.com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SAP - http://www.sap.com/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SENIOR SISTEMAS -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  <a:ea typeface="Arial"/>
              </a:rPr>
              <a:t> http://www.senior.com.br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eoria do ERP : 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Enterprise Resource Planning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 ; 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Haberkorn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, Ernesto M. ; Editora 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Makron Books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; Ano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Implantação do Sistema ERP ;Filho, Lúcio 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Colangel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; Editora Atlas; Ano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http://www.numa.org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http://www.informacional.com.</a:t>
            </a: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tp://www.erp.rg3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SENVOLV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QUE É ERP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RUTURA TÍPICA SE SISTEMA DE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LANTAÇÃO DE SISTEMA DE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QUE SE ESPERA DE UM SISTEMA ERP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 QUE O ERP FAZ REALMEN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NEFÍCIOS DO SISTEMA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RCADO PARA O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O OBTER SUCESSO NA IMPLANTAÇÃO DO ERP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O FUTURO DO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OS EFEITOS COLATERAIS DO ERP NA R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RP E A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33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S E BIBLIOGRAF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o avanço da Tecnologia da Informação as empresas passaram a utilizar sistemas computacionais para suportar suas a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uma empresa um sistema é desenvolvido para cada departamento, com o ERP um único sistema é desenvolvido para empresa, integrado com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banco de dados (banco de dados multirelacional)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Enterprise Resource Plann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Planejamento de Recursos de Empreendi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enericamente falando, ERP é mais um nome para um sistema integrado cujo objetivo é captar e fornecer informações de todos os processos da sua empresa, de forma precisa e na hora certa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 que é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RP é definido como uma arquitetura de software que facilita o fluxo de informações entre todas as atividades d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um sistema amplo de soluções e inform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banco de dados ún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olida todas as operações do negócio em um simples ambiente computaci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banco de dados interage com todos o aplicativos do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rutura típica do sistema E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antação do ER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1828800"/>
          <a:ext cx="746748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46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 que se espera-se do ERP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 se uma alta expectativa em relação a um sistema ERP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ão distorcida das empresas de que o ERP possa cobrir todos os aspectos do negó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 de Informação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48:04Z</dcterms:created>
  <dc:creator>Pre Install User</dc:creator>
  <dc:description/>
  <dc:language>en-US</dc:language>
  <cp:lastModifiedBy>mrbd</cp:lastModifiedBy>
  <dcterms:modified xsi:type="dcterms:W3CDTF">2002-06-29T14:58:26Z</dcterms:modified>
  <cp:revision>27</cp:revision>
  <dc:subject/>
  <dc:title>ERP</dc:title>
</cp:coreProperties>
</file>