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186-3A06-4700-9200-16ED007A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517-58EA-43F5-823D-ECEC9E02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9DC-6684-48B1-8F68-CBDF95236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53DB-0AD8-4022-8A6D-9D15A36E3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5921-D9F3-4D73-9B85-16A828211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622-4A39-497E-9AAF-443DD53E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083-828E-4532-BAAB-CA011CE4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1098-A552-49A0-A618-7FB34FC2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DD1-A853-46C1-8413-39AC3F9E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51D8-EACC-4356-A1C6-8C4A8BDB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EE60-5C6D-4563-B1A0-67F648DF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D79-CEB1-4EAB-B84D-89FCB789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4525-70CD-49EC-8A53-6E0CEE2E64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33720" y="609480"/>
            <a:ext cx="4952880" cy="495324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8686800" y="655308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895480" y="990720"/>
            <a:ext cx="3581640" cy="1371600"/>
            <a:chOff x="2895480" y="990720"/>
            <a:chExt cx="3581640" cy="1371600"/>
          </a:xfrm>
        </p:grpSpPr>
        <p:sp>
          <p:nvSpPr>
            <p:cNvPr id="44" name=""/>
            <p:cNvSpPr/>
            <p:nvPr/>
          </p:nvSpPr>
          <p:spPr>
            <a:xfrm>
              <a:off x="2895480" y="990720"/>
              <a:ext cx="3581640" cy="137160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b9dbc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657600" y="1295280"/>
              <a:ext cx="1981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Times New Roman"/>
                </a:rPr>
                <a:t>CRM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990720" y="3429000"/>
            <a:ext cx="7238880" cy="1371600"/>
            <a:chOff x="990720" y="3429000"/>
            <a:chExt cx="7238880" cy="1371600"/>
          </a:xfrm>
        </p:grpSpPr>
        <p:sp>
          <p:nvSpPr>
            <p:cNvPr id="47" name=""/>
            <p:cNvSpPr/>
            <p:nvPr/>
          </p:nvSpPr>
          <p:spPr>
            <a:xfrm>
              <a:off x="990720" y="3429000"/>
              <a:ext cx="7238880" cy="137160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b9dbc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00200" y="3505320"/>
              <a:ext cx="6324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Marketing de Relacionamento</a:t>
              </a:r>
              <a:br>
                <a:rPr sz="3600"/>
              </a:b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com os Clientes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2120" y="3352680"/>
            <a:ext cx="8076960" cy="2362320"/>
            <a:chOff x="762120" y="3352680"/>
            <a:chExt cx="8076960" cy="2362320"/>
          </a:xfrm>
        </p:grpSpPr>
        <p:sp>
          <p:nvSpPr>
            <p:cNvPr id="112" name=""/>
            <p:cNvSpPr/>
            <p:nvPr/>
          </p:nvSpPr>
          <p:spPr>
            <a:xfrm>
              <a:off x="762120" y="3504960"/>
              <a:ext cx="784836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2120" y="4419360"/>
              <a:ext cx="7848360" cy="129564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b9dbc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38080" y="4647960"/>
              <a:ext cx="74671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odas as pessoas que compram seus produtos ou utilizam seus serviços são seus cliente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2120" y="3352680"/>
              <a:ext cx="8076960" cy="83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Quem são seus clientes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09480" y="533520"/>
            <a:ext cx="8077320" cy="2286000"/>
            <a:chOff x="609480" y="533520"/>
            <a:chExt cx="8077320" cy="2286000"/>
          </a:xfrm>
        </p:grpSpPr>
        <p:sp>
          <p:nvSpPr>
            <p:cNvPr id="117" name=""/>
            <p:cNvSpPr/>
            <p:nvPr/>
          </p:nvSpPr>
          <p:spPr>
            <a:xfrm>
              <a:off x="761760" y="686160"/>
              <a:ext cx="7848720" cy="685800"/>
            </a:xfrm>
            <a:prstGeom prst="rect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fefe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1760" y="1524240"/>
              <a:ext cx="7848720" cy="1295280"/>
            </a:xfrm>
            <a:prstGeom prst="rect">
              <a:avLst/>
            </a:prstGeom>
            <a:gradFill rotWithShape="0">
              <a:gsLst>
                <a:gs pos="0">
                  <a:srgbClr val="339966"/>
                </a:gs>
                <a:gs pos="100000">
                  <a:srgbClr val="b9dbc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9480" y="533520"/>
              <a:ext cx="80773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Conquistar ou manter clientes?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38080" y="1752840"/>
              <a:ext cx="7467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Qual é o processo mais viável, conquistar mais dez clientes ou manter os cinco da sua empresa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743200" y="685800"/>
            <a:ext cx="38862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1752480"/>
            <a:ext cx="3809880" cy="44197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1828800"/>
            <a:ext cx="64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scala de Leal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2362320"/>
            <a:ext cx="3276360" cy="37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- Suspe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-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- Experiment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- Repet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-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- Def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057400" y="2209680"/>
            <a:ext cx="5105520" cy="31244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38088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685800"/>
            <a:ext cx="807732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38088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uns Fatores de Competitiv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2362320"/>
            <a:ext cx="4876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dutos de Qua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ços Competi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erenciais de bens ou serviç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forto e fácil aces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dade no Atendimento *person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previousslide"/>
          </p:cNvPr>
          <p:cNvSpPr/>
          <p:nvPr/>
        </p:nvSpPr>
        <p:spPr>
          <a:xfrm>
            <a:off x="8153280" y="654840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686800" y="6546960"/>
            <a:ext cx="450720" cy="30456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1954" h="21600">
                <a:moveTo>
                  <a:pt x="0" y="0"/>
                </a:moveTo>
                <a:lnTo>
                  <a:pt x="31954" y="0"/>
                </a:lnTo>
                <a:lnTo>
                  <a:pt x="31954" y="21600"/>
                </a:lnTo>
                <a:lnTo>
                  <a:pt x="0" y="21600"/>
                </a:lnTo>
                <a:close/>
              </a:path>
              <a:path fill="lightenLess" w="31954" h="21600">
                <a:moveTo>
                  <a:pt x="0" y="0"/>
                </a:moveTo>
                <a:lnTo>
                  <a:pt x="31954" y="0"/>
                </a:lnTo>
                <a:lnTo>
                  <a:pt x="30554" y="1400"/>
                </a:lnTo>
                <a:lnTo>
                  <a:pt x="1400" y="1400"/>
                </a:lnTo>
                <a:close/>
              </a:path>
              <a:path fill="darken" w="31954" h="21600">
                <a:moveTo>
                  <a:pt x="31954" y="0"/>
                </a:moveTo>
                <a:lnTo>
                  <a:pt x="31954" y="21600"/>
                </a:lnTo>
                <a:lnTo>
                  <a:pt x="30554" y="20200"/>
                </a:lnTo>
                <a:lnTo>
                  <a:pt x="30554" y="1400"/>
                </a:lnTo>
                <a:close/>
              </a:path>
              <a:path fill="darkenLess" w="31954" h="21600">
                <a:moveTo>
                  <a:pt x="31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54" y="20200"/>
                </a:lnTo>
                <a:close/>
              </a:path>
              <a:path fill="lighten" w="31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54" h="21600">
                <a:moveTo>
                  <a:pt x="8970" y="3794"/>
                </a:moveTo>
                <a:lnTo>
                  <a:pt x="22983" y="10800"/>
                </a:lnTo>
                <a:lnTo>
                  <a:pt x="8970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304920"/>
            <a:ext cx="7848720" cy="1295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2133720"/>
            <a:ext cx="4343400" cy="26668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los de Relacionament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ando a Lealdade dos Cl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362320"/>
            <a:ext cx="4419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delo de Recompen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delo Contra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delo de  Valor Agreg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odelo de Alianç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85800" y="685800"/>
            <a:ext cx="784872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2133720"/>
            <a:ext cx="7925040" cy="2743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ícios do C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62120" y="2362320"/>
            <a:ext cx="74674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Aumento de participação do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dução de custos com marketing para conquistar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Melhor retenção e fidelização dos bon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xtração de mais valor dos cliente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160" y="20570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2590920" y="2362320"/>
            <a:ext cx="43178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FERRAMENTA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685800"/>
            <a:ext cx="784872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2514600"/>
            <a:ext cx="5791320" cy="14479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nco de D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26668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que a maioria das empresas possuem atualmente, um BANDO de Dados ou um BANCO de D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85800" y="685800"/>
            <a:ext cx="784872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2133720"/>
            <a:ext cx="7925040" cy="304776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nco de D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8080" y="2743200"/>
            <a:ext cx="3124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formações cadastr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ações comer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2666880"/>
            <a:ext cx="36576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Histórico (Respostas às estratégias de Market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Sensibil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Resultados de Pesquisas (perfil e nível de satisfaç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2286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ass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943600" y="2286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es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267080" y="2286000"/>
            <a:ext cx="0" cy="2438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762120" y="838080"/>
            <a:ext cx="7619760" cy="17528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66680" y="91440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ior vantagem desse recurso é permitir que as empresas elaborem sistemas de marketing e de vendas que possam ser otimizados para lidar com transações e com a estrutura específica d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057400" y="190440"/>
            <a:ext cx="4952880" cy="343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371600" y="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WAREHOUSING - D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350532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álise de Histórico do clientes e outras inform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819520"/>
            <a:ext cx="281916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66688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MI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4381560"/>
            <a:ext cx="7391520" cy="17524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eec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4419720"/>
            <a:ext cx="723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écnicas de data warehousing e de exploração de dados diminui as atividades desnecessárias, garantindo correspondência melhor direcionada, focalizando os clientes de maior val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438280" y="685800"/>
            <a:ext cx="426744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523880"/>
            <a:ext cx="8001000" cy="19051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la-Dire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17524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á direcionada ao cliente correto após seleção de dados, enviando informações relacionadas ao gosto do mesmo. Diminuindo o custo e aumentando o retorno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3657600"/>
            <a:ext cx="426744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4495680"/>
            <a:ext cx="8001000" cy="11430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09680" y="3581280"/>
            <a:ext cx="4800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ll Cen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47242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través deste contato com o cliente a empresa pode e deve coletar dados sobre o cl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19320" y="457200"/>
            <a:ext cx="1676160" cy="152388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ff3300"/>
              </a:gs>
              <a:gs pos="100000">
                <a:srgbClr val="feb9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20121600">
            <a:off x="2577600" y="2298600"/>
            <a:ext cx="3602160" cy="27100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56080" y="2733840"/>
            <a:ext cx="3494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Claudinéa I. Març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arcos R. Sakamo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Maikel $. $. $ai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Paulo R. Rossanel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5800" y="609480"/>
            <a:ext cx="2819520" cy="1143000"/>
            <a:chOff x="685800" y="609480"/>
            <a:chExt cx="2819520" cy="1143000"/>
          </a:xfrm>
        </p:grpSpPr>
        <p:sp>
          <p:nvSpPr>
            <p:cNvPr id="53" name=""/>
            <p:cNvSpPr/>
            <p:nvPr/>
          </p:nvSpPr>
          <p:spPr>
            <a:xfrm>
              <a:off x="685800" y="609480"/>
              <a:ext cx="2819520" cy="114300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85800" y="609480"/>
              <a:ext cx="2819520" cy="990720"/>
            </a:xfrm>
            <a:custGeom>
              <a:avLst/>
              <a:gdLst>
                <a:gd name="textAreaLeft" fmla="*/ 1161720 w 2819520"/>
                <a:gd name="textAreaRight" fmla="*/ 1657800 w 2819520"/>
                <a:gd name="textAreaTop" fmla="*/ 408240 h 990720"/>
                <a:gd name="textAreaBottom" fmla="*/ 58248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00"/>
                </a:gs>
                <a:gs pos="100000">
                  <a:srgbClr val="fefef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2971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Grupo</a:t>
            </a:r>
            <a:br>
              <a:rPr sz="3000"/>
            </a:b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KRONU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685800"/>
            <a:ext cx="380880" cy="228600"/>
          </a:xfrm>
          <a:prstGeom prst="lightningBolt">
            <a:avLst/>
          </a:pr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48120" y="685800"/>
            <a:ext cx="380880" cy="228600"/>
          </a:xfrm>
          <a:prstGeom prst="lightningBolt">
            <a:avLst/>
          </a:pr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rot="5400000">
            <a:off x="3123360" y="1371240"/>
            <a:ext cx="304920" cy="304920"/>
          </a:xfrm>
          <a:prstGeom prst="lightningBolt">
            <a:avLst/>
          </a:pr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761760" y="1371240"/>
            <a:ext cx="304920" cy="304560"/>
          </a:xfrm>
          <a:prstGeom prst="lightningBolt">
            <a:avLst/>
          </a:prstGeom>
          <a:gradFill rotWithShape="0">
            <a:gsLst>
              <a:gs pos="0">
                <a:srgbClr val="00ffff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" action="ppaction://hlinkshowjump?jump=previousslide"/>
          </p:cNvPr>
          <p:cNvSpPr/>
          <p:nvPr/>
        </p:nvSpPr>
        <p:spPr>
          <a:xfrm>
            <a:off x="8153280" y="655164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8686800" y="6550200"/>
            <a:ext cx="450720" cy="30456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31954" h="21600">
                <a:moveTo>
                  <a:pt x="0" y="0"/>
                </a:moveTo>
                <a:lnTo>
                  <a:pt x="31954" y="0"/>
                </a:lnTo>
                <a:lnTo>
                  <a:pt x="31954" y="21600"/>
                </a:lnTo>
                <a:lnTo>
                  <a:pt x="0" y="21600"/>
                </a:lnTo>
                <a:close/>
              </a:path>
              <a:path fill="lightenLess" w="31954" h="21600">
                <a:moveTo>
                  <a:pt x="0" y="0"/>
                </a:moveTo>
                <a:lnTo>
                  <a:pt x="31954" y="0"/>
                </a:lnTo>
                <a:lnTo>
                  <a:pt x="30554" y="1400"/>
                </a:lnTo>
                <a:lnTo>
                  <a:pt x="1400" y="1400"/>
                </a:lnTo>
                <a:close/>
              </a:path>
              <a:path fill="darken" w="31954" h="21600">
                <a:moveTo>
                  <a:pt x="31954" y="0"/>
                </a:moveTo>
                <a:lnTo>
                  <a:pt x="31954" y="21600"/>
                </a:lnTo>
                <a:lnTo>
                  <a:pt x="30554" y="20200"/>
                </a:lnTo>
                <a:lnTo>
                  <a:pt x="30554" y="1400"/>
                </a:lnTo>
                <a:close/>
              </a:path>
              <a:path fill="darkenLess" w="31954" h="21600">
                <a:moveTo>
                  <a:pt x="319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54" y="20200"/>
                </a:lnTo>
                <a:close/>
              </a:path>
              <a:path fill="lighten" w="319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54" h="21600">
                <a:moveTo>
                  <a:pt x="8970" y="3794"/>
                </a:moveTo>
                <a:lnTo>
                  <a:pt x="22983" y="10800"/>
                </a:lnTo>
                <a:lnTo>
                  <a:pt x="8970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304920"/>
            <a:ext cx="2438640" cy="1828800"/>
          </a:xfrm>
          <a:custGeom>
            <a:avLst/>
            <a:gdLst>
              <a:gd name="textAreaLeft" fmla="*/ 0 w 2438640"/>
              <a:gd name="textAreaRight" fmla="*/ 2438640 w 2438640"/>
              <a:gd name="textAreaTop" fmla="*/ 236880 h 1828800"/>
              <a:gd name="textAreaBottom" fmla="*/ 159192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68580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ópicos de Sistemas de Inform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438280" y="685800"/>
            <a:ext cx="426744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1523880"/>
            <a:ext cx="8001000" cy="106704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09320" y="6091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A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14400" y="17524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jetada para manter os funcionários bem informados em um ambiente de marken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3143160"/>
            <a:ext cx="426744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09480" y="3981600"/>
            <a:ext cx="8001000" cy="17334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3067200"/>
            <a:ext cx="4800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14400" y="396252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nculo com outras empresas. No caso de uma seguradora de imóveis, vincular-se a imobiliária ou a produtos para o lar é essencial para criar oportunidade de participação de ev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666880" y="685800"/>
            <a:ext cx="41148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523880"/>
            <a:ext cx="8001000" cy="182880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676520" y="533520"/>
            <a:ext cx="6248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iços Móve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1600200"/>
            <a:ext cx="754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stemas de Mensagens, Telefonia Móvel e Computação Móvel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emplo British Airways G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362320" y="3733920"/>
            <a:ext cx="487656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733920" y="4591080"/>
            <a:ext cx="1981080" cy="6667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3657600"/>
            <a:ext cx="6400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ões de Fide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47242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mart 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971800" y="2590920"/>
            <a:ext cx="359892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PEs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2514600" y="685800"/>
            <a:ext cx="426708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71800" y="2514600"/>
            <a:ext cx="3352680" cy="7621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RM para M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26668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 caso da Merce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85800"/>
            <a:ext cx="784872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295280" y="2133720"/>
            <a:ext cx="6782040" cy="26668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ntes Bibliográf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previousslide"/>
          </p:cNvPr>
          <p:cNvSpPr/>
          <p:nvPr/>
        </p:nvSpPr>
        <p:spPr>
          <a:xfrm>
            <a:off x="8639280" y="6553080"/>
            <a:ext cx="504720" cy="304920"/>
          </a:xfrm>
          <a:custGeom>
            <a:avLst/>
            <a:gdLst>
              <a:gd name="textAreaLeft" fmla="*/ 19440 w 504720"/>
              <a:gd name="textAreaRight" fmla="*/ 485280 w 504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37" h="21600">
                <a:moveTo>
                  <a:pt x="0" y="0"/>
                </a:moveTo>
                <a:lnTo>
                  <a:pt x="35737" y="0"/>
                </a:lnTo>
                <a:lnTo>
                  <a:pt x="35737" y="21600"/>
                </a:lnTo>
                <a:lnTo>
                  <a:pt x="0" y="21600"/>
                </a:lnTo>
                <a:close/>
              </a:path>
              <a:path fill="lightenLess" w="35737" h="21600">
                <a:moveTo>
                  <a:pt x="0" y="0"/>
                </a:moveTo>
                <a:lnTo>
                  <a:pt x="35737" y="0"/>
                </a:lnTo>
                <a:lnTo>
                  <a:pt x="34337" y="1400"/>
                </a:lnTo>
                <a:lnTo>
                  <a:pt x="1400" y="1400"/>
                </a:lnTo>
                <a:close/>
              </a:path>
              <a:path fill="darken" w="35737" h="21600">
                <a:moveTo>
                  <a:pt x="35737" y="0"/>
                </a:moveTo>
                <a:lnTo>
                  <a:pt x="35737" y="21600"/>
                </a:lnTo>
                <a:lnTo>
                  <a:pt x="34337" y="20200"/>
                </a:lnTo>
                <a:lnTo>
                  <a:pt x="34337" y="1400"/>
                </a:lnTo>
                <a:close/>
              </a:path>
              <a:path fill="darkenLess" w="35737" h="21600">
                <a:moveTo>
                  <a:pt x="357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37" y="20200"/>
                </a:lnTo>
                <a:close/>
              </a:path>
              <a:path fill="lighten" w="357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37" h="21600">
                <a:moveTo>
                  <a:pt x="10862" y="10800"/>
                </a:moveTo>
                <a:lnTo>
                  <a:pt x="24875" y="3794"/>
                </a:lnTo>
                <a:lnTo>
                  <a:pt x="24875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362320"/>
            <a:ext cx="63248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CRM Marketing de Relacionamento de Clientes</a:t>
            </a:r>
            <a:br>
              <a:rPr sz="2400"/>
            </a:b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Editora F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Palestra: Como Conquistar e Manter Clientes - Sebrae/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www.intermanagers.com.br   05/07/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76520" y="685800"/>
            <a:ext cx="586728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2514600"/>
            <a:ext cx="3581280" cy="24382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Á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19520" y="2666880"/>
            <a:ext cx="6324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DEFINI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FERRAM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Exemplo p/ M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533160" y="20570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743200" y="2438280"/>
            <a:ext cx="3598920" cy="12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DEFINIÇÃO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676520" y="685800"/>
            <a:ext cx="586728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2514600"/>
            <a:ext cx="5867280" cy="10666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2666880"/>
            <a:ext cx="63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ftware ou uma forma de pens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5800" y="685800"/>
            <a:ext cx="784872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2133720"/>
            <a:ext cx="7925040" cy="350496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ito (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286000"/>
            <a:ext cx="74674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M é a utilização de abordagens de marketing, vendas, comunicação, serviço e atendimento ao cliente p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ficar  e diferenciar os clientes de um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riar um relacionamento duradouro e vantajoso entre a empresa e seus 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renciar esse relacionamento para beneficiar seus clientes e a própri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85800"/>
            <a:ext cx="784872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480" y="1828800"/>
            <a:ext cx="7925040" cy="41911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eito (I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30556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1981080"/>
            <a:ext cx="74674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rketing de Relacionamento é a forma como as empres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contram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hecem seu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antém contato com 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ntam garantir que eles obtenham o que desej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*Isso desde que, obviamente, seja algo que valha a pena para as próprias empr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85800"/>
            <a:ext cx="784872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133720"/>
            <a:ext cx="7925040" cy="175248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2120" y="22860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É uma prática de orientação voltada para o conhecimento do que o cliente deseja e o que fazer para melhor atendê-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3520" y="685800"/>
            <a:ext cx="8229600" cy="685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efea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743200" y="1600200"/>
            <a:ext cx="3809880" cy="4876920"/>
          </a:xfrm>
          <a:prstGeom prst="rect">
            <a:avLst/>
          </a:prstGeom>
          <a:gradFill rotWithShape="0">
            <a:gsLst>
              <a:gs pos="0">
                <a:srgbClr val="339966"/>
              </a:gs>
              <a:gs pos="100000">
                <a:srgbClr val="b9dbc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tapas de Relacionamento com Clien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8153280" y="6553080"/>
            <a:ext cx="505080" cy="304920"/>
          </a:xfrm>
          <a:custGeom>
            <a:avLst/>
            <a:gdLst>
              <a:gd name="textAreaLeft" fmla="*/ 19440 w 505080"/>
              <a:gd name="textAreaRight" fmla="*/ 485640 w 505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5762" h="21600">
                <a:moveTo>
                  <a:pt x="0" y="0"/>
                </a:moveTo>
                <a:lnTo>
                  <a:pt x="35762" y="0"/>
                </a:lnTo>
                <a:lnTo>
                  <a:pt x="35762" y="21600"/>
                </a:lnTo>
                <a:lnTo>
                  <a:pt x="0" y="21600"/>
                </a:lnTo>
                <a:close/>
              </a:path>
              <a:path fill="lightenLess" w="35762" h="21600">
                <a:moveTo>
                  <a:pt x="0" y="0"/>
                </a:moveTo>
                <a:lnTo>
                  <a:pt x="35762" y="0"/>
                </a:lnTo>
                <a:lnTo>
                  <a:pt x="34362" y="1400"/>
                </a:lnTo>
                <a:lnTo>
                  <a:pt x="1400" y="1400"/>
                </a:lnTo>
                <a:close/>
              </a:path>
              <a:path fill="darken" w="35762" h="21600">
                <a:moveTo>
                  <a:pt x="35762" y="0"/>
                </a:moveTo>
                <a:lnTo>
                  <a:pt x="35762" y="21600"/>
                </a:lnTo>
                <a:lnTo>
                  <a:pt x="34362" y="20200"/>
                </a:lnTo>
                <a:lnTo>
                  <a:pt x="34362" y="1400"/>
                </a:lnTo>
                <a:close/>
              </a:path>
              <a:path fill="darkenLess" w="35762" h="21600">
                <a:moveTo>
                  <a:pt x="357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362" y="20200"/>
                </a:lnTo>
                <a:close/>
              </a:path>
              <a:path fill="lighten" w="357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762" h="21600">
                <a:moveTo>
                  <a:pt x="10875" y="10800"/>
                </a:moveTo>
                <a:lnTo>
                  <a:pt x="24888" y="3794"/>
                </a:lnTo>
                <a:lnTo>
                  <a:pt x="24888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686800" y="6551640"/>
            <a:ext cx="450720" cy="304920"/>
          </a:xfrm>
          <a:custGeom>
            <a:avLst/>
            <a:gdLst>
              <a:gd name="textAreaLeft" fmla="*/ 19440 w 450720"/>
              <a:gd name="textAreaRight" fmla="*/ 431280 w 45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1916" h="21600">
                <a:moveTo>
                  <a:pt x="0" y="0"/>
                </a:moveTo>
                <a:lnTo>
                  <a:pt x="31916" y="0"/>
                </a:lnTo>
                <a:lnTo>
                  <a:pt x="31916" y="21600"/>
                </a:lnTo>
                <a:lnTo>
                  <a:pt x="0" y="21600"/>
                </a:lnTo>
                <a:close/>
              </a:path>
              <a:path fill="lightenLess" w="31916" h="21600">
                <a:moveTo>
                  <a:pt x="0" y="0"/>
                </a:moveTo>
                <a:lnTo>
                  <a:pt x="31916" y="0"/>
                </a:lnTo>
                <a:lnTo>
                  <a:pt x="30516" y="1400"/>
                </a:lnTo>
                <a:lnTo>
                  <a:pt x="1400" y="1400"/>
                </a:lnTo>
                <a:close/>
              </a:path>
              <a:path fill="darken" w="31916" h="21600">
                <a:moveTo>
                  <a:pt x="31916" y="0"/>
                </a:moveTo>
                <a:lnTo>
                  <a:pt x="31916" y="21600"/>
                </a:lnTo>
                <a:lnTo>
                  <a:pt x="30516" y="20200"/>
                </a:lnTo>
                <a:lnTo>
                  <a:pt x="30516" y="1400"/>
                </a:lnTo>
                <a:close/>
              </a:path>
              <a:path fill="darkenLess" w="31916" h="21600">
                <a:moveTo>
                  <a:pt x="319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516" y="20200"/>
                </a:lnTo>
                <a:close/>
              </a:path>
              <a:path fill="lighten" w="319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916" h="21600">
                <a:moveTo>
                  <a:pt x="8952" y="3794"/>
                </a:moveTo>
                <a:lnTo>
                  <a:pt x="22965" y="10800"/>
                </a:lnTo>
                <a:lnTo>
                  <a:pt x="8952" y="17806"/>
                </a:lnTo>
                <a:close/>
              </a:path>
            </a:pathLst>
          </a:cu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971800" y="1752480"/>
            <a:ext cx="342900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finição d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renciamento de dem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hecimentos das par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rbulência” da re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tisfação ou perda do cl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nquista ou novas conqu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8T16:52:31Z</dcterms:created>
  <dc:creator>prrs</dc:creator>
  <dc:description/>
  <dc:language>en-US</dc:language>
  <cp:lastModifiedBy>msss</cp:lastModifiedBy>
  <dcterms:modified xsi:type="dcterms:W3CDTF">2002-08-09T22:32:13Z</dcterms:modified>
  <cp:revision>29</cp:revision>
  <dc:subject/>
  <dc:title>Grupo Kronus!!!!!!!!!</dc:title>
</cp:coreProperties>
</file>