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9E60-75EB-43BC-9863-A9C1B959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573C-E2E0-4E49-AFAB-8CB98F24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FAB4-3E32-415D-908B-3C98B9C3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94A-90AB-4C94-B962-0B77E356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ED5C-7595-4734-ABE8-A00E605A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C9C2-A102-4AB2-BAA9-0067C9D3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70CB-AFB8-47C9-9035-12B8D4EF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16B4-AC73-4723-B6E3-267E2881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B0A4-64BE-48F4-BD67-E5D5F02D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6081-E294-4B51-83F7-8BE8C6EE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EC19-B3F1-4E5D-BBEF-C55E148C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1E05-39CD-4EFE-A14B-4A87CA81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BF07-80CE-40B4-AE82-302246225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png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.png"/><Relationship Id="rId2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s://www3.safeweb.com.br/novo/Classe1/cadastrog.asp" TargetMode="External"/><Relationship Id="rId2" Type="http://schemas.openxmlformats.org/officeDocument/2006/relationships/hyperlink" Target="https://www3.safeweb.com.br/novo/Classe1/cadastrog.asp" TargetMode="External"/><Relationship Id="rId3" Type="http://schemas.openxmlformats.org/officeDocument/2006/relationships/hyperlink" Target="https://www3.safeweb.com.br/novo/Classe1/cadastrog.asp" TargetMode="External"/><Relationship Id="rId4" Type="http://schemas.openxmlformats.org/officeDocument/2006/relationships/hyperlink" Target="https://www3.safeweb.com.br/novo/Classe1/cadastrog.asp" TargetMode="External"/><Relationship Id="rId5" Type="http://schemas.openxmlformats.org/officeDocument/2006/relationships/hyperlink" Target="https://www3.safeweb.com.br/novo/Classe1/cadastrog.asp" TargetMode="External"/><Relationship Id="rId6" Type="http://schemas.openxmlformats.org/officeDocument/2006/relationships/hyperlink" Target="https://www3.safeweb.com.br/novo/Classe1/cadastrog.asp" TargetMode="External"/><Relationship Id="rId7" Type="http://schemas.openxmlformats.org/officeDocument/2006/relationships/hyperlink" Target="https://www3.safeweb.com.br/novo/Classe1/cadastrog.asp" TargetMode="External"/><Relationship Id="rId8" Type="http://schemas.openxmlformats.org/officeDocument/2006/relationships/oleObject" Target="../embeddings/oleObject1.bin"/><Relationship Id="rId9" Type="http://schemas.openxmlformats.org/officeDocument/2006/relationships/image" Target="../media/image23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4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5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26.png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27.png"/><Relationship Id="rId18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9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0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1.png"/><Relationship Id="rId2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8288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ssinaturas e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ertificados Digitai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400" y="4800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tonio A. Mochi Jr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lvio C. Mora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ssinatura Digita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ar de chaves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have particular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- usada para representar uma assinatura digital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have públic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- usada para verificar uma assinatura digital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gurança: criptografi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rmazenamento da assinatura digital criptografad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Disco rígido (PGP, Netscape Navigator, IE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meio removível (disquete, CD-ROM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cartões inteligentes com microprocessado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Arial"/>
              </a:rPr>
              <a:t>Órgãos de Certificação</a:t>
            </a:r>
            <a:br>
              <a:rPr sz="4400"/>
            </a:br>
            <a:r>
              <a:rPr b="0" i="1" lang="pt-BR" sz="3600" spc="-1" strike="noStrike">
                <a:solidFill>
                  <a:srgbClr val="3333cc"/>
                </a:solidFill>
                <a:latin typeface="Arial"/>
              </a:rPr>
              <a:t>CA - Certification Authority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rganização que emite certificados de chave pública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 certificado atesta que uma determinada chave pública pertence a um indivíduo ou empresa específica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Arial"/>
              </a:rPr>
              <a:t>Declaração das práticas de certificação</a:t>
            </a:r>
            <a:br>
              <a:rPr sz="4400"/>
            </a:br>
            <a:r>
              <a:rPr b="0" i="1" lang="pt-BR" sz="3200" spc="-1" strike="noStrike">
                <a:solidFill>
                  <a:srgbClr val="3333cc"/>
                </a:solidFill>
                <a:latin typeface="Arial"/>
              </a:rPr>
              <a:t>CPS - Certification Pratices Statemen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Documento legal publicado pelos CAs que descreve suas políticas e procedimentos para emitir e revogar certificados digitai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ertificado X.509 v3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É um padrão popular para certificados de chave pública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ão amplamente usados por muitos protocolos de criptografia moderno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tém um número de versão, um número serial, informações de identidade, informações relacionadas ao algoritmo e a assinatura do órgão emissor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roblema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r que não utilizar assinaturas digitais no comércio eletrônico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ma assinatura digital não prova a real identidade de um indivíduo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3124080"/>
            <a:ext cx="617220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Falta de uma infra-estrutura de chave     pública fun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Integração entre os 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blemas (continuação...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ssinaturas digitais são frágei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 papel é mais seguro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ão existe legislação adequada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 tecnologia ainda tem pontos vulnerávei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 legislação não endossa possíveis problemas técnicos, dando margem à falsificaçõe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ondiçõ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A VeriSign utiliza a seguinte frase em sua CPS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lang="pt-BR" sz="2800" spc="-1" strike="noStrike">
                <a:solidFill>
                  <a:srgbClr val="000066"/>
                </a:solidFill>
                <a:latin typeface="Times New Roman"/>
              </a:rPr>
              <a:t>Cada requerente ao certificado deve gerar com segurança sua própria chave particular usando um sistema confiável e tomar as precauções necessárias para evitar seu comprometimento, perda, divulgação, modificação ou uso não autorizado.”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Vantagens de um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ertificado Digita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Maneira simples de verificar a autenticidade de uma empresa, fornecedor, indivíduo e seu e-mail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Reduzir tempo e custos na identificação de pessoa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ipos diferentes de Certificado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Certificados de órgãos de certificaçã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66"/>
                </a:solidFill>
                <a:latin typeface="Times New Roman"/>
              </a:rPr>
              <a:t>(chave pública e nome de um CA, e descrição do serviço certificado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Certificados de servido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66"/>
                </a:solidFill>
                <a:latin typeface="Times New Roman"/>
              </a:rPr>
              <a:t>(chave pública de um servidor SSL, nome da organização onde está o servidor, seu hostname na interne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Certificados pessoa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66"/>
                </a:solidFill>
                <a:latin typeface="Times New Roman"/>
              </a:rPr>
              <a:t>(nome e a chave pública de um indivíduo. Pode conter outras informações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Certificados de Fabricante de Softwar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66"/>
                </a:solidFill>
                <a:latin typeface="Times New Roman"/>
              </a:rPr>
              <a:t>(servem para assinar um software comercializado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presentaçã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mas de Identificaçã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ertificados Digita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sinaturas Digita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olicitando, Instalando e Trabalhando com o Certificado Digita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nalizaçã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cc"/>
                </a:solidFill>
                <a:latin typeface="Arial"/>
              </a:rPr>
              <a:t>Tipos de Certificados da VeriSign </a:t>
            </a:r>
            <a:r>
              <a:rPr b="0" lang="pt-BR" sz="2000" spc="-1" strike="noStrike">
                <a:solidFill>
                  <a:srgbClr val="3333cc"/>
                </a:solidFill>
                <a:latin typeface="Arial"/>
              </a:rPr>
              <a:t>em 1996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Times New Roman"/>
              </a:rPr>
              <a:t>Class 1</a:t>
            </a:r>
            <a:r>
              <a:rPr b="0" lang="pt-BR" sz="2800" spc="-1" strike="noStrike">
                <a:solidFill>
                  <a:srgbClr val="000066"/>
                </a:solidFill>
                <a:latin typeface="Times New Roman"/>
              </a:rPr>
              <a:t> (cliente) A VeriSign assegura que o usuário pode receber correio eletrônico em um determinado endereço e que nenhum outro certificado para endereço eletrônico pode ser emitido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Times New Roman"/>
              </a:rPr>
              <a:t>Class 2</a:t>
            </a:r>
            <a:r>
              <a:rPr b="0" lang="pt-BR" sz="2800" spc="-1" strike="noStrike">
                <a:solidFill>
                  <a:srgbClr val="000066"/>
                </a:solidFill>
                <a:latin typeface="Times New Roman"/>
              </a:rPr>
              <a:t> (cliente) A VeriSign comprova a identidade de um proprietário de ID digital por meio de uma verificação de identidade on-line em um banco de dados de client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Arial"/>
              </a:rPr>
              <a:t>Continuação... Tipos de Certificados da VeriSig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Class 3 (cliente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Secure Server (servidor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pt-BR" sz="2800" spc="-1" strike="noStrike">
                <a:solidFill>
                  <a:srgbClr val="000066"/>
                </a:solidFill>
                <a:latin typeface="Times New Roman"/>
              </a:rPr>
              <a:t>Em ambos a VeriSign valida a entidade que está se candidatando ao certificado por meio de verificação de antecedentes e serviços de investigação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Arial"/>
              </a:rPr>
              <a:t>Certificado Class 1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ome ou apelid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brenom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ndereço de correio eletrônico válid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Arial"/>
              </a:rPr>
              <a:t>Certificado Class 2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Endereço de correio eletrônico válid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nome / nome intermediário / sobrenom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endereço / rua / númer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cidade / estado / cep / paí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data de nasciment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identidade / nº cart.motorist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nº telefone residencial / empregado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olicitando, Instalando e Trabalhando com o Certificado Digita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licitando o Certificado Digit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plicando o Certificado Digit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isualizando um Site Segur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licitando e Instalando um Certificado Pesso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balhando com Certificados Pessoai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figurando Sites Confiáveis no Internet Explorer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tilizando o PGP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olicitando o Certificado Digita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2" name="imagem" descr=""/>
          <p:cNvPicPr/>
          <p:nvPr/>
        </p:nvPicPr>
        <p:blipFill>
          <a:blip r:embed="rId1"/>
          <a:stretch/>
        </p:blipFill>
        <p:spPr>
          <a:xfrm>
            <a:off x="3352680" y="2590920"/>
            <a:ext cx="5562720" cy="392904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228600" y="2819520"/>
            <a:ext cx="3048120" cy="3809880"/>
            <a:chOff x="228600" y="2819520"/>
            <a:chExt cx="3048120" cy="3809880"/>
          </a:xfrm>
        </p:grpSpPr>
        <p:sp>
          <p:nvSpPr>
            <p:cNvPr id="94" name=""/>
            <p:cNvSpPr/>
            <p:nvPr/>
          </p:nvSpPr>
          <p:spPr>
            <a:xfrm>
              <a:off x="228600" y="2819520"/>
              <a:ext cx="3048120" cy="3809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4920" y="2955960"/>
              <a:ext cx="2895480" cy="29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sso 1. Clique com o botão direito no site que deseja fazer a requisição de assinatura, e depois clique em Propriedades (Properties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6" name=""/>
          <p:cNvGraphicFramePr/>
          <p:nvPr/>
        </p:nvGraphicFramePr>
        <p:xfrm>
          <a:off x="3962520" y="1752480"/>
          <a:ext cx="4952880" cy="486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1752480"/>
                    <a:ext cx="4952880" cy="48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352680" y="2362320"/>
          <a:ext cx="5562720" cy="4276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52680" y="2362320"/>
                    <a:ext cx="556272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352680" y="2362320"/>
          <a:ext cx="5562720" cy="4276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52680" y="2362320"/>
                    <a:ext cx="556272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352680" y="2362320"/>
          <a:ext cx="5562720" cy="4276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352680" y="2362320"/>
                    <a:ext cx="556272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352680" y="2362320"/>
          <a:ext cx="5562720" cy="4276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52680" y="2362320"/>
                    <a:ext cx="556272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352680" y="2362320"/>
          <a:ext cx="5562720" cy="4276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352680" y="2362320"/>
                    <a:ext cx="556272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352680" y="2362320"/>
          <a:ext cx="5562720" cy="4276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352680" y="2362320"/>
                    <a:ext cx="556272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352680" y="2362320"/>
          <a:ext cx="5562720" cy="42764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352680" y="2362320"/>
                    <a:ext cx="556272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352680" y="2362320"/>
          <a:ext cx="5562720" cy="4276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352680" y="2362320"/>
                    <a:ext cx="556272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352680" y="2362320"/>
          <a:ext cx="5562720" cy="42764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352680" y="2362320"/>
                    <a:ext cx="556272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352680" y="2362320"/>
          <a:ext cx="5562720" cy="42764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352680" y="2362320"/>
                    <a:ext cx="556272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8" name=""/>
          <p:cNvGrpSpPr/>
          <p:nvPr/>
        </p:nvGrpSpPr>
        <p:grpSpPr>
          <a:xfrm>
            <a:off x="228600" y="2819520"/>
            <a:ext cx="3048120" cy="3809880"/>
            <a:chOff x="228600" y="2819520"/>
            <a:chExt cx="3048120" cy="3809880"/>
          </a:xfrm>
        </p:grpSpPr>
        <p:sp>
          <p:nvSpPr>
            <p:cNvPr id="119" name=""/>
            <p:cNvSpPr/>
            <p:nvPr/>
          </p:nvSpPr>
          <p:spPr>
            <a:xfrm>
              <a:off x="228600" y="2819520"/>
              <a:ext cx="3048120" cy="3809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600" y="2819520"/>
              <a:ext cx="2971800" cy="26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sso 2. Na guia Segurança de Diretório (Directory Security), clique em Certificado do Servidor (Server Certificate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28600" y="2819520"/>
            <a:ext cx="3048120" cy="3809880"/>
            <a:chOff x="228600" y="2819520"/>
            <a:chExt cx="3048120" cy="3809880"/>
          </a:xfrm>
        </p:grpSpPr>
        <p:sp>
          <p:nvSpPr>
            <p:cNvPr id="122" name=""/>
            <p:cNvSpPr/>
            <p:nvPr/>
          </p:nvSpPr>
          <p:spPr>
            <a:xfrm>
              <a:off x="228600" y="2819520"/>
              <a:ext cx="3048120" cy="3809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0880" y="2971800"/>
              <a:ext cx="2743200" cy="26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</a:rPr>
                <a:t>Passo 3. Será iniciado um aplicativo para criação da requisição. Na tela de abertura clique em Avançar (Next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28600" y="2819520"/>
            <a:ext cx="3048120" cy="3809880"/>
            <a:chOff x="228600" y="2819520"/>
            <a:chExt cx="3048120" cy="3809880"/>
          </a:xfrm>
        </p:grpSpPr>
        <p:sp>
          <p:nvSpPr>
            <p:cNvPr id="125" name=""/>
            <p:cNvSpPr/>
            <p:nvPr/>
          </p:nvSpPr>
          <p:spPr>
            <a:xfrm>
              <a:off x="228600" y="2819520"/>
              <a:ext cx="3048120" cy="3809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4920" y="2895480"/>
              <a:ext cx="2895480" cy="23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sso 4. Selecione a opção Criar novo certificado (Create a new certificate) e clique em Avançar (Next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8600" y="2819520"/>
            <a:ext cx="3048120" cy="3809880"/>
            <a:chOff x="228600" y="2819520"/>
            <a:chExt cx="3048120" cy="3809880"/>
          </a:xfrm>
        </p:grpSpPr>
        <p:sp>
          <p:nvSpPr>
            <p:cNvPr id="128" name=""/>
            <p:cNvSpPr/>
            <p:nvPr/>
          </p:nvSpPr>
          <p:spPr>
            <a:xfrm>
              <a:off x="228600" y="2819520"/>
              <a:ext cx="3048120" cy="3809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0880" y="2895480"/>
              <a:ext cx="2819520" cy="29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sso 5. Selecione a opção Preparar a requisição agora, mas enviar mais tarde (Prepare the request now, but send it later) e clique em Avançar (Next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28600" y="2819520"/>
            <a:ext cx="3048120" cy="3809880"/>
            <a:chOff x="228600" y="2819520"/>
            <a:chExt cx="3048120" cy="3809880"/>
          </a:xfrm>
        </p:grpSpPr>
        <p:sp>
          <p:nvSpPr>
            <p:cNvPr id="131" name=""/>
            <p:cNvSpPr/>
            <p:nvPr/>
          </p:nvSpPr>
          <p:spPr>
            <a:xfrm>
              <a:off x="228600" y="2819520"/>
              <a:ext cx="3048120" cy="3809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880" y="2895480"/>
              <a:ext cx="28195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sso 6. No campo Nome (Name) digite um nome qualquer para a requisição do certificado, no campo Tamanho da chave (Bit length) recomendamos 1024 bits, clique em Avançar (Next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28600" y="2819520"/>
            <a:ext cx="3048120" cy="3809880"/>
            <a:chOff x="228600" y="2819520"/>
            <a:chExt cx="3048120" cy="3809880"/>
          </a:xfrm>
        </p:grpSpPr>
        <p:sp>
          <p:nvSpPr>
            <p:cNvPr id="134" name=""/>
            <p:cNvSpPr/>
            <p:nvPr/>
          </p:nvSpPr>
          <p:spPr>
            <a:xfrm>
              <a:off x="228600" y="2819520"/>
              <a:ext cx="3048120" cy="3809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920" y="2819520"/>
              <a:ext cx="289548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sso 7. Digite o nome da Organização (Organization) e da Unidade da Organização (Organizational unit) para a qual o certificado será emitido, e clique em Avançar (Next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28600" y="2819520"/>
            <a:ext cx="3048120" cy="4048200"/>
            <a:chOff x="228600" y="2819520"/>
            <a:chExt cx="3048120" cy="4048200"/>
          </a:xfrm>
        </p:grpSpPr>
        <p:sp>
          <p:nvSpPr>
            <p:cNvPr id="137" name=""/>
            <p:cNvSpPr/>
            <p:nvPr/>
          </p:nvSpPr>
          <p:spPr>
            <a:xfrm>
              <a:off x="228600" y="2819520"/>
              <a:ext cx="3048120" cy="3809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4920" y="2955960"/>
              <a:ext cx="2895480" cy="39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sso 8. No campo Nome comum (Common name) digite o domínio do site seguro. Este campo do certificado é comparado com o nome do domínio digitado no navegador, e clique em Avançar (Next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28600" y="2819520"/>
            <a:ext cx="3048120" cy="3809880"/>
            <a:chOff x="228600" y="2819520"/>
            <a:chExt cx="3048120" cy="3809880"/>
          </a:xfrm>
        </p:grpSpPr>
        <p:sp>
          <p:nvSpPr>
            <p:cNvPr id="140" name=""/>
            <p:cNvSpPr/>
            <p:nvPr/>
          </p:nvSpPr>
          <p:spPr>
            <a:xfrm>
              <a:off x="228600" y="2819520"/>
              <a:ext cx="3048120" cy="3809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4920" y="2895480"/>
              <a:ext cx="2895480" cy="29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sso 9. Digite o País (Country/Region) , Estado (State/province) e Cidade (City/locality) de sua organização, após clique em Avançar (Next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28600" y="2743200"/>
            <a:ext cx="3048120" cy="3809880"/>
            <a:chOff x="228600" y="2743200"/>
            <a:chExt cx="3048120" cy="3809880"/>
          </a:xfrm>
        </p:grpSpPr>
        <p:sp>
          <p:nvSpPr>
            <p:cNvPr id="143" name=""/>
            <p:cNvSpPr/>
            <p:nvPr/>
          </p:nvSpPr>
          <p:spPr>
            <a:xfrm>
              <a:off x="228600" y="2743200"/>
              <a:ext cx="3048120" cy="3809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4920" y="2743200"/>
              <a:ext cx="2895480" cy="23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sso 10. Digite o local (c:\) e nome do arquivo (safeweb.txt) que deseja salvar, após clique em Avançar (Next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28600" y="2743200"/>
            <a:ext cx="3048120" cy="3809880"/>
            <a:chOff x="228600" y="2743200"/>
            <a:chExt cx="3048120" cy="3809880"/>
          </a:xfrm>
        </p:grpSpPr>
        <p:sp>
          <p:nvSpPr>
            <p:cNvPr id="146" name=""/>
            <p:cNvSpPr/>
            <p:nvPr/>
          </p:nvSpPr>
          <p:spPr>
            <a:xfrm>
              <a:off x="228600" y="2743200"/>
              <a:ext cx="3048120" cy="3809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4920" y="2819160"/>
              <a:ext cx="289548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sso 11. Neste momento será mostrado uma tela para conferência dos dados, se estiver tudo OK clique em Avançar (Next), senão clique em Voltar (Back), e revise os dados digitado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28600" y="2743200"/>
            <a:ext cx="3047760" cy="3809880"/>
            <a:chOff x="228600" y="2743200"/>
            <a:chExt cx="3047760" cy="3809880"/>
          </a:xfrm>
        </p:grpSpPr>
        <p:sp>
          <p:nvSpPr>
            <p:cNvPr id="149" name=""/>
            <p:cNvSpPr/>
            <p:nvPr/>
          </p:nvSpPr>
          <p:spPr>
            <a:xfrm>
              <a:off x="228600" y="2743200"/>
              <a:ext cx="3047760" cy="3809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560" y="2895480"/>
              <a:ext cx="2895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sso 12. Clique em Concluir (Finish) para finalizar o process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28600" y="2743200"/>
            <a:ext cx="2971440" cy="3811680"/>
            <a:chOff x="228600" y="2743200"/>
            <a:chExt cx="2971440" cy="3811680"/>
          </a:xfrm>
        </p:grpSpPr>
        <p:sp>
          <p:nvSpPr>
            <p:cNvPr id="152" name=""/>
            <p:cNvSpPr/>
            <p:nvPr/>
          </p:nvSpPr>
          <p:spPr>
            <a:xfrm>
              <a:off x="229680" y="2743200"/>
              <a:ext cx="2970360" cy="381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8600" y="2820960"/>
              <a:ext cx="29703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Passo 13. Abra o arquivo .txt gerado no Passo 10, o conteúdo desde arquivo deverá ser copiado e colado no campo Requisição de assinatura de certificad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86160" y="14479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IS 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839080" y="6553080"/>
            <a:ext cx="304920" cy="304920"/>
          </a:xfrm>
          <a:prstGeom prst="rightArrow">
            <a:avLst>
              <a:gd name="adj1" fmla="val 56944"/>
              <a:gd name="adj2" fmla="val 4791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plicando o Certificado Digita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28600" y="1828800"/>
            <a:ext cx="3048120" cy="4800600"/>
            <a:chOff x="228600" y="1828800"/>
            <a:chExt cx="3048120" cy="4800600"/>
          </a:xfrm>
        </p:grpSpPr>
        <p:sp>
          <p:nvSpPr>
            <p:cNvPr id="158" name=""/>
            <p:cNvSpPr/>
            <p:nvPr/>
          </p:nvSpPr>
          <p:spPr>
            <a:xfrm>
              <a:off x="228600" y="1828800"/>
              <a:ext cx="3048120" cy="480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0880" y="2057400"/>
              <a:ext cx="2743200" cy="43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</a:rPr>
                <a:t>Siga até o passo 3 da apresentação anterior, após este ponto será mostrado a tela ao lado, selecione a opção Processar a solicitação pendente e instalar o certificado (Process de Pendent Request and Install the Certificate) e clique em Avança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3429000" y="2438280"/>
          <a:ext cx="5477040" cy="42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438280"/>
                    <a:ext cx="547704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2" name=""/>
          <p:cNvGrpSpPr/>
          <p:nvPr/>
        </p:nvGrpSpPr>
        <p:grpSpPr>
          <a:xfrm>
            <a:off x="228600" y="1828800"/>
            <a:ext cx="3048120" cy="4800600"/>
            <a:chOff x="228600" y="1828800"/>
            <a:chExt cx="3048120" cy="4800600"/>
          </a:xfrm>
        </p:grpSpPr>
        <p:sp>
          <p:nvSpPr>
            <p:cNvPr id="163" name=""/>
            <p:cNvSpPr/>
            <p:nvPr/>
          </p:nvSpPr>
          <p:spPr>
            <a:xfrm>
              <a:off x="228600" y="1828800"/>
              <a:ext cx="3048120" cy="480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0880" y="2057400"/>
              <a:ext cx="281952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elecione o arquivo que contem o certificado e clique em Avançar para aparecer a tela de sumário do certificado. Após clicar em Avançar novamente você verá o certificado instalado no computado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5" name=""/>
          <p:cNvGraphicFramePr/>
          <p:nvPr/>
        </p:nvGraphicFramePr>
        <p:xfrm>
          <a:off x="3429000" y="2438280"/>
          <a:ext cx="5477040" cy="420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438280"/>
                    <a:ext cx="547704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686160" y="14479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IS 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839080" y="6545160"/>
            <a:ext cx="304920" cy="304920"/>
          </a:xfrm>
          <a:prstGeom prst="rightArrow">
            <a:avLst>
              <a:gd name="adj1" fmla="val 56944"/>
              <a:gd name="adj2" fmla="val 4791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Visualizando um Site Seguro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886200" y="2971800"/>
          <a:ext cx="4429080" cy="34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971800"/>
                    <a:ext cx="442908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809880" y="1523880"/>
          <a:ext cx="4876920" cy="504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1523880"/>
                    <a:ext cx="487692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"/>
          <p:cNvGrpSpPr/>
          <p:nvPr/>
        </p:nvGrpSpPr>
        <p:grpSpPr>
          <a:xfrm>
            <a:off x="228600" y="1828800"/>
            <a:ext cx="3504960" cy="4800600"/>
            <a:chOff x="228600" y="1828800"/>
            <a:chExt cx="3504960" cy="4800600"/>
          </a:xfrm>
        </p:grpSpPr>
        <p:sp>
          <p:nvSpPr>
            <p:cNvPr id="175" name=""/>
            <p:cNvSpPr/>
            <p:nvPr/>
          </p:nvSpPr>
          <p:spPr>
            <a:xfrm>
              <a:off x="228600" y="1828800"/>
              <a:ext cx="3504960" cy="480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3560" y="2057400"/>
              <a:ext cx="3242160" cy="43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</a:rPr>
                <a:t>Um site que contenha um certificado pode ser identificado pelo selo de seu Certification Authority (Autoridade Certificadora), este selo é um link para a validação do certificado pelo CA onde mostrará uma página contendo as informações da empresa e dando maior confiabilidade no site pelo usuári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8839080" y="6545160"/>
            <a:ext cx="304920" cy="304920"/>
          </a:xfrm>
          <a:prstGeom prst="rightArrow">
            <a:avLst>
              <a:gd name="adj1" fmla="val 56944"/>
              <a:gd name="adj2" fmla="val 4791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olicitando e Instalando um Certificado Pessoa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838080" y="1828800"/>
          <a:ext cx="7621560" cy="48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62156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1" name=""/>
          <p:cNvGrpSpPr/>
          <p:nvPr/>
        </p:nvGrpSpPr>
        <p:grpSpPr>
          <a:xfrm>
            <a:off x="3733920" y="2514600"/>
            <a:ext cx="4952880" cy="2514600"/>
            <a:chOff x="3733920" y="2514600"/>
            <a:chExt cx="4952880" cy="2514600"/>
          </a:xfrm>
        </p:grpSpPr>
        <p:sp>
          <p:nvSpPr>
            <p:cNvPr id="182" name=""/>
            <p:cNvSpPr/>
            <p:nvPr/>
          </p:nvSpPr>
          <p:spPr>
            <a:xfrm>
              <a:off x="3733920" y="2514600"/>
              <a:ext cx="4952880" cy="2514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62520" y="2819520"/>
              <a:ext cx="44956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</a:rPr>
                <a:t>Acesse a página de solicitação de um certificado pessoal (Classe 1) de um C.A. como o da SafeWeb</a:t>
              </a: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® e informe os seus dados pessoais para iniciar a criação de seu certificad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4" name=""/>
          <p:cNvGraphicFramePr/>
          <p:nvPr/>
        </p:nvGraphicFramePr>
        <p:xfrm>
          <a:off x="838080" y="2209680"/>
          <a:ext cx="7621560" cy="41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209680"/>
                    <a:ext cx="76215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6" name=""/>
          <p:cNvGrpSpPr/>
          <p:nvPr/>
        </p:nvGrpSpPr>
        <p:grpSpPr>
          <a:xfrm>
            <a:off x="3733920" y="2514600"/>
            <a:ext cx="4952880" cy="2514600"/>
            <a:chOff x="3733920" y="2514600"/>
            <a:chExt cx="4952880" cy="2514600"/>
          </a:xfrm>
        </p:grpSpPr>
        <p:sp>
          <p:nvSpPr>
            <p:cNvPr id="187" name=""/>
            <p:cNvSpPr/>
            <p:nvPr/>
          </p:nvSpPr>
          <p:spPr>
            <a:xfrm>
              <a:off x="3733920" y="2514600"/>
              <a:ext cx="4952880" cy="2514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62520" y="2819520"/>
              <a:ext cx="44956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</a:rPr>
                <a:t>Será enviado para o seu e-mail uma chave para que você possa continuar com o processo de criação do certificado</a:t>
              </a: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. Este passo é principalmente feito para validar o seu e-mai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9" name=""/>
          <p:cNvGraphicFramePr/>
          <p:nvPr/>
        </p:nvGraphicFramePr>
        <p:xfrm>
          <a:off x="1371600" y="2209680"/>
          <a:ext cx="5676840" cy="366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2209680"/>
                    <a:ext cx="5676840" cy="36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1" name=""/>
          <p:cNvGrpSpPr/>
          <p:nvPr/>
        </p:nvGrpSpPr>
        <p:grpSpPr>
          <a:xfrm>
            <a:off x="3733920" y="2514600"/>
            <a:ext cx="4952880" cy="2514600"/>
            <a:chOff x="3733920" y="2514600"/>
            <a:chExt cx="4952880" cy="2514600"/>
          </a:xfrm>
        </p:grpSpPr>
        <p:sp>
          <p:nvSpPr>
            <p:cNvPr id="192" name=""/>
            <p:cNvSpPr/>
            <p:nvPr/>
          </p:nvSpPr>
          <p:spPr>
            <a:xfrm>
              <a:off x="3733920" y="2514600"/>
              <a:ext cx="4952880" cy="2514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62520" y="2819520"/>
              <a:ext cx="4495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</a:rPr>
                <a:t>De posse do e-mail selecione e copie a seqüência numérica de sua identificação e abra o link passado</a:t>
              </a: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4" name=""/>
          <p:cNvGraphicFramePr/>
          <p:nvPr/>
        </p:nvGraphicFramePr>
        <p:xfrm>
          <a:off x="914400" y="2057400"/>
          <a:ext cx="7373880" cy="401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2057400"/>
                    <a:ext cx="737388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6" name=""/>
          <p:cNvGrpSpPr/>
          <p:nvPr/>
        </p:nvGrpSpPr>
        <p:grpSpPr>
          <a:xfrm>
            <a:off x="3733920" y="2514600"/>
            <a:ext cx="4952880" cy="2514600"/>
            <a:chOff x="3733920" y="2514600"/>
            <a:chExt cx="4952880" cy="2514600"/>
          </a:xfrm>
        </p:grpSpPr>
        <p:sp>
          <p:nvSpPr>
            <p:cNvPr id="197" name=""/>
            <p:cNvSpPr/>
            <p:nvPr/>
          </p:nvSpPr>
          <p:spPr>
            <a:xfrm>
              <a:off x="3733920" y="2514600"/>
              <a:ext cx="4952880" cy="2514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2520" y="2819520"/>
              <a:ext cx="44956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erá mostrado um resumo de seu certificado apenas para a sua conferência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. Selecione o provedor de Segurança entre as opções existentes e continue clicando no botão Envia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9" name=""/>
          <p:cNvGraphicFramePr/>
          <p:nvPr/>
        </p:nvGraphicFramePr>
        <p:xfrm>
          <a:off x="914400" y="2286000"/>
          <a:ext cx="7373880" cy="358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2286000"/>
                    <a:ext cx="73738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1" name=""/>
          <p:cNvGrpSpPr/>
          <p:nvPr/>
        </p:nvGrpSpPr>
        <p:grpSpPr>
          <a:xfrm>
            <a:off x="3733920" y="2514600"/>
            <a:ext cx="4952880" cy="2514600"/>
            <a:chOff x="3733920" y="2514600"/>
            <a:chExt cx="4952880" cy="2514600"/>
          </a:xfrm>
        </p:grpSpPr>
        <p:sp>
          <p:nvSpPr>
            <p:cNvPr id="202" name=""/>
            <p:cNvSpPr/>
            <p:nvPr/>
          </p:nvSpPr>
          <p:spPr>
            <a:xfrm>
              <a:off x="3733920" y="2514600"/>
              <a:ext cx="4952880" cy="2514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62520" y="2819520"/>
              <a:ext cx="44956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Nesta página aparecerá um botão que será utilizado para instalar o certificado em seu computador. Basta pressiona-l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4" name=""/>
          <p:cNvGraphicFramePr/>
          <p:nvPr/>
        </p:nvGraphicFramePr>
        <p:xfrm>
          <a:off x="1143000" y="3048120"/>
          <a:ext cx="4714920" cy="193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3000" y="3048120"/>
                    <a:ext cx="47149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"/>
          <p:cNvGrpSpPr/>
          <p:nvPr/>
        </p:nvGrpSpPr>
        <p:grpSpPr>
          <a:xfrm>
            <a:off x="3733920" y="2514600"/>
            <a:ext cx="4952880" cy="2514600"/>
            <a:chOff x="3733920" y="2514600"/>
            <a:chExt cx="4952880" cy="2514600"/>
          </a:xfrm>
        </p:grpSpPr>
        <p:sp>
          <p:nvSpPr>
            <p:cNvPr id="207" name=""/>
            <p:cNvSpPr/>
            <p:nvPr/>
          </p:nvSpPr>
          <p:spPr>
            <a:xfrm>
              <a:off x="3733920" y="2514600"/>
              <a:ext cx="4952880" cy="2514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62520" y="2819520"/>
              <a:ext cx="44956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A janela pop-up solicitará novamente uma confirmação para instalar o certificado em seu computador, bastando apenas responder pelo botão Sim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8839080" y="6545160"/>
            <a:ext cx="304920" cy="304920"/>
          </a:xfrm>
          <a:prstGeom prst="rightArrow">
            <a:avLst>
              <a:gd name="adj1" fmla="val 56944"/>
              <a:gd name="adj2" fmla="val 4791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rabalhando com Certificado Pessoa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80880" y="1905120"/>
            <a:ext cx="8553600" cy="990360"/>
            <a:chOff x="380880" y="1905120"/>
            <a:chExt cx="8553600" cy="990360"/>
          </a:xfrm>
        </p:grpSpPr>
        <p:sp>
          <p:nvSpPr>
            <p:cNvPr id="212" name=""/>
            <p:cNvSpPr/>
            <p:nvPr/>
          </p:nvSpPr>
          <p:spPr>
            <a:xfrm>
              <a:off x="380880" y="2362320"/>
              <a:ext cx="8458200" cy="5331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u="sng">
                  <a:solidFill>
                    <a:srgbClr val="ccccff"/>
                  </a:solidFill>
                  <a:uFillTx/>
                  <a:latin typeface="Arial"/>
                  <a:hlinkClick r:id="rId1"/>
                </a:rPr>
                <a:t>https</a:t>
              </a:r>
              <a:r>
                <a:rPr b="0" lang="pt-BR" sz="2400" spc="-1" strike="noStrike" u="sng">
                  <a:solidFill>
                    <a:srgbClr val="ccccff"/>
                  </a:solidFill>
                  <a:uFillTx/>
                  <a:latin typeface="Arial"/>
                  <a:hlinkClick r:id="rId2"/>
                </a:rPr>
                <a:t>://www3.</a:t>
              </a:r>
              <a:r>
                <a:rPr b="0" lang="pt-BR" sz="2400" spc="-1" strike="noStrike" u="sng">
                  <a:solidFill>
                    <a:srgbClr val="ccccff"/>
                  </a:solidFill>
                  <a:uFillTx/>
                  <a:latin typeface="Arial"/>
                  <a:hlinkClick r:id="rId3"/>
                </a:rPr>
                <a:t>safeweb</a:t>
              </a:r>
              <a:r>
                <a:rPr b="0" lang="pt-BR" sz="2400" spc="-1" strike="noStrike" u="sng">
                  <a:solidFill>
                    <a:srgbClr val="ccccff"/>
                  </a:solidFill>
                  <a:uFillTx/>
                  <a:latin typeface="Arial"/>
                  <a:hlinkClick r:id="rId4"/>
                </a:rPr>
                <a:t>.com.br/novo/Classe1/</a:t>
              </a:r>
              <a:r>
                <a:rPr b="0" lang="pt-BR" sz="2400" spc="-1" strike="noStrike" u="sng">
                  <a:solidFill>
                    <a:srgbClr val="ccccff"/>
                  </a:solidFill>
                  <a:uFillTx/>
                  <a:latin typeface="Arial"/>
                  <a:hlinkClick r:id="rId5"/>
                </a:rPr>
                <a:t>cadastrog</a:t>
              </a:r>
              <a:r>
                <a:rPr b="0" lang="pt-BR" sz="2400" spc="-1" strike="noStrike" u="sng">
                  <a:solidFill>
                    <a:srgbClr val="ccccff"/>
                  </a:solidFill>
                  <a:uFillTx/>
                  <a:latin typeface="Arial"/>
                  <a:hlinkClick r:id="rId6"/>
                </a:rPr>
                <a:t>.</a:t>
              </a:r>
              <a:r>
                <a:rPr b="0" lang="pt-BR" sz="2400" spc="-1" strike="noStrike" u="sng">
                  <a:solidFill>
                    <a:srgbClr val="ccccff"/>
                  </a:solidFill>
                  <a:uFillTx/>
                  <a:latin typeface="Arial"/>
                  <a:hlinkClick r:id="rId7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7000" y="1905120"/>
              <a:ext cx="85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Solicite um certificado pessoal e instale-o em seu computad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530280" y="2971800"/>
            <a:ext cx="808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tilize-o para aplicar as opções de segurança nas mensagens que você envia para outras pesso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419720" y="2286000"/>
          <a:ext cx="4219560" cy="4219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9720" y="2286000"/>
                    <a:ext cx="421956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4648320" y="3886200"/>
          <a:ext cx="4029120" cy="2666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48320" y="3886200"/>
                    <a:ext cx="40291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895480" y="2438280"/>
          <a:ext cx="5762880" cy="4105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895480" y="2438280"/>
                    <a:ext cx="5762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533520" y="3962520"/>
            <a:ext cx="8001000" cy="1218960"/>
            <a:chOff x="533520" y="3962520"/>
            <a:chExt cx="8001000" cy="1218960"/>
          </a:xfrm>
        </p:grpSpPr>
        <p:sp>
          <p:nvSpPr>
            <p:cNvPr id="222" name=""/>
            <p:cNvSpPr/>
            <p:nvPr/>
          </p:nvSpPr>
          <p:spPr>
            <a:xfrm>
              <a:off x="533520" y="3962520"/>
              <a:ext cx="8001000" cy="1218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2120" y="4191120"/>
              <a:ext cx="754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</a:rPr>
                <a:t>Utilizando opções para criptografar e assinar digitalmente a mensagem de e-mail pelo Outlook 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4" name=""/>
          <p:cNvGraphicFramePr/>
          <p:nvPr/>
        </p:nvGraphicFramePr>
        <p:xfrm>
          <a:off x="609480" y="5334120"/>
          <a:ext cx="7848720" cy="936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09480" y="5334120"/>
                    <a:ext cx="78487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6" name=""/>
          <p:cNvGrpSpPr/>
          <p:nvPr/>
        </p:nvGrpSpPr>
        <p:grpSpPr>
          <a:xfrm>
            <a:off x="533520" y="3962520"/>
            <a:ext cx="8001000" cy="1218960"/>
            <a:chOff x="533520" y="3962520"/>
            <a:chExt cx="8001000" cy="1218960"/>
          </a:xfrm>
        </p:grpSpPr>
        <p:sp>
          <p:nvSpPr>
            <p:cNvPr id="227" name=""/>
            <p:cNvSpPr/>
            <p:nvPr/>
          </p:nvSpPr>
          <p:spPr>
            <a:xfrm>
              <a:off x="533520" y="3962520"/>
              <a:ext cx="8001000" cy="1218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120" y="4419720"/>
              <a:ext cx="75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Mensagem criptografada visualizada pelo rece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9" name=""/>
          <p:cNvGraphicFramePr/>
          <p:nvPr/>
        </p:nvGraphicFramePr>
        <p:xfrm>
          <a:off x="3200400" y="1981080"/>
          <a:ext cx="5410080" cy="458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200400" y="1981080"/>
                    <a:ext cx="5410080" cy="458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1" name=""/>
          <p:cNvGrpSpPr/>
          <p:nvPr/>
        </p:nvGrpSpPr>
        <p:grpSpPr>
          <a:xfrm>
            <a:off x="533520" y="3962520"/>
            <a:ext cx="8001000" cy="1218960"/>
            <a:chOff x="533520" y="3962520"/>
            <a:chExt cx="8001000" cy="1218960"/>
          </a:xfrm>
        </p:grpSpPr>
        <p:sp>
          <p:nvSpPr>
            <p:cNvPr id="232" name=""/>
            <p:cNvSpPr/>
            <p:nvPr/>
          </p:nvSpPr>
          <p:spPr>
            <a:xfrm>
              <a:off x="533520" y="3962520"/>
              <a:ext cx="8001000" cy="1218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4419720"/>
              <a:ext cx="75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nformações sobre o processo de segurança da mensag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8839080" y="6545160"/>
            <a:ext cx="304920" cy="304920"/>
          </a:xfrm>
          <a:prstGeom prst="rightArrow">
            <a:avLst>
              <a:gd name="adj1" fmla="val 56944"/>
              <a:gd name="adj2" fmla="val 4791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dentificação pessoa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Carteira de identidad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Carteira de motorist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Passport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Crachá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228600" y="1981080"/>
            <a:ext cx="8667720" cy="4686480"/>
            <a:chOff x="228600" y="1981080"/>
            <a:chExt cx="8667720" cy="4686480"/>
          </a:xfrm>
        </p:grpSpPr>
        <p:graphicFrame>
          <p:nvGraphicFramePr>
            <p:cNvPr id="236" name=""/>
            <p:cNvGraphicFramePr/>
            <p:nvPr/>
          </p:nvGraphicFramePr>
          <p:xfrm>
            <a:off x="4686480" y="1981080"/>
            <a:ext cx="4209840" cy="4686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6480" y="1981080"/>
                      <a:ext cx="4209840" cy="468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38" name=""/>
            <p:cNvGrpSpPr/>
            <p:nvPr/>
          </p:nvGrpSpPr>
          <p:grpSpPr>
            <a:xfrm>
              <a:off x="228600" y="2666880"/>
              <a:ext cx="4114800" cy="3962520"/>
              <a:chOff x="228600" y="2666880"/>
              <a:chExt cx="4114800" cy="3962520"/>
            </a:xfrm>
          </p:grpSpPr>
          <p:sp>
            <p:nvSpPr>
              <p:cNvPr id="239" name=""/>
              <p:cNvSpPr/>
              <p:nvPr/>
            </p:nvSpPr>
            <p:spPr>
              <a:xfrm>
                <a:off x="228600" y="2666880"/>
                <a:ext cx="4114800" cy="3962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cccc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80880" y="2895480"/>
                <a:ext cx="3810240" cy="25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66"/>
                    </a:solidFill>
                    <a:latin typeface="Arial"/>
                  </a:rPr>
                  <a:t>Abra a janela de Opções da Internet (Internet Options) no menu Ferramentas (Tools) do Internet Explorer e selecione a guia Segurança (Security). Marque a opção Sites Confiáveis (Trusted Sites) e clique no botão Sites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onfigurando Sites Confiáveis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no Internet Explor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28600" y="2666880"/>
            <a:ext cx="8686800" cy="3962160"/>
            <a:chOff x="228600" y="2666880"/>
            <a:chExt cx="8686800" cy="3962160"/>
          </a:xfrm>
        </p:grpSpPr>
        <p:graphicFrame>
          <p:nvGraphicFramePr>
            <p:cNvPr id="243" name=""/>
            <p:cNvGraphicFramePr/>
            <p:nvPr/>
          </p:nvGraphicFramePr>
          <p:xfrm>
            <a:off x="4648320" y="2905200"/>
            <a:ext cx="4267080" cy="3722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48320" y="2905200"/>
                      <a:ext cx="4267080" cy="372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45" name=""/>
            <p:cNvGrpSpPr/>
            <p:nvPr/>
          </p:nvGrpSpPr>
          <p:grpSpPr>
            <a:xfrm>
              <a:off x="228600" y="2666880"/>
              <a:ext cx="4114800" cy="3962160"/>
              <a:chOff x="228600" y="2666880"/>
              <a:chExt cx="4114800" cy="3962160"/>
            </a:xfrm>
          </p:grpSpPr>
          <p:sp>
            <p:nvSpPr>
              <p:cNvPr id="246" name=""/>
              <p:cNvSpPr/>
              <p:nvPr/>
            </p:nvSpPr>
            <p:spPr>
              <a:xfrm>
                <a:off x="228600" y="2666880"/>
                <a:ext cx="4114800" cy="3962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cccc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80880" y="2895480"/>
                <a:ext cx="3810240" cy="344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66"/>
                    </a:solidFill>
                    <a:latin typeface="Arial"/>
                  </a:rPr>
                  <a:t>No campo Adicionar este site da web a zona (Add this web site to the zone) informe o site que você deseja e clique no botão Adicionar (Add) para coloca-lo na lista abaixo, depois pressione o botão Ok para fechar esta janela. É aconselhável que os sites informados sejam do protocolo HTTPS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8" name=""/>
          <p:cNvGrpSpPr/>
          <p:nvPr/>
        </p:nvGrpSpPr>
        <p:grpSpPr>
          <a:xfrm>
            <a:off x="228600" y="2590920"/>
            <a:ext cx="8686800" cy="4030560"/>
            <a:chOff x="228600" y="2590920"/>
            <a:chExt cx="8686800" cy="4030560"/>
          </a:xfrm>
        </p:grpSpPr>
        <p:grpSp>
          <p:nvGrpSpPr>
            <p:cNvPr id="249" name=""/>
            <p:cNvGrpSpPr/>
            <p:nvPr/>
          </p:nvGrpSpPr>
          <p:grpSpPr>
            <a:xfrm>
              <a:off x="228600" y="2590920"/>
              <a:ext cx="4114800" cy="3962160"/>
              <a:chOff x="228600" y="2590920"/>
              <a:chExt cx="4114800" cy="3962160"/>
            </a:xfrm>
          </p:grpSpPr>
          <p:sp>
            <p:nvSpPr>
              <p:cNvPr id="250" name=""/>
              <p:cNvSpPr/>
              <p:nvPr/>
            </p:nvSpPr>
            <p:spPr>
              <a:xfrm>
                <a:off x="228600" y="2590920"/>
                <a:ext cx="4114800" cy="3962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cccc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80880" y="2971800"/>
                <a:ext cx="381024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Sites confiáveis são identificados por um ícone na barra de status do navegador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52" name=""/>
            <p:cNvGraphicFramePr/>
            <p:nvPr/>
          </p:nvGraphicFramePr>
          <p:xfrm>
            <a:off x="5334120" y="5334120"/>
            <a:ext cx="3581280" cy="1287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34120" y="5334120"/>
                      <a:ext cx="3581280" cy="12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4" name=""/>
          <p:cNvSpPr/>
          <p:nvPr/>
        </p:nvSpPr>
        <p:spPr>
          <a:xfrm>
            <a:off x="8839080" y="6545160"/>
            <a:ext cx="304920" cy="304920"/>
          </a:xfrm>
          <a:prstGeom prst="rightArrow">
            <a:avLst>
              <a:gd name="adj1" fmla="val 56944"/>
              <a:gd name="adj2" fmla="val 4791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tilizando o PGP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09480" y="1828800"/>
            <a:ext cx="7467840" cy="1371600"/>
            <a:chOff x="609480" y="1828800"/>
            <a:chExt cx="7467840" cy="1371600"/>
          </a:xfrm>
        </p:grpSpPr>
        <p:sp>
          <p:nvSpPr>
            <p:cNvPr id="257" name=""/>
            <p:cNvSpPr/>
            <p:nvPr/>
          </p:nvSpPr>
          <p:spPr>
            <a:xfrm>
              <a:off x="609480" y="1828800"/>
              <a:ext cx="7467840" cy="1371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14400" y="2057400"/>
              <a:ext cx="7086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Arial"/>
                </a:rPr>
                <a:t>O PGP é um programa originalmente Freeware porém a Network Associates possui versões melhoradas deste software de criptografia e assinatura digita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33520" y="3228840"/>
            <a:ext cx="7562880" cy="2886120"/>
            <a:chOff x="533520" y="3228840"/>
            <a:chExt cx="7562880" cy="2886120"/>
          </a:xfrm>
        </p:grpSpPr>
        <p:graphicFrame>
          <p:nvGraphicFramePr>
            <p:cNvPr id="260" name=""/>
            <p:cNvGraphicFramePr/>
            <p:nvPr/>
          </p:nvGraphicFramePr>
          <p:xfrm>
            <a:off x="533520" y="3505320"/>
            <a:ext cx="3124080" cy="1963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3505320"/>
                      <a:ext cx="3124080" cy="19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"/>
            <p:cNvGraphicFramePr/>
            <p:nvPr/>
          </p:nvGraphicFramePr>
          <p:xfrm>
            <a:off x="3733920" y="3228840"/>
            <a:ext cx="4362480" cy="2886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3920" y="3228840"/>
                      <a:ext cx="4362480" cy="288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4" name=""/>
          <p:cNvGrpSpPr/>
          <p:nvPr/>
        </p:nvGrpSpPr>
        <p:grpSpPr>
          <a:xfrm>
            <a:off x="609480" y="1828800"/>
            <a:ext cx="7467840" cy="1371600"/>
            <a:chOff x="609480" y="1828800"/>
            <a:chExt cx="7467840" cy="1371600"/>
          </a:xfrm>
        </p:grpSpPr>
        <p:sp>
          <p:nvSpPr>
            <p:cNvPr id="265" name=""/>
            <p:cNvSpPr/>
            <p:nvPr/>
          </p:nvSpPr>
          <p:spPr>
            <a:xfrm>
              <a:off x="609480" y="1828800"/>
              <a:ext cx="7467840" cy="1371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14400" y="2057400"/>
              <a:ext cx="7086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om ele você pode criptografar e assinar digitalmente documentos e mensagens garantindo assim a confiabilidade do conteúd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685800" y="3048120"/>
          <a:ext cx="3838680" cy="170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048120"/>
                    <a:ext cx="383868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990720" y="4419720"/>
          <a:ext cx="2361960" cy="208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4419720"/>
                    <a:ext cx="236196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2895480" y="3505320"/>
          <a:ext cx="3829320" cy="1800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3505320"/>
                    <a:ext cx="382932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2362320" y="3581280"/>
          <a:ext cx="4724280" cy="3000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62320" y="3581280"/>
                    <a:ext cx="472428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1981080" y="2362320"/>
          <a:ext cx="4762800" cy="3914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1080" y="2362320"/>
                    <a:ext cx="4762800" cy="39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" descr=""/>
          <p:cNvPicPr/>
          <p:nvPr/>
        </p:nvPicPr>
        <p:blipFill>
          <a:blip r:embed="rId15"/>
          <a:stretch/>
        </p:blipFill>
        <p:spPr>
          <a:xfrm>
            <a:off x="1600200" y="2971800"/>
            <a:ext cx="4724280" cy="300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"/>
          <p:cNvGraphicFramePr/>
          <p:nvPr/>
        </p:nvGraphicFramePr>
        <p:xfrm>
          <a:off x="3124080" y="2209680"/>
          <a:ext cx="4934160" cy="3915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124080" y="2209680"/>
                    <a:ext cx="4934160" cy="39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1447920" y="2590920"/>
          <a:ext cx="4933800" cy="3914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447920" y="2590920"/>
                    <a:ext cx="4933800" cy="39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1295280" y="3200400"/>
          <a:ext cx="6212160" cy="26478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295280" y="3200400"/>
                    <a:ext cx="621216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8839080" y="6545160"/>
            <a:ext cx="304920" cy="304920"/>
          </a:xfrm>
          <a:prstGeom prst="rightArrow">
            <a:avLst>
              <a:gd name="adj1" fmla="val 56944"/>
              <a:gd name="adj2" fmla="val 4791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ferências Bibliográfica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GARFINKEL, Simon - Comércio &amp; Segurança na Web - Simon Garfinkel e Gene Spafford; [Equipe Tulio Camargo Silva] - São Paulo. Market Press, 1999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http://www.safeweb.com.br/manuais/manual.asp (em 02/07/2002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http://www.certsign.com.br/duvidas.html (em 02/07/2002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http://www.registrobrasil.com/br/index_certificado.jsp (em 02/07/2002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http://www.multicert.com/como.funciona.html (em 04/07/2002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http://www.modulo.com.b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Dificuldades para falsificação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90720" y="2209320"/>
            <a:ext cx="7315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tilização de materiais de difícil fabricação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tilização de equipamentos de alto valor comercial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x.: Películas e papéis especiais, hologramas, etc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Dificuldades de identificação no ciberespaço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Como identificar quem está à frente de um computador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Times New Roman"/>
              </a:rPr>
              <a:t>(utilização de câmeras de vídeo, voz, ...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login e senha não confirma a identidade real de um usuário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tilização de senha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ecessidade de um pré-cadastro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 senha pode ser interceptada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squecimento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nhas fácei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s pessoas revelam suas senhas para outras pessoa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Arial"/>
              </a:rPr>
              <a:t>Tokens físicos</a:t>
            </a:r>
            <a:br>
              <a:rPr sz="4400"/>
            </a:br>
            <a:r>
              <a:rPr b="0" lang="pt-BR" sz="2800" spc="-1" strike="noStrike">
                <a:solidFill>
                  <a:srgbClr val="3333cc"/>
                </a:solidFill>
                <a:latin typeface="Arial"/>
              </a:rPr>
              <a:t>algo que você tem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Cartão de crédito, ou conta corrente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Cartão de acesso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(não importa quem o detém, o acesso é dado ao token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Times New Roman"/>
              </a:rPr>
              <a:t>O token não “prova” a identidade de uma pessoa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edidas Biométrica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dentificação de uma pessoa pela medição física da mesma, comparando com um perfil previamente gravado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809880"/>
            <a:ext cx="6340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magem do ro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mpressões digi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drão dos vasos sangüíneos da re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gravação de vo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Dificuldad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ecessidade de armazenamento prévio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quipamentos de elevado valor comercial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raude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23:10:23Z</dcterms:created>
  <dc:creator>GETEC</dc:creator>
  <dc:description/>
  <dc:language>en-US</dc:language>
  <cp:lastModifiedBy>silviocm</cp:lastModifiedBy>
  <dcterms:modified xsi:type="dcterms:W3CDTF">2002-07-23T15:38:51Z</dcterms:modified>
  <cp:revision>31</cp:revision>
  <dc:subject/>
  <dc:title>Certificado Digital e Assinaturas Digitais</dc:title>
</cp:coreProperties>
</file>