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E14-3AA4-46DB-B9B2-168B722D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6E2-A0A7-49F4-A7E1-D68E047E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D78-DFE9-4C66-B0BF-B06D5A9E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1AF-F9A9-409E-80EE-0111D305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1132-7A42-4263-9DF8-B7B2B9E3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16D6-634C-47DF-851F-E40E3ACD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82C9-E8B4-4A90-BB90-60DC913A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6C0C-1BD2-4FA8-AF58-4C712681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CF28-87E5-4169-A4F5-F5FDA631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5072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03D8-838E-4AA7-82C5-FE0FA259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95E4-486C-420C-B5A6-8B8B3C2A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FFB-6D93-415B-8B37-18B2BA0F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3166-BA15-4EE7-A2C5-4AE4FACA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092F-D389-44F6-A33B-67E12B53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77F9-334B-41E7-AFA0-FF45169C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CC71-EE55-426B-B0FC-407C6E3D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8D92-F912-4973-8AF3-2AD8CA7D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E57-78F9-47DD-A066-80945BEB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BCE-F397-42E0-BDB6-5D988C06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98F-1D72-40CA-AF58-54F6C1A2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5072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A95-4CFE-4FE9-AE65-6228B1D2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5B8-D141-4565-A0AF-AF90341E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4AF-3F07-4590-AC00-87B7CA4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D3D-D739-4E9D-811F-E5976CFD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7520" y="7938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69840" y="7938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11360" y="12160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1080" y="12160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97000" y="11430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32040" y="6858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2720" y="1476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7761-39BD-4FAF-8AB6-80C8D3BC11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604960"/>
            <a:ext cx="9009000" cy="1052640"/>
            <a:chOff x="152280" y="260496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442800" y="2712960"/>
              <a:ext cx="711360" cy="474840"/>
              <a:chOff x="442800" y="271296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42800" y="271296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5840" y="27129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66640" y="3135240"/>
              <a:ext cx="737640" cy="474840"/>
              <a:chOff x="566640" y="313524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66640" y="313524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5280" y="31352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52280" y="30621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7320" y="26049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68360" y="34272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F805-96A3-419B-A5FF-9D384FBF4A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Data Mining</a:t>
            </a:r>
            <a:br>
              <a:rPr sz="4400"/>
            </a:br>
            <a:r>
              <a:rPr b="0" lang="pt-BR" sz="1600" spc="-1" strike="noStrike">
                <a:solidFill>
                  <a:srgbClr val="333399"/>
                </a:solidFill>
                <a:latin typeface="Tahoma"/>
              </a:rPr>
              <a:t>Tópicos de Sistemas de Informaçã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Universidade Federal de Mato Grosso do Su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acharelado em Análise de Sistem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Campo Grande - 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29 de junho de 20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685800" y="5724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cadêmicos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exandre Aguena Araka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Gretta Rodrigues de Pa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Jane Dirce Alves Monte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nato Pereira Giacome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iviane Matiko Nu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empresa utilizando data mining é capaz d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iar parâmetros para entender o comportamento do consumido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ntificar afinidades entre as escolhas de produtos e serviço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ver hábitos de compr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isar comportamentos habituais para detectar fraud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Data mining X Data warehous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31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Data mining = 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extração inteligente de dados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1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Data warehouse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 = repositório centralizado de dados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1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Data mining não é uma evolução do Data warehouse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1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Data mining não depende do Data warehouse, mas obtém-se melhores resultados quando aplicados em conjunto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1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Data warehouse aliado a ferramentas estatísticas desempenham papel semelhante ao data mining, mas não descobrem novos padrões de comportamento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Evolução de Banco de Dados até o Data Mi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33520" y="1905120"/>
          <a:ext cx="8146800" cy="4724280"/>
        </p:xfrm>
        <a:graphic>
          <a:graphicData uri="http://schemas.openxmlformats.org/drawingml/2006/table">
            <a:tbl>
              <a:tblPr/>
              <a:tblGrid>
                <a:gridCol w="2036520"/>
                <a:gridCol w="2036880"/>
                <a:gridCol w="2036520"/>
                <a:gridCol w="2036880"/>
              </a:tblGrid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ol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gun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nologia disponí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acterís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0 - Coleção de d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 foi meu rendimento toral nos últimos cinco anos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adores, Fitas, dis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rospectiva, Dados estáticos como respo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0 - Acessos aos dad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 foi meu rendimento no Brasil no último mês de janeiro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DBMS, SQL, ODB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rospectiva, dados dinâmicos a nível de registros como respo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0 - Data warehousing &amp; suporte a deci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 foi meu rendimento no Brasil no último mês de janeiro, do sul até o nordeste!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samento analítico on-line, banco de daados multidimencionais, data warehou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rospectiva, dados dinâmicos em múltiplos níveis como respo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 M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que alguns produtos são mais vendidos na região sul?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goritmos avançados, computadores multiprocessados, B.D. Grandes e podero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spectivo, Informações obtendo perspectivas como respost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Knowledge Discovery Databases (KD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É o processo que envolve a automação da identificação e do reconhecimento de padrões em um banco de dado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m como principal característica a extração não-trivial de informações a partir de uma base de dados de grande port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ssas informações são necessariamente  implícitas, previamente desconhecidas e potencialmente úte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tapas do KD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2361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7628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eleçã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ré-processament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Transformaçã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Data M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nterpretação e Avaliaçã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tapas do KD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Sele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ionar ou segmentar dados de acordo com critérios defini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032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xemplo: Todas pessoas do sexo feminino, é um subconjunto de dados determin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ré-Process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stágio de limpeza de dados onde informações julgadas desnecessários são removi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032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xemplo: sexo de um paciente gesta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configuração dos dados para assegurar formatos consistentes (identificaçã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032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xemplo: sexo=‘F’ ou ‘M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xo=‘M’ ou ‘H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tapas do KD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Transform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ransforma-se os dados em formatos utilizáveis. Esta depende ta técnicas de Data Mining us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xemplo: Rede Neural -&gt; converte valor literal em valor numér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isponibilizar os dados de maneira usável e navegáv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É a verdadeira extração dos padrões de comportamento dos d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Interpretação e Avali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dentificado os padrões pelo sistema, este são interpretados em conhecimento, os quais darão suporte a tomada de decisões human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xemplo: Tarefas de previsões e classificaçõ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tapas do KD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Graficamente tem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17668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228600" y="2509920"/>
            <a:ext cx="94489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Técnicas utilizadas pelo Data Mi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1905120"/>
            <a:ext cx="60962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Lógica Nebulosa (Fuzzy Logi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Redes Neurais Artificia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Árvores de decis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lgoritmos genét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Regras de indu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earest neighb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Visualiza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ógica Nebulos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o tempo de um investiment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3000" spc="-1" strike="noStrike">
                <a:solidFill>
                  <a:srgbClr val="ffcf01"/>
                </a:solidFill>
                <a:latin typeface="Verdana"/>
              </a:rPr>
              <a:t>long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e o sistema financeir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ão tem sido </a:t>
            </a:r>
            <a:r>
              <a:rPr b="0" lang="en-US" sz="3000" spc="-1" strike="noStrike">
                <a:solidFill>
                  <a:srgbClr val="ffcf01"/>
                </a:solidFill>
                <a:latin typeface="Verdana"/>
              </a:rPr>
              <a:t>muito estáve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tão a taxa de risco d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vestimento é </a:t>
            </a:r>
            <a:r>
              <a:rPr b="0" lang="en-US" sz="3000" spc="-1" strike="noStrike">
                <a:solidFill>
                  <a:srgbClr val="ffcf01"/>
                </a:solidFill>
                <a:latin typeface="Verdana"/>
              </a:rPr>
              <a:t>muito alt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"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ópic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ineração de Dad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ata Wareho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que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nde o Data Mining é apli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ata Mining X Data Wareho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volução do BD até o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Knowlegde Discovery Databases (KDD)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ce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tapas do KD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des Neurais Artificia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19320" y="1752480"/>
            <a:ext cx="6858000" cy="4724640"/>
            <a:chOff x="1219320" y="1752480"/>
            <a:chExt cx="6858000" cy="472464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219320" y="1752480"/>
              <a:ext cx="68580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 txBox="1"/>
            <p:nvPr/>
          </p:nvSpPr>
          <p:spPr>
            <a:xfrm>
              <a:off x="1219320" y="1752480"/>
              <a:ext cx="6858000" cy="472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Árvores de decisã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85800" y="1828800"/>
            <a:ext cx="7772400" cy="4191120"/>
            <a:chOff x="685800" y="1828800"/>
            <a:chExt cx="7772400" cy="41911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685800" y="1828800"/>
              <a:ext cx="777240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685800" y="1828800"/>
              <a:ext cx="777240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goritmos Genétic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É uma técnica de otimização q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usa processos como combinaçã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genética, mutação e seleção natural,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aseando-se nos conceitos de evolução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gras de induçã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ria conjuntos hierárquicos ou não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ierárquicos de condições (regras) q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uzem a um certo resultado. Pod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nalisar, entre diversas alternativas,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qual delas pode apresentar o melh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sultado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Nearest neighbo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enta buscar o k-ésimo vizinho ma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óximo. Quando um novo dado é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ornecido, todos os dados são usad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ara se encontrar um subconjunto d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ados que são muito semelhante a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novo dado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izaçã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ossibilita ao usuário obter um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mpreensão melhor e mais intuiti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os dados e dos resultad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presentados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Aplicações de Data Mining</a:t>
            </a: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5562720"/>
            <a:ext cx="6096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5562720"/>
            <a:ext cx="6172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20968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 o auxílio de um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Min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podemos desenvolver aplicações que venham a extrair dos bancos de dados, informações crítica, com o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tiv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e estreitar ainda mais o relacionamento da empresa com os consumidores finai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eitos sobre Comércio Eletrônico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ão basta estar na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Web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 um site informativo sobre produtos e informações institucionais.  O usuário precisa ser motivado a acessar um determinado site.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E-business</a:t>
            </a: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nologia de comércio eletrônico gerando uma nova forma de fazer negóc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Mining e Marketing Digital</a:t>
            </a: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1981080"/>
            <a:ext cx="79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 objetivo do Marketing na Internet é atingir o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 forma especial, definir os clientes atuais, potenciais e outros públicos de intere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 a aplicação de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Mining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ode-se gerar  um Marketing Eletrônic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al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anhias se voltam a essa tecnologia para identificar novos clientes, diminuir custos e descobrir novas hipót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ópico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écnicas Utilizadas pelo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ógica Nebulosa (Fuzzy Log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des Neurais Artifi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Árvores de decis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lgoritmos Genér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gras de indu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earest neighb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isualiz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plicações de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ceitos Sobre o Comércio Eletrôn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-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ata Mining E Marketing Digi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ata Mining na Gestão Hospit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r>
              <a:rPr b="0" lang="pt-BR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Data Mi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stema de Banco de Dados  X  Data M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aplicação cega do Data Mining precisa ser evitada.(descobertas errôneas podem ser feitas, uma vez que a qualidade do que se descobre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dade de que se dispõ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O Data Mining pode se valer de diversas técnicas. Como escolher a mais adequad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Inteligência competitiva usando o Data Mining em Bases Públicas</a:t>
            </a: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O valor do conhec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 aumento da concorrência no mundo inteir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facilidade de se ‘invadir’ o mercado do concorrente, até se estiver atuando do outro lado do mund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 tempo de durabilidade do produto que está se tornando mais e mais reduzido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Inteligência competitiva usando o Data Mining em Bases Pública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O valor do conhecimento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lgumas definiçõ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teligência Competi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teligência Competitiva através do Data M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Inteligência competitiva usando o Data Mining em Bases Pública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Fundamentos da Inteligência Competi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Quais as tendências de mercad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m que setor os concorrentes estão desenvolvendo novos produtos a ser lançados no mercado?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Quando, aproximadamente, eles vão fazer isso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Qual o setor que será abandonado por eles, nos próximos an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cupamos uma posição forte, dado o nosso grau de ‘expertise’, para atuar num novo mercad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Quais são os pacotes tecnológicos </a:t>
            </a: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(brick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) ‘chave’ para um determinado seto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nde procurar as respost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Inteligência competitiva usando o Data Mining em Bases Pública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Usuário Fin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panhias de produção, para conhecimento do mercado e da concorrênci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Bancos Comerciais, para elaboração de relatórios, para avaliação de determinado client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Bancos de Investimento, para avaliação das empresas inovativas e da dinâmica dessas industrias a fim de investimento, ou fusões e aquisiçõe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panhias de Seguros, para avaliação de possíveis riscos especialmente, entre as companhias técn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Inteligência competitiva usando o Data Mining em Bases Pública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Os Profission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m utiliza e que tipo de usuário está diretamente envolvido com a inteligência competitiva? Essa é uma atividade tão recente que nem todas as empresas têm um núcleo dedicado a ela. Às vezes, os profissionais que atuam são ligados á alta administração, profissionais da área de documentação, ou que atuam na área de marke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Inteligência competitiva usando o Data Mining em Bases Pública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As Habi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Grande abertura cultu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xperiência em recuperação de informa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aber lidar com computador (às vezes é útil noção de programação e do ambiente UNIX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nhecimento de Banco de Dados, tais com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0320" indent="-2854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Linguagens de aces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0320" indent="-2854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rganização dos d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0320" indent="-2854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ódig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0320" indent="-2854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nhecimento de aplicações específicas (como Data Mining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Inteligência competitiva usando o Data Mining em Bases Pública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O Processo De Trabalh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ENDIMENTO DO PROBLE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ÇÃO DAS FONTES DE D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RATÉGIA DE PESQUI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ÁLISE AUTOMATIZ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ÁLISE E INTERPRETAÇÃO DOS RESULT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3352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Conclusão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ópico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teligência Competitiva usando o data mining em bases públ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valor do conhec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undamentos da Inteligência Competi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suário Fin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s Profission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s Habi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Processo De Trabalh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ibliografi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http://www-pcc.qub.ac.uk/tec/courses/datam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http://www.rio.com.br/~extend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http://www.datamining.co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http://www.santafe.edu/~ku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http://www.datamation.co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http://www-dse.doc.ic.ac.uk/~k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http://www.cs.bham.ac.uk/~an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http://www.dbms.com/ (Vários artigo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http://www.infolink.com.br/~mpolito/mining/mining.htm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</a:rPr>
              <a:t>[http://www.lci.ufrj.br/~labbd/semins/grupo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9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ineração de Dad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Fatores que contribuiram para seu avanç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rande acumulo de d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alorização da inform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vanço da tecn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Data Warehous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É uma grande base de dados integrada, histórica, persistente e orientada por assuntos (fatos sobre o negóci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ém dados selecionados e depurados, que são extraídos do ambiente de produção das empre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É otimizado para  processamento de consulta complex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tivo: fornecer uma "imagem única da realidade do negócio"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276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191120"/>
            <a:ext cx="1865160" cy="1600200"/>
          </a:xfrm>
          <a:prstGeom prst="flowChartMagneticDisk">
            <a:avLst/>
          </a:prstGeom>
          <a:gradFill rotWithShape="0">
            <a:gsLst>
              <a:gs pos="0">
                <a:srgbClr val="8f5600"/>
              </a:gs>
              <a:gs pos="50000">
                <a:srgbClr val="ff9900"/>
              </a:gs>
              <a:gs pos="100000">
                <a:srgbClr val="8f5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 D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4267080"/>
            <a:ext cx="1482840" cy="1430280"/>
          </a:xfrm>
          <a:prstGeom prst="cube">
            <a:avLst>
              <a:gd name="adj" fmla="val 7944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stema de extração de dados das bases operaciona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4343400"/>
            <a:ext cx="1185840" cy="1336680"/>
          </a:xfrm>
          <a:prstGeom prst="flowChartMagneticDisk">
            <a:avLst/>
          </a:prstGeom>
          <a:gradFill rotWithShape="0">
            <a:gsLst>
              <a:gs pos="0">
                <a:srgbClr val="17462f"/>
              </a:gs>
              <a:gs pos="50000">
                <a:srgbClr val="339966"/>
              </a:gs>
              <a:gs pos="100000">
                <a:srgbClr val="174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G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4419720"/>
            <a:ext cx="1482480" cy="1295280"/>
          </a:xfrm>
          <a:prstGeom prst="cube">
            <a:avLst>
              <a:gd name="adj" fmla="val 7944"/>
            </a:avLst>
          </a:prstGeom>
          <a:gradFill rotWithShape="0">
            <a:gsLst>
              <a:gs pos="0">
                <a:srgbClr val="2142a7"/>
              </a:gs>
              <a:gs pos="50000">
                <a:srgbClr val="3366ff"/>
              </a:gs>
              <a:gs pos="100000">
                <a:srgbClr val="2142a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stemas que fornecem os dados aos usuári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648320"/>
            <a:ext cx="39528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4724280"/>
            <a:ext cx="3970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4724280"/>
            <a:ext cx="39708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O que é Data Mi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981080"/>
            <a:ext cx="73152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Data mining, é o processo de extração de conhecimento de grandes bases de d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Utiliza técnicas de inteligência artificial que procuram relações de similaridade ou discordância entre d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eu objetivo é encontrar, automaticamente, padrões, anomalias e regras com o propósito de transformar, aparentemente ocultos, em informações úteis para a tomada de decisão e/ou avaliação de result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3467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Tahoma"/>
              </a:rPr>
              <a:t>Data Mining (exempl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476280"/>
          <a:ext cx="5184720" cy="2214360"/>
        </p:xfrm>
        <a:graphic>
          <a:graphicData uri="http://schemas.openxmlformats.org/drawingml/2006/table">
            <a:tbl>
              <a:tblPr/>
              <a:tblGrid>
                <a:gridCol w="1368360"/>
                <a:gridCol w="504720"/>
                <a:gridCol w="1368360"/>
                <a:gridCol w="1008360"/>
                <a:gridCol w="93492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br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c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ão Pa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z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o de Janei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i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 Horizo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z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o de Janei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mel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i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 Horizo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é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ão Pa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mel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é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851280" y="3645000"/>
            <a:ext cx="1152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2494080"/>
            <a:ext cx="100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2160" y="2567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718080"/>
            <a:ext cx="100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1800" y="3789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5014800"/>
            <a:ext cx="1008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8720" y="50864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6720" y="25653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x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5800" y="3495600"/>
            <a:ext cx="8622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9240" y="3495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70840" y="4000680"/>
            <a:ext cx="8618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0880" y="4000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5800" y="4795920"/>
            <a:ext cx="8622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9960" y="47959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70840" y="5300640"/>
            <a:ext cx="8618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0880" y="530064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17960" y="35002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46320" y="400536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49640" y="4795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8000" y="530064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4005360"/>
            <a:ext cx="64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005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003640" y="2781360"/>
            <a:ext cx="648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2708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59640" y="371592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59640" y="400536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659640" y="501336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530064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2800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2800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28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28000" y="54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35640" y="1628640"/>
            <a:ext cx="288720" cy="0"/>
          </a:xfrm>
          <a:prstGeom prst="line">
            <a:avLst/>
          </a:prstGeom>
          <a:ln w="38160">
            <a:solidFill>
              <a:srgbClr val="4252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724360" y="980640"/>
            <a:ext cx="0" cy="647640"/>
          </a:xfrm>
          <a:prstGeom prst="line">
            <a:avLst/>
          </a:prstGeom>
          <a:ln w="38160">
            <a:solidFill>
              <a:srgbClr val="4252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35640" y="981000"/>
            <a:ext cx="288720" cy="0"/>
          </a:xfrm>
          <a:prstGeom prst="line">
            <a:avLst/>
          </a:prstGeom>
          <a:ln w="38160">
            <a:solidFill>
              <a:srgbClr val="4252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435280" y="1989000"/>
            <a:ext cx="431640" cy="0"/>
          </a:xfrm>
          <a:prstGeom prst="line">
            <a:avLst/>
          </a:prstGeom>
          <a:ln w="38160">
            <a:solidFill>
              <a:srgbClr val="f03a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867280" y="1341000"/>
            <a:ext cx="0" cy="647640"/>
          </a:xfrm>
          <a:prstGeom prst="line">
            <a:avLst/>
          </a:prstGeom>
          <a:ln w="38160">
            <a:solidFill>
              <a:srgbClr val="f0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435280" y="1341360"/>
            <a:ext cx="431640" cy="0"/>
          </a:xfrm>
          <a:prstGeom prst="line">
            <a:avLst/>
          </a:prstGeom>
          <a:ln w="38160">
            <a:solidFill>
              <a:srgbClr val="f03a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4797360"/>
            <a:ext cx="2973240" cy="128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clus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tos azuis são de auto lu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o de Janeiro tem um lucro baix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30Z</dcterms:created>
  <dc:creator>Viviane Matiko</dc:creator>
  <dc:description/>
  <dc:language>en-US</dc:language>
  <cp:lastModifiedBy>ledes</cp:lastModifiedBy>
  <dcterms:modified xsi:type="dcterms:W3CDTF">2002-06-29T17:22:26Z</dcterms:modified>
  <cp:revision>77</cp:revision>
  <dc:subject/>
  <dc:title>Do que se trata?</dc:title>
</cp:coreProperties>
</file>