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D2A-5DA8-4B6F-9534-B767EB04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9D5-828B-4031-81F8-87C8DDE9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A25-F742-48D5-965D-165B07CA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135-5FC6-4472-BC68-FC975F36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2886-3626-472B-B595-24319702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EE4A-3A7C-4C4C-964F-A6A9F7E9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3C94-8525-4781-A48B-23B11CEF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C48D-9306-428B-99D4-ED6E3461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C08C-DEE3-43B2-B115-17338538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68FF-992D-41A0-87A5-67952C6A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6D13-D70E-456F-93DD-FA71CD31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8A9-9205-47F7-B6E9-F04EA912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7F32-4203-4080-92C4-D476CA63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58F4-D25F-45D3-95AE-2F9C2D37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4C46-C65A-4340-9FDF-57037ECF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09CE-2166-41BE-B481-F34CFDE3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358E-A308-4D5E-AF75-3F50D9C0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AEA-9ECD-4AD8-BF5F-9FBA6040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1E8-2C79-4409-9CC0-4C41C1B4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8925-3770-42DE-8676-7288DF7C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F39-A428-404C-926A-9D486843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BE8-DE97-406B-8D40-D5FDB91E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B4F-3158-41EE-9FC4-DD7D2D95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E7B-2191-4145-9B07-4557D228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4BAE-39FD-401E-BBB7-E6D3FA05DA0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31C5-FDDB-440F-9120-4E971B0FDF0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ffcc"/>
                </a:solidFill>
                <a:latin typeface="Impact"/>
              </a:rPr>
              <a:t>Criptografia de Dad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cesso pelo qual uma mensagem (texto limpo) é transformada em uma segunda mensagem (o texto cifrado) usando uma função complexa (algoritmo de criptografia) e uma chave criptográfica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19200" y="304920"/>
            <a:ext cx="7915320" cy="550800"/>
          </a:xfrm>
          <a:prstGeom prst="rect">
            <a:avLst/>
          </a:prstGeom>
          <a:solidFill>
            <a:srgbClr val="01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Impact"/>
              </a:rPr>
              <a:t>Algoritmo de Chave Assimét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600200"/>
            <a:ext cx="7915320" cy="369000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Funcionamento como envio de mensagem combinado com assinatura digital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1 - emissor criptografa a mensagem com a sua chave privada (assinatur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2 - emissor criptografa a mensagem com a chave pública do recep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3 - envia a mensagem duplamente criptograf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4 - receptor decriptografa duas vezes, a primeira com a sua chave privada, e a segunda com a chave pública do emiss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9200" y="304920"/>
            <a:ext cx="7915320" cy="550800"/>
          </a:xfrm>
          <a:prstGeom prst="rect">
            <a:avLst/>
          </a:prstGeom>
          <a:solidFill>
            <a:srgbClr val="01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Impact"/>
              </a:rPr>
              <a:t>Algoritmo de Chave Assimét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43000"/>
            <a:ext cx="7915320" cy="247176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Exemplos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ffie-Hellm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Ga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rvas Elípt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878360"/>
            <a:ext cx="7915320" cy="145908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Vantagens :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resolve o problema da gerência e distribuição das ch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assinatura digi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973680"/>
            <a:ext cx="7915320" cy="60588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Problemas :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Custo de Process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19200" y="304920"/>
            <a:ext cx="7915320" cy="1245600"/>
          </a:xfrm>
          <a:prstGeom prst="rect">
            <a:avLst/>
          </a:prstGeom>
          <a:solidFill>
            <a:srgbClr val="01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Impact"/>
              </a:rPr>
              <a:t>Criptografi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Impact"/>
              </a:rPr>
              <a:t>Simétrica x Assimét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733920" cy="265428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Ráp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Gerência e Distribuição das chaves é comple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Não oferece assinatura digi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1828800"/>
            <a:ext cx="3733920" cy="265500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L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Gerência e Distribuição das chaves é sim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Oferece assinatura digi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7520" y="5334120"/>
            <a:ext cx="757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Então, qual algoritmo utilizar ?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9200" y="304920"/>
            <a:ext cx="7915320" cy="1007640"/>
          </a:xfrm>
          <a:prstGeom prst="rect">
            <a:avLst/>
          </a:prstGeom>
          <a:solidFill>
            <a:srgbClr val="01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Impact"/>
              </a:rPr>
              <a:t>Exemplo de Funcionamento de Sistema Híbri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219320"/>
            <a:ext cx="7915320" cy="521316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1 - emissor cria uma chave simét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2 - emissor criptografa a mensagem com a chave simétrica cri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3 - emissor criptografa a chave simétrica com a chave pública do rece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4 - emissor envia a mensagem e a chave criptograf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5 - receptor decriptografa a chave utilizando a sua chave priv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6 - receptor decriptografa a mensagem utilizando a chave simétrica que decriptografou anterior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7880" y="304920"/>
            <a:ext cx="8666280" cy="1007640"/>
          </a:xfrm>
          <a:prstGeom prst="rect">
            <a:avLst/>
          </a:prstGeom>
          <a:solidFill>
            <a:srgbClr val="01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Exemplos de Protocolos que empregam sistema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criptográficos Híbrid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1828800"/>
            <a:ext cx="8534520" cy="367740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IPSEC - padrão desenvolvido para o IPv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SSL e TLS - utilizado nos protocolos NTTP, HTTP, SMTP e Tel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PGP - criptografia de e-mail pesso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S/MIME - criptografia de e-mail corpor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SET - transações financei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X.509 - relacionamento entre as autoridades de certific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905120" y="3813120"/>
            <a:ext cx="1676160" cy="368280"/>
          </a:xfrm>
          <a:prstGeom prst="rect">
            <a:avLst/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1932"/>
                </a:solidFill>
                <a:latin typeface="Arial"/>
              </a:rPr>
              <a:t>Criptograf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3813120"/>
            <a:ext cx="1676160" cy="368280"/>
          </a:xfrm>
          <a:prstGeom prst="rect">
            <a:avLst/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1932"/>
                </a:solidFill>
                <a:latin typeface="Arial"/>
              </a:rPr>
              <a:t>Decifrag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041720"/>
            <a:ext cx="380880" cy="1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880" y="38131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Texto Simp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19160" y="38131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Texto Simp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81280" y="411804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411804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282204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7960" y="236520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Intruso (ativo ou pass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1940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4191120"/>
            <a:ext cx="1371600" cy="2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4040" y="533520"/>
            <a:ext cx="8506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99ffcc"/>
                </a:solidFill>
                <a:latin typeface="Impact"/>
              </a:rPr>
              <a:t>MODELO DE CRIPTOGRAFIA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-304920"/>
            <a:ext cx="647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500" spc="-1" strike="noStrike">
                <a:solidFill>
                  <a:srgbClr val="99ffcc"/>
                </a:solidFill>
                <a:latin typeface="Impact"/>
              </a:rPr>
              <a:t>Utilização da Criptografia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11400" y="1866960"/>
            <a:ext cx="3900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Confidencialid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11760" y="2590920"/>
            <a:ext cx="3079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Autenticaçã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11760" y="3352680"/>
            <a:ext cx="2782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Integrid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98800" y="4051440"/>
            <a:ext cx="2971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Não-repudi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6320" y="4172040"/>
            <a:ext cx="34646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Disponibilid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48040" y="4915080"/>
            <a:ext cx="42008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Controle de Acess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0"/>
            <a:ext cx="6934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99ffcc"/>
                </a:solidFill>
                <a:latin typeface="Impact"/>
              </a:rPr>
              <a:t>Criptografia x Servidor Segur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177840" y="129528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A criptografia não pode proteger documentos de serem apagado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177840" y="247644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A criptografia não pode proteger contra chaves criptográficas roubada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177840" y="3708360"/>
            <a:ext cx="937260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A criptografia não pode proteger contra ataques ao serviç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177840" y="4508640"/>
            <a:ext cx="9144000" cy="14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A criptografia não pode proteger de um programa de criptografia sabotad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177840" y="5219640"/>
            <a:ext cx="9144000" cy="15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A criptografia não pode proteger de erros ou de traidore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533520"/>
            <a:ext cx="7925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pt-BR" sz="4000" spc="-1" strike="noStrike">
                <a:solidFill>
                  <a:srgbClr val="99ffcc"/>
                </a:solidFill>
                <a:latin typeface="Impact"/>
              </a:rPr>
              <a:t>Cifragem por Substituiçã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Cada letra ou grupo de letras da mensagem, é substituido por uma outra letra ou grupo de letras. Preservam a ordem dos símbolos no texto simples, embora os ocultem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8080" y="4110120"/>
            <a:ext cx="7284240" cy="16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99ffcc"/>
                </a:solidFill>
                <a:latin typeface="Impact"/>
              </a:rPr>
              <a:t>Exemplo :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3300" spc="-1" strike="noStrike">
                <a:solidFill>
                  <a:srgbClr val="ffffff"/>
                </a:solidFill>
                <a:latin typeface="Arial"/>
              </a:rPr>
              <a:t>Chave : </a:t>
            </a:r>
            <a:r>
              <a:rPr b="0" lang="pt-BR" sz="3300" spc="-1" strike="noStrike">
                <a:solidFill>
                  <a:srgbClr val="ffffcc"/>
                </a:solidFill>
                <a:latin typeface="Arial"/>
              </a:rPr>
              <a:t>bcdefghijlmnopqrstuvxza..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1480" y="5257800"/>
            <a:ext cx="33721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Arial"/>
              </a:rPr>
              <a:t>Mensagem : </a:t>
            </a:r>
            <a:r>
              <a:rPr b="0" lang="pt-BR" sz="3300" spc="-1" strike="noStrike">
                <a:solidFill>
                  <a:srgbClr val="ffffcc"/>
                </a:solidFill>
                <a:latin typeface="Arial"/>
              </a:rPr>
              <a:t>caju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21840" y="5897520"/>
            <a:ext cx="48394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Arial"/>
              </a:rPr>
              <a:t>Mensagem Cifrada : </a:t>
            </a:r>
            <a:r>
              <a:rPr b="0" lang="pt-BR" sz="3300" spc="-1" strike="noStrike">
                <a:solidFill>
                  <a:srgbClr val="ffffcc"/>
                </a:solidFill>
                <a:latin typeface="Arial"/>
              </a:rPr>
              <a:t>dblv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pt-BR" sz="4000" spc="-1" strike="noStrike">
                <a:solidFill>
                  <a:srgbClr val="99ffcc"/>
                </a:solidFill>
                <a:latin typeface="Impact"/>
              </a:rPr>
              <a:t>Cifragem por Transposição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ffffff"/>
                </a:solidFill>
                <a:latin typeface="Arial"/>
              </a:rPr>
              <a:t>As letras da mensagem são trocadas de sua posição original. O método reordena as letras mas não as ocultam.</a:t>
            </a:r>
            <a:endParaRPr b="0" lang="en-US" sz="3000" spc="-1" strike="noStrike">
              <a:solidFill>
                <a:srgbClr val="ffffff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675360" y="4114800"/>
            <a:ext cx="4186080" cy="16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99ffcc"/>
                </a:solidFill>
                <a:latin typeface="Impact"/>
              </a:rPr>
              <a:t>Exemplo :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3300" spc="-1" strike="noStrike">
                <a:solidFill>
                  <a:srgbClr val="ffffff"/>
                </a:solidFill>
                <a:latin typeface="Arial"/>
              </a:rPr>
              <a:t>Chave : 68325417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20400" y="5257800"/>
            <a:ext cx="42361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Arial"/>
              </a:rPr>
              <a:t>Mensagem : </a:t>
            </a:r>
            <a:r>
              <a:rPr b="0" lang="pt-BR" sz="3300" spc="-1" strike="noStrike">
                <a:solidFill>
                  <a:srgbClr val="ffffcc"/>
                </a:solidFill>
                <a:latin typeface="Arial"/>
              </a:rPr>
              <a:t>cachorro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1120" y="5897520"/>
            <a:ext cx="57034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Arial"/>
              </a:rPr>
              <a:t>Mensagem Cifrada : </a:t>
            </a:r>
            <a:r>
              <a:rPr b="0" lang="pt-BR" sz="3300" spc="-1" strike="noStrike">
                <a:solidFill>
                  <a:srgbClr val="ffffcc"/>
                </a:solidFill>
                <a:latin typeface="Arial"/>
              </a:rPr>
              <a:t>rhcrocoa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9200" y="304920"/>
            <a:ext cx="7915320" cy="550800"/>
          </a:xfrm>
          <a:prstGeom prst="rect">
            <a:avLst/>
          </a:prstGeom>
          <a:solidFill>
            <a:srgbClr val="01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Impact"/>
              </a:rPr>
              <a:t>Algoritmo de Chave Simét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257480"/>
            <a:ext cx="7925040" cy="39888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Utiliza a mesma chave para criptografar e decifrar a mens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666880"/>
            <a:ext cx="7915320" cy="283716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Funcionamento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1 - define-se previamente a chave </a:t>
            </a:r>
            <a:r>
              <a:rPr b="1" lang="pt-BR" sz="2000" spc="-1" strike="noStrike">
                <a:solidFill>
                  <a:srgbClr val="001932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a ser utilizada entre o emissor e o recep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2 - emissor criptografa a mensagem utilizando a chave </a:t>
            </a:r>
            <a:r>
              <a:rPr b="1" lang="pt-BR" sz="2000" spc="-1" strike="noStrike">
                <a:solidFill>
                  <a:srgbClr val="001932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3 - emissor envia a mensage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4 - receptor decriptografa a mensagem utilizando a chave </a:t>
            </a:r>
            <a:r>
              <a:rPr b="1" lang="pt-BR" sz="2000" spc="-1" strike="noStrike">
                <a:solidFill>
                  <a:srgbClr val="001932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19200" y="304920"/>
            <a:ext cx="7915320" cy="550800"/>
          </a:xfrm>
          <a:prstGeom prst="rect">
            <a:avLst/>
          </a:prstGeom>
          <a:solidFill>
            <a:srgbClr val="01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Impact"/>
              </a:rPr>
              <a:t>Algoritmo de Chave Simét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74600"/>
            <a:ext cx="7915320" cy="261828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Exemplo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DES - Data Encryption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iple-DES - variação do DES, utilizando 3 enciframentos sucess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A - International Data Encryption Algorith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C5 - algoritmo mais flexí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4062240"/>
            <a:ext cx="7915320" cy="170352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Problema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Gerência e distribuição das ch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garante a identidade de quem enviou ou recebeu a mens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5996160"/>
            <a:ext cx="7915320" cy="60588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Vantagens:  </a:t>
            </a: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mais rápido e facilmente implement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19200" y="304920"/>
            <a:ext cx="7915320" cy="550800"/>
          </a:xfrm>
          <a:prstGeom prst="rect">
            <a:avLst/>
          </a:prstGeom>
          <a:solidFill>
            <a:srgbClr val="01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Impact"/>
              </a:rPr>
              <a:t>Algoritmo de Chave Assimét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995400"/>
            <a:ext cx="7925040" cy="45972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1932"/>
                </a:solidFill>
                <a:latin typeface="Arial"/>
              </a:rPr>
              <a:t>Utiliza 2 chaves : uma pública e outra priv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587600"/>
            <a:ext cx="7915320" cy="222696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Funcionamento como envio de mensagem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1 - emissor criptografa a mensagem com a chave pública do recep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2 - envia a mens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3 - receptor decriptografa utilizando a sua chave priv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014720"/>
            <a:ext cx="7915320" cy="2226960"/>
          </a:xfrm>
          <a:prstGeom prst="rect">
            <a:avLst/>
          </a:prstGeom>
          <a:solidFill>
            <a:srgbClr val="99ff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Funcionamento como assinatura digital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1 - emissor criptografa a mensagem com a sua chave privada (assinatura digit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2 - envia a mens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1932"/>
                </a:solidFill>
                <a:latin typeface="Arial"/>
              </a:rPr>
              <a:t>3 - receptor decriptografa utilizando a chave pública do emiss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4:50:16Z</dcterms:created>
  <dc:creator>.</dc:creator>
  <dc:description/>
  <dc:language>en-US</dc:language>
  <cp:lastModifiedBy>Desenvolvimento</cp:lastModifiedBy>
  <dcterms:modified xsi:type="dcterms:W3CDTF">2002-06-28T21:24:06Z</dcterms:modified>
  <cp:revision>19</cp:revision>
  <dc:subject/>
  <dc:title>Criptografia</dc:title>
</cp:coreProperties>
</file>