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3A4-BD2E-4E4B-8713-5750AE9D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4C6-A8DA-490C-B839-3CF91BF0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4EE3-3FBD-4CC0-BB3B-C190670A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F4C-73AD-401F-8F38-109C2B9C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431-C86C-48D2-9373-4399A402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463-0A79-43D0-8D46-35A9E46F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49C-8823-4070-AB8D-C4B6F3A8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06D-E884-462F-8E87-4348890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FFD-EC5D-42A5-87B7-96F1F082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A45-7C50-4193-A666-2146F444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838-F3DC-42C0-B9A4-DDDA5B8A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34B-59B2-461A-B36E-AD5B0146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8F51-BDDA-4CB2-951D-6498E9288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00"/>
                </a:solidFill>
                <a:latin typeface="Times New Roman"/>
              </a:rPr>
              <a:t>Universidade Federal de Mato Grosso </a:t>
            </a: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do </a:t>
            </a:r>
            <a:r>
              <a:rPr b="1" lang="pt-BR" sz="3600" spc="-1" strike="noStrike">
                <a:solidFill>
                  <a:srgbClr val="006600"/>
                </a:solidFill>
                <a:latin typeface="Times New Roman"/>
              </a:rPr>
              <a:t>Sul</a:t>
            </a:r>
            <a:br>
              <a:rPr sz="3600"/>
            </a:br>
            <a:r>
              <a:rPr b="1" lang="pt-BR" sz="3600" spc="-1" strike="noStrike">
                <a:solidFill>
                  <a:srgbClr val="006600"/>
                </a:solidFill>
                <a:latin typeface="Times New Roman"/>
              </a:rPr>
              <a:t>Centro de Ciências Exatas e Tecnologia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pt-BR" sz="3600" spc="-1" strike="noStrike">
                <a:solidFill>
                  <a:srgbClr val="006600"/>
                </a:solidFill>
                <a:latin typeface="Times New Roman"/>
              </a:rPr>
              <a:t>Departamento de Computação e Estatística</a:t>
            </a:r>
            <a:br>
              <a:rPr sz="3600"/>
            </a:br>
            <a:br>
              <a:rPr sz="3600"/>
            </a:br>
            <a:r>
              <a:rPr b="1" lang="pt-BR" sz="2400" spc="-1" strike="noStrike">
                <a:solidFill>
                  <a:srgbClr val="006600"/>
                </a:solidFill>
                <a:latin typeface="Times New Roman"/>
              </a:rPr>
              <a:t>Curso de </a:t>
            </a:r>
            <a:r>
              <a:rPr b="1" lang="pt-BR" sz="3000" spc="-1" strike="noStrike">
                <a:solidFill>
                  <a:srgbClr val="006600"/>
                </a:solidFill>
                <a:latin typeface="Times New Roman"/>
              </a:rPr>
              <a:t>Análise de Sistemas</a:t>
            </a:r>
            <a:br>
              <a:rPr sz="3000"/>
            </a:br>
            <a:r>
              <a:rPr b="1" lang="pt-BR" sz="2000" spc="-1" strike="noStrike">
                <a:solidFill>
                  <a:srgbClr val="006600"/>
                </a:solidFill>
                <a:latin typeface="Times New Roman"/>
              </a:rPr>
              <a:t>Tópicos de Sistemas de 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4648320"/>
            <a:ext cx="651528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presenta</a:t>
            </a:r>
            <a:endParaRPr b="0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2286000" y="6521400"/>
            <a:ext cx="4572000" cy="35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6600"/>
                </a:solidFill>
                <a:latin typeface="Times New Roman"/>
              </a:rPr>
              <a:t>Direitos reservados para QSU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atawarehousing: um termo genérico mais adequado que engloba as seguintes modalidades de DW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ata Warehouse;</a:t>
            </a: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ODS(Operational Data Stor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ata Mart;</a:t>
            </a: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ervidores OLAP(On-Line Analytical Processing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ata M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União de diversas tecnologias, das quais as mais relevantes sã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Banco de Dados Cliente/Servid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omputadores de alto desempenh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rocessamento Paralel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OLA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iscos Rígidos de Grande capac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nterface Gráfic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istemas Operacionais de Re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Data Min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2133720"/>
            <a:ext cx="9144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Os projetos de DW tem a  característica de quando bem sucedidos, apresentar um crescimento rápido. No entanto com os níveis de investimento exigidos por um Datawarehousing, decisões errôneas podem ser fatais à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.Fases Evolutivas do D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a década de 70 surgiram os primeiros sistemas de gerenciamento de banco de dados relacional</a:t>
            </a:r>
            <a:r>
              <a:rPr b="0" lang="pt-BR" sz="32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O termo Data Warehouse surgiu ainda na década de 70 como simples armazém de dados.</a:t>
            </a:r>
            <a:r>
              <a:rPr b="0" lang="pt-BR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Na década de 80, uma nova era deu-se na área de computação com o surgimento das linguagens de 4ª ger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05740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década de 90 surgiu o primeiro SGDB especializado para DW e possuía três requisitos principa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8862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permitia qualquer questão do negócio ser respondid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qualquer dado na empresa ser incluído na análi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presentava um desempenho razoá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egundo  Demarest, tecnologias DW necessitam ser avaliadas em cinco áreas crític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apacidade de armazena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arga e desempenho de indexaçã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Integridade operacion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onfiabilidade e capacidade  de gerencia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00"/>
                </a:solidFill>
                <a:latin typeface="Symbol"/>
                <a:ea typeface="Symbol"/>
              </a:rPr>
              <a:t>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       </a:t>
            </a:r>
            <a:r>
              <a:rPr b="0" lang="pt-BR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onectividade cliente/servidor e desempenho de processamento de qu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1523880"/>
            <a:ext cx="8458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Início da fase de maturaçã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çou a surgir à preocupação em definir metodologias para o desenvolvimento de sistemas DW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685800"/>
            <a:ext cx="914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3.A qualidade dos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2057400"/>
            <a:ext cx="7772400" cy="35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6600"/>
                </a:solidFill>
                <a:latin typeface="Times New Roman"/>
              </a:rPr>
              <a:t>Importante: estado de perfeiç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6600"/>
                </a:solidFill>
                <a:latin typeface="Times New Roman"/>
              </a:rPr>
              <a:t>Uma pesquisa para detectar os clientes que   adquiriram, diversas vezes o mesmo produto.  Não é possível realizar uma pesquisa eficaz se a  cada venda os dados, tanto do cliente como do  produto, foram armazenados de formas  diferentes</a:t>
            </a: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212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6600"/>
                </a:solidFill>
                <a:latin typeface="Times New Roman"/>
              </a:rPr>
              <a:t>Padrões  para se definir os elementos, a modelagem e as políticas de compartilhamento dos dados com os diferentes grupos dentro e fora da empresa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3352680"/>
            <a:ext cx="70102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64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6600"/>
                </a:solidFill>
                <a:latin typeface="Times New Roman"/>
              </a:rPr>
              <a:t>English, Hufford e Kimball: Limpeza dos dados - Este processo extrai os dados do BD fontes, transforma-os até deixá-los em um estado de boa qualidade e carrega-os no armazém de dado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3880" y="304920"/>
            <a:ext cx="67820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00"/>
                </a:solidFill>
                <a:latin typeface="Times New Roman"/>
              </a:rPr>
              <a:t>Kimball propõ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752480"/>
            <a:ext cx="914400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Elementarização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Padronização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Verificação da consistência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Emparelhamento;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Verificação doméstica 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126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Documentaçã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imes New Roman"/>
              </a:rPr>
              <a:t>ANA BIANCA NAMI ONISHI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imes New Roman"/>
              </a:rPr>
              <a:t>FERNANDA COSSA DO PRAD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imes New Roman"/>
              </a:rPr>
              <a:t>GLAUBER MARIANO FERREIRA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00"/>
                </a:solidFill>
                <a:latin typeface="Times New Roman"/>
              </a:rPr>
              <a:t>KELY TAMAZATO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990720"/>
            <a:ext cx="9144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6600"/>
                </a:solidFill>
                <a:latin typeface="Times New Roman"/>
              </a:rPr>
              <a:t>Metadados </a:t>
            </a:r>
            <a:br>
              <a:rPr sz="4400"/>
            </a:br>
            <a:r>
              <a:rPr b="0" lang="pt-BR" sz="4400" spc="-1" strike="noStrike">
                <a:solidFill>
                  <a:srgbClr val="006600"/>
                </a:solidFill>
                <a:latin typeface="Times New Roman"/>
              </a:rPr>
              <a:t>usados para controlar o uso, a integridade e o custo do DW. Ajuda os DBAs a povoarem e gerenciarem o DW, e os usuários a saber a origem dos dad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4.Perspectivas Futu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4382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conceito de DW pode ser aplicado em praticamente qualquer tipo e tamanho de organização. No entanto, as modalidades mais completas e robustas de DW serão adotadas pelas grandes corporações, onde a competitividade e o volume de negócios e informações justifiquem o porte desse tipo de solu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Novas Ferram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2952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om o objetivo de desenvolver ferramentas mais efetivas, os sistemas relacionais de banco de dados deverão receber melhorias de particionamento, indexação, processamento paralelo e processamento de queries, tai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3200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3124080"/>
            <a:ext cx="556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usca de dados paralel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lanço de carg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che Read-ahea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ckup e restore de alta veloc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rga em paralel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timização distribuí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rden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Desaf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66688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engenharia de sistemas para “run the business” precisará de informação para sugerir o melhor caminho a segui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brigatoriedade de manutenção dos sistem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usão de sistem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rnecer informação rápida e confiá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alise do negócio em todos os níveis da organ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26668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ção DW/We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dades no acess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ção virtualmente em tempo re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Áreas de Interes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5.Arquitetu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Arquitetura gené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img00004" descr=""/>
          <p:cNvPicPr/>
          <p:nvPr/>
        </p:nvPicPr>
        <p:blipFill>
          <a:blip r:embed="rId2"/>
          <a:stretch/>
        </p:blipFill>
        <p:spPr>
          <a:xfrm>
            <a:off x="299880" y="2263680"/>
            <a:ext cx="8518680" cy="424836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6710400" y="1514520"/>
            <a:ext cx="2362320" cy="1609560"/>
            <a:chOff x="6710400" y="1514520"/>
            <a:chExt cx="2362320" cy="1609560"/>
          </a:xfrm>
        </p:grpSpPr>
        <p:sp>
          <p:nvSpPr>
            <p:cNvPr id="124" name=""/>
            <p:cNvSpPr/>
            <p:nvPr/>
          </p:nvSpPr>
          <p:spPr>
            <a:xfrm>
              <a:off x="6710400" y="1514520"/>
              <a:ext cx="2362320" cy="50328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DADOS OPERACION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FONTES EXTER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7391160" y="2057400"/>
              <a:ext cx="533160" cy="10666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666880" y="1600200"/>
            <a:ext cx="3124440" cy="1276200"/>
            <a:chOff x="2666880" y="1600200"/>
            <a:chExt cx="3124440" cy="1276200"/>
          </a:xfrm>
        </p:grpSpPr>
        <p:sp>
          <p:nvSpPr>
            <p:cNvPr id="127" name=""/>
            <p:cNvSpPr/>
            <p:nvPr/>
          </p:nvSpPr>
          <p:spPr>
            <a:xfrm>
              <a:off x="3276720" y="1600200"/>
              <a:ext cx="2514600" cy="24300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ACESSO AOS 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666880" y="1885680"/>
              <a:ext cx="1905120" cy="99072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6320" y="1523880"/>
            <a:ext cx="2361960" cy="1143000"/>
            <a:chOff x="76320" y="1523880"/>
            <a:chExt cx="2361960" cy="1143000"/>
          </a:xfrm>
        </p:grpSpPr>
        <p:sp>
          <p:nvSpPr>
            <p:cNvPr id="130" name=""/>
            <p:cNvSpPr/>
            <p:nvPr/>
          </p:nvSpPr>
          <p:spPr>
            <a:xfrm>
              <a:off x="76320" y="1523880"/>
              <a:ext cx="2361960" cy="24300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ACESO A INFORMAÇ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66680" y="1828800"/>
              <a:ext cx="685800" cy="83808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6320" y="5749920"/>
            <a:ext cx="1904760" cy="243000"/>
            <a:chOff x="76320" y="5749920"/>
            <a:chExt cx="1904760" cy="243000"/>
          </a:xfrm>
        </p:grpSpPr>
        <p:sp>
          <p:nvSpPr>
            <p:cNvPr id="133" name=""/>
            <p:cNvSpPr/>
            <p:nvPr/>
          </p:nvSpPr>
          <p:spPr>
            <a:xfrm>
              <a:off x="76320" y="5749920"/>
              <a:ext cx="1371600" cy="24300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META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47920" y="5867280"/>
              <a:ext cx="53316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76320" y="6095880"/>
            <a:ext cx="2666880" cy="392040"/>
            <a:chOff x="76320" y="6095880"/>
            <a:chExt cx="2666880" cy="392040"/>
          </a:xfrm>
        </p:grpSpPr>
        <p:sp>
          <p:nvSpPr>
            <p:cNvPr id="136" name=""/>
            <p:cNvSpPr/>
            <p:nvPr/>
          </p:nvSpPr>
          <p:spPr>
            <a:xfrm>
              <a:off x="76320" y="6095880"/>
              <a:ext cx="2133360" cy="39204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GERENCIAMENTO DE PROCES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09680" y="6248520"/>
              <a:ext cx="533520" cy="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962520" y="1711440"/>
            <a:ext cx="1600200" cy="1184040"/>
            <a:chOff x="3962520" y="1711440"/>
            <a:chExt cx="1600200" cy="1184040"/>
          </a:xfrm>
        </p:grpSpPr>
        <p:sp>
          <p:nvSpPr>
            <p:cNvPr id="139" name=""/>
            <p:cNvSpPr/>
            <p:nvPr/>
          </p:nvSpPr>
          <p:spPr>
            <a:xfrm>
              <a:off x="3962520" y="1711440"/>
              <a:ext cx="1600200" cy="24300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TRANSP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1981080"/>
              <a:ext cx="0" cy="91440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666880" y="1863720"/>
            <a:ext cx="2209680" cy="1184040"/>
            <a:chOff x="2666880" y="1863720"/>
            <a:chExt cx="2209680" cy="1184040"/>
          </a:xfrm>
        </p:grpSpPr>
        <p:sp>
          <p:nvSpPr>
            <p:cNvPr id="142" name=""/>
            <p:cNvSpPr/>
            <p:nvPr/>
          </p:nvSpPr>
          <p:spPr>
            <a:xfrm>
              <a:off x="2666880" y="1863720"/>
              <a:ext cx="2209680" cy="24300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DATA WAREHOU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18800" y="2133360"/>
              <a:ext cx="0" cy="91440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276720" y="1600200"/>
            <a:ext cx="2971800" cy="1219320"/>
            <a:chOff x="3276720" y="1600200"/>
            <a:chExt cx="2971800" cy="1219320"/>
          </a:xfrm>
        </p:grpSpPr>
        <p:sp>
          <p:nvSpPr>
            <p:cNvPr id="145" name=""/>
            <p:cNvSpPr/>
            <p:nvPr/>
          </p:nvSpPr>
          <p:spPr>
            <a:xfrm>
              <a:off x="3276720" y="1600200"/>
              <a:ext cx="2514600" cy="243000"/>
            </a:xfrm>
            <a:prstGeom prst="rect">
              <a:avLst/>
            </a:prstGeom>
            <a:noFill/>
            <a:ln w="28440">
              <a:solidFill>
                <a:srgbClr val="99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50021"/>
                  </a:solidFill>
                  <a:latin typeface="Arial"/>
                </a:rPr>
                <a:t>EXTRAÇÃO DE D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0" y="1905120"/>
              <a:ext cx="1676520" cy="914400"/>
            </a:xfrm>
            <a:prstGeom prst="line">
              <a:avLst/>
            </a:prstGeom>
            <a:ln w="3816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71600" y="2286000"/>
            <a:ext cx="586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dw_cap11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7372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Arquitetura de 2 cam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arq_3camadas" descr=""/>
          <p:cNvPicPr/>
          <p:nvPr/>
        </p:nvPicPr>
        <p:blipFill>
          <a:blip r:embed="rId2"/>
          <a:stretch/>
        </p:blipFill>
        <p:spPr>
          <a:xfrm>
            <a:off x="533520" y="927000"/>
            <a:ext cx="8001000" cy="5931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Arquitetura de 3 cam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istemas Operacionais x D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57200" y="1371600"/>
          <a:ext cx="8229600" cy="527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71600"/>
                    <a:ext cx="822960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2590920"/>
            <a:ext cx="86868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Data Warehous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6.Conclus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5909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tecnologia de data warehouse mostra-se muito interessante para empresas que possuem grandes volumes de dados gerados e acumulados durante sua existência e necessitam recuperar estes dados de uma forma que eles possam auxiliar os administradores destas empresas a tomarem decisões estratégicas rapidamente e com seguranç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8240" y="219240"/>
            <a:ext cx="109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380880" y="92376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U, C.K. Performance of future database systems: bottlenecks and bonananz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YENNE. Cayenne Softwares announces increase support for Microsoft reposi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REST, M. A Data Warehouse Evolution Model. Oracle Technical Journal,(v1 n1 p29), October 19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DIN, S.Data marts becoming prefered approach.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HOFF, C. Ensuring data quality through data stewardhip. DM Review Magaz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UIZA, M. Tomada de decisão sustentada por DW. Laboratório de Banco de D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7.Referências Bibliográficas e Links Rela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32080" y="905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59092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84360" y="2352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609480"/>
            <a:ext cx="7086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ntrodu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A Evolução do conceito de DW</a:t>
            </a: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Fases Evolutivas do D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qualidade dos d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Perspectivas Futur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Arquitetu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Conclu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71600" y="1523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O que é um Data Warehou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666880"/>
            <a:ext cx="5105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 Warehous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mbiente especializado que filtra, integra, e disponibiliza informações gerencias a partir de sistemas operacionais e fontes exter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5867280" y="3048120"/>
            <a:ext cx="2667240" cy="2820600"/>
            <a:chOff x="5867280" y="3048120"/>
            <a:chExt cx="2667240" cy="2820600"/>
          </a:xfrm>
        </p:grpSpPr>
        <p:sp>
          <p:nvSpPr>
            <p:cNvPr id="58" name=""/>
            <p:cNvSpPr/>
            <p:nvPr/>
          </p:nvSpPr>
          <p:spPr>
            <a:xfrm>
              <a:off x="5867280" y="3048120"/>
              <a:ext cx="2667240" cy="2209680"/>
            </a:xfrm>
            <a:prstGeom prst="flowChartMagneticDisk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7680" y="5409000"/>
              <a:ext cx="23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ata Wareho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A Evolução do conceito de Data Wareh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437920"/>
            <a:ext cx="91440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Um DW é um banco de dados orientado a eventos, integrado, variante no tempo e não volátil voltado para aplicações de suporte à decisão de usuários especializados, o qual é derivado de diversos outros bancos de dados operacionais que podem estar implementados em arquiteturas e plataformas múltiplas na organiz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Objetivo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2514600"/>
            <a:ext cx="8321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erecer organização, gerenciamento e integração da base de dados, assim como ferramentas de exploração da mesma, para se obter vantagens competitivas no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aracterísticas principa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er baseado em banco de dados voltado para consultas complex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Conter informações históricas de qualquer época tais como resumos diários, semanais ou anua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Ser um depósito de informações não voláteis que são regularmente renovadas mas não atualizadas por usuári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ossuir ferramentas inteligentes de prospecção e análise de da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bandeira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ermitir identificação de relacionamentos desconheci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ossuir ferramentas de administração e gerencia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Reduzir o acesso aos sistemas transaciona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Permitir uma visão geral do negóci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acilitar as tendências do merca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ornecer informações para a SAD(Sistemas de Apoio à Decisã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imes New Roman"/>
              </a:rPr>
              <a:t>Características principais:</a:t>
            </a: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ireitos resevados para QSU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5:20:23Z</dcterms:created>
  <dc:creator>Ana Bianca Nami Onishi</dc:creator>
  <dc:description/>
  <dc:language>en-US</dc:language>
  <cp:lastModifiedBy>gmf</cp:lastModifiedBy>
  <dcterms:modified xsi:type="dcterms:W3CDTF">2002-07-06T16:54:33Z</dcterms:modified>
  <cp:revision>60</cp:revision>
  <dc:subject/>
  <dc:title>Data Warehouse</dc:title>
</cp:coreProperties>
</file>