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1"/>
          </p:nvPr>
        </p:nvSpPr>
        <p:spPr>
          <a:xfrm>
            <a:off x="1294920" y="6506640"/>
            <a:ext cx="5038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18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69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1294920" y="6506640"/>
            <a:ext cx="4318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1295280"/>
            <a:ext cx="7162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SISTEMA DE INFORMAÇÃ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NA WE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581280"/>
            <a:ext cx="6400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9966"/>
                </a:solidFill>
                <a:latin typeface="Tahoma"/>
              </a:rPr>
              <a:t>Marcelo José Costa Ma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9966"/>
                </a:solidFill>
                <a:latin typeface="Tahoma"/>
              </a:rPr>
              <a:t>Mauro Barbosa Vilela Jún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9966"/>
                </a:solidFill>
                <a:latin typeface="Tahoma"/>
              </a:rPr>
              <a:t>Pedro Mir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9966"/>
                </a:solidFill>
                <a:latin typeface="Tahoma"/>
              </a:rPr>
              <a:t>Wéliton Conceição de 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2666880"/>
            <a:ext cx="6477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3880" y="838080"/>
            <a:ext cx="6782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EXEMPLOS DE APLICAÇ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286000"/>
            <a:ext cx="73152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emplo de uma arquitetura do Cadastro Nacional de Competência em Ciência e Tecnologia (CNCT)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orme Tercero, o CNCT, é um SI sobre o perfil científico, tecnológico e industrial dos profissionais que atuam em Ciência e Tecnologia no Brasil. O objetivo deste sistema é coletar informações, sobre a produção científica e tecnológica no Brasil, que possam ser usadas no suporte à tomada de decisões de programas relacionados com ciência e tecnologia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NCT possui uma arquitetura do tipo cliente-servidor que utiliza 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rede básica de comunic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19320" y="8380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MBIENTE DE DESENVOLVIMENTO NA WE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0"/>
            <a:ext cx="73152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requisitos para o desenvolvimento de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s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iveram um crescimento nos últimos anos. Hoje, 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ou-se na interface preferida para a criação de novos tipos de aplicaçõ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itos dos problemas dos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s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ão têm nada a ver com o desenvolvimento, mas sim com a distribuição. É um desafio a criação de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s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, escalabilidade, estabilidade, e facilidade de manuten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das dificuldades é a falta de uma metodologia ideal de projeto de sistemas, que além de contemplar a idéia de hipertexto, especifica e documenta o projeto de maneira simples e conci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3880" y="838080"/>
            <a:ext cx="6782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CONSIDERAÇÕES FINA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286000"/>
            <a:ext cx="73152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erramentas hoje disponíveis, permitem que a informação esteja realmente distribuída, criam-se páginas n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bibliotecas virtuais em hipertextos, com apontadores ou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a informação desejada aonde quer que ela esteja n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modelagens de SI atuais não contemplam características inerentes à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nde a grande maioria faz uma adaptação para que o SI seja implementado sobre 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os, atividades e colaboração são conceitos intrínsecos a hiperdocumentos,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ware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flow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5410080" y="3962520"/>
            <a:ext cx="3504960" cy="2437920"/>
            <a:chOff x="5410080" y="3962520"/>
            <a:chExt cx="3504960" cy="2437920"/>
          </a:xfrm>
        </p:grpSpPr>
        <p:sp>
          <p:nvSpPr>
            <p:cNvPr id="153" name=""/>
            <p:cNvSpPr/>
            <p:nvPr/>
          </p:nvSpPr>
          <p:spPr>
            <a:xfrm>
              <a:off x="6869160" y="5192280"/>
              <a:ext cx="903600" cy="735840"/>
            </a:xfrm>
            <a:custGeom>
              <a:avLst/>
              <a:gdLst/>
              <a:ahLst/>
              <a:rect l="l" t="t" r="r" b="b"/>
              <a:pathLst>
                <a:path w="724" h="586">
                  <a:moveTo>
                    <a:pt x="0" y="354"/>
                  </a:moveTo>
                  <a:lnTo>
                    <a:pt x="19" y="332"/>
                  </a:lnTo>
                  <a:lnTo>
                    <a:pt x="40" y="308"/>
                  </a:lnTo>
                  <a:lnTo>
                    <a:pt x="64" y="285"/>
                  </a:lnTo>
                  <a:lnTo>
                    <a:pt x="91" y="259"/>
                  </a:lnTo>
                  <a:lnTo>
                    <a:pt x="118" y="236"/>
                  </a:lnTo>
                  <a:lnTo>
                    <a:pt x="144" y="216"/>
                  </a:lnTo>
                  <a:lnTo>
                    <a:pt x="168" y="198"/>
                  </a:lnTo>
                  <a:lnTo>
                    <a:pt x="207" y="172"/>
                  </a:lnTo>
                  <a:lnTo>
                    <a:pt x="241" y="150"/>
                  </a:lnTo>
                  <a:lnTo>
                    <a:pt x="280" y="128"/>
                  </a:lnTo>
                  <a:lnTo>
                    <a:pt x="326" y="103"/>
                  </a:lnTo>
                  <a:lnTo>
                    <a:pt x="375" y="80"/>
                  </a:lnTo>
                  <a:lnTo>
                    <a:pt x="419" y="62"/>
                  </a:lnTo>
                  <a:lnTo>
                    <a:pt x="471" y="45"/>
                  </a:lnTo>
                  <a:lnTo>
                    <a:pt x="524" y="28"/>
                  </a:lnTo>
                  <a:lnTo>
                    <a:pt x="576" y="16"/>
                  </a:lnTo>
                  <a:lnTo>
                    <a:pt x="655" y="0"/>
                  </a:lnTo>
                  <a:lnTo>
                    <a:pt x="723" y="231"/>
                  </a:lnTo>
                  <a:lnTo>
                    <a:pt x="677" y="240"/>
                  </a:lnTo>
                  <a:lnTo>
                    <a:pt x="614" y="254"/>
                  </a:lnTo>
                  <a:lnTo>
                    <a:pt x="559" y="270"/>
                  </a:lnTo>
                  <a:lnTo>
                    <a:pt x="502" y="288"/>
                  </a:lnTo>
                  <a:lnTo>
                    <a:pt x="457" y="305"/>
                  </a:lnTo>
                  <a:lnTo>
                    <a:pt x="414" y="324"/>
                  </a:lnTo>
                  <a:lnTo>
                    <a:pt x="377" y="341"/>
                  </a:lnTo>
                  <a:lnTo>
                    <a:pt x="339" y="362"/>
                  </a:lnTo>
                  <a:lnTo>
                    <a:pt x="306" y="382"/>
                  </a:lnTo>
                  <a:lnTo>
                    <a:pt x="270" y="404"/>
                  </a:lnTo>
                  <a:lnTo>
                    <a:pt x="239" y="426"/>
                  </a:lnTo>
                  <a:lnTo>
                    <a:pt x="213" y="446"/>
                  </a:lnTo>
                  <a:lnTo>
                    <a:pt x="189" y="465"/>
                  </a:lnTo>
                  <a:lnTo>
                    <a:pt x="163" y="488"/>
                  </a:lnTo>
                  <a:lnTo>
                    <a:pt x="142" y="508"/>
                  </a:lnTo>
                  <a:lnTo>
                    <a:pt x="119" y="528"/>
                  </a:lnTo>
                  <a:lnTo>
                    <a:pt x="101" y="547"/>
                  </a:lnTo>
                  <a:lnTo>
                    <a:pt x="87" y="563"/>
                  </a:lnTo>
                  <a:lnTo>
                    <a:pt x="68" y="585"/>
                  </a:lnTo>
                  <a:lnTo>
                    <a:pt x="0" y="354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044840" y="5022720"/>
              <a:ext cx="468000" cy="556200"/>
              <a:chOff x="7044840" y="5022720"/>
              <a:chExt cx="468000" cy="55620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7082640" y="5029920"/>
                <a:ext cx="378000" cy="52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7052760" y="5185800"/>
                <a:ext cx="460080" cy="1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60640" y="5022720"/>
                <a:ext cx="32400" cy="32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078680" y="5367960"/>
                <a:ext cx="4338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7044840" y="5182200"/>
                <a:ext cx="57240" cy="39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585840" y="4848840"/>
              <a:ext cx="1119600" cy="657000"/>
              <a:chOff x="6585840" y="4848840"/>
              <a:chExt cx="1119600" cy="65700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6611760" y="4848840"/>
                <a:ext cx="1074600" cy="657000"/>
              </a:xfrm>
              <a:prstGeom prst="line">
                <a:avLst/>
              </a:prstGeom>
              <a:ln w="507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585840" y="4860000"/>
                <a:ext cx="1119600" cy="63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569640" y="4521240"/>
              <a:ext cx="857160" cy="627840"/>
              <a:chOff x="6569640" y="4521240"/>
              <a:chExt cx="857160" cy="6278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6569640" y="4521240"/>
                <a:ext cx="857160" cy="627840"/>
                <a:chOff x="6569640" y="4521240"/>
                <a:chExt cx="857160" cy="627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569640" y="4521240"/>
                  <a:ext cx="677520" cy="627840"/>
                </a:xfrm>
                <a:custGeom>
                  <a:avLst/>
                  <a:gdLst/>
                  <a:ahLst/>
                  <a:rect l="l" t="t" r="r" b="b"/>
                  <a:pathLst>
                    <a:path w="543" h="500">
                      <a:moveTo>
                        <a:pt x="0" y="235"/>
                      </a:moveTo>
                      <a:lnTo>
                        <a:pt x="393" y="0"/>
                      </a:lnTo>
                      <a:lnTo>
                        <a:pt x="542" y="265"/>
                      </a:lnTo>
                      <a:lnTo>
                        <a:pt x="153" y="499"/>
                      </a:lnTo>
                      <a:lnTo>
                        <a:pt x="0" y="235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059960" y="4522320"/>
                  <a:ext cx="366840" cy="374040"/>
                </a:xfrm>
                <a:custGeom>
                  <a:avLst/>
                  <a:gdLst/>
                  <a:ahLst/>
                  <a:rect l="l" t="t" r="r" b="b"/>
                  <a:pathLst>
                    <a:path w="294" h="298">
                      <a:moveTo>
                        <a:pt x="0" y="0"/>
                      </a:moveTo>
                      <a:lnTo>
                        <a:pt x="215" y="155"/>
                      </a:lnTo>
                      <a:lnTo>
                        <a:pt x="293" y="297"/>
                      </a:lnTo>
                      <a:lnTo>
                        <a:pt x="149" y="264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761520" y="4853880"/>
                  <a:ext cx="661680" cy="294840"/>
                </a:xfrm>
                <a:custGeom>
                  <a:avLst/>
                  <a:gdLst/>
                  <a:ahLst/>
                  <a:rect l="l" t="t" r="r" b="b"/>
                  <a:pathLst>
                    <a:path w="530" h="235">
                      <a:moveTo>
                        <a:pt x="0" y="234"/>
                      </a:moveTo>
                      <a:lnTo>
                        <a:pt x="388" y="0"/>
                      </a:lnTo>
                      <a:lnTo>
                        <a:pt x="529" y="30"/>
                      </a:lnTo>
                      <a:lnTo>
                        <a:pt x="236" y="192"/>
                      </a:lnTo>
                      <a:lnTo>
                        <a:pt x="0" y="234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711840" y="4665600"/>
                <a:ext cx="356400" cy="271800"/>
                <a:chOff x="6711840" y="4665600"/>
                <a:chExt cx="356400" cy="2718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711840" y="4770720"/>
                  <a:ext cx="162000" cy="16668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6240" y="4665600"/>
                  <a:ext cx="162000" cy="16668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5410080" y="5109120"/>
              <a:ext cx="1423080" cy="1291320"/>
              <a:chOff x="5410080" y="5109120"/>
              <a:chExt cx="1423080" cy="1291320"/>
            </a:xfrm>
          </p:grpSpPr>
          <p:sp>
            <p:nvSpPr>
              <p:cNvPr id="172" name=""/>
              <p:cNvSpPr/>
              <p:nvPr/>
            </p:nvSpPr>
            <p:spPr>
              <a:xfrm>
                <a:off x="5410080" y="5109120"/>
                <a:ext cx="1423080" cy="1291320"/>
              </a:xfrm>
              <a:custGeom>
                <a:avLst/>
                <a:gdLst/>
                <a:ahLst/>
                <a:rect l="l" t="t" r="r" b="b"/>
                <a:pathLst>
                  <a:path w="1140" h="1028">
                    <a:moveTo>
                      <a:pt x="0" y="476"/>
                    </a:moveTo>
                    <a:lnTo>
                      <a:pt x="815" y="0"/>
                    </a:lnTo>
                    <a:lnTo>
                      <a:pt x="1139" y="550"/>
                    </a:lnTo>
                    <a:lnTo>
                      <a:pt x="324" y="1027"/>
                    </a:lnTo>
                    <a:lnTo>
                      <a:pt x="0" y="476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5505840" y="5221080"/>
                <a:ext cx="1226880" cy="1068480"/>
                <a:chOff x="5505840" y="5221080"/>
                <a:chExt cx="1226880" cy="106848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5591880" y="5221080"/>
                  <a:ext cx="1061640" cy="1068480"/>
                  <a:chOff x="5591880" y="5221080"/>
                  <a:chExt cx="1061640" cy="106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261840" y="5221080"/>
                    <a:ext cx="391680" cy="68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093360" y="5322600"/>
                    <a:ext cx="388080" cy="669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924880" y="5420520"/>
                    <a:ext cx="392040" cy="67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752440" y="5507280"/>
                    <a:ext cx="398160" cy="688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591880" y="5612760"/>
                    <a:ext cx="386640" cy="67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5505840" y="5252040"/>
                  <a:ext cx="1226880" cy="1002240"/>
                  <a:chOff x="5505840" y="5252040"/>
                  <a:chExt cx="1226880" cy="10022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V="1">
                    <a:off x="5505840" y="5252040"/>
                    <a:ext cx="995040" cy="59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V="1">
                    <a:off x="5587920" y="5383800"/>
                    <a:ext cx="983520" cy="598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V="1">
                    <a:off x="5663160" y="5519520"/>
                    <a:ext cx="994680" cy="60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5741640" y="5655240"/>
                    <a:ext cx="991080" cy="59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5" name=""/>
            <p:cNvGrpSpPr/>
            <p:nvPr/>
          </p:nvGrpSpPr>
          <p:grpSpPr>
            <a:xfrm>
              <a:off x="7491960" y="3962520"/>
              <a:ext cx="1423080" cy="1291320"/>
              <a:chOff x="7491960" y="3962520"/>
              <a:chExt cx="1423080" cy="1291320"/>
            </a:xfrm>
          </p:grpSpPr>
          <p:sp>
            <p:nvSpPr>
              <p:cNvPr id="186" name=""/>
              <p:cNvSpPr/>
              <p:nvPr/>
            </p:nvSpPr>
            <p:spPr>
              <a:xfrm>
                <a:off x="7491960" y="3962520"/>
                <a:ext cx="1423080" cy="1291320"/>
              </a:xfrm>
              <a:custGeom>
                <a:avLst/>
                <a:gdLst/>
                <a:ahLst/>
                <a:rect l="l" t="t" r="r" b="b"/>
                <a:pathLst>
                  <a:path w="1140" h="1028">
                    <a:moveTo>
                      <a:pt x="0" y="477"/>
                    </a:moveTo>
                    <a:lnTo>
                      <a:pt x="815" y="0"/>
                    </a:lnTo>
                    <a:lnTo>
                      <a:pt x="1139" y="551"/>
                    </a:lnTo>
                    <a:lnTo>
                      <a:pt x="324" y="1027"/>
                    </a:lnTo>
                    <a:lnTo>
                      <a:pt x="0" y="477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7588080" y="4075560"/>
                <a:ext cx="1226880" cy="1068480"/>
                <a:chOff x="7588080" y="4075560"/>
                <a:chExt cx="1226880" cy="106848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7674120" y="4075560"/>
                  <a:ext cx="1062000" cy="1068480"/>
                  <a:chOff x="7674120" y="4075560"/>
                  <a:chExt cx="1062000" cy="10684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8345520" y="4075560"/>
                    <a:ext cx="390600" cy="680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177040" y="4177080"/>
                    <a:ext cx="386640" cy="66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07120" y="4275000"/>
                    <a:ext cx="392040" cy="67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835040" y="4361760"/>
                    <a:ext cx="399240" cy="688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74120" y="4467240"/>
                    <a:ext cx="388080" cy="67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588080" y="4106520"/>
                  <a:ext cx="1226880" cy="1001880"/>
                  <a:chOff x="7588080" y="4106520"/>
                  <a:chExt cx="1226880" cy="1001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V="1">
                    <a:off x="7588080" y="4106520"/>
                    <a:ext cx="994680" cy="59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7670160" y="4238640"/>
                    <a:ext cx="983520" cy="59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V="1">
                    <a:off x="7745040" y="4374360"/>
                    <a:ext cx="995040" cy="60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7823880" y="4509720"/>
                    <a:ext cx="991080" cy="598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9" name=""/>
            <p:cNvSpPr/>
            <p:nvPr/>
          </p:nvSpPr>
          <p:spPr>
            <a:xfrm>
              <a:off x="6876720" y="4949640"/>
              <a:ext cx="327240" cy="582840"/>
            </a:xfrm>
            <a:custGeom>
              <a:avLst/>
              <a:gdLst/>
              <a:ahLst/>
              <a:rect l="l" t="t" r="r" b="b"/>
              <a:pathLst>
                <a:path w="262" h="464">
                  <a:moveTo>
                    <a:pt x="91" y="0"/>
                  </a:moveTo>
                  <a:lnTo>
                    <a:pt x="261" y="0"/>
                  </a:lnTo>
                  <a:lnTo>
                    <a:pt x="227" y="66"/>
                  </a:lnTo>
                  <a:lnTo>
                    <a:pt x="208" y="126"/>
                  </a:lnTo>
                  <a:lnTo>
                    <a:pt x="191" y="200"/>
                  </a:lnTo>
                  <a:lnTo>
                    <a:pt x="185" y="248"/>
                  </a:lnTo>
                  <a:lnTo>
                    <a:pt x="184" y="310"/>
                  </a:lnTo>
                  <a:lnTo>
                    <a:pt x="185" y="348"/>
                  </a:lnTo>
                  <a:lnTo>
                    <a:pt x="188" y="391"/>
                  </a:lnTo>
                  <a:lnTo>
                    <a:pt x="193" y="424"/>
                  </a:lnTo>
                  <a:lnTo>
                    <a:pt x="201" y="462"/>
                  </a:lnTo>
                  <a:lnTo>
                    <a:pt x="14" y="463"/>
                  </a:lnTo>
                  <a:lnTo>
                    <a:pt x="9" y="433"/>
                  </a:lnTo>
                  <a:lnTo>
                    <a:pt x="2" y="397"/>
                  </a:lnTo>
                  <a:lnTo>
                    <a:pt x="1" y="359"/>
                  </a:lnTo>
                  <a:lnTo>
                    <a:pt x="0" y="320"/>
                  </a:lnTo>
                  <a:lnTo>
                    <a:pt x="2" y="285"/>
                  </a:lnTo>
                  <a:lnTo>
                    <a:pt x="4" y="255"/>
                  </a:lnTo>
                  <a:lnTo>
                    <a:pt x="8" y="219"/>
                  </a:lnTo>
                  <a:lnTo>
                    <a:pt x="16" y="184"/>
                  </a:lnTo>
                  <a:lnTo>
                    <a:pt x="25" y="148"/>
                  </a:lnTo>
                  <a:lnTo>
                    <a:pt x="39" y="103"/>
                  </a:lnTo>
                  <a:lnTo>
                    <a:pt x="55" y="69"/>
                  </a:lnTo>
                  <a:lnTo>
                    <a:pt x="72" y="31"/>
                  </a:lnTo>
                  <a:lnTo>
                    <a:pt x="91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1360" y="4736520"/>
              <a:ext cx="550440" cy="583920"/>
            </a:xfrm>
            <a:custGeom>
              <a:avLst/>
              <a:gdLst/>
              <a:ahLst/>
              <a:rect l="l" t="t" r="r" b="b"/>
              <a:pathLst>
                <a:path w="441" h="465">
                  <a:moveTo>
                    <a:pt x="0" y="411"/>
                  </a:moveTo>
                  <a:lnTo>
                    <a:pt x="8" y="378"/>
                  </a:lnTo>
                  <a:lnTo>
                    <a:pt x="23" y="331"/>
                  </a:lnTo>
                  <a:lnTo>
                    <a:pt x="39" y="290"/>
                  </a:lnTo>
                  <a:lnTo>
                    <a:pt x="60" y="244"/>
                  </a:lnTo>
                  <a:lnTo>
                    <a:pt x="83" y="205"/>
                  </a:lnTo>
                  <a:lnTo>
                    <a:pt x="107" y="169"/>
                  </a:lnTo>
                  <a:lnTo>
                    <a:pt x="130" y="137"/>
                  </a:lnTo>
                  <a:lnTo>
                    <a:pt x="164" y="102"/>
                  </a:lnTo>
                  <a:lnTo>
                    <a:pt x="186" y="81"/>
                  </a:lnTo>
                  <a:lnTo>
                    <a:pt x="206" y="63"/>
                  </a:lnTo>
                  <a:lnTo>
                    <a:pt x="244" y="34"/>
                  </a:lnTo>
                  <a:lnTo>
                    <a:pt x="271" y="15"/>
                  </a:lnTo>
                  <a:lnTo>
                    <a:pt x="297" y="0"/>
                  </a:lnTo>
                  <a:lnTo>
                    <a:pt x="440" y="53"/>
                  </a:lnTo>
                  <a:lnTo>
                    <a:pt x="397" y="81"/>
                  </a:lnTo>
                  <a:lnTo>
                    <a:pt x="368" y="102"/>
                  </a:lnTo>
                  <a:lnTo>
                    <a:pt x="338" y="125"/>
                  </a:lnTo>
                  <a:lnTo>
                    <a:pt x="313" y="150"/>
                  </a:lnTo>
                  <a:lnTo>
                    <a:pt x="290" y="172"/>
                  </a:lnTo>
                  <a:lnTo>
                    <a:pt x="271" y="197"/>
                  </a:lnTo>
                  <a:lnTo>
                    <a:pt x="248" y="229"/>
                  </a:lnTo>
                  <a:lnTo>
                    <a:pt x="227" y="260"/>
                  </a:lnTo>
                  <a:lnTo>
                    <a:pt x="210" y="288"/>
                  </a:lnTo>
                  <a:lnTo>
                    <a:pt x="191" y="327"/>
                  </a:lnTo>
                  <a:lnTo>
                    <a:pt x="173" y="365"/>
                  </a:lnTo>
                  <a:lnTo>
                    <a:pt x="162" y="394"/>
                  </a:lnTo>
                  <a:lnTo>
                    <a:pt x="150" y="430"/>
                  </a:lnTo>
                  <a:lnTo>
                    <a:pt x="144" y="464"/>
                  </a:lnTo>
                  <a:lnTo>
                    <a:pt x="0" y="411"/>
                  </a:lnTo>
                </a:path>
              </a:pathLst>
            </a:custGeom>
            <a:gradFill rotWithShape="0">
              <a:gsLst>
                <a:gs pos="0">
                  <a:srgbClr val="383838"/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838080" y="33148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UNICAÇÃO DE INFORMAÇÕES POR MEIOS ELETRÔNICOS SOBRE QUALQUER DISTÂ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523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447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2743200"/>
            <a:ext cx="73152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AIS DE COMUNICAÇÕES: Fibra Ótica, Microondas, Satélite, ADSL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ADORES: Modems, Multiplexador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S DE COMUNICAÇÕES: Serviços, Protocolo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4860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OS PELOS QUAIS OS DADOS SÃO TRANSMITI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BO DE FIBRA Ó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ON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SATÉL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09520" y="3638520"/>
            <a:ext cx="8140680" cy="673200"/>
            <a:chOff x="209520" y="3638520"/>
            <a:chExt cx="8140680" cy="673200"/>
          </a:xfrm>
        </p:grpSpPr>
        <p:sp>
          <p:nvSpPr>
            <p:cNvPr id="210" name=""/>
            <p:cNvSpPr/>
            <p:nvPr/>
          </p:nvSpPr>
          <p:spPr>
            <a:xfrm>
              <a:off x="1307880" y="3936960"/>
              <a:ext cx="60199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9520" y="3638520"/>
              <a:ext cx="1130040" cy="6732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I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1120" y="3638520"/>
              <a:ext cx="1130040" cy="6732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S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81320" y="3638520"/>
              <a:ext cx="1892160" cy="6732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B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43280" y="3638520"/>
              <a:ext cx="1435320" cy="6732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T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19800" y="3638520"/>
              <a:ext cx="1130400" cy="6732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I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080" y="971640"/>
            <a:ext cx="8953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92120" y="1859400"/>
            <a:ext cx="81756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92120" y="5901480"/>
            <a:ext cx="81756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92120" y="6568200"/>
            <a:ext cx="81756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88160" y="1863720"/>
            <a:ext cx="324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66280" y="1863720"/>
            <a:ext cx="28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160" y="2217600"/>
            <a:ext cx="3240" cy="29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66280" y="2217600"/>
            <a:ext cx="2880" cy="29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88160" y="5264280"/>
            <a:ext cx="3240" cy="12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666280" y="5264280"/>
            <a:ext cx="2880" cy="12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5040" y="1828800"/>
            <a:ext cx="8289000" cy="4420080"/>
            <a:chOff x="455040" y="1828800"/>
            <a:chExt cx="8289000" cy="4420080"/>
          </a:xfrm>
        </p:grpSpPr>
        <p:sp>
          <p:nvSpPr>
            <p:cNvPr id="228" name=""/>
            <p:cNvSpPr/>
            <p:nvPr/>
          </p:nvSpPr>
          <p:spPr>
            <a:xfrm>
              <a:off x="498600" y="1863720"/>
              <a:ext cx="817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2120" y="2266920"/>
              <a:ext cx="817560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2120" y="5211720"/>
              <a:ext cx="817560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1200" y="5734080"/>
              <a:ext cx="81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92120" y="6234840"/>
              <a:ext cx="817560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8600" y="6248520"/>
              <a:ext cx="817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828800"/>
              <a:ext cx="12038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EIO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16440" y="1828800"/>
              <a:ext cx="2100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VELOCIDADE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76960" y="1828800"/>
              <a:ext cx="13212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6699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BANDA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23640" y="2187720"/>
              <a:ext cx="10929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BAIXA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2120" y="1870200"/>
              <a:ext cx="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52800" y="1881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948840" y="1863720"/>
              <a:ext cx="3240" cy="31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13680" y="1881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09720" y="1863720"/>
              <a:ext cx="3240" cy="31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69160" y="1870200"/>
              <a:ext cx="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040" y="2290680"/>
              <a:ext cx="22950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ICROONDA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13560" y="2236680"/>
              <a:ext cx="33206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256 KBPS - 100 MBP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480" y="3081240"/>
              <a:ext cx="16747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ATELITE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13560" y="3029040"/>
              <a:ext cx="33206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256 KBPS - 100 MBP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5040" y="3852720"/>
              <a:ext cx="24415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ABO</a:t>
              </a:r>
              <a:r>
                <a:rPr b="1" lang="en-US" sz="2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OAXIAL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13920" y="3800520"/>
              <a:ext cx="31575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56 KBPS - 200 MBP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040" y="4727520"/>
              <a:ext cx="21474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IBRA ÓTICA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14280" y="4673520"/>
              <a:ext cx="31730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500 KBPS - 6.4 TBP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96640" y="4673520"/>
              <a:ext cx="9615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TA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2120" y="2222640"/>
              <a:ext cx="0" cy="29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13680" y="2222640"/>
              <a:ext cx="0" cy="29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209720" y="2217600"/>
              <a:ext cx="3240" cy="29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69160" y="2222640"/>
              <a:ext cx="0" cy="29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4440" y="5276880"/>
              <a:ext cx="8229600" cy="9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e9b03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BPS: KILOBITS PS,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BPS: MEGABITS PS,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GBPS: GIGABITS PS, 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TBPS: TERABITS P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120" y="5268960"/>
              <a:ext cx="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0" y="2222640"/>
              <a:ext cx="0" cy="29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948840" y="2217600"/>
              <a:ext cx="3240" cy="29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69160" y="5268960"/>
              <a:ext cx="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7720" y="1851120"/>
              <a:ext cx="81964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7720" y="1876320"/>
              <a:ext cx="17640" cy="431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56560" y="1876320"/>
              <a:ext cx="17640" cy="431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95680" y="5238720"/>
              <a:ext cx="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14760" y="5257800"/>
              <a:ext cx="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160" y="2743200"/>
            <a:ext cx="4487400" cy="3416400"/>
            <a:chOff x="38160" y="2743200"/>
            <a:chExt cx="4487400" cy="3416400"/>
          </a:xfrm>
        </p:grpSpPr>
        <p:sp>
          <p:nvSpPr>
            <p:cNvPr id="270" name=""/>
            <p:cNvSpPr/>
            <p:nvPr/>
          </p:nvSpPr>
          <p:spPr>
            <a:xfrm>
              <a:off x="2279520" y="2990880"/>
              <a:ext cx="0" cy="2616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47600" y="4451400"/>
              <a:ext cx="2615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8000" y="4076640"/>
              <a:ext cx="1282320" cy="82548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09640" y="4300560"/>
              <a:ext cx="121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O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38000" y="5334120"/>
              <a:ext cx="1282320" cy="82548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09640" y="5557680"/>
              <a:ext cx="121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38000" y="2743200"/>
              <a:ext cx="1282320" cy="82548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09640" y="2967120"/>
              <a:ext cx="121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0" y="4076640"/>
              <a:ext cx="1282320" cy="82548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9440" y="4300560"/>
              <a:ext cx="121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8200" y="4076640"/>
              <a:ext cx="1282320" cy="82548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09840" y="4300560"/>
              <a:ext cx="121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286160" y="2895480"/>
            <a:ext cx="4842720" cy="3246120"/>
            <a:chOff x="4286160" y="2895480"/>
            <a:chExt cx="4842720" cy="3246120"/>
          </a:xfrm>
        </p:grpSpPr>
        <p:sp>
          <p:nvSpPr>
            <p:cNvPr id="283" name=""/>
            <p:cNvSpPr/>
            <p:nvPr/>
          </p:nvSpPr>
          <p:spPr>
            <a:xfrm>
              <a:off x="4876920" y="4554720"/>
              <a:ext cx="3668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286160" y="2895480"/>
              <a:ext cx="4842720" cy="3246120"/>
              <a:chOff x="4286160" y="2895480"/>
              <a:chExt cx="4842720" cy="324612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6095880" y="2895480"/>
                <a:ext cx="1223280" cy="3246120"/>
                <a:chOff x="6095880" y="2895480"/>
                <a:chExt cx="1223280" cy="3246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705000" y="3130560"/>
                  <a:ext cx="0" cy="2485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6095880" y="5357520"/>
                  <a:ext cx="1223280" cy="784080"/>
                  <a:chOff x="6095880" y="5357520"/>
                  <a:chExt cx="1223280" cy="78408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6095880" y="5357520"/>
                    <a:ext cx="1218240" cy="784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lin ang="135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63920" y="5569920"/>
                    <a:ext cx="115524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Arial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USER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" name=""/>
                <p:cNvSpPr/>
                <p:nvPr/>
              </p:nvSpPr>
              <p:spPr>
                <a:xfrm>
                  <a:off x="6095880" y="2895480"/>
                  <a:ext cx="1218240" cy="784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8ffd"/>
                    </a:gs>
                    <a:gs pos="100000">
                      <a:srgbClr val="1c2a4b"/>
                    </a:gs>
                  </a:gsLst>
                  <a:lin ang="135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163920" y="3108240"/>
                  <a:ext cx="11552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U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7906320" y="2895480"/>
                <a:ext cx="1222560" cy="3246120"/>
                <a:chOff x="7906320" y="2895480"/>
                <a:chExt cx="1222560" cy="32461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8515440" y="3130560"/>
                  <a:ext cx="0" cy="2485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7906320" y="5357520"/>
                  <a:ext cx="1222560" cy="784080"/>
                  <a:chOff x="7906320" y="5357520"/>
                  <a:chExt cx="1222560" cy="78408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7906320" y="5357520"/>
                    <a:ext cx="1218240" cy="784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lin ang="135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7974000" y="5569920"/>
                    <a:ext cx="115488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Arial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USER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" name=""/>
                <p:cNvSpPr/>
                <p:nvPr/>
              </p:nvSpPr>
              <p:spPr>
                <a:xfrm>
                  <a:off x="7906320" y="2895480"/>
                  <a:ext cx="1218240" cy="784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8ffd"/>
                    </a:gs>
                    <a:gs pos="100000">
                      <a:srgbClr val="1c2a4b"/>
                    </a:gs>
                  </a:gsLst>
                  <a:lin ang="135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974000" y="3108240"/>
                  <a:ext cx="11548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U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286160" y="2895480"/>
                <a:ext cx="1222560" cy="3246120"/>
                <a:chOff x="4286160" y="2895480"/>
                <a:chExt cx="1222560" cy="3246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894920" y="3130560"/>
                  <a:ext cx="0" cy="2485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4286160" y="5357520"/>
                  <a:ext cx="1222560" cy="784080"/>
                  <a:chOff x="4286160" y="5357520"/>
                  <a:chExt cx="1222560" cy="78408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4286160" y="5357520"/>
                    <a:ext cx="1218240" cy="784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lin ang="135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353840" y="5569920"/>
                    <a:ext cx="115488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Arial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USER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4286160" y="2895480"/>
                  <a:ext cx="1218240" cy="784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8ffd"/>
                    </a:gs>
                    <a:gs pos="100000">
                      <a:srgbClr val="1c2a4b"/>
                    </a:gs>
                  </a:gsLst>
                  <a:lin ang="135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353840" y="3108240"/>
                  <a:ext cx="11548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U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6" name=""/>
          <p:cNvSpPr/>
          <p:nvPr/>
        </p:nvSpPr>
        <p:spPr>
          <a:xfrm>
            <a:off x="1371600" y="2171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STR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2190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LIN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286000" y="2971800"/>
            <a:ext cx="4486680" cy="3416400"/>
            <a:chOff x="2286000" y="2971800"/>
            <a:chExt cx="4486680" cy="3416400"/>
          </a:xfrm>
        </p:grpSpPr>
        <p:sp>
          <p:nvSpPr>
            <p:cNvPr id="311" name=""/>
            <p:cNvSpPr/>
            <p:nvPr/>
          </p:nvSpPr>
          <p:spPr>
            <a:xfrm flipV="1">
              <a:off x="4527360" y="3625560"/>
              <a:ext cx="0" cy="431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527360" y="5302080"/>
              <a:ext cx="0" cy="432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149080" y="4680000"/>
              <a:ext cx="431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473280" y="4680000"/>
              <a:ext cx="43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286000" y="2971800"/>
              <a:ext cx="4486680" cy="3416400"/>
              <a:chOff x="2286000" y="2971800"/>
              <a:chExt cx="4486680" cy="3416400"/>
            </a:xfrm>
          </p:grpSpPr>
          <p:sp>
            <p:nvSpPr>
              <p:cNvPr id="316" name=""/>
              <p:cNvSpPr/>
              <p:nvPr/>
            </p:nvSpPr>
            <p:spPr>
              <a:xfrm>
                <a:off x="3904920" y="4057560"/>
                <a:ext cx="1244160" cy="124452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286000" y="2971800"/>
                <a:ext cx="4486680" cy="3416400"/>
                <a:chOff x="2286000" y="2971800"/>
                <a:chExt cx="4486680" cy="341640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2286000" y="4305240"/>
                  <a:ext cx="2887200" cy="2082960"/>
                  <a:chOff x="2286000" y="4305240"/>
                  <a:chExt cx="2887200" cy="2082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3885840" y="5562720"/>
                    <a:ext cx="1282320" cy="825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lin ang="135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957480" y="5786280"/>
                    <a:ext cx="121572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Arial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USER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286000" y="4305240"/>
                    <a:ext cx="1287000" cy="825480"/>
                    <a:chOff x="2286000" y="4305240"/>
                    <a:chExt cx="1287000" cy="82548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286000" y="4305240"/>
                      <a:ext cx="1282320" cy="825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18ffd"/>
                        </a:gs>
                        <a:gs pos="100000">
                          <a:srgbClr val="1c2a4b"/>
                        </a:gs>
                      </a:gsLst>
                      <a:lin ang="135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2357280" y="4529160"/>
                      <a:ext cx="1215720" cy="45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3885840" y="2971800"/>
                  <a:ext cx="2886840" cy="2158920"/>
                  <a:chOff x="3885840" y="2971800"/>
                  <a:chExt cx="2886840" cy="215892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3885840" y="2971800"/>
                    <a:ext cx="1282320" cy="825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lin ang="135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957120" y="3195720"/>
                    <a:ext cx="1215720" cy="45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Arial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USER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485680" y="4305240"/>
                    <a:ext cx="1287000" cy="825480"/>
                    <a:chOff x="5485680" y="4305240"/>
                    <a:chExt cx="1287000" cy="8254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5485680" y="4305240"/>
                      <a:ext cx="1282320" cy="825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18ffd"/>
                        </a:gs>
                        <a:gs pos="100000">
                          <a:srgbClr val="1c2a4b"/>
                        </a:gs>
                      </a:gsLst>
                      <a:lin ang="135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5556960" y="4529160"/>
                      <a:ext cx="1215720" cy="45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0" name=""/>
          <p:cNvSpPr/>
          <p:nvPr/>
        </p:nvSpPr>
        <p:spPr>
          <a:xfrm>
            <a:off x="3581280" y="2190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28520" y="2629080"/>
            <a:ext cx="80010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CNOLOGIAS DE TRANSMISSÃO SEM F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ERS: Recebe mensagens cur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EFONE CELULAR: Usam ondas de rádio para receber cha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E DE DADOS MÓVEIS: Rede de dados baseadas em Laptops, Protocolo: 802.11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895320"/>
            <a:ext cx="7086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SINOPS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6438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RODUÇÃO &amp; CONCEITA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plicada por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edro Mira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Wéliton Conceição de 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LECOMUNICAÇÕ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plicada por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arcelo José C. Ma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ÉRCIO ELETRÔ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plicada por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auro B. Vilela Jún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IBLIOGRAF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5536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400480"/>
            <a:ext cx="781056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cc"/>
                </a:solidFill>
                <a:latin typeface="Tahoma"/>
              </a:rPr>
              <a:t>LOCAL AREA NETWORK (L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ATEWAY: Conexão com outras redes. (MAN e/ou WA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OTEADORES: Transmissão de dados com outras re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cc"/>
                </a:solidFill>
                <a:latin typeface="Tahoma"/>
              </a:rPr>
              <a:t>WIDE AREA NETWORK (W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edes distribuídas em Largas Distânci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Utiliza Satélites, Cabos e/ou Microon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4860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232416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cc"/>
                </a:solidFill>
                <a:latin typeface="Tahoma"/>
              </a:rPr>
              <a:t>PROTOCO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GRAS &amp; FUNÇÕES PARA GERENCIAR A TRANSMISSÃO DE DADOS ENTRE OS COMPONENTES DENTRO DE UMA RE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133344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TELECOMUNICAÇÕES &amp; RED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255276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X.25 (PACKET SWITCHING)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VPN’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FRAME RELA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TM: Modo de Transferência Assíncron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SDN: Serviço Integrado de Redes Digitais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Transmissão de Voz, Vídeo e D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SL:L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nha de Assinante Digital Assimétric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BLE MODEM: Modem por cabo de TV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1 Line: Conexão por Telefone Dedicado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2590920" y="21337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cc"/>
                </a:solidFill>
                <a:latin typeface="Tahoma"/>
              </a:rPr>
              <a:t>SERVIÇO DE RE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COMERCIO ELETRÔN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5536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484280"/>
            <a:ext cx="838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nceito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-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ansações comerciais utilizando meios eletrônicos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2924280"/>
            <a:ext cx="8461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aracterística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-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a área da internet muito promissora.</a:t>
            </a:r>
            <a:br>
              <a:rPr sz="2800"/>
            </a:br>
            <a:br>
              <a:rPr sz="700"/>
            </a:br>
            <a:br>
              <a:rPr sz="500"/>
            </a:br>
            <a:r>
              <a:rPr b="0" lang="pt-BR" sz="5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Grande dificuldade no desenvolvimento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stabilidade de Acesso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idade das Informações.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COMERCIO ELETRÔN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682560" y="1628640"/>
            <a:ext cx="77058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antagen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-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ação do cliente com a empresa.</a:t>
            </a:r>
            <a:br>
              <a:rPr sz="2800"/>
            </a:br>
            <a:br>
              <a:rPr sz="700"/>
            </a:br>
            <a:br>
              <a:rPr sz="500"/>
            </a:br>
            <a:r>
              <a:rPr b="0" lang="pt-BR" sz="5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Agrupa todos os processos comerciais.</a:t>
            </a:r>
            <a:br>
              <a:rPr sz="2800"/>
            </a:br>
            <a:br>
              <a:rPr sz="700"/>
            </a:br>
            <a:br>
              <a:rPr sz="500"/>
            </a:br>
            <a:r>
              <a:rPr b="0" lang="pt-BR" sz="5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Ampliação do mercado consumidor.</a:t>
            </a:r>
            <a:br>
              <a:rPr sz="2800"/>
            </a:br>
            <a:br>
              <a:rPr sz="700"/>
            </a:br>
            <a:br>
              <a:rPr sz="500"/>
            </a:br>
            <a:r>
              <a:rPr b="0" lang="pt-BR" sz="5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Agiliza transações comerciais.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800"/>
            </a:br>
            <a:br>
              <a:rPr sz="700"/>
            </a:br>
            <a:br>
              <a:rPr sz="500"/>
            </a:br>
            <a:r>
              <a:rPr b="0" lang="pt-BR" sz="5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Criação de novos serviços.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3357720"/>
            <a:ext cx="1295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gó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87280" y="3357720"/>
            <a:ext cx="360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2997360"/>
            <a:ext cx="223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cn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71640" y="343044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27280" y="3284640"/>
            <a:ext cx="223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goc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letrô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15800">
            <a:off x="4458960" y="387144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48360" y="3789360"/>
            <a:ext cx="223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érc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letrô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08720" y="4149720"/>
            <a:ext cx="223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érc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384200">
            <a:off x="7020000" y="458100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9216800">
            <a:off x="4427640" y="314172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8699600">
            <a:off x="6802920" y="3645360"/>
            <a:ext cx="1008000" cy="142560"/>
          </a:xfrm>
          <a:prstGeom prst="rightArrow">
            <a:avLst>
              <a:gd name="adj1" fmla="val 50000"/>
              <a:gd name="adj2" fmla="val 176768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92720" y="3429000"/>
            <a:ext cx="71280" cy="7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92720" y="3643200"/>
            <a:ext cx="71280" cy="7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92720" y="3211560"/>
            <a:ext cx="71280" cy="7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69080" y="3787920"/>
            <a:ext cx="71640" cy="72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67640" y="4005360"/>
            <a:ext cx="71280" cy="7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69080" y="3500280"/>
            <a:ext cx="71640" cy="7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COMERCIO E NEGÓCIO ELETRÔN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1441440" cy="884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1050840" cy="1295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6804000" y="3068640"/>
            <a:ext cx="1224000" cy="12175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211640" y="4653000"/>
            <a:ext cx="1200240" cy="12254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971640" y="42926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dustria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Produ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80000" y="2421000"/>
            <a:ext cx="194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stribu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16720" y="4292640"/>
            <a:ext cx="158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ér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51280" y="595008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798200">
            <a:off x="2198520" y="2193480"/>
            <a:ext cx="1422720" cy="265320"/>
          </a:xfrm>
          <a:custGeom>
            <a:avLst/>
            <a:gdLst>
              <a:gd name="textAreaLeft" fmla="*/ 222120 w 1422720"/>
              <a:gd name="textAreaRight" fmla="*/ 1244880 w 1422720"/>
              <a:gd name="textAreaTop" fmla="*/ 66240 h 265320"/>
              <a:gd name="textAreaBottom" fmla="*/ 199080 h 265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2726400">
            <a:off x="5723640" y="2493000"/>
            <a:ext cx="1422360" cy="264960"/>
          </a:xfrm>
          <a:custGeom>
            <a:avLst/>
            <a:gdLst>
              <a:gd name="textAreaLeft" fmla="*/ 222120 w 1422360"/>
              <a:gd name="textAreaRight" fmla="*/ 1244880 w 1422360"/>
              <a:gd name="textAreaTop" fmla="*/ 66240 h 264960"/>
              <a:gd name="textAreaBottom" fmla="*/ 198720 h 264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8545200">
            <a:off x="5435280" y="5084280"/>
            <a:ext cx="1422360" cy="265320"/>
          </a:xfrm>
          <a:custGeom>
            <a:avLst/>
            <a:gdLst>
              <a:gd name="textAreaLeft" fmla="*/ 222120 w 1422360"/>
              <a:gd name="textAreaRight" fmla="*/ 1244880 w 1422360"/>
              <a:gd name="textAreaTop" fmla="*/ 66240 h 265320"/>
              <a:gd name="textAreaBottom" fmla="*/ 199080 h 265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2219000">
            <a:off x="2339640" y="5229000"/>
            <a:ext cx="1422360" cy="264960"/>
          </a:xfrm>
          <a:custGeom>
            <a:avLst/>
            <a:gdLst>
              <a:gd name="textAreaLeft" fmla="*/ 222120 w 1422360"/>
              <a:gd name="textAreaRight" fmla="*/ 1244880 w 1422360"/>
              <a:gd name="textAreaTop" fmla="*/ 66240 h 264960"/>
              <a:gd name="textAreaBottom" fmla="*/ 198720 h 264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24000" y="191628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04000" y="20606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5157720"/>
            <a:ext cx="93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2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40000" y="55166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669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MBIENTE DE COMÉRCI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516720" y="2708280"/>
            <a:ext cx="1339920" cy="1368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1258920" y="2781360"/>
            <a:ext cx="1209600" cy="1203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2920" y="4149720"/>
            <a:ext cx="165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221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16360" y="2276640"/>
            <a:ext cx="3384360" cy="790560"/>
          </a:xfrm>
          <a:custGeom>
            <a:avLst/>
            <a:gdLst>
              <a:gd name="textAreaLeft" fmla="*/ 639000 w 3384360"/>
              <a:gd name="textAreaRight" fmla="*/ 2502000 w 3384360"/>
              <a:gd name="textAreaTop" fmla="*/ 105840 h 790560"/>
              <a:gd name="textAreaBottom" fmla="*/ 6847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57" hR="21600" stAng="10800000" swAng="5400000"/>
                <a:lnTo>
                  <a:pt x="11890" y="0"/>
                </a:lnTo>
                <a:arcTo wR="8157" hR="21600" stAng="-5400000" swAng="2286911"/>
                <a:lnTo>
                  <a:pt x="20793" y="12232"/>
                </a:lnTo>
                <a:lnTo>
                  <a:pt x="18180" y="21600"/>
                </a:lnTo>
                <a:lnTo>
                  <a:pt x="13952" y="12232"/>
                </a:lnTo>
                <a:lnTo>
                  <a:pt x="15506" y="12232"/>
                </a:lnTo>
                <a:arcTo wR="8157" hR="21600" stAng="-3113089" swAng="-1982549"/>
                <a:lnTo>
                  <a:pt x="10023" y="573"/>
                </a:lnTo>
                <a:arcTo wR="8157" hR="21600" stAng="-5704362" swAng="-5095638"/>
                <a:close/>
              </a:path>
              <a:path fill="darkenLess" w="21600" h="21600">
                <a:moveTo>
                  <a:pt x="0" y="21600"/>
                </a:moveTo>
                <a:arcTo wR="8157" hR="21600" stAng="10800000" swAng="5400000"/>
                <a:lnTo>
                  <a:pt x="8157" y="0"/>
                </a:lnTo>
                <a:arcTo wR="8157" hR="21600" stAng="-5400000" swAng="304362"/>
                <a:lnTo>
                  <a:pt x="10023" y="573"/>
                </a:lnTo>
                <a:arcTo wR="8157" hR="21600" stAng="-5704362" swAng="-5095638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 rot="11125800">
            <a:off x="2700000" y="4435920"/>
            <a:ext cx="3110040" cy="794160"/>
          </a:xfrm>
          <a:custGeom>
            <a:avLst/>
            <a:gdLst>
              <a:gd name="textAreaLeft" fmla="*/ 576000 w 3110040"/>
              <a:gd name="textAreaRight" fmla="*/ 2223000 w 3110040"/>
              <a:gd name="textAreaTop" fmla="*/ 106200 h 794160"/>
              <a:gd name="textAreaBottom" fmla="*/ 687960 h 79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04" hR="21600" stAng="10800000" swAng="-5400000"/>
                <a:lnTo>
                  <a:pt x="11436" y="21600"/>
                </a:lnTo>
                <a:arcTo wR="8004" hR="21600" stAng="5400000" swAng="-2780704"/>
                <a:lnTo>
                  <a:pt x="21142" y="7200"/>
                </a:lnTo>
                <a:lnTo>
                  <a:pt x="17724" y="0"/>
                </a:lnTo>
                <a:lnTo>
                  <a:pt x="13390" y="7200"/>
                </a:lnTo>
                <a:lnTo>
                  <a:pt x="15550" y="7200"/>
                </a:lnTo>
                <a:arcTo wR="8004" hR="21600" stAng="2619296" swAng="2501706"/>
                <a:lnTo>
                  <a:pt x="9720" y="21098"/>
                </a:lnTo>
                <a:arcTo wR="8004" hR="21600" stAng="5678997" swAng="5121003"/>
                <a:close/>
              </a:path>
              <a:path fill="darkenLess" w="21600" h="21600">
                <a:moveTo>
                  <a:pt x="0" y="0"/>
                </a:moveTo>
                <a:arcTo wR="8004" hR="21600" stAng="10800000" swAng="-5400000"/>
                <a:lnTo>
                  <a:pt x="11436" y="21600"/>
                </a:lnTo>
                <a:arcTo wR="8004" hR="21600" stAng="5400000" swAng="278997"/>
                <a:lnTo>
                  <a:pt x="9720" y="21098"/>
                </a:lnTo>
                <a:arcTo wR="8004" hR="21600" stAng="5678997" swAng="5121003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43280" y="1557360"/>
            <a:ext cx="352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luxo de Informaçã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16360" y="5373720"/>
            <a:ext cx="352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luxo de Pagamen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59280" y="3357720"/>
            <a:ext cx="288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ansações On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2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MBIENTE DO 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523880" y="838080"/>
            <a:ext cx="6782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BIBLIOGRAF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1873080"/>
            <a:ext cx="73152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BIRD, Media Group. </a:t>
            </a:r>
            <a:r>
              <a:rPr b="0" i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Information System (WebIS). 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Disponível em:” &lt;http://www.kingbird.com/webit98/webefis.htm&gt;. “Acesso em:” (05 Jun. 2002).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MPERMAIER, Leandro Bento, PRICE, Roberto Tom. Considerações sobre o Desenvolvimento de Sistemas de Informações na Internet – Um Editor de Modelagem </a:t>
            </a:r>
            <a:r>
              <a:rPr b="0" i="1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ída. 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Disponível em:” &lt; http://www.inf.ufrgs.br/~pomper/torres.html &gt;. “Acesso em:” (02 Maio 2002).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TES, Rita de Cassia Almeida. </a:t>
            </a:r>
            <a:r>
              <a:rPr b="0" i="1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e para Desenvolvimento de Aplicações WE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“Disponível em:” &lt; http://www-nt.inf.puc-rio.br /cgilua /cgilua.exe /html/produ_si.htm?cx%5Fid=publicacao%5Fd &gt;. “Acesso em:” (15 Maio 2002).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ZENDE, Denis Alcides, ABREU, Aline França d</a:t>
            </a:r>
            <a:r>
              <a:rPr b="0" i="1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Tecnologia da Informação aplicada a Sistemas de Informação Empresariai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 São Paulo: Atlas, 2000.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ARTE, Ivan Luiz Marques. </a:t>
            </a:r>
            <a:r>
              <a:rPr b="0" i="1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agem de um curso pela abordagem WI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onível em:” &lt; http:// www.dca.fee.unicamp.br /projects /sapiens /Report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rf2000/node17.html &gt;. 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Acesso em:” (15 Maio 2002).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ARTE, Ivan Luiz Marques. </a:t>
            </a:r>
            <a:r>
              <a:rPr b="0" i="1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Atena. 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Disponível em:” &lt; http:// www.dca.fee.unicamp.br/projects/sapiens/Reports/rf2000/node18.html &gt;. “Acesso em:” (11 Maio 2002).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O, Cynthia Maria et al. </a:t>
            </a:r>
            <a:r>
              <a:rPr b="0" i="1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o Desenvolvimento e Uso de Aplicações On/Off-line na World Wide Web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“Disponível em:” &lt;ttp://cnct.cesar.org.br/docs/clei98.html &gt;. “Acesso em:” (02 Maio 2002)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BIBLIOGRAF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Laundon, K. C.; Laundon, J.P.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Management Information Systems: Managing the Digital Firm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. Prentice-Hall, 7ª edição, 2002 (Livro Tex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>
            <a:hlinkClick r:id="" action="ppaction://hlinkshowjump?jump=endshow"/>
          </p:cNvPr>
          <p:cNvSpPr/>
          <p:nvPr/>
        </p:nvSpPr>
        <p:spPr>
          <a:xfrm>
            <a:off x="8534520" y="6248520"/>
            <a:ext cx="457200" cy="306360"/>
          </a:xfrm>
          <a:custGeom>
            <a:avLst/>
            <a:gdLst>
              <a:gd name="textAreaLeft" fmla="*/ 19800 w 457200"/>
              <a:gd name="textAreaRight" fmla="*/ 437400 w 4572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32223" h="21600">
                <a:moveTo>
                  <a:pt x="0" y="0"/>
                </a:moveTo>
                <a:lnTo>
                  <a:pt x="32223" y="0"/>
                </a:lnTo>
                <a:lnTo>
                  <a:pt x="32223" y="21600"/>
                </a:lnTo>
                <a:lnTo>
                  <a:pt x="0" y="21600"/>
                </a:lnTo>
                <a:close/>
              </a:path>
              <a:path fill="lightenLess" w="32223" h="21600">
                <a:moveTo>
                  <a:pt x="0" y="0"/>
                </a:moveTo>
                <a:lnTo>
                  <a:pt x="32223" y="0"/>
                </a:lnTo>
                <a:lnTo>
                  <a:pt x="30823" y="1400"/>
                </a:lnTo>
                <a:lnTo>
                  <a:pt x="1400" y="1400"/>
                </a:lnTo>
                <a:close/>
              </a:path>
              <a:path fill="darken" w="32223" h="21600">
                <a:moveTo>
                  <a:pt x="32223" y="0"/>
                </a:moveTo>
                <a:lnTo>
                  <a:pt x="32223" y="21600"/>
                </a:lnTo>
                <a:lnTo>
                  <a:pt x="30823" y="20200"/>
                </a:lnTo>
                <a:lnTo>
                  <a:pt x="30823" y="1400"/>
                </a:lnTo>
                <a:close/>
              </a:path>
              <a:path fill="darkenLess" w="32223" h="21600">
                <a:moveTo>
                  <a:pt x="32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23" y="20200"/>
                </a:lnTo>
                <a:close/>
              </a:path>
              <a:path fill="lighten" w="32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523880"/>
            <a:ext cx="4114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SINOPS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CEI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ONENTES PARA MODELAGEM DO SI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BIENTE DE MODELAGEM DISTRIBUÍ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MATURIDADE TECNOLÓG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S DE APLICA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BIENTES DE DESENVOLVIMENTO NA W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IDERAÇÕES FIN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5536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3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ONCEI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nforme Pompermaier, um Sistema de Informação na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(SIW), é um sistema de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de documentos, tendo como interface para clientes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browser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, acesso a bases de documentos e de dados em servidores distribuí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m SIW diversos tipos de documentos são gerados, atualizados e examinados por diversos tipos de usuá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100980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 Internet ajudou a promover os sistemas distribuídos de informação, quando então os dados/informações passaram a ser trocados via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Segundo Canhos, a revolução dos SI surgiu com o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gopher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m 1992 e depois com o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Mosaic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m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Segundo Ricarte, há 4 categorias de SIW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- Sistemas para intranet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- Sites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- Sistemas de comércio eletrônico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- Sistemas para extran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rincipais áreas do SIW: comércio eletrônico e educação à distâ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609480"/>
            <a:ext cx="6782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OMPONENTES PARA MODELAGEM DE SI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057400"/>
            <a:ext cx="73152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 SIW requer a modelagem de vários componentes, como por exemplo, a modelagem estrutural, visual e das bases de d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ara a modelagem destes vários aspectos são necessárias ferramentas de edição dos modelos, ferramentas de consistência entre modelos, ferramentas de transformação e dicionário de d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nforme Pompermaier, considera-se que para desenvolver SIW seja conveniente que o ambiente de desenvolvimento de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(ADS) também esteja baseada na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aracterísticas de um ADS na Web: cooperação, coordenação, segurança, gestão do DD, adaptação ao usuário, interação glob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8571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AMBIENTE DE MODELAGEM DISTRIBUÍ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981080"/>
            <a:ext cx="7238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e acordo com Pompermaier, um ambiente de modelagem distribuída suporta os diversos tipos de modelagens e notações, por isso, é utilizado por grupos de usuários, localizados em Intranets ou na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Um ambiente distribuído deve controlar o acesso (prioridades de atualizações, autorizações, gestão de visões e outras) e gerenciamento dos docum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odas estas funções requerem um editor de documentos gráficos, que suporte produzir distintas visualizações de uma base de dados compartilh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00980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IMATURIDADE TECNOLÓG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828800"/>
            <a:ext cx="7238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nforme Tercero, apesar dos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browser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usarem  vários protocolos, como o FTP e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Gopher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o protocolo utilizado para comunicação entre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browser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 servidores, na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é o HTTP, que foi designado especificamente para transmitir páginas de hipertexto na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 linguagem básica da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html, foi designada para ser extremamente simples tanto para os autores de documentos, como para os desenvolvedores de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browser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3880" y="838080"/>
            <a:ext cx="6782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EXEMPLOS DE APLICAÇ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0"/>
            <a:ext cx="73152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mplo de uma aplicação para um SI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orme Ricarte (2001), um exemplo de uma aplicação em um SIW é o Sistema Atena que está sendo utilizado para a administração de cursos de extensão, pela USP. Esse sistema baseia-se em um fluxo de trabalho administrativo com regras e papéis bem definidos e ao mesmo tempo caracteriza-se como um SI apropriado para ser implementado e utilizado n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r tratar-se de uma aplicação para a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sse sistema também permite avaliar a adequação de modelos e métodos para especificação de aplicações hipermíd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o José Costa Maia</dc:creator>
  <dc:description/>
  <cp:keywords>Mercado Trabalho e Oportunidades</cp:keywords>
  <dc:language>en-US</dc:language>
  <cp:lastModifiedBy>mjcm</cp:lastModifiedBy>
  <dcterms:modified xsi:type="dcterms:W3CDTF">2002-06-29T18:13:05Z</dcterms:modified>
  <cp:revision>142</cp:revision>
  <dc:subject>Mercado, Trabalho e Oportunidades</dc:subject>
  <dc:title>Seminário</dc:title>
</cp:coreProperties>
</file>