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2A9-23AB-4896-8978-0D0D991E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BB1-C9FA-4653-9FB3-07A6565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009-5C18-487D-8662-7E1683E7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7BF-028B-4D54-89D2-D715DE9B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DED8-0E83-40F0-A6C4-5FC2C451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0CD5-193C-4D7D-8153-7A84442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A78B-801A-4138-8EED-58062D0B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3D89-6E1D-4425-92C1-4551C867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5D41-B0ED-4B9F-9F8D-A569156B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5072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4F9B-13EC-4B39-98BA-3409BCD6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572-3EE2-463F-AD72-3552F8A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6DE-D341-4740-B619-4CDB6F1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4D05-A6A5-42EF-A1CA-33D8518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417F-F8E0-42BE-87D8-38112D8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128-401E-47CC-9712-1157C92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4FDA-0256-4585-A36F-113706D9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E4C-0E52-4841-B542-13E8B3A9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AF-E356-4A41-92E0-CAFA748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83D-2473-42E1-B9DD-161CEF1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1CC-75E2-4C04-A419-4306A65E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C47-1815-4DDE-A21B-4976D51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7F9-5177-4E99-A7EC-654E0C5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9E7-2042-417A-BE9D-9F31D2E4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045-82A3-4132-BC81-FAD8EB1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7520" y="7938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69840" y="7938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11360" y="12160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1080" y="12160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000" y="11430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32040" y="6858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2720" y="1476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11A-6E4D-4ADC-9E81-37716F7773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604960"/>
            <a:ext cx="9009000" cy="1052640"/>
            <a:chOff x="152280" y="260496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42800" y="2712960"/>
              <a:ext cx="711360" cy="474840"/>
              <a:chOff x="442800" y="271296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42800" y="271296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5840" y="27129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66640" y="3135240"/>
              <a:ext cx="737640" cy="474840"/>
              <a:chOff x="566640" y="313524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66640" y="313524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5280" y="31352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52280" y="30621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7320" y="26049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68360" y="34272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9DC7-3F17-4980-A9AB-7B58C49B2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de.org/" TargetMode="External"/><Relationship Id="rId2" Type="http://schemas.openxmlformats.org/officeDocument/2006/relationships/hyperlink" Target="http://www.mysql.com/" TargetMode="External"/><Relationship Id="rId3" Type="http://schemas.openxmlformats.org/officeDocument/2006/relationships/hyperlink" Target="http://www.postgresql.org/" TargetMode="External"/><Relationship Id="rId4" Type="http://schemas.openxmlformats.org/officeDocument/2006/relationships/hyperlink" Target="http://www.gimp.org/" TargetMode="External"/><Relationship Id="rId5" Type="http://schemas.openxmlformats.org/officeDocument/2006/relationships/hyperlink" Target="http://gcc.gnu.org/" TargetMode="External"/><Relationship Id="rId6" Type="http://schemas.openxmlformats.org/officeDocument/2006/relationships/hyperlink" Target="http://www.perl.com/pub" TargetMode="External"/><Relationship Id="rId7" Type="http://schemas.openxmlformats.org/officeDocument/2006/relationships/hyperlink" Target="http://www.freebsd.org/" TargetMode="External"/><Relationship Id="rId8" Type="http://schemas.openxmlformats.org/officeDocument/2006/relationships/hyperlink" Target="http://www.linux.org/" TargetMode="External"/><Relationship Id="rId9" Type="http://schemas.openxmlformats.org/officeDocument/2006/relationships/hyperlink" Target="http://www.samba.org/" TargetMode="External"/><Relationship Id="rId10" Type="http://schemas.openxmlformats.org/officeDocument/2006/relationships/hyperlink" Target="http://www.apache.org/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Br@sil.gov" TargetMode="External"/><Relationship Id="rId2" Type="http://schemas.openxmlformats.org/officeDocument/2006/relationships/hyperlink" Target="mailto:Br@sil.gov" TargetMode="External"/><Relationship Id="rId3" Type="http://schemas.openxmlformats.org/officeDocument/2006/relationships/hyperlink" Target="mailto:Br@sil.gov" TargetMode="External"/><Relationship Id="rId4" Type="http://schemas.openxmlformats.org/officeDocument/2006/relationships/hyperlink" Target="mailto:Br@sil.gov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ocinfo.org.br/" TargetMode="External"/><Relationship Id="rId2" Type="http://schemas.openxmlformats.org/officeDocument/2006/relationships/hyperlink" Target="http://www.socinfo.org.br/" TargetMode="External"/><Relationship Id="rId3" Type="http://schemas.openxmlformats.org/officeDocument/2006/relationships/hyperlink" Target="http://www.governoeletronico.gov.br/" TargetMode="External"/><Relationship Id="rId4" Type="http://schemas.openxmlformats.org/officeDocument/2006/relationships/hyperlink" Target="http://www.governoeletronico.gov.br/" TargetMode="External"/><Relationship Id="rId5" Type="http://schemas.openxmlformats.org/officeDocument/2006/relationships/hyperlink" Target="http://www.interlegis.gov.br/" TargetMode="External"/><Relationship Id="rId6" Type="http://schemas.openxmlformats.org/officeDocument/2006/relationships/hyperlink" Target="http://www.interlegis.gov.br/" TargetMode="External"/><Relationship Id="rId7" Type="http://schemas.openxmlformats.org/officeDocument/2006/relationships/hyperlink" Target="http://www.anatel.gov.br/" TargetMode="External"/><Relationship Id="rId8" Type="http://schemas.openxmlformats.org/officeDocument/2006/relationships/hyperlink" Target="http://www.anatel.gov.br/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overno ao alcance de tod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Universidade Federal de Mato Grosso do Su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acharelado em Análise de Sistem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Campo Grande - 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20 de março de 20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685800" y="5724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Acadêmicos:</a:t>
            </a: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Alexandre Aguena Araka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Gretta Rodrigues de Pa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Jane Dirce Alves Monte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Renato Pereira Giacome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333399"/>
                </a:solidFill>
                <a:latin typeface="Arial"/>
              </a:rPr>
              <a:t>Viviane Matiko Nu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Aspectos importantes para o provimento de informações e serviços ao cidad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utenticação de uma pessoa que solicita uma informação ou serviç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cessidade de se prever algum esquema de pagamento eletrônico, para os casos nos quais os serviços prestados sejam tarifado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rar a solicitação de um serviço via Internet e prestação do mesmo em algum lugar posto ou centro de atendiment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Infra-estrutura de redes para o Gov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m dos problemas a ser enfrentado na elaboração de uma política para o uso de tecnologia de informação e comunicação é o da infra-estrutura de redes, que não demanda de altas velocidades de transmissão. Tal infra-estrutura necessita 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ensa capilaridade geográfic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ntos de conexão em cada repartição ou entidade públic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ação de variados níveis de requisitos de seguranç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nde facilidades de uso, traduzida em padrões técnicos, suporte a acesso e operação contínua e confiáve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76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mo satisfazer tais necessidad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 países mais desenvolvidos a solução é encontrada na contratação de serviços de infra-estruturas e mesmo de operação de aplicações de governo a fornecedores comerciai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á nos países em desenvolvimento, iniciativ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vernamentais de média/grande envergadura tendem à verticalização da infra-estrutura de re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Diretrizes Tecnológ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ecnologias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s aplicações governamentais necessitam da escolha judiosa de tecnologias, combinando opções consagradas no mercado e que duram gerações com novas tecnologias e garantam a contemporaneidade dos sistemas e sua adequação a novas demandas e possibilida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spirais em desenvolvi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adões técnic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a adoção de padrões técnicos e sua institucionalização são críticas para assegurar  essas aplicações possam interoperarem e se integrar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oftwares abert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há uma tendência crescente pra o uso de softwares abertos devido aos altos custos de softwares, e ao licenciamento de cópias para uso em milháres de equip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O fator human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esse é um dos maiores problemas na hora de introduzir uma nova tecnologiano setor público. A capacitação de recursos humanos enfrenta fatores como a falta de motivação e a cultura organiz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82880" y="2201760"/>
            <a:ext cx="5180040" cy="2455920"/>
            <a:chOff x="1982880" y="2201760"/>
            <a:chExt cx="5180040" cy="2455920"/>
          </a:xfrm>
        </p:grpSpPr>
        <p:sp>
          <p:nvSpPr>
            <p:cNvPr id="141" name=""/>
            <p:cNvSpPr/>
            <p:nvPr/>
          </p:nvSpPr>
          <p:spPr>
            <a:xfrm>
              <a:off x="1982880" y="2201760"/>
              <a:ext cx="5180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360" bIns="-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2880" y="2201760"/>
              <a:ext cx="518004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pt-BR" sz="13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pt-BR" sz="6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capitu6.1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67840" cy="3582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12960" y="1611360"/>
            <a:ext cx="443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licações Abertas para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019920"/>
            <a:ext cx="594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levantamento SocInfo em http://www.freebsd.org/ em 26/07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2057400"/>
          <a:ext cx="8153280" cy="408780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Á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biente gráf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"/>
                        </a:rPr>
                        <a:t>www.kde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co de d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"/>
                        </a:rPr>
                        <a:t>www.mysq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greSQ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"/>
                        </a:rPr>
                        <a:t>www.postgresql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g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4"/>
                        </a:rPr>
                        <a:t>www.gimp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5"/>
                        </a:rPr>
                        <a:t>http://gcc.gnu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6"/>
                        </a:rPr>
                        <a:t>www.perl.com/p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stema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eB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7"/>
                        </a:rPr>
                        <a:t>www.freebsd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8"/>
                        </a:rPr>
                        <a:t>www.linux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dor 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9"/>
                        </a:rPr>
                        <a:t>www.samba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a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</a:t>
                      </a:r>
                      <a:r>
                        <a:rPr b="0" lang="pt-BR" sz="16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0"/>
                        </a:rPr>
                        <a:t>www.apache.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ttp:// www.php.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52280" y="6140520"/>
            <a:ext cx="7467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onte: levantamento SocInfo em http://www.freebsd.org/ em 26/07/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458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s Abertos de Amplo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Legislação Adequ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uns aspectos em que a legislação adequada será vital inclu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gurança e autentificação de documentos, pessoas e transaçõe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ção da difusão de informações pública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ção à privacidade de dados e cidadão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drões técnico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iabilização de serviços específicos em novas versões, via meios eletrôn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O uso explícito do poder de compra do Estado para colocar prioridade em determinados tipos de equipamentos e sistem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 estruturação de Planos Diretores de Informática (PDI) em todo o setor públic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 proposição do POSIG, para perfis OSI para aplicações  governamentais de cunho administrativ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óp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que se tr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licações Governamenta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ções e Serviços ao Cidad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-estrutura de Redes para Gove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trizes Tecnológ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islação Adequ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de Esta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-estrutura de Re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ços Genér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ções de Gove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stemas Aplic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stão Estratégica de Tecnologias de Informação e Comunic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Infra-estrutura de re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infra-estrutura de redes governamentais no Brasil é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astante ampl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,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conjunt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o governo deve ser hoje o maior usuário de serviços de telecomunicações do País. No entanto, a infra-estrutura colocada em operação não atende a requisitos básicos de capilaridade e conectividade globais, uma vez que ela resulta mais da verticalização de aplicações específicas até o nível de infra-estrutura de redes do que planejamento global de infra-estrutura com vistas a suportar aplicações governamentais em geral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ços Genér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nformações de Gov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partir de 1993, vários ministérios principiaram a utilizar Internet para divulgar informações de sua alçada, com destaque para o Ministério da Fazenda e o Ministério da Administração, além do próprio Ministério da Ciência e Tecnolo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partir de 1995, com a explosão da Internet no País, aumentou grandemente a quantidade de sites do Governo Federal na rede, e análise independente de princípios de 1996 chegou a apontar o Brasil com o exemplo nas Américas para informações governamentais na inter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riqueza de informações, por outro lado, faz entrever alguns desafios nessa frente, a sab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ausência de qualquer padrão estrutural ou visual para a organização das informações (o que reflete uma saudável liberdade na veiculação de informações e, como contrapartida, uma clara dificuldade em encontrar as informações que se busca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heterogeneidade de situação no que diz respeito à atualização de informaçõ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istemas Aplica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Há  no Brasil pelo menos duas aplicações de governo utilizando a Internet que são modelares e de padrão mundial, a sa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declaração de imposto de rend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votação em eleições gera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mposto de Renda no Bras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nformatização do imposto de renda no Brasil iniciou-se em 1964 e praticamente coincide com o início das atividades do Serviço Federal de Processamento de Dados (Serpr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mente informatizado com base na tecnologia de informação disponível nos anos 60 – cartões perfurados para a entrada de dados, a partir de formulários. Essa tecnologia foi evoluindo acompanhando a evolução da tecnologia de informação e até a ela contribuindo com projetos próprios do Serp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recentemente, o imposto de renda de pessoa fisica (IRPF) principiou a ser entregue em disquete, em vez de apenas formulário em papel. Desde 1995, o IRPF pede ser entregue via transmissão de dados e, desde 1997, via Intern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1998, do total de declarações de IRPF entregue, 29,9% foram em formulário de papel, 45,4% em disquetes e 24,7% via Internet, de acordo com o website da Secretaria da Receita Fede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forme indicado pela Receita Federal, o imposto de renda de pessoa jurídica (IRPJ), em um curto intervalo de quatro anos, de 1994 a 1998, teve uma drástica evoluç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3276720"/>
          <a:ext cx="6172200" cy="2209680"/>
        </p:xfrm>
        <a:graphic>
          <a:graphicData uri="http://schemas.openxmlformats.org/drawingml/2006/table">
            <a:tbl>
              <a:tblPr/>
              <a:tblGrid>
                <a:gridCol w="2743200"/>
                <a:gridCol w="1905120"/>
                <a:gridCol w="1523880"/>
              </a:tblGrid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suporte para entrega de IRP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ulário pl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qu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, meios eletrôn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,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declaraç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5 milhõ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523880" y="5562720"/>
            <a:ext cx="6096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5562720"/>
            <a:ext cx="617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nte: SocInfo, com base em dados da Secretaria da Receita 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 nível federal, há em estágios diversos (dede o estágio de concepção até o estágio de operação) várias aplicações que utilizam tecnologias de informação e comunicação com potencial de revolucionar a gestão de serviços públicos nas suas áreas de atuação. Tais aplicações inclu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recadação Fazendá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rtão Nacional de Saúde (CNS), do Ministério da Saú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tos Interlegis, do Senado Fed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rasNet, do Ministério do Planej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310500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876920" y="308628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9200" y="1981080"/>
            <a:ext cx="312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recadação Fazendá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artão Nacional de Saúde (CNS), do Ministério da Saú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Projeto Interlegis, do Senado Fed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ópico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Onde Va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 que Fa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dro Juríd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ções Estrutur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ras Açõ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Gestão Estratégica de Tecnologias de Informação e Comunicação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á evidentemente um grande movimento rumo ao uso intensivo de tecnologias de informação e comunicação em aplicações governamentais no País. Todavi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ão há coordenação pró-ativa desse movimento, articulando todas as facetas envolvidas e promovendo metas de implantação, padrões técnicos, compartilhamento de recursos etc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ão há recuros humanos no setor público na quantidade e qualidade necessárias para se levar a cabo as atividades de concepção, desenvolvimento e/ou contratação e operação dos sistemas complexos de que se trata o setor públ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nde Est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ara resum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á uma imensa lacuna em capacitação para gestão estratégica de tecnologias de informação e comunicação no setor público brasilei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É preciso ampliar e capilarizar a infra-estrutura de re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É necessário que se disponha de uma infra-estrutura de redes para as aplicações governamentais com as seguintes 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  Mais veloz nos trechos centr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  Mais capilar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  Integrar aplicações nos três níve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ncipal desafi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ição da situação atual para uma tal situação fu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Ponto de part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ção das redes existentes no nível federal com as principais redes estadua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al Proposta foi gerada pelo C-INI (Anat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sta: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Br@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sil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.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gov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Implantação de uma infovia interligando todas as localidades brasileiras através da PEP (Pontos de Presença Eletrônic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É Preciso criar mais portais com informações e serviços por parte do gov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 que os portais são necessário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a do gov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ww.pdashow.com.br/quiosquemidiasho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4191120"/>
          <a:ext cx="2514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191120"/>
                    <a:ext cx="2514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Integrar informações geradas pelo governo em um só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luç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órios eletrônicos que permitiriam o acesso a informações e integração de aplicaçõ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antag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m diretório pode integrar informações em um só sistema facilitando o acesso do cidadão às informações geradas pelo gove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esenvolver um diretório para o governo com abrangência na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acilidad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dadão buscar informações do estado a partir de uma interface comum, acessando estes dados de qualquer luga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tituições públicas troca de informações entre s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plicações institucionais compartilhem informações de forma padronizada e integ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Gerar padrões técnicos para aplicações governamen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rasil não está entre os países líderes em geração de novas tecnologias, produtos e serviços em tecnologia em tecnologia de informação e comunicação no cenário mund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üê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ís mantém presença limitada em foros internacionais que concebem propostas que no seu devido tempo, serão convertidas em padrões técnicos formalmente reconhecidos (pela IETF, ISO, outro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ra Onde Vamos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É preciso fomentar capacidade de gestão estratégica de tecnologias de informação e comunicação.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É necessário RECICLAR os quadros técnicos e administrativos do governo para gestão estratégica de tecnologias de informação e comunicaç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tualizando acerca das tendências tecnológic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e de organizaçõ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erência de mudanças organizaciona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tilização das Tecnologias de Informação e Comunicação para dinamizar o relacionamento do Governo com a Socieda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diretrizes básicas que definem essa linha de ação 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atizar suas operações e serviço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roximar-se do cidadã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Livro Verde, Sociedade da Informação do Bras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www.socinfo.org.</a:t>
            </a: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2"/>
              </a:rPr>
              <a:t>b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3"/>
              </a:rPr>
              <a:t>www.governoeletronico.gov.</a:t>
            </a: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4"/>
              </a:rPr>
              <a:t>b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5"/>
              </a:rPr>
              <a:t>www.interlegis.gov.</a:t>
            </a: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6"/>
              </a:rPr>
              <a:t>b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7"/>
              </a:rPr>
              <a:t>www.anatel.gov.</a:t>
            </a:r>
            <a:r>
              <a:rPr b="0" lang="pt-BR" sz="2200" spc="-1" strike="noStrike" u="sng">
                <a:solidFill>
                  <a:srgbClr val="0000cc"/>
                </a:solidFill>
                <a:uFillTx/>
                <a:latin typeface="Tahoma"/>
                <a:hlinkClick r:id="rId8"/>
              </a:rPr>
              <a:t>b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Tahoma"/>
              </a:rPr>
              <a:t>www.ms.gov.b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99"/>
                </a:solidFill>
                <a:latin typeface="Tahoma"/>
              </a:rPr>
              <a:t>www.saude.gov.br/carta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</a:rPr>
              <a:t>Atores institucionais envolvidos nos serviços governamenta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Governo (“G”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nstituições Externas(“B”,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de business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idadão (“C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410080" y="3184560"/>
            <a:ext cx="2971800" cy="70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stão interna do gov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4290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198960"/>
            <a:ext cx="21333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2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114800"/>
            <a:ext cx="3048120" cy="70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teração com instituições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419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89320"/>
            <a:ext cx="21333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2B e B2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5029200"/>
            <a:ext cx="3124440" cy="70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estação de serviços e informações ao cidad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39424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64200"/>
            <a:ext cx="21333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2C e B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1080"/>
            <a:ext cx="7315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lações de atores institucionais com o Gov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Aplicações Governament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informatização de operações internas e de serviços prestados pelo Governo remete a necessidade de se planejar, implementar e operar grande aplicações de tecnologia de informação e comunicação, envolvendo o desenvolvimento de pacotes de software de grande complexidade, para execução em plataformas usualmente bastante heterogêneas de computadores e red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istema Complex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 dimensões gigantescas, tais como milhões de usuários, centenas de funções etc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m especificação dinâmica, isto é, modifica-se ao longo do tempo, para acomodar novas necessidades, revisão de prioridades ec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nca termina de ser implentad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5072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 que se trata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Informações e Serviços ao Cidad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 provimento de informações e serviços ao cidadão via Internet é feito mediante duas alternativ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disponibilização de informações ou serviços em um website, ou mesmo portal de uma instituição públic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disseminação seletiva de informações ou acesso a serviços para o cidadã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30Z</dcterms:created>
  <dc:creator>Viviane Matiko</dc:creator>
  <dc:description/>
  <dc:language>en-US</dc:language>
  <cp:lastModifiedBy>UFMS</cp:lastModifiedBy>
  <dcterms:modified xsi:type="dcterms:W3CDTF">2002-03-20T23:02:58Z</dcterms:modified>
  <cp:revision>60</cp:revision>
  <dc:subject/>
  <dc:title>Do que se trata?</dc:title>
</cp:coreProperties>
</file>