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8EA4-9B9E-477B-9A37-96A05EC1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6F87-71B0-4A96-95A8-4CFD69C0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C5FA-5B1F-4D25-849D-3DA3D3C9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63C0-14CC-4910-AF78-1124150B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6482-BBDC-48D7-8DD7-E0F971FB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71B2-A297-4CAA-B90E-1E659709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822D-2BB2-4095-951C-09549C4F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B0E-8B77-48BB-A33C-770D7DBF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70D5-9BCC-453A-83F6-FCB5D7D6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3145-83A4-4346-A89B-5447E58A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685B-075B-4D0B-9A66-40F3957F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B659-94AD-4168-ABF7-2EC307F9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E0CF-8427-4D82-AC48-0FA899FD7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4200" y="903240"/>
            <a:ext cx="774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versidade Federal de Mato Grosso do S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o de Ciências Exatas e Tecn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artamento de Computação e Estat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harelado em Análise de 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82720" y="2743200"/>
            <a:ext cx="64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iplin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ópicos em Sistemas de Inform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276720"/>
            <a:ext cx="389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f. Dr. Marcelo Augusto Tu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36640" y="3745080"/>
            <a:ext cx="54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Thor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48520" y="4479840"/>
            <a:ext cx="4997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adêm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erta Rodriguez Corrê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slaine  Carvalho de Frei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óris Jara Grub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6172200"/>
            <a:ext cx="244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5867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12440" y="6095880"/>
            <a:ext cx="34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©Copyright 2002 By Thor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5867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2440" y="6095880"/>
            <a:ext cx="34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©Copyright 2002 By Thor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1608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fonia Celular com grande expansão pelo país oferece outra possibilidade de acesso à internet, mais flexível porém existe a limitação do alto custo de serviç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73664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são da telefonia fixa deixa de ser fator de limitação e atua na difusão da internet no Bras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7432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o custo (assinatura + custos das ligações + custo do provedor) limita o aces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88620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dores gratuitos contribuem para a redução do custo final do aces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48880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a população brasileira com renda relativamente baixa o custo de acesso à internet ainda é muito alto (PC´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09480" y="59436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2440" y="6095880"/>
            <a:ext cx="34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©Copyright 2002 By Thor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808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envolvimento de esquemas baseados na integração tv/internet tem grande poten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1143000"/>
            <a:ext cx="430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de número de aparelhos de t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ixo cu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cidade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6480" y="2286000"/>
            <a:ext cx="530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ção mais imediata (internet comunitár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2743200"/>
            <a:ext cx="685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o acesso à Internet nas escol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ceria telefonia/Governo leva a internet de alta velocidade às esco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G´s: acesso à Internet (melhoria social e educacion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2800" y="4419720"/>
            <a:ext cx="271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fabetização dig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4937040"/>
            <a:ext cx="728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uca instrução básica em informát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existência de avaliação de cursos (pagos e nem sempre satisfatóri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09480" y="5867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2440" y="6095880"/>
            <a:ext cx="34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©Copyright 2002 By Thor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496800"/>
            <a:ext cx="82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iculdades na Universalização do acesso à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65240" y="1306440"/>
            <a:ext cx="679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Internet a informação é dispersa e heterogêne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198108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desenho das telas e a estruturação das páginas são outro fator de dificulda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95480" y="2895480"/>
            <a:ext cx="656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údo das páginas em outras línguas, principalmente  em inglê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3882960"/>
            <a:ext cx="679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ta de informações e serviços públicos de interesse direto da população e as que existem carecem de uniformidade e abrangênc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5867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2440" y="6095880"/>
            <a:ext cx="34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©Copyright 2002 By Thor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03480" y="468360"/>
            <a:ext cx="69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um modo geral não não consideradas as necessidades especiais do grupos soci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36640" y="1382760"/>
            <a:ext cx="687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fusão das redes eletrônicas principalmente a internet permite à mulher entrar no setor de TI e comunicação que tradicionalmente é dominado pelo gênero masculin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36640" y="2678040"/>
            <a:ext cx="6797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vens: Pela facilidade em se inserir na nova sociedade em formação e de absorver e utilizar produtivamente a TI, é muito importante que os jovens tenham acesso à Interne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36640" y="4202280"/>
            <a:ext cx="6721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adores de deficiências, doentes, idosos, a TI pode oferecer participação produtiva e redução do isolamento soci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09480" y="5867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2440" y="6095880"/>
            <a:ext cx="34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©Copyright 2002 By Thor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51200" y="468360"/>
            <a:ext cx="24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 onde vam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36640" y="1001880"/>
            <a:ext cx="687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: Estender o acesso à Internet  a 36 milhões de pessoas até o final de 200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36640" y="1916280"/>
            <a:ext cx="6721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aumentar drasticamente o número de pessoas com acesso à rede é necessário uma estratégia nacional, envolvendo governo e setor privado para vencer as dificuldades apresentad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5600" y="3363840"/>
            <a:ext cx="17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que faz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02880" y="3897360"/>
            <a:ext cx="631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larização do acesso a Internet em todos o paí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11160" y="4341960"/>
            <a:ext cx="756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zir e disponibilizar no mercado brasileiro equipamentos de baixo cus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87400" y="5029200"/>
            <a:ext cx="735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antação de serviços de acesso público à Internet e avaliação e treinamento em informática em larga escal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09480" y="5867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61722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©Copyright 2002 By Thor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55400" y="620640"/>
            <a:ext cx="17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o faz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65240" y="1230480"/>
            <a:ext cx="6797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ver utilização de fundos (o FUST – Fundo de Universalização de Serviços de Telecomunicações e o da Lei da Informática) na implantação de centros comunitários de acesso à Interne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73160" y="2576520"/>
            <a:ext cx="294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fabetização digital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71720" y="3108240"/>
            <a:ext cx="69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ir  “alfabetização digital” nas (re) edições do Serviço Civil Voluntári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6120" y="3894120"/>
            <a:ext cx="6797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oiar diretamente a criação dos centros comunitári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ar portal de assistência aos iniciant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nibilizar banco de dados com informações de equipamentos em desuso disponíveis para doação nas empresas e pessoas físic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392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LU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867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1752480" y="6173640"/>
            <a:ext cx="12268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©Copyright 2002 By Thor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3640" y="1432080"/>
            <a:ext cx="8016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emos concluir com todo este estudo, que mesmo que a universalização seja uma meta governamental, ainda faltam muitos recursos e incen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s a forma mais comum de acesso a internet ainda se constitui muito cara, uma vez que nossa população tem padrões de vida relativamente baixos, dificultando assim o acesso a este tão fantástico meio de comunic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tam iniciativas não só de âmbito governamental mais sim da sociedade como um todo visando cada vez mais um barateamento de equipamentos e recursos, e por que não um serviço totalmente gratuito que atenda a camada mais carentes da populaçã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905120" y="60948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IBLIOGRAF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60958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©Copyright 2002 By Thor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5867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1905120"/>
            <a:ext cx="40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www.socinfo.org.br\livro_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livroverde_capa" descr=""/>
          <p:cNvPicPr/>
          <p:nvPr/>
        </p:nvPicPr>
        <p:blipFill>
          <a:blip r:embed="rId1"/>
          <a:stretch/>
        </p:blipFill>
        <p:spPr>
          <a:xfrm>
            <a:off x="3581280" y="2514600"/>
            <a:ext cx="23497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5867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362320"/>
            <a:ext cx="8001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Universalização de Serviços para a Cidadani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6019920"/>
            <a:ext cx="34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©Copyright 2002 By Thor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S00580_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2211480" cy="1862280"/>
          </a:xfrm>
          <a:prstGeom prst="rect">
            <a:avLst/>
          </a:prstGeom>
          <a:ln w="0">
            <a:noFill/>
          </a:ln>
        </p:spPr>
      </p:pic>
      <p:pic>
        <p:nvPicPr>
          <p:cNvPr id="53" name="BD04918_" descr=""/>
          <p:cNvPicPr/>
          <p:nvPr/>
        </p:nvPicPr>
        <p:blipFill>
          <a:blip r:embed="rId2"/>
          <a:stretch/>
        </p:blipFill>
        <p:spPr>
          <a:xfrm>
            <a:off x="7010280" y="4648320"/>
            <a:ext cx="182736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76520" y="6094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TEI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196524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que se trat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249876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áveis críticas para a Universalização de Serviços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30322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ciativas Rumo à Universalizaç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3581280"/>
            <a:ext cx="555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-Estrutura e Preços das Comunica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11480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iculdades na Universalização do acesso à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5867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61722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©Copyright 2002 By Thor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143208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ç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464832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516564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91584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0" y="609372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©Copyright 2002 By Thor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5867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6765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niversalização tem por objetivo evitar a exclusão social dos indivídu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51460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diretrizes básicas que definem essa linha de ação são: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2819520"/>
            <a:ext cx="8077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promoção da universalização do acesso à Internet, buscando soluções alternativas com base em novos dispositivos e novos meios de comunicação;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39625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promoção de modelos de acesso coletivo ou compartilhado à Internet;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87692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fomento a projetos que promovam a cidadania e a coesão social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819520" y="6172200"/>
            <a:ext cx="34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©Copyright 2002 By Thor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1840" y="68580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que se tra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5867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129528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ta-se da inserção dos indivíduos como cidadãos, para se construir uma sociedade da informação para to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242244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fusão de acesso às redes no mundo é bastante desigu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97180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que a universalização se efetive deve-se procurar soluções na qual incluam populações com baixo poder aquisitivo nas redes digit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4022640"/>
            <a:ext cx="723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conceito de universalização depende da velocidade de desenvolvimento das tecnologias de informação e sempre deverá abranger o conceito de democrat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09480" y="914400"/>
            <a:ext cx="792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mentar a universaliz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onceber soluções e promover ações que envolvam desde a ampliação e melhoria da infra-estrutura de acesso até a formação do cidad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22096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áveis Críticas para a Universalização de Serviços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33526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° O Conceito de universalização de serviços se referia apenas à telefonia como meio de comunicação de vo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426708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° Este conceito evoluiu para o de acesso à comunicação de d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51055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° Década de 90: Explosão da Intern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2440" y="6095880"/>
            <a:ext cx="34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©Copyright 2002 By Thor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5867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2120" y="3808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ter acesso à Internet e navegar é necessário equipamento adequado como PC´s e o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t-top box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4648320"/>
            <a:ext cx="746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custos para os usuários é um aspecto determinante da universalização de aces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879640"/>
            <a:ext cx="733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alta de provedores locais em lugares distantes dos centros de desenvolvimento aumenta os custos devido as ligações interurba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6765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baixos custos de acesso não garante a grande penetração da re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5867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1040" y="6095880"/>
            <a:ext cx="34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©Copyright 2002 By Thor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058120" y="762120"/>
            <a:ext cx="52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ciativas Rumo à Universal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2240" y="1763640"/>
            <a:ext cx="832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 papel do Estado dedicar atenção à incorporação dos segmentos sociais menos favorecidas, incentivar o setor privado a se envolver no movimento de universalização e a participar de ações nesse sent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22240" y="3048120"/>
            <a:ext cx="801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s últimos anos tem aumentado a oferta de acesso gratuito à Internet por parte dos provedores comerci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4191120"/>
            <a:ext cx="7696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maioria dos programas e propostas dos governos, a universalização tem sido complementada por ações em 3 frentes: educação pública, informação para a cidadania e incentivo à montagem de centros de serviço de acesso público à Inter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5867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2440" y="6095880"/>
            <a:ext cx="34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©Copyright 2002 By Thor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480" y="58672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2440" y="6095880"/>
            <a:ext cx="34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©Copyright 2002 By Thor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21840" y="457200"/>
            <a:ext cx="65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ra-Estrutura e Preços das Comunic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26160" y="1219320"/>
            <a:ext cx="24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esso à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1600" y="1981080"/>
            <a:ext cx="56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são de linhas telefônicas (privatizaçã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o de metas: universalização e competi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88080" y="304812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i Geral da Telecomunicação (16/07/1997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3809880"/>
            <a:ext cx="618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ão considera serviços públicos: telefonia móvel celular, internet e comunicação de d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78476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ão da Internet no conceito de universalização é um enorme desaf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5T23:47:54Z</dcterms:created>
  <dc:creator>FOX</dc:creator>
  <dc:description/>
  <dc:language>en-US</dc:language>
  <cp:lastModifiedBy>Weslaine</cp:lastModifiedBy>
  <dcterms:modified xsi:type="dcterms:W3CDTF">2002-03-07T20:08:46Z</dcterms:modified>
  <cp:revision>35</cp:revision>
  <dc:subject/>
  <dc:title>Apresentação do PowerPoint</dc:title>
</cp:coreProperties>
</file>