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2D5A-F756-455E-9D05-C59DD2B4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D328-22B1-4F7A-911A-3E99DFFD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22D7-3F41-405C-9CD0-E8384D7D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EC04-0B59-4818-B801-F97E3CA1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2AE4-3F81-4B8F-A32F-CE9DAB27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AA30-B14D-4AD4-9397-CFB9038E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E001-F720-4C5F-AF3D-EE70E089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109F-31DA-4161-9354-1867962C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1906-DD38-4752-9FCF-82EE7B6C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2C26-C20A-4F66-92D7-2BF0083E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4DD6-0146-4839-B599-40F800DE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0E55-7C5C-41EA-B5FB-AEAF8564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F6D6-ECBF-4C69-8B5D-650561AE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5FAD-BE2C-4AB8-9C90-1990CEA9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8963-B243-4441-A2E7-B1A038DF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DCB3-0860-455B-8F66-83D62664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6C8D-A61E-4C94-8EA0-835256D0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9EDA-BD11-4648-9517-1D449BC5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2F5A-2216-4FD2-98C8-FE9FC26F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226B-0932-481B-9896-9EB2A838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5360-F65C-4872-B5B8-3FB60085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025B-8748-4832-B29B-7231AB06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E880-2B39-440D-8166-8532EECD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85D-833F-49E0-94BE-93B53F8C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D926-0171-4E37-83B5-8FF6EA998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ADC2-EED9-4829-B3FF-48CD7F1D2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1066680"/>
            <a:ext cx="7696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Comic Sans MS"/>
              </a:rPr>
              <a:t>TÓP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Comic Sans MS"/>
              </a:rPr>
              <a:t>SISTE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Comic Sans MS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Comic Sans MS"/>
              </a:rPr>
              <a:t>INFORM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90720" y="4876920"/>
            <a:ext cx="6933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EDUCAÇÃO NA SOCIE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DA INFOR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85800" y="609480"/>
            <a:ext cx="701028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s recentemente iniciativas de educação a distância principiaram a utilizar material instrucional na forma de vídeos e de software (via disquetes). O modelo baseado em vídeo prosperou em vários países, permitindo a geração de grande quantidade de material de alta qualidade, com um amplo potencial de aproveitamento futu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ão aspectos críticos, no ensino a distância, o desenvolvimento de metodologias pedagógicas eficientes para o novo meio e de ferramentas adequadas para o estudo individual, ou em grupo. Nesse sentido, para que o ensino a distância alcance o potencial de vantagens que pode oferecer, é preciso investir no seu aperfeiçoamento e, sobretudo, regulamentar a atividade e também definir e acompanhar indicadores de qualid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371600" y="3808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.5 – O desafio da Formação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127160" y="4111560"/>
            <a:ext cx="6629400" cy="459720"/>
            <a:chOff x="1127160" y="4111560"/>
            <a:chExt cx="6629400" cy="459720"/>
          </a:xfrm>
        </p:grpSpPr>
        <p:sp>
          <p:nvSpPr>
            <p:cNvPr id="340" name=""/>
            <p:cNvSpPr/>
            <p:nvPr/>
          </p:nvSpPr>
          <p:spPr>
            <a:xfrm>
              <a:off x="1127160" y="4111560"/>
              <a:ext cx="1600200" cy="459720"/>
            </a:xfrm>
            <a:prstGeom prst="rect">
              <a:avLst/>
            </a:prstGeom>
            <a:solidFill>
              <a:srgbClr val="b5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Ger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55960" y="418752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18080" y="4111560"/>
              <a:ext cx="1600200" cy="459720"/>
            </a:xfrm>
            <a:prstGeom prst="rect">
              <a:avLst/>
            </a:prstGeom>
            <a:solidFill>
              <a:srgbClr val="b5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Aplic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156360" y="4111560"/>
              <a:ext cx="1600200" cy="459720"/>
            </a:xfrm>
            <a:prstGeom prst="rect">
              <a:avLst/>
            </a:prstGeom>
            <a:solidFill>
              <a:srgbClr val="b5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U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0560" y="418752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11280" y="170028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alancemanto da capacidade de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geração, aplicação e us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de tecnologias tem maior peso do que a produção de bens e serviç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Há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carência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global de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técnicos capacitados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para a geração e aplicação de tecnologias de informação e comunicação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1371600" y="3808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.5 – O desafio da Formação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533520" y="1676520"/>
            <a:ext cx="828648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fabetização Digit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geração de novos conhecimen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aplicação de tecnologias de informaçã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aplicação de tecnologias de informação e comunicação em quaisquer outras área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aúde, transportes, biologi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19280" y="81000"/>
            <a:ext cx="60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omo todos esses desafios se refletem na estrutura formal de ensin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95280" y="260280"/>
            <a:ext cx="8458200" cy="58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             </a:t>
            </a: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1.6 – Novos Curr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m o impacto de tecnologias de informação e comunicação é necessário amplo processo de revisão curricular em todos nos níveis é á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 - No nível médio, novas profissões surgiram, particularmente na Internet, exempl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jetista Web - Especialista em Arquitetura de Informações – Administrador de Redes – Out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 Centros Federais de Educação Tecnológica e o Senac, poderão contribuir de forma significativa na oferta de tais oportun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2 – No nível de graduação, alguns currículos estão irremediavelmente obsoletos e necessitam da introdução sistemática das tecnologias de informação e comunicação nos currícu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3 – No nível de pós-graduação uma dúvida em muitos países se refere a necessidade de </a:t>
            </a: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acelerar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 formação de especialistas, para se adequar à velocidade de evolução das tecnologias de informação e comunicação, a argumentação sustenta que para formação de um especialista do mais alto nível, compreendendo graduação, mestrado e doutorado, perpassa duas ou três gerações de tecnologias para uma área e aplicação específ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468360" y="260280"/>
            <a:ext cx="8305920" cy="61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2 – Onde est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gundo dados do Instituto Nacional de Estudos e Pesquisa (Inep), o setor público brasileiro gasta 4,8% do PIB com educação no Bras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gastos públicos com educação, reunindo todos os programas do governo somaram  R$ 43,3 bilhões em 199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1998 29,6% das escolas brasileiras não possuem energia ele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enas 3,5% escolas de educação básica possuem acesso a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1999 o Brasil tinha 52,4 milhões de alunos matriculados em todas as modalidades de ensino, e 2,5 milhões no ensino super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acordo com a Sinopse estatística do Ministério da Educação, são 680 os cursos oferecidos por universidades, faculdades integradas e estabelecimentos isolados, que juntos formaram cerca de 22 mil profissionais em 199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04920" y="1066680"/>
            <a:ext cx="8839080" cy="51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Área de Conhecimento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       Cursos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  Concluintes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   Matricul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1997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       30/04/9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e de Sistem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582                         9.8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ências da Computação                        152                     2.701                      37.7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ática                                               53                       836                        13.0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mática Computacional                       1                         -                                -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amento de Dados                         180                    7.388                      43.7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écnicas Digitais                                        2                        60                            2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tenção de Computadores                   1                        -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e de Computadores                               2                        -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stemas de Comunicação sem  fio            2                        -                             2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comunicações                                       3                       27                           2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nologia de Informação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unicação                                              1                        -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539640" y="1341360"/>
            <a:ext cx="807732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Programa Nacional de Informática na Educação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inf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o MEC é  iniciativa central do País na introdução das tecnologias de informação e comunicação na escola pública como ferramenta de apoio ao processo ensino-aprendizagem. O programa tem sido realizado em parceria com as Unidades da Federação, e a base de funcionamento nos estados tem sido confiada aos Núcleos de Tecnologia Educacional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de a entrada em funcionamento do Proinfo, em 1997 foram criado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23 N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neficiando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484 escol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úblicas de primeiro e segundo graus. Mas o esperado para o biênio 97-98 era de atingi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 mil escol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3,4% do tot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. Tal fato sugere a urgência de acelerar o andamento do progra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á necessidade de maior articulação institucional entre os diferentes programas devotados à introdução das tecnologias de informação e comunicação no sistema educacional brasileiro, em seus diferentes níve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33520" y="990720"/>
            <a:ext cx="8076960" cy="62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1" lang="pt-BR" sz="2800" spc="-1" strike="noStrike">
                <a:solidFill>
                  <a:srgbClr val="000099"/>
                </a:solidFill>
                <a:latin typeface="Times New Roman"/>
              </a:rPr>
              <a:t>2.2 - Educação a Distâ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99"/>
                </a:solidFill>
                <a:uFillTx/>
                <a:latin typeface="Times New Roman"/>
              </a:rPr>
              <a:t>Destaqu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TV Escola - M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Telecurso 2000 - Telessalas 2000 (FAT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300" spc="-1" strike="noStrike">
                <a:solidFill>
                  <a:srgbClr val="000000"/>
                </a:solidFill>
                <a:latin typeface="Times New Roman"/>
              </a:rPr>
              <a:t>* Laboratório de Ensino a Distância do Programa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300" spc="-1" strike="noStrike">
                <a:solidFill>
                  <a:srgbClr val="000000"/>
                </a:solidFill>
                <a:latin typeface="Times New Roman"/>
              </a:rPr>
              <a:t>de Pós-Graduação em Engenharia de Produção (UFSC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57200" y="1127160"/>
            <a:ext cx="815328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Times New Roman"/>
              </a:rPr>
              <a:t>Unirede – Universidade Virtual Púb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 dezembro de 1999 foi lançada a proposta da criação de um consórcio de </a:t>
            </a: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62 instituições de ensino superior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com a finalidade de criar um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de de universidades virtuai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de âmbito nacional. O consórcio conta com a apoio do Ministério da Educação e do Ministério da Ciência e Tecnologia. Encontra-se em estudo uma proposta de diretrizes para o desenvolvimento de projetos, critérios, padrões e procedimentos para a organização de cursos superiores de graduação baseadas em tecnologias de informação e comunicação, bem como uma proposta de infra-estrutura tecnológ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ttp://www.unirede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143000" y="2133720"/>
            <a:ext cx="7086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99"/>
                </a:solidFill>
                <a:latin typeface="Times New Roman"/>
              </a:rPr>
              <a:t>Disciplina: Tópicos  em Sistema de 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99"/>
                </a:solidFill>
                <a:latin typeface="Times New Roman"/>
              </a:rPr>
              <a:t>Prof.: Marcelo Tu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99"/>
                </a:solidFill>
                <a:latin typeface="Times New Roman"/>
              </a:rPr>
              <a:t>Curso: Análise de Sistemas - 3° 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99"/>
                </a:solidFill>
                <a:latin typeface="Times New Roman"/>
              </a:rPr>
              <a:t>Alunos: Giovane Duarte Gar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99"/>
                </a:solidFill>
                <a:latin typeface="Times New Roman"/>
              </a:rPr>
              <a:t>             </a:t>
            </a:r>
            <a:r>
              <a:rPr b="1" i="1" lang="pt-BR" sz="2400" spc="-1" strike="noStrike">
                <a:solidFill>
                  <a:srgbClr val="000099"/>
                </a:solidFill>
                <a:latin typeface="Times New Roman"/>
              </a:rPr>
              <a:t>Alexandre Fabrício de Olive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1" i="1" lang="pt-BR" sz="2400" spc="-1" strike="noStrike">
                <a:solidFill>
                  <a:srgbClr val="000099"/>
                </a:solidFill>
                <a:latin typeface="Times New Roman"/>
              </a:rPr>
              <a:t>Daniel André Ja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1" i="1" lang="pt-BR" sz="2400" spc="-1" strike="noStrike">
                <a:solidFill>
                  <a:srgbClr val="000099"/>
                </a:solidFill>
                <a:latin typeface="Times New Roman"/>
              </a:rPr>
              <a:t>Isaac Borges Capillé Jún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90720" y="9144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Seminário: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Educação na Sociedade da Inform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57200" y="838080"/>
            <a:ext cx="807732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Times New Roman"/>
              </a:rPr>
              <a:t>2.3 – Capacitação Avançada em Tecnologias de </a:t>
            </a:r>
            <a:r>
              <a:rPr b="1" lang="pt-BR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Times New Roman"/>
              </a:rPr>
              <a:t>Informação e Comunic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epende especialmente do envolvimento de cientistas e pesquisadores em tecnologias de informação e comunic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De acordo com o Cadastro de Pesquisadores do CNPq, exi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52.000 Pesquisadores no Paí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6.664 Atuam nas áreas de engenharia e compu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1.745 os grupos de pesquisa atuantes nos setores de informática, indústria eletroeletrônica e telecomunicações sendo a maior parte pertencente a univers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219320" y="355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ós-graduação na Área de Computação no Brasil (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838080" y="3200400"/>
          <a:ext cx="7696080" cy="3112920"/>
        </p:xfrm>
        <a:graphic>
          <a:graphicData uri="http://schemas.openxmlformats.org/drawingml/2006/table">
            <a:tbl>
              <a:tblPr/>
              <a:tblGrid>
                <a:gridCol w="2876400"/>
                <a:gridCol w="2206800"/>
                <a:gridCol w="2612880"/>
              </a:tblGrid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str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utor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úmero de Cur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unos Ingress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unos Matricul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4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unos Formados (199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entad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60" name=""/>
          <p:cNvSpPr/>
          <p:nvPr/>
        </p:nvSpPr>
        <p:spPr>
          <a:xfrm>
            <a:off x="457200" y="137160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 tabela a seguir mostra a situação do Brasil em termos de oferta de treinamento em nível de pós-graduação na área de computação, conforme dados levantados pela Sociedade Brasileira de Computação (SBC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57200" y="990720"/>
            <a:ext cx="8229600" cy="58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ara formação de recursos humanos para as tecnologias de informação e comunicação, podem ser incluídas as áreas de ciência da informação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güística, comunicação, desenho industrial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Em 1980 havia menos de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0 doutore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em informática no Brasil, hoje são mais de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700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,  mas ainda insuficiente para atender às necessidades atuais do Paí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empo médio necessário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para a formação completa de um profissional na área de computação, desde o ingresso na graduação até a conclusão do doutorado, parece ser demasiado longo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11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56 mese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para o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outora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11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30,6 mese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par ao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estrado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Outro desafio é o de 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atualização e/ ou especialização de profissionais já formados.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4000 candidatos a Mestrado em 2000 (Área de Computaçã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Nos países desenvolvidos, há forte articulação entre o setor acadêmico e o setor industrial no desenvolvimento de projetos de P&amp;D e projetos nacionais de C&amp;T. No Brasil infelizmente as atividades de pesquisa 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são predominantemente desenvolvidas por universidades, sendo a participação do setor privado muito insuficiente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80880" y="304920"/>
            <a:ext cx="8458200" cy="61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Times New Roman"/>
              </a:rPr>
              <a:t>3 - Para Onde V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* </a:t>
            </a:r>
            <a:r>
              <a:rPr b="1" lang="pt-BR" sz="2800" spc="-1" strike="noStrike">
                <a:solidFill>
                  <a:srgbClr val="000099"/>
                </a:solidFill>
                <a:latin typeface="Times New Roman"/>
              </a:rPr>
              <a:t>É Preciso: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umentar drasticamente o nível de alfabetização digital do Paí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Buscar modelo de conectividade amplo de escolas públicas e priv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Qualificar minimamente novos profissionais de nível técnico e superior de todas as áreas nas novas tecnolog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umentar significativamente a formação de especialistas nas novas tecnologias em todos os níve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sar em grande escala as novas tecnologias de informação em ensino a distância (compatibilizar uso de material em Vïdeo com o uso da Interne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riar laboratórios virtuais de apoio à pesquisa interdisciplinar por parte de especialistas geograficamente dispe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tilizar nos níveis de ensino fundamental e médio a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leitura crític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e a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rodução de informações  ( incentivar a produção de materiais por parte dos alunos e tratar pontos de vista alternativos e conflitante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685800" y="241200"/>
            <a:ext cx="8153280" cy="65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Times New Roman"/>
              </a:rPr>
              <a:t>4 – Conclusão: O que faze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4.1 - Quadro Juríd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Regulamentação de ensino não presenci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Estabelecimento de diretrizes e parâmetros para cursos não convenciona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Revisão de diretrizes e parâmetros curriculares para cursos de nível médio e superior, visando o uso mais efetivo das tecnologias de informaçõe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4.2 - Ações Estruturad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Articulação entre o setor público e empresas privadas para conectividade ampla da escolas de nível méd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Ampliação do Proinf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Geração e difusão de materiais didáticos liv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Identificação e disseminação de software sem cus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04920" y="990720"/>
            <a:ext cx="8458200" cy="58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Concepção e oferecimento de curso de extensão  em nível de pós-graduação, enfocando fluência em tecnologias de informação e comunicação em pelo menos 20 universidad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Construção e distribuição de pacotes tecnológicos de baixo custo para apoio do ensino a distâ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Ampliação da capacidade de formação de recursos humanos qualificados, voltados mais diretamente para as tecnologias de informação e comunicaçã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Ampliação do suporte à graduação e pós-graduação mediante formação de docentes e pesquisadores, atualização de laboratórios e bibliotecas e de incremento do contingente de bols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Implantação de pelo menos 500 centros comunitários com recursos de informática e acesso à Internet em assentamentos da Reforma Agrária, para apoio à alfabetização (literal) dos assentamentos com o concurso de novas tecnologi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533520" y="990720"/>
            <a:ext cx="83055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Times New Roman"/>
              </a:rPr>
              <a:t>4.3 - Outras 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ização, nos processos de avaliação institucional de cursos por parte do M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ímulo à criação por parte de instituições públicas de novos cursos, em diferentes níveis, voltados mais diretamente para as tecnologias de informação e comunic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perimentação com modelo integrando vídeo e Internet para ensino a distância,  para propiciar a evolução do programa TV Escola rumo a um esquema intera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80880" y="1143000"/>
            <a:ext cx="815364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omento ao desenvolvimento de metodologias de ensino baseadas em tecnologias de informação e comunicação contemplando inclusive, leitura e produção de informação no novo me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mplantação de pelo menos dois laboratórios virtuais para consórcios de pesquisa interdisciplinar e multiinstituicionais em tecnologias e informação e comun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ímulo á criação de cursos de doutorado orientados ao novo perfil do profissional com foco na convergência a base tecnológica das tecnologias de informação e comunic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762120" y="990720"/>
            <a:ext cx="7162560" cy="41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 - BIBLIOGRAF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dade da Informação no Brasil – Livro Ve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ros Meios: Edições  de Jor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ocinfo.org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371600" y="380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ópicos Abor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1143000"/>
            <a:ext cx="7924680" cy="51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 - Do que se Tr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1.1 Educação para a Cidad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1.2 Infra-estrutura de Informática e Redes para Educ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1.3 Novos Meios de Aprendizag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1.4 Educação a Distâ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1.5 O Desafio da Formação Tecno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.6 Novos Curríc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2 -Onde Esta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2.1 Informatização em Esco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2.2 Educação a Distâ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2.3 Capacitação Avançada em Tecnologias de Informação e Comunic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3 - Para Onde Va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4 – Conclusão: O que Fa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4.1 Quadro Juríd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4.2 Ações Estruturado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4.3 Outras A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5 - Bibliograf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371600" y="3049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 - Do que se tr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066680"/>
            <a:ext cx="769608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educação é o elemento-chave na construção de uma sociedade baseada na informação, no conhecimento e no aprendizado. Um dos fatores considerável do desnível entre indivíduos, organizações, regiões e países é a desigualdade de oportunidades relativas ao desenvolvimento da capacidade de aprender e concretizar inovaçõ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99"/>
                </a:solidFill>
                <a:latin typeface="Times New Roman"/>
              </a:rPr>
              <a:t>Educar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gnifica muito mais que treinar as pessoas para o uso das tecnologias de informação e comunicação: trata-se de investir na criação de competências suficientemente amplas que lhes permitam ter uma atuação efetiva na produção de bens e serviços, tomar decisões fundamentadas no conhecimento, usar os novos meios e ferramentas em seu trabalho, aplicar criativamente novas as mídias em uso simples e sofisticado, enfim serem capazes de lidar positivamente com a contínua e acelerada transformação da base tecnológic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09480" y="380880"/>
            <a:ext cx="7391520" cy="63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1.1 – Educação para a Cidad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A inclusão social pressupões formação para a cidadania, o que significa que as tecnologias de informação e comunicação devem ser utilizadas também para a democratização dos processos sociais, para fomentar a transparência de políticas e ações do governo e para incentivar a mobilização dos cidadãos e sua participação ativa nas instâncias cabíveis. As tecnologias de informação e comunicação devem ser utilizadas para integrar a escola e a comunidade, de tal sorte que a educação mobilize a sociedade e a clivagem entre o formal e o informal seja venci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Formar o cidadão não significa 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</a:rPr>
              <a:t>“preparar o consumidor”. 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Significa capacitar as pessoas para  a  tomada de decisões e para a escolha informada acerca de todos os aspectos na vida em sociedade que as afetam, o que exige acesso à informação e ao conhecimento e capacidade de processa-los judiciosamente, sem se deixar levar cegamente pelo poder econômico ou polític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533520" y="152280"/>
            <a:ext cx="7848360" cy="58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1.2 – Infra-estrutura de Informática e Redes para  </a:t>
            </a: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Edu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Um grande desafio para o uso intensivo de tecnologias de informação e comunicação em educação é o de implantação de uma infra-estrutura adequada em escolas e outras instituições de ensino. Tal infra-estrutura se compõe basicamente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Computadores, dispositivos especiais e software educacional nas salas de aula e/ ou laboratórios das escolas e outras instituiçõe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Conectividade em rede, viabilizada por algumas linhas telefônicas e/ ou um enlace dedicado por escola à Intern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O problema fundamental em relação a disponibilização dessa infra-estrutura  é essencialmente de custos: é uma empreitada cara, envolvendo significativo dispêndio inicial para aquisição e, posteriormente para manutenção e atualização do parque instala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85800" y="304920"/>
            <a:ext cx="800100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os EUA estimativas de 1996 apontavam que, para conectar todas as escolas públicas norte-americanas na Internet seria necessário 30  US$ 30 bilhões e mais US$ 5 bilhões anuais para despesas de manutenção, sendo que o orçamento anual do ensino fundamental estava em US$ 24,2 bilhões/ano. Nos anos recentes a resposta a essa  necessidade tem levado ao ativo envolvimento de empresas de informática e de telecomunicações, com a meta de se ter todas essas escolas na Internet em 200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s países em desenvolvimento enfrentam vários problemas para fazer face a esse desaf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s preços de equipamentos, software e telecomunicações nesses países são muito mais altos do que nos países avanç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ão há nesses países tradição de envolvimento ativo de setor privado em suporte a causas educacionais e/ ou sociais, como se vê em países avançados, notadamente os EU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 revolução da Internet atinge esses países em que a onda anterior de informatização tenha efetivamente ocorrido e frutificado, como ocorreu nos países avançados ao longo das décadas de 80 e 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533520" y="380880"/>
            <a:ext cx="7924680" cy="60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             </a:t>
            </a: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1.3 – Novos meios de Aprendiz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O primeiro e talvez mais fundamental foi ocasionado pelo advento dos computadores e sua fenomenal capacidade de processamento numérico e de processamento simbólico/lógico, e em seguida uma terceira capacidade de comunicação, vem amplificar o impacto dos computadores em duas vertent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A interação multimídia e a instrumentação de dispositivos físicos,  abrindo possibilidades para interação via imagens, sons, controle e comando de ações concretas no mundo real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A interligação de computadores e pessoas em locais distantes, abrindo novas possibilidades de relação espaço-temporal entre educadores e educan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O que se pode fazer com tecnologias de informação e comunicação em educação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As formas de utilização estão ainda simplesmente começan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457200"/>
            <a:ext cx="7620120" cy="61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         </a:t>
            </a: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1.4 – Educação a Distâ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A disseminação da Internet no anos recentes tem feito ressurgir com novo ímpeto o interesse em Educação a Distância. Tal  interesse se explica pelo fato de possibilita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Aumento considerável da audiência de um curso ou palestra, tanto no tempo como no espaç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A oferta de oportunidades de aprendizado para estudo em casa ou no trabalh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A individualização do processo educativo, mesmo em esquemas de grande escala, devido à maior interatividade propiciada pela Intern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A organização do trabalho em equipe de intensa cooperação, mesmo envolvendo pessoas geograficamente dispersas e trabalhando em horários distint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8:51:03Z</dcterms:created>
  <dc:creator>Motel Tropical</dc:creator>
  <dc:description/>
  <dc:language>en-US</dc:language>
  <cp:lastModifiedBy>gdg</cp:lastModifiedBy>
  <dcterms:modified xsi:type="dcterms:W3CDTF">2002-03-14T21:21:31Z</dcterms:modified>
  <cp:revision>48</cp:revision>
  <dc:subject/>
  <dc:title>Apresentação do PowerPoint</dc:title>
</cp:coreProperties>
</file>