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1294920" y="6506640"/>
            <a:ext cx="5038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8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9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1294920" y="6506640"/>
            <a:ext cx="4318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60020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rcado, Trabalho e Oportun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267080"/>
            <a:ext cx="6400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Marcelo José Costa Ma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Mauro Barbosa Vilela Jún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Pedro Mir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66"/>
                </a:solidFill>
                <a:latin typeface="Tahoma"/>
              </a:rPr>
              <a:t>Wéliton Conceição de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666880" y="3505320"/>
            <a:ext cx="3886200" cy="268200"/>
            <a:chOff x="2666880" y="3505320"/>
            <a:chExt cx="3886200" cy="268200"/>
          </a:xfrm>
        </p:grpSpPr>
        <p:sp>
          <p:nvSpPr>
            <p:cNvPr id="119" name=""/>
            <p:cNvSpPr/>
            <p:nvPr/>
          </p:nvSpPr>
          <p:spPr>
            <a:xfrm>
              <a:off x="2666880" y="363204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0680" y="3505320"/>
              <a:ext cx="266400" cy="268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57880" y="3505320"/>
              <a:ext cx="266400" cy="268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15080" y="3505320"/>
              <a:ext cx="266400" cy="268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286000"/>
            <a:ext cx="723888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RIAÇÃO E DESENVOLVIMENTO DE NEGÓCIOS INOVAD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cenário das tecnologias de informação e comunicação se apresenta de forma propícia à inov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infra-estrutura de redes de uso comercial está evoluin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 negócios inovadores vem crescendo em empresas que oferecem soluções para uso econômico da Intern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entros de desenvolvimento d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de grandes empresas, estão sendo atraídos para o Paí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076480"/>
            <a:ext cx="723888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OMÉRCIO ELETRÔNICO NO BRAS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RCA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Brasil ocupa a liderança do mercado do comércio eletrônico da América La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Comitê Executivo de Comércio Eletrônico (Ministérios do Desenvolvimento, Indústria e Comércio Exterior, da Ciência e Tecnologia e do Planejamento, Orçamento 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precariedade da logística das empresas brasilei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 investimentos realizados para superar tais limitações: formalização de acordo para agilizar a entre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81080"/>
            <a:ext cx="723888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OMÉRCIO ELETRÔNICO NO BRAS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LEGISL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 Brasil, não há legis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ambém não existe proteção legal para o consumi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DIÇÕES PARA ALAVANCAGEM DE NOVOS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oferta de crédito para financiar projetos considerados de alto risco – como os de desenvolvimento d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– é escas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409760"/>
            <a:ext cx="723888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COMÉRCIO ELETRÔNICO NO BRAS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FISSIONAIS PARA OS NOVOS NEGÓCIOS ELETRÔ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evisão de 2,4 milhões de emprego, no setor de mercado relacionado com a Internet, até o fim do 1º Semestre de 200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m mercado de salários altos vem despontando no Brasil no restrito universo dos profissionais de TI e comunic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 profissionais capacitados para atender à oferta de empregos, são cada vez mais disputados pelas empres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857840"/>
            <a:ext cx="72392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TELETRABA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ão há ainda legislação para tratar das suas especific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resenta novas oportunidades para segmentos especiais da sociedade. (PNE e dos que cumprem pena de reclusã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12952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PARA ONDE VA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2286000"/>
            <a:ext cx="626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286000"/>
            <a:ext cx="626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11464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É preciso aumentar o número de usuári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Para um mercado se sustentar tem que haver consumidor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Popularizar a Interne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É preciso queimar etapas na evolução natural de comerciantes eletrôn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As empresas devem ser incentivadas a se conectar a Internet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Quanto tempo uma parcela significativa de PME chegará ao estágio de empreendedor eletrônico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PARA ONDE V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286000"/>
            <a:ext cx="626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1790640"/>
          <a:ext cx="7086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90640"/>
                    <a:ext cx="7086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457200" cy="306360"/>
          </a:xfrm>
          <a:custGeom>
            <a:avLst/>
            <a:gdLst>
              <a:gd name="textAreaLeft" fmla="*/ 19800 w 457200"/>
              <a:gd name="textAreaRight" fmla="*/ 437400 w 4572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32223" h="21600">
                <a:moveTo>
                  <a:pt x="0" y="0"/>
                </a:moveTo>
                <a:lnTo>
                  <a:pt x="32223" y="0"/>
                </a:lnTo>
                <a:lnTo>
                  <a:pt x="32223" y="21600"/>
                </a:lnTo>
                <a:lnTo>
                  <a:pt x="0" y="21600"/>
                </a:lnTo>
                <a:close/>
              </a:path>
              <a:path fill="lightenLess" w="32223" h="21600">
                <a:moveTo>
                  <a:pt x="0" y="0"/>
                </a:moveTo>
                <a:lnTo>
                  <a:pt x="32223" y="0"/>
                </a:lnTo>
                <a:lnTo>
                  <a:pt x="30823" y="1400"/>
                </a:lnTo>
                <a:lnTo>
                  <a:pt x="1400" y="1400"/>
                </a:lnTo>
                <a:close/>
              </a:path>
              <a:path fill="darken" w="32223" h="21600">
                <a:moveTo>
                  <a:pt x="32223" y="0"/>
                </a:moveTo>
                <a:lnTo>
                  <a:pt x="32223" y="21600"/>
                </a:lnTo>
                <a:lnTo>
                  <a:pt x="30823" y="20200"/>
                </a:lnTo>
                <a:lnTo>
                  <a:pt x="30823" y="1400"/>
                </a:lnTo>
                <a:close/>
              </a:path>
              <a:path fill="darkenLess" w="32223" h="21600">
                <a:moveTo>
                  <a:pt x="32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23" y="20200"/>
                </a:lnTo>
                <a:close/>
              </a:path>
              <a:path fill="lighten" w="32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23" h="21600">
                <a:moveTo>
                  <a:pt x="9105" y="10800"/>
                </a:moveTo>
                <a:lnTo>
                  <a:pt x="23118" y="3794"/>
                </a:lnTo>
                <a:lnTo>
                  <a:pt x="23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78120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PARA ONDE V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638000"/>
            <a:ext cx="72388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Promover mecanismos de exportação de produtos brasileiros via comércio eletrônic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Com o comércio eletrônico entre produtores e consumidores, a distância geográfica não será uma barreira. Isso beneficiaria principalmente as PM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Promover o uso da Internet como ferramenta de trabalh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Com a aceleração da expansão da Internet brasileira para todas as classes econômicas, é necessário promover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Alfabetização digital, capacitação técnica e reciclagem profissional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Oferta, via rede, de trabalho e emprego de todos os tip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102888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QUE FAZ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752480"/>
            <a:ext cx="74674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QUADRO JURÍDICO (LEG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Regulamentar o comércio eletrônico no país, no que se refere 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Legalização das transações e reconhecimentos de assinatura digita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Mecanismos de defesa do consumidor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Tributação do comércio na Interne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Estabelecimento de padrões para as transações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Adaptação da legislação trabalhista para o 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Teletrabalh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933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QUE FAZ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638360"/>
            <a:ext cx="71629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ÕES ESTRUTURADAS ( INDUTOR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projetos populares de acesso ao comércio eletrônic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cilitar e apoiar linhas de crédito (financiamento) às P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imular a criação de mecanismos de abertura de capital no mercado brasileir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r mecanismos para facilitar a participação das PME nas redes de e-comm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QUE FAZ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mover a divulgação de portais que veiculam oportunidades às empres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oiar as ações junto a entidades, como SEBRAE, SERPRO e outr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mover mecanismos de apoio a atividades de desenvolvimento doméstico de projet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imular a criação de oportunidades de teletrabalh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otar medidas visando a difusão da cultura do empreendedorismo no paí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mentar a ampliação de incubadoras de base tecnológic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mover a criação de mecanismos de estímulo à export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8953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SINOPS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86080" y="201924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O QUE SE TRA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rcelo José Costa Ma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NDE ESTA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Wéliton Conceição de L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NDE VA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uro Barbosa Vilela Jún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QUE FA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dro Mir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plicada por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dro Mir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553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1066680"/>
            <a:ext cx="85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CONCLUS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28276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 Brasil a necessidade de aumento do número de usuários da Internet é um fator primordial para o crescimento desse importante setor, outra necessidade é facilitar a entrada de PME nesse mercado e criar condições para desenvolvimento de inovações. Uma tarefa a ser feita é a regulamentação e apoio ao uso da Internet como ferramenta de trabal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ociedade de Informação no Brasil – Livro Verde, Programa Sociedade da Informação (SocInfo), Setembro/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http://www.socinfo.org.br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8534520" y="6248520"/>
            <a:ext cx="457200" cy="306360"/>
          </a:xfrm>
          <a:custGeom>
            <a:avLst/>
            <a:gdLst>
              <a:gd name="textAreaLeft" fmla="*/ 19800 w 457200"/>
              <a:gd name="textAreaRight" fmla="*/ 437400 w 4572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32223" h="21600">
                <a:moveTo>
                  <a:pt x="0" y="0"/>
                </a:moveTo>
                <a:lnTo>
                  <a:pt x="32223" y="0"/>
                </a:lnTo>
                <a:lnTo>
                  <a:pt x="32223" y="21600"/>
                </a:lnTo>
                <a:lnTo>
                  <a:pt x="0" y="21600"/>
                </a:lnTo>
                <a:close/>
              </a:path>
              <a:path fill="lightenLess" w="32223" h="21600">
                <a:moveTo>
                  <a:pt x="0" y="0"/>
                </a:moveTo>
                <a:lnTo>
                  <a:pt x="32223" y="0"/>
                </a:lnTo>
                <a:lnTo>
                  <a:pt x="30823" y="1400"/>
                </a:lnTo>
                <a:lnTo>
                  <a:pt x="1400" y="1400"/>
                </a:lnTo>
                <a:close/>
              </a:path>
              <a:path fill="darken" w="32223" h="21600">
                <a:moveTo>
                  <a:pt x="32223" y="0"/>
                </a:moveTo>
                <a:lnTo>
                  <a:pt x="32223" y="21600"/>
                </a:lnTo>
                <a:lnTo>
                  <a:pt x="30823" y="20200"/>
                </a:lnTo>
                <a:lnTo>
                  <a:pt x="30823" y="1400"/>
                </a:lnTo>
                <a:close/>
              </a:path>
              <a:path fill="darkenLess" w="32223" h="21600">
                <a:moveTo>
                  <a:pt x="32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23" y="20200"/>
                </a:lnTo>
                <a:close/>
              </a:path>
              <a:path fill="lighten" w="32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8571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DO QUE SE TR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447920"/>
            <a:ext cx="3962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globalização, a difusão das TI e das comunicações, facilitou a expansão das empresas, mas em contrapartida, ameaça a existência de setores econômicos que estão em decadê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76920" y="1676520"/>
            <a:ext cx="3809880" cy="4495680"/>
            <a:chOff x="4876920" y="1676520"/>
            <a:chExt cx="3809880" cy="44956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876920" y="1676520"/>
              <a:ext cx="38098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4876920" y="1676520"/>
              <a:ext cx="38098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600360"/>
            <a:ext cx="44956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 a disseminação da Internet, surgiram conceitos no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que envolve as atividades gerenciais, contábeis e administr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9520" y="5181480"/>
            <a:ext cx="4457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que engloba as atividades comerciais, entre os seguintes agentes: Governo, Empresas e Consumi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638360"/>
            <a:ext cx="74674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FATORES CRÍTICOS DO COMÉRCIO ELETRÔN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Para a ampliação do comércio eletrônico, é fundamental acontecer a universalização do acesso à rede glob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0098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DO QUE SE TR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4840" y="2933640"/>
            <a:ext cx="75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É  necessário ter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segurança, confiabilidade e velocidade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para a manutenção do E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4840" y="37180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Faz-se necessário possuir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normas legais que regulem esta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atividade 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e já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foram concebidas e/ou propostas soluções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por entidades do setor privado de vários países </a:t>
            </a:r>
            <a:r>
              <a:rPr b="1" lang="pt-BR" sz="2200" spc="-1" strike="noStrike">
                <a:solidFill>
                  <a:srgbClr val="0099cc"/>
                </a:solidFill>
                <a:latin typeface="Times New Roman"/>
              </a:rPr>
              <a:t>quanto a auto-regulamentaçã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84720"/>
            <a:ext cx="72392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TICIPAÇÃO DAS PME NA NOVA ECONOM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As PME não possuem visão de utilizar e consolidar seus negócios na nova econom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83808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DO QUE SE TR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1295280"/>
            <a:ext cx="731520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OPORTUNIDADES PARA NEGÓCIOS INOVAD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vas empresas surgiram com o advento da Internet, e para ter acesso a créditos e financiamentos, elas arriscam-se no mercado de capitais, pois não geram obrigações a curto prazo e não necessitam de garantias e a remuneração é compatível ao risco do empreend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344760"/>
            <a:ext cx="807732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MUDANÇAS NO PERFIL DO TRABALHO E EMPRE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ica cada vez mais importante </a:t>
            </a:r>
            <a:r>
              <a:rPr b="1" lang="pt-BR" sz="2000" spc="-1" strike="noStrike">
                <a:solidFill>
                  <a:srgbClr val="0099cc"/>
                </a:solidFill>
                <a:latin typeface="Times New Roman"/>
              </a:rPr>
              <a:t>que os trabalhadores busquem uma contínua atualização e desenvolvimento de habilidade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de modo a garantir sua empregabilidade. Os perfis dos profissionais mais disputados são aqueles que lidam com os conteúdos n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tais com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designers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especialistas em segurança de dados, especialista em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 gerentes de interne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44824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pt-BR" sz="2000" spc="-1" strike="noStrike">
                <a:solidFill>
                  <a:srgbClr val="0099cc"/>
                </a:solidFill>
                <a:latin typeface="Times New Roman"/>
              </a:rPr>
              <a:t>Teletrabalho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tituirá a solução mais adequada para empresas firmadas no mercado virtual, que atuam em redes. Também constitui nova abordagem para indivíduos poderem fixar novos tipos de relações de trabalh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2286000"/>
            <a:ext cx="708660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INDÚSTRIA DAS TECNOLOGIAS DE INFORMAÇÃO E COMUNICAÇÃO NO BRAS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oi profundamente afetada com a abertura da economia no  início dos anos 9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Grandes empresas internacionais foram atraídas para o mercado brasilei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Brasil tornou-se um ponto estratégico para as empresas estrangei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2666880"/>
            <a:ext cx="626436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EQUENAS E MÉDIAS EMPRES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m 1998, apenas 27% das PME tinham acesso à Intern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maior obstáculo está na área financei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projeto Proer Especial cria incentivos e favorece o surgimento de cadeias produtivas sustentáveis e competi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666880"/>
            <a:ext cx="6264360" cy="31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DIFUSÃO DAS TECNOLOGIAS DE INFORMAÇÃO E COMUNICAÇÃO NA INDÚSTRIA BRASILEI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tilização bastante restrita pelas empresas brasilei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iversos fatores podem estar interferindo na decisão das empresas quanto à adoção de tecnologias de informação e comunic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NDE ESTA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3000" y="1401840"/>
            <a:ext cx="72388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 ECONOMIA DA INFORMAÇÃO NO BRAS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mercado de informática e telecomunicações movimenta cerca de US$ 50 bilhões anu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Programa Sociedade da Inform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2002 The Masters - The Last Moican's. Todos os direitos reservados. 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o José Costa Maia</dc:creator>
  <dc:description/>
  <cp:keywords>Mercado Trabalho e Oportunidades</cp:keywords>
  <dc:language>en-US</dc:language>
  <cp:lastModifiedBy>DCT - Departamento de Computação e Estatística</cp:lastModifiedBy>
  <dcterms:modified xsi:type="dcterms:W3CDTF">2002-03-14T01:12:50Z</dcterms:modified>
  <cp:revision>126</cp:revision>
  <dc:subject>Mercado, Trabalho e Oportunidades</dc:subject>
  <dc:title>Seminário</dc:title>
</cp:coreProperties>
</file>