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921-E77A-4A06-8987-6301201E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822-7F15-47E6-8005-7CE28482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326-33D9-46A8-815D-139898BD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31C-3006-4C51-98EE-253A56A9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9B6-90EA-443C-BF52-D5EA4437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042-63B1-4F00-B86E-6B42D57B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FF1-C368-49BA-8D8B-E7A08CF9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FA3-B4DD-4C21-95AF-7305B7B6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EC7-D370-4449-954B-BEFE1815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40F-9D89-4F1B-9ECE-AC6EECDE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371-4568-4E48-8B2F-2C659546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19D-624F-4708-A6F3-622727AF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0DD5-EE31-4CF6-9D27-81E283A3F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2971800"/>
            <a:ext cx="457200" cy="457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609480"/>
            <a:ext cx="4952880" cy="495324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2286000"/>
            <a:ext cx="3962160" cy="160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0"/>
            <a:ext cx="3581280" cy="1600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686800" y="655308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286000"/>
            <a:ext cx="815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2743200"/>
            <a:ext cx="4190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ódigo Fechad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743200"/>
            <a:ext cx="3962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ódigo Aber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274320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85800"/>
            <a:ext cx="784872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133720"/>
            <a:ext cx="7925040" cy="26668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Times New Roman"/>
              </a:rPr>
              <a:t>Código Aberto X Código Fe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iferenç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O problema do 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Problemas do investimento em pesqu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Linux: breve histórico, vantagens e panorama do mercado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914400"/>
            <a:ext cx="1676160" cy="152388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121600">
            <a:off x="2467080" y="2219040"/>
            <a:ext cx="3886200" cy="28130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6080" y="2733840"/>
            <a:ext cx="349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laudinéa I. Març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arcos R. Sakam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aikel $. $. $a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aulo R. Rossane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8240" y="1600200"/>
            <a:ext cx="3382920" cy="1219320"/>
          </a:xfrm>
          <a:prstGeom prst="wedgeRoundRectCallout">
            <a:avLst>
              <a:gd name="adj1" fmla="val -33435"/>
              <a:gd name="adj2" fmla="val 92967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inux: breve históric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antagens e pano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o mercado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3124080" cy="990720"/>
          </a:xfrm>
          <a:prstGeom prst="wedgeRoundRectCallout">
            <a:avLst>
              <a:gd name="adj1" fmla="val 32013"/>
              <a:gd name="adj2" fmla="val -105129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ç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problema do preç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4952880"/>
            <a:ext cx="3733920" cy="914400"/>
          </a:xfrm>
          <a:prstGeom prst="wedgeRoundRectCallout">
            <a:avLst>
              <a:gd name="adj1" fmla="val -34013"/>
              <a:gd name="adj2" fmla="val -110416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as do investi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 pesqu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5800" y="1066680"/>
            <a:ext cx="2819520" cy="1143000"/>
            <a:chOff x="685800" y="1066680"/>
            <a:chExt cx="2819520" cy="1143000"/>
          </a:xfrm>
        </p:grpSpPr>
        <p:sp>
          <p:nvSpPr>
            <p:cNvPr id="63" name=""/>
            <p:cNvSpPr/>
            <p:nvPr/>
          </p:nvSpPr>
          <p:spPr>
            <a:xfrm>
              <a:off x="685800" y="1066680"/>
              <a:ext cx="2819520" cy="114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1066680"/>
              <a:ext cx="2819520" cy="1143000"/>
            </a:xfrm>
            <a:custGeom>
              <a:avLst/>
              <a:gdLst>
                <a:gd name="textAreaLeft" fmla="*/ 1161720 w 2819520"/>
                <a:gd name="textAreaRight" fmla="*/ 1657800 w 2819520"/>
                <a:gd name="textAreaTop" fmla="*/ 470880 h 1143000"/>
                <a:gd name="textAreaBottom" fmla="*/ 6721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rupo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RON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066680"/>
            <a:ext cx="380880" cy="228600"/>
          </a:xfrm>
          <a:prstGeom prst="lightningBol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123360" y="1066680"/>
            <a:ext cx="381240" cy="228600"/>
          </a:xfrm>
          <a:prstGeom prst="lightningBol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3199680" y="1904760"/>
            <a:ext cx="304560" cy="304920"/>
          </a:xfrm>
          <a:prstGeom prst="lightningBol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85800" y="1904760"/>
            <a:ext cx="304560" cy="304920"/>
          </a:xfrm>
          <a:prstGeom prst="lightningBol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8153280" y="655164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686800" y="6550200"/>
            <a:ext cx="450720" cy="30456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1954" h="21600">
                <a:moveTo>
                  <a:pt x="0" y="0"/>
                </a:moveTo>
                <a:lnTo>
                  <a:pt x="31954" y="0"/>
                </a:lnTo>
                <a:lnTo>
                  <a:pt x="31954" y="21600"/>
                </a:lnTo>
                <a:lnTo>
                  <a:pt x="0" y="21600"/>
                </a:lnTo>
                <a:close/>
              </a:path>
              <a:path fill="lightenLess" w="31954" h="21600">
                <a:moveTo>
                  <a:pt x="0" y="0"/>
                </a:moveTo>
                <a:lnTo>
                  <a:pt x="31954" y="0"/>
                </a:lnTo>
                <a:lnTo>
                  <a:pt x="30554" y="1400"/>
                </a:lnTo>
                <a:lnTo>
                  <a:pt x="1400" y="1400"/>
                </a:lnTo>
                <a:close/>
              </a:path>
              <a:path fill="darken" w="31954" h="21600">
                <a:moveTo>
                  <a:pt x="31954" y="0"/>
                </a:moveTo>
                <a:lnTo>
                  <a:pt x="31954" y="21600"/>
                </a:lnTo>
                <a:lnTo>
                  <a:pt x="30554" y="20200"/>
                </a:lnTo>
                <a:lnTo>
                  <a:pt x="30554" y="1400"/>
                </a:lnTo>
                <a:close/>
              </a:path>
              <a:path fill="darkenLess" w="31954" h="21600">
                <a:moveTo>
                  <a:pt x="31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54" y="20200"/>
                </a:lnTo>
                <a:close/>
              </a:path>
              <a:path fill="lighten" w="31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54" h="21600">
                <a:moveTo>
                  <a:pt x="8970" y="3794"/>
                </a:moveTo>
                <a:lnTo>
                  <a:pt x="22983" y="10800"/>
                </a:lnTo>
                <a:lnTo>
                  <a:pt x="8970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057400"/>
            <a:ext cx="7925040" cy="28195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685800"/>
            <a:ext cx="266688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Times New Roman"/>
              </a:rPr>
              <a:t>Diferenç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aptabili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tibi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dade, Segurança e Estabi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ualiz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8153280" y="655164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686800" y="6550200"/>
            <a:ext cx="450720" cy="30456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1954" h="21600">
                <a:moveTo>
                  <a:pt x="0" y="0"/>
                </a:moveTo>
                <a:lnTo>
                  <a:pt x="31954" y="0"/>
                </a:lnTo>
                <a:lnTo>
                  <a:pt x="31954" y="21600"/>
                </a:lnTo>
                <a:lnTo>
                  <a:pt x="0" y="21600"/>
                </a:lnTo>
                <a:close/>
              </a:path>
              <a:path fill="lightenLess" w="31954" h="21600">
                <a:moveTo>
                  <a:pt x="0" y="0"/>
                </a:moveTo>
                <a:lnTo>
                  <a:pt x="31954" y="0"/>
                </a:lnTo>
                <a:lnTo>
                  <a:pt x="30554" y="1400"/>
                </a:lnTo>
                <a:lnTo>
                  <a:pt x="1400" y="1400"/>
                </a:lnTo>
                <a:close/>
              </a:path>
              <a:path fill="darken" w="31954" h="21600">
                <a:moveTo>
                  <a:pt x="31954" y="0"/>
                </a:moveTo>
                <a:lnTo>
                  <a:pt x="31954" y="21600"/>
                </a:lnTo>
                <a:lnTo>
                  <a:pt x="30554" y="20200"/>
                </a:lnTo>
                <a:lnTo>
                  <a:pt x="30554" y="1400"/>
                </a:lnTo>
                <a:close/>
              </a:path>
              <a:path fill="darkenLess" w="31954" h="21600">
                <a:moveTo>
                  <a:pt x="31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54" y="20200"/>
                </a:lnTo>
                <a:close/>
              </a:path>
              <a:path fill="lighten" w="31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54" h="21600">
                <a:moveTo>
                  <a:pt x="8970" y="3794"/>
                </a:moveTo>
                <a:lnTo>
                  <a:pt x="22983" y="10800"/>
                </a:lnTo>
                <a:lnTo>
                  <a:pt x="8970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2057400"/>
            <a:ext cx="7925040" cy="2743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685800"/>
            <a:ext cx="441936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Times New Roman"/>
              </a:rPr>
              <a:t>Problema do preç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o valor do software fechado e sua atua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lor da manutenção do código fechado (como serviç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suporte no software ab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153280" y="655164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686800" y="6550200"/>
            <a:ext cx="450720" cy="30456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1954" h="21600">
                <a:moveTo>
                  <a:pt x="0" y="0"/>
                </a:moveTo>
                <a:lnTo>
                  <a:pt x="31954" y="0"/>
                </a:lnTo>
                <a:lnTo>
                  <a:pt x="31954" y="21600"/>
                </a:lnTo>
                <a:lnTo>
                  <a:pt x="0" y="21600"/>
                </a:lnTo>
                <a:close/>
              </a:path>
              <a:path fill="lightenLess" w="31954" h="21600">
                <a:moveTo>
                  <a:pt x="0" y="0"/>
                </a:moveTo>
                <a:lnTo>
                  <a:pt x="31954" y="0"/>
                </a:lnTo>
                <a:lnTo>
                  <a:pt x="30554" y="1400"/>
                </a:lnTo>
                <a:lnTo>
                  <a:pt x="1400" y="1400"/>
                </a:lnTo>
                <a:close/>
              </a:path>
              <a:path fill="darken" w="31954" h="21600">
                <a:moveTo>
                  <a:pt x="31954" y="0"/>
                </a:moveTo>
                <a:lnTo>
                  <a:pt x="31954" y="21600"/>
                </a:lnTo>
                <a:lnTo>
                  <a:pt x="30554" y="20200"/>
                </a:lnTo>
                <a:lnTo>
                  <a:pt x="30554" y="1400"/>
                </a:lnTo>
                <a:close/>
              </a:path>
              <a:path fill="darkenLess" w="31954" h="21600">
                <a:moveTo>
                  <a:pt x="31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54" y="20200"/>
                </a:lnTo>
                <a:close/>
              </a:path>
              <a:path fill="lighten" w="31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54" h="21600">
                <a:moveTo>
                  <a:pt x="8970" y="3794"/>
                </a:moveTo>
                <a:lnTo>
                  <a:pt x="22983" y="10800"/>
                </a:lnTo>
                <a:lnTo>
                  <a:pt x="8970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2438280"/>
            <a:ext cx="7924680" cy="2286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685800"/>
            <a:ext cx="701064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Times New Roman"/>
              </a:rPr>
              <a:t>Problemas do investimento em pesqui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gue o Modelo de Indústria Farmacêu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retorno financeiro do investimento em pesqui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ovação e crescime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153280" y="655164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686800" y="6550200"/>
            <a:ext cx="450720" cy="30456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1954" h="21600">
                <a:moveTo>
                  <a:pt x="0" y="0"/>
                </a:moveTo>
                <a:lnTo>
                  <a:pt x="31954" y="0"/>
                </a:lnTo>
                <a:lnTo>
                  <a:pt x="31954" y="21600"/>
                </a:lnTo>
                <a:lnTo>
                  <a:pt x="0" y="21600"/>
                </a:lnTo>
                <a:close/>
              </a:path>
              <a:path fill="lightenLess" w="31954" h="21600">
                <a:moveTo>
                  <a:pt x="0" y="0"/>
                </a:moveTo>
                <a:lnTo>
                  <a:pt x="31954" y="0"/>
                </a:lnTo>
                <a:lnTo>
                  <a:pt x="30554" y="1400"/>
                </a:lnTo>
                <a:lnTo>
                  <a:pt x="1400" y="1400"/>
                </a:lnTo>
                <a:close/>
              </a:path>
              <a:path fill="darken" w="31954" h="21600">
                <a:moveTo>
                  <a:pt x="31954" y="0"/>
                </a:moveTo>
                <a:lnTo>
                  <a:pt x="31954" y="21600"/>
                </a:lnTo>
                <a:lnTo>
                  <a:pt x="30554" y="20200"/>
                </a:lnTo>
                <a:lnTo>
                  <a:pt x="30554" y="1400"/>
                </a:lnTo>
                <a:close/>
              </a:path>
              <a:path fill="darkenLess" w="31954" h="21600">
                <a:moveTo>
                  <a:pt x="31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54" y="20200"/>
                </a:lnTo>
                <a:close/>
              </a:path>
              <a:path fill="lighten" w="31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54" h="21600">
                <a:moveTo>
                  <a:pt x="8970" y="3794"/>
                </a:moveTo>
                <a:lnTo>
                  <a:pt x="22983" y="10800"/>
                </a:lnTo>
                <a:lnTo>
                  <a:pt x="8970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438280"/>
            <a:ext cx="7924680" cy="3429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85800"/>
            <a:ext cx="784872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c66"/>
                </a:solidFill>
                <a:latin typeface="Times New Roman"/>
              </a:rPr>
              <a:t>Linux: breve histórico, vantagens</a:t>
            </a:r>
            <a:br>
              <a:rPr sz="4400"/>
            </a:br>
            <a:r>
              <a:rPr b="0" lang="pt-BR" sz="4400" spc="-1" strike="noStrike">
                <a:solidFill>
                  <a:srgbClr val="00cc66"/>
                </a:solidFill>
                <a:latin typeface="Times New Roman"/>
              </a:rPr>
              <a:t> e panorama do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Voltado para web e liv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Robusto e confiá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Personalizaçã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egur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ompetir com Windows (em outros equipamen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153280" y="655164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686800" y="6550200"/>
            <a:ext cx="450720" cy="30456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1954" h="21600">
                <a:moveTo>
                  <a:pt x="0" y="0"/>
                </a:moveTo>
                <a:lnTo>
                  <a:pt x="31954" y="0"/>
                </a:lnTo>
                <a:lnTo>
                  <a:pt x="31954" y="21600"/>
                </a:lnTo>
                <a:lnTo>
                  <a:pt x="0" y="21600"/>
                </a:lnTo>
                <a:close/>
              </a:path>
              <a:path fill="lightenLess" w="31954" h="21600">
                <a:moveTo>
                  <a:pt x="0" y="0"/>
                </a:moveTo>
                <a:lnTo>
                  <a:pt x="31954" y="0"/>
                </a:lnTo>
                <a:lnTo>
                  <a:pt x="30554" y="1400"/>
                </a:lnTo>
                <a:lnTo>
                  <a:pt x="1400" y="1400"/>
                </a:lnTo>
                <a:close/>
              </a:path>
              <a:path fill="darken" w="31954" h="21600">
                <a:moveTo>
                  <a:pt x="31954" y="0"/>
                </a:moveTo>
                <a:lnTo>
                  <a:pt x="31954" y="21600"/>
                </a:lnTo>
                <a:lnTo>
                  <a:pt x="30554" y="20200"/>
                </a:lnTo>
                <a:lnTo>
                  <a:pt x="30554" y="1400"/>
                </a:lnTo>
                <a:close/>
              </a:path>
              <a:path fill="darkenLess" w="31954" h="21600">
                <a:moveTo>
                  <a:pt x="31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54" y="20200"/>
                </a:lnTo>
                <a:close/>
              </a:path>
              <a:path fill="lighten" w="31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54" h="21600">
                <a:moveTo>
                  <a:pt x="8970" y="3794"/>
                </a:moveTo>
                <a:lnTo>
                  <a:pt x="22983" y="10800"/>
                </a:lnTo>
                <a:lnTo>
                  <a:pt x="8970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685800"/>
            <a:ext cx="60199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335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Times New Roman"/>
              </a:rPr>
              <a:t>Referência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438280"/>
            <a:ext cx="7924680" cy="3429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Revista Develop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8639280" y="6553080"/>
            <a:ext cx="504720" cy="304920"/>
          </a:xfrm>
          <a:custGeom>
            <a:avLst/>
            <a:gdLst>
              <a:gd name="textAreaLeft" fmla="*/ 19440 w 504720"/>
              <a:gd name="textAreaRight" fmla="*/ 485280 w 504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37" h="21600">
                <a:moveTo>
                  <a:pt x="0" y="0"/>
                </a:moveTo>
                <a:lnTo>
                  <a:pt x="35737" y="0"/>
                </a:lnTo>
                <a:lnTo>
                  <a:pt x="35737" y="21600"/>
                </a:lnTo>
                <a:lnTo>
                  <a:pt x="0" y="21600"/>
                </a:lnTo>
                <a:close/>
              </a:path>
              <a:path fill="lightenLess" w="35737" h="21600">
                <a:moveTo>
                  <a:pt x="0" y="0"/>
                </a:moveTo>
                <a:lnTo>
                  <a:pt x="35737" y="0"/>
                </a:lnTo>
                <a:lnTo>
                  <a:pt x="34337" y="1400"/>
                </a:lnTo>
                <a:lnTo>
                  <a:pt x="1400" y="1400"/>
                </a:lnTo>
                <a:close/>
              </a:path>
              <a:path fill="darken" w="35737" h="21600">
                <a:moveTo>
                  <a:pt x="35737" y="0"/>
                </a:moveTo>
                <a:lnTo>
                  <a:pt x="35737" y="21600"/>
                </a:lnTo>
                <a:lnTo>
                  <a:pt x="34337" y="20200"/>
                </a:lnTo>
                <a:lnTo>
                  <a:pt x="34337" y="1400"/>
                </a:lnTo>
                <a:close/>
              </a:path>
              <a:path fill="darkenLess" w="35737" h="21600">
                <a:moveTo>
                  <a:pt x="35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37" y="20200"/>
                </a:lnTo>
                <a:close/>
              </a:path>
              <a:path fill="lighten" w="35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37" h="21600">
                <a:moveTo>
                  <a:pt x="10862" y="10800"/>
                </a:moveTo>
                <a:lnTo>
                  <a:pt x="24875" y="3794"/>
                </a:lnTo>
                <a:lnTo>
                  <a:pt x="2487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6:52:31Z</dcterms:created>
  <dc:creator>prrs</dc:creator>
  <dc:description/>
  <dc:language>en-US</dc:language>
  <cp:lastModifiedBy>Home</cp:lastModifiedBy>
  <cp:lastPrinted>2002-05-04T02:26:42Z</cp:lastPrinted>
  <dcterms:modified xsi:type="dcterms:W3CDTF">2002-05-04T02:26:47Z</dcterms:modified>
  <cp:revision>11</cp:revision>
  <dc:subject/>
  <dc:title>Grupo Kronus!!!!!!!!!</dc:title>
</cp:coreProperties>
</file>