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3DB-3AF7-4B98-85F0-75DCFB6D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331-6E31-4AC1-81BB-6052FD66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B92B-6735-4850-B615-788CDD64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B9F-C676-471F-9ED0-DA370592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A988-808C-4D35-9AA7-89216226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1995-DFBD-4470-8F70-F77461B6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8420-3EF7-49EA-80F0-D61E063F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29A2-DD26-4724-94FC-6E2C1AEA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D10D-7FBF-4F7B-AFCB-E6E2F82A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1CCF-EC48-4335-9EDB-803C11F2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3150-8C18-4814-B420-BECB4D45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3B1-4C93-4E13-90DB-6669FCB6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574-C582-44C2-A4BC-113FA2A4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ED7E-32A7-4479-8C7D-B158FA87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FC0-EA2C-4BA0-B767-CC3D25F2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2A4B-CD66-4EC1-AA46-1EB70A62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5BDB-FA83-430D-832B-5A49C0F7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F6E-E3A7-4CB8-8439-26FD065C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161-916C-4E6F-AF3F-3944E24B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9191-4B2C-4E2D-88CA-BB596195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1F48-7C70-405F-9A60-33912229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EC7-3FA2-43AE-BE7E-8C462EE0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C68-5D95-4768-93F1-9C6AAC4C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B4B-100C-45AA-BA31-12796C8C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E99D-0EAC-4657-89FD-CA0E4AD66BE1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6AC3-BD9B-47EE-83D9-112BE3E10670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000" spc="-1" strike="noStrike" u="sng">
                <a:solidFill>
                  <a:srgbClr val="ffcc66"/>
                </a:solidFill>
                <a:uFillTx/>
                <a:latin typeface="Times New Roman"/>
              </a:rPr>
              <a:t>HACKERS</a:t>
            </a:r>
            <a:br>
              <a:rPr sz="5000"/>
            </a:br>
            <a:endParaRPr b="0" i="1" lang="en-US" sz="5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Quem são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omo agem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cc"/>
                </a:solidFill>
                <a:latin typeface="Times New Roman"/>
              </a:rPr>
              <a:t>Como se precaver deles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Costuma-se dividir os hackers basicamente em dois tipos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Times New Roman"/>
              </a:rPr>
              <a:t>Os Barulhent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cc"/>
                </a:solidFill>
                <a:latin typeface="Times New Roman"/>
              </a:rPr>
              <a:t>         “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cript Kiddi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cc"/>
                </a:solidFill>
                <a:latin typeface="Times New Roman"/>
              </a:rPr>
              <a:t>Os Silencioso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em duvida, são os mais perigo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Independente do sistema operacional usado, um sistema de segurança eficiente terá  que ter instalado uma ferramenta </a:t>
            </a:r>
            <a:r>
              <a:rPr b="1" lang="pt-BR" sz="3600" spc="-1" strike="noStrike">
                <a:solidFill>
                  <a:srgbClr val="ffffcc"/>
                </a:solidFill>
                <a:latin typeface="Times New Roman"/>
              </a:rPr>
              <a:t>SDI</a:t>
            </a: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 (Sistema de detecção de intrusão), que  obtém  informações que são bem úteis para um total controle de segurança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O SDI nos trará informações  importantes sobre  nosso site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Quantas tentativas de invasão sofremo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O tipo de ataque que estão tentando utiliza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De qual paí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600" spc="-1" strike="noStrike">
                <a:solidFill>
                  <a:srgbClr val="ffffcc"/>
                </a:solidFill>
                <a:latin typeface="Times New Roman"/>
              </a:rPr>
              <a:t>O horário e local dos ata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Mas afinal, como os</a:t>
            </a:r>
            <a:br>
              <a:rPr sz="4400"/>
            </a:b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 Hackers agem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Portscan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Hackers Barulhent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ffffcc"/>
                </a:solidFill>
                <a:latin typeface="Times New Roman"/>
              </a:rPr>
              <a:t>FootPrin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Hackers Silencios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Questões de Seguranç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ão vários os fatores que podem vir a facilitar ou dificultar uma invasão hacker em nossos sistemas e red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imes New Roman"/>
              </a:rPr>
              <a:t>Trashing: Informações jogadas for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ffcc"/>
                </a:solidFill>
                <a:latin typeface="Times New Roman"/>
              </a:rPr>
              <a:t>Operando no limite da Inseguranç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ffcc66"/>
                </a:solidFill>
                <a:latin typeface="Times New Roman"/>
              </a:rPr>
              <a:t>Regras básicas porém important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ffffcc"/>
                </a:solidFill>
                <a:uFillTx/>
                <a:latin typeface="Times New Roman"/>
              </a:rPr>
              <a:t>SECURITY OFFIC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cc"/>
                </a:solidFill>
                <a:latin typeface="Times New Roman"/>
              </a:rPr>
              <a:t>Conscientização e Educação dos Usuári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pt-BR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Nunca abra e-mails de quem não conheça a precedênc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Nunca dê informações sobre sua senha ou sua re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Use senhas compostas por números, letras e caracteres especi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Jamais coloque algo óbvio em sua dica de senh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Deixe sempre sua estação bloquead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tualize sempre seu anti-vír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8:58:23Z</dcterms:created>
  <dc:creator>Osama Bin Laden</dc:creator>
  <dc:description/>
  <dc:language>en-US</dc:language>
  <cp:lastModifiedBy>Takebe</cp:lastModifiedBy>
  <dcterms:modified xsi:type="dcterms:W3CDTF">2002-06-08T01:30:29Z</dcterms:modified>
  <cp:revision>10</cp:revision>
  <dc:subject/>
  <dc:title>  HACKERS  Quem são? Como agem? </dc:title>
</cp:coreProperties>
</file>