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747-AF60-4DB7-A820-78492E7F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07EB-E72A-4494-8E8F-B29DE1D2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AE64-4DB9-409F-AD2F-F9667947C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4D8-9EAB-4444-A880-DA629B3E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C549-12FD-44C3-9D9E-23E0B721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D860-D1D2-4678-9492-9FCD3B02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1E0D-89B7-4F04-80D3-F50D6C9C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1377-27A1-49D4-AC3C-0F6DF514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7066-BDD6-4CAB-825B-125BB45EA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9018A-91BC-4F08-B281-458D6641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2E90-57DB-4884-BF8A-B584B72E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81C6-BD32-4FFC-83EB-C5324ADE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F446D-F41C-4F94-8166-48C057F9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06D5-3CC3-490F-A3E9-D02031A4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CBED-C74C-436E-985B-AC7193C1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65C0-A67B-42DC-B7A0-3D5BE2B29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5DDC-83C6-4D4A-A8B6-85E4D615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162-CBB1-47C3-8C7F-024B7B1E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851-2917-41E6-8DCC-3ECF29F6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CD46-B420-413B-83D7-3B276F97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A83-FA2A-440A-A851-DF1D7920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76A-9A95-44F8-92EA-233255F8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4889-A441-4129-9D1E-F587DD7B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CCD-E8E6-407E-86DF-31D1212D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E5FC-7469-41B8-A941-E97D9D47328C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59BA-B76A-4250-B6E0-38178E9F07E8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A Aliança dos Agentes Móveis e Sistemas de Detecção de Intrusão contra os Hack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gentes autônomos e móve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  <a:ea typeface="Arial"/>
              </a:rPr>
              <a:t>São softwares que tem a capacidade de se locomover de uma máquina para outra numa rede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  <a:ea typeface="Arial"/>
              </a:rPr>
              <a:t>São utilizados em navegadores para procurar informaçõ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  <a:ea typeface="Arial"/>
              </a:rPr>
              <a:t>Tecnologia usada em SDI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SDI – Sistema de Detecção de Intrusã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São programas que não tentam </a:t>
            </a:r>
            <a:r>
              <a:rPr b="1" i="1" lang="pt-BR" sz="3200" spc="-1" strike="noStrike">
                <a:solidFill>
                  <a:srgbClr val="ffffcc"/>
                </a:solidFill>
                <a:latin typeface="Arial"/>
              </a:rPr>
              <a:t>impedir</a:t>
            </a: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 a intrusão mas apenas procuram </a:t>
            </a:r>
            <a:r>
              <a:rPr b="1" i="1" lang="pt-BR" sz="3200" spc="-1" strike="noStrike">
                <a:solidFill>
                  <a:srgbClr val="ffffcc"/>
                </a:solidFill>
                <a:latin typeface="Arial"/>
              </a:rPr>
              <a:t>enviar um alerta</a:t>
            </a: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 ao administrador da re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SDI  Monolítc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Não é baseado em agentes móve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Apresenta-se como um único ponto de ataques e falhas pois é baseado em um único módul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Comumente utilizado em sistemas comerciais ou de pesqui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SDI  Não-monolític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Baseado em agentes autônomos e móve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Cada agente observa somente um pequeno aspecto de todo o siste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Agentes são adicionados e removidos dinamicamen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s Vantagens de um SDI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Não-Monolític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Fácil configuraçã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Eficiênc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Capacidade de extensã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</a:rPr>
              <a:t>Escalabilida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SDI  Baseado em agentes autônomos e móveis</a:t>
            </a:r>
            <a:r>
              <a:rPr b="0" lang="pt-BR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4" name="imagem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12:35:14Z</dcterms:created>
  <dc:creator>PMCG</dc:creator>
  <dc:description/>
  <dc:language>en-US</dc:language>
  <cp:lastModifiedBy>PMCG</cp:lastModifiedBy>
  <dcterms:modified xsi:type="dcterms:W3CDTF">2002-06-07T13:31:18Z</dcterms:modified>
  <cp:revision>12</cp:revision>
  <dc:subject/>
  <dc:title>Principais preocupações das empresas brasileiras</dc:title>
</cp:coreProperties>
</file>