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0B2-06CF-4CF4-972B-38BC5953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BC0-4A6D-46E3-9BAD-6EE0AC96C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BFD-D1FA-4C92-84B7-79C5AABB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FD80-EF50-4149-ACF6-DCF4AA44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7B6B-7087-434F-A9C5-56F4054E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E3EE-2542-4244-BD70-6650383B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967E-9A24-4F4C-944C-525BE77B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CECD-89CE-466F-89B5-0D8E0DFD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745-8F80-4837-AEEB-C688EB68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E179-AB9D-4BD2-A8A8-58DB8ECC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0CC1-15AB-4755-8B08-F4F04398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6D5-8746-4669-8E29-BE67D19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4845-A63D-42EA-B98F-524F5DDE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CDAB-C051-4D4B-8B5A-C3BB77A0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5266-23F8-41F2-9C81-78A0CEB8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AF75-734C-4563-A1A1-2DC1DD47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19BE-D810-44C0-A300-66E53195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E2D-EBCE-4E8B-B1DD-AA3E70E9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02B3-7A19-4DDE-B01E-A7369F8A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5E2-6D97-4938-87AD-8B0847AD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6F6-FFF1-4F5F-81CA-23B7FC34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A438-0F5A-41CA-AD21-C203E273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0A8A-58CC-49A6-9579-346A9AA5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CA6-0833-4654-B8D4-CBAE2F4F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BFDD-63F8-4F63-9AFF-236B84DD3C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C0CB-266D-49A2-BEFC-BBECABBF6C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r Que Coisas Ruins Acontecem no Ambiente Corporativo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gurança VS Funcionalida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stes de Seguranç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as de Seguranç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mo Medir a Seguranç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r Que a Criptografia Não é a Resposta Perfeita Para Todos os Problemas de Segurança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r Que Coisas Ruins Acontecem no Ambiente Corporativo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lgoritmos e Protocolos Propreitá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or que Acontecem Invasõ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ngenharia Soc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romess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ngenharia Rever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egurança Perfeita Não Exis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2:37:37Z</dcterms:created>
  <dc:creator>Vitorino</dc:creator>
  <dc:description/>
  <dc:language>en-US</dc:language>
  <cp:lastModifiedBy>Carlos Eduardo Rosa Felix</cp:lastModifiedBy>
  <dcterms:modified xsi:type="dcterms:W3CDTF">2002-05-16T12:01:02Z</dcterms:modified>
  <cp:revision>2</cp:revision>
  <dc:subject/>
  <dc:title>Por Que Coisas Ruins Acontecem no Ambiente Corporativo?</dc:title>
</cp:coreProperties>
</file>